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95483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645080" y="640836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ftr" idx="2"/>
          </p:nvPr>
        </p:nvSpPr>
        <p:spPr>
          <a:xfrm>
            <a:off x="4787640" y="6381360"/>
            <a:ext cx="4249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50920" y="762120"/>
            <a:ext cx="8713800" cy="58356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11280" y="1197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Sistema de Vigilancia de la Calidad del Agua Potable Urbana (SVCAPU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11280" y="3500280"/>
            <a:ext cx="822960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Anteceden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Principi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Definicion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Instrumentos de Vigilanc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efinicio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Vigilancia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vestigación para identificar y evaluar los factores de riesgo asociados con los sistemas de abastecimien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ontrol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tividades para verificar que la calidad del agua cumple con la legisl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efinicio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VCAP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junto de actividades enfocadas a evaluar integralmente la calidad del agua abastecida a las zonas urbanas del paí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bjetiv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Establecer un </a:t>
            </a:r>
            <a:r>
              <a:rPr b="1" lang="es-ES" sz="2800" spc="-1" strike="noStrike">
                <a:solidFill>
                  <a:srgbClr val="ffcc00"/>
                </a:solidFill>
                <a:latin typeface="Tahoma"/>
              </a:rPr>
              <a:t>procedimiento de evaluación integral de la calidad del agua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 en las zonas urbanas a partir de la evaluación del sistema de abastecimiento en sus diferentes subsistemas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Definir </a:t>
            </a:r>
            <a:r>
              <a:rPr b="1" lang="es-ES" sz="2800" spc="-1" strike="noStrike">
                <a:solidFill>
                  <a:srgbClr val="ffcc00"/>
                </a:solidFill>
                <a:latin typeface="Tahoma"/>
              </a:rPr>
              <a:t>estrategias de apoyo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 para el desarrollo y consolidación de las actividades de abastecimiento de agua que permitan contar con la calidad adecuada para proteger a la salud de la población.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rocedimient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r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Verific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scaliz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Apoyo y supervis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fusión de inform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Desarrollo de capacidad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9502560" y="608184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79280" y="1052640"/>
            <a:ext cx="8788680" cy="558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324000" y="1422360"/>
            <a:ext cx="8469000" cy="5102280"/>
            <a:chOff x="324000" y="1422360"/>
            <a:chExt cx="8469000" cy="5102280"/>
          </a:xfrm>
        </p:grpSpPr>
        <p:sp>
          <p:nvSpPr>
            <p:cNvPr id="335" name=""/>
            <p:cNvSpPr/>
            <p:nvPr/>
          </p:nvSpPr>
          <p:spPr>
            <a:xfrm>
              <a:off x="668160" y="3666960"/>
              <a:ext cx="962280" cy="5083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68160" y="3666960"/>
              <a:ext cx="962280" cy="50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965880" y="3720960"/>
              <a:ext cx="349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º Nivel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336320" y="37209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81640" y="3835440"/>
              <a:ext cx="509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gulación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422000" y="38354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940520" y="4970520"/>
              <a:ext cx="579600" cy="4698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940520" y="4970520"/>
              <a:ext cx="579600" cy="469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902720" y="4537080"/>
              <a:ext cx="653760" cy="433440"/>
            </a:xfrm>
            <a:custGeom>
              <a:avLst/>
              <a:gdLst/>
              <a:ahLst/>
              <a:rect l="l" t="t" r="r" b="b"/>
              <a:pathLst>
                <a:path w="412" h="547">
                  <a:moveTo>
                    <a:pt x="206" y="0"/>
                  </a:moveTo>
                  <a:lnTo>
                    <a:pt x="412" y="547"/>
                  </a:lnTo>
                  <a:lnTo>
                    <a:pt x="0" y="547"/>
                  </a:lnTo>
                  <a:lnTo>
                    <a:pt x="20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902720" y="4537080"/>
              <a:ext cx="653760" cy="433440"/>
            </a:xfrm>
            <a:custGeom>
              <a:avLst/>
              <a:gdLst/>
              <a:ahLst/>
              <a:rect l="l" t="t" r="r" b="b"/>
              <a:pathLst>
                <a:path w="412" h="547">
                  <a:moveTo>
                    <a:pt x="206" y="0"/>
                  </a:moveTo>
                  <a:lnTo>
                    <a:pt x="412" y="547"/>
                  </a:lnTo>
                  <a:lnTo>
                    <a:pt x="0" y="547"/>
                  </a:lnTo>
                  <a:lnTo>
                    <a:pt x="206" y="0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058080" y="4653000"/>
              <a:ext cx="1341360" cy="1103400"/>
            </a:xfrm>
            <a:custGeom>
              <a:avLst/>
              <a:gdLst/>
              <a:ahLst/>
              <a:rect l="l" t="t" r="r" b="b"/>
              <a:pathLst>
                <a:path w="845" h="1390">
                  <a:moveTo>
                    <a:pt x="649" y="0"/>
                  </a:moveTo>
                  <a:lnTo>
                    <a:pt x="845" y="884"/>
                  </a:lnTo>
                  <a:lnTo>
                    <a:pt x="195" y="1390"/>
                  </a:lnTo>
                  <a:lnTo>
                    <a:pt x="0" y="508"/>
                  </a:lnTo>
                  <a:lnTo>
                    <a:pt x="649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058080" y="4653000"/>
              <a:ext cx="1341360" cy="1103400"/>
            </a:xfrm>
            <a:custGeom>
              <a:avLst/>
              <a:gdLst/>
              <a:ahLst/>
              <a:rect l="l" t="t" r="r" b="b"/>
              <a:pathLst>
                <a:path w="845" h="1390">
                  <a:moveTo>
                    <a:pt x="649" y="0"/>
                  </a:moveTo>
                  <a:lnTo>
                    <a:pt x="845" y="884"/>
                  </a:lnTo>
                  <a:lnTo>
                    <a:pt x="195" y="1390"/>
                  </a:lnTo>
                  <a:lnTo>
                    <a:pt x="0" y="508"/>
                  </a:lnTo>
                  <a:lnTo>
                    <a:pt x="649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6161040" y="4888080"/>
              <a:ext cx="1031760" cy="40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6264360" y="5118120"/>
              <a:ext cx="1031760" cy="40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900600" y="4932360"/>
              <a:ext cx="885600" cy="39996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900600" y="4932360"/>
              <a:ext cx="885600" cy="39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003200" y="498960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133960" y="3886200"/>
              <a:ext cx="806400" cy="612720"/>
            </a:xfrm>
            <a:custGeom>
              <a:avLst/>
              <a:gdLst/>
              <a:ahLst/>
              <a:rect l="l" t="t" r="r" b="b"/>
              <a:pathLst>
                <a:path w="508" h="773">
                  <a:moveTo>
                    <a:pt x="254" y="0"/>
                  </a:moveTo>
                  <a:lnTo>
                    <a:pt x="280" y="0"/>
                  </a:lnTo>
                  <a:lnTo>
                    <a:pt x="305" y="2"/>
                  </a:lnTo>
                  <a:lnTo>
                    <a:pt x="317" y="4"/>
                  </a:lnTo>
                  <a:lnTo>
                    <a:pt x="329" y="4"/>
                  </a:lnTo>
                  <a:lnTo>
                    <a:pt x="342" y="6"/>
                  </a:lnTo>
                  <a:lnTo>
                    <a:pt x="353" y="8"/>
                  </a:lnTo>
                  <a:lnTo>
                    <a:pt x="364" y="10"/>
                  </a:lnTo>
                  <a:lnTo>
                    <a:pt x="375" y="12"/>
                  </a:lnTo>
                  <a:lnTo>
                    <a:pt x="385" y="14"/>
                  </a:lnTo>
                  <a:lnTo>
                    <a:pt x="396" y="17"/>
                  </a:lnTo>
                  <a:lnTo>
                    <a:pt x="406" y="19"/>
                  </a:lnTo>
                  <a:lnTo>
                    <a:pt x="416" y="23"/>
                  </a:lnTo>
                  <a:lnTo>
                    <a:pt x="425" y="25"/>
                  </a:lnTo>
                  <a:lnTo>
                    <a:pt x="433" y="29"/>
                  </a:lnTo>
                  <a:lnTo>
                    <a:pt x="443" y="33"/>
                  </a:lnTo>
                  <a:lnTo>
                    <a:pt x="450" y="35"/>
                  </a:lnTo>
                  <a:lnTo>
                    <a:pt x="458" y="39"/>
                  </a:lnTo>
                  <a:lnTo>
                    <a:pt x="465" y="42"/>
                  </a:lnTo>
                  <a:lnTo>
                    <a:pt x="471" y="46"/>
                  </a:lnTo>
                  <a:lnTo>
                    <a:pt x="477" y="50"/>
                  </a:lnTo>
                  <a:lnTo>
                    <a:pt x="483" y="56"/>
                  </a:lnTo>
                  <a:lnTo>
                    <a:pt x="489" y="60"/>
                  </a:lnTo>
                  <a:lnTo>
                    <a:pt x="493" y="64"/>
                  </a:lnTo>
                  <a:lnTo>
                    <a:pt x="497" y="67"/>
                  </a:lnTo>
                  <a:lnTo>
                    <a:pt x="500" y="73"/>
                  </a:lnTo>
                  <a:lnTo>
                    <a:pt x="503" y="77"/>
                  </a:lnTo>
                  <a:lnTo>
                    <a:pt x="505" y="83"/>
                  </a:lnTo>
                  <a:lnTo>
                    <a:pt x="507" y="87"/>
                  </a:lnTo>
                  <a:lnTo>
                    <a:pt x="508" y="92"/>
                  </a:lnTo>
                  <a:lnTo>
                    <a:pt x="508" y="96"/>
                  </a:lnTo>
                  <a:lnTo>
                    <a:pt x="508" y="675"/>
                  </a:lnTo>
                  <a:lnTo>
                    <a:pt x="508" y="681"/>
                  </a:lnTo>
                  <a:lnTo>
                    <a:pt x="507" y="685"/>
                  </a:lnTo>
                  <a:lnTo>
                    <a:pt x="505" y="691"/>
                  </a:lnTo>
                  <a:lnTo>
                    <a:pt x="503" y="695"/>
                  </a:lnTo>
                  <a:lnTo>
                    <a:pt x="500" y="700"/>
                  </a:lnTo>
                  <a:lnTo>
                    <a:pt x="497" y="704"/>
                  </a:lnTo>
                  <a:lnTo>
                    <a:pt x="493" y="708"/>
                  </a:lnTo>
                  <a:lnTo>
                    <a:pt x="489" y="714"/>
                  </a:lnTo>
                  <a:lnTo>
                    <a:pt x="483" y="718"/>
                  </a:lnTo>
                  <a:lnTo>
                    <a:pt x="477" y="721"/>
                  </a:lnTo>
                  <a:lnTo>
                    <a:pt x="471" y="725"/>
                  </a:lnTo>
                  <a:lnTo>
                    <a:pt x="465" y="729"/>
                  </a:lnTo>
                  <a:lnTo>
                    <a:pt x="458" y="733"/>
                  </a:lnTo>
                  <a:lnTo>
                    <a:pt x="450" y="737"/>
                  </a:lnTo>
                  <a:lnTo>
                    <a:pt x="443" y="741"/>
                  </a:lnTo>
                  <a:lnTo>
                    <a:pt x="433" y="744"/>
                  </a:lnTo>
                  <a:lnTo>
                    <a:pt x="425" y="748"/>
                  </a:lnTo>
                  <a:lnTo>
                    <a:pt x="416" y="750"/>
                  </a:lnTo>
                  <a:lnTo>
                    <a:pt x="406" y="754"/>
                  </a:lnTo>
                  <a:lnTo>
                    <a:pt x="396" y="756"/>
                  </a:lnTo>
                  <a:lnTo>
                    <a:pt x="385" y="760"/>
                  </a:lnTo>
                  <a:lnTo>
                    <a:pt x="375" y="762"/>
                  </a:lnTo>
                  <a:lnTo>
                    <a:pt x="364" y="764"/>
                  </a:lnTo>
                  <a:lnTo>
                    <a:pt x="353" y="765"/>
                  </a:lnTo>
                  <a:lnTo>
                    <a:pt x="342" y="767"/>
                  </a:lnTo>
                  <a:lnTo>
                    <a:pt x="329" y="769"/>
                  </a:lnTo>
                  <a:lnTo>
                    <a:pt x="317" y="769"/>
                  </a:lnTo>
                  <a:lnTo>
                    <a:pt x="305" y="771"/>
                  </a:lnTo>
                  <a:lnTo>
                    <a:pt x="280" y="773"/>
                  </a:lnTo>
                  <a:lnTo>
                    <a:pt x="254" y="773"/>
                  </a:lnTo>
                  <a:lnTo>
                    <a:pt x="227" y="773"/>
                  </a:lnTo>
                  <a:lnTo>
                    <a:pt x="203" y="771"/>
                  </a:lnTo>
                  <a:lnTo>
                    <a:pt x="191" y="769"/>
                  </a:lnTo>
                  <a:lnTo>
                    <a:pt x="178" y="769"/>
                  </a:lnTo>
                  <a:lnTo>
                    <a:pt x="166" y="767"/>
                  </a:lnTo>
                  <a:lnTo>
                    <a:pt x="155" y="765"/>
                  </a:lnTo>
                  <a:lnTo>
                    <a:pt x="144" y="764"/>
                  </a:lnTo>
                  <a:lnTo>
                    <a:pt x="132" y="762"/>
                  </a:lnTo>
                  <a:lnTo>
                    <a:pt x="122" y="760"/>
                  </a:lnTo>
                  <a:lnTo>
                    <a:pt x="112" y="756"/>
                  </a:lnTo>
                  <a:lnTo>
                    <a:pt x="102" y="754"/>
                  </a:lnTo>
                  <a:lnTo>
                    <a:pt x="92" y="750"/>
                  </a:lnTo>
                  <a:lnTo>
                    <a:pt x="82" y="748"/>
                  </a:lnTo>
                  <a:lnTo>
                    <a:pt x="74" y="744"/>
                  </a:lnTo>
                  <a:lnTo>
                    <a:pt x="66" y="741"/>
                  </a:lnTo>
                  <a:lnTo>
                    <a:pt x="58" y="737"/>
                  </a:lnTo>
                  <a:lnTo>
                    <a:pt x="50" y="733"/>
                  </a:lnTo>
                  <a:lnTo>
                    <a:pt x="43" y="729"/>
                  </a:lnTo>
                  <a:lnTo>
                    <a:pt x="36" y="725"/>
                  </a:lnTo>
                  <a:lnTo>
                    <a:pt x="30" y="721"/>
                  </a:lnTo>
                  <a:lnTo>
                    <a:pt x="24" y="718"/>
                  </a:lnTo>
                  <a:lnTo>
                    <a:pt x="20" y="714"/>
                  </a:lnTo>
                  <a:lnTo>
                    <a:pt x="15" y="708"/>
                  </a:lnTo>
                  <a:lnTo>
                    <a:pt x="11" y="704"/>
                  </a:lnTo>
                  <a:lnTo>
                    <a:pt x="8" y="700"/>
                  </a:lnTo>
                  <a:lnTo>
                    <a:pt x="5" y="695"/>
                  </a:lnTo>
                  <a:lnTo>
                    <a:pt x="3" y="691"/>
                  </a:lnTo>
                  <a:lnTo>
                    <a:pt x="1" y="685"/>
                  </a:lnTo>
                  <a:lnTo>
                    <a:pt x="0" y="681"/>
                  </a:lnTo>
                  <a:lnTo>
                    <a:pt x="0" y="675"/>
                  </a:lnTo>
                  <a:lnTo>
                    <a:pt x="0" y="96"/>
                  </a:lnTo>
                  <a:lnTo>
                    <a:pt x="0" y="92"/>
                  </a:lnTo>
                  <a:lnTo>
                    <a:pt x="1" y="87"/>
                  </a:lnTo>
                  <a:lnTo>
                    <a:pt x="3" y="83"/>
                  </a:lnTo>
                  <a:lnTo>
                    <a:pt x="5" y="77"/>
                  </a:lnTo>
                  <a:lnTo>
                    <a:pt x="8" y="73"/>
                  </a:lnTo>
                  <a:lnTo>
                    <a:pt x="11" y="67"/>
                  </a:lnTo>
                  <a:lnTo>
                    <a:pt x="15" y="64"/>
                  </a:lnTo>
                  <a:lnTo>
                    <a:pt x="20" y="60"/>
                  </a:lnTo>
                  <a:lnTo>
                    <a:pt x="24" y="56"/>
                  </a:lnTo>
                  <a:lnTo>
                    <a:pt x="30" y="50"/>
                  </a:lnTo>
                  <a:lnTo>
                    <a:pt x="36" y="46"/>
                  </a:lnTo>
                  <a:lnTo>
                    <a:pt x="43" y="42"/>
                  </a:lnTo>
                  <a:lnTo>
                    <a:pt x="50" y="39"/>
                  </a:lnTo>
                  <a:lnTo>
                    <a:pt x="58" y="35"/>
                  </a:lnTo>
                  <a:lnTo>
                    <a:pt x="66" y="33"/>
                  </a:lnTo>
                  <a:lnTo>
                    <a:pt x="74" y="29"/>
                  </a:lnTo>
                  <a:lnTo>
                    <a:pt x="82" y="25"/>
                  </a:lnTo>
                  <a:lnTo>
                    <a:pt x="92" y="23"/>
                  </a:lnTo>
                  <a:lnTo>
                    <a:pt x="102" y="19"/>
                  </a:lnTo>
                  <a:lnTo>
                    <a:pt x="112" y="17"/>
                  </a:lnTo>
                  <a:lnTo>
                    <a:pt x="122" y="14"/>
                  </a:lnTo>
                  <a:lnTo>
                    <a:pt x="132" y="12"/>
                  </a:lnTo>
                  <a:lnTo>
                    <a:pt x="144" y="10"/>
                  </a:lnTo>
                  <a:lnTo>
                    <a:pt x="155" y="8"/>
                  </a:lnTo>
                  <a:lnTo>
                    <a:pt x="166" y="6"/>
                  </a:lnTo>
                  <a:lnTo>
                    <a:pt x="178" y="4"/>
                  </a:lnTo>
                  <a:lnTo>
                    <a:pt x="191" y="4"/>
                  </a:lnTo>
                  <a:lnTo>
                    <a:pt x="203" y="2"/>
                  </a:lnTo>
                  <a:lnTo>
                    <a:pt x="227" y="0"/>
                  </a:lnTo>
                  <a:lnTo>
                    <a:pt x="254" y="0"/>
                  </a:lnTo>
                  <a:lnTo>
                    <a:pt x="254" y="0"/>
                  </a:lnTo>
                  <a:close/>
                </a:path>
              </a:pathLst>
            </a:cu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133960" y="3886200"/>
              <a:ext cx="806400" cy="152280"/>
            </a:xfrm>
            <a:custGeom>
              <a:avLst/>
              <a:gdLst/>
              <a:ahLst/>
              <a:rect l="l" t="t" r="r" b="b"/>
              <a:pathLst>
                <a:path w="508" h="194">
                  <a:moveTo>
                    <a:pt x="508" y="96"/>
                  </a:moveTo>
                  <a:lnTo>
                    <a:pt x="508" y="102"/>
                  </a:lnTo>
                  <a:lnTo>
                    <a:pt x="507" y="106"/>
                  </a:lnTo>
                  <a:lnTo>
                    <a:pt x="505" y="111"/>
                  </a:lnTo>
                  <a:lnTo>
                    <a:pt x="503" y="115"/>
                  </a:lnTo>
                  <a:lnTo>
                    <a:pt x="500" y="121"/>
                  </a:lnTo>
                  <a:lnTo>
                    <a:pt x="497" y="125"/>
                  </a:lnTo>
                  <a:lnTo>
                    <a:pt x="493" y="129"/>
                  </a:lnTo>
                  <a:lnTo>
                    <a:pt x="489" y="134"/>
                  </a:lnTo>
                  <a:lnTo>
                    <a:pt x="483" y="138"/>
                  </a:lnTo>
                  <a:lnTo>
                    <a:pt x="477" y="142"/>
                  </a:lnTo>
                  <a:lnTo>
                    <a:pt x="471" y="146"/>
                  </a:lnTo>
                  <a:lnTo>
                    <a:pt x="465" y="150"/>
                  </a:lnTo>
                  <a:lnTo>
                    <a:pt x="458" y="154"/>
                  </a:lnTo>
                  <a:lnTo>
                    <a:pt x="450" y="157"/>
                  </a:lnTo>
                  <a:lnTo>
                    <a:pt x="443" y="161"/>
                  </a:lnTo>
                  <a:lnTo>
                    <a:pt x="433" y="165"/>
                  </a:lnTo>
                  <a:lnTo>
                    <a:pt x="425" y="169"/>
                  </a:lnTo>
                  <a:lnTo>
                    <a:pt x="416" y="171"/>
                  </a:lnTo>
                  <a:lnTo>
                    <a:pt x="406" y="175"/>
                  </a:lnTo>
                  <a:lnTo>
                    <a:pt x="396" y="177"/>
                  </a:lnTo>
                  <a:lnTo>
                    <a:pt x="385" y="181"/>
                  </a:lnTo>
                  <a:lnTo>
                    <a:pt x="375" y="182"/>
                  </a:lnTo>
                  <a:lnTo>
                    <a:pt x="364" y="184"/>
                  </a:lnTo>
                  <a:lnTo>
                    <a:pt x="353" y="186"/>
                  </a:lnTo>
                  <a:lnTo>
                    <a:pt x="342" y="188"/>
                  </a:lnTo>
                  <a:lnTo>
                    <a:pt x="329" y="190"/>
                  </a:lnTo>
                  <a:lnTo>
                    <a:pt x="317" y="190"/>
                  </a:lnTo>
                  <a:lnTo>
                    <a:pt x="305" y="192"/>
                  </a:lnTo>
                  <a:lnTo>
                    <a:pt x="280" y="194"/>
                  </a:lnTo>
                  <a:lnTo>
                    <a:pt x="254" y="194"/>
                  </a:lnTo>
                  <a:lnTo>
                    <a:pt x="227" y="194"/>
                  </a:lnTo>
                  <a:lnTo>
                    <a:pt x="203" y="192"/>
                  </a:lnTo>
                  <a:lnTo>
                    <a:pt x="191" y="190"/>
                  </a:lnTo>
                  <a:lnTo>
                    <a:pt x="178" y="190"/>
                  </a:lnTo>
                  <a:lnTo>
                    <a:pt x="166" y="188"/>
                  </a:lnTo>
                  <a:lnTo>
                    <a:pt x="155" y="186"/>
                  </a:lnTo>
                  <a:lnTo>
                    <a:pt x="144" y="184"/>
                  </a:lnTo>
                  <a:lnTo>
                    <a:pt x="132" y="182"/>
                  </a:lnTo>
                  <a:lnTo>
                    <a:pt x="122" y="181"/>
                  </a:lnTo>
                  <a:lnTo>
                    <a:pt x="112" y="177"/>
                  </a:lnTo>
                  <a:lnTo>
                    <a:pt x="102" y="175"/>
                  </a:lnTo>
                  <a:lnTo>
                    <a:pt x="92" y="171"/>
                  </a:lnTo>
                  <a:lnTo>
                    <a:pt x="82" y="169"/>
                  </a:lnTo>
                  <a:lnTo>
                    <a:pt x="74" y="165"/>
                  </a:lnTo>
                  <a:lnTo>
                    <a:pt x="66" y="161"/>
                  </a:lnTo>
                  <a:lnTo>
                    <a:pt x="58" y="157"/>
                  </a:lnTo>
                  <a:lnTo>
                    <a:pt x="50" y="154"/>
                  </a:lnTo>
                  <a:lnTo>
                    <a:pt x="43" y="150"/>
                  </a:lnTo>
                  <a:lnTo>
                    <a:pt x="36" y="146"/>
                  </a:lnTo>
                  <a:lnTo>
                    <a:pt x="30" y="142"/>
                  </a:lnTo>
                  <a:lnTo>
                    <a:pt x="24" y="138"/>
                  </a:lnTo>
                  <a:lnTo>
                    <a:pt x="20" y="134"/>
                  </a:lnTo>
                  <a:lnTo>
                    <a:pt x="15" y="129"/>
                  </a:lnTo>
                  <a:lnTo>
                    <a:pt x="11" y="125"/>
                  </a:lnTo>
                  <a:lnTo>
                    <a:pt x="8" y="121"/>
                  </a:lnTo>
                  <a:lnTo>
                    <a:pt x="5" y="115"/>
                  </a:lnTo>
                  <a:lnTo>
                    <a:pt x="3" y="111"/>
                  </a:lnTo>
                  <a:lnTo>
                    <a:pt x="1" y="106"/>
                  </a:lnTo>
                  <a:lnTo>
                    <a:pt x="0" y="102"/>
                  </a:lnTo>
                  <a:lnTo>
                    <a:pt x="0" y="96"/>
                  </a:lnTo>
                  <a:lnTo>
                    <a:pt x="0" y="92"/>
                  </a:lnTo>
                  <a:lnTo>
                    <a:pt x="1" y="87"/>
                  </a:lnTo>
                  <a:lnTo>
                    <a:pt x="3" y="83"/>
                  </a:lnTo>
                  <a:lnTo>
                    <a:pt x="5" y="77"/>
                  </a:lnTo>
                  <a:lnTo>
                    <a:pt x="8" y="73"/>
                  </a:lnTo>
                  <a:lnTo>
                    <a:pt x="11" y="67"/>
                  </a:lnTo>
                  <a:lnTo>
                    <a:pt x="15" y="64"/>
                  </a:lnTo>
                  <a:lnTo>
                    <a:pt x="20" y="60"/>
                  </a:lnTo>
                  <a:lnTo>
                    <a:pt x="24" y="56"/>
                  </a:lnTo>
                  <a:lnTo>
                    <a:pt x="30" y="50"/>
                  </a:lnTo>
                  <a:lnTo>
                    <a:pt x="36" y="46"/>
                  </a:lnTo>
                  <a:lnTo>
                    <a:pt x="43" y="42"/>
                  </a:lnTo>
                  <a:lnTo>
                    <a:pt x="50" y="39"/>
                  </a:lnTo>
                  <a:lnTo>
                    <a:pt x="58" y="35"/>
                  </a:lnTo>
                  <a:lnTo>
                    <a:pt x="66" y="33"/>
                  </a:lnTo>
                  <a:lnTo>
                    <a:pt x="74" y="29"/>
                  </a:lnTo>
                  <a:lnTo>
                    <a:pt x="82" y="25"/>
                  </a:lnTo>
                  <a:lnTo>
                    <a:pt x="92" y="23"/>
                  </a:lnTo>
                  <a:lnTo>
                    <a:pt x="102" y="19"/>
                  </a:lnTo>
                  <a:lnTo>
                    <a:pt x="112" y="17"/>
                  </a:lnTo>
                  <a:lnTo>
                    <a:pt x="122" y="14"/>
                  </a:lnTo>
                  <a:lnTo>
                    <a:pt x="132" y="12"/>
                  </a:lnTo>
                  <a:lnTo>
                    <a:pt x="144" y="10"/>
                  </a:lnTo>
                  <a:lnTo>
                    <a:pt x="155" y="8"/>
                  </a:lnTo>
                  <a:lnTo>
                    <a:pt x="166" y="6"/>
                  </a:lnTo>
                  <a:lnTo>
                    <a:pt x="178" y="4"/>
                  </a:lnTo>
                  <a:lnTo>
                    <a:pt x="191" y="4"/>
                  </a:lnTo>
                  <a:lnTo>
                    <a:pt x="203" y="2"/>
                  </a:lnTo>
                  <a:lnTo>
                    <a:pt x="227" y="0"/>
                  </a:lnTo>
                  <a:lnTo>
                    <a:pt x="254" y="0"/>
                  </a:lnTo>
                  <a:lnTo>
                    <a:pt x="280" y="0"/>
                  </a:lnTo>
                  <a:lnTo>
                    <a:pt x="305" y="2"/>
                  </a:lnTo>
                  <a:lnTo>
                    <a:pt x="317" y="4"/>
                  </a:lnTo>
                  <a:lnTo>
                    <a:pt x="329" y="4"/>
                  </a:lnTo>
                  <a:lnTo>
                    <a:pt x="342" y="6"/>
                  </a:lnTo>
                  <a:lnTo>
                    <a:pt x="353" y="8"/>
                  </a:lnTo>
                  <a:lnTo>
                    <a:pt x="364" y="10"/>
                  </a:lnTo>
                  <a:lnTo>
                    <a:pt x="375" y="12"/>
                  </a:lnTo>
                  <a:lnTo>
                    <a:pt x="385" y="14"/>
                  </a:lnTo>
                  <a:lnTo>
                    <a:pt x="396" y="17"/>
                  </a:lnTo>
                  <a:lnTo>
                    <a:pt x="406" y="19"/>
                  </a:lnTo>
                  <a:lnTo>
                    <a:pt x="416" y="23"/>
                  </a:lnTo>
                  <a:lnTo>
                    <a:pt x="425" y="25"/>
                  </a:lnTo>
                  <a:lnTo>
                    <a:pt x="433" y="29"/>
                  </a:lnTo>
                  <a:lnTo>
                    <a:pt x="443" y="33"/>
                  </a:lnTo>
                  <a:lnTo>
                    <a:pt x="450" y="35"/>
                  </a:lnTo>
                  <a:lnTo>
                    <a:pt x="458" y="39"/>
                  </a:lnTo>
                  <a:lnTo>
                    <a:pt x="465" y="42"/>
                  </a:lnTo>
                  <a:lnTo>
                    <a:pt x="471" y="46"/>
                  </a:lnTo>
                  <a:lnTo>
                    <a:pt x="477" y="50"/>
                  </a:lnTo>
                  <a:lnTo>
                    <a:pt x="483" y="56"/>
                  </a:lnTo>
                  <a:lnTo>
                    <a:pt x="489" y="60"/>
                  </a:lnTo>
                  <a:lnTo>
                    <a:pt x="493" y="64"/>
                  </a:lnTo>
                  <a:lnTo>
                    <a:pt x="497" y="67"/>
                  </a:lnTo>
                  <a:lnTo>
                    <a:pt x="500" y="73"/>
                  </a:lnTo>
                  <a:lnTo>
                    <a:pt x="503" y="77"/>
                  </a:lnTo>
                  <a:lnTo>
                    <a:pt x="505" y="83"/>
                  </a:lnTo>
                  <a:lnTo>
                    <a:pt x="507" y="87"/>
                  </a:lnTo>
                  <a:lnTo>
                    <a:pt x="508" y="92"/>
                  </a:lnTo>
                  <a:lnTo>
                    <a:pt x="508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33960" y="3886200"/>
              <a:ext cx="806400" cy="612720"/>
            </a:xfrm>
            <a:custGeom>
              <a:avLst/>
              <a:gdLst/>
              <a:ahLst/>
              <a:rect l="l" t="t" r="r" b="b"/>
              <a:pathLst>
                <a:path w="508" h="773">
                  <a:moveTo>
                    <a:pt x="254" y="0"/>
                  </a:moveTo>
                  <a:lnTo>
                    <a:pt x="280" y="0"/>
                  </a:lnTo>
                  <a:lnTo>
                    <a:pt x="305" y="2"/>
                  </a:lnTo>
                  <a:lnTo>
                    <a:pt x="317" y="4"/>
                  </a:lnTo>
                  <a:lnTo>
                    <a:pt x="329" y="4"/>
                  </a:lnTo>
                  <a:lnTo>
                    <a:pt x="342" y="6"/>
                  </a:lnTo>
                  <a:lnTo>
                    <a:pt x="353" y="8"/>
                  </a:lnTo>
                  <a:lnTo>
                    <a:pt x="364" y="10"/>
                  </a:lnTo>
                  <a:lnTo>
                    <a:pt x="375" y="12"/>
                  </a:lnTo>
                  <a:lnTo>
                    <a:pt x="385" y="14"/>
                  </a:lnTo>
                  <a:lnTo>
                    <a:pt x="396" y="17"/>
                  </a:lnTo>
                  <a:lnTo>
                    <a:pt x="406" y="19"/>
                  </a:lnTo>
                  <a:lnTo>
                    <a:pt x="416" y="23"/>
                  </a:lnTo>
                  <a:lnTo>
                    <a:pt x="425" y="25"/>
                  </a:lnTo>
                  <a:lnTo>
                    <a:pt x="433" y="29"/>
                  </a:lnTo>
                  <a:lnTo>
                    <a:pt x="443" y="33"/>
                  </a:lnTo>
                  <a:lnTo>
                    <a:pt x="450" y="35"/>
                  </a:lnTo>
                  <a:lnTo>
                    <a:pt x="458" y="39"/>
                  </a:lnTo>
                  <a:lnTo>
                    <a:pt x="465" y="42"/>
                  </a:lnTo>
                  <a:lnTo>
                    <a:pt x="471" y="46"/>
                  </a:lnTo>
                  <a:lnTo>
                    <a:pt x="477" y="50"/>
                  </a:lnTo>
                  <a:lnTo>
                    <a:pt x="483" y="56"/>
                  </a:lnTo>
                  <a:lnTo>
                    <a:pt x="489" y="60"/>
                  </a:lnTo>
                  <a:lnTo>
                    <a:pt x="493" y="64"/>
                  </a:lnTo>
                  <a:lnTo>
                    <a:pt x="497" y="67"/>
                  </a:lnTo>
                  <a:lnTo>
                    <a:pt x="500" y="73"/>
                  </a:lnTo>
                  <a:lnTo>
                    <a:pt x="503" y="77"/>
                  </a:lnTo>
                  <a:lnTo>
                    <a:pt x="505" y="83"/>
                  </a:lnTo>
                  <a:lnTo>
                    <a:pt x="507" y="87"/>
                  </a:lnTo>
                  <a:lnTo>
                    <a:pt x="508" y="92"/>
                  </a:lnTo>
                  <a:lnTo>
                    <a:pt x="508" y="96"/>
                  </a:lnTo>
                  <a:lnTo>
                    <a:pt x="508" y="675"/>
                  </a:lnTo>
                  <a:lnTo>
                    <a:pt x="508" y="681"/>
                  </a:lnTo>
                  <a:lnTo>
                    <a:pt x="507" y="685"/>
                  </a:lnTo>
                  <a:lnTo>
                    <a:pt x="505" y="691"/>
                  </a:lnTo>
                  <a:lnTo>
                    <a:pt x="503" y="695"/>
                  </a:lnTo>
                  <a:lnTo>
                    <a:pt x="500" y="700"/>
                  </a:lnTo>
                  <a:lnTo>
                    <a:pt x="497" y="704"/>
                  </a:lnTo>
                  <a:lnTo>
                    <a:pt x="493" y="708"/>
                  </a:lnTo>
                  <a:lnTo>
                    <a:pt x="489" y="714"/>
                  </a:lnTo>
                  <a:lnTo>
                    <a:pt x="483" y="718"/>
                  </a:lnTo>
                  <a:lnTo>
                    <a:pt x="477" y="721"/>
                  </a:lnTo>
                  <a:lnTo>
                    <a:pt x="471" y="725"/>
                  </a:lnTo>
                  <a:lnTo>
                    <a:pt x="465" y="729"/>
                  </a:lnTo>
                  <a:lnTo>
                    <a:pt x="458" y="733"/>
                  </a:lnTo>
                  <a:lnTo>
                    <a:pt x="450" y="737"/>
                  </a:lnTo>
                  <a:lnTo>
                    <a:pt x="443" y="741"/>
                  </a:lnTo>
                  <a:lnTo>
                    <a:pt x="433" y="744"/>
                  </a:lnTo>
                  <a:lnTo>
                    <a:pt x="425" y="748"/>
                  </a:lnTo>
                  <a:lnTo>
                    <a:pt x="416" y="750"/>
                  </a:lnTo>
                  <a:lnTo>
                    <a:pt x="406" y="754"/>
                  </a:lnTo>
                  <a:lnTo>
                    <a:pt x="396" y="756"/>
                  </a:lnTo>
                  <a:lnTo>
                    <a:pt x="385" y="760"/>
                  </a:lnTo>
                  <a:lnTo>
                    <a:pt x="375" y="762"/>
                  </a:lnTo>
                  <a:lnTo>
                    <a:pt x="364" y="764"/>
                  </a:lnTo>
                  <a:lnTo>
                    <a:pt x="353" y="765"/>
                  </a:lnTo>
                  <a:lnTo>
                    <a:pt x="342" y="767"/>
                  </a:lnTo>
                  <a:lnTo>
                    <a:pt x="329" y="769"/>
                  </a:lnTo>
                  <a:lnTo>
                    <a:pt x="317" y="769"/>
                  </a:lnTo>
                  <a:lnTo>
                    <a:pt x="305" y="771"/>
                  </a:lnTo>
                  <a:lnTo>
                    <a:pt x="280" y="773"/>
                  </a:lnTo>
                  <a:lnTo>
                    <a:pt x="254" y="773"/>
                  </a:lnTo>
                  <a:lnTo>
                    <a:pt x="227" y="773"/>
                  </a:lnTo>
                  <a:lnTo>
                    <a:pt x="203" y="771"/>
                  </a:lnTo>
                  <a:lnTo>
                    <a:pt x="191" y="769"/>
                  </a:lnTo>
                  <a:lnTo>
                    <a:pt x="178" y="769"/>
                  </a:lnTo>
                  <a:lnTo>
                    <a:pt x="166" y="767"/>
                  </a:lnTo>
                  <a:lnTo>
                    <a:pt x="155" y="765"/>
                  </a:lnTo>
                  <a:lnTo>
                    <a:pt x="144" y="764"/>
                  </a:lnTo>
                  <a:lnTo>
                    <a:pt x="132" y="762"/>
                  </a:lnTo>
                  <a:lnTo>
                    <a:pt x="122" y="760"/>
                  </a:lnTo>
                  <a:lnTo>
                    <a:pt x="112" y="756"/>
                  </a:lnTo>
                  <a:lnTo>
                    <a:pt x="102" y="754"/>
                  </a:lnTo>
                  <a:lnTo>
                    <a:pt x="92" y="750"/>
                  </a:lnTo>
                  <a:lnTo>
                    <a:pt x="82" y="748"/>
                  </a:lnTo>
                  <a:lnTo>
                    <a:pt x="74" y="744"/>
                  </a:lnTo>
                  <a:lnTo>
                    <a:pt x="66" y="741"/>
                  </a:lnTo>
                  <a:lnTo>
                    <a:pt x="58" y="737"/>
                  </a:lnTo>
                  <a:lnTo>
                    <a:pt x="50" y="733"/>
                  </a:lnTo>
                  <a:lnTo>
                    <a:pt x="43" y="729"/>
                  </a:lnTo>
                  <a:lnTo>
                    <a:pt x="36" y="725"/>
                  </a:lnTo>
                  <a:lnTo>
                    <a:pt x="30" y="721"/>
                  </a:lnTo>
                  <a:lnTo>
                    <a:pt x="24" y="718"/>
                  </a:lnTo>
                  <a:lnTo>
                    <a:pt x="20" y="714"/>
                  </a:lnTo>
                  <a:lnTo>
                    <a:pt x="15" y="708"/>
                  </a:lnTo>
                  <a:lnTo>
                    <a:pt x="11" y="704"/>
                  </a:lnTo>
                  <a:lnTo>
                    <a:pt x="8" y="700"/>
                  </a:lnTo>
                  <a:lnTo>
                    <a:pt x="5" y="695"/>
                  </a:lnTo>
                  <a:lnTo>
                    <a:pt x="3" y="691"/>
                  </a:lnTo>
                  <a:lnTo>
                    <a:pt x="1" y="685"/>
                  </a:lnTo>
                  <a:lnTo>
                    <a:pt x="0" y="681"/>
                  </a:lnTo>
                  <a:lnTo>
                    <a:pt x="0" y="675"/>
                  </a:lnTo>
                  <a:lnTo>
                    <a:pt x="0" y="96"/>
                  </a:lnTo>
                  <a:lnTo>
                    <a:pt x="0" y="92"/>
                  </a:lnTo>
                  <a:lnTo>
                    <a:pt x="1" y="87"/>
                  </a:lnTo>
                  <a:lnTo>
                    <a:pt x="3" y="83"/>
                  </a:lnTo>
                  <a:lnTo>
                    <a:pt x="5" y="77"/>
                  </a:lnTo>
                  <a:lnTo>
                    <a:pt x="8" y="73"/>
                  </a:lnTo>
                  <a:lnTo>
                    <a:pt x="11" y="67"/>
                  </a:lnTo>
                  <a:lnTo>
                    <a:pt x="15" y="64"/>
                  </a:lnTo>
                  <a:lnTo>
                    <a:pt x="20" y="60"/>
                  </a:lnTo>
                  <a:lnTo>
                    <a:pt x="24" y="56"/>
                  </a:lnTo>
                  <a:lnTo>
                    <a:pt x="30" y="50"/>
                  </a:lnTo>
                  <a:lnTo>
                    <a:pt x="36" y="46"/>
                  </a:lnTo>
                  <a:lnTo>
                    <a:pt x="43" y="42"/>
                  </a:lnTo>
                  <a:lnTo>
                    <a:pt x="50" y="39"/>
                  </a:lnTo>
                  <a:lnTo>
                    <a:pt x="58" y="35"/>
                  </a:lnTo>
                  <a:lnTo>
                    <a:pt x="66" y="33"/>
                  </a:lnTo>
                  <a:lnTo>
                    <a:pt x="74" y="29"/>
                  </a:lnTo>
                  <a:lnTo>
                    <a:pt x="82" y="25"/>
                  </a:lnTo>
                  <a:lnTo>
                    <a:pt x="92" y="23"/>
                  </a:lnTo>
                  <a:lnTo>
                    <a:pt x="102" y="19"/>
                  </a:lnTo>
                  <a:lnTo>
                    <a:pt x="112" y="17"/>
                  </a:lnTo>
                  <a:lnTo>
                    <a:pt x="122" y="14"/>
                  </a:lnTo>
                  <a:lnTo>
                    <a:pt x="132" y="12"/>
                  </a:lnTo>
                  <a:lnTo>
                    <a:pt x="144" y="10"/>
                  </a:lnTo>
                  <a:lnTo>
                    <a:pt x="155" y="8"/>
                  </a:lnTo>
                  <a:lnTo>
                    <a:pt x="166" y="6"/>
                  </a:lnTo>
                  <a:lnTo>
                    <a:pt x="178" y="4"/>
                  </a:lnTo>
                  <a:lnTo>
                    <a:pt x="191" y="4"/>
                  </a:lnTo>
                  <a:lnTo>
                    <a:pt x="203" y="2"/>
                  </a:lnTo>
                  <a:lnTo>
                    <a:pt x="227" y="0"/>
                  </a:lnTo>
                  <a:lnTo>
                    <a:pt x="254" y="0"/>
                  </a:lnTo>
                  <a:lnTo>
                    <a:pt x="25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133960" y="3962520"/>
              <a:ext cx="806400" cy="75960"/>
            </a:xfrm>
            <a:custGeom>
              <a:avLst/>
              <a:gdLst/>
              <a:ahLst/>
              <a:rect l="l" t="t" r="r" b="b"/>
              <a:pathLst>
                <a:path w="508" h="98">
                  <a:moveTo>
                    <a:pt x="508" y="0"/>
                  </a:moveTo>
                  <a:lnTo>
                    <a:pt x="508" y="6"/>
                  </a:lnTo>
                  <a:lnTo>
                    <a:pt x="507" y="10"/>
                  </a:lnTo>
                  <a:lnTo>
                    <a:pt x="505" y="15"/>
                  </a:lnTo>
                  <a:lnTo>
                    <a:pt x="503" y="19"/>
                  </a:lnTo>
                  <a:lnTo>
                    <a:pt x="500" y="25"/>
                  </a:lnTo>
                  <a:lnTo>
                    <a:pt x="497" y="29"/>
                  </a:lnTo>
                  <a:lnTo>
                    <a:pt x="493" y="33"/>
                  </a:lnTo>
                  <a:lnTo>
                    <a:pt x="489" y="38"/>
                  </a:lnTo>
                  <a:lnTo>
                    <a:pt x="483" y="42"/>
                  </a:lnTo>
                  <a:lnTo>
                    <a:pt x="477" y="46"/>
                  </a:lnTo>
                  <a:lnTo>
                    <a:pt x="471" y="50"/>
                  </a:lnTo>
                  <a:lnTo>
                    <a:pt x="465" y="54"/>
                  </a:lnTo>
                  <a:lnTo>
                    <a:pt x="458" y="58"/>
                  </a:lnTo>
                  <a:lnTo>
                    <a:pt x="450" y="61"/>
                  </a:lnTo>
                  <a:lnTo>
                    <a:pt x="443" y="65"/>
                  </a:lnTo>
                  <a:lnTo>
                    <a:pt x="433" y="69"/>
                  </a:lnTo>
                  <a:lnTo>
                    <a:pt x="425" y="73"/>
                  </a:lnTo>
                  <a:lnTo>
                    <a:pt x="416" y="75"/>
                  </a:lnTo>
                  <a:lnTo>
                    <a:pt x="406" y="79"/>
                  </a:lnTo>
                  <a:lnTo>
                    <a:pt x="396" y="81"/>
                  </a:lnTo>
                  <a:lnTo>
                    <a:pt x="385" y="85"/>
                  </a:lnTo>
                  <a:lnTo>
                    <a:pt x="375" y="86"/>
                  </a:lnTo>
                  <a:lnTo>
                    <a:pt x="364" y="88"/>
                  </a:lnTo>
                  <a:lnTo>
                    <a:pt x="353" y="90"/>
                  </a:lnTo>
                  <a:lnTo>
                    <a:pt x="342" y="92"/>
                  </a:lnTo>
                  <a:lnTo>
                    <a:pt x="329" y="94"/>
                  </a:lnTo>
                  <a:lnTo>
                    <a:pt x="317" y="94"/>
                  </a:lnTo>
                  <a:lnTo>
                    <a:pt x="305" y="96"/>
                  </a:lnTo>
                  <a:lnTo>
                    <a:pt x="280" y="98"/>
                  </a:lnTo>
                  <a:lnTo>
                    <a:pt x="254" y="98"/>
                  </a:lnTo>
                  <a:lnTo>
                    <a:pt x="227" y="98"/>
                  </a:lnTo>
                  <a:lnTo>
                    <a:pt x="203" y="96"/>
                  </a:lnTo>
                  <a:lnTo>
                    <a:pt x="191" y="94"/>
                  </a:lnTo>
                  <a:lnTo>
                    <a:pt x="178" y="94"/>
                  </a:lnTo>
                  <a:lnTo>
                    <a:pt x="166" y="92"/>
                  </a:lnTo>
                  <a:lnTo>
                    <a:pt x="155" y="90"/>
                  </a:lnTo>
                  <a:lnTo>
                    <a:pt x="144" y="88"/>
                  </a:lnTo>
                  <a:lnTo>
                    <a:pt x="132" y="86"/>
                  </a:lnTo>
                  <a:lnTo>
                    <a:pt x="122" y="85"/>
                  </a:lnTo>
                  <a:lnTo>
                    <a:pt x="112" y="81"/>
                  </a:lnTo>
                  <a:lnTo>
                    <a:pt x="102" y="79"/>
                  </a:lnTo>
                  <a:lnTo>
                    <a:pt x="92" y="75"/>
                  </a:lnTo>
                  <a:lnTo>
                    <a:pt x="82" y="73"/>
                  </a:lnTo>
                  <a:lnTo>
                    <a:pt x="74" y="69"/>
                  </a:lnTo>
                  <a:lnTo>
                    <a:pt x="66" y="65"/>
                  </a:lnTo>
                  <a:lnTo>
                    <a:pt x="58" y="61"/>
                  </a:lnTo>
                  <a:lnTo>
                    <a:pt x="50" y="58"/>
                  </a:lnTo>
                  <a:lnTo>
                    <a:pt x="43" y="54"/>
                  </a:lnTo>
                  <a:lnTo>
                    <a:pt x="36" y="50"/>
                  </a:lnTo>
                  <a:lnTo>
                    <a:pt x="30" y="46"/>
                  </a:lnTo>
                  <a:lnTo>
                    <a:pt x="24" y="42"/>
                  </a:lnTo>
                  <a:lnTo>
                    <a:pt x="20" y="38"/>
                  </a:lnTo>
                  <a:lnTo>
                    <a:pt x="15" y="33"/>
                  </a:lnTo>
                  <a:lnTo>
                    <a:pt x="11" y="29"/>
                  </a:lnTo>
                  <a:lnTo>
                    <a:pt x="8" y="25"/>
                  </a:lnTo>
                  <a:lnTo>
                    <a:pt x="5" y="19"/>
                  </a:lnTo>
                  <a:lnTo>
                    <a:pt x="3" y="15"/>
                  </a:lnTo>
                  <a:lnTo>
                    <a:pt x="1" y="10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476360" y="5113440"/>
              <a:ext cx="1925640" cy="579240"/>
            </a:xfrm>
            <a:custGeom>
              <a:avLst/>
              <a:gdLst/>
              <a:ahLst/>
              <a:rect l="l" t="t" r="r" b="b"/>
              <a:pathLst>
                <a:path w="1213" h="729">
                  <a:moveTo>
                    <a:pt x="607" y="0"/>
                  </a:moveTo>
                  <a:lnTo>
                    <a:pt x="638" y="0"/>
                  </a:lnTo>
                  <a:lnTo>
                    <a:pt x="669" y="2"/>
                  </a:lnTo>
                  <a:lnTo>
                    <a:pt x="698" y="4"/>
                  </a:lnTo>
                  <a:lnTo>
                    <a:pt x="729" y="8"/>
                  </a:lnTo>
                  <a:lnTo>
                    <a:pt x="758" y="12"/>
                  </a:lnTo>
                  <a:lnTo>
                    <a:pt x="787" y="17"/>
                  </a:lnTo>
                  <a:lnTo>
                    <a:pt x="815" y="23"/>
                  </a:lnTo>
                  <a:lnTo>
                    <a:pt x="842" y="29"/>
                  </a:lnTo>
                  <a:lnTo>
                    <a:pt x="870" y="36"/>
                  </a:lnTo>
                  <a:lnTo>
                    <a:pt x="895" y="44"/>
                  </a:lnTo>
                  <a:lnTo>
                    <a:pt x="921" y="54"/>
                  </a:lnTo>
                  <a:lnTo>
                    <a:pt x="945" y="61"/>
                  </a:lnTo>
                  <a:lnTo>
                    <a:pt x="969" y="73"/>
                  </a:lnTo>
                  <a:lnTo>
                    <a:pt x="992" y="82"/>
                  </a:lnTo>
                  <a:lnTo>
                    <a:pt x="1014" y="94"/>
                  </a:lnTo>
                  <a:lnTo>
                    <a:pt x="1035" y="107"/>
                  </a:lnTo>
                  <a:lnTo>
                    <a:pt x="1056" y="119"/>
                  </a:lnTo>
                  <a:lnTo>
                    <a:pt x="1065" y="127"/>
                  </a:lnTo>
                  <a:lnTo>
                    <a:pt x="1074" y="132"/>
                  </a:lnTo>
                  <a:lnTo>
                    <a:pt x="1083" y="140"/>
                  </a:lnTo>
                  <a:lnTo>
                    <a:pt x="1092" y="146"/>
                  </a:lnTo>
                  <a:lnTo>
                    <a:pt x="1100" y="153"/>
                  </a:lnTo>
                  <a:lnTo>
                    <a:pt x="1110" y="161"/>
                  </a:lnTo>
                  <a:lnTo>
                    <a:pt x="1117" y="169"/>
                  </a:lnTo>
                  <a:lnTo>
                    <a:pt x="1125" y="175"/>
                  </a:lnTo>
                  <a:lnTo>
                    <a:pt x="1132" y="182"/>
                  </a:lnTo>
                  <a:lnTo>
                    <a:pt x="1139" y="190"/>
                  </a:lnTo>
                  <a:lnTo>
                    <a:pt x="1146" y="198"/>
                  </a:lnTo>
                  <a:lnTo>
                    <a:pt x="1153" y="207"/>
                  </a:lnTo>
                  <a:lnTo>
                    <a:pt x="1160" y="215"/>
                  </a:lnTo>
                  <a:lnTo>
                    <a:pt x="1165" y="222"/>
                  </a:lnTo>
                  <a:lnTo>
                    <a:pt x="1171" y="230"/>
                  </a:lnTo>
                  <a:lnTo>
                    <a:pt x="1176" y="240"/>
                  </a:lnTo>
                  <a:lnTo>
                    <a:pt x="1181" y="247"/>
                  </a:lnTo>
                  <a:lnTo>
                    <a:pt x="1185" y="255"/>
                  </a:lnTo>
                  <a:lnTo>
                    <a:pt x="1189" y="265"/>
                  </a:lnTo>
                  <a:lnTo>
                    <a:pt x="1193" y="274"/>
                  </a:lnTo>
                  <a:lnTo>
                    <a:pt x="1197" y="282"/>
                  </a:lnTo>
                  <a:lnTo>
                    <a:pt x="1200" y="292"/>
                  </a:lnTo>
                  <a:lnTo>
                    <a:pt x="1204" y="299"/>
                  </a:lnTo>
                  <a:lnTo>
                    <a:pt x="1206" y="309"/>
                  </a:lnTo>
                  <a:lnTo>
                    <a:pt x="1208" y="318"/>
                  </a:lnTo>
                  <a:lnTo>
                    <a:pt x="1210" y="328"/>
                  </a:lnTo>
                  <a:lnTo>
                    <a:pt x="1211" y="336"/>
                  </a:lnTo>
                  <a:lnTo>
                    <a:pt x="1212" y="345"/>
                  </a:lnTo>
                  <a:lnTo>
                    <a:pt x="1213" y="355"/>
                  </a:lnTo>
                  <a:lnTo>
                    <a:pt x="1213" y="364"/>
                  </a:lnTo>
                  <a:lnTo>
                    <a:pt x="1213" y="374"/>
                  </a:lnTo>
                  <a:lnTo>
                    <a:pt x="1212" y="384"/>
                  </a:lnTo>
                  <a:lnTo>
                    <a:pt x="1211" y="393"/>
                  </a:lnTo>
                  <a:lnTo>
                    <a:pt x="1210" y="401"/>
                  </a:lnTo>
                  <a:lnTo>
                    <a:pt x="1208" y="410"/>
                  </a:lnTo>
                  <a:lnTo>
                    <a:pt x="1206" y="420"/>
                  </a:lnTo>
                  <a:lnTo>
                    <a:pt x="1204" y="430"/>
                  </a:lnTo>
                  <a:lnTo>
                    <a:pt x="1200" y="437"/>
                  </a:lnTo>
                  <a:lnTo>
                    <a:pt x="1197" y="447"/>
                  </a:lnTo>
                  <a:lnTo>
                    <a:pt x="1193" y="456"/>
                  </a:lnTo>
                  <a:lnTo>
                    <a:pt x="1189" y="464"/>
                  </a:lnTo>
                  <a:lnTo>
                    <a:pt x="1185" y="474"/>
                  </a:lnTo>
                  <a:lnTo>
                    <a:pt x="1181" y="481"/>
                  </a:lnTo>
                  <a:lnTo>
                    <a:pt x="1176" y="489"/>
                  </a:lnTo>
                  <a:lnTo>
                    <a:pt x="1171" y="499"/>
                  </a:lnTo>
                  <a:lnTo>
                    <a:pt x="1165" y="506"/>
                  </a:lnTo>
                  <a:lnTo>
                    <a:pt x="1160" y="514"/>
                  </a:lnTo>
                  <a:lnTo>
                    <a:pt x="1153" y="522"/>
                  </a:lnTo>
                  <a:lnTo>
                    <a:pt x="1146" y="531"/>
                  </a:lnTo>
                  <a:lnTo>
                    <a:pt x="1139" y="539"/>
                  </a:lnTo>
                  <a:lnTo>
                    <a:pt x="1132" y="547"/>
                  </a:lnTo>
                  <a:lnTo>
                    <a:pt x="1125" y="554"/>
                  </a:lnTo>
                  <a:lnTo>
                    <a:pt x="1117" y="560"/>
                  </a:lnTo>
                  <a:lnTo>
                    <a:pt x="1110" y="568"/>
                  </a:lnTo>
                  <a:lnTo>
                    <a:pt x="1100" y="575"/>
                  </a:lnTo>
                  <a:lnTo>
                    <a:pt x="1092" y="583"/>
                  </a:lnTo>
                  <a:lnTo>
                    <a:pt x="1083" y="589"/>
                  </a:lnTo>
                  <a:lnTo>
                    <a:pt x="1074" y="596"/>
                  </a:lnTo>
                  <a:lnTo>
                    <a:pt x="1065" y="602"/>
                  </a:lnTo>
                  <a:lnTo>
                    <a:pt x="1056" y="610"/>
                  </a:lnTo>
                  <a:lnTo>
                    <a:pt x="1035" y="621"/>
                  </a:lnTo>
                  <a:lnTo>
                    <a:pt x="1014" y="635"/>
                  </a:lnTo>
                  <a:lnTo>
                    <a:pt x="992" y="646"/>
                  </a:lnTo>
                  <a:lnTo>
                    <a:pt x="969" y="656"/>
                  </a:lnTo>
                  <a:lnTo>
                    <a:pt x="945" y="667"/>
                  </a:lnTo>
                  <a:lnTo>
                    <a:pt x="921" y="675"/>
                  </a:lnTo>
                  <a:lnTo>
                    <a:pt x="895" y="685"/>
                  </a:lnTo>
                  <a:lnTo>
                    <a:pt x="870" y="692"/>
                  </a:lnTo>
                  <a:lnTo>
                    <a:pt x="842" y="700"/>
                  </a:lnTo>
                  <a:lnTo>
                    <a:pt x="815" y="706"/>
                  </a:lnTo>
                  <a:lnTo>
                    <a:pt x="787" y="712"/>
                  </a:lnTo>
                  <a:lnTo>
                    <a:pt x="758" y="717"/>
                  </a:lnTo>
                  <a:lnTo>
                    <a:pt x="729" y="721"/>
                  </a:lnTo>
                  <a:lnTo>
                    <a:pt x="698" y="725"/>
                  </a:lnTo>
                  <a:lnTo>
                    <a:pt x="669" y="727"/>
                  </a:lnTo>
                  <a:lnTo>
                    <a:pt x="638" y="729"/>
                  </a:lnTo>
                  <a:lnTo>
                    <a:pt x="607" y="729"/>
                  </a:lnTo>
                  <a:lnTo>
                    <a:pt x="575" y="729"/>
                  </a:lnTo>
                  <a:lnTo>
                    <a:pt x="544" y="727"/>
                  </a:lnTo>
                  <a:lnTo>
                    <a:pt x="515" y="725"/>
                  </a:lnTo>
                  <a:lnTo>
                    <a:pt x="484" y="721"/>
                  </a:lnTo>
                  <a:lnTo>
                    <a:pt x="455" y="717"/>
                  </a:lnTo>
                  <a:lnTo>
                    <a:pt x="426" y="712"/>
                  </a:lnTo>
                  <a:lnTo>
                    <a:pt x="398" y="706"/>
                  </a:lnTo>
                  <a:lnTo>
                    <a:pt x="371" y="700"/>
                  </a:lnTo>
                  <a:lnTo>
                    <a:pt x="344" y="692"/>
                  </a:lnTo>
                  <a:lnTo>
                    <a:pt x="318" y="685"/>
                  </a:lnTo>
                  <a:lnTo>
                    <a:pt x="292" y="677"/>
                  </a:lnTo>
                  <a:lnTo>
                    <a:pt x="268" y="667"/>
                  </a:lnTo>
                  <a:lnTo>
                    <a:pt x="244" y="656"/>
                  </a:lnTo>
                  <a:lnTo>
                    <a:pt x="221" y="646"/>
                  </a:lnTo>
                  <a:lnTo>
                    <a:pt x="199" y="635"/>
                  </a:lnTo>
                  <a:lnTo>
                    <a:pt x="178" y="621"/>
                  </a:lnTo>
                  <a:lnTo>
                    <a:pt x="157" y="610"/>
                  </a:lnTo>
                  <a:lnTo>
                    <a:pt x="148" y="602"/>
                  </a:lnTo>
                  <a:lnTo>
                    <a:pt x="139" y="596"/>
                  </a:lnTo>
                  <a:lnTo>
                    <a:pt x="130" y="589"/>
                  </a:lnTo>
                  <a:lnTo>
                    <a:pt x="121" y="583"/>
                  </a:lnTo>
                  <a:lnTo>
                    <a:pt x="113" y="575"/>
                  </a:lnTo>
                  <a:lnTo>
                    <a:pt x="103" y="568"/>
                  </a:lnTo>
                  <a:lnTo>
                    <a:pt x="96" y="560"/>
                  </a:lnTo>
                  <a:lnTo>
                    <a:pt x="88" y="554"/>
                  </a:lnTo>
                  <a:lnTo>
                    <a:pt x="81" y="547"/>
                  </a:lnTo>
                  <a:lnTo>
                    <a:pt x="74" y="539"/>
                  </a:lnTo>
                  <a:lnTo>
                    <a:pt x="67" y="531"/>
                  </a:lnTo>
                  <a:lnTo>
                    <a:pt x="61" y="522"/>
                  </a:lnTo>
                  <a:lnTo>
                    <a:pt x="54" y="514"/>
                  </a:lnTo>
                  <a:lnTo>
                    <a:pt x="48" y="506"/>
                  </a:lnTo>
                  <a:lnTo>
                    <a:pt x="42" y="499"/>
                  </a:lnTo>
                  <a:lnTo>
                    <a:pt x="37" y="489"/>
                  </a:lnTo>
                  <a:lnTo>
                    <a:pt x="32" y="481"/>
                  </a:lnTo>
                  <a:lnTo>
                    <a:pt x="28" y="474"/>
                  </a:lnTo>
                  <a:lnTo>
                    <a:pt x="24" y="464"/>
                  </a:lnTo>
                  <a:lnTo>
                    <a:pt x="20" y="456"/>
                  </a:lnTo>
                  <a:lnTo>
                    <a:pt x="16" y="447"/>
                  </a:lnTo>
                  <a:lnTo>
                    <a:pt x="13" y="437"/>
                  </a:lnTo>
                  <a:lnTo>
                    <a:pt x="10" y="430"/>
                  </a:lnTo>
                  <a:lnTo>
                    <a:pt x="7" y="420"/>
                  </a:lnTo>
                  <a:lnTo>
                    <a:pt x="5" y="410"/>
                  </a:lnTo>
                  <a:lnTo>
                    <a:pt x="3" y="401"/>
                  </a:lnTo>
                  <a:lnTo>
                    <a:pt x="2" y="393"/>
                  </a:lnTo>
                  <a:lnTo>
                    <a:pt x="1" y="384"/>
                  </a:lnTo>
                  <a:lnTo>
                    <a:pt x="0" y="374"/>
                  </a:lnTo>
                  <a:lnTo>
                    <a:pt x="0" y="364"/>
                  </a:lnTo>
                  <a:lnTo>
                    <a:pt x="0" y="355"/>
                  </a:lnTo>
                  <a:lnTo>
                    <a:pt x="1" y="345"/>
                  </a:lnTo>
                  <a:lnTo>
                    <a:pt x="2" y="336"/>
                  </a:lnTo>
                  <a:lnTo>
                    <a:pt x="3" y="328"/>
                  </a:lnTo>
                  <a:lnTo>
                    <a:pt x="5" y="318"/>
                  </a:lnTo>
                  <a:lnTo>
                    <a:pt x="7" y="309"/>
                  </a:lnTo>
                  <a:lnTo>
                    <a:pt x="10" y="299"/>
                  </a:lnTo>
                  <a:lnTo>
                    <a:pt x="13" y="292"/>
                  </a:lnTo>
                  <a:lnTo>
                    <a:pt x="16" y="282"/>
                  </a:lnTo>
                  <a:lnTo>
                    <a:pt x="20" y="274"/>
                  </a:lnTo>
                  <a:lnTo>
                    <a:pt x="24" y="265"/>
                  </a:lnTo>
                  <a:lnTo>
                    <a:pt x="28" y="255"/>
                  </a:lnTo>
                  <a:lnTo>
                    <a:pt x="32" y="247"/>
                  </a:lnTo>
                  <a:lnTo>
                    <a:pt x="37" y="240"/>
                  </a:lnTo>
                  <a:lnTo>
                    <a:pt x="42" y="230"/>
                  </a:lnTo>
                  <a:lnTo>
                    <a:pt x="48" y="222"/>
                  </a:lnTo>
                  <a:lnTo>
                    <a:pt x="54" y="215"/>
                  </a:lnTo>
                  <a:lnTo>
                    <a:pt x="61" y="207"/>
                  </a:lnTo>
                  <a:lnTo>
                    <a:pt x="67" y="198"/>
                  </a:lnTo>
                  <a:lnTo>
                    <a:pt x="74" y="190"/>
                  </a:lnTo>
                  <a:lnTo>
                    <a:pt x="81" y="182"/>
                  </a:lnTo>
                  <a:lnTo>
                    <a:pt x="88" y="175"/>
                  </a:lnTo>
                  <a:lnTo>
                    <a:pt x="96" y="169"/>
                  </a:lnTo>
                  <a:lnTo>
                    <a:pt x="103" y="161"/>
                  </a:lnTo>
                  <a:lnTo>
                    <a:pt x="113" y="153"/>
                  </a:lnTo>
                  <a:lnTo>
                    <a:pt x="121" y="146"/>
                  </a:lnTo>
                  <a:lnTo>
                    <a:pt x="130" y="140"/>
                  </a:lnTo>
                  <a:lnTo>
                    <a:pt x="139" y="132"/>
                  </a:lnTo>
                  <a:lnTo>
                    <a:pt x="148" y="127"/>
                  </a:lnTo>
                  <a:lnTo>
                    <a:pt x="157" y="119"/>
                  </a:lnTo>
                  <a:lnTo>
                    <a:pt x="178" y="107"/>
                  </a:lnTo>
                  <a:lnTo>
                    <a:pt x="199" y="94"/>
                  </a:lnTo>
                  <a:lnTo>
                    <a:pt x="221" y="82"/>
                  </a:lnTo>
                  <a:lnTo>
                    <a:pt x="244" y="73"/>
                  </a:lnTo>
                  <a:lnTo>
                    <a:pt x="268" y="61"/>
                  </a:lnTo>
                  <a:lnTo>
                    <a:pt x="292" y="52"/>
                  </a:lnTo>
                  <a:lnTo>
                    <a:pt x="318" y="44"/>
                  </a:lnTo>
                  <a:lnTo>
                    <a:pt x="344" y="36"/>
                  </a:lnTo>
                  <a:lnTo>
                    <a:pt x="371" y="29"/>
                  </a:lnTo>
                  <a:lnTo>
                    <a:pt x="398" y="21"/>
                  </a:lnTo>
                  <a:lnTo>
                    <a:pt x="426" y="15"/>
                  </a:lnTo>
                  <a:lnTo>
                    <a:pt x="455" y="12"/>
                  </a:lnTo>
                  <a:lnTo>
                    <a:pt x="484" y="8"/>
                  </a:lnTo>
                  <a:lnTo>
                    <a:pt x="515" y="4"/>
                  </a:lnTo>
                  <a:lnTo>
                    <a:pt x="544" y="2"/>
                  </a:lnTo>
                  <a:lnTo>
                    <a:pt x="575" y="0"/>
                  </a:lnTo>
                  <a:lnTo>
                    <a:pt x="607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476360" y="5113440"/>
              <a:ext cx="1925640" cy="579240"/>
            </a:xfrm>
            <a:custGeom>
              <a:avLst/>
              <a:gdLst/>
              <a:ahLst/>
              <a:rect l="l" t="t" r="r" b="b"/>
              <a:pathLst>
                <a:path w="1213" h="729">
                  <a:moveTo>
                    <a:pt x="607" y="0"/>
                  </a:moveTo>
                  <a:lnTo>
                    <a:pt x="638" y="0"/>
                  </a:lnTo>
                  <a:lnTo>
                    <a:pt x="669" y="2"/>
                  </a:lnTo>
                  <a:lnTo>
                    <a:pt x="698" y="4"/>
                  </a:lnTo>
                  <a:lnTo>
                    <a:pt x="729" y="8"/>
                  </a:lnTo>
                  <a:lnTo>
                    <a:pt x="758" y="12"/>
                  </a:lnTo>
                  <a:lnTo>
                    <a:pt x="787" y="17"/>
                  </a:lnTo>
                  <a:lnTo>
                    <a:pt x="815" y="23"/>
                  </a:lnTo>
                  <a:lnTo>
                    <a:pt x="842" y="29"/>
                  </a:lnTo>
                  <a:lnTo>
                    <a:pt x="870" y="36"/>
                  </a:lnTo>
                  <a:lnTo>
                    <a:pt x="895" y="44"/>
                  </a:lnTo>
                  <a:lnTo>
                    <a:pt x="921" y="54"/>
                  </a:lnTo>
                  <a:lnTo>
                    <a:pt x="945" y="61"/>
                  </a:lnTo>
                  <a:lnTo>
                    <a:pt x="969" y="73"/>
                  </a:lnTo>
                  <a:lnTo>
                    <a:pt x="992" y="82"/>
                  </a:lnTo>
                  <a:lnTo>
                    <a:pt x="1014" y="94"/>
                  </a:lnTo>
                  <a:lnTo>
                    <a:pt x="1035" y="107"/>
                  </a:lnTo>
                  <a:lnTo>
                    <a:pt x="1056" y="119"/>
                  </a:lnTo>
                  <a:lnTo>
                    <a:pt x="1065" y="127"/>
                  </a:lnTo>
                  <a:lnTo>
                    <a:pt x="1074" y="132"/>
                  </a:lnTo>
                  <a:lnTo>
                    <a:pt x="1083" y="140"/>
                  </a:lnTo>
                  <a:lnTo>
                    <a:pt x="1092" y="146"/>
                  </a:lnTo>
                  <a:lnTo>
                    <a:pt x="1100" y="153"/>
                  </a:lnTo>
                  <a:lnTo>
                    <a:pt x="1110" y="161"/>
                  </a:lnTo>
                  <a:lnTo>
                    <a:pt x="1117" y="169"/>
                  </a:lnTo>
                  <a:lnTo>
                    <a:pt x="1125" y="175"/>
                  </a:lnTo>
                  <a:lnTo>
                    <a:pt x="1132" y="182"/>
                  </a:lnTo>
                  <a:lnTo>
                    <a:pt x="1139" y="190"/>
                  </a:lnTo>
                  <a:lnTo>
                    <a:pt x="1146" y="198"/>
                  </a:lnTo>
                  <a:lnTo>
                    <a:pt x="1153" y="207"/>
                  </a:lnTo>
                  <a:lnTo>
                    <a:pt x="1160" y="215"/>
                  </a:lnTo>
                  <a:lnTo>
                    <a:pt x="1165" y="222"/>
                  </a:lnTo>
                  <a:lnTo>
                    <a:pt x="1171" y="230"/>
                  </a:lnTo>
                  <a:lnTo>
                    <a:pt x="1176" y="240"/>
                  </a:lnTo>
                  <a:lnTo>
                    <a:pt x="1181" y="247"/>
                  </a:lnTo>
                  <a:lnTo>
                    <a:pt x="1185" y="255"/>
                  </a:lnTo>
                  <a:lnTo>
                    <a:pt x="1189" y="265"/>
                  </a:lnTo>
                  <a:lnTo>
                    <a:pt x="1193" y="274"/>
                  </a:lnTo>
                  <a:lnTo>
                    <a:pt x="1197" y="282"/>
                  </a:lnTo>
                  <a:lnTo>
                    <a:pt x="1200" y="292"/>
                  </a:lnTo>
                  <a:lnTo>
                    <a:pt x="1204" y="299"/>
                  </a:lnTo>
                  <a:lnTo>
                    <a:pt x="1206" y="309"/>
                  </a:lnTo>
                  <a:lnTo>
                    <a:pt x="1208" y="318"/>
                  </a:lnTo>
                  <a:lnTo>
                    <a:pt x="1210" y="328"/>
                  </a:lnTo>
                  <a:lnTo>
                    <a:pt x="1211" y="336"/>
                  </a:lnTo>
                  <a:lnTo>
                    <a:pt x="1212" y="345"/>
                  </a:lnTo>
                  <a:lnTo>
                    <a:pt x="1213" y="355"/>
                  </a:lnTo>
                  <a:lnTo>
                    <a:pt x="1213" y="364"/>
                  </a:lnTo>
                  <a:lnTo>
                    <a:pt x="1213" y="374"/>
                  </a:lnTo>
                  <a:lnTo>
                    <a:pt x="1212" y="384"/>
                  </a:lnTo>
                  <a:lnTo>
                    <a:pt x="1211" y="393"/>
                  </a:lnTo>
                  <a:lnTo>
                    <a:pt x="1210" y="401"/>
                  </a:lnTo>
                  <a:lnTo>
                    <a:pt x="1208" y="410"/>
                  </a:lnTo>
                  <a:lnTo>
                    <a:pt x="1206" y="420"/>
                  </a:lnTo>
                  <a:lnTo>
                    <a:pt x="1204" y="430"/>
                  </a:lnTo>
                  <a:lnTo>
                    <a:pt x="1200" y="437"/>
                  </a:lnTo>
                  <a:lnTo>
                    <a:pt x="1197" y="447"/>
                  </a:lnTo>
                  <a:lnTo>
                    <a:pt x="1193" y="456"/>
                  </a:lnTo>
                  <a:lnTo>
                    <a:pt x="1189" y="464"/>
                  </a:lnTo>
                  <a:lnTo>
                    <a:pt x="1185" y="474"/>
                  </a:lnTo>
                  <a:lnTo>
                    <a:pt x="1181" y="481"/>
                  </a:lnTo>
                  <a:lnTo>
                    <a:pt x="1176" y="489"/>
                  </a:lnTo>
                  <a:lnTo>
                    <a:pt x="1171" y="499"/>
                  </a:lnTo>
                  <a:lnTo>
                    <a:pt x="1165" y="506"/>
                  </a:lnTo>
                  <a:lnTo>
                    <a:pt x="1160" y="514"/>
                  </a:lnTo>
                  <a:lnTo>
                    <a:pt x="1153" y="522"/>
                  </a:lnTo>
                  <a:lnTo>
                    <a:pt x="1146" y="531"/>
                  </a:lnTo>
                  <a:lnTo>
                    <a:pt x="1139" y="539"/>
                  </a:lnTo>
                  <a:lnTo>
                    <a:pt x="1132" y="547"/>
                  </a:lnTo>
                  <a:lnTo>
                    <a:pt x="1125" y="554"/>
                  </a:lnTo>
                  <a:lnTo>
                    <a:pt x="1117" y="560"/>
                  </a:lnTo>
                  <a:lnTo>
                    <a:pt x="1110" y="568"/>
                  </a:lnTo>
                  <a:lnTo>
                    <a:pt x="1100" y="575"/>
                  </a:lnTo>
                  <a:lnTo>
                    <a:pt x="1092" y="583"/>
                  </a:lnTo>
                  <a:lnTo>
                    <a:pt x="1083" y="589"/>
                  </a:lnTo>
                  <a:lnTo>
                    <a:pt x="1074" y="596"/>
                  </a:lnTo>
                  <a:lnTo>
                    <a:pt x="1065" y="602"/>
                  </a:lnTo>
                  <a:lnTo>
                    <a:pt x="1056" y="610"/>
                  </a:lnTo>
                  <a:lnTo>
                    <a:pt x="1035" y="621"/>
                  </a:lnTo>
                  <a:lnTo>
                    <a:pt x="1014" y="635"/>
                  </a:lnTo>
                  <a:lnTo>
                    <a:pt x="992" y="646"/>
                  </a:lnTo>
                  <a:lnTo>
                    <a:pt x="969" y="656"/>
                  </a:lnTo>
                  <a:lnTo>
                    <a:pt x="945" y="667"/>
                  </a:lnTo>
                  <a:lnTo>
                    <a:pt x="921" y="675"/>
                  </a:lnTo>
                  <a:lnTo>
                    <a:pt x="895" y="685"/>
                  </a:lnTo>
                  <a:lnTo>
                    <a:pt x="870" y="692"/>
                  </a:lnTo>
                  <a:lnTo>
                    <a:pt x="842" y="700"/>
                  </a:lnTo>
                  <a:lnTo>
                    <a:pt x="815" y="706"/>
                  </a:lnTo>
                  <a:lnTo>
                    <a:pt x="787" y="712"/>
                  </a:lnTo>
                  <a:lnTo>
                    <a:pt x="758" y="717"/>
                  </a:lnTo>
                  <a:lnTo>
                    <a:pt x="729" y="721"/>
                  </a:lnTo>
                  <a:lnTo>
                    <a:pt x="698" y="725"/>
                  </a:lnTo>
                  <a:lnTo>
                    <a:pt x="669" y="727"/>
                  </a:lnTo>
                  <a:lnTo>
                    <a:pt x="638" y="729"/>
                  </a:lnTo>
                  <a:lnTo>
                    <a:pt x="607" y="729"/>
                  </a:lnTo>
                  <a:lnTo>
                    <a:pt x="575" y="729"/>
                  </a:lnTo>
                  <a:lnTo>
                    <a:pt x="544" y="727"/>
                  </a:lnTo>
                  <a:lnTo>
                    <a:pt x="515" y="725"/>
                  </a:lnTo>
                  <a:lnTo>
                    <a:pt x="484" y="721"/>
                  </a:lnTo>
                  <a:lnTo>
                    <a:pt x="455" y="717"/>
                  </a:lnTo>
                  <a:lnTo>
                    <a:pt x="426" y="712"/>
                  </a:lnTo>
                  <a:lnTo>
                    <a:pt x="398" y="706"/>
                  </a:lnTo>
                  <a:lnTo>
                    <a:pt x="371" y="700"/>
                  </a:lnTo>
                  <a:lnTo>
                    <a:pt x="344" y="692"/>
                  </a:lnTo>
                  <a:lnTo>
                    <a:pt x="318" y="685"/>
                  </a:lnTo>
                  <a:lnTo>
                    <a:pt x="292" y="677"/>
                  </a:lnTo>
                  <a:lnTo>
                    <a:pt x="268" y="667"/>
                  </a:lnTo>
                  <a:lnTo>
                    <a:pt x="244" y="656"/>
                  </a:lnTo>
                  <a:lnTo>
                    <a:pt x="221" y="646"/>
                  </a:lnTo>
                  <a:lnTo>
                    <a:pt x="199" y="635"/>
                  </a:lnTo>
                  <a:lnTo>
                    <a:pt x="178" y="621"/>
                  </a:lnTo>
                  <a:lnTo>
                    <a:pt x="157" y="610"/>
                  </a:lnTo>
                  <a:lnTo>
                    <a:pt x="148" y="602"/>
                  </a:lnTo>
                  <a:lnTo>
                    <a:pt x="139" y="596"/>
                  </a:lnTo>
                  <a:lnTo>
                    <a:pt x="130" y="589"/>
                  </a:lnTo>
                  <a:lnTo>
                    <a:pt x="121" y="583"/>
                  </a:lnTo>
                  <a:lnTo>
                    <a:pt x="113" y="575"/>
                  </a:lnTo>
                  <a:lnTo>
                    <a:pt x="103" y="568"/>
                  </a:lnTo>
                  <a:lnTo>
                    <a:pt x="96" y="560"/>
                  </a:lnTo>
                  <a:lnTo>
                    <a:pt x="88" y="554"/>
                  </a:lnTo>
                  <a:lnTo>
                    <a:pt x="81" y="547"/>
                  </a:lnTo>
                  <a:lnTo>
                    <a:pt x="74" y="539"/>
                  </a:lnTo>
                  <a:lnTo>
                    <a:pt x="67" y="531"/>
                  </a:lnTo>
                  <a:lnTo>
                    <a:pt x="61" y="522"/>
                  </a:lnTo>
                  <a:lnTo>
                    <a:pt x="54" y="514"/>
                  </a:lnTo>
                  <a:lnTo>
                    <a:pt x="48" y="506"/>
                  </a:lnTo>
                  <a:lnTo>
                    <a:pt x="42" y="499"/>
                  </a:lnTo>
                  <a:lnTo>
                    <a:pt x="37" y="489"/>
                  </a:lnTo>
                  <a:lnTo>
                    <a:pt x="32" y="481"/>
                  </a:lnTo>
                  <a:lnTo>
                    <a:pt x="28" y="474"/>
                  </a:lnTo>
                  <a:lnTo>
                    <a:pt x="24" y="464"/>
                  </a:lnTo>
                  <a:lnTo>
                    <a:pt x="20" y="456"/>
                  </a:lnTo>
                  <a:lnTo>
                    <a:pt x="16" y="447"/>
                  </a:lnTo>
                  <a:lnTo>
                    <a:pt x="13" y="437"/>
                  </a:lnTo>
                  <a:lnTo>
                    <a:pt x="10" y="430"/>
                  </a:lnTo>
                  <a:lnTo>
                    <a:pt x="7" y="420"/>
                  </a:lnTo>
                  <a:lnTo>
                    <a:pt x="5" y="410"/>
                  </a:lnTo>
                  <a:lnTo>
                    <a:pt x="3" y="401"/>
                  </a:lnTo>
                  <a:lnTo>
                    <a:pt x="2" y="393"/>
                  </a:lnTo>
                  <a:lnTo>
                    <a:pt x="1" y="384"/>
                  </a:lnTo>
                  <a:lnTo>
                    <a:pt x="0" y="374"/>
                  </a:lnTo>
                  <a:lnTo>
                    <a:pt x="0" y="364"/>
                  </a:lnTo>
                  <a:lnTo>
                    <a:pt x="0" y="355"/>
                  </a:lnTo>
                  <a:lnTo>
                    <a:pt x="1" y="345"/>
                  </a:lnTo>
                  <a:lnTo>
                    <a:pt x="2" y="336"/>
                  </a:lnTo>
                  <a:lnTo>
                    <a:pt x="3" y="328"/>
                  </a:lnTo>
                  <a:lnTo>
                    <a:pt x="5" y="318"/>
                  </a:lnTo>
                  <a:lnTo>
                    <a:pt x="7" y="309"/>
                  </a:lnTo>
                  <a:lnTo>
                    <a:pt x="10" y="299"/>
                  </a:lnTo>
                  <a:lnTo>
                    <a:pt x="13" y="292"/>
                  </a:lnTo>
                  <a:lnTo>
                    <a:pt x="16" y="282"/>
                  </a:lnTo>
                  <a:lnTo>
                    <a:pt x="20" y="274"/>
                  </a:lnTo>
                  <a:lnTo>
                    <a:pt x="24" y="265"/>
                  </a:lnTo>
                  <a:lnTo>
                    <a:pt x="28" y="255"/>
                  </a:lnTo>
                  <a:lnTo>
                    <a:pt x="32" y="247"/>
                  </a:lnTo>
                  <a:lnTo>
                    <a:pt x="37" y="240"/>
                  </a:lnTo>
                  <a:lnTo>
                    <a:pt x="42" y="230"/>
                  </a:lnTo>
                  <a:lnTo>
                    <a:pt x="48" y="222"/>
                  </a:lnTo>
                  <a:lnTo>
                    <a:pt x="54" y="215"/>
                  </a:lnTo>
                  <a:lnTo>
                    <a:pt x="61" y="207"/>
                  </a:lnTo>
                  <a:lnTo>
                    <a:pt x="67" y="198"/>
                  </a:lnTo>
                  <a:lnTo>
                    <a:pt x="74" y="190"/>
                  </a:lnTo>
                  <a:lnTo>
                    <a:pt x="81" y="182"/>
                  </a:lnTo>
                  <a:lnTo>
                    <a:pt x="88" y="175"/>
                  </a:lnTo>
                  <a:lnTo>
                    <a:pt x="96" y="169"/>
                  </a:lnTo>
                  <a:lnTo>
                    <a:pt x="103" y="161"/>
                  </a:lnTo>
                  <a:lnTo>
                    <a:pt x="113" y="153"/>
                  </a:lnTo>
                  <a:lnTo>
                    <a:pt x="121" y="146"/>
                  </a:lnTo>
                  <a:lnTo>
                    <a:pt x="130" y="140"/>
                  </a:lnTo>
                  <a:lnTo>
                    <a:pt x="139" y="132"/>
                  </a:lnTo>
                  <a:lnTo>
                    <a:pt x="148" y="127"/>
                  </a:lnTo>
                  <a:lnTo>
                    <a:pt x="157" y="119"/>
                  </a:lnTo>
                  <a:lnTo>
                    <a:pt x="178" y="107"/>
                  </a:lnTo>
                  <a:lnTo>
                    <a:pt x="199" y="94"/>
                  </a:lnTo>
                  <a:lnTo>
                    <a:pt x="221" y="82"/>
                  </a:lnTo>
                  <a:lnTo>
                    <a:pt x="244" y="73"/>
                  </a:lnTo>
                  <a:lnTo>
                    <a:pt x="268" y="61"/>
                  </a:lnTo>
                  <a:lnTo>
                    <a:pt x="292" y="52"/>
                  </a:lnTo>
                  <a:lnTo>
                    <a:pt x="318" y="44"/>
                  </a:lnTo>
                  <a:lnTo>
                    <a:pt x="344" y="36"/>
                  </a:lnTo>
                  <a:lnTo>
                    <a:pt x="371" y="29"/>
                  </a:lnTo>
                  <a:lnTo>
                    <a:pt x="398" y="21"/>
                  </a:lnTo>
                  <a:lnTo>
                    <a:pt x="426" y="15"/>
                  </a:lnTo>
                  <a:lnTo>
                    <a:pt x="455" y="12"/>
                  </a:lnTo>
                  <a:lnTo>
                    <a:pt x="484" y="8"/>
                  </a:lnTo>
                  <a:lnTo>
                    <a:pt x="515" y="4"/>
                  </a:lnTo>
                  <a:lnTo>
                    <a:pt x="544" y="2"/>
                  </a:lnTo>
                  <a:lnTo>
                    <a:pt x="575" y="0"/>
                  </a:lnTo>
                  <a:lnTo>
                    <a:pt x="607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786040" y="5005440"/>
              <a:ext cx="154080" cy="182520"/>
            </a:xfrm>
            <a:custGeom>
              <a:avLst/>
              <a:gdLst/>
              <a:ahLst/>
              <a:rect l="l" t="t" r="r" b="b"/>
              <a:pathLst>
                <a:path w="97" h="228">
                  <a:moveTo>
                    <a:pt x="48" y="0"/>
                  </a:moveTo>
                  <a:lnTo>
                    <a:pt x="97" y="228"/>
                  </a:lnTo>
                  <a:lnTo>
                    <a:pt x="0" y="228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786040" y="5005440"/>
              <a:ext cx="154080" cy="182520"/>
            </a:xfrm>
            <a:custGeom>
              <a:avLst/>
              <a:gdLst/>
              <a:ahLst/>
              <a:rect l="l" t="t" r="r" b="b"/>
              <a:pathLst>
                <a:path w="97" h="228">
                  <a:moveTo>
                    <a:pt x="48" y="0"/>
                  </a:moveTo>
                  <a:lnTo>
                    <a:pt x="97" y="228"/>
                  </a:lnTo>
                  <a:lnTo>
                    <a:pt x="0" y="228"/>
                  </a:lnTo>
                  <a:lnTo>
                    <a:pt x="48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786040" y="4932360"/>
              <a:ext cx="154080" cy="144360"/>
            </a:xfrm>
            <a:custGeom>
              <a:avLst/>
              <a:gdLst/>
              <a:ahLst/>
              <a:rect l="l" t="t" r="r" b="b"/>
              <a:pathLst>
                <a:path w="97" h="182">
                  <a:moveTo>
                    <a:pt x="48" y="0"/>
                  </a:moveTo>
                  <a:lnTo>
                    <a:pt x="53" y="0"/>
                  </a:lnTo>
                  <a:lnTo>
                    <a:pt x="58" y="2"/>
                  </a:lnTo>
                  <a:lnTo>
                    <a:pt x="62" y="4"/>
                  </a:lnTo>
                  <a:lnTo>
                    <a:pt x="66" y="7"/>
                  </a:lnTo>
                  <a:lnTo>
                    <a:pt x="71" y="11"/>
                  </a:lnTo>
                  <a:lnTo>
                    <a:pt x="75" y="15"/>
                  </a:lnTo>
                  <a:lnTo>
                    <a:pt x="79" y="21"/>
                  </a:lnTo>
                  <a:lnTo>
                    <a:pt x="83" y="27"/>
                  </a:lnTo>
                  <a:lnTo>
                    <a:pt x="86" y="34"/>
                  </a:lnTo>
                  <a:lnTo>
                    <a:pt x="89" y="40"/>
                  </a:lnTo>
                  <a:lnTo>
                    <a:pt x="91" y="48"/>
                  </a:lnTo>
                  <a:lnTo>
                    <a:pt x="93" y="57"/>
                  </a:lnTo>
                  <a:lnTo>
                    <a:pt x="95" y="65"/>
                  </a:lnTo>
                  <a:lnTo>
                    <a:pt x="96" y="73"/>
                  </a:lnTo>
                  <a:lnTo>
                    <a:pt x="97" y="82"/>
                  </a:lnTo>
                  <a:lnTo>
                    <a:pt x="97" y="92"/>
                  </a:lnTo>
                  <a:lnTo>
                    <a:pt x="97" y="101"/>
                  </a:lnTo>
                  <a:lnTo>
                    <a:pt x="96" y="111"/>
                  </a:lnTo>
                  <a:lnTo>
                    <a:pt x="95" y="119"/>
                  </a:lnTo>
                  <a:lnTo>
                    <a:pt x="93" y="126"/>
                  </a:lnTo>
                  <a:lnTo>
                    <a:pt x="91" y="134"/>
                  </a:lnTo>
                  <a:lnTo>
                    <a:pt x="89" y="142"/>
                  </a:lnTo>
                  <a:lnTo>
                    <a:pt x="86" y="149"/>
                  </a:lnTo>
                  <a:lnTo>
                    <a:pt x="83" y="155"/>
                  </a:lnTo>
                  <a:lnTo>
                    <a:pt x="79" y="161"/>
                  </a:lnTo>
                  <a:lnTo>
                    <a:pt x="75" y="167"/>
                  </a:lnTo>
                  <a:lnTo>
                    <a:pt x="71" y="170"/>
                  </a:lnTo>
                  <a:lnTo>
                    <a:pt x="66" y="174"/>
                  </a:lnTo>
                  <a:lnTo>
                    <a:pt x="62" y="178"/>
                  </a:lnTo>
                  <a:lnTo>
                    <a:pt x="58" y="180"/>
                  </a:lnTo>
                  <a:lnTo>
                    <a:pt x="53" y="182"/>
                  </a:lnTo>
                  <a:lnTo>
                    <a:pt x="48" y="182"/>
                  </a:lnTo>
                  <a:lnTo>
                    <a:pt x="43" y="182"/>
                  </a:lnTo>
                  <a:lnTo>
                    <a:pt x="39" y="180"/>
                  </a:lnTo>
                  <a:lnTo>
                    <a:pt x="34" y="178"/>
                  </a:lnTo>
                  <a:lnTo>
                    <a:pt x="30" y="174"/>
                  </a:lnTo>
                  <a:lnTo>
                    <a:pt x="25" y="170"/>
                  </a:lnTo>
                  <a:lnTo>
                    <a:pt x="21" y="167"/>
                  </a:lnTo>
                  <a:lnTo>
                    <a:pt x="17" y="161"/>
                  </a:lnTo>
                  <a:lnTo>
                    <a:pt x="14" y="155"/>
                  </a:lnTo>
                  <a:lnTo>
                    <a:pt x="11" y="149"/>
                  </a:lnTo>
                  <a:lnTo>
                    <a:pt x="8" y="142"/>
                  </a:lnTo>
                  <a:lnTo>
                    <a:pt x="6" y="134"/>
                  </a:lnTo>
                  <a:lnTo>
                    <a:pt x="4" y="126"/>
                  </a:lnTo>
                  <a:lnTo>
                    <a:pt x="2" y="119"/>
                  </a:lnTo>
                  <a:lnTo>
                    <a:pt x="1" y="111"/>
                  </a:lnTo>
                  <a:lnTo>
                    <a:pt x="0" y="101"/>
                  </a:lnTo>
                  <a:lnTo>
                    <a:pt x="0" y="92"/>
                  </a:lnTo>
                  <a:lnTo>
                    <a:pt x="0" y="82"/>
                  </a:lnTo>
                  <a:lnTo>
                    <a:pt x="1" y="73"/>
                  </a:lnTo>
                  <a:lnTo>
                    <a:pt x="2" y="65"/>
                  </a:lnTo>
                  <a:lnTo>
                    <a:pt x="4" y="57"/>
                  </a:lnTo>
                  <a:lnTo>
                    <a:pt x="6" y="48"/>
                  </a:lnTo>
                  <a:lnTo>
                    <a:pt x="8" y="40"/>
                  </a:lnTo>
                  <a:lnTo>
                    <a:pt x="11" y="34"/>
                  </a:lnTo>
                  <a:lnTo>
                    <a:pt x="14" y="27"/>
                  </a:lnTo>
                  <a:lnTo>
                    <a:pt x="17" y="21"/>
                  </a:lnTo>
                  <a:lnTo>
                    <a:pt x="21" y="15"/>
                  </a:lnTo>
                  <a:lnTo>
                    <a:pt x="25" y="11"/>
                  </a:lnTo>
                  <a:lnTo>
                    <a:pt x="30" y="7"/>
                  </a:lnTo>
                  <a:lnTo>
                    <a:pt x="34" y="4"/>
                  </a:lnTo>
                  <a:lnTo>
                    <a:pt x="39" y="2"/>
                  </a:lnTo>
                  <a:lnTo>
                    <a:pt x="43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786040" y="4932360"/>
              <a:ext cx="154080" cy="144360"/>
            </a:xfrm>
            <a:custGeom>
              <a:avLst/>
              <a:gdLst/>
              <a:ahLst/>
              <a:rect l="l" t="t" r="r" b="b"/>
              <a:pathLst>
                <a:path w="97" h="182">
                  <a:moveTo>
                    <a:pt x="48" y="0"/>
                  </a:moveTo>
                  <a:lnTo>
                    <a:pt x="53" y="0"/>
                  </a:lnTo>
                  <a:lnTo>
                    <a:pt x="58" y="2"/>
                  </a:lnTo>
                  <a:lnTo>
                    <a:pt x="62" y="4"/>
                  </a:lnTo>
                  <a:lnTo>
                    <a:pt x="66" y="7"/>
                  </a:lnTo>
                  <a:lnTo>
                    <a:pt x="71" y="11"/>
                  </a:lnTo>
                  <a:lnTo>
                    <a:pt x="75" y="15"/>
                  </a:lnTo>
                  <a:lnTo>
                    <a:pt x="79" y="21"/>
                  </a:lnTo>
                  <a:lnTo>
                    <a:pt x="83" y="27"/>
                  </a:lnTo>
                  <a:lnTo>
                    <a:pt x="86" y="34"/>
                  </a:lnTo>
                  <a:lnTo>
                    <a:pt x="89" y="40"/>
                  </a:lnTo>
                  <a:lnTo>
                    <a:pt x="91" y="48"/>
                  </a:lnTo>
                  <a:lnTo>
                    <a:pt x="93" y="57"/>
                  </a:lnTo>
                  <a:lnTo>
                    <a:pt x="95" y="65"/>
                  </a:lnTo>
                  <a:lnTo>
                    <a:pt x="96" y="73"/>
                  </a:lnTo>
                  <a:lnTo>
                    <a:pt x="97" y="82"/>
                  </a:lnTo>
                  <a:lnTo>
                    <a:pt x="97" y="92"/>
                  </a:lnTo>
                  <a:lnTo>
                    <a:pt x="97" y="101"/>
                  </a:lnTo>
                  <a:lnTo>
                    <a:pt x="96" y="111"/>
                  </a:lnTo>
                  <a:lnTo>
                    <a:pt x="95" y="119"/>
                  </a:lnTo>
                  <a:lnTo>
                    <a:pt x="93" y="126"/>
                  </a:lnTo>
                  <a:lnTo>
                    <a:pt x="91" y="134"/>
                  </a:lnTo>
                  <a:lnTo>
                    <a:pt x="89" y="142"/>
                  </a:lnTo>
                  <a:lnTo>
                    <a:pt x="86" y="149"/>
                  </a:lnTo>
                  <a:lnTo>
                    <a:pt x="83" y="155"/>
                  </a:lnTo>
                  <a:lnTo>
                    <a:pt x="79" y="161"/>
                  </a:lnTo>
                  <a:lnTo>
                    <a:pt x="75" y="167"/>
                  </a:lnTo>
                  <a:lnTo>
                    <a:pt x="71" y="170"/>
                  </a:lnTo>
                  <a:lnTo>
                    <a:pt x="66" y="174"/>
                  </a:lnTo>
                  <a:lnTo>
                    <a:pt x="62" y="178"/>
                  </a:lnTo>
                  <a:lnTo>
                    <a:pt x="58" y="180"/>
                  </a:lnTo>
                  <a:lnTo>
                    <a:pt x="53" y="182"/>
                  </a:lnTo>
                  <a:lnTo>
                    <a:pt x="48" y="182"/>
                  </a:lnTo>
                  <a:lnTo>
                    <a:pt x="43" y="182"/>
                  </a:lnTo>
                  <a:lnTo>
                    <a:pt x="39" y="180"/>
                  </a:lnTo>
                  <a:lnTo>
                    <a:pt x="34" y="178"/>
                  </a:lnTo>
                  <a:lnTo>
                    <a:pt x="30" y="174"/>
                  </a:lnTo>
                  <a:lnTo>
                    <a:pt x="25" y="170"/>
                  </a:lnTo>
                  <a:lnTo>
                    <a:pt x="21" y="167"/>
                  </a:lnTo>
                  <a:lnTo>
                    <a:pt x="17" y="161"/>
                  </a:lnTo>
                  <a:lnTo>
                    <a:pt x="14" y="155"/>
                  </a:lnTo>
                  <a:lnTo>
                    <a:pt x="11" y="149"/>
                  </a:lnTo>
                  <a:lnTo>
                    <a:pt x="8" y="142"/>
                  </a:lnTo>
                  <a:lnTo>
                    <a:pt x="6" y="134"/>
                  </a:lnTo>
                  <a:lnTo>
                    <a:pt x="4" y="126"/>
                  </a:lnTo>
                  <a:lnTo>
                    <a:pt x="2" y="119"/>
                  </a:lnTo>
                  <a:lnTo>
                    <a:pt x="1" y="111"/>
                  </a:lnTo>
                  <a:lnTo>
                    <a:pt x="0" y="101"/>
                  </a:lnTo>
                  <a:lnTo>
                    <a:pt x="0" y="92"/>
                  </a:lnTo>
                  <a:lnTo>
                    <a:pt x="0" y="82"/>
                  </a:lnTo>
                  <a:lnTo>
                    <a:pt x="1" y="73"/>
                  </a:lnTo>
                  <a:lnTo>
                    <a:pt x="2" y="65"/>
                  </a:lnTo>
                  <a:lnTo>
                    <a:pt x="4" y="57"/>
                  </a:lnTo>
                  <a:lnTo>
                    <a:pt x="6" y="48"/>
                  </a:lnTo>
                  <a:lnTo>
                    <a:pt x="8" y="40"/>
                  </a:lnTo>
                  <a:lnTo>
                    <a:pt x="11" y="34"/>
                  </a:lnTo>
                  <a:lnTo>
                    <a:pt x="14" y="27"/>
                  </a:lnTo>
                  <a:lnTo>
                    <a:pt x="17" y="21"/>
                  </a:lnTo>
                  <a:lnTo>
                    <a:pt x="21" y="15"/>
                  </a:lnTo>
                  <a:lnTo>
                    <a:pt x="25" y="11"/>
                  </a:lnTo>
                  <a:lnTo>
                    <a:pt x="30" y="7"/>
                  </a:lnTo>
                  <a:lnTo>
                    <a:pt x="34" y="4"/>
                  </a:lnTo>
                  <a:lnTo>
                    <a:pt x="39" y="2"/>
                  </a:lnTo>
                  <a:lnTo>
                    <a:pt x="43" y="0"/>
                  </a:lnTo>
                  <a:lnTo>
                    <a:pt x="4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554200" y="5076720"/>
              <a:ext cx="268200" cy="327240"/>
            </a:xfrm>
            <a:custGeom>
              <a:avLst/>
              <a:gdLst/>
              <a:ahLst/>
              <a:rect l="l" t="t" r="r" b="b"/>
              <a:pathLst>
                <a:path w="169" h="410">
                  <a:moveTo>
                    <a:pt x="169" y="0"/>
                  </a:moveTo>
                  <a:lnTo>
                    <a:pt x="0" y="0"/>
                  </a:lnTo>
                  <a:lnTo>
                    <a:pt x="0" y="410"/>
                  </a:lnTo>
                </a:path>
              </a:pathLst>
            </a:custGeom>
            <a:noFill/>
            <a:ln w="30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940120" y="5005440"/>
              <a:ext cx="96048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824360" y="3741840"/>
              <a:ext cx="731880" cy="1481040"/>
            </a:xfrm>
            <a:custGeom>
              <a:avLst/>
              <a:gdLst/>
              <a:ahLst/>
              <a:rect l="l" t="t" r="r" b="b"/>
              <a:pathLst>
                <a:path w="461" h="1866">
                  <a:moveTo>
                    <a:pt x="0" y="1866"/>
                  </a:moveTo>
                  <a:lnTo>
                    <a:pt x="170" y="1866"/>
                  </a:lnTo>
                  <a:lnTo>
                    <a:pt x="170" y="0"/>
                  </a:lnTo>
                  <a:lnTo>
                    <a:pt x="461" y="0"/>
                  </a:lnTo>
                  <a:lnTo>
                    <a:pt x="461" y="226"/>
                  </a:lnTo>
                </a:path>
              </a:pathLst>
            </a:custGeom>
            <a:noFill/>
            <a:ln w="30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364520" y="5181480"/>
              <a:ext cx="615960" cy="84240"/>
            </a:xfrm>
            <a:custGeom>
              <a:avLst/>
              <a:gdLst/>
              <a:ahLst/>
              <a:rect l="l" t="t" r="r" b="b"/>
              <a:pathLst>
                <a:path w="388" h="108">
                  <a:moveTo>
                    <a:pt x="0" y="35"/>
                  </a:moveTo>
                  <a:lnTo>
                    <a:pt x="340" y="35"/>
                  </a:lnTo>
                  <a:lnTo>
                    <a:pt x="340" y="71"/>
                  </a:lnTo>
                  <a:lnTo>
                    <a:pt x="0" y="71"/>
                  </a:lnTo>
                  <a:lnTo>
                    <a:pt x="0" y="35"/>
                  </a:lnTo>
                  <a:close/>
                  <a:moveTo>
                    <a:pt x="331" y="0"/>
                  </a:moveTo>
                  <a:lnTo>
                    <a:pt x="388" y="54"/>
                  </a:lnTo>
                  <a:lnTo>
                    <a:pt x="331" y="108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556240" y="4498920"/>
              <a:ext cx="538200" cy="689040"/>
            </a:xfrm>
            <a:custGeom>
              <a:avLst/>
              <a:gdLst/>
              <a:ahLst/>
              <a:rect l="l" t="t" r="r" b="b"/>
              <a:pathLst>
                <a:path w="339" h="867">
                  <a:moveTo>
                    <a:pt x="0" y="0"/>
                  </a:moveTo>
                  <a:lnTo>
                    <a:pt x="0" y="867"/>
                  </a:lnTo>
                  <a:lnTo>
                    <a:pt x="339" y="867"/>
                  </a:lnTo>
                </a:path>
              </a:pathLst>
            </a:custGeom>
            <a:noFill/>
            <a:ln w="30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710160" y="4210200"/>
              <a:ext cx="498240" cy="32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289400" y="4324320"/>
              <a:ext cx="108000" cy="752400"/>
            </a:xfrm>
            <a:custGeom>
              <a:avLst/>
              <a:gdLst/>
              <a:ahLst/>
              <a:rect l="l" t="t" r="r" b="b"/>
              <a:pathLst>
                <a:path w="68" h="947">
                  <a:moveTo>
                    <a:pt x="68" y="947"/>
                  </a:moveTo>
                  <a:lnTo>
                    <a:pt x="15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710160" y="4210200"/>
              <a:ext cx="498240" cy="325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24280" y="4264200"/>
              <a:ext cx="253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C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092120" y="42642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054840" y="4175280"/>
              <a:ext cx="501480" cy="32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637320" y="4289400"/>
              <a:ext cx="371520" cy="569880"/>
            </a:xfrm>
            <a:custGeom>
              <a:avLst/>
              <a:gdLst/>
              <a:ahLst/>
              <a:rect l="l" t="t" r="r" b="b"/>
              <a:pathLst>
                <a:path w="234" h="720">
                  <a:moveTo>
                    <a:pt x="234" y="720"/>
                  </a:moveTo>
                  <a:lnTo>
                    <a:pt x="51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054840" y="4175280"/>
              <a:ext cx="501480" cy="32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172200" y="4227480"/>
              <a:ext cx="253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C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440040" y="42274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132680" y="3957480"/>
              <a:ext cx="500040" cy="32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713720" y="4071960"/>
              <a:ext cx="372960" cy="569880"/>
            </a:xfrm>
            <a:custGeom>
              <a:avLst/>
              <a:gdLst/>
              <a:ahLst/>
              <a:rect l="l" t="t" r="r" b="b"/>
              <a:pathLst>
                <a:path w="235" h="719">
                  <a:moveTo>
                    <a:pt x="235" y="719"/>
                  </a:moveTo>
                  <a:lnTo>
                    <a:pt x="51" y="0"/>
                  </a:lnTo>
                  <a:lnTo>
                    <a:pt x="0" y="0"/>
                  </a:lnTo>
                </a:path>
              </a:pathLst>
            </a:custGeom>
            <a:noFill/>
            <a:ln w="30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132680" y="3957480"/>
              <a:ext cx="500040" cy="325440"/>
            </a:xfrm>
            <a:prstGeom prst="rect">
              <a:avLst/>
            </a:prstGeom>
            <a:noFill/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250040" y="4019400"/>
              <a:ext cx="253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C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517880" y="40194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324160" y="4390920"/>
              <a:ext cx="498240" cy="32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206800" y="4500720"/>
              <a:ext cx="41040" cy="887400"/>
            </a:xfrm>
            <a:custGeom>
              <a:avLst/>
              <a:gdLst/>
              <a:ahLst/>
              <a:rect l="l" t="t" r="r" b="b"/>
              <a:pathLst>
                <a:path w="26" h="1118">
                  <a:moveTo>
                    <a:pt x="0" y="1112"/>
                  </a:moveTo>
                  <a:lnTo>
                    <a:pt x="0" y="1076"/>
                  </a:lnTo>
                  <a:lnTo>
                    <a:pt x="0" y="1074"/>
                  </a:lnTo>
                  <a:lnTo>
                    <a:pt x="1" y="1072"/>
                  </a:lnTo>
                  <a:lnTo>
                    <a:pt x="3" y="1070"/>
                  </a:lnTo>
                  <a:lnTo>
                    <a:pt x="4" y="1070"/>
                  </a:lnTo>
                  <a:lnTo>
                    <a:pt x="5" y="1070"/>
                  </a:lnTo>
                  <a:lnTo>
                    <a:pt x="6" y="1072"/>
                  </a:lnTo>
                  <a:lnTo>
                    <a:pt x="7" y="1074"/>
                  </a:lnTo>
                  <a:lnTo>
                    <a:pt x="7" y="1076"/>
                  </a:lnTo>
                  <a:lnTo>
                    <a:pt x="6" y="1112"/>
                  </a:lnTo>
                  <a:lnTo>
                    <a:pt x="6" y="1114"/>
                  </a:lnTo>
                  <a:lnTo>
                    <a:pt x="5" y="1116"/>
                  </a:lnTo>
                  <a:lnTo>
                    <a:pt x="4" y="1118"/>
                  </a:lnTo>
                  <a:lnTo>
                    <a:pt x="3" y="1118"/>
                  </a:lnTo>
                  <a:lnTo>
                    <a:pt x="2" y="1118"/>
                  </a:lnTo>
                  <a:lnTo>
                    <a:pt x="1" y="1116"/>
                  </a:lnTo>
                  <a:lnTo>
                    <a:pt x="0" y="1114"/>
                  </a:lnTo>
                  <a:lnTo>
                    <a:pt x="0" y="1112"/>
                  </a:lnTo>
                  <a:lnTo>
                    <a:pt x="0" y="1112"/>
                  </a:lnTo>
                  <a:close/>
                  <a:moveTo>
                    <a:pt x="1" y="1028"/>
                  </a:moveTo>
                  <a:lnTo>
                    <a:pt x="2" y="992"/>
                  </a:lnTo>
                  <a:lnTo>
                    <a:pt x="2" y="990"/>
                  </a:lnTo>
                  <a:lnTo>
                    <a:pt x="3" y="988"/>
                  </a:lnTo>
                  <a:lnTo>
                    <a:pt x="4" y="986"/>
                  </a:lnTo>
                  <a:lnTo>
                    <a:pt x="5" y="986"/>
                  </a:lnTo>
                  <a:lnTo>
                    <a:pt x="6" y="986"/>
                  </a:lnTo>
                  <a:lnTo>
                    <a:pt x="7" y="988"/>
                  </a:lnTo>
                  <a:lnTo>
                    <a:pt x="8" y="990"/>
                  </a:lnTo>
                  <a:lnTo>
                    <a:pt x="8" y="992"/>
                  </a:lnTo>
                  <a:lnTo>
                    <a:pt x="7" y="1028"/>
                  </a:lnTo>
                  <a:lnTo>
                    <a:pt x="7" y="1030"/>
                  </a:lnTo>
                  <a:lnTo>
                    <a:pt x="6" y="1032"/>
                  </a:lnTo>
                  <a:lnTo>
                    <a:pt x="5" y="1034"/>
                  </a:lnTo>
                  <a:lnTo>
                    <a:pt x="4" y="1034"/>
                  </a:lnTo>
                  <a:lnTo>
                    <a:pt x="3" y="1034"/>
                  </a:lnTo>
                  <a:lnTo>
                    <a:pt x="2" y="1032"/>
                  </a:lnTo>
                  <a:lnTo>
                    <a:pt x="1" y="1030"/>
                  </a:lnTo>
                  <a:lnTo>
                    <a:pt x="1" y="1028"/>
                  </a:lnTo>
                  <a:lnTo>
                    <a:pt x="1" y="1028"/>
                  </a:lnTo>
                  <a:close/>
                  <a:moveTo>
                    <a:pt x="2" y="944"/>
                  </a:moveTo>
                  <a:lnTo>
                    <a:pt x="3" y="909"/>
                  </a:lnTo>
                  <a:lnTo>
                    <a:pt x="3" y="907"/>
                  </a:lnTo>
                  <a:lnTo>
                    <a:pt x="4" y="903"/>
                  </a:lnTo>
                  <a:lnTo>
                    <a:pt x="5" y="903"/>
                  </a:lnTo>
                  <a:lnTo>
                    <a:pt x="5" y="903"/>
                  </a:lnTo>
                  <a:lnTo>
                    <a:pt x="6" y="903"/>
                  </a:lnTo>
                  <a:lnTo>
                    <a:pt x="7" y="903"/>
                  </a:lnTo>
                  <a:lnTo>
                    <a:pt x="8" y="905"/>
                  </a:lnTo>
                  <a:lnTo>
                    <a:pt x="9" y="907"/>
                  </a:lnTo>
                  <a:lnTo>
                    <a:pt x="9" y="909"/>
                  </a:lnTo>
                  <a:lnTo>
                    <a:pt x="9" y="944"/>
                  </a:lnTo>
                  <a:lnTo>
                    <a:pt x="8" y="946"/>
                  </a:lnTo>
                  <a:lnTo>
                    <a:pt x="7" y="949"/>
                  </a:lnTo>
                  <a:lnTo>
                    <a:pt x="6" y="951"/>
                  </a:lnTo>
                  <a:lnTo>
                    <a:pt x="5" y="951"/>
                  </a:lnTo>
                  <a:lnTo>
                    <a:pt x="4" y="949"/>
                  </a:lnTo>
                  <a:lnTo>
                    <a:pt x="3" y="948"/>
                  </a:lnTo>
                  <a:lnTo>
                    <a:pt x="2" y="946"/>
                  </a:lnTo>
                  <a:lnTo>
                    <a:pt x="2" y="944"/>
                  </a:lnTo>
                  <a:lnTo>
                    <a:pt x="2" y="944"/>
                  </a:lnTo>
                  <a:close/>
                  <a:moveTo>
                    <a:pt x="3" y="861"/>
                  </a:moveTo>
                  <a:lnTo>
                    <a:pt x="4" y="825"/>
                  </a:lnTo>
                  <a:lnTo>
                    <a:pt x="4" y="823"/>
                  </a:lnTo>
                  <a:lnTo>
                    <a:pt x="5" y="821"/>
                  </a:lnTo>
                  <a:lnTo>
                    <a:pt x="6" y="819"/>
                  </a:lnTo>
                  <a:lnTo>
                    <a:pt x="7" y="819"/>
                  </a:lnTo>
                  <a:lnTo>
                    <a:pt x="8" y="819"/>
                  </a:lnTo>
                  <a:lnTo>
                    <a:pt x="9" y="821"/>
                  </a:lnTo>
                  <a:lnTo>
                    <a:pt x="10" y="823"/>
                  </a:lnTo>
                  <a:lnTo>
                    <a:pt x="10" y="825"/>
                  </a:lnTo>
                  <a:lnTo>
                    <a:pt x="10" y="861"/>
                  </a:lnTo>
                  <a:lnTo>
                    <a:pt x="10" y="863"/>
                  </a:lnTo>
                  <a:lnTo>
                    <a:pt x="9" y="865"/>
                  </a:lnTo>
                  <a:lnTo>
                    <a:pt x="7" y="867"/>
                  </a:lnTo>
                  <a:lnTo>
                    <a:pt x="6" y="867"/>
                  </a:lnTo>
                  <a:lnTo>
                    <a:pt x="5" y="867"/>
                  </a:lnTo>
                  <a:lnTo>
                    <a:pt x="4" y="865"/>
                  </a:lnTo>
                  <a:lnTo>
                    <a:pt x="3" y="863"/>
                  </a:lnTo>
                  <a:lnTo>
                    <a:pt x="3" y="861"/>
                  </a:lnTo>
                  <a:lnTo>
                    <a:pt x="3" y="861"/>
                  </a:lnTo>
                  <a:close/>
                  <a:moveTo>
                    <a:pt x="5" y="777"/>
                  </a:moveTo>
                  <a:lnTo>
                    <a:pt x="5" y="740"/>
                  </a:lnTo>
                  <a:lnTo>
                    <a:pt x="5" y="738"/>
                  </a:lnTo>
                  <a:lnTo>
                    <a:pt x="6" y="737"/>
                  </a:lnTo>
                  <a:lnTo>
                    <a:pt x="7" y="735"/>
                  </a:lnTo>
                  <a:lnTo>
                    <a:pt x="8" y="735"/>
                  </a:lnTo>
                  <a:lnTo>
                    <a:pt x="9" y="735"/>
                  </a:lnTo>
                  <a:lnTo>
                    <a:pt x="10" y="737"/>
                  </a:lnTo>
                  <a:lnTo>
                    <a:pt x="11" y="738"/>
                  </a:lnTo>
                  <a:lnTo>
                    <a:pt x="11" y="740"/>
                  </a:lnTo>
                  <a:lnTo>
                    <a:pt x="11" y="777"/>
                  </a:lnTo>
                  <a:lnTo>
                    <a:pt x="11" y="779"/>
                  </a:lnTo>
                  <a:lnTo>
                    <a:pt x="10" y="781"/>
                  </a:lnTo>
                  <a:lnTo>
                    <a:pt x="9" y="783"/>
                  </a:lnTo>
                  <a:lnTo>
                    <a:pt x="8" y="783"/>
                  </a:lnTo>
                  <a:lnTo>
                    <a:pt x="7" y="783"/>
                  </a:lnTo>
                  <a:lnTo>
                    <a:pt x="6" y="781"/>
                  </a:lnTo>
                  <a:lnTo>
                    <a:pt x="5" y="779"/>
                  </a:lnTo>
                  <a:lnTo>
                    <a:pt x="5" y="777"/>
                  </a:lnTo>
                  <a:lnTo>
                    <a:pt x="5" y="777"/>
                  </a:lnTo>
                  <a:close/>
                  <a:moveTo>
                    <a:pt x="6" y="692"/>
                  </a:moveTo>
                  <a:lnTo>
                    <a:pt x="6" y="656"/>
                  </a:lnTo>
                  <a:lnTo>
                    <a:pt x="6" y="654"/>
                  </a:lnTo>
                  <a:lnTo>
                    <a:pt x="7" y="652"/>
                  </a:lnTo>
                  <a:lnTo>
                    <a:pt x="8" y="650"/>
                  </a:lnTo>
                  <a:lnTo>
                    <a:pt x="9" y="650"/>
                  </a:lnTo>
                  <a:lnTo>
                    <a:pt x="10" y="650"/>
                  </a:lnTo>
                  <a:lnTo>
                    <a:pt x="12" y="652"/>
                  </a:lnTo>
                  <a:lnTo>
                    <a:pt x="13" y="656"/>
                  </a:lnTo>
                  <a:lnTo>
                    <a:pt x="13" y="658"/>
                  </a:lnTo>
                  <a:lnTo>
                    <a:pt x="12" y="692"/>
                  </a:lnTo>
                  <a:lnTo>
                    <a:pt x="12" y="694"/>
                  </a:lnTo>
                  <a:lnTo>
                    <a:pt x="11" y="696"/>
                  </a:lnTo>
                  <a:lnTo>
                    <a:pt x="10" y="698"/>
                  </a:lnTo>
                  <a:lnTo>
                    <a:pt x="9" y="698"/>
                  </a:lnTo>
                  <a:lnTo>
                    <a:pt x="8" y="698"/>
                  </a:lnTo>
                  <a:lnTo>
                    <a:pt x="7" y="696"/>
                  </a:lnTo>
                  <a:lnTo>
                    <a:pt x="6" y="694"/>
                  </a:lnTo>
                  <a:lnTo>
                    <a:pt x="6" y="692"/>
                  </a:lnTo>
                  <a:lnTo>
                    <a:pt x="6" y="692"/>
                  </a:lnTo>
                  <a:close/>
                  <a:moveTo>
                    <a:pt x="7" y="608"/>
                  </a:moveTo>
                  <a:lnTo>
                    <a:pt x="7" y="574"/>
                  </a:lnTo>
                  <a:lnTo>
                    <a:pt x="7" y="572"/>
                  </a:lnTo>
                  <a:lnTo>
                    <a:pt x="8" y="570"/>
                  </a:lnTo>
                  <a:lnTo>
                    <a:pt x="10" y="568"/>
                  </a:lnTo>
                  <a:lnTo>
                    <a:pt x="11" y="568"/>
                  </a:lnTo>
                  <a:lnTo>
                    <a:pt x="12" y="568"/>
                  </a:lnTo>
                  <a:lnTo>
                    <a:pt x="13" y="570"/>
                  </a:lnTo>
                  <a:lnTo>
                    <a:pt x="14" y="572"/>
                  </a:lnTo>
                  <a:lnTo>
                    <a:pt x="14" y="574"/>
                  </a:lnTo>
                  <a:lnTo>
                    <a:pt x="13" y="610"/>
                  </a:lnTo>
                  <a:lnTo>
                    <a:pt x="13" y="612"/>
                  </a:lnTo>
                  <a:lnTo>
                    <a:pt x="12" y="614"/>
                  </a:lnTo>
                  <a:lnTo>
                    <a:pt x="11" y="616"/>
                  </a:lnTo>
                  <a:lnTo>
                    <a:pt x="10" y="616"/>
                  </a:lnTo>
                  <a:lnTo>
                    <a:pt x="9" y="616"/>
                  </a:lnTo>
                  <a:lnTo>
                    <a:pt x="8" y="614"/>
                  </a:lnTo>
                  <a:lnTo>
                    <a:pt x="7" y="610"/>
                  </a:lnTo>
                  <a:lnTo>
                    <a:pt x="7" y="608"/>
                  </a:lnTo>
                  <a:lnTo>
                    <a:pt x="7" y="608"/>
                  </a:lnTo>
                  <a:close/>
                  <a:moveTo>
                    <a:pt x="8" y="526"/>
                  </a:moveTo>
                  <a:lnTo>
                    <a:pt x="9" y="489"/>
                  </a:lnTo>
                  <a:lnTo>
                    <a:pt x="9" y="487"/>
                  </a:lnTo>
                  <a:lnTo>
                    <a:pt x="10" y="485"/>
                  </a:lnTo>
                  <a:lnTo>
                    <a:pt x="11" y="483"/>
                  </a:lnTo>
                  <a:lnTo>
                    <a:pt x="12" y="483"/>
                  </a:lnTo>
                  <a:lnTo>
                    <a:pt x="13" y="483"/>
                  </a:lnTo>
                  <a:lnTo>
                    <a:pt x="14" y="485"/>
                  </a:lnTo>
                  <a:lnTo>
                    <a:pt x="15" y="487"/>
                  </a:lnTo>
                  <a:lnTo>
                    <a:pt x="15" y="489"/>
                  </a:lnTo>
                  <a:lnTo>
                    <a:pt x="14" y="526"/>
                  </a:lnTo>
                  <a:lnTo>
                    <a:pt x="14" y="528"/>
                  </a:lnTo>
                  <a:lnTo>
                    <a:pt x="13" y="529"/>
                  </a:lnTo>
                  <a:lnTo>
                    <a:pt x="12" y="531"/>
                  </a:lnTo>
                  <a:lnTo>
                    <a:pt x="11" y="531"/>
                  </a:lnTo>
                  <a:lnTo>
                    <a:pt x="10" y="531"/>
                  </a:lnTo>
                  <a:lnTo>
                    <a:pt x="9" y="529"/>
                  </a:lnTo>
                  <a:lnTo>
                    <a:pt x="8" y="528"/>
                  </a:lnTo>
                  <a:lnTo>
                    <a:pt x="8" y="526"/>
                  </a:lnTo>
                  <a:lnTo>
                    <a:pt x="8" y="526"/>
                  </a:lnTo>
                  <a:close/>
                  <a:moveTo>
                    <a:pt x="9" y="441"/>
                  </a:moveTo>
                  <a:lnTo>
                    <a:pt x="10" y="405"/>
                  </a:lnTo>
                  <a:lnTo>
                    <a:pt x="10" y="403"/>
                  </a:lnTo>
                  <a:lnTo>
                    <a:pt x="11" y="401"/>
                  </a:lnTo>
                  <a:lnTo>
                    <a:pt x="12" y="399"/>
                  </a:lnTo>
                  <a:lnTo>
                    <a:pt x="13" y="399"/>
                  </a:lnTo>
                  <a:lnTo>
                    <a:pt x="14" y="399"/>
                  </a:lnTo>
                  <a:lnTo>
                    <a:pt x="15" y="401"/>
                  </a:lnTo>
                  <a:lnTo>
                    <a:pt x="16" y="403"/>
                  </a:lnTo>
                  <a:lnTo>
                    <a:pt x="16" y="405"/>
                  </a:lnTo>
                  <a:lnTo>
                    <a:pt x="16" y="441"/>
                  </a:lnTo>
                  <a:lnTo>
                    <a:pt x="15" y="443"/>
                  </a:lnTo>
                  <a:lnTo>
                    <a:pt x="14" y="445"/>
                  </a:lnTo>
                  <a:lnTo>
                    <a:pt x="13" y="447"/>
                  </a:lnTo>
                  <a:lnTo>
                    <a:pt x="12" y="447"/>
                  </a:lnTo>
                  <a:lnTo>
                    <a:pt x="11" y="447"/>
                  </a:lnTo>
                  <a:lnTo>
                    <a:pt x="10" y="445"/>
                  </a:lnTo>
                  <a:lnTo>
                    <a:pt x="9" y="443"/>
                  </a:lnTo>
                  <a:lnTo>
                    <a:pt x="9" y="441"/>
                  </a:lnTo>
                  <a:lnTo>
                    <a:pt x="9" y="441"/>
                  </a:lnTo>
                  <a:close/>
                  <a:moveTo>
                    <a:pt x="10" y="357"/>
                  </a:moveTo>
                  <a:lnTo>
                    <a:pt x="11" y="320"/>
                  </a:lnTo>
                  <a:lnTo>
                    <a:pt x="11" y="318"/>
                  </a:lnTo>
                  <a:lnTo>
                    <a:pt x="12" y="317"/>
                  </a:lnTo>
                  <a:lnTo>
                    <a:pt x="13" y="315"/>
                  </a:lnTo>
                  <a:lnTo>
                    <a:pt x="14" y="315"/>
                  </a:lnTo>
                  <a:lnTo>
                    <a:pt x="15" y="315"/>
                  </a:lnTo>
                  <a:lnTo>
                    <a:pt x="16" y="317"/>
                  </a:lnTo>
                  <a:lnTo>
                    <a:pt x="17" y="320"/>
                  </a:lnTo>
                  <a:lnTo>
                    <a:pt x="17" y="322"/>
                  </a:lnTo>
                  <a:lnTo>
                    <a:pt x="17" y="357"/>
                  </a:lnTo>
                  <a:lnTo>
                    <a:pt x="17" y="359"/>
                  </a:lnTo>
                  <a:lnTo>
                    <a:pt x="16" y="361"/>
                  </a:lnTo>
                  <a:lnTo>
                    <a:pt x="14" y="363"/>
                  </a:lnTo>
                  <a:lnTo>
                    <a:pt x="13" y="363"/>
                  </a:lnTo>
                  <a:lnTo>
                    <a:pt x="12" y="363"/>
                  </a:lnTo>
                  <a:lnTo>
                    <a:pt x="11" y="361"/>
                  </a:lnTo>
                  <a:lnTo>
                    <a:pt x="10" y="359"/>
                  </a:lnTo>
                  <a:lnTo>
                    <a:pt x="10" y="357"/>
                  </a:lnTo>
                  <a:lnTo>
                    <a:pt x="10" y="357"/>
                  </a:lnTo>
                  <a:close/>
                  <a:moveTo>
                    <a:pt x="12" y="272"/>
                  </a:moveTo>
                  <a:lnTo>
                    <a:pt x="12" y="238"/>
                  </a:lnTo>
                  <a:lnTo>
                    <a:pt x="12" y="236"/>
                  </a:lnTo>
                  <a:lnTo>
                    <a:pt x="13" y="234"/>
                  </a:lnTo>
                  <a:lnTo>
                    <a:pt x="14" y="232"/>
                  </a:lnTo>
                  <a:lnTo>
                    <a:pt x="15" y="232"/>
                  </a:lnTo>
                  <a:lnTo>
                    <a:pt x="16" y="232"/>
                  </a:lnTo>
                  <a:lnTo>
                    <a:pt x="17" y="234"/>
                  </a:lnTo>
                  <a:lnTo>
                    <a:pt x="18" y="236"/>
                  </a:lnTo>
                  <a:lnTo>
                    <a:pt x="18" y="238"/>
                  </a:lnTo>
                  <a:lnTo>
                    <a:pt x="18" y="274"/>
                  </a:lnTo>
                  <a:lnTo>
                    <a:pt x="18" y="276"/>
                  </a:lnTo>
                  <a:lnTo>
                    <a:pt x="17" y="278"/>
                  </a:lnTo>
                  <a:lnTo>
                    <a:pt x="16" y="280"/>
                  </a:lnTo>
                  <a:lnTo>
                    <a:pt x="15" y="280"/>
                  </a:lnTo>
                  <a:lnTo>
                    <a:pt x="14" y="280"/>
                  </a:lnTo>
                  <a:lnTo>
                    <a:pt x="13" y="278"/>
                  </a:lnTo>
                  <a:lnTo>
                    <a:pt x="12" y="274"/>
                  </a:lnTo>
                  <a:lnTo>
                    <a:pt x="12" y="272"/>
                  </a:lnTo>
                  <a:lnTo>
                    <a:pt x="12" y="272"/>
                  </a:lnTo>
                  <a:close/>
                  <a:moveTo>
                    <a:pt x="13" y="190"/>
                  </a:moveTo>
                  <a:lnTo>
                    <a:pt x="13" y="154"/>
                  </a:lnTo>
                  <a:lnTo>
                    <a:pt x="13" y="152"/>
                  </a:lnTo>
                  <a:lnTo>
                    <a:pt x="14" y="150"/>
                  </a:lnTo>
                  <a:lnTo>
                    <a:pt x="16" y="148"/>
                  </a:lnTo>
                  <a:lnTo>
                    <a:pt x="17" y="148"/>
                  </a:lnTo>
                  <a:lnTo>
                    <a:pt x="18" y="148"/>
                  </a:lnTo>
                  <a:lnTo>
                    <a:pt x="19" y="150"/>
                  </a:lnTo>
                  <a:lnTo>
                    <a:pt x="20" y="152"/>
                  </a:lnTo>
                  <a:lnTo>
                    <a:pt x="20" y="154"/>
                  </a:lnTo>
                  <a:lnTo>
                    <a:pt x="19" y="190"/>
                  </a:lnTo>
                  <a:lnTo>
                    <a:pt x="19" y="192"/>
                  </a:lnTo>
                  <a:lnTo>
                    <a:pt x="18" y="194"/>
                  </a:lnTo>
                  <a:lnTo>
                    <a:pt x="17" y="196"/>
                  </a:lnTo>
                  <a:lnTo>
                    <a:pt x="16" y="196"/>
                  </a:lnTo>
                  <a:lnTo>
                    <a:pt x="15" y="196"/>
                  </a:lnTo>
                  <a:lnTo>
                    <a:pt x="14" y="194"/>
                  </a:lnTo>
                  <a:lnTo>
                    <a:pt x="13" y="192"/>
                  </a:lnTo>
                  <a:lnTo>
                    <a:pt x="13" y="190"/>
                  </a:lnTo>
                  <a:lnTo>
                    <a:pt x="13" y="190"/>
                  </a:lnTo>
                  <a:close/>
                  <a:moveTo>
                    <a:pt x="14" y="106"/>
                  </a:moveTo>
                  <a:lnTo>
                    <a:pt x="14" y="69"/>
                  </a:lnTo>
                  <a:lnTo>
                    <a:pt x="15" y="67"/>
                  </a:lnTo>
                  <a:lnTo>
                    <a:pt x="16" y="65"/>
                  </a:lnTo>
                  <a:lnTo>
                    <a:pt x="17" y="63"/>
                  </a:lnTo>
                  <a:lnTo>
                    <a:pt x="18" y="63"/>
                  </a:lnTo>
                  <a:lnTo>
                    <a:pt x="19" y="63"/>
                  </a:lnTo>
                  <a:lnTo>
                    <a:pt x="20" y="65"/>
                  </a:lnTo>
                  <a:lnTo>
                    <a:pt x="21" y="67"/>
                  </a:lnTo>
                  <a:lnTo>
                    <a:pt x="21" y="69"/>
                  </a:lnTo>
                  <a:lnTo>
                    <a:pt x="20" y="106"/>
                  </a:lnTo>
                  <a:lnTo>
                    <a:pt x="20" y="107"/>
                  </a:lnTo>
                  <a:lnTo>
                    <a:pt x="19" y="109"/>
                  </a:lnTo>
                  <a:lnTo>
                    <a:pt x="18" y="111"/>
                  </a:lnTo>
                  <a:lnTo>
                    <a:pt x="17" y="111"/>
                  </a:lnTo>
                  <a:lnTo>
                    <a:pt x="16" y="111"/>
                  </a:lnTo>
                  <a:lnTo>
                    <a:pt x="15" y="109"/>
                  </a:lnTo>
                  <a:lnTo>
                    <a:pt x="14" y="107"/>
                  </a:lnTo>
                  <a:lnTo>
                    <a:pt x="14" y="106"/>
                  </a:lnTo>
                  <a:lnTo>
                    <a:pt x="14" y="106"/>
                  </a:lnTo>
                  <a:close/>
                  <a:moveTo>
                    <a:pt x="15" y="21"/>
                  </a:moveTo>
                  <a:lnTo>
                    <a:pt x="15" y="6"/>
                  </a:lnTo>
                  <a:lnTo>
                    <a:pt x="15" y="4"/>
                  </a:lnTo>
                  <a:lnTo>
                    <a:pt x="16" y="2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5" y="2"/>
                  </a:lnTo>
                  <a:lnTo>
                    <a:pt x="26" y="4"/>
                  </a:lnTo>
                  <a:lnTo>
                    <a:pt x="26" y="6"/>
                  </a:lnTo>
                  <a:lnTo>
                    <a:pt x="26" y="8"/>
                  </a:lnTo>
                  <a:lnTo>
                    <a:pt x="25" y="10"/>
                  </a:lnTo>
                  <a:lnTo>
                    <a:pt x="24" y="12"/>
                  </a:lnTo>
                  <a:lnTo>
                    <a:pt x="23" y="12"/>
                  </a:lnTo>
                  <a:lnTo>
                    <a:pt x="18" y="12"/>
                  </a:lnTo>
                  <a:lnTo>
                    <a:pt x="22" y="6"/>
                  </a:lnTo>
                  <a:lnTo>
                    <a:pt x="21" y="21"/>
                  </a:lnTo>
                  <a:lnTo>
                    <a:pt x="21" y="23"/>
                  </a:lnTo>
                  <a:lnTo>
                    <a:pt x="20" y="27"/>
                  </a:lnTo>
                  <a:lnTo>
                    <a:pt x="19" y="27"/>
                  </a:lnTo>
                  <a:lnTo>
                    <a:pt x="19" y="27"/>
                  </a:lnTo>
                  <a:lnTo>
                    <a:pt x="18" y="27"/>
                  </a:lnTo>
                  <a:lnTo>
                    <a:pt x="17" y="27"/>
                  </a:lnTo>
                  <a:lnTo>
                    <a:pt x="16" y="25"/>
                  </a:lnTo>
                  <a:lnTo>
                    <a:pt x="15" y="23"/>
                  </a:lnTo>
                  <a:lnTo>
                    <a:pt x="15" y="21"/>
                  </a:lnTo>
                  <a:lnTo>
                    <a:pt x="15" y="2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319480" y="4386240"/>
              <a:ext cx="509400" cy="335160"/>
            </a:xfrm>
            <a:custGeom>
              <a:avLst/>
              <a:gdLst/>
              <a:ahLst/>
              <a:rect l="l" t="t" r="r" b="b"/>
              <a:pathLst>
                <a:path w="321" h="422">
                  <a:moveTo>
                    <a:pt x="314" y="405"/>
                  </a:moveTo>
                  <a:lnTo>
                    <a:pt x="314" y="368"/>
                  </a:lnTo>
                  <a:lnTo>
                    <a:pt x="314" y="367"/>
                  </a:lnTo>
                  <a:lnTo>
                    <a:pt x="315" y="365"/>
                  </a:lnTo>
                  <a:lnTo>
                    <a:pt x="316" y="363"/>
                  </a:lnTo>
                  <a:lnTo>
                    <a:pt x="317" y="363"/>
                  </a:lnTo>
                  <a:lnTo>
                    <a:pt x="318" y="363"/>
                  </a:lnTo>
                  <a:lnTo>
                    <a:pt x="320" y="365"/>
                  </a:lnTo>
                  <a:lnTo>
                    <a:pt x="321" y="367"/>
                  </a:lnTo>
                  <a:lnTo>
                    <a:pt x="321" y="368"/>
                  </a:lnTo>
                  <a:lnTo>
                    <a:pt x="321" y="405"/>
                  </a:lnTo>
                  <a:lnTo>
                    <a:pt x="321" y="407"/>
                  </a:lnTo>
                  <a:lnTo>
                    <a:pt x="320" y="409"/>
                  </a:lnTo>
                  <a:lnTo>
                    <a:pt x="318" y="411"/>
                  </a:lnTo>
                  <a:lnTo>
                    <a:pt x="317" y="411"/>
                  </a:lnTo>
                  <a:lnTo>
                    <a:pt x="316" y="411"/>
                  </a:lnTo>
                  <a:lnTo>
                    <a:pt x="315" y="409"/>
                  </a:lnTo>
                  <a:lnTo>
                    <a:pt x="314" y="407"/>
                  </a:lnTo>
                  <a:lnTo>
                    <a:pt x="314" y="405"/>
                  </a:lnTo>
                  <a:lnTo>
                    <a:pt x="314" y="405"/>
                  </a:lnTo>
                  <a:close/>
                  <a:moveTo>
                    <a:pt x="314" y="321"/>
                  </a:moveTo>
                  <a:lnTo>
                    <a:pt x="314" y="284"/>
                  </a:lnTo>
                  <a:lnTo>
                    <a:pt x="314" y="282"/>
                  </a:lnTo>
                  <a:lnTo>
                    <a:pt x="315" y="280"/>
                  </a:lnTo>
                  <a:lnTo>
                    <a:pt x="316" y="278"/>
                  </a:lnTo>
                  <a:lnTo>
                    <a:pt x="317" y="278"/>
                  </a:lnTo>
                  <a:lnTo>
                    <a:pt x="318" y="278"/>
                  </a:lnTo>
                  <a:lnTo>
                    <a:pt x="320" y="280"/>
                  </a:lnTo>
                  <a:lnTo>
                    <a:pt x="321" y="282"/>
                  </a:lnTo>
                  <a:lnTo>
                    <a:pt x="321" y="284"/>
                  </a:lnTo>
                  <a:lnTo>
                    <a:pt x="321" y="321"/>
                  </a:lnTo>
                  <a:lnTo>
                    <a:pt x="321" y="322"/>
                  </a:lnTo>
                  <a:lnTo>
                    <a:pt x="320" y="324"/>
                  </a:lnTo>
                  <a:lnTo>
                    <a:pt x="318" y="326"/>
                  </a:lnTo>
                  <a:lnTo>
                    <a:pt x="317" y="326"/>
                  </a:lnTo>
                  <a:lnTo>
                    <a:pt x="316" y="326"/>
                  </a:lnTo>
                  <a:lnTo>
                    <a:pt x="315" y="324"/>
                  </a:lnTo>
                  <a:lnTo>
                    <a:pt x="314" y="322"/>
                  </a:lnTo>
                  <a:lnTo>
                    <a:pt x="314" y="321"/>
                  </a:lnTo>
                  <a:lnTo>
                    <a:pt x="314" y="321"/>
                  </a:lnTo>
                  <a:close/>
                  <a:moveTo>
                    <a:pt x="314" y="236"/>
                  </a:moveTo>
                  <a:lnTo>
                    <a:pt x="314" y="200"/>
                  </a:lnTo>
                  <a:lnTo>
                    <a:pt x="314" y="198"/>
                  </a:lnTo>
                  <a:lnTo>
                    <a:pt x="315" y="196"/>
                  </a:lnTo>
                  <a:lnTo>
                    <a:pt x="316" y="194"/>
                  </a:lnTo>
                  <a:lnTo>
                    <a:pt x="317" y="194"/>
                  </a:lnTo>
                  <a:lnTo>
                    <a:pt x="318" y="194"/>
                  </a:lnTo>
                  <a:lnTo>
                    <a:pt x="320" y="196"/>
                  </a:lnTo>
                  <a:lnTo>
                    <a:pt x="321" y="198"/>
                  </a:lnTo>
                  <a:lnTo>
                    <a:pt x="321" y="200"/>
                  </a:lnTo>
                  <a:lnTo>
                    <a:pt x="321" y="236"/>
                  </a:lnTo>
                  <a:lnTo>
                    <a:pt x="321" y="238"/>
                  </a:lnTo>
                  <a:lnTo>
                    <a:pt x="320" y="240"/>
                  </a:lnTo>
                  <a:lnTo>
                    <a:pt x="318" y="242"/>
                  </a:lnTo>
                  <a:lnTo>
                    <a:pt x="317" y="242"/>
                  </a:lnTo>
                  <a:lnTo>
                    <a:pt x="316" y="242"/>
                  </a:lnTo>
                  <a:lnTo>
                    <a:pt x="315" y="240"/>
                  </a:lnTo>
                  <a:lnTo>
                    <a:pt x="314" y="238"/>
                  </a:lnTo>
                  <a:lnTo>
                    <a:pt x="314" y="236"/>
                  </a:lnTo>
                  <a:lnTo>
                    <a:pt x="314" y="236"/>
                  </a:lnTo>
                  <a:close/>
                  <a:moveTo>
                    <a:pt x="314" y="152"/>
                  </a:moveTo>
                  <a:lnTo>
                    <a:pt x="314" y="117"/>
                  </a:lnTo>
                  <a:lnTo>
                    <a:pt x="314" y="115"/>
                  </a:lnTo>
                  <a:lnTo>
                    <a:pt x="315" y="113"/>
                  </a:lnTo>
                  <a:lnTo>
                    <a:pt x="316" y="111"/>
                  </a:lnTo>
                  <a:lnTo>
                    <a:pt x="317" y="111"/>
                  </a:lnTo>
                  <a:lnTo>
                    <a:pt x="318" y="111"/>
                  </a:lnTo>
                  <a:lnTo>
                    <a:pt x="320" y="113"/>
                  </a:lnTo>
                  <a:lnTo>
                    <a:pt x="321" y="115"/>
                  </a:lnTo>
                  <a:lnTo>
                    <a:pt x="321" y="117"/>
                  </a:lnTo>
                  <a:lnTo>
                    <a:pt x="321" y="152"/>
                  </a:lnTo>
                  <a:lnTo>
                    <a:pt x="321" y="154"/>
                  </a:lnTo>
                  <a:lnTo>
                    <a:pt x="320" y="157"/>
                  </a:lnTo>
                  <a:lnTo>
                    <a:pt x="318" y="159"/>
                  </a:lnTo>
                  <a:lnTo>
                    <a:pt x="317" y="159"/>
                  </a:lnTo>
                  <a:lnTo>
                    <a:pt x="316" y="159"/>
                  </a:lnTo>
                  <a:lnTo>
                    <a:pt x="315" y="157"/>
                  </a:lnTo>
                  <a:lnTo>
                    <a:pt x="314" y="154"/>
                  </a:lnTo>
                  <a:lnTo>
                    <a:pt x="314" y="152"/>
                  </a:lnTo>
                  <a:lnTo>
                    <a:pt x="314" y="152"/>
                  </a:lnTo>
                  <a:close/>
                  <a:moveTo>
                    <a:pt x="314" y="69"/>
                  </a:moveTo>
                  <a:lnTo>
                    <a:pt x="314" y="33"/>
                  </a:lnTo>
                  <a:lnTo>
                    <a:pt x="314" y="31"/>
                  </a:lnTo>
                  <a:lnTo>
                    <a:pt x="315" y="29"/>
                  </a:lnTo>
                  <a:lnTo>
                    <a:pt x="316" y="27"/>
                  </a:lnTo>
                  <a:lnTo>
                    <a:pt x="317" y="27"/>
                  </a:lnTo>
                  <a:lnTo>
                    <a:pt x="318" y="27"/>
                  </a:lnTo>
                  <a:lnTo>
                    <a:pt x="320" y="29"/>
                  </a:lnTo>
                  <a:lnTo>
                    <a:pt x="321" y="31"/>
                  </a:lnTo>
                  <a:lnTo>
                    <a:pt x="321" y="33"/>
                  </a:lnTo>
                  <a:lnTo>
                    <a:pt x="321" y="69"/>
                  </a:lnTo>
                  <a:lnTo>
                    <a:pt x="321" y="71"/>
                  </a:lnTo>
                  <a:lnTo>
                    <a:pt x="320" y="73"/>
                  </a:lnTo>
                  <a:lnTo>
                    <a:pt x="318" y="75"/>
                  </a:lnTo>
                  <a:lnTo>
                    <a:pt x="317" y="75"/>
                  </a:lnTo>
                  <a:lnTo>
                    <a:pt x="316" y="75"/>
                  </a:lnTo>
                  <a:lnTo>
                    <a:pt x="315" y="73"/>
                  </a:lnTo>
                  <a:lnTo>
                    <a:pt x="314" y="71"/>
                  </a:lnTo>
                  <a:lnTo>
                    <a:pt x="314" y="69"/>
                  </a:lnTo>
                  <a:lnTo>
                    <a:pt x="314" y="69"/>
                  </a:lnTo>
                  <a:close/>
                  <a:moveTo>
                    <a:pt x="306" y="12"/>
                  </a:moveTo>
                  <a:lnTo>
                    <a:pt x="287" y="12"/>
                  </a:lnTo>
                  <a:lnTo>
                    <a:pt x="286" y="12"/>
                  </a:lnTo>
                  <a:lnTo>
                    <a:pt x="285" y="10"/>
                  </a:lnTo>
                  <a:lnTo>
                    <a:pt x="284" y="8"/>
                  </a:lnTo>
                  <a:lnTo>
                    <a:pt x="284" y="6"/>
                  </a:lnTo>
                  <a:lnTo>
                    <a:pt x="284" y="4"/>
                  </a:lnTo>
                  <a:lnTo>
                    <a:pt x="285" y="2"/>
                  </a:lnTo>
                  <a:lnTo>
                    <a:pt x="286" y="0"/>
                  </a:lnTo>
                  <a:lnTo>
                    <a:pt x="287" y="0"/>
                  </a:lnTo>
                  <a:lnTo>
                    <a:pt x="306" y="0"/>
                  </a:lnTo>
                  <a:lnTo>
                    <a:pt x="307" y="0"/>
                  </a:lnTo>
                  <a:lnTo>
                    <a:pt x="308" y="2"/>
                  </a:lnTo>
                  <a:lnTo>
                    <a:pt x="309" y="4"/>
                  </a:lnTo>
                  <a:lnTo>
                    <a:pt x="309" y="6"/>
                  </a:lnTo>
                  <a:lnTo>
                    <a:pt x="309" y="8"/>
                  </a:lnTo>
                  <a:lnTo>
                    <a:pt x="308" y="10"/>
                  </a:lnTo>
                  <a:lnTo>
                    <a:pt x="307" y="12"/>
                  </a:lnTo>
                  <a:lnTo>
                    <a:pt x="306" y="12"/>
                  </a:lnTo>
                  <a:lnTo>
                    <a:pt x="306" y="12"/>
                  </a:lnTo>
                  <a:close/>
                  <a:moveTo>
                    <a:pt x="261" y="12"/>
                  </a:moveTo>
                  <a:lnTo>
                    <a:pt x="243" y="12"/>
                  </a:lnTo>
                  <a:lnTo>
                    <a:pt x="242" y="12"/>
                  </a:lnTo>
                  <a:lnTo>
                    <a:pt x="241" y="10"/>
                  </a:lnTo>
                  <a:lnTo>
                    <a:pt x="240" y="8"/>
                  </a:lnTo>
                  <a:lnTo>
                    <a:pt x="240" y="6"/>
                  </a:lnTo>
                  <a:lnTo>
                    <a:pt x="240" y="4"/>
                  </a:lnTo>
                  <a:lnTo>
                    <a:pt x="241" y="2"/>
                  </a:lnTo>
                  <a:lnTo>
                    <a:pt x="242" y="0"/>
                  </a:lnTo>
                  <a:lnTo>
                    <a:pt x="243" y="0"/>
                  </a:lnTo>
                  <a:lnTo>
                    <a:pt x="261" y="0"/>
                  </a:lnTo>
                  <a:lnTo>
                    <a:pt x="262" y="0"/>
                  </a:lnTo>
                  <a:lnTo>
                    <a:pt x="264" y="2"/>
                  </a:lnTo>
                  <a:lnTo>
                    <a:pt x="265" y="4"/>
                  </a:lnTo>
                  <a:lnTo>
                    <a:pt x="265" y="6"/>
                  </a:lnTo>
                  <a:lnTo>
                    <a:pt x="265" y="8"/>
                  </a:lnTo>
                  <a:lnTo>
                    <a:pt x="264" y="10"/>
                  </a:lnTo>
                  <a:lnTo>
                    <a:pt x="262" y="12"/>
                  </a:lnTo>
                  <a:lnTo>
                    <a:pt x="261" y="12"/>
                  </a:lnTo>
                  <a:lnTo>
                    <a:pt x="261" y="12"/>
                  </a:lnTo>
                  <a:close/>
                  <a:moveTo>
                    <a:pt x="217" y="12"/>
                  </a:moveTo>
                  <a:lnTo>
                    <a:pt x="198" y="12"/>
                  </a:lnTo>
                  <a:lnTo>
                    <a:pt x="197" y="12"/>
                  </a:lnTo>
                  <a:lnTo>
                    <a:pt x="196" y="10"/>
                  </a:lnTo>
                  <a:lnTo>
                    <a:pt x="195" y="8"/>
                  </a:lnTo>
                  <a:lnTo>
                    <a:pt x="195" y="6"/>
                  </a:lnTo>
                  <a:lnTo>
                    <a:pt x="195" y="4"/>
                  </a:lnTo>
                  <a:lnTo>
                    <a:pt x="196" y="2"/>
                  </a:lnTo>
                  <a:lnTo>
                    <a:pt x="197" y="0"/>
                  </a:lnTo>
                  <a:lnTo>
                    <a:pt x="198" y="0"/>
                  </a:lnTo>
                  <a:lnTo>
                    <a:pt x="217" y="0"/>
                  </a:lnTo>
                  <a:lnTo>
                    <a:pt x="218" y="0"/>
                  </a:lnTo>
                  <a:lnTo>
                    <a:pt x="219" y="2"/>
                  </a:lnTo>
                  <a:lnTo>
                    <a:pt x="220" y="4"/>
                  </a:lnTo>
                  <a:lnTo>
                    <a:pt x="220" y="6"/>
                  </a:lnTo>
                  <a:lnTo>
                    <a:pt x="220" y="8"/>
                  </a:lnTo>
                  <a:lnTo>
                    <a:pt x="219" y="10"/>
                  </a:lnTo>
                  <a:lnTo>
                    <a:pt x="218" y="12"/>
                  </a:lnTo>
                  <a:lnTo>
                    <a:pt x="217" y="12"/>
                  </a:lnTo>
                  <a:lnTo>
                    <a:pt x="217" y="12"/>
                  </a:lnTo>
                  <a:close/>
                  <a:moveTo>
                    <a:pt x="172" y="12"/>
                  </a:moveTo>
                  <a:lnTo>
                    <a:pt x="153" y="12"/>
                  </a:lnTo>
                  <a:lnTo>
                    <a:pt x="152" y="12"/>
                  </a:lnTo>
                  <a:lnTo>
                    <a:pt x="151" y="10"/>
                  </a:lnTo>
                  <a:lnTo>
                    <a:pt x="150" y="8"/>
                  </a:lnTo>
                  <a:lnTo>
                    <a:pt x="150" y="6"/>
                  </a:lnTo>
                  <a:lnTo>
                    <a:pt x="150" y="4"/>
                  </a:lnTo>
                  <a:lnTo>
                    <a:pt x="151" y="2"/>
                  </a:lnTo>
                  <a:lnTo>
                    <a:pt x="152" y="0"/>
                  </a:lnTo>
                  <a:lnTo>
                    <a:pt x="153" y="0"/>
                  </a:lnTo>
                  <a:lnTo>
                    <a:pt x="172" y="0"/>
                  </a:lnTo>
                  <a:lnTo>
                    <a:pt x="173" y="0"/>
                  </a:lnTo>
                  <a:lnTo>
                    <a:pt x="175" y="2"/>
                  </a:lnTo>
                  <a:lnTo>
                    <a:pt x="176" y="4"/>
                  </a:lnTo>
                  <a:lnTo>
                    <a:pt x="176" y="6"/>
                  </a:lnTo>
                  <a:lnTo>
                    <a:pt x="176" y="8"/>
                  </a:lnTo>
                  <a:lnTo>
                    <a:pt x="175" y="10"/>
                  </a:lnTo>
                  <a:lnTo>
                    <a:pt x="173" y="12"/>
                  </a:lnTo>
                  <a:lnTo>
                    <a:pt x="172" y="12"/>
                  </a:lnTo>
                  <a:lnTo>
                    <a:pt x="172" y="12"/>
                  </a:lnTo>
                  <a:close/>
                  <a:moveTo>
                    <a:pt x="128" y="12"/>
                  </a:moveTo>
                  <a:lnTo>
                    <a:pt x="108" y="12"/>
                  </a:lnTo>
                  <a:lnTo>
                    <a:pt x="107" y="12"/>
                  </a:lnTo>
                  <a:lnTo>
                    <a:pt x="106" y="10"/>
                  </a:lnTo>
                  <a:lnTo>
                    <a:pt x="105" y="8"/>
                  </a:lnTo>
                  <a:lnTo>
                    <a:pt x="105" y="6"/>
                  </a:lnTo>
                  <a:lnTo>
                    <a:pt x="105" y="4"/>
                  </a:lnTo>
                  <a:lnTo>
                    <a:pt x="106" y="2"/>
                  </a:lnTo>
                  <a:lnTo>
                    <a:pt x="107" y="0"/>
                  </a:lnTo>
                  <a:lnTo>
                    <a:pt x="108" y="0"/>
                  </a:lnTo>
                  <a:lnTo>
                    <a:pt x="128" y="0"/>
                  </a:lnTo>
                  <a:lnTo>
                    <a:pt x="129" y="0"/>
                  </a:lnTo>
                  <a:lnTo>
                    <a:pt x="130" y="2"/>
                  </a:lnTo>
                  <a:lnTo>
                    <a:pt x="131" y="4"/>
                  </a:lnTo>
                  <a:lnTo>
                    <a:pt x="131" y="6"/>
                  </a:lnTo>
                  <a:lnTo>
                    <a:pt x="131" y="8"/>
                  </a:lnTo>
                  <a:lnTo>
                    <a:pt x="130" y="10"/>
                  </a:lnTo>
                  <a:lnTo>
                    <a:pt x="129" y="12"/>
                  </a:lnTo>
                  <a:lnTo>
                    <a:pt x="128" y="12"/>
                  </a:lnTo>
                  <a:lnTo>
                    <a:pt x="128" y="12"/>
                  </a:lnTo>
                  <a:close/>
                  <a:moveTo>
                    <a:pt x="83" y="12"/>
                  </a:moveTo>
                  <a:lnTo>
                    <a:pt x="64" y="12"/>
                  </a:lnTo>
                  <a:lnTo>
                    <a:pt x="63" y="12"/>
                  </a:lnTo>
                  <a:lnTo>
                    <a:pt x="62" y="10"/>
                  </a:lnTo>
                  <a:lnTo>
                    <a:pt x="61" y="8"/>
                  </a:lnTo>
                  <a:lnTo>
                    <a:pt x="61" y="6"/>
                  </a:lnTo>
                  <a:lnTo>
                    <a:pt x="61" y="4"/>
                  </a:lnTo>
                  <a:lnTo>
                    <a:pt x="62" y="2"/>
                  </a:lnTo>
                  <a:lnTo>
                    <a:pt x="63" y="0"/>
                  </a:lnTo>
                  <a:lnTo>
                    <a:pt x="64" y="0"/>
                  </a:lnTo>
                  <a:lnTo>
                    <a:pt x="83" y="0"/>
                  </a:lnTo>
                  <a:lnTo>
                    <a:pt x="84" y="0"/>
                  </a:lnTo>
                  <a:lnTo>
                    <a:pt x="86" y="2"/>
                  </a:lnTo>
                  <a:lnTo>
                    <a:pt x="87" y="4"/>
                  </a:lnTo>
                  <a:lnTo>
                    <a:pt x="87" y="6"/>
                  </a:lnTo>
                  <a:lnTo>
                    <a:pt x="87" y="8"/>
                  </a:lnTo>
                  <a:lnTo>
                    <a:pt x="86" y="10"/>
                  </a:lnTo>
                  <a:lnTo>
                    <a:pt x="84" y="12"/>
                  </a:lnTo>
                  <a:lnTo>
                    <a:pt x="83" y="12"/>
                  </a:lnTo>
                  <a:lnTo>
                    <a:pt x="83" y="12"/>
                  </a:lnTo>
                  <a:close/>
                  <a:moveTo>
                    <a:pt x="39" y="12"/>
                  </a:moveTo>
                  <a:lnTo>
                    <a:pt x="19" y="12"/>
                  </a:lnTo>
                  <a:lnTo>
                    <a:pt x="18" y="12"/>
                  </a:lnTo>
                  <a:lnTo>
                    <a:pt x="17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7" y="2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39" y="0"/>
                  </a:lnTo>
                  <a:lnTo>
                    <a:pt x="40" y="0"/>
                  </a:lnTo>
                  <a:lnTo>
                    <a:pt x="41" y="2"/>
                  </a:lnTo>
                  <a:lnTo>
                    <a:pt x="42" y="4"/>
                  </a:lnTo>
                  <a:lnTo>
                    <a:pt x="42" y="6"/>
                  </a:lnTo>
                  <a:lnTo>
                    <a:pt x="42" y="8"/>
                  </a:lnTo>
                  <a:lnTo>
                    <a:pt x="41" y="10"/>
                  </a:lnTo>
                  <a:lnTo>
                    <a:pt x="40" y="12"/>
                  </a:lnTo>
                  <a:lnTo>
                    <a:pt x="39" y="12"/>
                  </a:lnTo>
                  <a:lnTo>
                    <a:pt x="39" y="12"/>
                  </a:lnTo>
                  <a:close/>
                  <a:moveTo>
                    <a:pt x="6" y="23"/>
                  </a:moveTo>
                  <a:lnTo>
                    <a:pt x="6" y="60"/>
                  </a:lnTo>
                  <a:lnTo>
                    <a:pt x="6" y="62"/>
                  </a:lnTo>
                  <a:lnTo>
                    <a:pt x="5" y="64"/>
                  </a:lnTo>
                  <a:lnTo>
                    <a:pt x="4" y="65"/>
                  </a:lnTo>
                  <a:lnTo>
                    <a:pt x="3" y="65"/>
                  </a:lnTo>
                  <a:lnTo>
                    <a:pt x="2" y="65"/>
                  </a:lnTo>
                  <a:lnTo>
                    <a:pt x="1" y="64"/>
                  </a:lnTo>
                  <a:lnTo>
                    <a:pt x="0" y="62"/>
                  </a:lnTo>
                  <a:lnTo>
                    <a:pt x="0" y="60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1" y="19"/>
                  </a:lnTo>
                  <a:lnTo>
                    <a:pt x="2" y="17"/>
                  </a:lnTo>
                  <a:lnTo>
                    <a:pt x="3" y="17"/>
                  </a:lnTo>
                  <a:lnTo>
                    <a:pt x="4" y="17"/>
                  </a:lnTo>
                  <a:lnTo>
                    <a:pt x="5" y="19"/>
                  </a:lnTo>
                  <a:lnTo>
                    <a:pt x="6" y="21"/>
                  </a:lnTo>
                  <a:lnTo>
                    <a:pt x="6" y="23"/>
                  </a:lnTo>
                  <a:lnTo>
                    <a:pt x="6" y="23"/>
                  </a:lnTo>
                  <a:close/>
                  <a:moveTo>
                    <a:pt x="6" y="108"/>
                  </a:moveTo>
                  <a:lnTo>
                    <a:pt x="6" y="142"/>
                  </a:lnTo>
                  <a:lnTo>
                    <a:pt x="6" y="144"/>
                  </a:lnTo>
                  <a:lnTo>
                    <a:pt x="5" y="148"/>
                  </a:lnTo>
                  <a:lnTo>
                    <a:pt x="4" y="150"/>
                  </a:lnTo>
                  <a:lnTo>
                    <a:pt x="3" y="150"/>
                  </a:lnTo>
                  <a:lnTo>
                    <a:pt x="2" y="150"/>
                  </a:lnTo>
                  <a:lnTo>
                    <a:pt x="1" y="148"/>
                  </a:lnTo>
                  <a:lnTo>
                    <a:pt x="0" y="144"/>
                  </a:lnTo>
                  <a:lnTo>
                    <a:pt x="0" y="142"/>
                  </a:lnTo>
                  <a:lnTo>
                    <a:pt x="0" y="108"/>
                  </a:lnTo>
                  <a:lnTo>
                    <a:pt x="0" y="106"/>
                  </a:lnTo>
                  <a:lnTo>
                    <a:pt x="1" y="104"/>
                  </a:lnTo>
                  <a:lnTo>
                    <a:pt x="2" y="102"/>
                  </a:lnTo>
                  <a:lnTo>
                    <a:pt x="3" y="102"/>
                  </a:lnTo>
                  <a:lnTo>
                    <a:pt x="4" y="102"/>
                  </a:lnTo>
                  <a:lnTo>
                    <a:pt x="5" y="104"/>
                  </a:lnTo>
                  <a:lnTo>
                    <a:pt x="6" y="106"/>
                  </a:lnTo>
                  <a:lnTo>
                    <a:pt x="6" y="108"/>
                  </a:lnTo>
                  <a:lnTo>
                    <a:pt x="6" y="108"/>
                  </a:lnTo>
                  <a:close/>
                  <a:moveTo>
                    <a:pt x="6" y="190"/>
                  </a:moveTo>
                  <a:lnTo>
                    <a:pt x="6" y="227"/>
                  </a:lnTo>
                  <a:lnTo>
                    <a:pt x="6" y="228"/>
                  </a:lnTo>
                  <a:lnTo>
                    <a:pt x="5" y="230"/>
                  </a:lnTo>
                  <a:lnTo>
                    <a:pt x="4" y="232"/>
                  </a:lnTo>
                  <a:lnTo>
                    <a:pt x="3" y="232"/>
                  </a:lnTo>
                  <a:lnTo>
                    <a:pt x="2" y="232"/>
                  </a:lnTo>
                  <a:lnTo>
                    <a:pt x="1" y="230"/>
                  </a:lnTo>
                  <a:lnTo>
                    <a:pt x="0" y="228"/>
                  </a:lnTo>
                  <a:lnTo>
                    <a:pt x="0" y="227"/>
                  </a:lnTo>
                  <a:lnTo>
                    <a:pt x="0" y="190"/>
                  </a:lnTo>
                  <a:lnTo>
                    <a:pt x="0" y="188"/>
                  </a:lnTo>
                  <a:lnTo>
                    <a:pt x="1" y="186"/>
                  </a:lnTo>
                  <a:lnTo>
                    <a:pt x="2" y="184"/>
                  </a:lnTo>
                  <a:lnTo>
                    <a:pt x="3" y="184"/>
                  </a:lnTo>
                  <a:lnTo>
                    <a:pt x="4" y="184"/>
                  </a:lnTo>
                  <a:lnTo>
                    <a:pt x="5" y="186"/>
                  </a:lnTo>
                  <a:lnTo>
                    <a:pt x="6" y="188"/>
                  </a:lnTo>
                  <a:lnTo>
                    <a:pt x="6" y="190"/>
                  </a:lnTo>
                  <a:lnTo>
                    <a:pt x="6" y="190"/>
                  </a:lnTo>
                  <a:close/>
                  <a:moveTo>
                    <a:pt x="6" y="274"/>
                  </a:moveTo>
                  <a:lnTo>
                    <a:pt x="6" y="311"/>
                  </a:lnTo>
                  <a:lnTo>
                    <a:pt x="6" y="313"/>
                  </a:lnTo>
                  <a:lnTo>
                    <a:pt x="5" y="315"/>
                  </a:lnTo>
                  <a:lnTo>
                    <a:pt x="4" y="317"/>
                  </a:lnTo>
                  <a:lnTo>
                    <a:pt x="3" y="317"/>
                  </a:lnTo>
                  <a:lnTo>
                    <a:pt x="2" y="317"/>
                  </a:lnTo>
                  <a:lnTo>
                    <a:pt x="1" y="315"/>
                  </a:lnTo>
                  <a:lnTo>
                    <a:pt x="0" y="313"/>
                  </a:lnTo>
                  <a:lnTo>
                    <a:pt x="0" y="311"/>
                  </a:lnTo>
                  <a:lnTo>
                    <a:pt x="0" y="274"/>
                  </a:lnTo>
                  <a:lnTo>
                    <a:pt x="0" y="273"/>
                  </a:lnTo>
                  <a:lnTo>
                    <a:pt x="1" y="271"/>
                  </a:lnTo>
                  <a:lnTo>
                    <a:pt x="2" y="269"/>
                  </a:lnTo>
                  <a:lnTo>
                    <a:pt x="3" y="269"/>
                  </a:lnTo>
                  <a:lnTo>
                    <a:pt x="4" y="269"/>
                  </a:lnTo>
                  <a:lnTo>
                    <a:pt x="5" y="271"/>
                  </a:lnTo>
                  <a:lnTo>
                    <a:pt x="6" y="273"/>
                  </a:lnTo>
                  <a:lnTo>
                    <a:pt x="6" y="274"/>
                  </a:lnTo>
                  <a:lnTo>
                    <a:pt x="6" y="274"/>
                  </a:lnTo>
                  <a:close/>
                  <a:moveTo>
                    <a:pt x="6" y="359"/>
                  </a:moveTo>
                  <a:lnTo>
                    <a:pt x="6" y="395"/>
                  </a:lnTo>
                  <a:lnTo>
                    <a:pt x="6" y="397"/>
                  </a:lnTo>
                  <a:lnTo>
                    <a:pt x="5" y="399"/>
                  </a:lnTo>
                  <a:lnTo>
                    <a:pt x="4" y="401"/>
                  </a:lnTo>
                  <a:lnTo>
                    <a:pt x="3" y="401"/>
                  </a:lnTo>
                  <a:lnTo>
                    <a:pt x="2" y="401"/>
                  </a:lnTo>
                  <a:lnTo>
                    <a:pt x="1" y="399"/>
                  </a:lnTo>
                  <a:lnTo>
                    <a:pt x="0" y="397"/>
                  </a:lnTo>
                  <a:lnTo>
                    <a:pt x="0" y="395"/>
                  </a:lnTo>
                  <a:lnTo>
                    <a:pt x="0" y="359"/>
                  </a:lnTo>
                  <a:lnTo>
                    <a:pt x="0" y="357"/>
                  </a:lnTo>
                  <a:lnTo>
                    <a:pt x="1" y="355"/>
                  </a:lnTo>
                  <a:lnTo>
                    <a:pt x="2" y="353"/>
                  </a:lnTo>
                  <a:lnTo>
                    <a:pt x="3" y="353"/>
                  </a:lnTo>
                  <a:lnTo>
                    <a:pt x="4" y="353"/>
                  </a:lnTo>
                  <a:lnTo>
                    <a:pt x="5" y="355"/>
                  </a:lnTo>
                  <a:lnTo>
                    <a:pt x="6" y="357"/>
                  </a:lnTo>
                  <a:lnTo>
                    <a:pt x="6" y="359"/>
                  </a:lnTo>
                  <a:lnTo>
                    <a:pt x="6" y="359"/>
                  </a:lnTo>
                  <a:close/>
                  <a:moveTo>
                    <a:pt x="16" y="411"/>
                  </a:moveTo>
                  <a:lnTo>
                    <a:pt x="36" y="411"/>
                  </a:lnTo>
                  <a:lnTo>
                    <a:pt x="37" y="411"/>
                  </a:lnTo>
                  <a:lnTo>
                    <a:pt x="38" y="413"/>
                  </a:lnTo>
                  <a:lnTo>
                    <a:pt x="39" y="414"/>
                  </a:lnTo>
                  <a:lnTo>
                    <a:pt x="39" y="416"/>
                  </a:lnTo>
                  <a:lnTo>
                    <a:pt x="39" y="418"/>
                  </a:lnTo>
                  <a:lnTo>
                    <a:pt x="38" y="420"/>
                  </a:lnTo>
                  <a:lnTo>
                    <a:pt x="37" y="422"/>
                  </a:lnTo>
                  <a:lnTo>
                    <a:pt x="36" y="422"/>
                  </a:lnTo>
                  <a:lnTo>
                    <a:pt x="16" y="422"/>
                  </a:lnTo>
                  <a:lnTo>
                    <a:pt x="15" y="422"/>
                  </a:lnTo>
                  <a:lnTo>
                    <a:pt x="14" y="420"/>
                  </a:lnTo>
                  <a:lnTo>
                    <a:pt x="13" y="418"/>
                  </a:lnTo>
                  <a:lnTo>
                    <a:pt x="13" y="416"/>
                  </a:lnTo>
                  <a:lnTo>
                    <a:pt x="13" y="414"/>
                  </a:lnTo>
                  <a:lnTo>
                    <a:pt x="14" y="413"/>
                  </a:lnTo>
                  <a:lnTo>
                    <a:pt x="15" y="411"/>
                  </a:lnTo>
                  <a:lnTo>
                    <a:pt x="16" y="411"/>
                  </a:lnTo>
                  <a:lnTo>
                    <a:pt x="16" y="411"/>
                  </a:lnTo>
                  <a:close/>
                  <a:moveTo>
                    <a:pt x="61" y="411"/>
                  </a:moveTo>
                  <a:lnTo>
                    <a:pt x="81" y="411"/>
                  </a:lnTo>
                  <a:lnTo>
                    <a:pt x="82" y="411"/>
                  </a:lnTo>
                  <a:lnTo>
                    <a:pt x="83" y="413"/>
                  </a:lnTo>
                  <a:lnTo>
                    <a:pt x="84" y="414"/>
                  </a:lnTo>
                  <a:lnTo>
                    <a:pt x="84" y="416"/>
                  </a:lnTo>
                  <a:lnTo>
                    <a:pt x="84" y="418"/>
                  </a:lnTo>
                  <a:lnTo>
                    <a:pt x="83" y="420"/>
                  </a:lnTo>
                  <a:lnTo>
                    <a:pt x="82" y="422"/>
                  </a:lnTo>
                  <a:lnTo>
                    <a:pt x="81" y="422"/>
                  </a:lnTo>
                  <a:lnTo>
                    <a:pt x="61" y="422"/>
                  </a:lnTo>
                  <a:lnTo>
                    <a:pt x="60" y="422"/>
                  </a:lnTo>
                  <a:lnTo>
                    <a:pt x="59" y="420"/>
                  </a:lnTo>
                  <a:lnTo>
                    <a:pt x="58" y="418"/>
                  </a:lnTo>
                  <a:lnTo>
                    <a:pt x="58" y="416"/>
                  </a:lnTo>
                  <a:lnTo>
                    <a:pt x="58" y="414"/>
                  </a:lnTo>
                  <a:lnTo>
                    <a:pt x="59" y="413"/>
                  </a:lnTo>
                  <a:lnTo>
                    <a:pt x="60" y="411"/>
                  </a:lnTo>
                  <a:lnTo>
                    <a:pt x="61" y="411"/>
                  </a:lnTo>
                  <a:lnTo>
                    <a:pt x="61" y="411"/>
                  </a:lnTo>
                  <a:close/>
                  <a:moveTo>
                    <a:pt x="106" y="411"/>
                  </a:moveTo>
                  <a:lnTo>
                    <a:pt x="126" y="411"/>
                  </a:lnTo>
                  <a:lnTo>
                    <a:pt x="127" y="411"/>
                  </a:lnTo>
                  <a:lnTo>
                    <a:pt x="128" y="413"/>
                  </a:lnTo>
                  <a:lnTo>
                    <a:pt x="129" y="414"/>
                  </a:lnTo>
                  <a:lnTo>
                    <a:pt x="129" y="416"/>
                  </a:lnTo>
                  <a:lnTo>
                    <a:pt x="129" y="418"/>
                  </a:lnTo>
                  <a:lnTo>
                    <a:pt x="128" y="420"/>
                  </a:lnTo>
                  <a:lnTo>
                    <a:pt x="127" y="422"/>
                  </a:lnTo>
                  <a:lnTo>
                    <a:pt x="126" y="422"/>
                  </a:lnTo>
                  <a:lnTo>
                    <a:pt x="106" y="422"/>
                  </a:lnTo>
                  <a:lnTo>
                    <a:pt x="105" y="422"/>
                  </a:lnTo>
                  <a:lnTo>
                    <a:pt x="104" y="420"/>
                  </a:lnTo>
                  <a:lnTo>
                    <a:pt x="103" y="418"/>
                  </a:lnTo>
                  <a:lnTo>
                    <a:pt x="103" y="416"/>
                  </a:lnTo>
                  <a:lnTo>
                    <a:pt x="103" y="414"/>
                  </a:lnTo>
                  <a:lnTo>
                    <a:pt x="104" y="413"/>
                  </a:lnTo>
                  <a:lnTo>
                    <a:pt x="105" y="411"/>
                  </a:lnTo>
                  <a:lnTo>
                    <a:pt x="106" y="411"/>
                  </a:lnTo>
                  <a:lnTo>
                    <a:pt x="106" y="411"/>
                  </a:lnTo>
                  <a:close/>
                  <a:moveTo>
                    <a:pt x="151" y="411"/>
                  </a:moveTo>
                  <a:lnTo>
                    <a:pt x="169" y="411"/>
                  </a:lnTo>
                  <a:lnTo>
                    <a:pt x="170" y="411"/>
                  </a:lnTo>
                  <a:lnTo>
                    <a:pt x="172" y="413"/>
                  </a:lnTo>
                  <a:lnTo>
                    <a:pt x="173" y="414"/>
                  </a:lnTo>
                  <a:lnTo>
                    <a:pt x="173" y="416"/>
                  </a:lnTo>
                  <a:lnTo>
                    <a:pt x="173" y="418"/>
                  </a:lnTo>
                  <a:lnTo>
                    <a:pt x="172" y="420"/>
                  </a:lnTo>
                  <a:lnTo>
                    <a:pt x="170" y="422"/>
                  </a:lnTo>
                  <a:lnTo>
                    <a:pt x="169" y="422"/>
                  </a:lnTo>
                  <a:lnTo>
                    <a:pt x="151" y="422"/>
                  </a:lnTo>
                  <a:lnTo>
                    <a:pt x="150" y="422"/>
                  </a:lnTo>
                  <a:lnTo>
                    <a:pt x="149" y="420"/>
                  </a:lnTo>
                  <a:lnTo>
                    <a:pt x="148" y="418"/>
                  </a:lnTo>
                  <a:lnTo>
                    <a:pt x="148" y="416"/>
                  </a:lnTo>
                  <a:lnTo>
                    <a:pt x="148" y="414"/>
                  </a:lnTo>
                  <a:lnTo>
                    <a:pt x="149" y="413"/>
                  </a:lnTo>
                  <a:lnTo>
                    <a:pt x="150" y="411"/>
                  </a:lnTo>
                  <a:lnTo>
                    <a:pt x="151" y="411"/>
                  </a:lnTo>
                  <a:lnTo>
                    <a:pt x="151" y="411"/>
                  </a:lnTo>
                  <a:close/>
                  <a:moveTo>
                    <a:pt x="195" y="411"/>
                  </a:moveTo>
                  <a:lnTo>
                    <a:pt x="214" y="411"/>
                  </a:lnTo>
                  <a:lnTo>
                    <a:pt x="215" y="411"/>
                  </a:lnTo>
                  <a:lnTo>
                    <a:pt x="216" y="413"/>
                  </a:lnTo>
                  <a:lnTo>
                    <a:pt x="217" y="414"/>
                  </a:lnTo>
                  <a:lnTo>
                    <a:pt x="217" y="416"/>
                  </a:lnTo>
                  <a:lnTo>
                    <a:pt x="217" y="418"/>
                  </a:lnTo>
                  <a:lnTo>
                    <a:pt x="216" y="420"/>
                  </a:lnTo>
                  <a:lnTo>
                    <a:pt x="215" y="422"/>
                  </a:lnTo>
                  <a:lnTo>
                    <a:pt x="214" y="422"/>
                  </a:lnTo>
                  <a:lnTo>
                    <a:pt x="195" y="422"/>
                  </a:lnTo>
                  <a:lnTo>
                    <a:pt x="194" y="422"/>
                  </a:lnTo>
                  <a:lnTo>
                    <a:pt x="193" y="420"/>
                  </a:lnTo>
                  <a:lnTo>
                    <a:pt x="192" y="418"/>
                  </a:lnTo>
                  <a:lnTo>
                    <a:pt x="192" y="416"/>
                  </a:lnTo>
                  <a:lnTo>
                    <a:pt x="192" y="414"/>
                  </a:lnTo>
                  <a:lnTo>
                    <a:pt x="193" y="413"/>
                  </a:lnTo>
                  <a:lnTo>
                    <a:pt x="194" y="411"/>
                  </a:lnTo>
                  <a:lnTo>
                    <a:pt x="195" y="411"/>
                  </a:lnTo>
                  <a:lnTo>
                    <a:pt x="195" y="411"/>
                  </a:lnTo>
                  <a:close/>
                  <a:moveTo>
                    <a:pt x="240" y="411"/>
                  </a:moveTo>
                  <a:lnTo>
                    <a:pt x="259" y="411"/>
                  </a:lnTo>
                  <a:lnTo>
                    <a:pt x="260" y="411"/>
                  </a:lnTo>
                  <a:lnTo>
                    <a:pt x="261" y="413"/>
                  </a:lnTo>
                  <a:lnTo>
                    <a:pt x="262" y="414"/>
                  </a:lnTo>
                  <a:lnTo>
                    <a:pt x="262" y="416"/>
                  </a:lnTo>
                  <a:lnTo>
                    <a:pt x="262" y="418"/>
                  </a:lnTo>
                  <a:lnTo>
                    <a:pt x="261" y="420"/>
                  </a:lnTo>
                  <a:lnTo>
                    <a:pt x="260" y="422"/>
                  </a:lnTo>
                  <a:lnTo>
                    <a:pt x="259" y="422"/>
                  </a:lnTo>
                  <a:lnTo>
                    <a:pt x="240" y="422"/>
                  </a:lnTo>
                  <a:lnTo>
                    <a:pt x="239" y="422"/>
                  </a:lnTo>
                  <a:lnTo>
                    <a:pt x="238" y="420"/>
                  </a:lnTo>
                  <a:lnTo>
                    <a:pt x="237" y="418"/>
                  </a:lnTo>
                  <a:lnTo>
                    <a:pt x="237" y="416"/>
                  </a:lnTo>
                  <a:lnTo>
                    <a:pt x="237" y="414"/>
                  </a:lnTo>
                  <a:lnTo>
                    <a:pt x="238" y="413"/>
                  </a:lnTo>
                  <a:lnTo>
                    <a:pt x="239" y="411"/>
                  </a:lnTo>
                  <a:lnTo>
                    <a:pt x="240" y="411"/>
                  </a:lnTo>
                  <a:lnTo>
                    <a:pt x="240" y="411"/>
                  </a:lnTo>
                  <a:close/>
                  <a:moveTo>
                    <a:pt x="285" y="411"/>
                  </a:moveTo>
                  <a:lnTo>
                    <a:pt x="304" y="411"/>
                  </a:lnTo>
                  <a:lnTo>
                    <a:pt x="305" y="411"/>
                  </a:lnTo>
                  <a:lnTo>
                    <a:pt x="306" y="413"/>
                  </a:lnTo>
                  <a:lnTo>
                    <a:pt x="307" y="414"/>
                  </a:lnTo>
                  <a:lnTo>
                    <a:pt x="307" y="416"/>
                  </a:lnTo>
                  <a:lnTo>
                    <a:pt x="307" y="418"/>
                  </a:lnTo>
                  <a:lnTo>
                    <a:pt x="306" y="420"/>
                  </a:lnTo>
                  <a:lnTo>
                    <a:pt x="305" y="422"/>
                  </a:lnTo>
                  <a:lnTo>
                    <a:pt x="304" y="422"/>
                  </a:lnTo>
                  <a:lnTo>
                    <a:pt x="285" y="422"/>
                  </a:lnTo>
                  <a:lnTo>
                    <a:pt x="284" y="422"/>
                  </a:lnTo>
                  <a:lnTo>
                    <a:pt x="283" y="420"/>
                  </a:lnTo>
                  <a:lnTo>
                    <a:pt x="282" y="418"/>
                  </a:lnTo>
                  <a:lnTo>
                    <a:pt x="282" y="416"/>
                  </a:lnTo>
                  <a:lnTo>
                    <a:pt x="282" y="414"/>
                  </a:lnTo>
                  <a:lnTo>
                    <a:pt x="283" y="413"/>
                  </a:lnTo>
                  <a:lnTo>
                    <a:pt x="284" y="411"/>
                  </a:lnTo>
                  <a:lnTo>
                    <a:pt x="285" y="411"/>
                  </a:lnTo>
                  <a:lnTo>
                    <a:pt x="285" y="41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440080" y="4444920"/>
              <a:ext cx="253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C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707920" y="44449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170240" y="3630600"/>
              <a:ext cx="500040" cy="32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757760" y="3741840"/>
              <a:ext cx="770040" cy="247680"/>
            </a:xfrm>
            <a:custGeom>
              <a:avLst/>
              <a:gdLst/>
              <a:ahLst/>
              <a:rect l="l" t="t" r="r" b="b"/>
              <a:pathLst>
                <a:path w="485" h="313">
                  <a:moveTo>
                    <a:pt x="481" y="313"/>
                  </a:moveTo>
                  <a:lnTo>
                    <a:pt x="462" y="299"/>
                  </a:lnTo>
                  <a:lnTo>
                    <a:pt x="461" y="297"/>
                  </a:lnTo>
                  <a:lnTo>
                    <a:pt x="461" y="295"/>
                  </a:lnTo>
                  <a:lnTo>
                    <a:pt x="461" y="293"/>
                  </a:lnTo>
                  <a:lnTo>
                    <a:pt x="461" y="292"/>
                  </a:lnTo>
                  <a:lnTo>
                    <a:pt x="461" y="290"/>
                  </a:lnTo>
                  <a:lnTo>
                    <a:pt x="462" y="288"/>
                  </a:lnTo>
                  <a:lnTo>
                    <a:pt x="464" y="288"/>
                  </a:lnTo>
                  <a:lnTo>
                    <a:pt x="465" y="288"/>
                  </a:lnTo>
                  <a:lnTo>
                    <a:pt x="483" y="303"/>
                  </a:lnTo>
                  <a:lnTo>
                    <a:pt x="484" y="303"/>
                  </a:lnTo>
                  <a:lnTo>
                    <a:pt x="485" y="305"/>
                  </a:lnTo>
                  <a:lnTo>
                    <a:pt x="485" y="309"/>
                  </a:lnTo>
                  <a:lnTo>
                    <a:pt x="485" y="311"/>
                  </a:lnTo>
                  <a:lnTo>
                    <a:pt x="484" y="313"/>
                  </a:lnTo>
                  <a:lnTo>
                    <a:pt x="483" y="313"/>
                  </a:lnTo>
                  <a:lnTo>
                    <a:pt x="482" y="313"/>
                  </a:lnTo>
                  <a:lnTo>
                    <a:pt x="481" y="313"/>
                  </a:lnTo>
                  <a:lnTo>
                    <a:pt x="481" y="313"/>
                  </a:lnTo>
                  <a:close/>
                  <a:moveTo>
                    <a:pt x="439" y="280"/>
                  </a:moveTo>
                  <a:lnTo>
                    <a:pt x="421" y="267"/>
                  </a:lnTo>
                  <a:lnTo>
                    <a:pt x="420" y="265"/>
                  </a:lnTo>
                  <a:lnTo>
                    <a:pt x="419" y="263"/>
                  </a:lnTo>
                  <a:lnTo>
                    <a:pt x="419" y="261"/>
                  </a:lnTo>
                  <a:lnTo>
                    <a:pt x="419" y="259"/>
                  </a:lnTo>
                  <a:lnTo>
                    <a:pt x="420" y="257"/>
                  </a:lnTo>
                  <a:lnTo>
                    <a:pt x="421" y="255"/>
                  </a:lnTo>
                  <a:lnTo>
                    <a:pt x="422" y="255"/>
                  </a:lnTo>
                  <a:lnTo>
                    <a:pt x="423" y="255"/>
                  </a:lnTo>
                  <a:lnTo>
                    <a:pt x="442" y="270"/>
                  </a:lnTo>
                  <a:lnTo>
                    <a:pt x="443" y="270"/>
                  </a:lnTo>
                  <a:lnTo>
                    <a:pt x="443" y="272"/>
                  </a:lnTo>
                  <a:lnTo>
                    <a:pt x="443" y="276"/>
                  </a:lnTo>
                  <a:lnTo>
                    <a:pt x="443" y="278"/>
                  </a:lnTo>
                  <a:lnTo>
                    <a:pt x="443" y="280"/>
                  </a:lnTo>
                  <a:lnTo>
                    <a:pt x="442" y="280"/>
                  </a:lnTo>
                  <a:lnTo>
                    <a:pt x="440" y="280"/>
                  </a:lnTo>
                  <a:lnTo>
                    <a:pt x="439" y="280"/>
                  </a:lnTo>
                  <a:lnTo>
                    <a:pt x="439" y="280"/>
                  </a:lnTo>
                  <a:close/>
                  <a:moveTo>
                    <a:pt x="398" y="247"/>
                  </a:moveTo>
                  <a:lnTo>
                    <a:pt x="381" y="234"/>
                  </a:lnTo>
                  <a:lnTo>
                    <a:pt x="380" y="232"/>
                  </a:lnTo>
                  <a:lnTo>
                    <a:pt x="379" y="230"/>
                  </a:lnTo>
                  <a:lnTo>
                    <a:pt x="379" y="228"/>
                  </a:lnTo>
                  <a:lnTo>
                    <a:pt x="379" y="226"/>
                  </a:lnTo>
                  <a:lnTo>
                    <a:pt x="380" y="224"/>
                  </a:lnTo>
                  <a:lnTo>
                    <a:pt x="381" y="223"/>
                  </a:lnTo>
                  <a:lnTo>
                    <a:pt x="382" y="223"/>
                  </a:lnTo>
                  <a:lnTo>
                    <a:pt x="383" y="223"/>
                  </a:lnTo>
                  <a:lnTo>
                    <a:pt x="400" y="238"/>
                  </a:lnTo>
                  <a:lnTo>
                    <a:pt x="401" y="238"/>
                  </a:lnTo>
                  <a:lnTo>
                    <a:pt x="402" y="240"/>
                  </a:lnTo>
                  <a:lnTo>
                    <a:pt x="402" y="244"/>
                  </a:lnTo>
                  <a:lnTo>
                    <a:pt x="402" y="246"/>
                  </a:lnTo>
                  <a:lnTo>
                    <a:pt x="401" y="247"/>
                  </a:lnTo>
                  <a:lnTo>
                    <a:pt x="400" y="247"/>
                  </a:lnTo>
                  <a:lnTo>
                    <a:pt x="399" y="247"/>
                  </a:lnTo>
                  <a:lnTo>
                    <a:pt x="398" y="247"/>
                  </a:lnTo>
                  <a:lnTo>
                    <a:pt x="398" y="247"/>
                  </a:lnTo>
                  <a:close/>
                  <a:moveTo>
                    <a:pt x="357" y="215"/>
                  </a:moveTo>
                  <a:lnTo>
                    <a:pt x="339" y="201"/>
                  </a:lnTo>
                  <a:lnTo>
                    <a:pt x="338" y="199"/>
                  </a:lnTo>
                  <a:lnTo>
                    <a:pt x="338" y="198"/>
                  </a:lnTo>
                  <a:lnTo>
                    <a:pt x="338" y="196"/>
                  </a:lnTo>
                  <a:lnTo>
                    <a:pt x="338" y="194"/>
                  </a:lnTo>
                  <a:lnTo>
                    <a:pt x="338" y="192"/>
                  </a:lnTo>
                  <a:lnTo>
                    <a:pt x="339" y="190"/>
                  </a:lnTo>
                  <a:lnTo>
                    <a:pt x="341" y="190"/>
                  </a:lnTo>
                  <a:lnTo>
                    <a:pt x="342" y="190"/>
                  </a:lnTo>
                  <a:lnTo>
                    <a:pt x="359" y="205"/>
                  </a:lnTo>
                  <a:lnTo>
                    <a:pt x="360" y="205"/>
                  </a:lnTo>
                  <a:lnTo>
                    <a:pt x="361" y="207"/>
                  </a:lnTo>
                  <a:lnTo>
                    <a:pt x="361" y="211"/>
                  </a:lnTo>
                  <a:lnTo>
                    <a:pt x="361" y="213"/>
                  </a:lnTo>
                  <a:lnTo>
                    <a:pt x="360" y="215"/>
                  </a:lnTo>
                  <a:lnTo>
                    <a:pt x="359" y="215"/>
                  </a:lnTo>
                  <a:lnTo>
                    <a:pt x="358" y="215"/>
                  </a:lnTo>
                  <a:lnTo>
                    <a:pt x="357" y="215"/>
                  </a:lnTo>
                  <a:lnTo>
                    <a:pt x="357" y="215"/>
                  </a:lnTo>
                  <a:close/>
                  <a:moveTo>
                    <a:pt x="315" y="182"/>
                  </a:moveTo>
                  <a:lnTo>
                    <a:pt x="298" y="169"/>
                  </a:lnTo>
                  <a:lnTo>
                    <a:pt x="297" y="165"/>
                  </a:lnTo>
                  <a:lnTo>
                    <a:pt x="296" y="163"/>
                  </a:lnTo>
                  <a:lnTo>
                    <a:pt x="296" y="161"/>
                  </a:lnTo>
                  <a:lnTo>
                    <a:pt x="297" y="159"/>
                  </a:lnTo>
                  <a:lnTo>
                    <a:pt x="298" y="157"/>
                  </a:lnTo>
                  <a:lnTo>
                    <a:pt x="300" y="157"/>
                  </a:lnTo>
                  <a:lnTo>
                    <a:pt x="301" y="157"/>
                  </a:lnTo>
                  <a:lnTo>
                    <a:pt x="318" y="173"/>
                  </a:lnTo>
                  <a:lnTo>
                    <a:pt x="319" y="173"/>
                  </a:lnTo>
                  <a:lnTo>
                    <a:pt x="319" y="175"/>
                  </a:lnTo>
                  <a:lnTo>
                    <a:pt x="319" y="178"/>
                  </a:lnTo>
                  <a:lnTo>
                    <a:pt x="319" y="180"/>
                  </a:lnTo>
                  <a:lnTo>
                    <a:pt x="319" y="182"/>
                  </a:lnTo>
                  <a:lnTo>
                    <a:pt x="318" y="182"/>
                  </a:lnTo>
                  <a:lnTo>
                    <a:pt x="316" y="182"/>
                  </a:lnTo>
                  <a:lnTo>
                    <a:pt x="315" y="182"/>
                  </a:lnTo>
                  <a:lnTo>
                    <a:pt x="315" y="182"/>
                  </a:lnTo>
                  <a:close/>
                  <a:moveTo>
                    <a:pt x="274" y="150"/>
                  </a:moveTo>
                  <a:lnTo>
                    <a:pt x="257" y="136"/>
                  </a:lnTo>
                  <a:lnTo>
                    <a:pt x="256" y="134"/>
                  </a:lnTo>
                  <a:lnTo>
                    <a:pt x="255" y="132"/>
                  </a:lnTo>
                  <a:lnTo>
                    <a:pt x="255" y="130"/>
                  </a:lnTo>
                  <a:lnTo>
                    <a:pt x="255" y="129"/>
                  </a:lnTo>
                  <a:lnTo>
                    <a:pt x="256" y="127"/>
                  </a:lnTo>
                  <a:lnTo>
                    <a:pt x="257" y="125"/>
                  </a:lnTo>
                  <a:lnTo>
                    <a:pt x="258" y="125"/>
                  </a:lnTo>
                  <a:lnTo>
                    <a:pt x="259" y="125"/>
                  </a:lnTo>
                  <a:lnTo>
                    <a:pt x="276" y="140"/>
                  </a:lnTo>
                  <a:lnTo>
                    <a:pt x="278" y="140"/>
                  </a:lnTo>
                  <a:lnTo>
                    <a:pt x="279" y="142"/>
                  </a:lnTo>
                  <a:lnTo>
                    <a:pt x="279" y="146"/>
                  </a:lnTo>
                  <a:lnTo>
                    <a:pt x="279" y="148"/>
                  </a:lnTo>
                  <a:lnTo>
                    <a:pt x="278" y="150"/>
                  </a:lnTo>
                  <a:lnTo>
                    <a:pt x="276" y="150"/>
                  </a:lnTo>
                  <a:lnTo>
                    <a:pt x="275" y="150"/>
                  </a:lnTo>
                  <a:lnTo>
                    <a:pt x="274" y="150"/>
                  </a:lnTo>
                  <a:lnTo>
                    <a:pt x="274" y="150"/>
                  </a:lnTo>
                  <a:close/>
                  <a:moveTo>
                    <a:pt x="234" y="117"/>
                  </a:moveTo>
                  <a:lnTo>
                    <a:pt x="215" y="104"/>
                  </a:lnTo>
                  <a:lnTo>
                    <a:pt x="214" y="102"/>
                  </a:lnTo>
                  <a:lnTo>
                    <a:pt x="214" y="100"/>
                  </a:lnTo>
                  <a:lnTo>
                    <a:pt x="214" y="98"/>
                  </a:lnTo>
                  <a:lnTo>
                    <a:pt x="214" y="96"/>
                  </a:lnTo>
                  <a:lnTo>
                    <a:pt x="214" y="94"/>
                  </a:lnTo>
                  <a:lnTo>
                    <a:pt x="215" y="92"/>
                  </a:lnTo>
                  <a:lnTo>
                    <a:pt x="217" y="92"/>
                  </a:lnTo>
                  <a:lnTo>
                    <a:pt x="218" y="92"/>
                  </a:lnTo>
                  <a:lnTo>
                    <a:pt x="236" y="107"/>
                  </a:lnTo>
                  <a:lnTo>
                    <a:pt x="237" y="107"/>
                  </a:lnTo>
                  <a:lnTo>
                    <a:pt x="238" y="109"/>
                  </a:lnTo>
                  <a:lnTo>
                    <a:pt x="238" y="113"/>
                  </a:lnTo>
                  <a:lnTo>
                    <a:pt x="238" y="115"/>
                  </a:lnTo>
                  <a:lnTo>
                    <a:pt x="237" y="117"/>
                  </a:lnTo>
                  <a:lnTo>
                    <a:pt x="236" y="117"/>
                  </a:lnTo>
                  <a:lnTo>
                    <a:pt x="235" y="117"/>
                  </a:lnTo>
                  <a:lnTo>
                    <a:pt x="234" y="117"/>
                  </a:lnTo>
                  <a:lnTo>
                    <a:pt x="234" y="117"/>
                  </a:lnTo>
                  <a:close/>
                  <a:moveTo>
                    <a:pt x="192" y="84"/>
                  </a:moveTo>
                  <a:lnTo>
                    <a:pt x="174" y="71"/>
                  </a:lnTo>
                  <a:lnTo>
                    <a:pt x="173" y="69"/>
                  </a:lnTo>
                  <a:lnTo>
                    <a:pt x="173" y="67"/>
                  </a:lnTo>
                  <a:lnTo>
                    <a:pt x="173" y="65"/>
                  </a:lnTo>
                  <a:lnTo>
                    <a:pt x="173" y="63"/>
                  </a:lnTo>
                  <a:lnTo>
                    <a:pt x="173" y="61"/>
                  </a:lnTo>
                  <a:lnTo>
                    <a:pt x="174" y="59"/>
                  </a:lnTo>
                  <a:lnTo>
                    <a:pt x="176" y="59"/>
                  </a:lnTo>
                  <a:lnTo>
                    <a:pt x="177" y="59"/>
                  </a:lnTo>
                  <a:lnTo>
                    <a:pt x="195" y="75"/>
                  </a:lnTo>
                  <a:lnTo>
                    <a:pt x="196" y="75"/>
                  </a:lnTo>
                  <a:lnTo>
                    <a:pt x="196" y="77"/>
                  </a:lnTo>
                  <a:lnTo>
                    <a:pt x="197" y="81"/>
                  </a:lnTo>
                  <a:lnTo>
                    <a:pt x="197" y="82"/>
                  </a:lnTo>
                  <a:lnTo>
                    <a:pt x="196" y="84"/>
                  </a:lnTo>
                  <a:lnTo>
                    <a:pt x="195" y="84"/>
                  </a:lnTo>
                  <a:lnTo>
                    <a:pt x="194" y="84"/>
                  </a:lnTo>
                  <a:lnTo>
                    <a:pt x="192" y="84"/>
                  </a:lnTo>
                  <a:lnTo>
                    <a:pt x="192" y="84"/>
                  </a:lnTo>
                  <a:close/>
                  <a:moveTo>
                    <a:pt x="151" y="52"/>
                  </a:moveTo>
                  <a:lnTo>
                    <a:pt x="134" y="38"/>
                  </a:lnTo>
                  <a:lnTo>
                    <a:pt x="133" y="36"/>
                  </a:lnTo>
                  <a:lnTo>
                    <a:pt x="132" y="35"/>
                  </a:lnTo>
                  <a:lnTo>
                    <a:pt x="132" y="33"/>
                  </a:lnTo>
                  <a:lnTo>
                    <a:pt x="132" y="31"/>
                  </a:lnTo>
                  <a:lnTo>
                    <a:pt x="133" y="29"/>
                  </a:lnTo>
                  <a:lnTo>
                    <a:pt x="134" y="27"/>
                  </a:lnTo>
                  <a:lnTo>
                    <a:pt x="135" y="27"/>
                  </a:lnTo>
                  <a:lnTo>
                    <a:pt x="136" y="27"/>
                  </a:lnTo>
                  <a:lnTo>
                    <a:pt x="154" y="42"/>
                  </a:lnTo>
                  <a:lnTo>
                    <a:pt x="155" y="42"/>
                  </a:lnTo>
                  <a:lnTo>
                    <a:pt x="155" y="44"/>
                  </a:lnTo>
                  <a:lnTo>
                    <a:pt x="155" y="48"/>
                  </a:lnTo>
                  <a:lnTo>
                    <a:pt x="155" y="50"/>
                  </a:lnTo>
                  <a:lnTo>
                    <a:pt x="155" y="52"/>
                  </a:lnTo>
                  <a:lnTo>
                    <a:pt x="154" y="52"/>
                  </a:lnTo>
                  <a:lnTo>
                    <a:pt x="152" y="52"/>
                  </a:lnTo>
                  <a:lnTo>
                    <a:pt x="151" y="52"/>
                  </a:lnTo>
                  <a:lnTo>
                    <a:pt x="151" y="52"/>
                  </a:lnTo>
                  <a:close/>
                  <a:moveTo>
                    <a:pt x="110" y="19"/>
                  </a:moveTo>
                  <a:lnTo>
                    <a:pt x="101" y="12"/>
                  </a:lnTo>
                  <a:lnTo>
                    <a:pt x="102" y="13"/>
                  </a:lnTo>
                  <a:lnTo>
                    <a:pt x="93" y="13"/>
                  </a:lnTo>
                  <a:lnTo>
                    <a:pt x="92" y="13"/>
                  </a:lnTo>
                  <a:lnTo>
                    <a:pt x="91" y="12"/>
                  </a:lnTo>
                  <a:lnTo>
                    <a:pt x="90" y="8"/>
                  </a:lnTo>
                  <a:lnTo>
                    <a:pt x="90" y="6"/>
                  </a:lnTo>
                  <a:lnTo>
                    <a:pt x="90" y="4"/>
                  </a:lnTo>
                  <a:lnTo>
                    <a:pt x="91" y="2"/>
                  </a:lnTo>
                  <a:lnTo>
                    <a:pt x="92" y="0"/>
                  </a:lnTo>
                  <a:lnTo>
                    <a:pt x="93" y="0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3" y="2"/>
                  </a:lnTo>
                  <a:lnTo>
                    <a:pt x="112" y="10"/>
                  </a:lnTo>
                  <a:lnTo>
                    <a:pt x="113" y="10"/>
                  </a:lnTo>
                  <a:lnTo>
                    <a:pt x="114" y="12"/>
                  </a:lnTo>
                  <a:lnTo>
                    <a:pt x="114" y="15"/>
                  </a:lnTo>
                  <a:lnTo>
                    <a:pt x="114" y="17"/>
                  </a:lnTo>
                  <a:lnTo>
                    <a:pt x="113" y="19"/>
                  </a:lnTo>
                  <a:lnTo>
                    <a:pt x="112" y="19"/>
                  </a:lnTo>
                  <a:lnTo>
                    <a:pt x="111" y="19"/>
                  </a:lnTo>
                  <a:lnTo>
                    <a:pt x="110" y="19"/>
                  </a:lnTo>
                  <a:lnTo>
                    <a:pt x="110" y="19"/>
                  </a:lnTo>
                  <a:close/>
                  <a:moveTo>
                    <a:pt x="67" y="13"/>
                  </a:moveTo>
                  <a:lnTo>
                    <a:pt x="48" y="13"/>
                  </a:lnTo>
                  <a:lnTo>
                    <a:pt x="47" y="13"/>
                  </a:lnTo>
                  <a:lnTo>
                    <a:pt x="46" y="12"/>
                  </a:lnTo>
                  <a:lnTo>
                    <a:pt x="45" y="8"/>
                  </a:lnTo>
                  <a:lnTo>
                    <a:pt x="45" y="6"/>
                  </a:lnTo>
                  <a:lnTo>
                    <a:pt x="45" y="4"/>
                  </a:lnTo>
                  <a:lnTo>
                    <a:pt x="46" y="2"/>
                  </a:lnTo>
                  <a:lnTo>
                    <a:pt x="47" y="0"/>
                  </a:lnTo>
                  <a:lnTo>
                    <a:pt x="48" y="0"/>
                  </a:lnTo>
                  <a:lnTo>
                    <a:pt x="67" y="0"/>
                  </a:lnTo>
                  <a:lnTo>
                    <a:pt x="68" y="0"/>
                  </a:lnTo>
                  <a:lnTo>
                    <a:pt x="69" y="2"/>
                  </a:lnTo>
                  <a:lnTo>
                    <a:pt x="70" y="4"/>
                  </a:lnTo>
                  <a:lnTo>
                    <a:pt x="70" y="6"/>
                  </a:lnTo>
                  <a:lnTo>
                    <a:pt x="70" y="8"/>
                  </a:lnTo>
                  <a:lnTo>
                    <a:pt x="69" y="12"/>
                  </a:lnTo>
                  <a:lnTo>
                    <a:pt x="68" y="13"/>
                  </a:lnTo>
                  <a:lnTo>
                    <a:pt x="67" y="13"/>
                  </a:lnTo>
                  <a:lnTo>
                    <a:pt x="67" y="13"/>
                  </a:lnTo>
                  <a:close/>
                  <a:moveTo>
                    <a:pt x="22" y="13"/>
                  </a:moveTo>
                  <a:lnTo>
                    <a:pt x="4" y="13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0"/>
                  </a:lnTo>
                  <a:lnTo>
                    <a:pt x="4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4" y="2"/>
                  </a:lnTo>
                  <a:lnTo>
                    <a:pt x="25" y="4"/>
                  </a:lnTo>
                  <a:lnTo>
                    <a:pt x="25" y="6"/>
                  </a:lnTo>
                  <a:lnTo>
                    <a:pt x="25" y="8"/>
                  </a:lnTo>
                  <a:lnTo>
                    <a:pt x="24" y="12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2" y="13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165560" y="3627360"/>
              <a:ext cx="511200" cy="335160"/>
            </a:xfrm>
            <a:custGeom>
              <a:avLst/>
              <a:gdLst/>
              <a:ahLst/>
              <a:rect l="l" t="t" r="r" b="b"/>
              <a:pathLst>
                <a:path w="322" h="422">
                  <a:moveTo>
                    <a:pt x="315" y="405"/>
                  </a:moveTo>
                  <a:lnTo>
                    <a:pt x="315" y="368"/>
                  </a:lnTo>
                  <a:lnTo>
                    <a:pt x="315" y="367"/>
                  </a:lnTo>
                  <a:lnTo>
                    <a:pt x="316" y="365"/>
                  </a:lnTo>
                  <a:lnTo>
                    <a:pt x="317" y="363"/>
                  </a:lnTo>
                  <a:lnTo>
                    <a:pt x="318" y="363"/>
                  </a:lnTo>
                  <a:lnTo>
                    <a:pt x="319" y="363"/>
                  </a:lnTo>
                  <a:lnTo>
                    <a:pt x="321" y="365"/>
                  </a:lnTo>
                  <a:lnTo>
                    <a:pt x="322" y="367"/>
                  </a:lnTo>
                  <a:lnTo>
                    <a:pt x="322" y="368"/>
                  </a:lnTo>
                  <a:lnTo>
                    <a:pt x="322" y="405"/>
                  </a:lnTo>
                  <a:lnTo>
                    <a:pt x="322" y="407"/>
                  </a:lnTo>
                  <a:lnTo>
                    <a:pt x="321" y="409"/>
                  </a:lnTo>
                  <a:lnTo>
                    <a:pt x="319" y="411"/>
                  </a:lnTo>
                  <a:lnTo>
                    <a:pt x="318" y="411"/>
                  </a:lnTo>
                  <a:lnTo>
                    <a:pt x="317" y="411"/>
                  </a:lnTo>
                  <a:lnTo>
                    <a:pt x="316" y="409"/>
                  </a:lnTo>
                  <a:lnTo>
                    <a:pt x="315" y="407"/>
                  </a:lnTo>
                  <a:lnTo>
                    <a:pt x="315" y="405"/>
                  </a:lnTo>
                  <a:lnTo>
                    <a:pt x="315" y="405"/>
                  </a:lnTo>
                  <a:close/>
                  <a:moveTo>
                    <a:pt x="315" y="320"/>
                  </a:moveTo>
                  <a:lnTo>
                    <a:pt x="315" y="284"/>
                  </a:lnTo>
                  <a:lnTo>
                    <a:pt x="315" y="282"/>
                  </a:lnTo>
                  <a:lnTo>
                    <a:pt x="316" y="280"/>
                  </a:lnTo>
                  <a:lnTo>
                    <a:pt x="317" y="278"/>
                  </a:lnTo>
                  <a:lnTo>
                    <a:pt x="318" y="278"/>
                  </a:lnTo>
                  <a:lnTo>
                    <a:pt x="319" y="278"/>
                  </a:lnTo>
                  <a:lnTo>
                    <a:pt x="321" y="280"/>
                  </a:lnTo>
                  <a:lnTo>
                    <a:pt x="322" y="282"/>
                  </a:lnTo>
                  <a:lnTo>
                    <a:pt x="322" y="284"/>
                  </a:lnTo>
                  <a:lnTo>
                    <a:pt x="322" y="320"/>
                  </a:lnTo>
                  <a:lnTo>
                    <a:pt x="322" y="322"/>
                  </a:lnTo>
                  <a:lnTo>
                    <a:pt x="321" y="324"/>
                  </a:lnTo>
                  <a:lnTo>
                    <a:pt x="319" y="326"/>
                  </a:lnTo>
                  <a:lnTo>
                    <a:pt x="318" y="326"/>
                  </a:lnTo>
                  <a:lnTo>
                    <a:pt x="317" y="326"/>
                  </a:lnTo>
                  <a:lnTo>
                    <a:pt x="316" y="324"/>
                  </a:lnTo>
                  <a:lnTo>
                    <a:pt x="315" y="322"/>
                  </a:lnTo>
                  <a:lnTo>
                    <a:pt x="315" y="320"/>
                  </a:lnTo>
                  <a:lnTo>
                    <a:pt x="315" y="320"/>
                  </a:lnTo>
                  <a:close/>
                  <a:moveTo>
                    <a:pt x="315" y="236"/>
                  </a:moveTo>
                  <a:lnTo>
                    <a:pt x="315" y="202"/>
                  </a:lnTo>
                  <a:lnTo>
                    <a:pt x="315" y="200"/>
                  </a:lnTo>
                  <a:lnTo>
                    <a:pt x="316" y="198"/>
                  </a:lnTo>
                  <a:lnTo>
                    <a:pt x="317" y="196"/>
                  </a:lnTo>
                  <a:lnTo>
                    <a:pt x="318" y="196"/>
                  </a:lnTo>
                  <a:lnTo>
                    <a:pt x="319" y="196"/>
                  </a:lnTo>
                  <a:lnTo>
                    <a:pt x="321" y="198"/>
                  </a:lnTo>
                  <a:lnTo>
                    <a:pt x="322" y="200"/>
                  </a:lnTo>
                  <a:lnTo>
                    <a:pt x="322" y="202"/>
                  </a:lnTo>
                  <a:lnTo>
                    <a:pt x="322" y="236"/>
                  </a:lnTo>
                  <a:lnTo>
                    <a:pt x="322" y="238"/>
                  </a:lnTo>
                  <a:lnTo>
                    <a:pt x="321" y="242"/>
                  </a:lnTo>
                  <a:lnTo>
                    <a:pt x="319" y="244"/>
                  </a:lnTo>
                  <a:lnTo>
                    <a:pt x="318" y="244"/>
                  </a:lnTo>
                  <a:lnTo>
                    <a:pt x="317" y="244"/>
                  </a:lnTo>
                  <a:lnTo>
                    <a:pt x="316" y="242"/>
                  </a:lnTo>
                  <a:lnTo>
                    <a:pt x="315" y="238"/>
                  </a:lnTo>
                  <a:lnTo>
                    <a:pt x="315" y="236"/>
                  </a:lnTo>
                  <a:lnTo>
                    <a:pt x="315" y="236"/>
                  </a:lnTo>
                  <a:close/>
                  <a:moveTo>
                    <a:pt x="315" y="154"/>
                  </a:moveTo>
                  <a:lnTo>
                    <a:pt x="315" y="117"/>
                  </a:lnTo>
                  <a:lnTo>
                    <a:pt x="315" y="115"/>
                  </a:lnTo>
                  <a:lnTo>
                    <a:pt x="316" y="113"/>
                  </a:lnTo>
                  <a:lnTo>
                    <a:pt x="317" y="111"/>
                  </a:lnTo>
                  <a:lnTo>
                    <a:pt x="318" y="111"/>
                  </a:lnTo>
                  <a:lnTo>
                    <a:pt x="319" y="111"/>
                  </a:lnTo>
                  <a:lnTo>
                    <a:pt x="321" y="113"/>
                  </a:lnTo>
                  <a:lnTo>
                    <a:pt x="322" y="115"/>
                  </a:lnTo>
                  <a:lnTo>
                    <a:pt x="322" y="117"/>
                  </a:lnTo>
                  <a:lnTo>
                    <a:pt x="322" y="154"/>
                  </a:lnTo>
                  <a:lnTo>
                    <a:pt x="322" y="156"/>
                  </a:lnTo>
                  <a:lnTo>
                    <a:pt x="321" y="157"/>
                  </a:lnTo>
                  <a:lnTo>
                    <a:pt x="319" y="159"/>
                  </a:lnTo>
                  <a:lnTo>
                    <a:pt x="318" y="159"/>
                  </a:lnTo>
                  <a:lnTo>
                    <a:pt x="317" y="159"/>
                  </a:lnTo>
                  <a:lnTo>
                    <a:pt x="316" y="157"/>
                  </a:lnTo>
                  <a:lnTo>
                    <a:pt x="315" y="156"/>
                  </a:lnTo>
                  <a:lnTo>
                    <a:pt x="315" y="154"/>
                  </a:lnTo>
                  <a:lnTo>
                    <a:pt x="315" y="154"/>
                  </a:lnTo>
                  <a:close/>
                  <a:moveTo>
                    <a:pt x="315" y="69"/>
                  </a:moveTo>
                  <a:lnTo>
                    <a:pt x="315" y="33"/>
                  </a:lnTo>
                  <a:lnTo>
                    <a:pt x="315" y="31"/>
                  </a:lnTo>
                  <a:lnTo>
                    <a:pt x="316" y="29"/>
                  </a:lnTo>
                  <a:lnTo>
                    <a:pt x="317" y="27"/>
                  </a:lnTo>
                  <a:lnTo>
                    <a:pt x="318" y="27"/>
                  </a:lnTo>
                  <a:lnTo>
                    <a:pt x="319" y="27"/>
                  </a:lnTo>
                  <a:lnTo>
                    <a:pt x="321" y="29"/>
                  </a:lnTo>
                  <a:lnTo>
                    <a:pt x="322" y="31"/>
                  </a:lnTo>
                  <a:lnTo>
                    <a:pt x="322" y="33"/>
                  </a:lnTo>
                  <a:lnTo>
                    <a:pt x="322" y="69"/>
                  </a:lnTo>
                  <a:lnTo>
                    <a:pt x="322" y="71"/>
                  </a:lnTo>
                  <a:lnTo>
                    <a:pt x="321" y="73"/>
                  </a:lnTo>
                  <a:lnTo>
                    <a:pt x="319" y="75"/>
                  </a:lnTo>
                  <a:lnTo>
                    <a:pt x="318" y="75"/>
                  </a:lnTo>
                  <a:lnTo>
                    <a:pt x="317" y="75"/>
                  </a:lnTo>
                  <a:lnTo>
                    <a:pt x="316" y="73"/>
                  </a:lnTo>
                  <a:lnTo>
                    <a:pt x="315" y="71"/>
                  </a:lnTo>
                  <a:lnTo>
                    <a:pt x="315" y="69"/>
                  </a:lnTo>
                  <a:lnTo>
                    <a:pt x="315" y="69"/>
                  </a:lnTo>
                  <a:close/>
                  <a:moveTo>
                    <a:pt x="307" y="14"/>
                  </a:moveTo>
                  <a:lnTo>
                    <a:pt x="287" y="14"/>
                  </a:lnTo>
                  <a:lnTo>
                    <a:pt x="286" y="14"/>
                  </a:lnTo>
                  <a:lnTo>
                    <a:pt x="285" y="12"/>
                  </a:lnTo>
                  <a:lnTo>
                    <a:pt x="284" y="8"/>
                  </a:lnTo>
                  <a:lnTo>
                    <a:pt x="284" y="6"/>
                  </a:lnTo>
                  <a:lnTo>
                    <a:pt x="284" y="4"/>
                  </a:lnTo>
                  <a:lnTo>
                    <a:pt x="285" y="2"/>
                  </a:lnTo>
                  <a:lnTo>
                    <a:pt x="286" y="0"/>
                  </a:lnTo>
                  <a:lnTo>
                    <a:pt x="287" y="0"/>
                  </a:lnTo>
                  <a:lnTo>
                    <a:pt x="307" y="0"/>
                  </a:lnTo>
                  <a:lnTo>
                    <a:pt x="308" y="0"/>
                  </a:lnTo>
                  <a:lnTo>
                    <a:pt x="309" y="2"/>
                  </a:lnTo>
                  <a:lnTo>
                    <a:pt x="310" y="4"/>
                  </a:lnTo>
                  <a:lnTo>
                    <a:pt x="310" y="6"/>
                  </a:lnTo>
                  <a:lnTo>
                    <a:pt x="310" y="8"/>
                  </a:lnTo>
                  <a:lnTo>
                    <a:pt x="309" y="12"/>
                  </a:lnTo>
                  <a:lnTo>
                    <a:pt x="308" y="14"/>
                  </a:lnTo>
                  <a:lnTo>
                    <a:pt x="307" y="14"/>
                  </a:lnTo>
                  <a:lnTo>
                    <a:pt x="307" y="14"/>
                  </a:lnTo>
                  <a:close/>
                  <a:moveTo>
                    <a:pt x="262" y="14"/>
                  </a:moveTo>
                  <a:lnTo>
                    <a:pt x="243" y="14"/>
                  </a:lnTo>
                  <a:lnTo>
                    <a:pt x="242" y="14"/>
                  </a:lnTo>
                  <a:lnTo>
                    <a:pt x="241" y="12"/>
                  </a:lnTo>
                  <a:lnTo>
                    <a:pt x="240" y="8"/>
                  </a:lnTo>
                  <a:lnTo>
                    <a:pt x="240" y="6"/>
                  </a:lnTo>
                  <a:lnTo>
                    <a:pt x="240" y="4"/>
                  </a:lnTo>
                  <a:lnTo>
                    <a:pt x="241" y="2"/>
                  </a:lnTo>
                  <a:lnTo>
                    <a:pt x="242" y="0"/>
                  </a:lnTo>
                  <a:lnTo>
                    <a:pt x="243" y="0"/>
                  </a:lnTo>
                  <a:lnTo>
                    <a:pt x="262" y="0"/>
                  </a:lnTo>
                  <a:lnTo>
                    <a:pt x="263" y="0"/>
                  </a:lnTo>
                  <a:lnTo>
                    <a:pt x="265" y="2"/>
                  </a:lnTo>
                  <a:lnTo>
                    <a:pt x="266" y="4"/>
                  </a:lnTo>
                  <a:lnTo>
                    <a:pt x="266" y="6"/>
                  </a:lnTo>
                  <a:lnTo>
                    <a:pt x="266" y="8"/>
                  </a:lnTo>
                  <a:lnTo>
                    <a:pt x="265" y="12"/>
                  </a:lnTo>
                  <a:lnTo>
                    <a:pt x="263" y="14"/>
                  </a:lnTo>
                  <a:lnTo>
                    <a:pt x="262" y="14"/>
                  </a:lnTo>
                  <a:lnTo>
                    <a:pt x="262" y="14"/>
                  </a:lnTo>
                  <a:close/>
                  <a:moveTo>
                    <a:pt x="218" y="14"/>
                  </a:moveTo>
                  <a:lnTo>
                    <a:pt x="198" y="14"/>
                  </a:lnTo>
                  <a:lnTo>
                    <a:pt x="197" y="14"/>
                  </a:lnTo>
                  <a:lnTo>
                    <a:pt x="196" y="12"/>
                  </a:lnTo>
                  <a:lnTo>
                    <a:pt x="195" y="8"/>
                  </a:lnTo>
                  <a:lnTo>
                    <a:pt x="195" y="6"/>
                  </a:lnTo>
                  <a:lnTo>
                    <a:pt x="195" y="4"/>
                  </a:lnTo>
                  <a:lnTo>
                    <a:pt x="196" y="2"/>
                  </a:lnTo>
                  <a:lnTo>
                    <a:pt x="197" y="0"/>
                  </a:lnTo>
                  <a:lnTo>
                    <a:pt x="198" y="0"/>
                  </a:lnTo>
                  <a:lnTo>
                    <a:pt x="218" y="0"/>
                  </a:lnTo>
                  <a:lnTo>
                    <a:pt x="219" y="0"/>
                  </a:lnTo>
                  <a:lnTo>
                    <a:pt x="220" y="2"/>
                  </a:lnTo>
                  <a:lnTo>
                    <a:pt x="221" y="4"/>
                  </a:lnTo>
                  <a:lnTo>
                    <a:pt x="221" y="6"/>
                  </a:lnTo>
                  <a:lnTo>
                    <a:pt x="221" y="8"/>
                  </a:lnTo>
                  <a:lnTo>
                    <a:pt x="220" y="12"/>
                  </a:lnTo>
                  <a:lnTo>
                    <a:pt x="219" y="14"/>
                  </a:lnTo>
                  <a:lnTo>
                    <a:pt x="218" y="14"/>
                  </a:lnTo>
                  <a:lnTo>
                    <a:pt x="218" y="14"/>
                  </a:lnTo>
                  <a:close/>
                  <a:moveTo>
                    <a:pt x="173" y="14"/>
                  </a:moveTo>
                  <a:lnTo>
                    <a:pt x="154" y="14"/>
                  </a:lnTo>
                  <a:lnTo>
                    <a:pt x="152" y="14"/>
                  </a:lnTo>
                  <a:lnTo>
                    <a:pt x="151" y="12"/>
                  </a:lnTo>
                  <a:lnTo>
                    <a:pt x="150" y="8"/>
                  </a:lnTo>
                  <a:lnTo>
                    <a:pt x="150" y="6"/>
                  </a:lnTo>
                  <a:lnTo>
                    <a:pt x="150" y="4"/>
                  </a:lnTo>
                  <a:lnTo>
                    <a:pt x="151" y="2"/>
                  </a:lnTo>
                  <a:lnTo>
                    <a:pt x="152" y="0"/>
                  </a:lnTo>
                  <a:lnTo>
                    <a:pt x="154" y="0"/>
                  </a:lnTo>
                  <a:lnTo>
                    <a:pt x="173" y="0"/>
                  </a:lnTo>
                  <a:lnTo>
                    <a:pt x="174" y="0"/>
                  </a:lnTo>
                  <a:lnTo>
                    <a:pt x="175" y="2"/>
                  </a:lnTo>
                  <a:lnTo>
                    <a:pt x="176" y="4"/>
                  </a:lnTo>
                  <a:lnTo>
                    <a:pt x="176" y="6"/>
                  </a:lnTo>
                  <a:lnTo>
                    <a:pt x="176" y="8"/>
                  </a:lnTo>
                  <a:lnTo>
                    <a:pt x="175" y="12"/>
                  </a:lnTo>
                  <a:lnTo>
                    <a:pt x="174" y="14"/>
                  </a:lnTo>
                  <a:lnTo>
                    <a:pt x="173" y="14"/>
                  </a:lnTo>
                  <a:lnTo>
                    <a:pt x="173" y="14"/>
                  </a:lnTo>
                  <a:close/>
                  <a:moveTo>
                    <a:pt x="128" y="14"/>
                  </a:moveTo>
                  <a:lnTo>
                    <a:pt x="109" y="14"/>
                  </a:lnTo>
                  <a:lnTo>
                    <a:pt x="108" y="14"/>
                  </a:lnTo>
                  <a:lnTo>
                    <a:pt x="107" y="12"/>
                  </a:lnTo>
                  <a:lnTo>
                    <a:pt x="106" y="8"/>
                  </a:lnTo>
                  <a:lnTo>
                    <a:pt x="106" y="6"/>
                  </a:lnTo>
                  <a:lnTo>
                    <a:pt x="106" y="4"/>
                  </a:lnTo>
                  <a:lnTo>
                    <a:pt x="107" y="2"/>
                  </a:lnTo>
                  <a:lnTo>
                    <a:pt x="108" y="0"/>
                  </a:lnTo>
                  <a:lnTo>
                    <a:pt x="109" y="0"/>
                  </a:lnTo>
                  <a:lnTo>
                    <a:pt x="128" y="0"/>
                  </a:lnTo>
                  <a:lnTo>
                    <a:pt x="129" y="0"/>
                  </a:lnTo>
                  <a:lnTo>
                    <a:pt x="130" y="2"/>
                  </a:lnTo>
                  <a:lnTo>
                    <a:pt x="131" y="4"/>
                  </a:lnTo>
                  <a:lnTo>
                    <a:pt x="131" y="6"/>
                  </a:lnTo>
                  <a:lnTo>
                    <a:pt x="131" y="8"/>
                  </a:lnTo>
                  <a:lnTo>
                    <a:pt x="130" y="12"/>
                  </a:lnTo>
                  <a:lnTo>
                    <a:pt x="129" y="14"/>
                  </a:lnTo>
                  <a:lnTo>
                    <a:pt x="128" y="14"/>
                  </a:lnTo>
                  <a:lnTo>
                    <a:pt x="128" y="14"/>
                  </a:lnTo>
                  <a:close/>
                  <a:moveTo>
                    <a:pt x="83" y="14"/>
                  </a:moveTo>
                  <a:lnTo>
                    <a:pt x="65" y="14"/>
                  </a:lnTo>
                  <a:lnTo>
                    <a:pt x="64" y="14"/>
                  </a:lnTo>
                  <a:lnTo>
                    <a:pt x="63" y="12"/>
                  </a:lnTo>
                  <a:lnTo>
                    <a:pt x="62" y="8"/>
                  </a:lnTo>
                  <a:lnTo>
                    <a:pt x="62" y="6"/>
                  </a:lnTo>
                  <a:lnTo>
                    <a:pt x="62" y="4"/>
                  </a:lnTo>
                  <a:lnTo>
                    <a:pt x="63" y="2"/>
                  </a:lnTo>
                  <a:lnTo>
                    <a:pt x="64" y="0"/>
                  </a:lnTo>
                  <a:lnTo>
                    <a:pt x="65" y="0"/>
                  </a:lnTo>
                  <a:lnTo>
                    <a:pt x="83" y="0"/>
                  </a:lnTo>
                  <a:lnTo>
                    <a:pt x="84" y="0"/>
                  </a:lnTo>
                  <a:lnTo>
                    <a:pt x="86" y="2"/>
                  </a:lnTo>
                  <a:lnTo>
                    <a:pt x="87" y="4"/>
                  </a:lnTo>
                  <a:lnTo>
                    <a:pt x="87" y="6"/>
                  </a:lnTo>
                  <a:lnTo>
                    <a:pt x="87" y="8"/>
                  </a:lnTo>
                  <a:lnTo>
                    <a:pt x="86" y="12"/>
                  </a:lnTo>
                  <a:lnTo>
                    <a:pt x="84" y="14"/>
                  </a:lnTo>
                  <a:lnTo>
                    <a:pt x="83" y="14"/>
                  </a:lnTo>
                  <a:lnTo>
                    <a:pt x="83" y="14"/>
                  </a:lnTo>
                  <a:close/>
                  <a:moveTo>
                    <a:pt x="39" y="14"/>
                  </a:moveTo>
                  <a:lnTo>
                    <a:pt x="20" y="14"/>
                  </a:lnTo>
                  <a:lnTo>
                    <a:pt x="19" y="14"/>
                  </a:lnTo>
                  <a:lnTo>
                    <a:pt x="18" y="12"/>
                  </a:lnTo>
                  <a:lnTo>
                    <a:pt x="17" y="8"/>
                  </a:lnTo>
                  <a:lnTo>
                    <a:pt x="17" y="6"/>
                  </a:lnTo>
                  <a:lnTo>
                    <a:pt x="17" y="4"/>
                  </a:lnTo>
                  <a:lnTo>
                    <a:pt x="18" y="2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40" y="0"/>
                  </a:lnTo>
                  <a:lnTo>
                    <a:pt x="41" y="2"/>
                  </a:lnTo>
                  <a:lnTo>
                    <a:pt x="42" y="4"/>
                  </a:lnTo>
                  <a:lnTo>
                    <a:pt x="42" y="6"/>
                  </a:lnTo>
                  <a:lnTo>
                    <a:pt x="42" y="8"/>
                  </a:lnTo>
                  <a:lnTo>
                    <a:pt x="41" y="12"/>
                  </a:lnTo>
                  <a:lnTo>
                    <a:pt x="40" y="14"/>
                  </a:lnTo>
                  <a:lnTo>
                    <a:pt x="39" y="14"/>
                  </a:lnTo>
                  <a:lnTo>
                    <a:pt x="39" y="14"/>
                  </a:lnTo>
                  <a:close/>
                  <a:moveTo>
                    <a:pt x="7" y="23"/>
                  </a:moveTo>
                  <a:lnTo>
                    <a:pt x="7" y="60"/>
                  </a:lnTo>
                  <a:lnTo>
                    <a:pt x="7" y="62"/>
                  </a:lnTo>
                  <a:lnTo>
                    <a:pt x="6" y="63"/>
                  </a:lnTo>
                  <a:lnTo>
                    <a:pt x="5" y="65"/>
                  </a:lnTo>
                  <a:lnTo>
                    <a:pt x="3" y="65"/>
                  </a:lnTo>
                  <a:lnTo>
                    <a:pt x="2" y="65"/>
                  </a:lnTo>
                  <a:lnTo>
                    <a:pt x="1" y="63"/>
                  </a:lnTo>
                  <a:lnTo>
                    <a:pt x="0" y="62"/>
                  </a:lnTo>
                  <a:lnTo>
                    <a:pt x="0" y="60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1" y="19"/>
                  </a:lnTo>
                  <a:lnTo>
                    <a:pt x="2" y="17"/>
                  </a:lnTo>
                  <a:lnTo>
                    <a:pt x="3" y="17"/>
                  </a:lnTo>
                  <a:lnTo>
                    <a:pt x="5" y="17"/>
                  </a:lnTo>
                  <a:lnTo>
                    <a:pt x="6" y="19"/>
                  </a:lnTo>
                  <a:lnTo>
                    <a:pt x="7" y="21"/>
                  </a:lnTo>
                  <a:lnTo>
                    <a:pt x="7" y="23"/>
                  </a:lnTo>
                  <a:lnTo>
                    <a:pt x="7" y="23"/>
                  </a:lnTo>
                  <a:close/>
                  <a:moveTo>
                    <a:pt x="7" y="108"/>
                  </a:moveTo>
                  <a:lnTo>
                    <a:pt x="7" y="144"/>
                  </a:lnTo>
                  <a:lnTo>
                    <a:pt x="7" y="146"/>
                  </a:lnTo>
                  <a:lnTo>
                    <a:pt x="6" y="148"/>
                  </a:lnTo>
                  <a:lnTo>
                    <a:pt x="5" y="150"/>
                  </a:lnTo>
                  <a:lnTo>
                    <a:pt x="3" y="150"/>
                  </a:lnTo>
                  <a:lnTo>
                    <a:pt x="2" y="150"/>
                  </a:lnTo>
                  <a:lnTo>
                    <a:pt x="1" y="148"/>
                  </a:lnTo>
                  <a:lnTo>
                    <a:pt x="0" y="146"/>
                  </a:lnTo>
                  <a:lnTo>
                    <a:pt x="0" y="144"/>
                  </a:lnTo>
                  <a:lnTo>
                    <a:pt x="0" y="108"/>
                  </a:lnTo>
                  <a:lnTo>
                    <a:pt x="0" y="106"/>
                  </a:lnTo>
                  <a:lnTo>
                    <a:pt x="1" y="104"/>
                  </a:lnTo>
                  <a:lnTo>
                    <a:pt x="2" y="102"/>
                  </a:lnTo>
                  <a:lnTo>
                    <a:pt x="3" y="102"/>
                  </a:lnTo>
                  <a:lnTo>
                    <a:pt x="5" y="102"/>
                  </a:lnTo>
                  <a:lnTo>
                    <a:pt x="6" y="104"/>
                  </a:lnTo>
                  <a:lnTo>
                    <a:pt x="7" y="106"/>
                  </a:lnTo>
                  <a:lnTo>
                    <a:pt x="7" y="108"/>
                  </a:lnTo>
                  <a:lnTo>
                    <a:pt x="7" y="108"/>
                  </a:lnTo>
                  <a:close/>
                  <a:moveTo>
                    <a:pt x="7" y="192"/>
                  </a:moveTo>
                  <a:lnTo>
                    <a:pt x="7" y="226"/>
                  </a:lnTo>
                  <a:lnTo>
                    <a:pt x="7" y="228"/>
                  </a:lnTo>
                  <a:lnTo>
                    <a:pt x="6" y="232"/>
                  </a:lnTo>
                  <a:lnTo>
                    <a:pt x="5" y="234"/>
                  </a:lnTo>
                  <a:lnTo>
                    <a:pt x="3" y="234"/>
                  </a:lnTo>
                  <a:lnTo>
                    <a:pt x="2" y="234"/>
                  </a:lnTo>
                  <a:lnTo>
                    <a:pt x="1" y="232"/>
                  </a:lnTo>
                  <a:lnTo>
                    <a:pt x="0" y="228"/>
                  </a:lnTo>
                  <a:lnTo>
                    <a:pt x="0" y="226"/>
                  </a:lnTo>
                  <a:lnTo>
                    <a:pt x="0" y="192"/>
                  </a:lnTo>
                  <a:lnTo>
                    <a:pt x="0" y="190"/>
                  </a:lnTo>
                  <a:lnTo>
                    <a:pt x="1" y="188"/>
                  </a:lnTo>
                  <a:lnTo>
                    <a:pt x="2" y="186"/>
                  </a:lnTo>
                  <a:lnTo>
                    <a:pt x="3" y="186"/>
                  </a:lnTo>
                  <a:lnTo>
                    <a:pt x="5" y="186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7" y="192"/>
                  </a:lnTo>
                  <a:lnTo>
                    <a:pt x="7" y="192"/>
                  </a:lnTo>
                  <a:close/>
                  <a:moveTo>
                    <a:pt x="7" y="274"/>
                  </a:moveTo>
                  <a:lnTo>
                    <a:pt x="7" y="311"/>
                  </a:lnTo>
                  <a:lnTo>
                    <a:pt x="7" y="313"/>
                  </a:lnTo>
                  <a:lnTo>
                    <a:pt x="6" y="315"/>
                  </a:lnTo>
                  <a:lnTo>
                    <a:pt x="5" y="317"/>
                  </a:lnTo>
                  <a:lnTo>
                    <a:pt x="3" y="317"/>
                  </a:lnTo>
                  <a:lnTo>
                    <a:pt x="2" y="317"/>
                  </a:lnTo>
                  <a:lnTo>
                    <a:pt x="1" y="315"/>
                  </a:lnTo>
                  <a:lnTo>
                    <a:pt x="0" y="313"/>
                  </a:lnTo>
                  <a:lnTo>
                    <a:pt x="0" y="311"/>
                  </a:lnTo>
                  <a:lnTo>
                    <a:pt x="0" y="274"/>
                  </a:lnTo>
                  <a:lnTo>
                    <a:pt x="0" y="273"/>
                  </a:lnTo>
                  <a:lnTo>
                    <a:pt x="1" y="271"/>
                  </a:lnTo>
                  <a:lnTo>
                    <a:pt x="2" y="269"/>
                  </a:lnTo>
                  <a:lnTo>
                    <a:pt x="3" y="269"/>
                  </a:lnTo>
                  <a:lnTo>
                    <a:pt x="5" y="269"/>
                  </a:lnTo>
                  <a:lnTo>
                    <a:pt x="6" y="271"/>
                  </a:lnTo>
                  <a:lnTo>
                    <a:pt x="7" y="273"/>
                  </a:lnTo>
                  <a:lnTo>
                    <a:pt x="7" y="274"/>
                  </a:lnTo>
                  <a:lnTo>
                    <a:pt x="7" y="274"/>
                  </a:lnTo>
                  <a:close/>
                  <a:moveTo>
                    <a:pt x="7" y="359"/>
                  </a:moveTo>
                  <a:lnTo>
                    <a:pt x="7" y="395"/>
                  </a:lnTo>
                  <a:lnTo>
                    <a:pt x="7" y="397"/>
                  </a:lnTo>
                  <a:lnTo>
                    <a:pt x="6" y="399"/>
                  </a:lnTo>
                  <a:lnTo>
                    <a:pt x="5" y="401"/>
                  </a:lnTo>
                  <a:lnTo>
                    <a:pt x="3" y="401"/>
                  </a:lnTo>
                  <a:lnTo>
                    <a:pt x="2" y="401"/>
                  </a:lnTo>
                  <a:lnTo>
                    <a:pt x="1" y="399"/>
                  </a:lnTo>
                  <a:lnTo>
                    <a:pt x="0" y="397"/>
                  </a:lnTo>
                  <a:lnTo>
                    <a:pt x="0" y="395"/>
                  </a:lnTo>
                  <a:lnTo>
                    <a:pt x="0" y="359"/>
                  </a:lnTo>
                  <a:lnTo>
                    <a:pt x="0" y="357"/>
                  </a:lnTo>
                  <a:lnTo>
                    <a:pt x="1" y="355"/>
                  </a:lnTo>
                  <a:lnTo>
                    <a:pt x="2" y="353"/>
                  </a:lnTo>
                  <a:lnTo>
                    <a:pt x="3" y="353"/>
                  </a:lnTo>
                  <a:lnTo>
                    <a:pt x="5" y="353"/>
                  </a:lnTo>
                  <a:lnTo>
                    <a:pt x="6" y="355"/>
                  </a:lnTo>
                  <a:lnTo>
                    <a:pt x="7" y="357"/>
                  </a:lnTo>
                  <a:lnTo>
                    <a:pt x="7" y="359"/>
                  </a:lnTo>
                  <a:lnTo>
                    <a:pt x="7" y="359"/>
                  </a:lnTo>
                  <a:close/>
                  <a:moveTo>
                    <a:pt x="17" y="411"/>
                  </a:moveTo>
                  <a:lnTo>
                    <a:pt x="36" y="411"/>
                  </a:lnTo>
                  <a:lnTo>
                    <a:pt x="37" y="411"/>
                  </a:lnTo>
                  <a:lnTo>
                    <a:pt x="38" y="413"/>
                  </a:lnTo>
                  <a:lnTo>
                    <a:pt x="39" y="414"/>
                  </a:lnTo>
                  <a:lnTo>
                    <a:pt x="39" y="416"/>
                  </a:lnTo>
                  <a:lnTo>
                    <a:pt x="39" y="418"/>
                  </a:lnTo>
                  <a:lnTo>
                    <a:pt x="38" y="420"/>
                  </a:lnTo>
                  <a:lnTo>
                    <a:pt x="37" y="422"/>
                  </a:lnTo>
                  <a:lnTo>
                    <a:pt x="36" y="422"/>
                  </a:lnTo>
                  <a:lnTo>
                    <a:pt x="17" y="422"/>
                  </a:lnTo>
                  <a:lnTo>
                    <a:pt x="16" y="422"/>
                  </a:lnTo>
                  <a:lnTo>
                    <a:pt x="15" y="420"/>
                  </a:lnTo>
                  <a:lnTo>
                    <a:pt x="14" y="418"/>
                  </a:lnTo>
                  <a:lnTo>
                    <a:pt x="14" y="416"/>
                  </a:lnTo>
                  <a:lnTo>
                    <a:pt x="14" y="414"/>
                  </a:lnTo>
                  <a:lnTo>
                    <a:pt x="15" y="413"/>
                  </a:lnTo>
                  <a:lnTo>
                    <a:pt x="16" y="411"/>
                  </a:lnTo>
                  <a:lnTo>
                    <a:pt x="17" y="411"/>
                  </a:lnTo>
                  <a:lnTo>
                    <a:pt x="17" y="411"/>
                  </a:lnTo>
                  <a:close/>
                  <a:moveTo>
                    <a:pt x="62" y="411"/>
                  </a:moveTo>
                  <a:lnTo>
                    <a:pt x="81" y="411"/>
                  </a:lnTo>
                  <a:lnTo>
                    <a:pt x="82" y="411"/>
                  </a:lnTo>
                  <a:lnTo>
                    <a:pt x="83" y="413"/>
                  </a:lnTo>
                  <a:lnTo>
                    <a:pt x="84" y="414"/>
                  </a:lnTo>
                  <a:lnTo>
                    <a:pt x="84" y="416"/>
                  </a:lnTo>
                  <a:lnTo>
                    <a:pt x="84" y="418"/>
                  </a:lnTo>
                  <a:lnTo>
                    <a:pt x="83" y="420"/>
                  </a:lnTo>
                  <a:lnTo>
                    <a:pt x="82" y="422"/>
                  </a:lnTo>
                  <a:lnTo>
                    <a:pt x="81" y="422"/>
                  </a:lnTo>
                  <a:lnTo>
                    <a:pt x="62" y="422"/>
                  </a:lnTo>
                  <a:lnTo>
                    <a:pt x="61" y="422"/>
                  </a:lnTo>
                  <a:lnTo>
                    <a:pt x="60" y="420"/>
                  </a:lnTo>
                  <a:lnTo>
                    <a:pt x="59" y="418"/>
                  </a:lnTo>
                  <a:lnTo>
                    <a:pt x="59" y="416"/>
                  </a:lnTo>
                  <a:lnTo>
                    <a:pt x="59" y="414"/>
                  </a:lnTo>
                  <a:lnTo>
                    <a:pt x="60" y="413"/>
                  </a:lnTo>
                  <a:lnTo>
                    <a:pt x="61" y="411"/>
                  </a:lnTo>
                  <a:lnTo>
                    <a:pt x="62" y="411"/>
                  </a:lnTo>
                  <a:lnTo>
                    <a:pt x="62" y="411"/>
                  </a:lnTo>
                  <a:close/>
                  <a:moveTo>
                    <a:pt x="107" y="411"/>
                  </a:moveTo>
                  <a:lnTo>
                    <a:pt x="126" y="411"/>
                  </a:lnTo>
                  <a:lnTo>
                    <a:pt x="127" y="411"/>
                  </a:lnTo>
                  <a:lnTo>
                    <a:pt x="128" y="413"/>
                  </a:lnTo>
                  <a:lnTo>
                    <a:pt x="129" y="414"/>
                  </a:lnTo>
                  <a:lnTo>
                    <a:pt x="129" y="416"/>
                  </a:lnTo>
                  <a:lnTo>
                    <a:pt x="129" y="418"/>
                  </a:lnTo>
                  <a:lnTo>
                    <a:pt x="128" y="420"/>
                  </a:lnTo>
                  <a:lnTo>
                    <a:pt x="127" y="422"/>
                  </a:lnTo>
                  <a:lnTo>
                    <a:pt x="126" y="422"/>
                  </a:lnTo>
                  <a:lnTo>
                    <a:pt x="107" y="422"/>
                  </a:lnTo>
                  <a:lnTo>
                    <a:pt x="106" y="422"/>
                  </a:lnTo>
                  <a:lnTo>
                    <a:pt x="105" y="420"/>
                  </a:lnTo>
                  <a:lnTo>
                    <a:pt x="103" y="418"/>
                  </a:lnTo>
                  <a:lnTo>
                    <a:pt x="103" y="416"/>
                  </a:lnTo>
                  <a:lnTo>
                    <a:pt x="103" y="414"/>
                  </a:lnTo>
                  <a:lnTo>
                    <a:pt x="105" y="413"/>
                  </a:lnTo>
                  <a:lnTo>
                    <a:pt x="106" y="411"/>
                  </a:lnTo>
                  <a:lnTo>
                    <a:pt x="107" y="411"/>
                  </a:lnTo>
                  <a:lnTo>
                    <a:pt x="107" y="411"/>
                  </a:lnTo>
                  <a:close/>
                  <a:moveTo>
                    <a:pt x="151" y="411"/>
                  </a:moveTo>
                  <a:lnTo>
                    <a:pt x="170" y="411"/>
                  </a:lnTo>
                  <a:lnTo>
                    <a:pt x="171" y="411"/>
                  </a:lnTo>
                  <a:lnTo>
                    <a:pt x="173" y="413"/>
                  </a:lnTo>
                  <a:lnTo>
                    <a:pt x="174" y="414"/>
                  </a:lnTo>
                  <a:lnTo>
                    <a:pt x="174" y="416"/>
                  </a:lnTo>
                  <a:lnTo>
                    <a:pt x="174" y="418"/>
                  </a:lnTo>
                  <a:lnTo>
                    <a:pt x="173" y="420"/>
                  </a:lnTo>
                  <a:lnTo>
                    <a:pt x="171" y="422"/>
                  </a:lnTo>
                  <a:lnTo>
                    <a:pt x="170" y="422"/>
                  </a:lnTo>
                  <a:lnTo>
                    <a:pt x="151" y="422"/>
                  </a:lnTo>
                  <a:lnTo>
                    <a:pt x="150" y="422"/>
                  </a:lnTo>
                  <a:lnTo>
                    <a:pt x="149" y="420"/>
                  </a:lnTo>
                  <a:lnTo>
                    <a:pt x="148" y="418"/>
                  </a:lnTo>
                  <a:lnTo>
                    <a:pt x="148" y="416"/>
                  </a:lnTo>
                  <a:lnTo>
                    <a:pt x="148" y="414"/>
                  </a:lnTo>
                  <a:lnTo>
                    <a:pt x="149" y="413"/>
                  </a:lnTo>
                  <a:lnTo>
                    <a:pt x="150" y="411"/>
                  </a:lnTo>
                  <a:lnTo>
                    <a:pt x="151" y="411"/>
                  </a:lnTo>
                  <a:lnTo>
                    <a:pt x="151" y="411"/>
                  </a:lnTo>
                  <a:close/>
                  <a:moveTo>
                    <a:pt x="195" y="411"/>
                  </a:moveTo>
                  <a:lnTo>
                    <a:pt x="215" y="411"/>
                  </a:lnTo>
                  <a:lnTo>
                    <a:pt x="216" y="411"/>
                  </a:lnTo>
                  <a:lnTo>
                    <a:pt x="217" y="413"/>
                  </a:lnTo>
                  <a:lnTo>
                    <a:pt x="218" y="414"/>
                  </a:lnTo>
                  <a:lnTo>
                    <a:pt x="218" y="416"/>
                  </a:lnTo>
                  <a:lnTo>
                    <a:pt x="218" y="418"/>
                  </a:lnTo>
                  <a:lnTo>
                    <a:pt x="217" y="420"/>
                  </a:lnTo>
                  <a:lnTo>
                    <a:pt x="216" y="422"/>
                  </a:lnTo>
                  <a:lnTo>
                    <a:pt x="215" y="422"/>
                  </a:lnTo>
                  <a:lnTo>
                    <a:pt x="195" y="422"/>
                  </a:lnTo>
                  <a:lnTo>
                    <a:pt x="194" y="422"/>
                  </a:lnTo>
                  <a:lnTo>
                    <a:pt x="193" y="420"/>
                  </a:lnTo>
                  <a:lnTo>
                    <a:pt x="192" y="418"/>
                  </a:lnTo>
                  <a:lnTo>
                    <a:pt x="192" y="416"/>
                  </a:lnTo>
                  <a:lnTo>
                    <a:pt x="192" y="414"/>
                  </a:lnTo>
                  <a:lnTo>
                    <a:pt x="193" y="413"/>
                  </a:lnTo>
                  <a:lnTo>
                    <a:pt x="194" y="411"/>
                  </a:lnTo>
                  <a:lnTo>
                    <a:pt x="195" y="411"/>
                  </a:lnTo>
                  <a:lnTo>
                    <a:pt x="195" y="411"/>
                  </a:lnTo>
                  <a:close/>
                  <a:moveTo>
                    <a:pt x="240" y="411"/>
                  </a:moveTo>
                  <a:lnTo>
                    <a:pt x="260" y="411"/>
                  </a:lnTo>
                  <a:lnTo>
                    <a:pt x="261" y="411"/>
                  </a:lnTo>
                  <a:lnTo>
                    <a:pt x="262" y="413"/>
                  </a:lnTo>
                  <a:lnTo>
                    <a:pt x="263" y="414"/>
                  </a:lnTo>
                  <a:lnTo>
                    <a:pt x="263" y="416"/>
                  </a:lnTo>
                  <a:lnTo>
                    <a:pt x="263" y="418"/>
                  </a:lnTo>
                  <a:lnTo>
                    <a:pt x="262" y="420"/>
                  </a:lnTo>
                  <a:lnTo>
                    <a:pt x="261" y="422"/>
                  </a:lnTo>
                  <a:lnTo>
                    <a:pt x="260" y="422"/>
                  </a:lnTo>
                  <a:lnTo>
                    <a:pt x="240" y="422"/>
                  </a:lnTo>
                  <a:lnTo>
                    <a:pt x="239" y="422"/>
                  </a:lnTo>
                  <a:lnTo>
                    <a:pt x="238" y="420"/>
                  </a:lnTo>
                  <a:lnTo>
                    <a:pt x="237" y="418"/>
                  </a:lnTo>
                  <a:lnTo>
                    <a:pt x="237" y="416"/>
                  </a:lnTo>
                  <a:lnTo>
                    <a:pt x="237" y="414"/>
                  </a:lnTo>
                  <a:lnTo>
                    <a:pt x="238" y="413"/>
                  </a:lnTo>
                  <a:lnTo>
                    <a:pt x="239" y="411"/>
                  </a:lnTo>
                  <a:lnTo>
                    <a:pt x="240" y="411"/>
                  </a:lnTo>
                  <a:lnTo>
                    <a:pt x="240" y="411"/>
                  </a:lnTo>
                  <a:close/>
                  <a:moveTo>
                    <a:pt x="285" y="411"/>
                  </a:moveTo>
                  <a:lnTo>
                    <a:pt x="305" y="411"/>
                  </a:lnTo>
                  <a:lnTo>
                    <a:pt x="306" y="411"/>
                  </a:lnTo>
                  <a:lnTo>
                    <a:pt x="307" y="413"/>
                  </a:lnTo>
                  <a:lnTo>
                    <a:pt x="308" y="414"/>
                  </a:lnTo>
                  <a:lnTo>
                    <a:pt x="308" y="416"/>
                  </a:lnTo>
                  <a:lnTo>
                    <a:pt x="308" y="418"/>
                  </a:lnTo>
                  <a:lnTo>
                    <a:pt x="307" y="420"/>
                  </a:lnTo>
                  <a:lnTo>
                    <a:pt x="306" y="422"/>
                  </a:lnTo>
                  <a:lnTo>
                    <a:pt x="305" y="422"/>
                  </a:lnTo>
                  <a:lnTo>
                    <a:pt x="285" y="422"/>
                  </a:lnTo>
                  <a:lnTo>
                    <a:pt x="284" y="422"/>
                  </a:lnTo>
                  <a:lnTo>
                    <a:pt x="283" y="420"/>
                  </a:lnTo>
                  <a:lnTo>
                    <a:pt x="282" y="418"/>
                  </a:lnTo>
                  <a:lnTo>
                    <a:pt x="282" y="416"/>
                  </a:lnTo>
                  <a:lnTo>
                    <a:pt x="282" y="414"/>
                  </a:lnTo>
                  <a:lnTo>
                    <a:pt x="283" y="413"/>
                  </a:lnTo>
                  <a:lnTo>
                    <a:pt x="284" y="411"/>
                  </a:lnTo>
                  <a:lnTo>
                    <a:pt x="285" y="411"/>
                  </a:lnTo>
                  <a:lnTo>
                    <a:pt x="285" y="41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286160" y="3684600"/>
              <a:ext cx="253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C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554000" y="36846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900600" y="5332320"/>
              <a:ext cx="885600" cy="289080"/>
            </a:xfrm>
            <a:custGeom>
              <a:avLst/>
              <a:gdLst/>
              <a:ahLst/>
              <a:rect l="l" t="t" r="r" b="b"/>
              <a:pathLst>
                <a:path w="558" h="365">
                  <a:moveTo>
                    <a:pt x="558" y="0"/>
                  </a:moveTo>
                  <a:lnTo>
                    <a:pt x="418" y="365"/>
                  </a:lnTo>
                  <a:lnTo>
                    <a:pt x="140" y="365"/>
                  </a:lnTo>
                  <a:lnTo>
                    <a:pt x="0" y="0"/>
                  </a:lnTo>
                  <a:lnTo>
                    <a:pt x="5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900600" y="5332320"/>
              <a:ext cx="885600" cy="289080"/>
            </a:xfrm>
            <a:custGeom>
              <a:avLst/>
              <a:gdLst/>
              <a:ahLst/>
              <a:rect l="l" t="t" r="r" b="b"/>
              <a:pathLst>
                <a:path w="558" h="365">
                  <a:moveTo>
                    <a:pt x="558" y="0"/>
                  </a:moveTo>
                  <a:lnTo>
                    <a:pt x="418" y="365"/>
                  </a:lnTo>
                  <a:lnTo>
                    <a:pt x="140" y="365"/>
                  </a:lnTo>
                  <a:lnTo>
                    <a:pt x="0" y="0"/>
                  </a:lnTo>
                  <a:lnTo>
                    <a:pt x="558" y="0"/>
                  </a:lnTo>
                  <a:close/>
                </a:path>
              </a:pathLst>
            </a:custGeom>
            <a:solidFill>
              <a:srgbClr val="0033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27120" y="3556080"/>
              <a:ext cx="8165880" cy="9360"/>
            </a:xfrm>
            <a:custGeom>
              <a:avLst/>
              <a:gdLst/>
              <a:ahLst/>
              <a:rect l="l" t="t" r="r" b="b"/>
              <a:pathLst>
                <a:path w="5144" h="13">
                  <a:moveTo>
                    <a:pt x="3" y="0"/>
                  </a:moveTo>
                  <a:lnTo>
                    <a:pt x="21" y="0"/>
                  </a:lnTo>
                  <a:lnTo>
                    <a:pt x="22" y="0"/>
                  </a:lnTo>
                  <a:lnTo>
                    <a:pt x="24" y="2"/>
                  </a:lnTo>
                  <a:lnTo>
                    <a:pt x="25" y="4"/>
                  </a:lnTo>
                  <a:lnTo>
                    <a:pt x="25" y="6"/>
                  </a:lnTo>
                  <a:lnTo>
                    <a:pt x="25" y="8"/>
                  </a:lnTo>
                  <a:lnTo>
                    <a:pt x="24" y="10"/>
                  </a:lnTo>
                  <a:lnTo>
                    <a:pt x="22" y="12"/>
                  </a:lnTo>
                  <a:lnTo>
                    <a:pt x="21" y="12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2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close/>
                  <a:moveTo>
                    <a:pt x="46" y="0"/>
                  </a:moveTo>
                  <a:lnTo>
                    <a:pt x="66" y="0"/>
                  </a:lnTo>
                  <a:lnTo>
                    <a:pt x="67" y="0"/>
                  </a:lnTo>
                  <a:lnTo>
                    <a:pt x="68" y="2"/>
                  </a:lnTo>
                  <a:lnTo>
                    <a:pt x="69" y="4"/>
                  </a:lnTo>
                  <a:lnTo>
                    <a:pt x="69" y="6"/>
                  </a:lnTo>
                  <a:lnTo>
                    <a:pt x="69" y="8"/>
                  </a:lnTo>
                  <a:lnTo>
                    <a:pt x="68" y="10"/>
                  </a:lnTo>
                  <a:lnTo>
                    <a:pt x="67" y="12"/>
                  </a:lnTo>
                  <a:lnTo>
                    <a:pt x="66" y="12"/>
                  </a:lnTo>
                  <a:lnTo>
                    <a:pt x="46" y="12"/>
                  </a:lnTo>
                  <a:lnTo>
                    <a:pt x="45" y="12"/>
                  </a:lnTo>
                  <a:lnTo>
                    <a:pt x="44" y="10"/>
                  </a:lnTo>
                  <a:lnTo>
                    <a:pt x="43" y="8"/>
                  </a:lnTo>
                  <a:lnTo>
                    <a:pt x="43" y="6"/>
                  </a:lnTo>
                  <a:lnTo>
                    <a:pt x="43" y="4"/>
                  </a:lnTo>
                  <a:lnTo>
                    <a:pt x="44" y="2"/>
                  </a:lnTo>
                  <a:lnTo>
                    <a:pt x="45" y="0"/>
                  </a:lnTo>
                  <a:lnTo>
                    <a:pt x="46" y="0"/>
                  </a:lnTo>
                  <a:lnTo>
                    <a:pt x="46" y="0"/>
                  </a:lnTo>
                  <a:close/>
                  <a:moveTo>
                    <a:pt x="91" y="0"/>
                  </a:moveTo>
                  <a:lnTo>
                    <a:pt x="111" y="0"/>
                  </a:lnTo>
                  <a:lnTo>
                    <a:pt x="112" y="0"/>
                  </a:lnTo>
                  <a:lnTo>
                    <a:pt x="113" y="2"/>
                  </a:lnTo>
                  <a:lnTo>
                    <a:pt x="114" y="4"/>
                  </a:lnTo>
                  <a:lnTo>
                    <a:pt x="114" y="6"/>
                  </a:lnTo>
                  <a:lnTo>
                    <a:pt x="114" y="8"/>
                  </a:lnTo>
                  <a:lnTo>
                    <a:pt x="113" y="10"/>
                  </a:lnTo>
                  <a:lnTo>
                    <a:pt x="112" y="12"/>
                  </a:lnTo>
                  <a:lnTo>
                    <a:pt x="111" y="12"/>
                  </a:lnTo>
                  <a:lnTo>
                    <a:pt x="91" y="12"/>
                  </a:lnTo>
                  <a:lnTo>
                    <a:pt x="90" y="12"/>
                  </a:lnTo>
                  <a:lnTo>
                    <a:pt x="89" y="10"/>
                  </a:lnTo>
                  <a:lnTo>
                    <a:pt x="88" y="8"/>
                  </a:lnTo>
                  <a:lnTo>
                    <a:pt x="88" y="6"/>
                  </a:lnTo>
                  <a:lnTo>
                    <a:pt x="88" y="4"/>
                  </a:lnTo>
                  <a:lnTo>
                    <a:pt x="89" y="2"/>
                  </a:lnTo>
                  <a:lnTo>
                    <a:pt x="90" y="0"/>
                  </a:lnTo>
                  <a:lnTo>
                    <a:pt x="91" y="0"/>
                  </a:lnTo>
                  <a:lnTo>
                    <a:pt x="91" y="0"/>
                  </a:lnTo>
                  <a:close/>
                  <a:moveTo>
                    <a:pt x="136" y="0"/>
                  </a:moveTo>
                  <a:lnTo>
                    <a:pt x="156" y="0"/>
                  </a:lnTo>
                  <a:lnTo>
                    <a:pt x="157" y="0"/>
                  </a:lnTo>
                  <a:lnTo>
                    <a:pt x="158" y="2"/>
                  </a:lnTo>
                  <a:lnTo>
                    <a:pt x="159" y="4"/>
                  </a:lnTo>
                  <a:lnTo>
                    <a:pt x="159" y="6"/>
                  </a:lnTo>
                  <a:lnTo>
                    <a:pt x="159" y="8"/>
                  </a:lnTo>
                  <a:lnTo>
                    <a:pt x="158" y="10"/>
                  </a:lnTo>
                  <a:lnTo>
                    <a:pt x="157" y="12"/>
                  </a:lnTo>
                  <a:lnTo>
                    <a:pt x="156" y="12"/>
                  </a:lnTo>
                  <a:lnTo>
                    <a:pt x="136" y="12"/>
                  </a:lnTo>
                  <a:lnTo>
                    <a:pt x="135" y="12"/>
                  </a:lnTo>
                  <a:lnTo>
                    <a:pt x="134" y="10"/>
                  </a:lnTo>
                  <a:lnTo>
                    <a:pt x="133" y="8"/>
                  </a:lnTo>
                  <a:lnTo>
                    <a:pt x="133" y="6"/>
                  </a:lnTo>
                  <a:lnTo>
                    <a:pt x="133" y="4"/>
                  </a:lnTo>
                  <a:lnTo>
                    <a:pt x="134" y="2"/>
                  </a:lnTo>
                  <a:lnTo>
                    <a:pt x="135" y="0"/>
                  </a:lnTo>
                  <a:lnTo>
                    <a:pt x="136" y="0"/>
                  </a:lnTo>
                  <a:lnTo>
                    <a:pt x="136" y="0"/>
                  </a:lnTo>
                  <a:close/>
                  <a:moveTo>
                    <a:pt x="181" y="0"/>
                  </a:moveTo>
                  <a:lnTo>
                    <a:pt x="200" y="0"/>
                  </a:lnTo>
                  <a:lnTo>
                    <a:pt x="201" y="0"/>
                  </a:lnTo>
                  <a:lnTo>
                    <a:pt x="203" y="2"/>
                  </a:lnTo>
                  <a:lnTo>
                    <a:pt x="204" y="4"/>
                  </a:lnTo>
                  <a:lnTo>
                    <a:pt x="204" y="6"/>
                  </a:lnTo>
                  <a:lnTo>
                    <a:pt x="204" y="8"/>
                  </a:lnTo>
                  <a:lnTo>
                    <a:pt x="203" y="10"/>
                  </a:lnTo>
                  <a:lnTo>
                    <a:pt x="201" y="12"/>
                  </a:lnTo>
                  <a:lnTo>
                    <a:pt x="200" y="12"/>
                  </a:lnTo>
                  <a:lnTo>
                    <a:pt x="181" y="12"/>
                  </a:lnTo>
                  <a:lnTo>
                    <a:pt x="180" y="12"/>
                  </a:lnTo>
                  <a:lnTo>
                    <a:pt x="179" y="10"/>
                  </a:lnTo>
                  <a:lnTo>
                    <a:pt x="178" y="8"/>
                  </a:lnTo>
                  <a:lnTo>
                    <a:pt x="178" y="6"/>
                  </a:lnTo>
                  <a:lnTo>
                    <a:pt x="178" y="4"/>
                  </a:lnTo>
                  <a:lnTo>
                    <a:pt x="179" y="2"/>
                  </a:lnTo>
                  <a:lnTo>
                    <a:pt x="180" y="0"/>
                  </a:lnTo>
                  <a:lnTo>
                    <a:pt x="181" y="0"/>
                  </a:lnTo>
                  <a:lnTo>
                    <a:pt x="181" y="0"/>
                  </a:lnTo>
                  <a:close/>
                  <a:moveTo>
                    <a:pt x="225" y="0"/>
                  </a:moveTo>
                  <a:lnTo>
                    <a:pt x="244" y="0"/>
                  </a:lnTo>
                  <a:lnTo>
                    <a:pt x="245" y="0"/>
                  </a:lnTo>
                  <a:lnTo>
                    <a:pt x="247" y="2"/>
                  </a:lnTo>
                  <a:lnTo>
                    <a:pt x="248" y="4"/>
                  </a:lnTo>
                  <a:lnTo>
                    <a:pt x="248" y="6"/>
                  </a:lnTo>
                  <a:lnTo>
                    <a:pt x="248" y="8"/>
                  </a:lnTo>
                  <a:lnTo>
                    <a:pt x="247" y="10"/>
                  </a:lnTo>
                  <a:lnTo>
                    <a:pt x="245" y="12"/>
                  </a:lnTo>
                  <a:lnTo>
                    <a:pt x="244" y="12"/>
                  </a:lnTo>
                  <a:lnTo>
                    <a:pt x="225" y="12"/>
                  </a:lnTo>
                  <a:lnTo>
                    <a:pt x="224" y="12"/>
                  </a:lnTo>
                  <a:lnTo>
                    <a:pt x="223" y="10"/>
                  </a:lnTo>
                  <a:lnTo>
                    <a:pt x="222" y="8"/>
                  </a:lnTo>
                  <a:lnTo>
                    <a:pt x="222" y="6"/>
                  </a:lnTo>
                  <a:lnTo>
                    <a:pt x="222" y="4"/>
                  </a:lnTo>
                  <a:lnTo>
                    <a:pt x="223" y="2"/>
                  </a:lnTo>
                  <a:lnTo>
                    <a:pt x="224" y="0"/>
                  </a:lnTo>
                  <a:lnTo>
                    <a:pt x="225" y="0"/>
                  </a:lnTo>
                  <a:lnTo>
                    <a:pt x="225" y="0"/>
                  </a:lnTo>
                  <a:close/>
                  <a:moveTo>
                    <a:pt x="270" y="0"/>
                  </a:moveTo>
                  <a:lnTo>
                    <a:pt x="289" y="0"/>
                  </a:lnTo>
                  <a:lnTo>
                    <a:pt x="290" y="0"/>
                  </a:lnTo>
                  <a:lnTo>
                    <a:pt x="291" y="2"/>
                  </a:lnTo>
                  <a:lnTo>
                    <a:pt x="292" y="4"/>
                  </a:lnTo>
                  <a:lnTo>
                    <a:pt x="292" y="6"/>
                  </a:lnTo>
                  <a:lnTo>
                    <a:pt x="292" y="8"/>
                  </a:lnTo>
                  <a:lnTo>
                    <a:pt x="291" y="10"/>
                  </a:lnTo>
                  <a:lnTo>
                    <a:pt x="290" y="12"/>
                  </a:lnTo>
                  <a:lnTo>
                    <a:pt x="289" y="12"/>
                  </a:lnTo>
                  <a:lnTo>
                    <a:pt x="270" y="12"/>
                  </a:lnTo>
                  <a:lnTo>
                    <a:pt x="269" y="12"/>
                  </a:lnTo>
                  <a:lnTo>
                    <a:pt x="268" y="10"/>
                  </a:lnTo>
                  <a:lnTo>
                    <a:pt x="267" y="8"/>
                  </a:lnTo>
                  <a:lnTo>
                    <a:pt x="267" y="6"/>
                  </a:lnTo>
                  <a:lnTo>
                    <a:pt x="267" y="4"/>
                  </a:lnTo>
                  <a:lnTo>
                    <a:pt x="268" y="2"/>
                  </a:lnTo>
                  <a:lnTo>
                    <a:pt x="269" y="0"/>
                  </a:lnTo>
                  <a:lnTo>
                    <a:pt x="270" y="0"/>
                  </a:lnTo>
                  <a:lnTo>
                    <a:pt x="270" y="0"/>
                  </a:lnTo>
                  <a:close/>
                  <a:moveTo>
                    <a:pt x="315" y="0"/>
                  </a:moveTo>
                  <a:lnTo>
                    <a:pt x="334" y="0"/>
                  </a:lnTo>
                  <a:lnTo>
                    <a:pt x="335" y="0"/>
                  </a:lnTo>
                  <a:lnTo>
                    <a:pt x="336" y="2"/>
                  </a:lnTo>
                  <a:lnTo>
                    <a:pt x="337" y="4"/>
                  </a:lnTo>
                  <a:lnTo>
                    <a:pt x="337" y="6"/>
                  </a:lnTo>
                  <a:lnTo>
                    <a:pt x="337" y="8"/>
                  </a:lnTo>
                  <a:lnTo>
                    <a:pt x="336" y="10"/>
                  </a:lnTo>
                  <a:lnTo>
                    <a:pt x="335" y="12"/>
                  </a:lnTo>
                  <a:lnTo>
                    <a:pt x="334" y="12"/>
                  </a:lnTo>
                  <a:lnTo>
                    <a:pt x="315" y="12"/>
                  </a:lnTo>
                  <a:lnTo>
                    <a:pt x="314" y="12"/>
                  </a:lnTo>
                  <a:lnTo>
                    <a:pt x="313" y="10"/>
                  </a:lnTo>
                  <a:lnTo>
                    <a:pt x="312" y="8"/>
                  </a:lnTo>
                  <a:lnTo>
                    <a:pt x="312" y="6"/>
                  </a:lnTo>
                  <a:lnTo>
                    <a:pt x="312" y="4"/>
                  </a:lnTo>
                  <a:lnTo>
                    <a:pt x="313" y="2"/>
                  </a:lnTo>
                  <a:lnTo>
                    <a:pt x="314" y="0"/>
                  </a:lnTo>
                  <a:lnTo>
                    <a:pt x="315" y="0"/>
                  </a:lnTo>
                  <a:lnTo>
                    <a:pt x="315" y="0"/>
                  </a:lnTo>
                  <a:close/>
                  <a:moveTo>
                    <a:pt x="360" y="0"/>
                  </a:moveTo>
                  <a:lnTo>
                    <a:pt x="378" y="0"/>
                  </a:lnTo>
                  <a:lnTo>
                    <a:pt x="379" y="0"/>
                  </a:lnTo>
                  <a:lnTo>
                    <a:pt x="381" y="2"/>
                  </a:lnTo>
                  <a:lnTo>
                    <a:pt x="382" y="4"/>
                  </a:lnTo>
                  <a:lnTo>
                    <a:pt x="382" y="6"/>
                  </a:lnTo>
                  <a:lnTo>
                    <a:pt x="382" y="8"/>
                  </a:lnTo>
                  <a:lnTo>
                    <a:pt x="381" y="10"/>
                  </a:lnTo>
                  <a:lnTo>
                    <a:pt x="379" y="12"/>
                  </a:lnTo>
                  <a:lnTo>
                    <a:pt x="378" y="12"/>
                  </a:lnTo>
                  <a:lnTo>
                    <a:pt x="360" y="12"/>
                  </a:lnTo>
                  <a:lnTo>
                    <a:pt x="359" y="12"/>
                  </a:lnTo>
                  <a:lnTo>
                    <a:pt x="358" y="10"/>
                  </a:lnTo>
                  <a:lnTo>
                    <a:pt x="357" y="8"/>
                  </a:lnTo>
                  <a:lnTo>
                    <a:pt x="357" y="6"/>
                  </a:lnTo>
                  <a:lnTo>
                    <a:pt x="357" y="4"/>
                  </a:lnTo>
                  <a:lnTo>
                    <a:pt x="358" y="2"/>
                  </a:lnTo>
                  <a:lnTo>
                    <a:pt x="359" y="0"/>
                  </a:lnTo>
                  <a:lnTo>
                    <a:pt x="360" y="0"/>
                  </a:lnTo>
                  <a:lnTo>
                    <a:pt x="360" y="0"/>
                  </a:lnTo>
                  <a:close/>
                  <a:moveTo>
                    <a:pt x="404" y="0"/>
                  </a:moveTo>
                  <a:lnTo>
                    <a:pt x="423" y="0"/>
                  </a:lnTo>
                  <a:lnTo>
                    <a:pt x="424" y="0"/>
                  </a:lnTo>
                  <a:lnTo>
                    <a:pt x="425" y="2"/>
                  </a:lnTo>
                  <a:lnTo>
                    <a:pt x="426" y="4"/>
                  </a:lnTo>
                  <a:lnTo>
                    <a:pt x="426" y="6"/>
                  </a:lnTo>
                  <a:lnTo>
                    <a:pt x="426" y="8"/>
                  </a:lnTo>
                  <a:lnTo>
                    <a:pt x="425" y="10"/>
                  </a:lnTo>
                  <a:lnTo>
                    <a:pt x="424" y="12"/>
                  </a:lnTo>
                  <a:lnTo>
                    <a:pt x="423" y="12"/>
                  </a:lnTo>
                  <a:lnTo>
                    <a:pt x="404" y="12"/>
                  </a:lnTo>
                  <a:lnTo>
                    <a:pt x="403" y="12"/>
                  </a:lnTo>
                  <a:lnTo>
                    <a:pt x="402" y="10"/>
                  </a:lnTo>
                  <a:lnTo>
                    <a:pt x="401" y="8"/>
                  </a:lnTo>
                  <a:lnTo>
                    <a:pt x="401" y="6"/>
                  </a:lnTo>
                  <a:lnTo>
                    <a:pt x="401" y="4"/>
                  </a:lnTo>
                  <a:lnTo>
                    <a:pt x="402" y="2"/>
                  </a:lnTo>
                  <a:lnTo>
                    <a:pt x="403" y="0"/>
                  </a:lnTo>
                  <a:lnTo>
                    <a:pt x="404" y="0"/>
                  </a:lnTo>
                  <a:lnTo>
                    <a:pt x="404" y="0"/>
                  </a:lnTo>
                  <a:close/>
                  <a:moveTo>
                    <a:pt x="449" y="0"/>
                  </a:moveTo>
                  <a:lnTo>
                    <a:pt x="468" y="0"/>
                  </a:lnTo>
                  <a:lnTo>
                    <a:pt x="469" y="0"/>
                  </a:lnTo>
                  <a:lnTo>
                    <a:pt x="470" y="2"/>
                  </a:lnTo>
                  <a:lnTo>
                    <a:pt x="471" y="4"/>
                  </a:lnTo>
                  <a:lnTo>
                    <a:pt x="471" y="6"/>
                  </a:lnTo>
                  <a:lnTo>
                    <a:pt x="471" y="8"/>
                  </a:lnTo>
                  <a:lnTo>
                    <a:pt x="470" y="10"/>
                  </a:lnTo>
                  <a:lnTo>
                    <a:pt x="469" y="12"/>
                  </a:lnTo>
                  <a:lnTo>
                    <a:pt x="468" y="12"/>
                  </a:lnTo>
                  <a:lnTo>
                    <a:pt x="449" y="12"/>
                  </a:lnTo>
                  <a:lnTo>
                    <a:pt x="448" y="12"/>
                  </a:lnTo>
                  <a:lnTo>
                    <a:pt x="447" y="10"/>
                  </a:lnTo>
                  <a:lnTo>
                    <a:pt x="446" y="8"/>
                  </a:lnTo>
                  <a:lnTo>
                    <a:pt x="446" y="6"/>
                  </a:lnTo>
                  <a:lnTo>
                    <a:pt x="446" y="4"/>
                  </a:lnTo>
                  <a:lnTo>
                    <a:pt x="447" y="2"/>
                  </a:lnTo>
                  <a:lnTo>
                    <a:pt x="448" y="0"/>
                  </a:lnTo>
                  <a:lnTo>
                    <a:pt x="449" y="0"/>
                  </a:lnTo>
                  <a:lnTo>
                    <a:pt x="449" y="0"/>
                  </a:lnTo>
                  <a:close/>
                  <a:moveTo>
                    <a:pt x="493" y="0"/>
                  </a:moveTo>
                  <a:lnTo>
                    <a:pt x="513" y="0"/>
                  </a:lnTo>
                  <a:lnTo>
                    <a:pt x="514" y="0"/>
                  </a:lnTo>
                  <a:lnTo>
                    <a:pt x="515" y="2"/>
                  </a:lnTo>
                  <a:lnTo>
                    <a:pt x="516" y="4"/>
                  </a:lnTo>
                  <a:lnTo>
                    <a:pt x="516" y="6"/>
                  </a:lnTo>
                  <a:lnTo>
                    <a:pt x="516" y="8"/>
                  </a:lnTo>
                  <a:lnTo>
                    <a:pt x="515" y="10"/>
                  </a:lnTo>
                  <a:lnTo>
                    <a:pt x="514" y="12"/>
                  </a:lnTo>
                  <a:lnTo>
                    <a:pt x="513" y="12"/>
                  </a:lnTo>
                  <a:lnTo>
                    <a:pt x="493" y="12"/>
                  </a:lnTo>
                  <a:lnTo>
                    <a:pt x="492" y="12"/>
                  </a:lnTo>
                  <a:lnTo>
                    <a:pt x="491" y="10"/>
                  </a:lnTo>
                  <a:lnTo>
                    <a:pt x="490" y="8"/>
                  </a:lnTo>
                  <a:lnTo>
                    <a:pt x="490" y="6"/>
                  </a:lnTo>
                  <a:lnTo>
                    <a:pt x="490" y="4"/>
                  </a:lnTo>
                  <a:lnTo>
                    <a:pt x="491" y="2"/>
                  </a:lnTo>
                  <a:lnTo>
                    <a:pt x="492" y="0"/>
                  </a:lnTo>
                  <a:lnTo>
                    <a:pt x="493" y="0"/>
                  </a:lnTo>
                  <a:lnTo>
                    <a:pt x="493" y="0"/>
                  </a:lnTo>
                  <a:close/>
                  <a:moveTo>
                    <a:pt x="538" y="0"/>
                  </a:moveTo>
                  <a:lnTo>
                    <a:pt x="557" y="0"/>
                  </a:lnTo>
                  <a:lnTo>
                    <a:pt x="558" y="0"/>
                  </a:lnTo>
                  <a:lnTo>
                    <a:pt x="560" y="2"/>
                  </a:lnTo>
                  <a:lnTo>
                    <a:pt x="561" y="4"/>
                  </a:lnTo>
                  <a:lnTo>
                    <a:pt x="561" y="6"/>
                  </a:lnTo>
                  <a:lnTo>
                    <a:pt x="561" y="8"/>
                  </a:lnTo>
                  <a:lnTo>
                    <a:pt x="560" y="10"/>
                  </a:lnTo>
                  <a:lnTo>
                    <a:pt x="558" y="12"/>
                  </a:lnTo>
                  <a:lnTo>
                    <a:pt x="557" y="12"/>
                  </a:lnTo>
                  <a:lnTo>
                    <a:pt x="538" y="12"/>
                  </a:lnTo>
                  <a:lnTo>
                    <a:pt x="537" y="12"/>
                  </a:lnTo>
                  <a:lnTo>
                    <a:pt x="536" y="10"/>
                  </a:lnTo>
                  <a:lnTo>
                    <a:pt x="535" y="8"/>
                  </a:lnTo>
                  <a:lnTo>
                    <a:pt x="535" y="6"/>
                  </a:lnTo>
                  <a:lnTo>
                    <a:pt x="535" y="4"/>
                  </a:lnTo>
                  <a:lnTo>
                    <a:pt x="536" y="2"/>
                  </a:lnTo>
                  <a:lnTo>
                    <a:pt x="537" y="0"/>
                  </a:lnTo>
                  <a:lnTo>
                    <a:pt x="538" y="0"/>
                  </a:lnTo>
                  <a:lnTo>
                    <a:pt x="538" y="0"/>
                  </a:lnTo>
                  <a:close/>
                  <a:moveTo>
                    <a:pt x="582" y="0"/>
                  </a:moveTo>
                  <a:lnTo>
                    <a:pt x="602" y="0"/>
                  </a:lnTo>
                  <a:lnTo>
                    <a:pt x="603" y="0"/>
                  </a:lnTo>
                  <a:lnTo>
                    <a:pt x="604" y="2"/>
                  </a:lnTo>
                  <a:lnTo>
                    <a:pt x="605" y="4"/>
                  </a:lnTo>
                  <a:lnTo>
                    <a:pt x="605" y="6"/>
                  </a:lnTo>
                  <a:lnTo>
                    <a:pt x="605" y="8"/>
                  </a:lnTo>
                  <a:lnTo>
                    <a:pt x="604" y="10"/>
                  </a:lnTo>
                  <a:lnTo>
                    <a:pt x="603" y="12"/>
                  </a:lnTo>
                  <a:lnTo>
                    <a:pt x="602" y="12"/>
                  </a:lnTo>
                  <a:lnTo>
                    <a:pt x="582" y="12"/>
                  </a:lnTo>
                  <a:lnTo>
                    <a:pt x="581" y="12"/>
                  </a:lnTo>
                  <a:lnTo>
                    <a:pt x="580" y="10"/>
                  </a:lnTo>
                  <a:lnTo>
                    <a:pt x="579" y="8"/>
                  </a:lnTo>
                  <a:lnTo>
                    <a:pt x="579" y="6"/>
                  </a:lnTo>
                  <a:lnTo>
                    <a:pt x="579" y="4"/>
                  </a:lnTo>
                  <a:lnTo>
                    <a:pt x="580" y="2"/>
                  </a:lnTo>
                  <a:lnTo>
                    <a:pt x="581" y="0"/>
                  </a:lnTo>
                  <a:lnTo>
                    <a:pt x="582" y="0"/>
                  </a:lnTo>
                  <a:lnTo>
                    <a:pt x="582" y="0"/>
                  </a:lnTo>
                  <a:close/>
                  <a:moveTo>
                    <a:pt x="627" y="0"/>
                  </a:moveTo>
                  <a:lnTo>
                    <a:pt x="647" y="0"/>
                  </a:lnTo>
                  <a:lnTo>
                    <a:pt x="648" y="0"/>
                  </a:lnTo>
                  <a:lnTo>
                    <a:pt x="649" y="2"/>
                  </a:lnTo>
                  <a:lnTo>
                    <a:pt x="650" y="4"/>
                  </a:lnTo>
                  <a:lnTo>
                    <a:pt x="650" y="6"/>
                  </a:lnTo>
                  <a:lnTo>
                    <a:pt x="650" y="8"/>
                  </a:lnTo>
                  <a:lnTo>
                    <a:pt x="649" y="10"/>
                  </a:lnTo>
                  <a:lnTo>
                    <a:pt x="648" y="12"/>
                  </a:lnTo>
                  <a:lnTo>
                    <a:pt x="647" y="12"/>
                  </a:lnTo>
                  <a:lnTo>
                    <a:pt x="627" y="12"/>
                  </a:lnTo>
                  <a:lnTo>
                    <a:pt x="626" y="12"/>
                  </a:lnTo>
                  <a:lnTo>
                    <a:pt x="625" y="10"/>
                  </a:lnTo>
                  <a:lnTo>
                    <a:pt x="624" y="8"/>
                  </a:lnTo>
                  <a:lnTo>
                    <a:pt x="624" y="6"/>
                  </a:lnTo>
                  <a:lnTo>
                    <a:pt x="624" y="4"/>
                  </a:lnTo>
                  <a:lnTo>
                    <a:pt x="625" y="2"/>
                  </a:lnTo>
                  <a:lnTo>
                    <a:pt x="626" y="0"/>
                  </a:lnTo>
                  <a:lnTo>
                    <a:pt x="627" y="0"/>
                  </a:lnTo>
                  <a:lnTo>
                    <a:pt x="627" y="0"/>
                  </a:lnTo>
                  <a:close/>
                  <a:moveTo>
                    <a:pt x="672" y="0"/>
                  </a:moveTo>
                  <a:lnTo>
                    <a:pt x="691" y="0"/>
                  </a:lnTo>
                  <a:lnTo>
                    <a:pt x="692" y="0"/>
                  </a:lnTo>
                  <a:lnTo>
                    <a:pt x="694" y="2"/>
                  </a:lnTo>
                  <a:lnTo>
                    <a:pt x="695" y="4"/>
                  </a:lnTo>
                  <a:lnTo>
                    <a:pt x="695" y="6"/>
                  </a:lnTo>
                  <a:lnTo>
                    <a:pt x="695" y="8"/>
                  </a:lnTo>
                  <a:lnTo>
                    <a:pt x="694" y="10"/>
                  </a:lnTo>
                  <a:lnTo>
                    <a:pt x="692" y="12"/>
                  </a:lnTo>
                  <a:lnTo>
                    <a:pt x="691" y="12"/>
                  </a:lnTo>
                  <a:lnTo>
                    <a:pt x="672" y="12"/>
                  </a:lnTo>
                  <a:lnTo>
                    <a:pt x="671" y="12"/>
                  </a:lnTo>
                  <a:lnTo>
                    <a:pt x="670" y="10"/>
                  </a:lnTo>
                  <a:lnTo>
                    <a:pt x="669" y="8"/>
                  </a:lnTo>
                  <a:lnTo>
                    <a:pt x="669" y="6"/>
                  </a:lnTo>
                  <a:lnTo>
                    <a:pt x="669" y="4"/>
                  </a:lnTo>
                  <a:lnTo>
                    <a:pt x="670" y="2"/>
                  </a:lnTo>
                  <a:lnTo>
                    <a:pt x="671" y="0"/>
                  </a:lnTo>
                  <a:lnTo>
                    <a:pt x="672" y="0"/>
                  </a:lnTo>
                  <a:lnTo>
                    <a:pt x="672" y="0"/>
                  </a:lnTo>
                  <a:close/>
                  <a:moveTo>
                    <a:pt x="717" y="0"/>
                  </a:moveTo>
                  <a:lnTo>
                    <a:pt x="735" y="0"/>
                  </a:lnTo>
                  <a:lnTo>
                    <a:pt x="736" y="0"/>
                  </a:lnTo>
                  <a:lnTo>
                    <a:pt x="738" y="2"/>
                  </a:lnTo>
                  <a:lnTo>
                    <a:pt x="739" y="4"/>
                  </a:lnTo>
                  <a:lnTo>
                    <a:pt x="739" y="6"/>
                  </a:lnTo>
                  <a:lnTo>
                    <a:pt x="739" y="8"/>
                  </a:lnTo>
                  <a:lnTo>
                    <a:pt x="738" y="10"/>
                  </a:lnTo>
                  <a:lnTo>
                    <a:pt x="736" y="12"/>
                  </a:lnTo>
                  <a:lnTo>
                    <a:pt x="735" y="12"/>
                  </a:lnTo>
                  <a:lnTo>
                    <a:pt x="717" y="12"/>
                  </a:lnTo>
                  <a:lnTo>
                    <a:pt x="716" y="12"/>
                  </a:lnTo>
                  <a:lnTo>
                    <a:pt x="715" y="10"/>
                  </a:lnTo>
                  <a:lnTo>
                    <a:pt x="714" y="8"/>
                  </a:lnTo>
                  <a:lnTo>
                    <a:pt x="714" y="6"/>
                  </a:lnTo>
                  <a:lnTo>
                    <a:pt x="714" y="4"/>
                  </a:lnTo>
                  <a:lnTo>
                    <a:pt x="715" y="2"/>
                  </a:lnTo>
                  <a:lnTo>
                    <a:pt x="716" y="0"/>
                  </a:lnTo>
                  <a:lnTo>
                    <a:pt x="717" y="0"/>
                  </a:lnTo>
                  <a:lnTo>
                    <a:pt x="717" y="0"/>
                  </a:lnTo>
                  <a:close/>
                  <a:moveTo>
                    <a:pt x="761" y="0"/>
                  </a:moveTo>
                  <a:lnTo>
                    <a:pt x="780" y="0"/>
                  </a:lnTo>
                  <a:lnTo>
                    <a:pt x="781" y="0"/>
                  </a:lnTo>
                  <a:lnTo>
                    <a:pt x="782" y="2"/>
                  </a:lnTo>
                  <a:lnTo>
                    <a:pt x="783" y="4"/>
                  </a:lnTo>
                  <a:lnTo>
                    <a:pt x="783" y="6"/>
                  </a:lnTo>
                  <a:lnTo>
                    <a:pt x="783" y="8"/>
                  </a:lnTo>
                  <a:lnTo>
                    <a:pt x="782" y="10"/>
                  </a:lnTo>
                  <a:lnTo>
                    <a:pt x="781" y="12"/>
                  </a:lnTo>
                  <a:lnTo>
                    <a:pt x="780" y="12"/>
                  </a:lnTo>
                  <a:lnTo>
                    <a:pt x="761" y="12"/>
                  </a:lnTo>
                  <a:lnTo>
                    <a:pt x="760" y="12"/>
                  </a:lnTo>
                  <a:lnTo>
                    <a:pt x="759" y="10"/>
                  </a:lnTo>
                  <a:lnTo>
                    <a:pt x="758" y="8"/>
                  </a:lnTo>
                  <a:lnTo>
                    <a:pt x="758" y="6"/>
                  </a:lnTo>
                  <a:lnTo>
                    <a:pt x="758" y="4"/>
                  </a:lnTo>
                  <a:lnTo>
                    <a:pt x="759" y="2"/>
                  </a:lnTo>
                  <a:lnTo>
                    <a:pt x="760" y="0"/>
                  </a:lnTo>
                  <a:lnTo>
                    <a:pt x="761" y="0"/>
                  </a:lnTo>
                  <a:lnTo>
                    <a:pt x="761" y="0"/>
                  </a:lnTo>
                  <a:close/>
                  <a:moveTo>
                    <a:pt x="806" y="0"/>
                  </a:moveTo>
                  <a:lnTo>
                    <a:pt x="825" y="0"/>
                  </a:lnTo>
                  <a:lnTo>
                    <a:pt x="826" y="0"/>
                  </a:lnTo>
                  <a:lnTo>
                    <a:pt x="827" y="2"/>
                  </a:lnTo>
                  <a:lnTo>
                    <a:pt x="828" y="4"/>
                  </a:lnTo>
                  <a:lnTo>
                    <a:pt x="828" y="6"/>
                  </a:lnTo>
                  <a:lnTo>
                    <a:pt x="828" y="8"/>
                  </a:lnTo>
                  <a:lnTo>
                    <a:pt x="827" y="10"/>
                  </a:lnTo>
                  <a:lnTo>
                    <a:pt x="826" y="12"/>
                  </a:lnTo>
                  <a:lnTo>
                    <a:pt x="825" y="12"/>
                  </a:lnTo>
                  <a:lnTo>
                    <a:pt x="806" y="12"/>
                  </a:lnTo>
                  <a:lnTo>
                    <a:pt x="805" y="12"/>
                  </a:lnTo>
                  <a:lnTo>
                    <a:pt x="804" y="10"/>
                  </a:lnTo>
                  <a:lnTo>
                    <a:pt x="803" y="8"/>
                  </a:lnTo>
                  <a:lnTo>
                    <a:pt x="803" y="6"/>
                  </a:lnTo>
                  <a:lnTo>
                    <a:pt x="803" y="4"/>
                  </a:lnTo>
                  <a:lnTo>
                    <a:pt x="804" y="2"/>
                  </a:lnTo>
                  <a:lnTo>
                    <a:pt x="805" y="0"/>
                  </a:lnTo>
                  <a:lnTo>
                    <a:pt x="806" y="0"/>
                  </a:lnTo>
                  <a:lnTo>
                    <a:pt x="806" y="0"/>
                  </a:lnTo>
                  <a:close/>
                  <a:moveTo>
                    <a:pt x="851" y="0"/>
                  </a:moveTo>
                  <a:lnTo>
                    <a:pt x="870" y="0"/>
                  </a:lnTo>
                  <a:lnTo>
                    <a:pt x="871" y="0"/>
                  </a:lnTo>
                  <a:lnTo>
                    <a:pt x="872" y="2"/>
                  </a:lnTo>
                  <a:lnTo>
                    <a:pt x="873" y="4"/>
                  </a:lnTo>
                  <a:lnTo>
                    <a:pt x="873" y="6"/>
                  </a:lnTo>
                  <a:lnTo>
                    <a:pt x="873" y="8"/>
                  </a:lnTo>
                  <a:lnTo>
                    <a:pt x="872" y="10"/>
                  </a:lnTo>
                  <a:lnTo>
                    <a:pt x="871" y="12"/>
                  </a:lnTo>
                  <a:lnTo>
                    <a:pt x="870" y="12"/>
                  </a:lnTo>
                  <a:lnTo>
                    <a:pt x="851" y="12"/>
                  </a:lnTo>
                  <a:lnTo>
                    <a:pt x="850" y="12"/>
                  </a:lnTo>
                  <a:lnTo>
                    <a:pt x="849" y="10"/>
                  </a:lnTo>
                  <a:lnTo>
                    <a:pt x="848" y="8"/>
                  </a:lnTo>
                  <a:lnTo>
                    <a:pt x="848" y="6"/>
                  </a:lnTo>
                  <a:lnTo>
                    <a:pt x="848" y="4"/>
                  </a:lnTo>
                  <a:lnTo>
                    <a:pt x="849" y="2"/>
                  </a:lnTo>
                  <a:lnTo>
                    <a:pt x="850" y="0"/>
                  </a:lnTo>
                  <a:lnTo>
                    <a:pt x="851" y="0"/>
                  </a:lnTo>
                  <a:lnTo>
                    <a:pt x="851" y="0"/>
                  </a:lnTo>
                  <a:close/>
                  <a:moveTo>
                    <a:pt x="896" y="0"/>
                  </a:moveTo>
                  <a:lnTo>
                    <a:pt x="914" y="0"/>
                  </a:lnTo>
                  <a:lnTo>
                    <a:pt x="915" y="0"/>
                  </a:lnTo>
                  <a:lnTo>
                    <a:pt x="917" y="2"/>
                  </a:lnTo>
                  <a:lnTo>
                    <a:pt x="918" y="4"/>
                  </a:lnTo>
                  <a:lnTo>
                    <a:pt x="918" y="6"/>
                  </a:lnTo>
                  <a:lnTo>
                    <a:pt x="918" y="8"/>
                  </a:lnTo>
                  <a:lnTo>
                    <a:pt x="917" y="10"/>
                  </a:lnTo>
                  <a:lnTo>
                    <a:pt x="915" y="12"/>
                  </a:lnTo>
                  <a:lnTo>
                    <a:pt x="914" y="12"/>
                  </a:lnTo>
                  <a:lnTo>
                    <a:pt x="896" y="12"/>
                  </a:lnTo>
                  <a:lnTo>
                    <a:pt x="895" y="12"/>
                  </a:lnTo>
                  <a:lnTo>
                    <a:pt x="894" y="10"/>
                  </a:lnTo>
                  <a:lnTo>
                    <a:pt x="893" y="8"/>
                  </a:lnTo>
                  <a:lnTo>
                    <a:pt x="893" y="6"/>
                  </a:lnTo>
                  <a:lnTo>
                    <a:pt x="893" y="4"/>
                  </a:lnTo>
                  <a:lnTo>
                    <a:pt x="894" y="2"/>
                  </a:lnTo>
                  <a:lnTo>
                    <a:pt x="895" y="0"/>
                  </a:lnTo>
                  <a:lnTo>
                    <a:pt x="896" y="0"/>
                  </a:lnTo>
                  <a:lnTo>
                    <a:pt x="896" y="0"/>
                  </a:lnTo>
                  <a:close/>
                  <a:moveTo>
                    <a:pt x="939" y="0"/>
                  </a:moveTo>
                  <a:lnTo>
                    <a:pt x="959" y="0"/>
                  </a:lnTo>
                  <a:lnTo>
                    <a:pt x="960" y="0"/>
                  </a:lnTo>
                  <a:lnTo>
                    <a:pt x="961" y="2"/>
                  </a:lnTo>
                  <a:lnTo>
                    <a:pt x="962" y="4"/>
                  </a:lnTo>
                  <a:lnTo>
                    <a:pt x="962" y="6"/>
                  </a:lnTo>
                  <a:lnTo>
                    <a:pt x="962" y="8"/>
                  </a:lnTo>
                  <a:lnTo>
                    <a:pt x="961" y="10"/>
                  </a:lnTo>
                  <a:lnTo>
                    <a:pt x="960" y="12"/>
                  </a:lnTo>
                  <a:lnTo>
                    <a:pt x="959" y="12"/>
                  </a:lnTo>
                  <a:lnTo>
                    <a:pt x="939" y="12"/>
                  </a:lnTo>
                  <a:lnTo>
                    <a:pt x="938" y="12"/>
                  </a:lnTo>
                  <a:lnTo>
                    <a:pt x="937" y="10"/>
                  </a:lnTo>
                  <a:lnTo>
                    <a:pt x="936" y="8"/>
                  </a:lnTo>
                  <a:lnTo>
                    <a:pt x="936" y="6"/>
                  </a:lnTo>
                  <a:lnTo>
                    <a:pt x="936" y="4"/>
                  </a:lnTo>
                  <a:lnTo>
                    <a:pt x="937" y="2"/>
                  </a:lnTo>
                  <a:lnTo>
                    <a:pt x="938" y="0"/>
                  </a:lnTo>
                  <a:lnTo>
                    <a:pt x="939" y="0"/>
                  </a:lnTo>
                  <a:lnTo>
                    <a:pt x="939" y="0"/>
                  </a:lnTo>
                  <a:close/>
                  <a:moveTo>
                    <a:pt x="984" y="0"/>
                  </a:moveTo>
                  <a:lnTo>
                    <a:pt x="1004" y="0"/>
                  </a:lnTo>
                  <a:lnTo>
                    <a:pt x="1005" y="0"/>
                  </a:lnTo>
                  <a:lnTo>
                    <a:pt x="1006" y="2"/>
                  </a:lnTo>
                  <a:lnTo>
                    <a:pt x="1007" y="4"/>
                  </a:lnTo>
                  <a:lnTo>
                    <a:pt x="1007" y="6"/>
                  </a:lnTo>
                  <a:lnTo>
                    <a:pt x="1007" y="8"/>
                  </a:lnTo>
                  <a:lnTo>
                    <a:pt x="1006" y="10"/>
                  </a:lnTo>
                  <a:lnTo>
                    <a:pt x="1005" y="12"/>
                  </a:lnTo>
                  <a:lnTo>
                    <a:pt x="1004" y="12"/>
                  </a:lnTo>
                  <a:lnTo>
                    <a:pt x="984" y="12"/>
                  </a:lnTo>
                  <a:lnTo>
                    <a:pt x="983" y="12"/>
                  </a:lnTo>
                  <a:lnTo>
                    <a:pt x="982" y="10"/>
                  </a:lnTo>
                  <a:lnTo>
                    <a:pt x="981" y="8"/>
                  </a:lnTo>
                  <a:lnTo>
                    <a:pt x="981" y="6"/>
                  </a:lnTo>
                  <a:lnTo>
                    <a:pt x="981" y="4"/>
                  </a:lnTo>
                  <a:lnTo>
                    <a:pt x="982" y="2"/>
                  </a:lnTo>
                  <a:lnTo>
                    <a:pt x="983" y="0"/>
                  </a:lnTo>
                  <a:lnTo>
                    <a:pt x="984" y="0"/>
                  </a:lnTo>
                  <a:lnTo>
                    <a:pt x="984" y="0"/>
                  </a:lnTo>
                  <a:close/>
                  <a:moveTo>
                    <a:pt x="1029" y="0"/>
                  </a:moveTo>
                  <a:lnTo>
                    <a:pt x="1049" y="0"/>
                  </a:lnTo>
                  <a:lnTo>
                    <a:pt x="1050" y="0"/>
                  </a:lnTo>
                  <a:lnTo>
                    <a:pt x="1051" y="2"/>
                  </a:lnTo>
                  <a:lnTo>
                    <a:pt x="1052" y="4"/>
                  </a:lnTo>
                  <a:lnTo>
                    <a:pt x="1052" y="6"/>
                  </a:lnTo>
                  <a:lnTo>
                    <a:pt x="1052" y="8"/>
                  </a:lnTo>
                  <a:lnTo>
                    <a:pt x="1051" y="10"/>
                  </a:lnTo>
                  <a:lnTo>
                    <a:pt x="1050" y="12"/>
                  </a:lnTo>
                  <a:lnTo>
                    <a:pt x="1049" y="12"/>
                  </a:lnTo>
                  <a:lnTo>
                    <a:pt x="1029" y="12"/>
                  </a:lnTo>
                  <a:lnTo>
                    <a:pt x="1028" y="12"/>
                  </a:lnTo>
                  <a:lnTo>
                    <a:pt x="1027" y="10"/>
                  </a:lnTo>
                  <a:lnTo>
                    <a:pt x="1026" y="8"/>
                  </a:lnTo>
                  <a:lnTo>
                    <a:pt x="1026" y="6"/>
                  </a:lnTo>
                  <a:lnTo>
                    <a:pt x="1026" y="4"/>
                  </a:lnTo>
                  <a:lnTo>
                    <a:pt x="1027" y="2"/>
                  </a:lnTo>
                  <a:lnTo>
                    <a:pt x="1028" y="0"/>
                  </a:lnTo>
                  <a:lnTo>
                    <a:pt x="1029" y="0"/>
                  </a:lnTo>
                  <a:lnTo>
                    <a:pt x="1029" y="0"/>
                  </a:lnTo>
                  <a:close/>
                  <a:moveTo>
                    <a:pt x="1074" y="0"/>
                  </a:moveTo>
                  <a:lnTo>
                    <a:pt x="1093" y="0"/>
                  </a:lnTo>
                  <a:lnTo>
                    <a:pt x="1094" y="0"/>
                  </a:lnTo>
                  <a:lnTo>
                    <a:pt x="1096" y="2"/>
                  </a:lnTo>
                  <a:lnTo>
                    <a:pt x="1097" y="4"/>
                  </a:lnTo>
                  <a:lnTo>
                    <a:pt x="1097" y="6"/>
                  </a:lnTo>
                  <a:lnTo>
                    <a:pt x="1097" y="8"/>
                  </a:lnTo>
                  <a:lnTo>
                    <a:pt x="1096" y="10"/>
                  </a:lnTo>
                  <a:lnTo>
                    <a:pt x="1094" y="12"/>
                  </a:lnTo>
                  <a:lnTo>
                    <a:pt x="1093" y="12"/>
                  </a:lnTo>
                  <a:lnTo>
                    <a:pt x="1074" y="12"/>
                  </a:lnTo>
                  <a:lnTo>
                    <a:pt x="1073" y="12"/>
                  </a:lnTo>
                  <a:lnTo>
                    <a:pt x="1072" y="10"/>
                  </a:lnTo>
                  <a:lnTo>
                    <a:pt x="1071" y="8"/>
                  </a:lnTo>
                  <a:lnTo>
                    <a:pt x="1071" y="6"/>
                  </a:lnTo>
                  <a:lnTo>
                    <a:pt x="1071" y="4"/>
                  </a:lnTo>
                  <a:lnTo>
                    <a:pt x="1072" y="2"/>
                  </a:lnTo>
                  <a:lnTo>
                    <a:pt x="1073" y="0"/>
                  </a:lnTo>
                  <a:lnTo>
                    <a:pt x="1074" y="0"/>
                  </a:lnTo>
                  <a:lnTo>
                    <a:pt x="1074" y="0"/>
                  </a:lnTo>
                  <a:close/>
                  <a:moveTo>
                    <a:pt x="1118" y="0"/>
                  </a:moveTo>
                  <a:lnTo>
                    <a:pt x="1137" y="0"/>
                  </a:lnTo>
                  <a:lnTo>
                    <a:pt x="1138" y="0"/>
                  </a:lnTo>
                  <a:lnTo>
                    <a:pt x="1139" y="2"/>
                  </a:lnTo>
                  <a:lnTo>
                    <a:pt x="1141" y="4"/>
                  </a:lnTo>
                  <a:lnTo>
                    <a:pt x="1141" y="6"/>
                  </a:lnTo>
                  <a:lnTo>
                    <a:pt x="1141" y="8"/>
                  </a:lnTo>
                  <a:lnTo>
                    <a:pt x="1139" y="10"/>
                  </a:lnTo>
                  <a:lnTo>
                    <a:pt x="1138" y="12"/>
                  </a:lnTo>
                  <a:lnTo>
                    <a:pt x="1137" y="12"/>
                  </a:lnTo>
                  <a:lnTo>
                    <a:pt x="1118" y="12"/>
                  </a:lnTo>
                  <a:lnTo>
                    <a:pt x="1117" y="12"/>
                  </a:lnTo>
                  <a:lnTo>
                    <a:pt x="1116" y="10"/>
                  </a:lnTo>
                  <a:lnTo>
                    <a:pt x="1115" y="8"/>
                  </a:lnTo>
                  <a:lnTo>
                    <a:pt x="1115" y="6"/>
                  </a:lnTo>
                  <a:lnTo>
                    <a:pt x="1115" y="4"/>
                  </a:lnTo>
                  <a:lnTo>
                    <a:pt x="1116" y="2"/>
                  </a:lnTo>
                  <a:lnTo>
                    <a:pt x="1117" y="0"/>
                  </a:lnTo>
                  <a:lnTo>
                    <a:pt x="1118" y="0"/>
                  </a:lnTo>
                  <a:lnTo>
                    <a:pt x="1118" y="0"/>
                  </a:lnTo>
                  <a:close/>
                  <a:moveTo>
                    <a:pt x="1163" y="0"/>
                  </a:moveTo>
                  <a:lnTo>
                    <a:pt x="1182" y="0"/>
                  </a:lnTo>
                  <a:lnTo>
                    <a:pt x="1183" y="0"/>
                  </a:lnTo>
                  <a:lnTo>
                    <a:pt x="1184" y="2"/>
                  </a:lnTo>
                  <a:lnTo>
                    <a:pt x="1185" y="4"/>
                  </a:lnTo>
                  <a:lnTo>
                    <a:pt x="1185" y="6"/>
                  </a:lnTo>
                  <a:lnTo>
                    <a:pt x="1185" y="8"/>
                  </a:lnTo>
                  <a:lnTo>
                    <a:pt x="1184" y="10"/>
                  </a:lnTo>
                  <a:lnTo>
                    <a:pt x="1183" y="12"/>
                  </a:lnTo>
                  <a:lnTo>
                    <a:pt x="1182" y="12"/>
                  </a:lnTo>
                  <a:lnTo>
                    <a:pt x="1163" y="12"/>
                  </a:lnTo>
                  <a:lnTo>
                    <a:pt x="1162" y="12"/>
                  </a:lnTo>
                  <a:lnTo>
                    <a:pt x="1161" y="10"/>
                  </a:lnTo>
                  <a:lnTo>
                    <a:pt x="1160" y="8"/>
                  </a:lnTo>
                  <a:lnTo>
                    <a:pt x="1160" y="6"/>
                  </a:lnTo>
                  <a:lnTo>
                    <a:pt x="1160" y="4"/>
                  </a:lnTo>
                  <a:lnTo>
                    <a:pt x="1161" y="2"/>
                  </a:lnTo>
                  <a:lnTo>
                    <a:pt x="1162" y="0"/>
                  </a:lnTo>
                  <a:lnTo>
                    <a:pt x="1163" y="0"/>
                  </a:lnTo>
                  <a:lnTo>
                    <a:pt x="1163" y="0"/>
                  </a:lnTo>
                  <a:close/>
                  <a:moveTo>
                    <a:pt x="1208" y="0"/>
                  </a:moveTo>
                  <a:lnTo>
                    <a:pt x="1227" y="0"/>
                  </a:lnTo>
                  <a:lnTo>
                    <a:pt x="1228" y="0"/>
                  </a:lnTo>
                  <a:lnTo>
                    <a:pt x="1229" y="2"/>
                  </a:lnTo>
                  <a:lnTo>
                    <a:pt x="1230" y="4"/>
                  </a:lnTo>
                  <a:lnTo>
                    <a:pt x="1230" y="6"/>
                  </a:lnTo>
                  <a:lnTo>
                    <a:pt x="1230" y="8"/>
                  </a:lnTo>
                  <a:lnTo>
                    <a:pt x="1229" y="10"/>
                  </a:lnTo>
                  <a:lnTo>
                    <a:pt x="1228" y="12"/>
                  </a:lnTo>
                  <a:lnTo>
                    <a:pt x="1227" y="12"/>
                  </a:lnTo>
                  <a:lnTo>
                    <a:pt x="1208" y="12"/>
                  </a:lnTo>
                  <a:lnTo>
                    <a:pt x="1207" y="12"/>
                  </a:lnTo>
                  <a:lnTo>
                    <a:pt x="1206" y="10"/>
                  </a:lnTo>
                  <a:lnTo>
                    <a:pt x="1205" y="8"/>
                  </a:lnTo>
                  <a:lnTo>
                    <a:pt x="1205" y="6"/>
                  </a:lnTo>
                  <a:lnTo>
                    <a:pt x="1205" y="4"/>
                  </a:lnTo>
                  <a:lnTo>
                    <a:pt x="1206" y="2"/>
                  </a:lnTo>
                  <a:lnTo>
                    <a:pt x="1207" y="0"/>
                  </a:lnTo>
                  <a:lnTo>
                    <a:pt x="1208" y="0"/>
                  </a:lnTo>
                  <a:lnTo>
                    <a:pt x="1208" y="0"/>
                  </a:lnTo>
                  <a:close/>
                  <a:moveTo>
                    <a:pt x="1253" y="0"/>
                  </a:moveTo>
                  <a:lnTo>
                    <a:pt x="1271" y="0"/>
                  </a:lnTo>
                  <a:lnTo>
                    <a:pt x="1272" y="0"/>
                  </a:lnTo>
                  <a:lnTo>
                    <a:pt x="1274" y="2"/>
                  </a:lnTo>
                  <a:lnTo>
                    <a:pt x="1275" y="4"/>
                  </a:lnTo>
                  <a:lnTo>
                    <a:pt x="1275" y="6"/>
                  </a:lnTo>
                  <a:lnTo>
                    <a:pt x="1275" y="8"/>
                  </a:lnTo>
                  <a:lnTo>
                    <a:pt x="1274" y="10"/>
                  </a:lnTo>
                  <a:lnTo>
                    <a:pt x="1272" y="12"/>
                  </a:lnTo>
                  <a:lnTo>
                    <a:pt x="1271" y="12"/>
                  </a:lnTo>
                  <a:lnTo>
                    <a:pt x="1253" y="12"/>
                  </a:lnTo>
                  <a:lnTo>
                    <a:pt x="1252" y="12"/>
                  </a:lnTo>
                  <a:lnTo>
                    <a:pt x="1251" y="10"/>
                  </a:lnTo>
                  <a:lnTo>
                    <a:pt x="1250" y="8"/>
                  </a:lnTo>
                  <a:lnTo>
                    <a:pt x="1250" y="6"/>
                  </a:lnTo>
                  <a:lnTo>
                    <a:pt x="1250" y="4"/>
                  </a:lnTo>
                  <a:lnTo>
                    <a:pt x="1251" y="2"/>
                  </a:lnTo>
                  <a:lnTo>
                    <a:pt x="1252" y="0"/>
                  </a:lnTo>
                  <a:lnTo>
                    <a:pt x="1253" y="0"/>
                  </a:lnTo>
                  <a:lnTo>
                    <a:pt x="1253" y="0"/>
                  </a:lnTo>
                  <a:close/>
                  <a:moveTo>
                    <a:pt x="1297" y="0"/>
                  </a:moveTo>
                  <a:lnTo>
                    <a:pt x="1316" y="0"/>
                  </a:lnTo>
                  <a:lnTo>
                    <a:pt x="1317" y="0"/>
                  </a:lnTo>
                  <a:lnTo>
                    <a:pt x="1318" y="2"/>
                  </a:lnTo>
                  <a:lnTo>
                    <a:pt x="1319" y="4"/>
                  </a:lnTo>
                  <a:lnTo>
                    <a:pt x="1319" y="6"/>
                  </a:lnTo>
                  <a:lnTo>
                    <a:pt x="1319" y="8"/>
                  </a:lnTo>
                  <a:lnTo>
                    <a:pt x="1318" y="10"/>
                  </a:lnTo>
                  <a:lnTo>
                    <a:pt x="1317" y="12"/>
                  </a:lnTo>
                  <a:lnTo>
                    <a:pt x="1316" y="12"/>
                  </a:lnTo>
                  <a:lnTo>
                    <a:pt x="1297" y="12"/>
                  </a:lnTo>
                  <a:lnTo>
                    <a:pt x="1296" y="12"/>
                  </a:lnTo>
                  <a:lnTo>
                    <a:pt x="1295" y="10"/>
                  </a:lnTo>
                  <a:lnTo>
                    <a:pt x="1294" y="8"/>
                  </a:lnTo>
                  <a:lnTo>
                    <a:pt x="1294" y="6"/>
                  </a:lnTo>
                  <a:lnTo>
                    <a:pt x="1294" y="4"/>
                  </a:lnTo>
                  <a:lnTo>
                    <a:pt x="1295" y="2"/>
                  </a:lnTo>
                  <a:lnTo>
                    <a:pt x="1296" y="0"/>
                  </a:lnTo>
                  <a:lnTo>
                    <a:pt x="1297" y="0"/>
                  </a:lnTo>
                  <a:lnTo>
                    <a:pt x="1297" y="0"/>
                  </a:lnTo>
                  <a:close/>
                  <a:moveTo>
                    <a:pt x="1342" y="0"/>
                  </a:moveTo>
                  <a:lnTo>
                    <a:pt x="1361" y="0"/>
                  </a:lnTo>
                  <a:lnTo>
                    <a:pt x="1362" y="0"/>
                  </a:lnTo>
                  <a:lnTo>
                    <a:pt x="1363" y="2"/>
                  </a:lnTo>
                  <a:lnTo>
                    <a:pt x="1364" y="4"/>
                  </a:lnTo>
                  <a:lnTo>
                    <a:pt x="1364" y="6"/>
                  </a:lnTo>
                  <a:lnTo>
                    <a:pt x="1364" y="8"/>
                  </a:lnTo>
                  <a:lnTo>
                    <a:pt x="1363" y="10"/>
                  </a:lnTo>
                  <a:lnTo>
                    <a:pt x="1362" y="12"/>
                  </a:lnTo>
                  <a:lnTo>
                    <a:pt x="1361" y="12"/>
                  </a:lnTo>
                  <a:lnTo>
                    <a:pt x="1342" y="12"/>
                  </a:lnTo>
                  <a:lnTo>
                    <a:pt x="1341" y="12"/>
                  </a:lnTo>
                  <a:lnTo>
                    <a:pt x="1340" y="10"/>
                  </a:lnTo>
                  <a:lnTo>
                    <a:pt x="1338" y="8"/>
                  </a:lnTo>
                  <a:lnTo>
                    <a:pt x="1338" y="6"/>
                  </a:lnTo>
                  <a:lnTo>
                    <a:pt x="1338" y="4"/>
                  </a:lnTo>
                  <a:lnTo>
                    <a:pt x="1340" y="2"/>
                  </a:lnTo>
                  <a:lnTo>
                    <a:pt x="1341" y="0"/>
                  </a:lnTo>
                  <a:lnTo>
                    <a:pt x="1342" y="0"/>
                  </a:lnTo>
                  <a:lnTo>
                    <a:pt x="1342" y="0"/>
                  </a:lnTo>
                  <a:close/>
                  <a:moveTo>
                    <a:pt x="1386" y="0"/>
                  </a:moveTo>
                  <a:lnTo>
                    <a:pt x="1406" y="0"/>
                  </a:lnTo>
                  <a:lnTo>
                    <a:pt x="1407" y="0"/>
                  </a:lnTo>
                  <a:lnTo>
                    <a:pt x="1408" y="2"/>
                  </a:lnTo>
                  <a:lnTo>
                    <a:pt x="1409" y="4"/>
                  </a:lnTo>
                  <a:lnTo>
                    <a:pt x="1409" y="6"/>
                  </a:lnTo>
                  <a:lnTo>
                    <a:pt x="1409" y="8"/>
                  </a:lnTo>
                  <a:lnTo>
                    <a:pt x="1408" y="10"/>
                  </a:lnTo>
                  <a:lnTo>
                    <a:pt x="1407" y="12"/>
                  </a:lnTo>
                  <a:lnTo>
                    <a:pt x="1406" y="12"/>
                  </a:lnTo>
                  <a:lnTo>
                    <a:pt x="1386" y="12"/>
                  </a:lnTo>
                  <a:lnTo>
                    <a:pt x="1385" y="12"/>
                  </a:lnTo>
                  <a:lnTo>
                    <a:pt x="1384" y="10"/>
                  </a:lnTo>
                  <a:lnTo>
                    <a:pt x="1383" y="8"/>
                  </a:lnTo>
                  <a:lnTo>
                    <a:pt x="1383" y="6"/>
                  </a:lnTo>
                  <a:lnTo>
                    <a:pt x="1383" y="4"/>
                  </a:lnTo>
                  <a:lnTo>
                    <a:pt x="1384" y="2"/>
                  </a:lnTo>
                  <a:lnTo>
                    <a:pt x="1385" y="0"/>
                  </a:lnTo>
                  <a:lnTo>
                    <a:pt x="1386" y="0"/>
                  </a:lnTo>
                  <a:lnTo>
                    <a:pt x="1386" y="0"/>
                  </a:lnTo>
                  <a:close/>
                  <a:moveTo>
                    <a:pt x="1431" y="0"/>
                  </a:moveTo>
                  <a:lnTo>
                    <a:pt x="1450" y="0"/>
                  </a:lnTo>
                  <a:lnTo>
                    <a:pt x="1451" y="0"/>
                  </a:lnTo>
                  <a:lnTo>
                    <a:pt x="1453" y="2"/>
                  </a:lnTo>
                  <a:lnTo>
                    <a:pt x="1454" y="4"/>
                  </a:lnTo>
                  <a:lnTo>
                    <a:pt x="1454" y="6"/>
                  </a:lnTo>
                  <a:lnTo>
                    <a:pt x="1454" y="8"/>
                  </a:lnTo>
                  <a:lnTo>
                    <a:pt x="1453" y="10"/>
                  </a:lnTo>
                  <a:lnTo>
                    <a:pt x="1451" y="12"/>
                  </a:lnTo>
                  <a:lnTo>
                    <a:pt x="1450" y="12"/>
                  </a:lnTo>
                  <a:lnTo>
                    <a:pt x="1431" y="12"/>
                  </a:lnTo>
                  <a:lnTo>
                    <a:pt x="1430" y="12"/>
                  </a:lnTo>
                  <a:lnTo>
                    <a:pt x="1429" y="10"/>
                  </a:lnTo>
                  <a:lnTo>
                    <a:pt x="1428" y="8"/>
                  </a:lnTo>
                  <a:lnTo>
                    <a:pt x="1428" y="6"/>
                  </a:lnTo>
                  <a:lnTo>
                    <a:pt x="1428" y="4"/>
                  </a:lnTo>
                  <a:lnTo>
                    <a:pt x="1429" y="2"/>
                  </a:lnTo>
                  <a:lnTo>
                    <a:pt x="1430" y="0"/>
                  </a:lnTo>
                  <a:lnTo>
                    <a:pt x="1431" y="0"/>
                  </a:lnTo>
                  <a:lnTo>
                    <a:pt x="1431" y="0"/>
                  </a:lnTo>
                  <a:close/>
                  <a:moveTo>
                    <a:pt x="1475" y="0"/>
                  </a:moveTo>
                  <a:lnTo>
                    <a:pt x="1495" y="0"/>
                  </a:lnTo>
                  <a:lnTo>
                    <a:pt x="1496" y="0"/>
                  </a:lnTo>
                  <a:lnTo>
                    <a:pt x="1497" y="2"/>
                  </a:lnTo>
                  <a:lnTo>
                    <a:pt x="1498" y="4"/>
                  </a:lnTo>
                  <a:lnTo>
                    <a:pt x="1498" y="6"/>
                  </a:lnTo>
                  <a:lnTo>
                    <a:pt x="1498" y="8"/>
                  </a:lnTo>
                  <a:lnTo>
                    <a:pt x="1497" y="10"/>
                  </a:lnTo>
                  <a:lnTo>
                    <a:pt x="1496" y="12"/>
                  </a:lnTo>
                  <a:lnTo>
                    <a:pt x="1495" y="12"/>
                  </a:lnTo>
                  <a:lnTo>
                    <a:pt x="1475" y="12"/>
                  </a:lnTo>
                  <a:lnTo>
                    <a:pt x="1474" y="12"/>
                  </a:lnTo>
                  <a:lnTo>
                    <a:pt x="1473" y="10"/>
                  </a:lnTo>
                  <a:lnTo>
                    <a:pt x="1472" y="8"/>
                  </a:lnTo>
                  <a:lnTo>
                    <a:pt x="1472" y="6"/>
                  </a:lnTo>
                  <a:lnTo>
                    <a:pt x="1472" y="4"/>
                  </a:lnTo>
                  <a:lnTo>
                    <a:pt x="1473" y="2"/>
                  </a:lnTo>
                  <a:lnTo>
                    <a:pt x="1474" y="0"/>
                  </a:lnTo>
                  <a:lnTo>
                    <a:pt x="1475" y="0"/>
                  </a:lnTo>
                  <a:lnTo>
                    <a:pt x="1475" y="0"/>
                  </a:lnTo>
                  <a:close/>
                  <a:moveTo>
                    <a:pt x="1520" y="0"/>
                  </a:moveTo>
                  <a:lnTo>
                    <a:pt x="1540" y="0"/>
                  </a:lnTo>
                  <a:lnTo>
                    <a:pt x="1541" y="0"/>
                  </a:lnTo>
                  <a:lnTo>
                    <a:pt x="1542" y="2"/>
                  </a:lnTo>
                  <a:lnTo>
                    <a:pt x="1543" y="4"/>
                  </a:lnTo>
                  <a:lnTo>
                    <a:pt x="1543" y="6"/>
                  </a:lnTo>
                  <a:lnTo>
                    <a:pt x="1543" y="8"/>
                  </a:lnTo>
                  <a:lnTo>
                    <a:pt x="1542" y="10"/>
                  </a:lnTo>
                  <a:lnTo>
                    <a:pt x="1541" y="12"/>
                  </a:lnTo>
                  <a:lnTo>
                    <a:pt x="1540" y="12"/>
                  </a:lnTo>
                  <a:lnTo>
                    <a:pt x="1520" y="12"/>
                  </a:lnTo>
                  <a:lnTo>
                    <a:pt x="1519" y="12"/>
                  </a:lnTo>
                  <a:lnTo>
                    <a:pt x="1518" y="10"/>
                  </a:lnTo>
                  <a:lnTo>
                    <a:pt x="1517" y="8"/>
                  </a:lnTo>
                  <a:lnTo>
                    <a:pt x="1517" y="6"/>
                  </a:lnTo>
                  <a:lnTo>
                    <a:pt x="1517" y="4"/>
                  </a:lnTo>
                  <a:lnTo>
                    <a:pt x="1518" y="2"/>
                  </a:lnTo>
                  <a:lnTo>
                    <a:pt x="1519" y="0"/>
                  </a:lnTo>
                  <a:lnTo>
                    <a:pt x="1520" y="0"/>
                  </a:lnTo>
                  <a:lnTo>
                    <a:pt x="1520" y="0"/>
                  </a:lnTo>
                  <a:close/>
                  <a:moveTo>
                    <a:pt x="1565" y="0"/>
                  </a:moveTo>
                  <a:lnTo>
                    <a:pt x="1584" y="0"/>
                  </a:lnTo>
                  <a:lnTo>
                    <a:pt x="1585" y="0"/>
                  </a:lnTo>
                  <a:lnTo>
                    <a:pt x="1586" y="2"/>
                  </a:lnTo>
                  <a:lnTo>
                    <a:pt x="1587" y="4"/>
                  </a:lnTo>
                  <a:lnTo>
                    <a:pt x="1587" y="6"/>
                  </a:lnTo>
                  <a:lnTo>
                    <a:pt x="1587" y="8"/>
                  </a:lnTo>
                  <a:lnTo>
                    <a:pt x="1586" y="10"/>
                  </a:lnTo>
                  <a:lnTo>
                    <a:pt x="1585" y="12"/>
                  </a:lnTo>
                  <a:lnTo>
                    <a:pt x="1584" y="12"/>
                  </a:lnTo>
                  <a:lnTo>
                    <a:pt x="1565" y="12"/>
                  </a:lnTo>
                  <a:lnTo>
                    <a:pt x="1564" y="12"/>
                  </a:lnTo>
                  <a:lnTo>
                    <a:pt x="1563" y="10"/>
                  </a:lnTo>
                  <a:lnTo>
                    <a:pt x="1562" y="8"/>
                  </a:lnTo>
                  <a:lnTo>
                    <a:pt x="1562" y="6"/>
                  </a:lnTo>
                  <a:lnTo>
                    <a:pt x="1562" y="4"/>
                  </a:lnTo>
                  <a:lnTo>
                    <a:pt x="1563" y="2"/>
                  </a:lnTo>
                  <a:lnTo>
                    <a:pt x="1564" y="0"/>
                  </a:lnTo>
                  <a:lnTo>
                    <a:pt x="1565" y="0"/>
                  </a:lnTo>
                  <a:lnTo>
                    <a:pt x="1565" y="0"/>
                  </a:lnTo>
                  <a:close/>
                  <a:moveTo>
                    <a:pt x="1610" y="0"/>
                  </a:moveTo>
                  <a:lnTo>
                    <a:pt x="1628" y="0"/>
                  </a:lnTo>
                  <a:lnTo>
                    <a:pt x="1629" y="0"/>
                  </a:lnTo>
                  <a:lnTo>
                    <a:pt x="1631" y="2"/>
                  </a:lnTo>
                  <a:lnTo>
                    <a:pt x="1632" y="4"/>
                  </a:lnTo>
                  <a:lnTo>
                    <a:pt x="1632" y="6"/>
                  </a:lnTo>
                  <a:lnTo>
                    <a:pt x="1632" y="8"/>
                  </a:lnTo>
                  <a:lnTo>
                    <a:pt x="1631" y="10"/>
                  </a:lnTo>
                  <a:lnTo>
                    <a:pt x="1629" y="12"/>
                  </a:lnTo>
                  <a:lnTo>
                    <a:pt x="1628" y="12"/>
                  </a:lnTo>
                  <a:lnTo>
                    <a:pt x="1610" y="12"/>
                  </a:lnTo>
                  <a:lnTo>
                    <a:pt x="1609" y="12"/>
                  </a:lnTo>
                  <a:lnTo>
                    <a:pt x="1608" y="10"/>
                  </a:lnTo>
                  <a:lnTo>
                    <a:pt x="1607" y="8"/>
                  </a:lnTo>
                  <a:lnTo>
                    <a:pt x="1607" y="6"/>
                  </a:lnTo>
                  <a:lnTo>
                    <a:pt x="1607" y="4"/>
                  </a:lnTo>
                  <a:lnTo>
                    <a:pt x="1608" y="2"/>
                  </a:lnTo>
                  <a:lnTo>
                    <a:pt x="1609" y="0"/>
                  </a:lnTo>
                  <a:lnTo>
                    <a:pt x="1610" y="0"/>
                  </a:lnTo>
                  <a:lnTo>
                    <a:pt x="1610" y="0"/>
                  </a:lnTo>
                  <a:close/>
                  <a:moveTo>
                    <a:pt x="1654" y="0"/>
                  </a:moveTo>
                  <a:lnTo>
                    <a:pt x="1673" y="0"/>
                  </a:lnTo>
                  <a:lnTo>
                    <a:pt x="1674" y="0"/>
                  </a:lnTo>
                  <a:lnTo>
                    <a:pt x="1675" y="2"/>
                  </a:lnTo>
                  <a:lnTo>
                    <a:pt x="1676" y="4"/>
                  </a:lnTo>
                  <a:lnTo>
                    <a:pt x="1676" y="6"/>
                  </a:lnTo>
                  <a:lnTo>
                    <a:pt x="1676" y="8"/>
                  </a:lnTo>
                  <a:lnTo>
                    <a:pt x="1675" y="10"/>
                  </a:lnTo>
                  <a:lnTo>
                    <a:pt x="1674" y="12"/>
                  </a:lnTo>
                  <a:lnTo>
                    <a:pt x="1673" y="12"/>
                  </a:lnTo>
                  <a:lnTo>
                    <a:pt x="1654" y="12"/>
                  </a:lnTo>
                  <a:lnTo>
                    <a:pt x="1653" y="12"/>
                  </a:lnTo>
                  <a:lnTo>
                    <a:pt x="1652" y="10"/>
                  </a:lnTo>
                  <a:lnTo>
                    <a:pt x="1651" y="8"/>
                  </a:lnTo>
                  <a:lnTo>
                    <a:pt x="1651" y="6"/>
                  </a:lnTo>
                  <a:lnTo>
                    <a:pt x="1651" y="4"/>
                  </a:lnTo>
                  <a:lnTo>
                    <a:pt x="1652" y="2"/>
                  </a:lnTo>
                  <a:lnTo>
                    <a:pt x="1653" y="0"/>
                  </a:lnTo>
                  <a:lnTo>
                    <a:pt x="1654" y="0"/>
                  </a:lnTo>
                  <a:lnTo>
                    <a:pt x="1654" y="0"/>
                  </a:lnTo>
                  <a:close/>
                  <a:moveTo>
                    <a:pt x="1699" y="0"/>
                  </a:moveTo>
                  <a:lnTo>
                    <a:pt x="1718" y="0"/>
                  </a:lnTo>
                  <a:lnTo>
                    <a:pt x="1719" y="0"/>
                  </a:lnTo>
                  <a:lnTo>
                    <a:pt x="1720" y="2"/>
                  </a:lnTo>
                  <a:lnTo>
                    <a:pt x="1721" y="4"/>
                  </a:lnTo>
                  <a:lnTo>
                    <a:pt x="1721" y="6"/>
                  </a:lnTo>
                  <a:lnTo>
                    <a:pt x="1721" y="8"/>
                  </a:lnTo>
                  <a:lnTo>
                    <a:pt x="1720" y="10"/>
                  </a:lnTo>
                  <a:lnTo>
                    <a:pt x="1719" y="12"/>
                  </a:lnTo>
                  <a:lnTo>
                    <a:pt x="1718" y="12"/>
                  </a:lnTo>
                  <a:lnTo>
                    <a:pt x="1699" y="12"/>
                  </a:lnTo>
                  <a:lnTo>
                    <a:pt x="1698" y="12"/>
                  </a:lnTo>
                  <a:lnTo>
                    <a:pt x="1697" y="10"/>
                  </a:lnTo>
                  <a:lnTo>
                    <a:pt x="1696" y="8"/>
                  </a:lnTo>
                  <a:lnTo>
                    <a:pt x="1696" y="6"/>
                  </a:lnTo>
                  <a:lnTo>
                    <a:pt x="1696" y="4"/>
                  </a:lnTo>
                  <a:lnTo>
                    <a:pt x="1697" y="2"/>
                  </a:lnTo>
                  <a:lnTo>
                    <a:pt x="1698" y="0"/>
                  </a:lnTo>
                  <a:lnTo>
                    <a:pt x="1699" y="0"/>
                  </a:lnTo>
                  <a:lnTo>
                    <a:pt x="1699" y="0"/>
                  </a:lnTo>
                  <a:close/>
                  <a:moveTo>
                    <a:pt x="1744" y="0"/>
                  </a:moveTo>
                  <a:lnTo>
                    <a:pt x="1763" y="0"/>
                  </a:lnTo>
                  <a:lnTo>
                    <a:pt x="1764" y="0"/>
                  </a:lnTo>
                  <a:lnTo>
                    <a:pt x="1765" y="2"/>
                  </a:lnTo>
                  <a:lnTo>
                    <a:pt x="1766" y="4"/>
                  </a:lnTo>
                  <a:lnTo>
                    <a:pt x="1766" y="6"/>
                  </a:lnTo>
                  <a:lnTo>
                    <a:pt x="1766" y="8"/>
                  </a:lnTo>
                  <a:lnTo>
                    <a:pt x="1765" y="10"/>
                  </a:lnTo>
                  <a:lnTo>
                    <a:pt x="1764" y="12"/>
                  </a:lnTo>
                  <a:lnTo>
                    <a:pt x="1763" y="12"/>
                  </a:lnTo>
                  <a:lnTo>
                    <a:pt x="1744" y="12"/>
                  </a:lnTo>
                  <a:lnTo>
                    <a:pt x="1743" y="12"/>
                  </a:lnTo>
                  <a:lnTo>
                    <a:pt x="1742" y="10"/>
                  </a:lnTo>
                  <a:lnTo>
                    <a:pt x="1741" y="8"/>
                  </a:lnTo>
                  <a:lnTo>
                    <a:pt x="1741" y="6"/>
                  </a:lnTo>
                  <a:lnTo>
                    <a:pt x="1741" y="4"/>
                  </a:lnTo>
                  <a:lnTo>
                    <a:pt x="1742" y="2"/>
                  </a:lnTo>
                  <a:lnTo>
                    <a:pt x="1743" y="0"/>
                  </a:lnTo>
                  <a:lnTo>
                    <a:pt x="1744" y="0"/>
                  </a:lnTo>
                  <a:lnTo>
                    <a:pt x="1744" y="0"/>
                  </a:lnTo>
                  <a:close/>
                  <a:moveTo>
                    <a:pt x="1789" y="0"/>
                  </a:moveTo>
                  <a:lnTo>
                    <a:pt x="1807" y="0"/>
                  </a:lnTo>
                  <a:lnTo>
                    <a:pt x="1808" y="0"/>
                  </a:lnTo>
                  <a:lnTo>
                    <a:pt x="1810" y="2"/>
                  </a:lnTo>
                  <a:lnTo>
                    <a:pt x="1811" y="4"/>
                  </a:lnTo>
                  <a:lnTo>
                    <a:pt x="1811" y="6"/>
                  </a:lnTo>
                  <a:lnTo>
                    <a:pt x="1811" y="8"/>
                  </a:lnTo>
                  <a:lnTo>
                    <a:pt x="1810" y="10"/>
                  </a:lnTo>
                  <a:lnTo>
                    <a:pt x="1808" y="12"/>
                  </a:lnTo>
                  <a:lnTo>
                    <a:pt x="1807" y="12"/>
                  </a:lnTo>
                  <a:lnTo>
                    <a:pt x="1789" y="12"/>
                  </a:lnTo>
                  <a:lnTo>
                    <a:pt x="1788" y="12"/>
                  </a:lnTo>
                  <a:lnTo>
                    <a:pt x="1787" y="10"/>
                  </a:lnTo>
                  <a:lnTo>
                    <a:pt x="1785" y="8"/>
                  </a:lnTo>
                  <a:lnTo>
                    <a:pt x="1785" y="6"/>
                  </a:lnTo>
                  <a:lnTo>
                    <a:pt x="1785" y="4"/>
                  </a:lnTo>
                  <a:lnTo>
                    <a:pt x="1787" y="2"/>
                  </a:lnTo>
                  <a:lnTo>
                    <a:pt x="1788" y="0"/>
                  </a:lnTo>
                  <a:lnTo>
                    <a:pt x="1789" y="0"/>
                  </a:lnTo>
                  <a:lnTo>
                    <a:pt x="1789" y="0"/>
                  </a:lnTo>
                  <a:close/>
                  <a:moveTo>
                    <a:pt x="1832" y="0"/>
                  </a:moveTo>
                  <a:lnTo>
                    <a:pt x="1852" y="0"/>
                  </a:lnTo>
                  <a:lnTo>
                    <a:pt x="1853" y="0"/>
                  </a:lnTo>
                  <a:lnTo>
                    <a:pt x="1854" y="2"/>
                  </a:lnTo>
                  <a:lnTo>
                    <a:pt x="1855" y="4"/>
                  </a:lnTo>
                  <a:lnTo>
                    <a:pt x="1855" y="6"/>
                  </a:lnTo>
                  <a:lnTo>
                    <a:pt x="1855" y="8"/>
                  </a:lnTo>
                  <a:lnTo>
                    <a:pt x="1854" y="10"/>
                  </a:lnTo>
                  <a:lnTo>
                    <a:pt x="1853" y="12"/>
                  </a:lnTo>
                  <a:lnTo>
                    <a:pt x="1852" y="12"/>
                  </a:lnTo>
                  <a:lnTo>
                    <a:pt x="1832" y="12"/>
                  </a:lnTo>
                  <a:lnTo>
                    <a:pt x="1831" y="12"/>
                  </a:lnTo>
                  <a:lnTo>
                    <a:pt x="1830" y="10"/>
                  </a:lnTo>
                  <a:lnTo>
                    <a:pt x="1829" y="8"/>
                  </a:lnTo>
                  <a:lnTo>
                    <a:pt x="1829" y="6"/>
                  </a:lnTo>
                  <a:lnTo>
                    <a:pt x="1829" y="4"/>
                  </a:lnTo>
                  <a:lnTo>
                    <a:pt x="1830" y="2"/>
                  </a:lnTo>
                  <a:lnTo>
                    <a:pt x="1831" y="0"/>
                  </a:lnTo>
                  <a:lnTo>
                    <a:pt x="1832" y="0"/>
                  </a:lnTo>
                  <a:lnTo>
                    <a:pt x="1832" y="0"/>
                  </a:lnTo>
                  <a:close/>
                  <a:moveTo>
                    <a:pt x="1877" y="0"/>
                  </a:moveTo>
                  <a:lnTo>
                    <a:pt x="1897" y="0"/>
                  </a:lnTo>
                  <a:lnTo>
                    <a:pt x="1898" y="0"/>
                  </a:lnTo>
                  <a:lnTo>
                    <a:pt x="1899" y="2"/>
                  </a:lnTo>
                  <a:lnTo>
                    <a:pt x="1900" y="4"/>
                  </a:lnTo>
                  <a:lnTo>
                    <a:pt x="1900" y="6"/>
                  </a:lnTo>
                  <a:lnTo>
                    <a:pt x="1900" y="8"/>
                  </a:lnTo>
                  <a:lnTo>
                    <a:pt x="1899" y="10"/>
                  </a:lnTo>
                  <a:lnTo>
                    <a:pt x="1898" y="12"/>
                  </a:lnTo>
                  <a:lnTo>
                    <a:pt x="1897" y="12"/>
                  </a:lnTo>
                  <a:lnTo>
                    <a:pt x="1877" y="12"/>
                  </a:lnTo>
                  <a:lnTo>
                    <a:pt x="1876" y="12"/>
                  </a:lnTo>
                  <a:lnTo>
                    <a:pt x="1875" y="10"/>
                  </a:lnTo>
                  <a:lnTo>
                    <a:pt x="1874" y="8"/>
                  </a:lnTo>
                  <a:lnTo>
                    <a:pt x="1874" y="6"/>
                  </a:lnTo>
                  <a:lnTo>
                    <a:pt x="1874" y="4"/>
                  </a:lnTo>
                  <a:lnTo>
                    <a:pt x="1875" y="2"/>
                  </a:lnTo>
                  <a:lnTo>
                    <a:pt x="1876" y="0"/>
                  </a:lnTo>
                  <a:lnTo>
                    <a:pt x="1877" y="0"/>
                  </a:lnTo>
                  <a:lnTo>
                    <a:pt x="1877" y="0"/>
                  </a:lnTo>
                  <a:close/>
                  <a:moveTo>
                    <a:pt x="1922" y="0"/>
                  </a:moveTo>
                  <a:lnTo>
                    <a:pt x="1942" y="0"/>
                  </a:lnTo>
                  <a:lnTo>
                    <a:pt x="1943" y="0"/>
                  </a:lnTo>
                  <a:lnTo>
                    <a:pt x="1944" y="2"/>
                  </a:lnTo>
                  <a:lnTo>
                    <a:pt x="1945" y="4"/>
                  </a:lnTo>
                  <a:lnTo>
                    <a:pt x="1945" y="6"/>
                  </a:lnTo>
                  <a:lnTo>
                    <a:pt x="1945" y="8"/>
                  </a:lnTo>
                  <a:lnTo>
                    <a:pt x="1944" y="10"/>
                  </a:lnTo>
                  <a:lnTo>
                    <a:pt x="1943" y="12"/>
                  </a:lnTo>
                  <a:lnTo>
                    <a:pt x="1942" y="12"/>
                  </a:lnTo>
                  <a:lnTo>
                    <a:pt x="1922" y="12"/>
                  </a:lnTo>
                  <a:lnTo>
                    <a:pt x="1921" y="12"/>
                  </a:lnTo>
                  <a:lnTo>
                    <a:pt x="1920" y="10"/>
                  </a:lnTo>
                  <a:lnTo>
                    <a:pt x="1919" y="8"/>
                  </a:lnTo>
                  <a:lnTo>
                    <a:pt x="1919" y="6"/>
                  </a:lnTo>
                  <a:lnTo>
                    <a:pt x="1919" y="4"/>
                  </a:lnTo>
                  <a:lnTo>
                    <a:pt x="1920" y="2"/>
                  </a:lnTo>
                  <a:lnTo>
                    <a:pt x="1921" y="0"/>
                  </a:lnTo>
                  <a:lnTo>
                    <a:pt x="1922" y="0"/>
                  </a:lnTo>
                  <a:lnTo>
                    <a:pt x="1922" y="0"/>
                  </a:lnTo>
                  <a:close/>
                  <a:moveTo>
                    <a:pt x="1967" y="0"/>
                  </a:moveTo>
                  <a:lnTo>
                    <a:pt x="1986" y="0"/>
                  </a:lnTo>
                  <a:lnTo>
                    <a:pt x="1987" y="0"/>
                  </a:lnTo>
                  <a:lnTo>
                    <a:pt x="1989" y="2"/>
                  </a:lnTo>
                  <a:lnTo>
                    <a:pt x="1990" y="4"/>
                  </a:lnTo>
                  <a:lnTo>
                    <a:pt x="1990" y="6"/>
                  </a:lnTo>
                  <a:lnTo>
                    <a:pt x="1990" y="8"/>
                  </a:lnTo>
                  <a:lnTo>
                    <a:pt x="1989" y="10"/>
                  </a:lnTo>
                  <a:lnTo>
                    <a:pt x="1987" y="12"/>
                  </a:lnTo>
                  <a:lnTo>
                    <a:pt x="1986" y="12"/>
                  </a:lnTo>
                  <a:lnTo>
                    <a:pt x="1967" y="12"/>
                  </a:lnTo>
                  <a:lnTo>
                    <a:pt x="1966" y="12"/>
                  </a:lnTo>
                  <a:lnTo>
                    <a:pt x="1965" y="10"/>
                  </a:lnTo>
                  <a:lnTo>
                    <a:pt x="1964" y="8"/>
                  </a:lnTo>
                  <a:lnTo>
                    <a:pt x="1964" y="6"/>
                  </a:lnTo>
                  <a:lnTo>
                    <a:pt x="1964" y="4"/>
                  </a:lnTo>
                  <a:lnTo>
                    <a:pt x="1965" y="2"/>
                  </a:lnTo>
                  <a:lnTo>
                    <a:pt x="1966" y="0"/>
                  </a:lnTo>
                  <a:lnTo>
                    <a:pt x="1967" y="0"/>
                  </a:lnTo>
                  <a:lnTo>
                    <a:pt x="1967" y="0"/>
                  </a:lnTo>
                  <a:close/>
                  <a:moveTo>
                    <a:pt x="2011" y="0"/>
                  </a:moveTo>
                  <a:lnTo>
                    <a:pt x="2030" y="0"/>
                  </a:lnTo>
                  <a:lnTo>
                    <a:pt x="2031" y="0"/>
                  </a:lnTo>
                  <a:lnTo>
                    <a:pt x="2032" y="2"/>
                  </a:lnTo>
                  <a:lnTo>
                    <a:pt x="2033" y="4"/>
                  </a:lnTo>
                  <a:lnTo>
                    <a:pt x="2033" y="6"/>
                  </a:lnTo>
                  <a:lnTo>
                    <a:pt x="2033" y="8"/>
                  </a:lnTo>
                  <a:lnTo>
                    <a:pt x="2032" y="10"/>
                  </a:lnTo>
                  <a:lnTo>
                    <a:pt x="2031" y="12"/>
                  </a:lnTo>
                  <a:lnTo>
                    <a:pt x="2030" y="12"/>
                  </a:lnTo>
                  <a:lnTo>
                    <a:pt x="2011" y="12"/>
                  </a:lnTo>
                  <a:lnTo>
                    <a:pt x="2010" y="12"/>
                  </a:lnTo>
                  <a:lnTo>
                    <a:pt x="2009" y="10"/>
                  </a:lnTo>
                  <a:lnTo>
                    <a:pt x="2008" y="8"/>
                  </a:lnTo>
                  <a:lnTo>
                    <a:pt x="2008" y="6"/>
                  </a:lnTo>
                  <a:lnTo>
                    <a:pt x="2008" y="4"/>
                  </a:lnTo>
                  <a:lnTo>
                    <a:pt x="2009" y="2"/>
                  </a:lnTo>
                  <a:lnTo>
                    <a:pt x="2010" y="0"/>
                  </a:lnTo>
                  <a:lnTo>
                    <a:pt x="2011" y="0"/>
                  </a:lnTo>
                  <a:lnTo>
                    <a:pt x="2011" y="0"/>
                  </a:lnTo>
                  <a:close/>
                  <a:moveTo>
                    <a:pt x="2056" y="0"/>
                  </a:moveTo>
                  <a:lnTo>
                    <a:pt x="2075" y="0"/>
                  </a:lnTo>
                  <a:lnTo>
                    <a:pt x="2076" y="0"/>
                  </a:lnTo>
                  <a:lnTo>
                    <a:pt x="2077" y="2"/>
                  </a:lnTo>
                  <a:lnTo>
                    <a:pt x="2078" y="4"/>
                  </a:lnTo>
                  <a:lnTo>
                    <a:pt x="2078" y="6"/>
                  </a:lnTo>
                  <a:lnTo>
                    <a:pt x="2078" y="8"/>
                  </a:lnTo>
                  <a:lnTo>
                    <a:pt x="2077" y="10"/>
                  </a:lnTo>
                  <a:lnTo>
                    <a:pt x="2076" y="12"/>
                  </a:lnTo>
                  <a:lnTo>
                    <a:pt x="2075" y="12"/>
                  </a:lnTo>
                  <a:lnTo>
                    <a:pt x="2056" y="12"/>
                  </a:lnTo>
                  <a:lnTo>
                    <a:pt x="2055" y="12"/>
                  </a:lnTo>
                  <a:lnTo>
                    <a:pt x="2054" y="10"/>
                  </a:lnTo>
                  <a:lnTo>
                    <a:pt x="2053" y="8"/>
                  </a:lnTo>
                  <a:lnTo>
                    <a:pt x="2053" y="6"/>
                  </a:lnTo>
                  <a:lnTo>
                    <a:pt x="2053" y="4"/>
                  </a:lnTo>
                  <a:lnTo>
                    <a:pt x="2054" y="2"/>
                  </a:lnTo>
                  <a:lnTo>
                    <a:pt x="2055" y="0"/>
                  </a:lnTo>
                  <a:lnTo>
                    <a:pt x="2056" y="0"/>
                  </a:lnTo>
                  <a:lnTo>
                    <a:pt x="2056" y="0"/>
                  </a:lnTo>
                  <a:close/>
                  <a:moveTo>
                    <a:pt x="2101" y="0"/>
                  </a:moveTo>
                  <a:lnTo>
                    <a:pt x="2120" y="0"/>
                  </a:lnTo>
                  <a:lnTo>
                    <a:pt x="2121" y="0"/>
                  </a:lnTo>
                  <a:lnTo>
                    <a:pt x="2122" y="2"/>
                  </a:lnTo>
                  <a:lnTo>
                    <a:pt x="2123" y="4"/>
                  </a:lnTo>
                  <a:lnTo>
                    <a:pt x="2123" y="6"/>
                  </a:lnTo>
                  <a:lnTo>
                    <a:pt x="2123" y="8"/>
                  </a:lnTo>
                  <a:lnTo>
                    <a:pt x="2122" y="10"/>
                  </a:lnTo>
                  <a:lnTo>
                    <a:pt x="2121" y="12"/>
                  </a:lnTo>
                  <a:lnTo>
                    <a:pt x="2120" y="12"/>
                  </a:lnTo>
                  <a:lnTo>
                    <a:pt x="2101" y="12"/>
                  </a:lnTo>
                  <a:lnTo>
                    <a:pt x="2100" y="12"/>
                  </a:lnTo>
                  <a:lnTo>
                    <a:pt x="2099" y="10"/>
                  </a:lnTo>
                  <a:lnTo>
                    <a:pt x="2098" y="8"/>
                  </a:lnTo>
                  <a:lnTo>
                    <a:pt x="2098" y="6"/>
                  </a:lnTo>
                  <a:lnTo>
                    <a:pt x="2098" y="4"/>
                  </a:lnTo>
                  <a:lnTo>
                    <a:pt x="2099" y="2"/>
                  </a:lnTo>
                  <a:lnTo>
                    <a:pt x="2100" y="0"/>
                  </a:lnTo>
                  <a:lnTo>
                    <a:pt x="2101" y="0"/>
                  </a:lnTo>
                  <a:lnTo>
                    <a:pt x="2101" y="0"/>
                  </a:lnTo>
                  <a:close/>
                  <a:moveTo>
                    <a:pt x="2146" y="0"/>
                  </a:moveTo>
                  <a:lnTo>
                    <a:pt x="2164" y="0"/>
                  </a:lnTo>
                  <a:lnTo>
                    <a:pt x="2165" y="0"/>
                  </a:lnTo>
                  <a:lnTo>
                    <a:pt x="2167" y="2"/>
                  </a:lnTo>
                  <a:lnTo>
                    <a:pt x="2168" y="4"/>
                  </a:lnTo>
                  <a:lnTo>
                    <a:pt x="2168" y="6"/>
                  </a:lnTo>
                  <a:lnTo>
                    <a:pt x="2168" y="8"/>
                  </a:lnTo>
                  <a:lnTo>
                    <a:pt x="2167" y="10"/>
                  </a:lnTo>
                  <a:lnTo>
                    <a:pt x="2165" y="12"/>
                  </a:lnTo>
                  <a:lnTo>
                    <a:pt x="2164" y="12"/>
                  </a:lnTo>
                  <a:lnTo>
                    <a:pt x="2146" y="12"/>
                  </a:lnTo>
                  <a:lnTo>
                    <a:pt x="2145" y="12"/>
                  </a:lnTo>
                  <a:lnTo>
                    <a:pt x="2144" y="10"/>
                  </a:lnTo>
                  <a:lnTo>
                    <a:pt x="2143" y="8"/>
                  </a:lnTo>
                  <a:lnTo>
                    <a:pt x="2143" y="6"/>
                  </a:lnTo>
                  <a:lnTo>
                    <a:pt x="2143" y="4"/>
                  </a:lnTo>
                  <a:lnTo>
                    <a:pt x="2144" y="2"/>
                  </a:lnTo>
                  <a:lnTo>
                    <a:pt x="2145" y="0"/>
                  </a:lnTo>
                  <a:lnTo>
                    <a:pt x="2146" y="0"/>
                  </a:lnTo>
                  <a:lnTo>
                    <a:pt x="2146" y="0"/>
                  </a:lnTo>
                  <a:close/>
                  <a:moveTo>
                    <a:pt x="2190" y="0"/>
                  </a:moveTo>
                  <a:lnTo>
                    <a:pt x="2209" y="0"/>
                  </a:lnTo>
                  <a:lnTo>
                    <a:pt x="2210" y="0"/>
                  </a:lnTo>
                  <a:lnTo>
                    <a:pt x="2211" y="2"/>
                  </a:lnTo>
                  <a:lnTo>
                    <a:pt x="2212" y="4"/>
                  </a:lnTo>
                  <a:lnTo>
                    <a:pt x="2212" y="6"/>
                  </a:lnTo>
                  <a:lnTo>
                    <a:pt x="2212" y="8"/>
                  </a:lnTo>
                  <a:lnTo>
                    <a:pt x="2211" y="10"/>
                  </a:lnTo>
                  <a:lnTo>
                    <a:pt x="2210" y="12"/>
                  </a:lnTo>
                  <a:lnTo>
                    <a:pt x="2209" y="12"/>
                  </a:lnTo>
                  <a:lnTo>
                    <a:pt x="2190" y="12"/>
                  </a:lnTo>
                  <a:lnTo>
                    <a:pt x="2189" y="12"/>
                  </a:lnTo>
                  <a:lnTo>
                    <a:pt x="2188" y="10"/>
                  </a:lnTo>
                  <a:lnTo>
                    <a:pt x="2187" y="8"/>
                  </a:lnTo>
                  <a:lnTo>
                    <a:pt x="2187" y="6"/>
                  </a:lnTo>
                  <a:lnTo>
                    <a:pt x="2187" y="4"/>
                  </a:lnTo>
                  <a:lnTo>
                    <a:pt x="2188" y="2"/>
                  </a:lnTo>
                  <a:lnTo>
                    <a:pt x="2189" y="0"/>
                  </a:lnTo>
                  <a:lnTo>
                    <a:pt x="2190" y="0"/>
                  </a:lnTo>
                  <a:lnTo>
                    <a:pt x="2190" y="0"/>
                  </a:lnTo>
                  <a:close/>
                  <a:moveTo>
                    <a:pt x="2235" y="0"/>
                  </a:moveTo>
                  <a:lnTo>
                    <a:pt x="2254" y="0"/>
                  </a:lnTo>
                  <a:lnTo>
                    <a:pt x="2255" y="0"/>
                  </a:lnTo>
                  <a:lnTo>
                    <a:pt x="2256" y="2"/>
                  </a:lnTo>
                  <a:lnTo>
                    <a:pt x="2257" y="4"/>
                  </a:lnTo>
                  <a:lnTo>
                    <a:pt x="2257" y="6"/>
                  </a:lnTo>
                  <a:lnTo>
                    <a:pt x="2257" y="8"/>
                  </a:lnTo>
                  <a:lnTo>
                    <a:pt x="2256" y="10"/>
                  </a:lnTo>
                  <a:lnTo>
                    <a:pt x="2255" y="12"/>
                  </a:lnTo>
                  <a:lnTo>
                    <a:pt x="2254" y="12"/>
                  </a:lnTo>
                  <a:lnTo>
                    <a:pt x="2235" y="12"/>
                  </a:lnTo>
                  <a:lnTo>
                    <a:pt x="2234" y="12"/>
                  </a:lnTo>
                  <a:lnTo>
                    <a:pt x="2232" y="10"/>
                  </a:lnTo>
                  <a:lnTo>
                    <a:pt x="2231" y="8"/>
                  </a:lnTo>
                  <a:lnTo>
                    <a:pt x="2231" y="6"/>
                  </a:lnTo>
                  <a:lnTo>
                    <a:pt x="2231" y="4"/>
                  </a:lnTo>
                  <a:lnTo>
                    <a:pt x="2232" y="2"/>
                  </a:lnTo>
                  <a:lnTo>
                    <a:pt x="2234" y="0"/>
                  </a:lnTo>
                  <a:lnTo>
                    <a:pt x="2235" y="0"/>
                  </a:lnTo>
                  <a:lnTo>
                    <a:pt x="2235" y="0"/>
                  </a:lnTo>
                  <a:close/>
                  <a:moveTo>
                    <a:pt x="2279" y="0"/>
                  </a:moveTo>
                  <a:lnTo>
                    <a:pt x="2299" y="0"/>
                  </a:lnTo>
                  <a:lnTo>
                    <a:pt x="2300" y="0"/>
                  </a:lnTo>
                  <a:lnTo>
                    <a:pt x="2301" y="2"/>
                  </a:lnTo>
                  <a:lnTo>
                    <a:pt x="2302" y="4"/>
                  </a:lnTo>
                  <a:lnTo>
                    <a:pt x="2302" y="6"/>
                  </a:lnTo>
                  <a:lnTo>
                    <a:pt x="2302" y="8"/>
                  </a:lnTo>
                  <a:lnTo>
                    <a:pt x="2301" y="10"/>
                  </a:lnTo>
                  <a:lnTo>
                    <a:pt x="2300" y="12"/>
                  </a:lnTo>
                  <a:lnTo>
                    <a:pt x="2299" y="12"/>
                  </a:lnTo>
                  <a:lnTo>
                    <a:pt x="2279" y="12"/>
                  </a:lnTo>
                  <a:lnTo>
                    <a:pt x="2278" y="12"/>
                  </a:lnTo>
                  <a:lnTo>
                    <a:pt x="2277" y="10"/>
                  </a:lnTo>
                  <a:lnTo>
                    <a:pt x="2276" y="8"/>
                  </a:lnTo>
                  <a:lnTo>
                    <a:pt x="2276" y="6"/>
                  </a:lnTo>
                  <a:lnTo>
                    <a:pt x="2276" y="4"/>
                  </a:lnTo>
                  <a:lnTo>
                    <a:pt x="2277" y="2"/>
                  </a:lnTo>
                  <a:lnTo>
                    <a:pt x="2278" y="0"/>
                  </a:lnTo>
                  <a:lnTo>
                    <a:pt x="2279" y="0"/>
                  </a:lnTo>
                  <a:lnTo>
                    <a:pt x="2279" y="0"/>
                  </a:lnTo>
                  <a:close/>
                  <a:moveTo>
                    <a:pt x="2324" y="0"/>
                  </a:moveTo>
                  <a:lnTo>
                    <a:pt x="2343" y="0"/>
                  </a:lnTo>
                  <a:lnTo>
                    <a:pt x="2344" y="0"/>
                  </a:lnTo>
                  <a:lnTo>
                    <a:pt x="2346" y="2"/>
                  </a:lnTo>
                  <a:lnTo>
                    <a:pt x="2347" y="4"/>
                  </a:lnTo>
                  <a:lnTo>
                    <a:pt x="2347" y="6"/>
                  </a:lnTo>
                  <a:lnTo>
                    <a:pt x="2347" y="8"/>
                  </a:lnTo>
                  <a:lnTo>
                    <a:pt x="2346" y="10"/>
                  </a:lnTo>
                  <a:lnTo>
                    <a:pt x="2344" y="12"/>
                  </a:lnTo>
                  <a:lnTo>
                    <a:pt x="2343" y="12"/>
                  </a:lnTo>
                  <a:lnTo>
                    <a:pt x="2324" y="12"/>
                  </a:lnTo>
                  <a:lnTo>
                    <a:pt x="2323" y="12"/>
                  </a:lnTo>
                  <a:lnTo>
                    <a:pt x="2322" y="10"/>
                  </a:lnTo>
                  <a:lnTo>
                    <a:pt x="2321" y="8"/>
                  </a:lnTo>
                  <a:lnTo>
                    <a:pt x="2321" y="6"/>
                  </a:lnTo>
                  <a:lnTo>
                    <a:pt x="2321" y="4"/>
                  </a:lnTo>
                  <a:lnTo>
                    <a:pt x="2322" y="2"/>
                  </a:lnTo>
                  <a:lnTo>
                    <a:pt x="2323" y="0"/>
                  </a:lnTo>
                  <a:lnTo>
                    <a:pt x="2324" y="0"/>
                  </a:lnTo>
                  <a:lnTo>
                    <a:pt x="2324" y="0"/>
                  </a:lnTo>
                  <a:close/>
                  <a:moveTo>
                    <a:pt x="2368" y="0"/>
                  </a:moveTo>
                  <a:lnTo>
                    <a:pt x="2388" y="0"/>
                  </a:lnTo>
                  <a:lnTo>
                    <a:pt x="2389" y="0"/>
                  </a:lnTo>
                  <a:lnTo>
                    <a:pt x="2390" y="2"/>
                  </a:lnTo>
                  <a:lnTo>
                    <a:pt x="2391" y="4"/>
                  </a:lnTo>
                  <a:lnTo>
                    <a:pt x="2391" y="6"/>
                  </a:lnTo>
                  <a:lnTo>
                    <a:pt x="2391" y="8"/>
                  </a:lnTo>
                  <a:lnTo>
                    <a:pt x="2390" y="10"/>
                  </a:lnTo>
                  <a:lnTo>
                    <a:pt x="2389" y="12"/>
                  </a:lnTo>
                  <a:lnTo>
                    <a:pt x="2388" y="12"/>
                  </a:lnTo>
                  <a:lnTo>
                    <a:pt x="2368" y="12"/>
                  </a:lnTo>
                  <a:lnTo>
                    <a:pt x="2367" y="12"/>
                  </a:lnTo>
                  <a:lnTo>
                    <a:pt x="2366" y="10"/>
                  </a:lnTo>
                  <a:lnTo>
                    <a:pt x="2365" y="8"/>
                  </a:lnTo>
                  <a:lnTo>
                    <a:pt x="2365" y="6"/>
                  </a:lnTo>
                  <a:lnTo>
                    <a:pt x="2365" y="4"/>
                  </a:lnTo>
                  <a:lnTo>
                    <a:pt x="2366" y="2"/>
                  </a:lnTo>
                  <a:lnTo>
                    <a:pt x="2367" y="0"/>
                  </a:lnTo>
                  <a:lnTo>
                    <a:pt x="2368" y="0"/>
                  </a:lnTo>
                  <a:lnTo>
                    <a:pt x="2368" y="0"/>
                  </a:lnTo>
                  <a:close/>
                  <a:moveTo>
                    <a:pt x="2413" y="0"/>
                  </a:moveTo>
                  <a:lnTo>
                    <a:pt x="2433" y="0"/>
                  </a:lnTo>
                  <a:lnTo>
                    <a:pt x="2434" y="0"/>
                  </a:lnTo>
                  <a:lnTo>
                    <a:pt x="2435" y="2"/>
                  </a:lnTo>
                  <a:lnTo>
                    <a:pt x="2436" y="4"/>
                  </a:lnTo>
                  <a:lnTo>
                    <a:pt x="2436" y="6"/>
                  </a:lnTo>
                  <a:lnTo>
                    <a:pt x="2436" y="8"/>
                  </a:lnTo>
                  <a:lnTo>
                    <a:pt x="2435" y="10"/>
                  </a:lnTo>
                  <a:lnTo>
                    <a:pt x="2434" y="12"/>
                  </a:lnTo>
                  <a:lnTo>
                    <a:pt x="2433" y="12"/>
                  </a:lnTo>
                  <a:lnTo>
                    <a:pt x="2413" y="12"/>
                  </a:lnTo>
                  <a:lnTo>
                    <a:pt x="2412" y="12"/>
                  </a:lnTo>
                  <a:lnTo>
                    <a:pt x="2411" y="10"/>
                  </a:lnTo>
                  <a:lnTo>
                    <a:pt x="2410" y="8"/>
                  </a:lnTo>
                  <a:lnTo>
                    <a:pt x="2410" y="6"/>
                  </a:lnTo>
                  <a:lnTo>
                    <a:pt x="2410" y="4"/>
                  </a:lnTo>
                  <a:lnTo>
                    <a:pt x="2411" y="2"/>
                  </a:lnTo>
                  <a:lnTo>
                    <a:pt x="2412" y="0"/>
                  </a:lnTo>
                  <a:lnTo>
                    <a:pt x="2413" y="0"/>
                  </a:lnTo>
                  <a:lnTo>
                    <a:pt x="2413" y="0"/>
                  </a:lnTo>
                  <a:close/>
                  <a:moveTo>
                    <a:pt x="2458" y="0"/>
                  </a:moveTo>
                  <a:lnTo>
                    <a:pt x="2477" y="0"/>
                  </a:lnTo>
                  <a:lnTo>
                    <a:pt x="2478" y="0"/>
                  </a:lnTo>
                  <a:lnTo>
                    <a:pt x="2479" y="2"/>
                  </a:lnTo>
                  <a:lnTo>
                    <a:pt x="2480" y="4"/>
                  </a:lnTo>
                  <a:lnTo>
                    <a:pt x="2480" y="6"/>
                  </a:lnTo>
                  <a:lnTo>
                    <a:pt x="2480" y="8"/>
                  </a:lnTo>
                  <a:lnTo>
                    <a:pt x="2479" y="10"/>
                  </a:lnTo>
                  <a:lnTo>
                    <a:pt x="2478" y="12"/>
                  </a:lnTo>
                  <a:lnTo>
                    <a:pt x="2477" y="12"/>
                  </a:lnTo>
                  <a:lnTo>
                    <a:pt x="2458" y="12"/>
                  </a:lnTo>
                  <a:lnTo>
                    <a:pt x="2457" y="12"/>
                  </a:lnTo>
                  <a:lnTo>
                    <a:pt x="2456" y="10"/>
                  </a:lnTo>
                  <a:lnTo>
                    <a:pt x="2455" y="8"/>
                  </a:lnTo>
                  <a:lnTo>
                    <a:pt x="2455" y="6"/>
                  </a:lnTo>
                  <a:lnTo>
                    <a:pt x="2455" y="4"/>
                  </a:lnTo>
                  <a:lnTo>
                    <a:pt x="2456" y="2"/>
                  </a:lnTo>
                  <a:lnTo>
                    <a:pt x="2457" y="0"/>
                  </a:lnTo>
                  <a:lnTo>
                    <a:pt x="2458" y="0"/>
                  </a:lnTo>
                  <a:lnTo>
                    <a:pt x="2458" y="0"/>
                  </a:lnTo>
                  <a:close/>
                  <a:moveTo>
                    <a:pt x="2503" y="0"/>
                  </a:moveTo>
                  <a:lnTo>
                    <a:pt x="2521" y="0"/>
                  </a:lnTo>
                  <a:lnTo>
                    <a:pt x="2522" y="0"/>
                  </a:lnTo>
                  <a:lnTo>
                    <a:pt x="2524" y="2"/>
                  </a:lnTo>
                  <a:lnTo>
                    <a:pt x="2525" y="4"/>
                  </a:lnTo>
                  <a:lnTo>
                    <a:pt x="2525" y="6"/>
                  </a:lnTo>
                  <a:lnTo>
                    <a:pt x="2525" y="8"/>
                  </a:lnTo>
                  <a:lnTo>
                    <a:pt x="2524" y="10"/>
                  </a:lnTo>
                  <a:lnTo>
                    <a:pt x="2522" y="12"/>
                  </a:lnTo>
                  <a:lnTo>
                    <a:pt x="2521" y="12"/>
                  </a:lnTo>
                  <a:lnTo>
                    <a:pt x="2503" y="12"/>
                  </a:lnTo>
                  <a:lnTo>
                    <a:pt x="2502" y="12"/>
                  </a:lnTo>
                  <a:lnTo>
                    <a:pt x="2501" y="10"/>
                  </a:lnTo>
                  <a:lnTo>
                    <a:pt x="2500" y="8"/>
                  </a:lnTo>
                  <a:lnTo>
                    <a:pt x="2500" y="6"/>
                  </a:lnTo>
                  <a:lnTo>
                    <a:pt x="2500" y="4"/>
                  </a:lnTo>
                  <a:lnTo>
                    <a:pt x="2501" y="2"/>
                  </a:lnTo>
                  <a:lnTo>
                    <a:pt x="2502" y="0"/>
                  </a:lnTo>
                  <a:lnTo>
                    <a:pt x="2503" y="0"/>
                  </a:lnTo>
                  <a:lnTo>
                    <a:pt x="2503" y="0"/>
                  </a:lnTo>
                  <a:close/>
                  <a:moveTo>
                    <a:pt x="2547" y="0"/>
                  </a:moveTo>
                  <a:lnTo>
                    <a:pt x="2566" y="0"/>
                  </a:lnTo>
                  <a:lnTo>
                    <a:pt x="2567" y="0"/>
                  </a:lnTo>
                  <a:lnTo>
                    <a:pt x="2568" y="2"/>
                  </a:lnTo>
                  <a:lnTo>
                    <a:pt x="2569" y="4"/>
                  </a:lnTo>
                  <a:lnTo>
                    <a:pt x="2569" y="6"/>
                  </a:lnTo>
                  <a:lnTo>
                    <a:pt x="2569" y="8"/>
                  </a:lnTo>
                  <a:lnTo>
                    <a:pt x="2568" y="10"/>
                  </a:lnTo>
                  <a:lnTo>
                    <a:pt x="2567" y="12"/>
                  </a:lnTo>
                  <a:lnTo>
                    <a:pt x="2566" y="12"/>
                  </a:lnTo>
                  <a:lnTo>
                    <a:pt x="2547" y="12"/>
                  </a:lnTo>
                  <a:lnTo>
                    <a:pt x="2546" y="12"/>
                  </a:lnTo>
                  <a:lnTo>
                    <a:pt x="2545" y="10"/>
                  </a:lnTo>
                  <a:lnTo>
                    <a:pt x="2544" y="8"/>
                  </a:lnTo>
                  <a:lnTo>
                    <a:pt x="2544" y="6"/>
                  </a:lnTo>
                  <a:lnTo>
                    <a:pt x="2544" y="4"/>
                  </a:lnTo>
                  <a:lnTo>
                    <a:pt x="2545" y="2"/>
                  </a:lnTo>
                  <a:lnTo>
                    <a:pt x="2546" y="0"/>
                  </a:lnTo>
                  <a:lnTo>
                    <a:pt x="2547" y="0"/>
                  </a:lnTo>
                  <a:lnTo>
                    <a:pt x="2547" y="0"/>
                  </a:lnTo>
                  <a:close/>
                  <a:moveTo>
                    <a:pt x="2592" y="0"/>
                  </a:moveTo>
                  <a:lnTo>
                    <a:pt x="2611" y="0"/>
                  </a:lnTo>
                  <a:lnTo>
                    <a:pt x="2612" y="0"/>
                  </a:lnTo>
                  <a:lnTo>
                    <a:pt x="2613" y="2"/>
                  </a:lnTo>
                  <a:lnTo>
                    <a:pt x="2614" y="4"/>
                  </a:lnTo>
                  <a:lnTo>
                    <a:pt x="2614" y="6"/>
                  </a:lnTo>
                  <a:lnTo>
                    <a:pt x="2614" y="8"/>
                  </a:lnTo>
                  <a:lnTo>
                    <a:pt x="2613" y="10"/>
                  </a:lnTo>
                  <a:lnTo>
                    <a:pt x="2612" y="12"/>
                  </a:lnTo>
                  <a:lnTo>
                    <a:pt x="2611" y="12"/>
                  </a:lnTo>
                  <a:lnTo>
                    <a:pt x="2592" y="12"/>
                  </a:lnTo>
                  <a:lnTo>
                    <a:pt x="2591" y="12"/>
                  </a:lnTo>
                  <a:lnTo>
                    <a:pt x="2590" y="10"/>
                  </a:lnTo>
                  <a:lnTo>
                    <a:pt x="2589" y="8"/>
                  </a:lnTo>
                  <a:lnTo>
                    <a:pt x="2589" y="6"/>
                  </a:lnTo>
                  <a:lnTo>
                    <a:pt x="2589" y="4"/>
                  </a:lnTo>
                  <a:lnTo>
                    <a:pt x="2590" y="2"/>
                  </a:lnTo>
                  <a:lnTo>
                    <a:pt x="2591" y="0"/>
                  </a:lnTo>
                  <a:lnTo>
                    <a:pt x="2592" y="0"/>
                  </a:lnTo>
                  <a:lnTo>
                    <a:pt x="2592" y="0"/>
                  </a:lnTo>
                  <a:close/>
                  <a:moveTo>
                    <a:pt x="2637" y="0"/>
                  </a:moveTo>
                  <a:lnTo>
                    <a:pt x="2656" y="0"/>
                  </a:lnTo>
                  <a:lnTo>
                    <a:pt x="2657" y="0"/>
                  </a:lnTo>
                  <a:lnTo>
                    <a:pt x="2658" y="2"/>
                  </a:lnTo>
                  <a:lnTo>
                    <a:pt x="2659" y="4"/>
                  </a:lnTo>
                  <a:lnTo>
                    <a:pt x="2659" y="6"/>
                  </a:lnTo>
                  <a:lnTo>
                    <a:pt x="2659" y="8"/>
                  </a:lnTo>
                  <a:lnTo>
                    <a:pt x="2658" y="10"/>
                  </a:lnTo>
                  <a:lnTo>
                    <a:pt x="2657" y="12"/>
                  </a:lnTo>
                  <a:lnTo>
                    <a:pt x="2656" y="12"/>
                  </a:lnTo>
                  <a:lnTo>
                    <a:pt x="2637" y="12"/>
                  </a:lnTo>
                  <a:lnTo>
                    <a:pt x="2636" y="12"/>
                  </a:lnTo>
                  <a:lnTo>
                    <a:pt x="2635" y="10"/>
                  </a:lnTo>
                  <a:lnTo>
                    <a:pt x="2634" y="8"/>
                  </a:lnTo>
                  <a:lnTo>
                    <a:pt x="2634" y="6"/>
                  </a:lnTo>
                  <a:lnTo>
                    <a:pt x="2634" y="4"/>
                  </a:lnTo>
                  <a:lnTo>
                    <a:pt x="2635" y="2"/>
                  </a:lnTo>
                  <a:lnTo>
                    <a:pt x="2636" y="0"/>
                  </a:lnTo>
                  <a:lnTo>
                    <a:pt x="2637" y="0"/>
                  </a:lnTo>
                  <a:lnTo>
                    <a:pt x="2637" y="0"/>
                  </a:lnTo>
                  <a:close/>
                  <a:moveTo>
                    <a:pt x="2682" y="0"/>
                  </a:moveTo>
                  <a:lnTo>
                    <a:pt x="2700" y="0"/>
                  </a:lnTo>
                  <a:lnTo>
                    <a:pt x="2701" y="0"/>
                  </a:lnTo>
                  <a:lnTo>
                    <a:pt x="2703" y="2"/>
                  </a:lnTo>
                  <a:lnTo>
                    <a:pt x="2704" y="4"/>
                  </a:lnTo>
                  <a:lnTo>
                    <a:pt x="2704" y="6"/>
                  </a:lnTo>
                  <a:lnTo>
                    <a:pt x="2704" y="8"/>
                  </a:lnTo>
                  <a:lnTo>
                    <a:pt x="2703" y="10"/>
                  </a:lnTo>
                  <a:lnTo>
                    <a:pt x="2701" y="12"/>
                  </a:lnTo>
                  <a:lnTo>
                    <a:pt x="2700" y="12"/>
                  </a:lnTo>
                  <a:lnTo>
                    <a:pt x="2682" y="12"/>
                  </a:lnTo>
                  <a:lnTo>
                    <a:pt x="2680" y="12"/>
                  </a:lnTo>
                  <a:lnTo>
                    <a:pt x="2679" y="10"/>
                  </a:lnTo>
                  <a:lnTo>
                    <a:pt x="2678" y="8"/>
                  </a:lnTo>
                  <a:lnTo>
                    <a:pt x="2678" y="6"/>
                  </a:lnTo>
                  <a:lnTo>
                    <a:pt x="2678" y="4"/>
                  </a:lnTo>
                  <a:lnTo>
                    <a:pt x="2679" y="2"/>
                  </a:lnTo>
                  <a:lnTo>
                    <a:pt x="2680" y="0"/>
                  </a:lnTo>
                  <a:lnTo>
                    <a:pt x="2682" y="0"/>
                  </a:lnTo>
                  <a:lnTo>
                    <a:pt x="2682" y="0"/>
                  </a:lnTo>
                  <a:close/>
                  <a:moveTo>
                    <a:pt x="2725" y="0"/>
                  </a:moveTo>
                  <a:lnTo>
                    <a:pt x="2745" y="0"/>
                  </a:lnTo>
                  <a:lnTo>
                    <a:pt x="2746" y="0"/>
                  </a:lnTo>
                  <a:lnTo>
                    <a:pt x="2747" y="2"/>
                  </a:lnTo>
                  <a:lnTo>
                    <a:pt x="2748" y="4"/>
                  </a:lnTo>
                  <a:lnTo>
                    <a:pt x="2748" y="6"/>
                  </a:lnTo>
                  <a:lnTo>
                    <a:pt x="2748" y="8"/>
                  </a:lnTo>
                  <a:lnTo>
                    <a:pt x="2747" y="10"/>
                  </a:lnTo>
                  <a:lnTo>
                    <a:pt x="2746" y="12"/>
                  </a:lnTo>
                  <a:lnTo>
                    <a:pt x="2745" y="12"/>
                  </a:lnTo>
                  <a:lnTo>
                    <a:pt x="2725" y="12"/>
                  </a:lnTo>
                  <a:lnTo>
                    <a:pt x="2724" y="12"/>
                  </a:lnTo>
                  <a:lnTo>
                    <a:pt x="2723" y="10"/>
                  </a:lnTo>
                  <a:lnTo>
                    <a:pt x="2722" y="8"/>
                  </a:lnTo>
                  <a:lnTo>
                    <a:pt x="2722" y="6"/>
                  </a:lnTo>
                  <a:lnTo>
                    <a:pt x="2722" y="4"/>
                  </a:lnTo>
                  <a:lnTo>
                    <a:pt x="2723" y="2"/>
                  </a:lnTo>
                  <a:lnTo>
                    <a:pt x="2724" y="0"/>
                  </a:lnTo>
                  <a:lnTo>
                    <a:pt x="2725" y="0"/>
                  </a:lnTo>
                  <a:lnTo>
                    <a:pt x="2725" y="0"/>
                  </a:lnTo>
                  <a:close/>
                  <a:moveTo>
                    <a:pt x="2770" y="0"/>
                  </a:moveTo>
                  <a:lnTo>
                    <a:pt x="2790" y="0"/>
                  </a:lnTo>
                  <a:lnTo>
                    <a:pt x="2791" y="0"/>
                  </a:lnTo>
                  <a:lnTo>
                    <a:pt x="2792" y="2"/>
                  </a:lnTo>
                  <a:lnTo>
                    <a:pt x="2793" y="4"/>
                  </a:lnTo>
                  <a:lnTo>
                    <a:pt x="2793" y="6"/>
                  </a:lnTo>
                  <a:lnTo>
                    <a:pt x="2793" y="8"/>
                  </a:lnTo>
                  <a:lnTo>
                    <a:pt x="2792" y="10"/>
                  </a:lnTo>
                  <a:lnTo>
                    <a:pt x="2791" y="12"/>
                  </a:lnTo>
                  <a:lnTo>
                    <a:pt x="2790" y="12"/>
                  </a:lnTo>
                  <a:lnTo>
                    <a:pt x="2770" y="12"/>
                  </a:lnTo>
                  <a:lnTo>
                    <a:pt x="2769" y="12"/>
                  </a:lnTo>
                  <a:lnTo>
                    <a:pt x="2768" y="10"/>
                  </a:lnTo>
                  <a:lnTo>
                    <a:pt x="2767" y="8"/>
                  </a:lnTo>
                  <a:lnTo>
                    <a:pt x="2767" y="6"/>
                  </a:lnTo>
                  <a:lnTo>
                    <a:pt x="2767" y="4"/>
                  </a:lnTo>
                  <a:lnTo>
                    <a:pt x="2768" y="2"/>
                  </a:lnTo>
                  <a:lnTo>
                    <a:pt x="2769" y="0"/>
                  </a:lnTo>
                  <a:lnTo>
                    <a:pt x="2770" y="0"/>
                  </a:lnTo>
                  <a:lnTo>
                    <a:pt x="2770" y="0"/>
                  </a:lnTo>
                  <a:close/>
                  <a:moveTo>
                    <a:pt x="2815" y="0"/>
                  </a:moveTo>
                  <a:lnTo>
                    <a:pt x="2835" y="0"/>
                  </a:lnTo>
                  <a:lnTo>
                    <a:pt x="2836" y="0"/>
                  </a:lnTo>
                  <a:lnTo>
                    <a:pt x="2837" y="2"/>
                  </a:lnTo>
                  <a:lnTo>
                    <a:pt x="2838" y="4"/>
                  </a:lnTo>
                  <a:lnTo>
                    <a:pt x="2838" y="6"/>
                  </a:lnTo>
                  <a:lnTo>
                    <a:pt x="2838" y="8"/>
                  </a:lnTo>
                  <a:lnTo>
                    <a:pt x="2837" y="10"/>
                  </a:lnTo>
                  <a:lnTo>
                    <a:pt x="2836" y="12"/>
                  </a:lnTo>
                  <a:lnTo>
                    <a:pt x="2835" y="12"/>
                  </a:lnTo>
                  <a:lnTo>
                    <a:pt x="2815" y="12"/>
                  </a:lnTo>
                  <a:lnTo>
                    <a:pt x="2814" y="12"/>
                  </a:lnTo>
                  <a:lnTo>
                    <a:pt x="2813" y="10"/>
                  </a:lnTo>
                  <a:lnTo>
                    <a:pt x="2812" y="8"/>
                  </a:lnTo>
                  <a:lnTo>
                    <a:pt x="2812" y="6"/>
                  </a:lnTo>
                  <a:lnTo>
                    <a:pt x="2812" y="4"/>
                  </a:lnTo>
                  <a:lnTo>
                    <a:pt x="2813" y="2"/>
                  </a:lnTo>
                  <a:lnTo>
                    <a:pt x="2814" y="0"/>
                  </a:lnTo>
                  <a:lnTo>
                    <a:pt x="2815" y="0"/>
                  </a:lnTo>
                  <a:lnTo>
                    <a:pt x="2815" y="0"/>
                  </a:lnTo>
                  <a:close/>
                  <a:moveTo>
                    <a:pt x="2860" y="0"/>
                  </a:moveTo>
                  <a:lnTo>
                    <a:pt x="2878" y="0"/>
                  </a:lnTo>
                  <a:lnTo>
                    <a:pt x="2880" y="0"/>
                  </a:lnTo>
                  <a:lnTo>
                    <a:pt x="2882" y="2"/>
                  </a:lnTo>
                  <a:lnTo>
                    <a:pt x="2883" y="4"/>
                  </a:lnTo>
                  <a:lnTo>
                    <a:pt x="2883" y="6"/>
                  </a:lnTo>
                  <a:lnTo>
                    <a:pt x="2883" y="8"/>
                  </a:lnTo>
                  <a:lnTo>
                    <a:pt x="2882" y="10"/>
                  </a:lnTo>
                  <a:lnTo>
                    <a:pt x="2880" y="12"/>
                  </a:lnTo>
                  <a:lnTo>
                    <a:pt x="2878" y="12"/>
                  </a:lnTo>
                  <a:lnTo>
                    <a:pt x="2860" y="12"/>
                  </a:lnTo>
                  <a:lnTo>
                    <a:pt x="2859" y="12"/>
                  </a:lnTo>
                  <a:lnTo>
                    <a:pt x="2858" y="10"/>
                  </a:lnTo>
                  <a:lnTo>
                    <a:pt x="2857" y="8"/>
                  </a:lnTo>
                  <a:lnTo>
                    <a:pt x="2857" y="6"/>
                  </a:lnTo>
                  <a:lnTo>
                    <a:pt x="2857" y="4"/>
                  </a:lnTo>
                  <a:lnTo>
                    <a:pt x="2858" y="2"/>
                  </a:lnTo>
                  <a:lnTo>
                    <a:pt x="2859" y="0"/>
                  </a:lnTo>
                  <a:lnTo>
                    <a:pt x="2860" y="0"/>
                  </a:lnTo>
                  <a:lnTo>
                    <a:pt x="2860" y="0"/>
                  </a:lnTo>
                  <a:close/>
                  <a:moveTo>
                    <a:pt x="2904" y="0"/>
                  </a:moveTo>
                  <a:lnTo>
                    <a:pt x="2923" y="0"/>
                  </a:lnTo>
                  <a:lnTo>
                    <a:pt x="2924" y="0"/>
                  </a:lnTo>
                  <a:lnTo>
                    <a:pt x="2925" y="2"/>
                  </a:lnTo>
                  <a:lnTo>
                    <a:pt x="2926" y="4"/>
                  </a:lnTo>
                  <a:lnTo>
                    <a:pt x="2926" y="6"/>
                  </a:lnTo>
                  <a:lnTo>
                    <a:pt x="2926" y="8"/>
                  </a:lnTo>
                  <a:lnTo>
                    <a:pt x="2925" y="10"/>
                  </a:lnTo>
                  <a:lnTo>
                    <a:pt x="2924" y="12"/>
                  </a:lnTo>
                  <a:lnTo>
                    <a:pt x="2923" y="12"/>
                  </a:lnTo>
                  <a:lnTo>
                    <a:pt x="2904" y="12"/>
                  </a:lnTo>
                  <a:lnTo>
                    <a:pt x="2903" y="12"/>
                  </a:lnTo>
                  <a:lnTo>
                    <a:pt x="2902" y="10"/>
                  </a:lnTo>
                  <a:lnTo>
                    <a:pt x="2901" y="8"/>
                  </a:lnTo>
                  <a:lnTo>
                    <a:pt x="2901" y="6"/>
                  </a:lnTo>
                  <a:lnTo>
                    <a:pt x="2901" y="4"/>
                  </a:lnTo>
                  <a:lnTo>
                    <a:pt x="2902" y="2"/>
                  </a:lnTo>
                  <a:lnTo>
                    <a:pt x="2903" y="0"/>
                  </a:lnTo>
                  <a:lnTo>
                    <a:pt x="2904" y="0"/>
                  </a:lnTo>
                  <a:lnTo>
                    <a:pt x="2904" y="0"/>
                  </a:lnTo>
                  <a:close/>
                  <a:moveTo>
                    <a:pt x="2949" y="0"/>
                  </a:moveTo>
                  <a:lnTo>
                    <a:pt x="2968" y="0"/>
                  </a:lnTo>
                  <a:lnTo>
                    <a:pt x="2969" y="0"/>
                  </a:lnTo>
                  <a:lnTo>
                    <a:pt x="2970" y="2"/>
                  </a:lnTo>
                  <a:lnTo>
                    <a:pt x="2971" y="4"/>
                  </a:lnTo>
                  <a:lnTo>
                    <a:pt x="2971" y="6"/>
                  </a:lnTo>
                  <a:lnTo>
                    <a:pt x="2971" y="8"/>
                  </a:lnTo>
                  <a:lnTo>
                    <a:pt x="2970" y="10"/>
                  </a:lnTo>
                  <a:lnTo>
                    <a:pt x="2969" y="12"/>
                  </a:lnTo>
                  <a:lnTo>
                    <a:pt x="2968" y="12"/>
                  </a:lnTo>
                  <a:lnTo>
                    <a:pt x="2949" y="12"/>
                  </a:lnTo>
                  <a:lnTo>
                    <a:pt x="2948" y="12"/>
                  </a:lnTo>
                  <a:lnTo>
                    <a:pt x="2947" y="10"/>
                  </a:lnTo>
                  <a:lnTo>
                    <a:pt x="2946" y="8"/>
                  </a:lnTo>
                  <a:lnTo>
                    <a:pt x="2946" y="6"/>
                  </a:lnTo>
                  <a:lnTo>
                    <a:pt x="2946" y="4"/>
                  </a:lnTo>
                  <a:lnTo>
                    <a:pt x="2947" y="2"/>
                  </a:lnTo>
                  <a:lnTo>
                    <a:pt x="2948" y="0"/>
                  </a:lnTo>
                  <a:lnTo>
                    <a:pt x="2949" y="0"/>
                  </a:lnTo>
                  <a:lnTo>
                    <a:pt x="2949" y="0"/>
                  </a:lnTo>
                  <a:close/>
                  <a:moveTo>
                    <a:pt x="2994" y="0"/>
                  </a:moveTo>
                  <a:lnTo>
                    <a:pt x="3013" y="0"/>
                  </a:lnTo>
                  <a:lnTo>
                    <a:pt x="3014" y="0"/>
                  </a:lnTo>
                  <a:lnTo>
                    <a:pt x="3015" y="2"/>
                  </a:lnTo>
                  <a:lnTo>
                    <a:pt x="3016" y="4"/>
                  </a:lnTo>
                  <a:lnTo>
                    <a:pt x="3016" y="6"/>
                  </a:lnTo>
                  <a:lnTo>
                    <a:pt x="3016" y="8"/>
                  </a:lnTo>
                  <a:lnTo>
                    <a:pt x="3015" y="10"/>
                  </a:lnTo>
                  <a:lnTo>
                    <a:pt x="3014" y="12"/>
                  </a:lnTo>
                  <a:lnTo>
                    <a:pt x="3013" y="12"/>
                  </a:lnTo>
                  <a:lnTo>
                    <a:pt x="2994" y="12"/>
                  </a:lnTo>
                  <a:lnTo>
                    <a:pt x="2993" y="12"/>
                  </a:lnTo>
                  <a:lnTo>
                    <a:pt x="2992" y="10"/>
                  </a:lnTo>
                  <a:lnTo>
                    <a:pt x="2991" y="8"/>
                  </a:lnTo>
                  <a:lnTo>
                    <a:pt x="2991" y="6"/>
                  </a:lnTo>
                  <a:lnTo>
                    <a:pt x="2991" y="4"/>
                  </a:lnTo>
                  <a:lnTo>
                    <a:pt x="2992" y="2"/>
                  </a:lnTo>
                  <a:lnTo>
                    <a:pt x="2993" y="0"/>
                  </a:lnTo>
                  <a:lnTo>
                    <a:pt x="2994" y="0"/>
                  </a:lnTo>
                  <a:lnTo>
                    <a:pt x="2994" y="0"/>
                  </a:lnTo>
                  <a:close/>
                  <a:moveTo>
                    <a:pt x="3039" y="0"/>
                  </a:moveTo>
                  <a:lnTo>
                    <a:pt x="3057" y="0"/>
                  </a:lnTo>
                  <a:lnTo>
                    <a:pt x="3058" y="0"/>
                  </a:lnTo>
                  <a:lnTo>
                    <a:pt x="3060" y="2"/>
                  </a:lnTo>
                  <a:lnTo>
                    <a:pt x="3061" y="4"/>
                  </a:lnTo>
                  <a:lnTo>
                    <a:pt x="3061" y="6"/>
                  </a:lnTo>
                  <a:lnTo>
                    <a:pt x="3061" y="8"/>
                  </a:lnTo>
                  <a:lnTo>
                    <a:pt x="3060" y="10"/>
                  </a:lnTo>
                  <a:lnTo>
                    <a:pt x="3058" y="12"/>
                  </a:lnTo>
                  <a:lnTo>
                    <a:pt x="3057" y="12"/>
                  </a:lnTo>
                  <a:lnTo>
                    <a:pt x="3039" y="12"/>
                  </a:lnTo>
                  <a:lnTo>
                    <a:pt x="3038" y="12"/>
                  </a:lnTo>
                  <a:lnTo>
                    <a:pt x="3037" y="10"/>
                  </a:lnTo>
                  <a:lnTo>
                    <a:pt x="3036" y="8"/>
                  </a:lnTo>
                  <a:lnTo>
                    <a:pt x="3036" y="6"/>
                  </a:lnTo>
                  <a:lnTo>
                    <a:pt x="3036" y="4"/>
                  </a:lnTo>
                  <a:lnTo>
                    <a:pt x="3037" y="2"/>
                  </a:lnTo>
                  <a:lnTo>
                    <a:pt x="3038" y="0"/>
                  </a:lnTo>
                  <a:lnTo>
                    <a:pt x="3039" y="0"/>
                  </a:lnTo>
                  <a:lnTo>
                    <a:pt x="3039" y="0"/>
                  </a:lnTo>
                  <a:close/>
                  <a:moveTo>
                    <a:pt x="3083" y="0"/>
                  </a:moveTo>
                  <a:lnTo>
                    <a:pt x="3102" y="0"/>
                  </a:lnTo>
                  <a:lnTo>
                    <a:pt x="3103" y="0"/>
                  </a:lnTo>
                  <a:lnTo>
                    <a:pt x="3104" y="2"/>
                  </a:lnTo>
                  <a:lnTo>
                    <a:pt x="3105" y="4"/>
                  </a:lnTo>
                  <a:lnTo>
                    <a:pt x="3105" y="6"/>
                  </a:lnTo>
                  <a:lnTo>
                    <a:pt x="3105" y="8"/>
                  </a:lnTo>
                  <a:lnTo>
                    <a:pt x="3104" y="10"/>
                  </a:lnTo>
                  <a:lnTo>
                    <a:pt x="3103" y="12"/>
                  </a:lnTo>
                  <a:lnTo>
                    <a:pt x="3102" y="12"/>
                  </a:lnTo>
                  <a:lnTo>
                    <a:pt x="3083" y="12"/>
                  </a:lnTo>
                  <a:lnTo>
                    <a:pt x="3082" y="12"/>
                  </a:lnTo>
                  <a:lnTo>
                    <a:pt x="3081" y="10"/>
                  </a:lnTo>
                  <a:lnTo>
                    <a:pt x="3080" y="8"/>
                  </a:lnTo>
                  <a:lnTo>
                    <a:pt x="3080" y="6"/>
                  </a:lnTo>
                  <a:lnTo>
                    <a:pt x="3080" y="4"/>
                  </a:lnTo>
                  <a:lnTo>
                    <a:pt x="3081" y="2"/>
                  </a:lnTo>
                  <a:lnTo>
                    <a:pt x="3082" y="0"/>
                  </a:lnTo>
                  <a:lnTo>
                    <a:pt x="3083" y="0"/>
                  </a:lnTo>
                  <a:lnTo>
                    <a:pt x="3083" y="0"/>
                  </a:lnTo>
                  <a:close/>
                  <a:moveTo>
                    <a:pt x="3127" y="0"/>
                  </a:moveTo>
                  <a:lnTo>
                    <a:pt x="3147" y="0"/>
                  </a:lnTo>
                  <a:lnTo>
                    <a:pt x="3148" y="0"/>
                  </a:lnTo>
                  <a:lnTo>
                    <a:pt x="3149" y="2"/>
                  </a:lnTo>
                  <a:lnTo>
                    <a:pt x="3150" y="4"/>
                  </a:lnTo>
                  <a:lnTo>
                    <a:pt x="3150" y="6"/>
                  </a:lnTo>
                  <a:lnTo>
                    <a:pt x="3150" y="8"/>
                  </a:lnTo>
                  <a:lnTo>
                    <a:pt x="3149" y="10"/>
                  </a:lnTo>
                  <a:lnTo>
                    <a:pt x="3148" y="12"/>
                  </a:lnTo>
                  <a:lnTo>
                    <a:pt x="3147" y="12"/>
                  </a:lnTo>
                  <a:lnTo>
                    <a:pt x="3127" y="12"/>
                  </a:lnTo>
                  <a:lnTo>
                    <a:pt x="3126" y="12"/>
                  </a:lnTo>
                  <a:lnTo>
                    <a:pt x="3125" y="10"/>
                  </a:lnTo>
                  <a:lnTo>
                    <a:pt x="3124" y="8"/>
                  </a:lnTo>
                  <a:lnTo>
                    <a:pt x="3124" y="6"/>
                  </a:lnTo>
                  <a:lnTo>
                    <a:pt x="3124" y="4"/>
                  </a:lnTo>
                  <a:lnTo>
                    <a:pt x="3125" y="2"/>
                  </a:lnTo>
                  <a:lnTo>
                    <a:pt x="3126" y="0"/>
                  </a:lnTo>
                  <a:lnTo>
                    <a:pt x="3127" y="0"/>
                  </a:lnTo>
                  <a:lnTo>
                    <a:pt x="3127" y="0"/>
                  </a:lnTo>
                  <a:close/>
                  <a:moveTo>
                    <a:pt x="3172" y="0"/>
                  </a:moveTo>
                  <a:lnTo>
                    <a:pt x="3192" y="0"/>
                  </a:lnTo>
                  <a:lnTo>
                    <a:pt x="3193" y="0"/>
                  </a:lnTo>
                  <a:lnTo>
                    <a:pt x="3194" y="2"/>
                  </a:lnTo>
                  <a:lnTo>
                    <a:pt x="3195" y="4"/>
                  </a:lnTo>
                  <a:lnTo>
                    <a:pt x="3195" y="6"/>
                  </a:lnTo>
                  <a:lnTo>
                    <a:pt x="3195" y="8"/>
                  </a:lnTo>
                  <a:lnTo>
                    <a:pt x="3194" y="10"/>
                  </a:lnTo>
                  <a:lnTo>
                    <a:pt x="3193" y="12"/>
                  </a:lnTo>
                  <a:lnTo>
                    <a:pt x="3192" y="12"/>
                  </a:lnTo>
                  <a:lnTo>
                    <a:pt x="3172" y="12"/>
                  </a:lnTo>
                  <a:lnTo>
                    <a:pt x="3171" y="12"/>
                  </a:lnTo>
                  <a:lnTo>
                    <a:pt x="3170" y="10"/>
                  </a:lnTo>
                  <a:lnTo>
                    <a:pt x="3169" y="8"/>
                  </a:lnTo>
                  <a:lnTo>
                    <a:pt x="3169" y="6"/>
                  </a:lnTo>
                  <a:lnTo>
                    <a:pt x="3169" y="4"/>
                  </a:lnTo>
                  <a:lnTo>
                    <a:pt x="3170" y="2"/>
                  </a:lnTo>
                  <a:lnTo>
                    <a:pt x="3171" y="0"/>
                  </a:lnTo>
                  <a:lnTo>
                    <a:pt x="3172" y="0"/>
                  </a:lnTo>
                  <a:lnTo>
                    <a:pt x="3172" y="0"/>
                  </a:lnTo>
                  <a:close/>
                  <a:moveTo>
                    <a:pt x="3217" y="0"/>
                  </a:moveTo>
                  <a:lnTo>
                    <a:pt x="3236" y="0"/>
                  </a:lnTo>
                  <a:lnTo>
                    <a:pt x="3237" y="0"/>
                  </a:lnTo>
                  <a:lnTo>
                    <a:pt x="3239" y="2"/>
                  </a:lnTo>
                  <a:lnTo>
                    <a:pt x="3240" y="4"/>
                  </a:lnTo>
                  <a:lnTo>
                    <a:pt x="3240" y="6"/>
                  </a:lnTo>
                  <a:lnTo>
                    <a:pt x="3240" y="8"/>
                  </a:lnTo>
                  <a:lnTo>
                    <a:pt x="3239" y="10"/>
                  </a:lnTo>
                  <a:lnTo>
                    <a:pt x="3237" y="12"/>
                  </a:lnTo>
                  <a:lnTo>
                    <a:pt x="3236" y="12"/>
                  </a:lnTo>
                  <a:lnTo>
                    <a:pt x="3217" y="12"/>
                  </a:lnTo>
                  <a:lnTo>
                    <a:pt x="3216" y="12"/>
                  </a:lnTo>
                  <a:lnTo>
                    <a:pt x="3215" y="10"/>
                  </a:lnTo>
                  <a:lnTo>
                    <a:pt x="3214" y="8"/>
                  </a:lnTo>
                  <a:lnTo>
                    <a:pt x="3214" y="6"/>
                  </a:lnTo>
                  <a:lnTo>
                    <a:pt x="3214" y="4"/>
                  </a:lnTo>
                  <a:lnTo>
                    <a:pt x="3215" y="2"/>
                  </a:lnTo>
                  <a:lnTo>
                    <a:pt x="3216" y="0"/>
                  </a:lnTo>
                  <a:lnTo>
                    <a:pt x="3217" y="0"/>
                  </a:lnTo>
                  <a:lnTo>
                    <a:pt x="3217" y="0"/>
                  </a:lnTo>
                  <a:close/>
                  <a:moveTo>
                    <a:pt x="3261" y="0"/>
                  </a:moveTo>
                  <a:lnTo>
                    <a:pt x="3281" y="0"/>
                  </a:lnTo>
                  <a:lnTo>
                    <a:pt x="3282" y="0"/>
                  </a:lnTo>
                  <a:lnTo>
                    <a:pt x="3283" y="2"/>
                  </a:lnTo>
                  <a:lnTo>
                    <a:pt x="3284" y="4"/>
                  </a:lnTo>
                  <a:lnTo>
                    <a:pt x="3284" y="6"/>
                  </a:lnTo>
                  <a:lnTo>
                    <a:pt x="3284" y="8"/>
                  </a:lnTo>
                  <a:lnTo>
                    <a:pt x="3283" y="10"/>
                  </a:lnTo>
                  <a:lnTo>
                    <a:pt x="3282" y="12"/>
                  </a:lnTo>
                  <a:lnTo>
                    <a:pt x="3281" y="12"/>
                  </a:lnTo>
                  <a:lnTo>
                    <a:pt x="3261" y="12"/>
                  </a:lnTo>
                  <a:lnTo>
                    <a:pt x="3260" y="12"/>
                  </a:lnTo>
                  <a:lnTo>
                    <a:pt x="3259" y="10"/>
                  </a:lnTo>
                  <a:lnTo>
                    <a:pt x="3258" y="8"/>
                  </a:lnTo>
                  <a:lnTo>
                    <a:pt x="3258" y="6"/>
                  </a:lnTo>
                  <a:lnTo>
                    <a:pt x="3258" y="4"/>
                  </a:lnTo>
                  <a:lnTo>
                    <a:pt x="3259" y="2"/>
                  </a:lnTo>
                  <a:lnTo>
                    <a:pt x="3260" y="0"/>
                  </a:lnTo>
                  <a:lnTo>
                    <a:pt x="3261" y="0"/>
                  </a:lnTo>
                  <a:lnTo>
                    <a:pt x="3261" y="0"/>
                  </a:lnTo>
                  <a:close/>
                  <a:moveTo>
                    <a:pt x="3306" y="0"/>
                  </a:moveTo>
                  <a:lnTo>
                    <a:pt x="3325" y="0"/>
                  </a:lnTo>
                  <a:lnTo>
                    <a:pt x="3326" y="0"/>
                  </a:lnTo>
                  <a:lnTo>
                    <a:pt x="3328" y="2"/>
                  </a:lnTo>
                  <a:lnTo>
                    <a:pt x="3329" y="4"/>
                  </a:lnTo>
                  <a:lnTo>
                    <a:pt x="3329" y="6"/>
                  </a:lnTo>
                  <a:lnTo>
                    <a:pt x="3329" y="8"/>
                  </a:lnTo>
                  <a:lnTo>
                    <a:pt x="3328" y="10"/>
                  </a:lnTo>
                  <a:lnTo>
                    <a:pt x="3326" y="12"/>
                  </a:lnTo>
                  <a:lnTo>
                    <a:pt x="3325" y="12"/>
                  </a:lnTo>
                  <a:lnTo>
                    <a:pt x="3306" y="12"/>
                  </a:lnTo>
                  <a:lnTo>
                    <a:pt x="3305" y="12"/>
                  </a:lnTo>
                  <a:lnTo>
                    <a:pt x="3304" y="10"/>
                  </a:lnTo>
                  <a:lnTo>
                    <a:pt x="3303" y="8"/>
                  </a:lnTo>
                  <a:lnTo>
                    <a:pt x="3303" y="6"/>
                  </a:lnTo>
                  <a:lnTo>
                    <a:pt x="3303" y="4"/>
                  </a:lnTo>
                  <a:lnTo>
                    <a:pt x="3304" y="2"/>
                  </a:lnTo>
                  <a:lnTo>
                    <a:pt x="3305" y="0"/>
                  </a:lnTo>
                  <a:lnTo>
                    <a:pt x="3306" y="0"/>
                  </a:lnTo>
                  <a:lnTo>
                    <a:pt x="3306" y="0"/>
                  </a:lnTo>
                  <a:close/>
                  <a:moveTo>
                    <a:pt x="3351" y="0"/>
                  </a:moveTo>
                  <a:lnTo>
                    <a:pt x="3370" y="0"/>
                  </a:lnTo>
                  <a:lnTo>
                    <a:pt x="3371" y="0"/>
                  </a:lnTo>
                  <a:lnTo>
                    <a:pt x="3372" y="2"/>
                  </a:lnTo>
                  <a:lnTo>
                    <a:pt x="3373" y="4"/>
                  </a:lnTo>
                  <a:lnTo>
                    <a:pt x="3373" y="6"/>
                  </a:lnTo>
                  <a:lnTo>
                    <a:pt x="3373" y="8"/>
                  </a:lnTo>
                  <a:lnTo>
                    <a:pt x="3372" y="10"/>
                  </a:lnTo>
                  <a:lnTo>
                    <a:pt x="3371" y="12"/>
                  </a:lnTo>
                  <a:lnTo>
                    <a:pt x="3370" y="12"/>
                  </a:lnTo>
                  <a:lnTo>
                    <a:pt x="3351" y="12"/>
                  </a:lnTo>
                  <a:lnTo>
                    <a:pt x="3350" y="12"/>
                  </a:lnTo>
                  <a:lnTo>
                    <a:pt x="3349" y="10"/>
                  </a:lnTo>
                  <a:lnTo>
                    <a:pt x="3348" y="8"/>
                  </a:lnTo>
                  <a:lnTo>
                    <a:pt x="3348" y="6"/>
                  </a:lnTo>
                  <a:lnTo>
                    <a:pt x="3348" y="4"/>
                  </a:lnTo>
                  <a:lnTo>
                    <a:pt x="3349" y="2"/>
                  </a:lnTo>
                  <a:lnTo>
                    <a:pt x="3350" y="0"/>
                  </a:lnTo>
                  <a:lnTo>
                    <a:pt x="3351" y="0"/>
                  </a:lnTo>
                  <a:lnTo>
                    <a:pt x="3351" y="0"/>
                  </a:lnTo>
                  <a:close/>
                  <a:moveTo>
                    <a:pt x="3396" y="0"/>
                  </a:moveTo>
                  <a:lnTo>
                    <a:pt x="3414" y="0"/>
                  </a:lnTo>
                  <a:lnTo>
                    <a:pt x="3415" y="0"/>
                  </a:lnTo>
                  <a:lnTo>
                    <a:pt x="3417" y="2"/>
                  </a:lnTo>
                  <a:lnTo>
                    <a:pt x="3418" y="4"/>
                  </a:lnTo>
                  <a:lnTo>
                    <a:pt x="3418" y="6"/>
                  </a:lnTo>
                  <a:lnTo>
                    <a:pt x="3418" y="8"/>
                  </a:lnTo>
                  <a:lnTo>
                    <a:pt x="3417" y="10"/>
                  </a:lnTo>
                  <a:lnTo>
                    <a:pt x="3415" y="12"/>
                  </a:lnTo>
                  <a:lnTo>
                    <a:pt x="3414" y="12"/>
                  </a:lnTo>
                  <a:lnTo>
                    <a:pt x="3396" y="12"/>
                  </a:lnTo>
                  <a:lnTo>
                    <a:pt x="3395" y="12"/>
                  </a:lnTo>
                  <a:lnTo>
                    <a:pt x="3394" y="10"/>
                  </a:lnTo>
                  <a:lnTo>
                    <a:pt x="3393" y="8"/>
                  </a:lnTo>
                  <a:lnTo>
                    <a:pt x="3393" y="6"/>
                  </a:lnTo>
                  <a:lnTo>
                    <a:pt x="3393" y="4"/>
                  </a:lnTo>
                  <a:lnTo>
                    <a:pt x="3394" y="2"/>
                  </a:lnTo>
                  <a:lnTo>
                    <a:pt x="3395" y="0"/>
                  </a:lnTo>
                  <a:lnTo>
                    <a:pt x="3396" y="0"/>
                  </a:lnTo>
                  <a:lnTo>
                    <a:pt x="3396" y="0"/>
                  </a:lnTo>
                  <a:close/>
                  <a:moveTo>
                    <a:pt x="3440" y="0"/>
                  </a:moveTo>
                  <a:lnTo>
                    <a:pt x="3459" y="0"/>
                  </a:lnTo>
                  <a:lnTo>
                    <a:pt x="3460" y="0"/>
                  </a:lnTo>
                  <a:lnTo>
                    <a:pt x="3461" y="2"/>
                  </a:lnTo>
                  <a:lnTo>
                    <a:pt x="3462" y="4"/>
                  </a:lnTo>
                  <a:lnTo>
                    <a:pt x="3462" y="6"/>
                  </a:lnTo>
                  <a:lnTo>
                    <a:pt x="3462" y="8"/>
                  </a:lnTo>
                  <a:lnTo>
                    <a:pt x="3461" y="10"/>
                  </a:lnTo>
                  <a:lnTo>
                    <a:pt x="3460" y="12"/>
                  </a:lnTo>
                  <a:lnTo>
                    <a:pt x="3459" y="12"/>
                  </a:lnTo>
                  <a:lnTo>
                    <a:pt x="3440" y="12"/>
                  </a:lnTo>
                  <a:lnTo>
                    <a:pt x="3439" y="12"/>
                  </a:lnTo>
                  <a:lnTo>
                    <a:pt x="3438" y="10"/>
                  </a:lnTo>
                  <a:lnTo>
                    <a:pt x="3437" y="8"/>
                  </a:lnTo>
                  <a:lnTo>
                    <a:pt x="3437" y="6"/>
                  </a:lnTo>
                  <a:lnTo>
                    <a:pt x="3437" y="4"/>
                  </a:lnTo>
                  <a:lnTo>
                    <a:pt x="3438" y="2"/>
                  </a:lnTo>
                  <a:lnTo>
                    <a:pt x="3439" y="0"/>
                  </a:lnTo>
                  <a:lnTo>
                    <a:pt x="3440" y="0"/>
                  </a:lnTo>
                  <a:lnTo>
                    <a:pt x="3440" y="0"/>
                  </a:lnTo>
                  <a:close/>
                  <a:moveTo>
                    <a:pt x="3485" y="0"/>
                  </a:moveTo>
                  <a:lnTo>
                    <a:pt x="3504" y="0"/>
                  </a:lnTo>
                  <a:lnTo>
                    <a:pt x="3505" y="0"/>
                  </a:lnTo>
                  <a:lnTo>
                    <a:pt x="3506" y="2"/>
                  </a:lnTo>
                  <a:lnTo>
                    <a:pt x="3507" y="4"/>
                  </a:lnTo>
                  <a:lnTo>
                    <a:pt x="3507" y="6"/>
                  </a:lnTo>
                  <a:lnTo>
                    <a:pt x="3507" y="8"/>
                  </a:lnTo>
                  <a:lnTo>
                    <a:pt x="3506" y="10"/>
                  </a:lnTo>
                  <a:lnTo>
                    <a:pt x="3505" y="12"/>
                  </a:lnTo>
                  <a:lnTo>
                    <a:pt x="3504" y="12"/>
                  </a:lnTo>
                  <a:lnTo>
                    <a:pt x="3485" y="12"/>
                  </a:lnTo>
                  <a:lnTo>
                    <a:pt x="3484" y="12"/>
                  </a:lnTo>
                  <a:lnTo>
                    <a:pt x="3483" y="10"/>
                  </a:lnTo>
                  <a:lnTo>
                    <a:pt x="3482" y="8"/>
                  </a:lnTo>
                  <a:lnTo>
                    <a:pt x="3482" y="6"/>
                  </a:lnTo>
                  <a:lnTo>
                    <a:pt x="3482" y="4"/>
                  </a:lnTo>
                  <a:lnTo>
                    <a:pt x="3483" y="2"/>
                  </a:lnTo>
                  <a:lnTo>
                    <a:pt x="3484" y="0"/>
                  </a:lnTo>
                  <a:lnTo>
                    <a:pt x="3485" y="0"/>
                  </a:lnTo>
                  <a:lnTo>
                    <a:pt x="3485" y="0"/>
                  </a:lnTo>
                  <a:close/>
                  <a:moveTo>
                    <a:pt x="3530" y="0"/>
                  </a:moveTo>
                  <a:lnTo>
                    <a:pt x="3549" y="0"/>
                  </a:lnTo>
                  <a:lnTo>
                    <a:pt x="3550" y="0"/>
                  </a:lnTo>
                  <a:lnTo>
                    <a:pt x="3551" y="2"/>
                  </a:lnTo>
                  <a:lnTo>
                    <a:pt x="3552" y="4"/>
                  </a:lnTo>
                  <a:lnTo>
                    <a:pt x="3552" y="6"/>
                  </a:lnTo>
                  <a:lnTo>
                    <a:pt x="3552" y="8"/>
                  </a:lnTo>
                  <a:lnTo>
                    <a:pt x="3551" y="10"/>
                  </a:lnTo>
                  <a:lnTo>
                    <a:pt x="3550" y="12"/>
                  </a:lnTo>
                  <a:lnTo>
                    <a:pt x="3549" y="12"/>
                  </a:lnTo>
                  <a:lnTo>
                    <a:pt x="3530" y="12"/>
                  </a:lnTo>
                  <a:lnTo>
                    <a:pt x="3529" y="12"/>
                  </a:lnTo>
                  <a:lnTo>
                    <a:pt x="3528" y="10"/>
                  </a:lnTo>
                  <a:lnTo>
                    <a:pt x="3527" y="8"/>
                  </a:lnTo>
                  <a:lnTo>
                    <a:pt x="3527" y="6"/>
                  </a:lnTo>
                  <a:lnTo>
                    <a:pt x="3527" y="4"/>
                  </a:lnTo>
                  <a:lnTo>
                    <a:pt x="3528" y="2"/>
                  </a:lnTo>
                  <a:lnTo>
                    <a:pt x="3529" y="0"/>
                  </a:lnTo>
                  <a:lnTo>
                    <a:pt x="3530" y="0"/>
                  </a:lnTo>
                  <a:lnTo>
                    <a:pt x="3530" y="0"/>
                  </a:lnTo>
                  <a:close/>
                  <a:moveTo>
                    <a:pt x="3574" y="0"/>
                  </a:moveTo>
                  <a:lnTo>
                    <a:pt x="3593" y="0"/>
                  </a:lnTo>
                  <a:lnTo>
                    <a:pt x="3594" y="0"/>
                  </a:lnTo>
                  <a:lnTo>
                    <a:pt x="3596" y="2"/>
                  </a:lnTo>
                  <a:lnTo>
                    <a:pt x="3597" y="4"/>
                  </a:lnTo>
                  <a:lnTo>
                    <a:pt x="3597" y="6"/>
                  </a:lnTo>
                  <a:lnTo>
                    <a:pt x="3597" y="8"/>
                  </a:lnTo>
                  <a:lnTo>
                    <a:pt x="3596" y="10"/>
                  </a:lnTo>
                  <a:lnTo>
                    <a:pt x="3594" y="12"/>
                  </a:lnTo>
                  <a:lnTo>
                    <a:pt x="3593" y="12"/>
                  </a:lnTo>
                  <a:lnTo>
                    <a:pt x="3574" y="12"/>
                  </a:lnTo>
                  <a:lnTo>
                    <a:pt x="3573" y="12"/>
                  </a:lnTo>
                  <a:lnTo>
                    <a:pt x="3572" y="10"/>
                  </a:lnTo>
                  <a:lnTo>
                    <a:pt x="3571" y="8"/>
                  </a:lnTo>
                  <a:lnTo>
                    <a:pt x="3571" y="6"/>
                  </a:lnTo>
                  <a:lnTo>
                    <a:pt x="3571" y="4"/>
                  </a:lnTo>
                  <a:lnTo>
                    <a:pt x="3572" y="2"/>
                  </a:lnTo>
                  <a:lnTo>
                    <a:pt x="3573" y="0"/>
                  </a:lnTo>
                  <a:lnTo>
                    <a:pt x="3574" y="0"/>
                  </a:lnTo>
                  <a:lnTo>
                    <a:pt x="3574" y="0"/>
                  </a:lnTo>
                  <a:close/>
                  <a:moveTo>
                    <a:pt x="3618" y="0"/>
                  </a:moveTo>
                  <a:lnTo>
                    <a:pt x="3638" y="0"/>
                  </a:lnTo>
                  <a:lnTo>
                    <a:pt x="3639" y="0"/>
                  </a:lnTo>
                  <a:lnTo>
                    <a:pt x="3640" y="2"/>
                  </a:lnTo>
                  <a:lnTo>
                    <a:pt x="3641" y="4"/>
                  </a:lnTo>
                  <a:lnTo>
                    <a:pt x="3641" y="6"/>
                  </a:lnTo>
                  <a:lnTo>
                    <a:pt x="3641" y="8"/>
                  </a:lnTo>
                  <a:lnTo>
                    <a:pt x="3640" y="10"/>
                  </a:lnTo>
                  <a:lnTo>
                    <a:pt x="3639" y="12"/>
                  </a:lnTo>
                  <a:lnTo>
                    <a:pt x="3638" y="12"/>
                  </a:lnTo>
                  <a:lnTo>
                    <a:pt x="3618" y="12"/>
                  </a:lnTo>
                  <a:lnTo>
                    <a:pt x="3617" y="12"/>
                  </a:lnTo>
                  <a:lnTo>
                    <a:pt x="3616" y="10"/>
                  </a:lnTo>
                  <a:lnTo>
                    <a:pt x="3615" y="8"/>
                  </a:lnTo>
                  <a:lnTo>
                    <a:pt x="3615" y="6"/>
                  </a:lnTo>
                  <a:lnTo>
                    <a:pt x="3615" y="4"/>
                  </a:lnTo>
                  <a:lnTo>
                    <a:pt x="3616" y="2"/>
                  </a:lnTo>
                  <a:lnTo>
                    <a:pt x="3617" y="0"/>
                  </a:lnTo>
                  <a:lnTo>
                    <a:pt x="3618" y="0"/>
                  </a:lnTo>
                  <a:lnTo>
                    <a:pt x="3618" y="0"/>
                  </a:lnTo>
                  <a:close/>
                  <a:moveTo>
                    <a:pt x="3663" y="0"/>
                  </a:moveTo>
                  <a:lnTo>
                    <a:pt x="3683" y="0"/>
                  </a:lnTo>
                  <a:lnTo>
                    <a:pt x="3684" y="0"/>
                  </a:lnTo>
                  <a:lnTo>
                    <a:pt x="3685" y="2"/>
                  </a:lnTo>
                  <a:lnTo>
                    <a:pt x="3686" y="4"/>
                  </a:lnTo>
                  <a:lnTo>
                    <a:pt x="3686" y="6"/>
                  </a:lnTo>
                  <a:lnTo>
                    <a:pt x="3686" y="8"/>
                  </a:lnTo>
                  <a:lnTo>
                    <a:pt x="3685" y="10"/>
                  </a:lnTo>
                  <a:lnTo>
                    <a:pt x="3684" y="12"/>
                  </a:lnTo>
                  <a:lnTo>
                    <a:pt x="3683" y="12"/>
                  </a:lnTo>
                  <a:lnTo>
                    <a:pt x="3663" y="12"/>
                  </a:lnTo>
                  <a:lnTo>
                    <a:pt x="3662" y="12"/>
                  </a:lnTo>
                  <a:lnTo>
                    <a:pt x="3661" y="10"/>
                  </a:lnTo>
                  <a:lnTo>
                    <a:pt x="3660" y="8"/>
                  </a:lnTo>
                  <a:lnTo>
                    <a:pt x="3660" y="6"/>
                  </a:lnTo>
                  <a:lnTo>
                    <a:pt x="3660" y="4"/>
                  </a:lnTo>
                  <a:lnTo>
                    <a:pt x="3661" y="2"/>
                  </a:lnTo>
                  <a:lnTo>
                    <a:pt x="3662" y="0"/>
                  </a:lnTo>
                  <a:lnTo>
                    <a:pt x="3663" y="0"/>
                  </a:lnTo>
                  <a:lnTo>
                    <a:pt x="3663" y="0"/>
                  </a:lnTo>
                  <a:close/>
                  <a:moveTo>
                    <a:pt x="3708" y="0"/>
                  </a:moveTo>
                  <a:lnTo>
                    <a:pt x="3728" y="0"/>
                  </a:lnTo>
                  <a:lnTo>
                    <a:pt x="3729" y="0"/>
                  </a:lnTo>
                  <a:lnTo>
                    <a:pt x="3730" y="2"/>
                  </a:lnTo>
                  <a:lnTo>
                    <a:pt x="3731" y="4"/>
                  </a:lnTo>
                  <a:lnTo>
                    <a:pt x="3731" y="6"/>
                  </a:lnTo>
                  <a:lnTo>
                    <a:pt x="3731" y="8"/>
                  </a:lnTo>
                  <a:lnTo>
                    <a:pt x="3730" y="10"/>
                  </a:lnTo>
                  <a:lnTo>
                    <a:pt x="3729" y="12"/>
                  </a:lnTo>
                  <a:lnTo>
                    <a:pt x="3728" y="12"/>
                  </a:lnTo>
                  <a:lnTo>
                    <a:pt x="3708" y="12"/>
                  </a:lnTo>
                  <a:lnTo>
                    <a:pt x="3707" y="12"/>
                  </a:lnTo>
                  <a:lnTo>
                    <a:pt x="3706" y="10"/>
                  </a:lnTo>
                  <a:lnTo>
                    <a:pt x="3705" y="8"/>
                  </a:lnTo>
                  <a:lnTo>
                    <a:pt x="3705" y="6"/>
                  </a:lnTo>
                  <a:lnTo>
                    <a:pt x="3705" y="4"/>
                  </a:lnTo>
                  <a:lnTo>
                    <a:pt x="3706" y="2"/>
                  </a:lnTo>
                  <a:lnTo>
                    <a:pt x="3707" y="0"/>
                  </a:lnTo>
                  <a:lnTo>
                    <a:pt x="3708" y="0"/>
                  </a:lnTo>
                  <a:lnTo>
                    <a:pt x="3708" y="0"/>
                  </a:lnTo>
                  <a:close/>
                  <a:moveTo>
                    <a:pt x="3753" y="0"/>
                  </a:moveTo>
                  <a:lnTo>
                    <a:pt x="3771" y="0"/>
                  </a:lnTo>
                  <a:lnTo>
                    <a:pt x="3772" y="0"/>
                  </a:lnTo>
                  <a:lnTo>
                    <a:pt x="3775" y="2"/>
                  </a:lnTo>
                  <a:lnTo>
                    <a:pt x="3776" y="4"/>
                  </a:lnTo>
                  <a:lnTo>
                    <a:pt x="3776" y="6"/>
                  </a:lnTo>
                  <a:lnTo>
                    <a:pt x="3776" y="8"/>
                  </a:lnTo>
                  <a:lnTo>
                    <a:pt x="3775" y="10"/>
                  </a:lnTo>
                  <a:lnTo>
                    <a:pt x="3772" y="12"/>
                  </a:lnTo>
                  <a:lnTo>
                    <a:pt x="3771" y="12"/>
                  </a:lnTo>
                  <a:lnTo>
                    <a:pt x="3753" y="12"/>
                  </a:lnTo>
                  <a:lnTo>
                    <a:pt x="3752" y="12"/>
                  </a:lnTo>
                  <a:lnTo>
                    <a:pt x="3751" y="10"/>
                  </a:lnTo>
                  <a:lnTo>
                    <a:pt x="3750" y="8"/>
                  </a:lnTo>
                  <a:lnTo>
                    <a:pt x="3750" y="6"/>
                  </a:lnTo>
                  <a:lnTo>
                    <a:pt x="3750" y="4"/>
                  </a:lnTo>
                  <a:lnTo>
                    <a:pt x="3751" y="2"/>
                  </a:lnTo>
                  <a:lnTo>
                    <a:pt x="3752" y="0"/>
                  </a:lnTo>
                  <a:lnTo>
                    <a:pt x="3753" y="0"/>
                  </a:lnTo>
                  <a:lnTo>
                    <a:pt x="3753" y="0"/>
                  </a:lnTo>
                  <a:close/>
                  <a:moveTo>
                    <a:pt x="3797" y="0"/>
                  </a:moveTo>
                  <a:lnTo>
                    <a:pt x="3816" y="0"/>
                  </a:lnTo>
                  <a:lnTo>
                    <a:pt x="3817" y="0"/>
                  </a:lnTo>
                  <a:lnTo>
                    <a:pt x="3818" y="2"/>
                  </a:lnTo>
                  <a:lnTo>
                    <a:pt x="3819" y="4"/>
                  </a:lnTo>
                  <a:lnTo>
                    <a:pt x="3819" y="6"/>
                  </a:lnTo>
                  <a:lnTo>
                    <a:pt x="3819" y="8"/>
                  </a:lnTo>
                  <a:lnTo>
                    <a:pt x="3818" y="10"/>
                  </a:lnTo>
                  <a:lnTo>
                    <a:pt x="3817" y="12"/>
                  </a:lnTo>
                  <a:lnTo>
                    <a:pt x="3816" y="12"/>
                  </a:lnTo>
                  <a:lnTo>
                    <a:pt x="3797" y="12"/>
                  </a:lnTo>
                  <a:lnTo>
                    <a:pt x="3796" y="12"/>
                  </a:lnTo>
                  <a:lnTo>
                    <a:pt x="3795" y="10"/>
                  </a:lnTo>
                  <a:lnTo>
                    <a:pt x="3794" y="8"/>
                  </a:lnTo>
                  <a:lnTo>
                    <a:pt x="3794" y="6"/>
                  </a:lnTo>
                  <a:lnTo>
                    <a:pt x="3794" y="4"/>
                  </a:lnTo>
                  <a:lnTo>
                    <a:pt x="3795" y="2"/>
                  </a:lnTo>
                  <a:lnTo>
                    <a:pt x="3796" y="0"/>
                  </a:lnTo>
                  <a:lnTo>
                    <a:pt x="3797" y="0"/>
                  </a:lnTo>
                  <a:lnTo>
                    <a:pt x="3797" y="0"/>
                  </a:lnTo>
                  <a:close/>
                  <a:moveTo>
                    <a:pt x="3842" y="0"/>
                  </a:moveTo>
                  <a:lnTo>
                    <a:pt x="3861" y="0"/>
                  </a:lnTo>
                  <a:lnTo>
                    <a:pt x="3862" y="0"/>
                  </a:lnTo>
                  <a:lnTo>
                    <a:pt x="3863" y="2"/>
                  </a:lnTo>
                  <a:lnTo>
                    <a:pt x="3864" y="4"/>
                  </a:lnTo>
                  <a:lnTo>
                    <a:pt x="3864" y="6"/>
                  </a:lnTo>
                  <a:lnTo>
                    <a:pt x="3864" y="8"/>
                  </a:lnTo>
                  <a:lnTo>
                    <a:pt x="3863" y="10"/>
                  </a:lnTo>
                  <a:lnTo>
                    <a:pt x="3862" y="12"/>
                  </a:lnTo>
                  <a:lnTo>
                    <a:pt x="3861" y="12"/>
                  </a:lnTo>
                  <a:lnTo>
                    <a:pt x="3842" y="12"/>
                  </a:lnTo>
                  <a:lnTo>
                    <a:pt x="3841" y="12"/>
                  </a:lnTo>
                  <a:lnTo>
                    <a:pt x="3840" y="10"/>
                  </a:lnTo>
                  <a:lnTo>
                    <a:pt x="3839" y="8"/>
                  </a:lnTo>
                  <a:lnTo>
                    <a:pt x="3839" y="6"/>
                  </a:lnTo>
                  <a:lnTo>
                    <a:pt x="3839" y="4"/>
                  </a:lnTo>
                  <a:lnTo>
                    <a:pt x="3840" y="2"/>
                  </a:lnTo>
                  <a:lnTo>
                    <a:pt x="3841" y="0"/>
                  </a:lnTo>
                  <a:lnTo>
                    <a:pt x="3842" y="0"/>
                  </a:lnTo>
                  <a:lnTo>
                    <a:pt x="3842" y="0"/>
                  </a:lnTo>
                  <a:close/>
                  <a:moveTo>
                    <a:pt x="3887" y="0"/>
                  </a:moveTo>
                  <a:lnTo>
                    <a:pt x="3906" y="0"/>
                  </a:lnTo>
                  <a:lnTo>
                    <a:pt x="3907" y="0"/>
                  </a:lnTo>
                  <a:lnTo>
                    <a:pt x="3908" y="2"/>
                  </a:lnTo>
                  <a:lnTo>
                    <a:pt x="3909" y="4"/>
                  </a:lnTo>
                  <a:lnTo>
                    <a:pt x="3909" y="6"/>
                  </a:lnTo>
                  <a:lnTo>
                    <a:pt x="3909" y="8"/>
                  </a:lnTo>
                  <a:lnTo>
                    <a:pt x="3908" y="10"/>
                  </a:lnTo>
                  <a:lnTo>
                    <a:pt x="3907" y="12"/>
                  </a:lnTo>
                  <a:lnTo>
                    <a:pt x="3906" y="12"/>
                  </a:lnTo>
                  <a:lnTo>
                    <a:pt x="3887" y="12"/>
                  </a:lnTo>
                  <a:lnTo>
                    <a:pt x="3886" y="12"/>
                  </a:lnTo>
                  <a:lnTo>
                    <a:pt x="3885" y="10"/>
                  </a:lnTo>
                  <a:lnTo>
                    <a:pt x="3884" y="8"/>
                  </a:lnTo>
                  <a:lnTo>
                    <a:pt x="3884" y="6"/>
                  </a:lnTo>
                  <a:lnTo>
                    <a:pt x="3884" y="4"/>
                  </a:lnTo>
                  <a:lnTo>
                    <a:pt x="3885" y="2"/>
                  </a:lnTo>
                  <a:lnTo>
                    <a:pt x="3886" y="0"/>
                  </a:lnTo>
                  <a:lnTo>
                    <a:pt x="3887" y="0"/>
                  </a:lnTo>
                  <a:lnTo>
                    <a:pt x="3887" y="0"/>
                  </a:lnTo>
                  <a:close/>
                  <a:moveTo>
                    <a:pt x="3932" y="0"/>
                  </a:moveTo>
                  <a:lnTo>
                    <a:pt x="3950" y="0"/>
                  </a:lnTo>
                  <a:lnTo>
                    <a:pt x="3951" y="0"/>
                  </a:lnTo>
                  <a:lnTo>
                    <a:pt x="3953" y="2"/>
                  </a:lnTo>
                  <a:lnTo>
                    <a:pt x="3954" y="4"/>
                  </a:lnTo>
                  <a:lnTo>
                    <a:pt x="3954" y="6"/>
                  </a:lnTo>
                  <a:lnTo>
                    <a:pt x="3954" y="8"/>
                  </a:lnTo>
                  <a:lnTo>
                    <a:pt x="3953" y="10"/>
                  </a:lnTo>
                  <a:lnTo>
                    <a:pt x="3951" y="12"/>
                  </a:lnTo>
                  <a:lnTo>
                    <a:pt x="3950" y="12"/>
                  </a:lnTo>
                  <a:lnTo>
                    <a:pt x="3932" y="12"/>
                  </a:lnTo>
                  <a:lnTo>
                    <a:pt x="3931" y="12"/>
                  </a:lnTo>
                  <a:lnTo>
                    <a:pt x="3930" y="10"/>
                  </a:lnTo>
                  <a:lnTo>
                    <a:pt x="3929" y="8"/>
                  </a:lnTo>
                  <a:lnTo>
                    <a:pt x="3929" y="6"/>
                  </a:lnTo>
                  <a:lnTo>
                    <a:pt x="3929" y="4"/>
                  </a:lnTo>
                  <a:lnTo>
                    <a:pt x="3930" y="2"/>
                  </a:lnTo>
                  <a:lnTo>
                    <a:pt x="3931" y="0"/>
                  </a:lnTo>
                  <a:lnTo>
                    <a:pt x="3932" y="0"/>
                  </a:lnTo>
                  <a:lnTo>
                    <a:pt x="3932" y="0"/>
                  </a:lnTo>
                  <a:close/>
                  <a:moveTo>
                    <a:pt x="3976" y="0"/>
                  </a:moveTo>
                  <a:lnTo>
                    <a:pt x="3995" y="0"/>
                  </a:lnTo>
                  <a:lnTo>
                    <a:pt x="3996" y="0"/>
                  </a:lnTo>
                  <a:lnTo>
                    <a:pt x="3997" y="2"/>
                  </a:lnTo>
                  <a:lnTo>
                    <a:pt x="3998" y="4"/>
                  </a:lnTo>
                  <a:lnTo>
                    <a:pt x="3998" y="6"/>
                  </a:lnTo>
                  <a:lnTo>
                    <a:pt x="3998" y="8"/>
                  </a:lnTo>
                  <a:lnTo>
                    <a:pt x="3997" y="10"/>
                  </a:lnTo>
                  <a:lnTo>
                    <a:pt x="3996" y="12"/>
                  </a:lnTo>
                  <a:lnTo>
                    <a:pt x="3995" y="12"/>
                  </a:lnTo>
                  <a:lnTo>
                    <a:pt x="3976" y="12"/>
                  </a:lnTo>
                  <a:lnTo>
                    <a:pt x="3975" y="12"/>
                  </a:lnTo>
                  <a:lnTo>
                    <a:pt x="3974" y="10"/>
                  </a:lnTo>
                  <a:lnTo>
                    <a:pt x="3973" y="8"/>
                  </a:lnTo>
                  <a:lnTo>
                    <a:pt x="3973" y="6"/>
                  </a:lnTo>
                  <a:lnTo>
                    <a:pt x="3973" y="4"/>
                  </a:lnTo>
                  <a:lnTo>
                    <a:pt x="3974" y="2"/>
                  </a:lnTo>
                  <a:lnTo>
                    <a:pt x="3975" y="0"/>
                  </a:lnTo>
                  <a:lnTo>
                    <a:pt x="3976" y="0"/>
                  </a:lnTo>
                  <a:lnTo>
                    <a:pt x="3976" y="0"/>
                  </a:lnTo>
                  <a:close/>
                  <a:moveTo>
                    <a:pt x="4020" y="0"/>
                  </a:moveTo>
                  <a:lnTo>
                    <a:pt x="4040" y="0"/>
                  </a:lnTo>
                  <a:lnTo>
                    <a:pt x="4041" y="0"/>
                  </a:lnTo>
                  <a:lnTo>
                    <a:pt x="4042" y="2"/>
                  </a:lnTo>
                  <a:lnTo>
                    <a:pt x="4043" y="4"/>
                  </a:lnTo>
                  <a:lnTo>
                    <a:pt x="4043" y="6"/>
                  </a:lnTo>
                  <a:lnTo>
                    <a:pt x="4043" y="8"/>
                  </a:lnTo>
                  <a:lnTo>
                    <a:pt x="4042" y="10"/>
                  </a:lnTo>
                  <a:lnTo>
                    <a:pt x="4041" y="12"/>
                  </a:lnTo>
                  <a:lnTo>
                    <a:pt x="4040" y="12"/>
                  </a:lnTo>
                  <a:lnTo>
                    <a:pt x="4020" y="12"/>
                  </a:lnTo>
                  <a:lnTo>
                    <a:pt x="4019" y="12"/>
                  </a:lnTo>
                  <a:lnTo>
                    <a:pt x="4018" y="10"/>
                  </a:lnTo>
                  <a:lnTo>
                    <a:pt x="4017" y="8"/>
                  </a:lnTo>
                  <a:lnTo>
                    <a:pt x="4017" y="6"/>
                  </a:lnTo>
                  <a:lnTo>
                    <a:pt x="4017" y="4"/>
                  </a:lnTo>
                  <a:lnTo>
                    <a:pt x="4018" y="2"/>
                  </a:lnTo>
                  <a:lnTo>
                    <a:pt x="4019" y="0"/>
                  </a:lnTo>
                  <a:lnTo>
                    <a:pt x="4020" y="0"/>
                  </a:lnTo>
                  <a:lnTo>
                    <a:pt x="4020" y="0"/>
                  </a:lnTo>
                  <a:close/>
                  <a:moveTo>
                    <a:pt x="4065" y="0"/>
                  </a:moveTo>
                  <a:lnTo>
                    <a:pt x="4085" y="0"/>
                  </a:lnTo>
                  <a:lnTo>
                    <a:pt x="4086" y="0"/>
                  </a:lnTo>
                  <a:lnTo>
                    <a:pt x="4087" y="2"/>
                  </a:lnTo>
                  <a:lnTo>
                    <a:pt x="4088" y="4"/>
                  </a:lnTo>
                  <a:lnTo>
                    <a:pt x="4088" y="6"/>
                  </a:lnTo>
                  <a:lnTo>
                    <a:pt x="4088" y="8"/>
                  </a:lnTo>
                  <a:lnTo>
                    <a:pt x="4087" y="10"/>
                  </a:lnTo>
                  <a:lnTo>
                    <a:pt x="4086" y="12"/>
                  </a:lnTo>
                  <a:lnTo>
                    <a:pt x="4085" y="12"/>
                  </a:lnTo>
                  <a:lnTo>
                    <a:pt x="4065" y="12"/>
                  </a:lnTo>
                  <a:lnTo>
                    <a:pt x="4064" y="12"/>
                  </a:lnTo>
                  <a:lnTo>
                    <a:pt x="4063" y="10"/>
                  </a:lnTo>
                  <a:lnTo>
                    <a:pt x="4062" y="8"/>
                  </a:lnTo>
                  <a:lnTo>
                    <a:pt x="4062" y="6"/>
                  </a:lnTo>
                  <a:lnTo>
                    <a:pt x="4062" y="4"/>
                  </a:lnTo>
                  <a:lnTo>
                    <a:pt x="4063" y="2"/>
                  </a:lnTo>
                  <a:lnTo>
                    <a:pt x="4064" y="0"/>
                  </a:lnTo>
                  <a:lnTo>
                    <a:pt x="4065" y="0"/>
                  </a:lnTo>
                  <a:lnTo>
                    <a:pt x="4065" y="0"/>
                  </a:lnTo>
                  <a:close/>
                  <a:moveTo>
                    <a:pt x="4110" y="0"/>
                  </a:moveTo>
                  <a:lnTo>
                    <a:pt x="4129" y="0"/>
                  </a:lnTo>
                  <a:lnTo>
                    <a:pt x="4130" y="0"/>
                  </a:lnTo>
                  <a:lnTo>
                    <a:pt x="4132" y="2"/>
                  </a:lnTo>
                  <a:lnTo>
                    <a:pt x="4133" y="4"/>
                  </a:lnTo>
                  <a:lnTo>
                    <a:pt x="4133" y="6"/>
                  </a:lnTo>
                  <a:lnTo>
                    <a:pt x="4133" y="8"/>
                  </a:lnTo>
                  <a:lnTo>
                    <a:pt x="4132" y="10"/>
                  </a:lnTo>
                  <a:lnTo>
                    <a:pt x="4130" y="12"/>
                  </a:lnTo>
                  <a:lnTo>
                    <a:pt x="4129" y="12"/>
                  </a:lnTo>
                  <a:lnTo>
                    <a:pt x="4110" y="12"/>
                  </a:lnTo>
                  <a:lnTo>
                    <a:pt x="4109" y="12"/>
                  </a:lnTo>
                  <a:lnTo>
                    <a:pt x="4108" y="10"/>
                  </a:lnTo>
                  <a:lnTo>
                    <a:pt x="4107" y="8"/>
                  </a:lnTo>
                  <a:lnTo>
                    <a:pt x="4107" y="6"/>
                  </a:lnTo>
                  <a:lnTo>
                    <a:pt x="4107" y="4"/>
                  </a:lnTo>
                  <a:lnTo>
                    <a:pt x="4108" y="2"/>
                  </a:lnTo>
                  <a:lnTo>
                    <a:pt x="4109" y="0"/>
                  </a:lnTo>
                  <a:lnTo>
                    <a:pt x="4110" y="0"/>
                  </a:lnTo>
                  <a:lnTo>
                    <a:pt x="4110" y="0"/>
                  </a:lnTo>
                  <a:close/>
                  <a:moveTo>
                    <a:pt x="4154" y="0"/>
                  </a:moveTo>
                  <a:lnTo>
                    <a:pt x="4174" y="0"/>
                  </a:lnTo>
                  <a:lnTo>
                    <a:pt x="4175" y="0"/>
                  </a:lnTo>
                  <a:lnTo>
                    <a:pt x="4176" y="2"/>
                  </a:lnTo>
                  <a:lnTo>
                    <a:pt x="4177" y="4"/>
                  </a:lnTo>
                  <a:lnTo>
                    <a:pt x="4177" y="6"/>
                  </a:lnTo>
                  <a:lnTo>
                    <a:pt x="4177" y="8"/>
                  </a:lnTo>
                  <a:lnTo>
                    <a:pt x="4176" y="10"/>
                  </a:lnTo>
                  <a:lnTo>
                    <a:pt x="4175" y="12"/>
                  </a:lnTo>
                  <a:lnTo>
                    <a:pt x="4174" y="12"/>
                  </a:lnTo>
                  <a:lnTo>
                    <a:pt x="4154" y="12"/>
                  </a:lnTo>
                  <a:lnTo>
                    <a:pt x="4153" y="12"/>
                  </a:lnTo>
                  <a:lnTo>
                    <a:pt x="4152" y="10"/>
                  </a:lnTo>
                  <a:lnTo>
                    <a:pt x="4151" y="8"/>
                  </a:lnTo>
                  <a:lnTo>
                    <a:pt x="4151" y="6"/>
                  </a:lnTo>
                  <a:lnTo>
                    <a:pt x="4151" y="4"/>
                  </a:lnTo>
                  <a:lnTo>
                    <a:pt x="4152" y="2"/>
                  </a:lnTo>
                  <a:lnTo>
                    <a:pt x="4153" y="0"/>
                  </a:lnTo>
                  <a:lnTo>
                    <a:pt x="4154" y="0"/>
                  </a:lnTo>
                  <a:lnTo>
                    <a:pt x="4154" y="0"/>
                  </a:lnTo>
                  <a:close/>
                  <a:moveTo>
                    <a:pt x="4199" y="0"/>
                  </a:moveTo>
                  <a:lnTo>
                    <a:pt x="4218" y="0"/>
                  </a:lnTo>
                  <a:lnTo>
                    <a:pt x="4219" y="0"/>
                  </a:lnTo>
                  <a:lnTo>
                    <a:pt x="4220" y="2"/>
                  </a:lnTo>
                  <a:lnTo>
                    <a:pt x="4222" y="4"/>
                  </a:lnTo>
                  <a:lnTo>
                    <a:pt x="4222" y="6"/>
                  </a:lnTo>
                  <a:lnTo>
                    <a:pt x="4222" y="8"/>
                  </a:lnTo>
                  <a:lnTo>
                    <a:pt x="4220" y="10"/>
                  </a:lnTo>
                  <a:lnTo>
                    <a:pt x="4219" y="12"/>
                  </a:lnTo>
                  <a:lnTo>
                    <a:pt x="4218" y="12"/>
                  </a:lnTo>
                  <a:lnTo>
                    <a:pt x="4199" y="12"/>
                  </a:lnTo>
                  <a:lnTo>
                    <a:pt x="4198" y="12"/>
                  </a:lnTo>
                  <a:lnTo>
                    <a:pt x="4197" y="10"/>
                  </a:lnTo>
                  <a:lnTo>
                    <a:pt x="4196" y="8"/>
                  </a:lnTo>
                  <a:lnTo>
                    <a:pt x="4196" y="6"/>
                  </a:lnTo>
                  <a:lnTo>
                    <a:pt x="4196" y="4"/>
                  </a:lnTo>
                  <a:lnTo>
                    <a:pt x="4197" y="2"/>
                  </a:lnTo>
                  <a:lnTo>
                    <a:pt x="4198" y="0"/>
                  </a:lnTo>
                  <a:lnTo>
                    <a:pt x="4199" y="0"/>
                  </a:lnTo>
                  <a:lnTo>
                    <a:pt x="4199" y="0"/>
                  </a:lnTo>
                  <a:close/>
                  <a:moveTo>
                    <a:pt x="4244" y="0"/>
                  </a:moveTo>
                  <a:lnTo>
                    <a:pt x="4263" y="0"/>
                  </a:lnTo>
                  <a:lnTo>
                    <a:pt x="4264" y="0"/>
                  </a:lnTo>
                  <a:lnTo>
                    <a:pt x="4265" y="2"/>
                  </a:lnTo>
                  <a:lnTo>
                    <a:pt x="4266" y="4"/>
                  </a:lnTo>
                  <a:lnTo>
                    <a:pt x="4266" y="6"/>
                  </a:lnTo>
                  <a:lnTo>
                    <a:pt x="4266" y="8"/>
                  </a:lnTo>
                  <a:lnTo>
                    <a:pt x="4265" y="10"/>
                  </a:lnTo>
                  <a:lnTo>
                    <a:pt x="4264" y="12"/>
                  </a:lnTo>
                  <a:lnTo>
                    <a:pt x="4263" y="12"/>
                  </a:lnTo>
                  <a:lnTo>
                    <a:pt x="4244" y="12"/>
                  </a:lnTo>
                  <a:lnTo>
                    <a:pt x="4243" y="12"/>
                  </a:lnTo>
                  <a:lnTo>
                    <a:pt x="4242" y="10"/>
                  </a:lnTo>
                  <a:lnTo>
                    <a:pt x="4241" y="8"/>
                  </a:lnTo>
                  <a:lnTo>
                    <a:pt x="4241" y="6"/>
                  </a:lnTo>
                  <a:lnTo>
                    <a:pt x="4241" y="4"/>
                  </a:lnTo>
                  <a:lnTo>
                    <a:pt x="4242" y="2"/>
                  </a:lnTo>
                  <a:lnTo>
                    <a:pt x="4243" y="0"/>
                  </a:lnTo>
                  <a:lnTo>
                    <a:pt x="4244" y="0"/>
                  </a:lnTo>
                  <a:lnTo>
                    <a:pt x="4244" y="0"/>
                  </a:lnTo>
                  <a:close/>
                  <a:moveTo>
                    <a:pt x="4289" y="0"/>
                  </a:moveTo>
                  <a:lnTo>
                    <a:pt x="4307" y="0"/>
                  </a:lnTo>
                  <a:lnTo>
                    <a:pt x="4308" y="0"/>
                  </a:lnTo>
                  <a:lnTo>
                    <a:pt x="4310" y="2"/>
                  </a:lnTo>
                  <a:lnTo>
                    <a:pt x="4311" y="4"/>
                  </a:lnTo>
                  <a:lnTo>
                    <a:pt x="4311" y="6"/>
                  </a:lnTo>
                  <a:lnTo>
                    <a:pt x="4311" y="8"/>
                  </a:lnTo>
                  <a:lnTo>
                    <a:pt x="4310" y="10"/>
                  </a:lnTo>
                  <a:lnTo>
                    <a:pt x="4308" y="12"/>
                  </a:lnTo>
                  <a:lnTo>
                    <a:pt x="4307" y="12"/>
                  </a:lnTo>
                  <a:lnTo>
                    <a:pt x="4289" y="12"/>
                  </a:lnTo>
                  <a:lnTo>
                    <a:pt x="4288" y="12"/>
                  </a:lnTo>
                  <a:lnTo>
                    <a:pt x="4287" y="10"/>
                  </a:lnTo>
                  <a:lnTo>
                    <a:pt x="4286" y="8"/>
                  </a:lnTo>
                  <a:lnTo>
                    <a:pt x="4286" y="6"/>
                  </a:lnTo>
                  <a:lnTo>
                    <a:pt x="4286" y="4"/>
                  </a:lnTo>
                  <a:lnTo>
                    <a:pt x="4287" y="2"/>
                  </a:lnTo>
                  <a:lnTo>
                    <a:pt x="4288" y="0"/>
                  </a:lnTo>
                  <a:lnTo>
                    <a:pt x="4289" y="0"/>
                  </a:lnTo>
                  <a:lnTo>
                    <a:pt x="4289" y="0"/>
                  </a:lnTo>
                  <a:close/>
                  <a:moveTo>
                    <a:pt x="4333" y="0"/>
                  </a:moveTo>
                  <a:lnTo>
                    <a:pt x="4352" y="0"/>
                  </a:lnTo>
                  <a:lnTo>
                    <a:pt x="4353" y="0"/>
                  </a:lnTo>
                  <a:lnTo>
                    <a:pt x="4354" y="2"/>
                  </a:lnTo>
                  <a:lnTo>
                    <a:pt x="4355" y="4"/>
                  </a:lnTo>
                  <a:lnTo>
                    <a:pt x="4355" y="6"/>
                  </a:lnTo>
                  <a:lnTo>
                    <a:pt x="4355" y="8"/>
                  </a:lnTo>
                  <a:lnTo>
                    <a:pt x="4354" y="10"/>
                  </a:lnTo>
                  <a:lnTo>
                    <a:pt x="4353" y="12"/>
                  </a:lnTo>
                  <a:lnTo>
                    <a:pt x="4352" y="12"/>
                  </a:lnTo>
                  <a:lnTo>
                    <a:pt x="4333" y="12"/>
                  </a:lnTo>
                  <a:lnTo>
                    <a:pt x="4332" y="12"/>
                  </a:lnTo>
                  <a:lnTo>
                    <a:pt x="4331" y="10"/>
                  </a:lnTo>
                  <a:lnTo>
                    <a:pt x="4330" y="8"/>
                  </a:lnTo>
                  <a:lnTo>
                    <a:pt x="4330" y="6"/>
                  </a:lnTo>
                  <a:lnTo>
                    <a:pt x="4330" y="4"/>
                  </a:lnTo>
                  <a:lnTo>
                    <a:pt x="4331" y="2"/>
                  </a:lnTo>
                  <a:lnTo>
                    <a:pt x="4332" y="0"/>
                  </a:lnTo>
                  <a:lnTo>
                    <a:pt x="4333" y="0"/>
                  </a:lnTo>
                  <a:lnTo>
                    <a:pt x="4333" y="0"/>
                  </a:lnTo>
                  <a:close/>
                  <a:moveTo>
                    <a:pt x="4378" y="0"/>
                  </a:moveTo>
                  <a:lnTo>
                    <a:pt x="4397" y="0"/>
                  </a:lnTo>
                  <a:lnTo>
                    <a:pt x="4398" y="0"/>
                  </a:lnTo>
                  <a:lnTo>
                    <a:pt x="4399" y="2"/>
                  </a:lnTo>
                  <a:lnTo>
                    <a:pt x="4400" y="4"/>
                  </a:lnTo>
                  <a:lnTo>
                    <a:pt x="4400" y="6"/>
                  </a:lnTo>
                  <a:lnTo>
                    <a:pt x="4400" y="8"/>
                  </a:lnTo>
                  <a:lnTo>
                    <a:pt x="4399" y="10"/>
                  </a:lnTo>
                  <a:lnTo>
                    <a:pt x="4398" y="12"/>
                  </a:lnTo>
                  <a:lnTo>
                    <a:pt x="4397" y="12"/>
                  </a:lnTo>
                  <a:lnTo>
                    <a:pt x="4378" y="12"/>
                  </a:lnTo>
                  <a:lnTo>
                    <a:pt x="4377" y="12"/>
                  </a:lnTo>
                  <a:lnTo>
                    <a:pt x="4376" y="10"/>
                  </a:lnTo>
                  <a:lnTo>
                    <a:pt x="4375" y="8"/>
                  </a:lnTo>
                  <a:lnTo>
                    <a:pt x="4375" y="6"/>
                  </a:lnTo>
                  <a:lnTo>
                    <a:pt x="4375" y="4"/>
                  </a:lnTo>
                  <a:lnTo>
                    <a:pt x="4376" y="2"/>
                  </a:lnTo>
                  <a:lnTo>
                    <a:pt x="4377" y="0"/>
                  </a:lnTo>
                  <a:lnTo>
                    <a:pt x="4378" y="0"/>
                  </a:lnTo>
                  <a:lnTo>
                    <a:pt x="4378" y="0"/>
                  </a:lnTo>
                  <a:close/>
                  <a:moveTo>
                    <a:pt x="4423" y="0"/>
                  </a:moveTo>
                  <a:lnTo>
                    <a:pt x="4442" y="0"/>
                  </a:lnTo>
                  <a:lnTo>
                    <a:pt x="4443" y="0"/>
                  </a:lnTo>
                  <a:lnTo>
                    <a:pt x="4444" y="2"/>
                  </a:lnTo>
                  <a:lnTo>
                    <a:pt x="4445" y="4"/>
                  </a:lnTo>
                  <a:lnTo>
                    <a:pt x="4445" y="6"/>
                  </a:lnTo>
                  <a:lnTo>
                    <a:pt x="4445" y="8"/>
                  </a:lnTo>
                  <a:lnTo>
                    <a:pt x="4444" y="10"/>
                  </a:lnTo>
                  <a:lnTo>
                    <a:pt x="4443" y="12"/>
                  </a:lnTo>
                  <a:lnTo>
                    <a:pt x="4442" y="12"/>
                  </a:lnTo>
                  <a:lnTo>
                    <a:pt x="4423" y="12"/>
                  </a:lnTo>
                  <a:lnTo>
                    <a:pt x="4422" y="12"/>
                  </a:lnTo>
                  <a:lnTo>
                    <a:pt x="4421" y="10"/>
                  </a:lnTo>
                  <a:lnTo>
                    <a:pt x="4419" y="8"/>
                  </a:lnTo>
                  <a:lnTo>
                    <a:pt x="4419" y="6"/>
                  </a:lnTo>
                  <a:lnTo>
                    <a:pt x="4419" y="4"/>
                  </a:lnTo>
                  <a:lnTo>
                    <a:pt x="4421" y="2"/>
                  </a:lnTo>
                  <a:lnTo>
                    <a:pt x="4422" y="0"/>
                  </a:lnTo>
                  <a:lnTo>
                    <a:pt x="4423" y="0"/>
                  </a:lnTo>
                  <a:lnTo>
                    <a:pt x="4423" y="0"/>
                  </a:lnTo>
                  <a:close/>
                  <a:moveTo>
                    <a:pt x="4467" y="0"/>
                  </a:moveTo>
                  <a:lnTo>
                    <a:pt x="4486" y="0"/>
                  </a:lnTo>
                  <a:lnTo>
                    <a:pt x="4487" y="0"/>
                  </a:lnTo>
                  <a:lnTo>
                    <a:pt x="4489" y="2"/>
                  </a:lnTo>
                  <a:lnTo>
                    <a:pt x="4490" y="4"/>
                  </a:lnTo>
                  <a:lnTo>
                    <a:pt x="4490" y="6"/>
                  </a:lnTo>
                  <a:lnTo>
                    <a:pt x="4490" y="8"/>
                  </a:lnTo>
                  <a:lnTo>
                    <a:pt x="4489" y="10"/>
                  </a:lnTo>
                  <a:lnTo>
                    <a:pt x="4487" y="12"/>
                  </a:lnTo>
                  <a:lnTo>
                    <a:pt x="4486" y="12"/>
                  </a:lnTo>
                  <a:lnTo>
                    <a:pt x="4467" y="12"/>
                  </a:lnTo>
                  <a:lnTo>
                    <a:pt x="4466" y="12"/>
                  </a:lnTo>
                  <a:lnTo>
                    <a:pt x="4465" y="10"/>
                  </a:lnTo>
                  <a:lnTo>
                    <a:pt x="4464" y="8"/>
                  </a:lnTo>
                  <a:lnTo>
                    <a:pt x="4464" y="6"/>
                  </a:lnTo>
                  <a:lnTo>
                    <a:pt x="4464" y="4"/>
                  </a:lnTo>
                  <a:lnTo>
                    <a:pt x="4465" y="2"/>
                  </a:lnTo>
                  <a:lnTo>
                    <a:pt x="4466" y="0"/>
                  </a:lnTo>
                  <a:lnTo>
                    <a:pt x="4467" y="0"/>
                  </a:lnTo>
                  <a:lnTo>
                    <a:pt x="4467" y="0"/>
                  </a:lnTo>
                  <a:close/>
                  <a:moveTo>
                    <a:pt x="4511" y="0"/>
                  </a:moveTo>
                  <a:lnTo>
                    <a:pt x="4531" y="0"/>
                  </a:lnTo>
                  <a:lnTo>
                    <a:pt x="4532" y="0"/>
                  </a:lnTo>
                  <a:lnTo>
                    <a:pt x="4533" y="2"/>
                  </a:lnTo>
                  <a:lnTo>
                    <a:pt x="4534" y="4"/>
                  </a:lnTo>
                  <a:lnTo>
                    <a:pt x="4534" y="6"/>
                  </a:lnTo>
                  <a:lnTo>
                    <a:pt x="4534" y="8"/>
                  </a:lnTo>
                  <a:lnTo>
                    <a:pt x="4533" y="10"/>
                  </a:lnTo>
                  <a:lnTo>
                    <a:pt x="4532" y="12"/>
                  </a:lnTo>
                  <a:lnTo>
                    <a:pt x="4531" y="12"/>
                  </a:lnTo>
                  <a:lnTo>
                    <a:pt x="4511" y="12"/>
                  </a:lnTo>
                  <a:lnTo>
                    <a:pt x="4510" y="12"/>
                  </a:lnTo>
                  <a:lnTo>
                    <a:pt x="4509" y="10"/>
                  </a:lnTo>
                  <a:lnTo>
                    <a:pt x="4508" y="8"/>
                  </a:lnTo>
                  <a:lnTo>
                    <a:pt x="4508" y="6"/>
                  </a:lnTo>
                  <a:lnTo>
                    <a:pt x="4508" y="4"/>
                  </a:lnTo>
                  <a:lnTo>
                    <a:pt x="4509" y="2"/>
                  </a:lnTo>
                  <a:lnTo>
                    <a:pt x="4510" y="0"/>
                  </a:lnTo>
                  <a:lnTo>
                    <a:pt x="4511" y="0"/>
                  </a:lnTo>
                  <a:lnTo>
                    <a:pt x="4511" y="0"/>
                  </a:lnTo>
                  <a:close/>
                  <a:moveTo>
                    <a:pt x="4556" y="0"/>
                  </a:moveTo>
                  <a:lnTo>
                    <a:pt x="4576" y="0"/>
                  </a:lnTo>
                  <a:lnTo>
                    <a:pt x="4577" y="0"/>
                  </a:lnTo>
                  <a:lnTo>
                    <a:pt x="4578" y="2"/>
                  </a:lnTo>
                  <a:lnTo>
                    <a:pt x="4579" y="4"/>
                  </a:lnTo>
                  <a:lnTo>
                    <a:pt x="4579" y="6"/>
                  </a:lnTo>
                  <a:lnTo>
                    <a:pt x="4579" y="8"/>
                  </a:lnTo>
                  <a:lnTo>
                    <a:pt x="4578" y="10"/>
                  </a:lnTo>
                  <a:lnTo>
                    <a:pt x="4577" y="12"/>
                  </a:lnTo>
                  <a:lnTo>
                    <a:pt x="4576" y="12"/>
                  </a:lnTo>
                  <a:lnTo>
                    <a:pt x="4556" y="12"/>
                  </a:lnTo>
                  <a:lnTo>
                    <a:pt x="4555" y="12"/>
                  </a:lnTo>
                  <a:lnTo>
                    <a:pt x="4554" y="10"/>
                  </a:lnTo>
                  <a:lnTo>
                    <a:pt x="4553" y="8"/>
                  </a:lnTo>
                  <a:lnTo>
                    <a:pt x="4553" y="6"/>
                  </a:lnTo>
                  <a:lnTo>
                    <a:pt x="4553" y="4"/>
                  </a:lnTo>
                  <a:lnTo>
                    <a:pt x="4554" y="2"/>
                  </a:lnTo>
                  <a:lnTo>
                    <a:pt x="4555" y="0"/>
                  </a:lnTo>
                  <a:lnTo>
                    <a:pt x="4556" y="0"/>
                  </a:lnTo>
                  <a:lnTo>
                    <a:pt x="4556" y="0"/>
                  </a:lnTo>
                  <a:close/>
                  <a:moveTo>
                    <a:pt x="4601" y="0"/>
                  </a:moveTo>
                  <a:lnTo>
                    <a:pt x="4621" y="0"/>
                  </a:lnTo>
                  <a:lnTo>
                    <a:pt x="4622" y="0"/>
                  </a:lnTo>
                  <a:lnTo>
                    <a:pt x="4623" y="2"/>
                  </a:lnTo>
                  <a:lnTo>
                    <a:pt x="4624" y="4"/>
                  </a:lnTo>
                  <a:lnTo>
                    <a:pt x="4624" y="6"/>
                  </a:lnTo>
                  <a:lnTo>
                    <a:pt x="4624" y="8"/>
                  </a:lnTo>
                  <a:lnTo>
                    <a:pt x="4623" y="10"/>
                  </a:lnTo>
                  <a:lnTo>
                    <a:pt x="4622" y="12"/>
                  </a:lnTo>
                  <a:lnTo>
                    <a:pt x="4621" y="12"/>
                  </a:lnTo>
                  <a:lnTo>
                    <a:pt x="4601" y="12"/>
                  </a:lnTo>
                  <a:lnTo>
                    <a:pt x="4600" y="12"/>
                  </a:lnTo>
                  <a:lnTo>
                    <a:pt x="4599" y="10"/>
                  </a:lnTo>
                  <a:lnTo>
                    <a:pt x="4598" y="8"/>
                  </a:lnTo>
                  <a:lnTo>
                    <a:pt x="4598" y="6"/>
                  </a:lnTo>
                  <a:lnTo>
                    <a:pt x="4598" y="4"/>
                  </a:lnTo>
                  <a:lnTo>
                    <a:pt x="4599" y="2"/>
                  </a:lnTo>
                  <a:lnTo>
                    <a:pt x="4600" y="0"/>
                  </a:lnTo>
                  <a:lnTo>
                    <a:pt x="4601" y="0"/>
                  </a:lnTo>
                  <a:lnTo>
                    <a:pt x="4601" y="0"/>
                  </a:lnTo>
                  <a:close/>
                  <a:moveTo>
                    <a:pt x="4646" y="0"/>
                  </a:moveTo>
                  <a:lnTo>
                    <a:pt x="4664" y="0"/>
                  </a:lnTo>
                  <a:lnTo>
                    <a:pt x="4665" y="0"/>
                  </a:lnTo>
                  <a:lnTo>
                    <a:pt x="4667" y="2"/>
                  </a:lnTo>
                  <a:lnTo>
                    <a:pt x="4669" y="4"/>
                  </a:lnTo>
                  <a:lnTo>
                    <a:pt x="4669" y="6"/>
                  </a:lnTo>
                  <a:lnTo>
                    <a:pt x="4669" y="8"/>
                  </a:lnTo>
                  <a:lnTo>
                    <a:pt x="4667" y="10"/>
                  </a:lnTo>
                  <a:lnTo>
                    <a:pt x="4665" y="12"/>
                  </a:lnTo>
                  <a:lnTo>
                    <a:pt x="4664" y="12"/>
                  </a:lnTo>
                  <a:lnTo>
                    <a:pt x="4646" y="12"/>
                  </a:lnTo>
                  <a:lnTo>
                    <a:pt x="4645" y="12"/>
                  </a:lnTo>
                  <a:lnTo>
                    <a:pt x="4644" y="10"/>
                  </a:lnTo>
                  <a:lnTo>
                    <a:pt x="4643" y="8"/>
                  </a:lnTo>
                  <a:lnTo>
                    <a:pt x="4643" y="6"/>
                  </a:lnTo>
                  <a:lnTo>
                    <a:pt x="4643" y="4"/>
                  </a:lnTo>
                  <a:lnTo>
                    <a:pt x="4644" y="2"/>
                  </a:lnTo>
                  <a:lnTo>
                    <a:pt x="4645" y="0"/>
                  </a:lnTo>
                  <a:lnTo>
                    <a:pt x="4646" y="0"/>
                  </a:lnTo>
                  <a:lnTo>
                    <a:pt x="4646" y="0"/>
                  </a:lnTo>
                  <a:close/>
                  <a:moveTo>
                    <a:pt x="4690" y="0"/>
                  </a:moveTo>
                  <a:lnTo>
                    <a:pt x="4709" y="0"/>
                  </a:lnTo>
                  <a:lnTo>
                    <a:pt x="4710" y="0"/>
                  </a:lnTo>
                  <a:lnTo>
                    <a:pt x="4711" y="2"/>
                  </a:lnTo>
                  <a:lnTo>
                    <a:pt x="4712" y="4"/>
                  </a:lnTo>
                  <a:lnTo>
                    <a:pt x="4712" y="6"/>
                  </a:lnTo>
                  <a:lnTo>
                    <a:pt x="4712" y="8"/>
                  </a:lnTo>
                  <a:lnTo>
                    <a:pt x="4711" y="10"/>
                  </a:lnTo>
                  <a:lnTo>
                    <a:pt x="4710" y="12"/>
                  </a:lnTo>
                  <a:lnTo>
                    <a:pt x="4709" y="12"/>
                  </a:lnTo>
                  <a:lnTo>
                    <a:pt x="4690" y="12"/>
                  </a:lnTo>
                  <a:lnTo>
                    <a:pt x="4689" y="12"/>
                  </a:lnTo>
                  <a:lnTo>
                    <a:pt x="4688" y="10"/>
                  </a:lnTo>
                  <a:lnTo>
                    <a:pt x="4687" y="8"/>
                  </a:lnTo>
                  <a:lnTo>
                    <a:pt x="4687" y="6"/>
                  </a:lnTo>
                  <a:lnTo>
                    <a:pt x="4687" y="4"/>
                  </a:lnTo>
                  <a:lnTo>
                    <a:pt x="4688" y="2"/>
                  </a:lnTo>
                  <a:lnTo>
                    <a:pt x="4689" y="0"/>
                  </a:lnTo>
                  <a:lnTo>
                    <a:pt x="4690" y="0"/>
                  </a:lnTo>
                  <a:lnTo>
                    <a:pt x="4690" y="0"/>
                  </a:lnTo>
                  <a:close/>
                  <a:moveTo>
                    <a:pt x="4735" y="0"/>
                  </a:moveTo>
                  <a:lnTo>
                    <a:pt x="4754" y="0"/>
                  </a:lnTo>
                  <a:lnTo>
                    <a:pt x="4755" y="0"/>
                  </a:lnTo>
                  <a:lnTo>
                    <a:pt x="4756" y="2"/>
                  </a:lnTo>
                  <a:lnTo>
                    <a:pt x="4757" y="4"/>
                  </a:lnTo>
                  <a:lnTo>
                    <a:pt x="4757" y="6"/>
                  </a:lnTo>
                  <a:lnTo>
                    <a:pt x="4757" y="8"/>
                  </a:lnTo>
                  <a:lnTo>
                    <a:pt x="4756" y="10"/>
                  </a:lnTo>
                  <a:lnTo>
                    <a:pt x="4755" y="12"/>
                  </a:lnTo>
                  <a:lnTo>
                    <a:pt x="4754" y="12"/>
                  </a:lnTo>
                  <a:lnTo>
                    <a:pt x="4735" y="12"/>
                  </a:lnTo>
                  <a:lnTo>
                    <a:pt x="4734" y="12"/>
                  </a:lnTo>
                  <a:lnTo>
                    <a:pt x="4733" y="10"/>
                  </a:lnTo>
                  <a:lnTo>
                    <a:pt x="4732" y="8"/>
                  </a:lnTo>
                  <a:lnTo>
                    <a:pt x="4732" y="6"/>
                  </a:lnTo>
                  <a:lnTo>
                    <a:pt x="4732" y="4"/>
                  </a:lnTo>
                  <a:lnTo>
                    <a:pt x="4733" y="2"/>
                  </a:lnTo>
                  <a:lnTo>
                    <a:pt x="4734" y="0"/>
                  </a:lnTo>
                  <a:lnTo>
                    <a:pt x="4735" y="0"/>
                  </a:lnTo>
                  <a:lnTo>
                    <a:pt x="4735" y="0"/>
                  </a:lnTo>
                  <a:close/>
                  <a:moveTo>
                    <a:pt x="4780" y="0"/>
                  </a:moveTo>
                  <a:lnTo>
                    <a:pt x="4799" y="0"/>
                  </a:lnTo>
                  <a:lnTo>
                    <a:pt x="4800" y="0"/>
                  </a:lnTo>
                  <a:lnTo>
                    <a:pt x="4801" y="2"/>
                  </a:lnTo>
                  <a:lnTo>
                    <a:pt x="4802" y="4"/>
                  </a:lnTo>
                  <a:lnTo>
                    <a:pt x="4802" y="6"/>
                  </a:lnTo>
                  <a:lnTo>
                    <a:pt x="4802" y="8"/>
                  </a:lnTo>
                  <a:lnTo>
                    <a:pt x="4801" y="10"/>
                  </a:lnTo>
                  <a:lnTo>
                    <a:pt x="4800" y="12"/>
                  </a:lnTo>
                  <a:lnTo>
                    <a:pt x="4799" y="12"/>
                  </a:lnTo>
                  <a:lnTo>
                    <a:pt x="4780" y="12"/>
                  </a:lnTo>
                  <a:lnTo>
                    <a:pt x="4779" y="12"/>
                  </a:lnTo>
                  <a:lnTo>
                    <a:pt x="4778" y="10"/>
                  </a:lnTo>
                  <a:lnTo>
                    <a:pt x="4777" y="8"/>
                  </a:lnTo>
                  <a:lnTo>
                    <a:pt x="4777" y="6"/>
                  </a:lnTo>
                  <a:lnTo>
                    <a:pt x="4777" y="4"/>
                  </a:lnTo>
                  <a:lnTo>
                    <a:pt x="4778" y="2"/>
                  </a:lnTo>
                  <a:lnTo>
                    <a:pt x="4779" y="0"/>
                  </a:lnTo>
                  <a:lnTo>
                    <a:pt x="4780" y="0"/>
                  </a:lnTo>
                  <a:lnTo>
                    <a:pt x="4780" y="0"/>
                  </a:lnTo>
                  <a:close/>
                  <a:moveTo>
                    <a:pt x="4825" y="0"/>
                  </a:moveTo>
                  <a:lnTo>
                    <a:pt x="4843" y="0"/>
                  </a:lnTo>
                  <a:lnTo>
                    <a:pt x="4844" y="0"/>
                  </a:lnTo>
                  <a:lnTo>
                    <a:pt x="4846" y="2"/>
                  </a:lnTo>
                  <a:lnTo>
                    <a:pt x="4847" y="4"/>
                  </a:lnTo>
                  <a:lnTo>
                    <a:pt x="4847" y="6"/>
                  </a:lnTo>
                  <a:lnTo>
                    <a:pt x="4847" y="8"/>
                  </a:lnTo>
                  <a:lnTo>
                    <a:pt x="4846" y="10"/>
                  </a:lnTo>
                  <a:lnTo>
                    <a:pt x="4844" y="12"/>
                  </a:lnTo>
                  <a:lnTo>
                    <a:pt x="4843" y="12"/>
                  </a:lnTo>
                  <a:lnTo>
                    <a:pt x="4825" y="12"/>
                  </a:lnTo>
                  <a:lnTo>
                    <a:pt x="4824" y="12"/>
                  </a:lnTo>
                  <a:lnTo>
                    <a:pt x="4823" y="10"/>
                  </a:lnTo>
                  <a:lnTo>
                    <a:pt x="4822" y="8"/>
                  </a:lnTo>
                  <a:lnTo>
                    <a:pt x="4822" y="6"/>
                  </a:lnTo>
                  <a:lnTo>
                    <a:pt x="4822" y="4"/>
                  </a:lnTo>
                  <a:lnTo>
                    <a:pt x="4823" y="2"/>
                  </a:lnTo>
                  <a:lnTo>
                    <a:pt x="4824" y="0"/>
                  </a:lnTo>
                  <a:lnTo>
                    <a:pt x="4825" y="0"/>
                  </a:lnTo>
                  <a:lnTo>
                    <a:pt x="4825" y="0"/>
                  </a:lnTo>
                  <a:close/>
                  <a:moveTo>
                    <a:pt x="4869" y="0"/>
                  </a:moveTo>
                  <a:lnTo>
                    <a:pt x="4888" y="0"/>
                  </a:lnTo>
                  <a:lnTo>
                    <a:pt x="4889" y="0"/>
                  </a:lnTo>
                  <a:lnTo>
                    <a:pt x="4890" y="2"/>
                  </a:lnTo>
                  <a:lnTo>
                    <a:pt x="4891" y="4"/>
                  </a:lnTo>
                  <a:lnTo>
                    <a:pt x="4891" y="6"/>
                  </a:lnTo>
                  <a:lnTo>
                    <a:pt x="4891" y="8"/>
                  </a:lnTo>
                  <a:lnTo>
                    <a:pt x="4890" y="10"/>
                  </a:lnTo>
                  <a:lnTo>
                    <a:pt x="4889" y="12"/>
                  </a:lnTo>
                  <a:lnTo>
                    <a:pt x="4888" y="12"/>
                  </a:lnTo>
                  <a:lnTo>
                    <a:pt x="4869" y="12"/>
                  </a:lnTo>
                  <a:lnTo>
                    <a:pt x="4868" y="12"/>
                  </a:lnTo>
                  <a:lnTo>
                    <a:pt x="4866" y="10"/>
                  </a:lnTo>
                  <a:lnTo>
                    <a:pt x="4865" y="8"/>
                  </a:lnTo>
                  <a:lnTo>
                    <a:pt x="4865" y="6"/>
                  </a:lnTo>
                  <a:lnTo>
                    <a:pt x="4865" y="4"/>
                  </a:lnTo>
                  <a:lnTo>
                    <a:pt x="4866" y="2"/>
                  </a:lnTo>
                  <a:lnTo>
                    <a:pt x="4868" y="0"/>
                  </a:lnTo>
                  <a:lnTo>
                    <a:pt x="4869" y="0"/>
                  </a:lnTo>
                  <a:lnTo>
                    <a:pt x="4869" y="0"/>
                  </a:lnTo>
                  <a:close/>
                  <a:moveTo>
                    <a:pt x="4913" y="0"/>
                  </a:moveTo>
                  <a:lnTo>
                    <a:pt x="4933" y="0"/>
                  </a:lnTo>
                  <a:lnTo>
                    <a:pt x="4934" y="0"/>
                  </a:lnTo>
                  <a:lnTo>
                    <a:pt x="4935" y="2"/>
                  </a:lnTo>
                  <a:lnTo>
                    <a:pt x="4936" y="4"/>
                  </a:lnTo>
                  <a:lnTo>
                    <a:pt x="4936" y="6"/>
                  </a:lnTo>
                  <a:lnTo>
                    <a:pt x="4936" y="8"/>
                  </a:lnTo>
                  <a:lnTo>
                    <a:pt x="4935" y="10"/>
                  </a:lnTo>
                  <a:lnTo>
                    <a:pt x="4934" y="12"/>
                  </a:lnTo>
                  <a:lnTo>
                    <a:pt x="4933" y="12"/>
                  </a:lnTo>
                  <a:lnTo>
                    <a:pt x="4913" y="12"/>
                  </a:lnTo>
                  <a:lnTo>
                    <a:pt x="4912" y="12"/>
                  </a:lnTo>
                  <a:lnTo>
                    <a:pt x="4911" y="10"/>
                  </a:lnTo>
                  <a:lnTo>
                    <a:pt x="4910" y="8"/>
                  </a:lnTo>
                  <a:lnTo>
                    <a:pt x="4910" y="6"/>
                  </a:lnTo>
                  <a:lnTo>
                    <a:pt x="4910" y="4"/>
                  </a:lnTo>
                  <a:lnTo>
                    <a:pt x="4911" y="2"/>
                  </a:lnTo>
                  <a:lnTo>
                    <a:pt x="4912" y="0"/>
                  </a:lnTo>
                  <a:lnTo>
                    <a:pt x="4913" y="0"/>
                  </a:lnTo>
                  <a:lnTo>
                    <a:pt x="4913" y="0"/>
                  </a:lnTo>
                  <a:close/>
                  <a:moveTo>
                    <a:pt x="4958" y="0"/>
                  </a:moveTo>
                  <a:lnTo>
                    <a:pt x="4978" y="0"/>
                  </a:lnTo>
                  <a:lnTo>
                    <a:pt x="4979" y="0"/>
                  </a:lnTo>
                  <a:lnTo>
                    <a:pt x="4980" y="2"/>
                  </a:lnTo>
                  <a:lnTo>
                    <a:pt x="4981" y="4"/>
                  </a:lnTo>
                  <a:lnTo>
                    <a:pt x="4981" y="6"/>
                  </a:lnTo>
                  <a:lnTo>
                    <a:pt x="4981" y="8"/>
                  </a:lnTo>
                  <a:lnTo>
                    <a:pt x="4980" y="10"/>
                  </a:lnTo>
                  <a:lnTo>
                    <a:pt x="4979" y="12"/>
                  </a:lnTo>
                  <a:lnTo>
                    <a:pt x="4978" y="12"/>
                  </a:lnTo>
                  <a:lnTo>
                    <a:pt x="4958" y="12"/>
                  </a:lnTo>
                  <a:lnTo>
                    <a:pt x="4957" y="12"/>
                  </a:lnTo>
                  <a:lnTo>
                    <a:pt x="4956" y="10"/>
                  </a:lnTo>
                  <a:lnTo>
                    <a:pt x="4955" y="8"/>
                  </a:lnTo>
                  <a:lnTo>
                    <a:pt x="4955" y="6"/>
                  </a:lnTo>
                  <a:lnTo>
                    <a:pt x="4955" y="4"/>
                  </a:lnTo>
                  <a:lnTo>
                    <a:pt x="4956" y="2"/>
                  </a:lnTo>
                  <a:lnTo>
                    <a:pt x="4957" y="0"/>
                  </a:lnTo>
                  <a:lnTo>
                    <a:pt x="4958" y="0"/>
                  </a:lnTo>
                  <a:lnTo>
                    <a:pt x="4958" y="0"/>
                  </a:lnTo>
                  <a:close/>
                  <a:moveTo>
                    <a:pt x="5003" y="0"/>
                  </a:moveTo>
                  <a:lnTo>
                    <a:pt x="5022" y="0"/>
                  </a:lnTo>
                  <a:lnTo>
                    <a:pt x="5023" y="0"/>
                  </a:lnTo>
                  <a:lnTo>
                    <a:pt x="5025" y="2"/>
                  </a:lnTo>
                  <a:lnTo>
                    <a:pt x="5026" y="4"/>
                  </a:lnTo>
                  <a:lnTo>
                    <a:pt x="5026" y="6"/>
                  </a:lnTo>
                  <a:lnTo>
                    <a:pt x="5026" y="8"/>
                  </a:lnTo>
                  <a:lnTo>
                    <a:pt x="5025" y="10"/>
                  </a:lnTo>
                  <a:lnTo>
                    <a:pt x="5023" y="12"/>
                  </a:lnTo>
                  <a:lnTo>
                    <a:pt x="5022" y="12"/>
                  </a:lnTo>
                  <a:lnTo>
                    <a:pt x="5003" y="12"/>
                  </a:lnTo>
                  <a:lnTo>
                    <a:pt x="5002" y="12"/>
                  </a:lnTo>
                  <a:lnTo>
                    <a:pt x="5001" y="10"/>
                  </a:lnTo>
                  <a:lnTo>
                    <a:pt x="5000" y="8"/>
                  </a:lnTo>
                  <a:lnTo>
                    <a:pt x="5000" y="6"/>
                  </a:lnTo>
                  <a:lnTo>
                    <a:pt x="5000" y="4"/>
                  </a:lnTo>
                  <a:lnTo>
                    <a:pt x="5001" y="2"/>
                  </a:lnTo>
                  <a:lnTo>
                    <a:pt x="5002" y="0"/>
                  </a:lnTo>
                  <a:lnTo>
                    <a:pt x="5003" y="0"/>
                  </a:lnTo>
                  <a:lnTo>
                    <a:pt x="5003" y="0"/>
                  </a:lnTo>
                  <a:close/>
                  <a:moveTo>
                    <a:pt x="5047" y="0"/>
                  </a:moveTo>
                  <a:lnTo>
                    <a:pt x="5067" y="0"/>
                  </a:lnTo>
                  <a:lnTo>
                    <a:pt x="5068" y="0"/>
                  </a:lnTo>
                  <a:lnTo>
                    <a:pt x="5069" y="2"/>
                  </a:lnTo>
                  <a:lnTo>
                    <a:pt x="5070" y="4"/>
                  </a:lnTo>
                  <a:lnTo>
                    <a:pt x="5070" y="6"/>
                  </a:lnTo>
                  <a:lnTo>
                    <a:pt x="5070" y="8"/>
                  </a:lnTo>
                  <a:lnTo>
                    <a:pt x="5069" y="12"/>
                  </a:lnTo>
                  <a:lnTo>
                    <a:pt x="5068" y="13"/>
                  </a:lnTo>
                  <a:lnTo>
                    <a:pt x="5067" y="13"/>
                  </a:lnTo>
                  <a:lnTo>
                    <a:pt x="5047" y="13"/>
                  </a:lnTo>
                  <a:lnTo>
                    <a:pt x="5046" y="13"/>
                  </a:lnTo>
                  <a:lnTo>
                    <a:pt x="5045" y="12"/>
                  </a:lnTo>
                  <a:lnTo>
                    <a:pt x="5044" y="8"/>
                  </a:lnTo>
                  <a:lnTo>
                    <a:pt x="5044" y="6"/>
                  </a:lnTo>
                  <a:lnTo>
                    <a:pt x="5044" y="4"/>
                  </a:lnTo>
                  <a:lnTo>
                    <a:pt x="5045" y="2"/>
                  </a:lnTo>
                  <a:lnTo>
                    <a:pt x="5046" y="0"/>
                  </a:lnTo>
                  <a:lnTo>
                    <a:pt x="5047" y="0"/>
                  </a:lnTo>
                  <a:lnTo>
                    <a:pt x="5047" y="0"/>
                  </a:lnTo>
                  <a:close/>
                  <a:moveTo>
                    <a:pt x="5092" y="0"/>
                  </a:moveTo>
                  <a:lnTo>
                    <a:pt x="5111" y="0"/>
                  </a:lnTo>
                  <a:lnTo>
                    <a:pt x="5112" y="0"/>
                  </a:lnTo>
                  <a:lnTo>
                    <a:pt x="5113" y="2"/>
                  </a:lnTo>
                  <a:lnTo>
                    <a:pt x="5114" y="4"/>
                  </a:lnTo>
                  <a:lnTo>
                    <a:pt x="5114" y="6"/>
                  </a:lnTo>
                  <a:lnTo>
                    <a:pt x="5114" y="8"/>
                  </a:lnTo>
                  <a:lnTo>
                    <a:pt x="5113" y="12"/>
                  </a:lnTo>
                  <a:lnTo>
                    <a:pt x="5112" y="13"/>
                  </a:lnTo>
                  <a:lnTo>
                    <a:pt x="5111" y="13"/>
                  </a:lnTo>
                  <a:lnTo>
                    <a:pt x="5092" y="13"/>
                  </a:lnTo>
                  <a:lnTo>
                    <a:pt x="5091" y="13"/>
                  </a:lnTo>
                  <a:lnTo>
                    <a:pt x="5090" y="12"/>
                  </a:lnTo>
                  <a:lnTo>
                    <a:pt x="5089" y="8"/>
                  </a:lnTo>
                  <a:lnTo>
                    <a:pt x="5089" y="6"/>
                  </a:lnTo>
                  <a:lnTo>
                    <a:pt x="5089" y="4"/>
                  </a:lnTo>
                  <a:lnTo>
                    <a:pt x="5090" y="2"/>
                  </a:lnTo>
                  <a:lnTo>
                    <a:pt x="5091" y="0"/>
                  </a:lnTo>
                  <a:lnTo>
                    <a:pt x="5092" y="0"/>
                  </a:lnTo>
                  <a:lnTo>
                    <a:pt x="5092" y="0"/>
                  </a:lnTo>
                  <a:close/>
                  <a:moveTo>
                    <a:pt x="5137" y="0"/>
                  </a:moveTo>
                  <a:lnTo>
                    <a:pt x="5141" y="0"/>
                  </a:lnTo>
                  <a:lnTo>
                    <a:pt x="5142" y="0"/>
                  </a:lnTo>
                  <a:lnTo>
                    <a:pt x="5143" y="2"/>
                  </a:lnTo>
                  <a:lnTo>
                    <a:pt x="5144" y="4"/>
                  </a:lnTo>
                  <a:lnTo>
                    <a:pt x="5144" y="6"/>
                  </a:lnTo>
                  <a:lnTo>
                    <a:pt x="5144" y="8"/>
                  </a:lnTo>
                  <a:lnTo>
                    <a:pt x="5143" y="12"/>
                  </a:lnTo>
                  <a:lnTo>
                    <a:pt x="5142" y="13"/>
                  </a:lnTo>
                  <a:lnTo>
                    <a:pt x="5141" y="13"/>
                  </a:lnTo>
                  <a:lnTo>
                    <a:pt x="5137" y="13"/>
                  </a:lnTo>
                  <a:lnTo>
                    <a:pt x="5136" y="13"/>
                  </a:lnTo>
                  <a:lnTo>
                    <a:pt x="5135" y="12"/>
                  </a:lnTo>
                  <a:lnTo>
                    <a:pt x="5134" y="8"/>
                  </a:lnTo>
                  <a:lnTo>
                    <a:pt x="5134" y="6"/>
                  </a:lnTo>
                  <a:lnTo>
                    <a:pt x="5134" y="4"/>
                  </a:lnTo>
                  <a:lnTo>
                    <a:pt x="5135" y="2"/>
                  </a:lnTo>
                  <a:lnTo>
                    <a:pt x="5136" y="0"/>
                  </a:lnTo>
                  <a:lnTo>
                    <a:pt x="5137" y="0"/>
                  </a:lnTo>
                  <a:lnTo>
                    <a:pt x="5137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27120" y="2146320"/>
              <a:ext cx="8165880" cy="7920"/>
            </a:xfrm>
            <a:custGeom>
              <a:avLst/>
              <a:gdLst/>
              <a:ahLst/>
              <a:rect l="l" t="t" r="r" b="b"/>
              <a:pathLst>
                <a:path w="5144" h="12">
                  <a:moveTo>
                    <a:pt x="3" y="0"/>
                  </a:moveTo>
                  <a:lnTo>
                    <a:pt x="21" y="0"/>
                  </a:lnTo>
                  <a:lnTo>
                    <a:pt x="22" y="0"/>
                  </a:lnTo>
                  <a:lnTo>
                    <a:pt x="24" y="2"/>
                  </a:lnTo>
                  <a:lnTo>
                    <a:pt x="25" y="4"/>
                  </a:lnTo>
                  <a:lnTo>
                    <a:pt x="25" y="6"/>
                  </a:lnTo>
                  <a:lnTo>
                    <a:pt x="25" y="8"/>
                  </a:lnTo>
                  <a:lnTo>
                    <a:pt x="24" y="10"/>
                  </a:lnTo>
                  <a:lnTo>
                    <a:pt x="22" y="12"/>
                  </a:lnTo>
                  <a:lnTo>
                    <a:pt x="21" y="12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2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close/>
                  <a:moveTo>
                    <a:pt x="46" y="0"/>
                  </a:moveTo>
                  <a:lnTo>
                    <a:pt x="66" y="0"/>
                  </a:lnTo>
                  <a:lnTo>
                    <a:pt x="67" y="0"/>
                  </a:lnTo>
                  <a:lnTo>
                    <a:pt x="68" y="2"/>
                  </a:lnTo>
                  <a:lnTo>
                    <a:pt x="69" y="4"/>
                  </a:lnTo>
                  <a:lnTo>
                    <a:pt x="69" y="6"/>
                  </a:lnTo>
                  <a:lnTo>
                    <a:pt x="69" y="8"/>
                  </a:lnTo>
                  <a:lnTo>
                    <a:pt x="68" y="10"/>
                  </a:lnTo>
                  <a:lnTo>
                    <a:pt x="67" y="12"/>
                  </a:lnTo>
                  <a:lnTo>
                    <a:pt x="66" y="12"/>
                  </a:lnTo>
                  <a:lnTo>
                    <a:pt x="46" y="12"/>
                  </a:lnTo>
                  <a:lnTo>
                    <a:pt x="45" y="12"/>
                  </a:lnTo>
                  <a:lnTo>
                    <a:pt x="44" y="10"/>
                  </a:lnTo>
                  <a:lnTo>
                    <a:pt x="43" y="8"/>
                  </a:lnTo>
                  <a:lnTo>
                    <a:pt x="43" y="6"/>
                  </a:lnTo>
                  <a:lnTo>
                    <a:pt x="43" y="4"/>
                  </a:lnTo>
                  <a:lnTo>
                    <a:pt x="44" y="2"/>
                  </a:lnTo>
                  <a:lnTo>
                    <a:pt x="45" y="0"/>
                  </a:lnTo>
                  <a:lnTo>
                    <a:pt x="46" y="0"/>
                  </a:lnTo>
                  <a:lnTo>
                    <a:pt x="46" y="0"/>
                  </a:lnTo>
                  <a:close/>
                  <a:moveTo>
                    <a:pt x="91" y="0"/>
                  </a:moveTo>
                  <a:lnTo>
                    <a:pt x="111" y="0"/>
                  </a:lnTo>
                  <a:lnTo>
                    <a:pt x="112" y="0"/>
                  </a:lnTo>
                  <a:lnTo>
                    <a:pt x="113" y="2"/>
                  </a:lnTo>
                  <a:lnTo>
                    <a:pt x="114" y="4"/>
                  </a:lnTo>
                  <a:lnTo>
                    <a:pt x="114" y="6"/>
                  </a:lnTo>
                  <a:lnTo>
                    <a:pt x="114" y="8"/>
                  </a:lnTo>
                  <a:lnTo>
                    <a:pt x="113" y="10"/>
                  </a:lnTo>
                  <a:lnTo>
                    <a:pt x="112" y="12"/>
                  </a:lnTo>
                  <a:lnTo>
                    <a:pt x="111" y="12"/>
                  </a:lnTo>
                  <a:lnTo>
                    <a:pt x="91" y="12"/>
                  </a:lnTo>
                  <a:lnTo>
                    <a:pt x="90" y="12"/>
                  </a:lnTo>
                  <a:lnTo>
                    <a:pt x="89" y="10"/>
                  </a:lnTo>
                  <a:lnTo>
                    <a:pt x="88" y="8"/>
                  </a:lnTo>
                  <a:lnTo>
                    <a:pt x="88" y="6"/>
                  </a:lnTo>
                  <a:lnTo>
                    <a:pt x="88" y="4"/>
                  </a:lnTo>
                  <a:lnTo>
                    <a:pt x="89" y="2"/>
                  </a:lnTo>
                  <a:lnTo>
                    <a:pt x="90" y="0"/>
                  </a:lnTo>
                  <a:lnTo>
                    <a:pt x="91" y="0"/>
                  </a:lnTo>
                  <a:lnTo>
                    <a:pt x="91" y="0"/>
                  </a:lnTo>
                  <a:close/>
                  <a:moveTo>
                    <a:pt x="136" y="0"/>
                  </a:moveTo>
                  <a:lnTo>
                    <a:pt x="156" y="0"/>
                  </a:lnTo>
                  <a:lnTo>
                    <a:pt x="157" y="0"/>
                  </a:lnTo>
                  <a:lnTo>
                    <a:pt x="158" y="2"/>
                  </a:lnTo>
                  <a:lnTo>
                    <a:pt x="159" y="4"/>
                  </a:lnTo>
                  <a:lnTo>
                    <a:pt x="159" y="6"/>
                  </a:lnTo>
                  <a:lnTo>
                    <a:pt x="159" y="8"/>
                  </a:lnTo>
                  <a:lnTo>
                    <a:pt x="158" y="10"/>
                  </a:lnTo>
                  <a:lnTo>
                    <a:pt x="157" y="12"/>
                  </a:lnTo>
                  <a:lnTo>
                    <a:pt x="156" y="12"/>
                  </a:lnTo>
                  <a:lnTo>
                    <a:pt x="136" y="12"/>
                  </a:lnTo>
                  <a:lnTo>
                    <a:pt x="135" y="12"/>
                  </a:lnTo>
                  <a:lnTo>
                    <a:pt x="134" y="10"/>
                  </a:lnTo>
                  <a:lnTo>
                    <a:pt x="133" y="8"/>
                  </a:lnTo>
                  <a:lnTo>
                    <a:pt x="133" y="6"/>
                  </a:lnTo>
                  <a:lnTo>
                    <a:pt x="133" y="4"/>
                  </a:lnTo>
                  <a:lnTo>
                    <a:pt x="134" y="2"/>
                  </a:lnTo>
                  <a:lnTo>
                    <a:pt x="135" y="0"/>
                  </a:lnTo>
                  <a:lnTo>
                    <a:pt x="136" y="0"/>
                  </a:lnTo>
                  <a:lnTo>
                    <a:pt x="136" y="0"/>
                  </a:lnTo>
                  <a:close/>
                  <a:moveTo>
                    <a:pt x="181" y="0"/>
                  </a:moveTo>
                  <a:lnTo>
                    <a:pt x="200" y="0"/>
                  </a:lnTo>
                  <a:lnTo>
                    <a:pt x="201" y="0"/>
                  </a:lnTo>
                  <a:lnTo>
                    <a:pt x="203" y="2"/>
                  </a:lnTo>
                  <a:lnTo>
                    <a:pt x="204" y="4"/>
                  </a:lnTo>
                  <a:lnTo>
                    <a:pt x="204" y="6"/>
                  </a:lnTo>
                  <a:lnTo>
                    <a:pt x="204" y="8"/>
                  </a:lnTo>
                  <a:lnTo>
                    <a:pt x="203" y="10"/>
                  </a:lnTo>
                  <a:lnTo>
                    <a:pt x="201" y="12"/>
                  </a:lnTo>
                  <a:lnTo>
                    <a:pt x="200" y="12"/>
                  </a:lnTo>
                  <a:lnTo>
                    <a:pt x="181" y="12"/>
                  </a:lnTo>
                  <a:lnTo>
                    <a:pt x="180" y="12"/>
                  </a:lnTo>
                  <a:lnTo>
                    <a:pt x="179" y="10"/>
                  </a:lnTo>
                  <a:lnTo>
                    <a:pt x="178" y="8"/>
                  </a:lnTo>
                  <a:lnTo>
                    <a:pt x="178" y="6"/>
                  </a:lnTo>
                  <a:lnTo>
                    <a:pt x="178" y="4"/>
                  </a:lnTo>
                  <a:lnTo>
                    <a:pt x="179" y="2"/>
                  </a:lnTo>
                  <a:lnTo>
                    <a:pt x="180" y="0"/>
                  </a:lnTo>
                  <a:lnTo>
                    <a:pt x="181" y="0"/>
                  </a:lnTo>
                  <a:lnTo>
                    <a:pt x="181" y="0"/>
                  </a:lnTo>
                  <a:close/>
                  <a:moveTo>
                    <a:pt x="225" y="0"/>
                  </a:moveTo>
                  <a:lnTo>
                    <a:pt x="244" y="0"/>
                  </a:lnTo>
                  <a:lnTo>
                    <a:pt x="245" y="0"/>
                  </a:lnTo>
                  <a:lnTo>
                    <a:pt x="247" y="2"/>
                  </a:lnTo>
                  <a:lnTo>
                    <a:pt x="248" y="4"/>
                  </a:lnTo>
                  <a:lnTo>
                    <a:pt x="248" y="6"/>
                  </a:lnTo>
                  <a:lnTo>
                    <a:pt x="248" y="8"/>
                  </a:lnTo>
                  <a:lnTo>
                    <a:pt x="247" y="10"/>
                  </a:lnTo>
                  <a:lnTo>
                    <a:pt x="245" y="12"/>
                  </a:lnTo>
                  <a:lnTo>
                    <a:pt x="244" y="12"/>
                  </a:lnTo>
                  <a:lnTo>
                    <a:pt x="225" y="12"/>
                  </a:lnTo>
                  <a:lnTo>
                    <a:pt x="224" y="12"/>
                  </a:lnTo>
                  <a:lnTo>
                    <a:pt x="223" y="10"/>
                  </a:lnTo>
                  <a:lnTo>
                    <a:pt x="222" y="8"/>
                  </a:lnTo>
                  <a:lnTo>
                    <a:pt x="222" y="6"/>
                  </a:lnTo>
                  <a:lnTo>
                    <a:pt x="222" y="4"/>
                  </a:lnTo>
                  <a:lnTo>
                    <a:pt x="223" y="2"/>
                  </a:lnTo>
                  <a:lnTo>
                    <a:pt x="224" y="0"/>
                  </a:lnTo>
                  <a:lnTo>
                    <a:pt x="225" y="0"/>
                  </a:lnTo>
                  <a:lnTo>
                    <a:pt x="225" y="0"/>
                  </a:lnTo>
                  <a:close/>
                  <a:moveTo>
                    <a:pt x="270" y="0"/>
                  </a:moveTo>
                  <a:lnTo>
                    <a:pt x="289" y="0"/>
                  </a:lnTo>
                  <a:lnTo>
                    <a:pt x="290" y="0"/>
                  </a:lnTo>
                  <a:lnTo>
                    <a:pt x="291" y="2"/>
                  </a:lnTo>
                  <a:lnTo>
                    <a:pt x="292" y="4"/>
                  </a:lnTo>
                  <a:lnTo>
                    <a:pt x="292" y="6"/>
                  </a:lnTo>
                  <a:lnTo>
                    <a:pt x="292" y="8"/>
                  </a:lnTo>
                  <a:lnTo>
                    <a:pt x="291" y="10"/>
                  </a:lnTo>
                  <a:lnTo>
                    <a:pt x="290" y="12"/>
                  </a:lnTo>
                  <a:lnTo>
                    <a:pt x="289" y="12"/>
                  </a:lnTo>
                  <a:lnTo>
                    <a:pt x="270" y="12"/>
                  </a:lnTo>
                  <a:lnTo>
                    <a:pt x="269" y="12"/>
                  </a:lnTo>
                  <a:lnTo>
                    <a:pt x="268" y="10"/>
                  </a:lnTo>
                  <a:lnTo>
                    <a:pt x="267" y="8"/>
                  </a:lnTo>
                  <a:lnTo>
                    <a:pt x="267" y="6"/>
                  </a:lnTo>
                  <a:lnTo>
                    <a:pt x="267" y="4"/>
                  </a:lnTo>
                  <a:lnTo>
                    <a:pt x="268" y="2"/>
                  </a:lnTo>
                  <a:lnTo>
                    <a:pt x="269" y="0"/>
                  </a:lnTo>
                  <a:lnTo>
                    <a:pt x="270" y="0"/>
                  </a:lnTo>
                  <a:lnTo>
                    <a:pt x="270" y="0"/>
                  </a:lnTo>
                  <a:close/>
                  <a:moveTo>
                    <a:pt x="315" y="0"/>
                  </a:moveTo>
                  <a:lnTo>
                    <a:pt x="334" y="0"/>
                  </a:lnTo>
                  <a:lnTo>
                    <a:pt x="335" y="0"/>
                  </a:lnTo>
                  <a:lnTo>
                    <a:pt x="336" y="2"/>
                  </a:lnTo>
                  <a:lnTo>
                    <a:pt x="337" y="4"/>
                  </a:lnTo>
                  <a:lnTo>
                    <a:pt x="337" y="6"/>
                  </a:lnTo>
                  <a:lnTo>
                    <a:pt x="337" y="8"/>
                  </a:lnTo>
                  <a:lnTo>
                    <a:pt x="336" y="10"/>
                  </a:lnTo>
                  <a:lnTo>
                    <a:pt x="335" y="12"/>
                  </a:lnTo>
                  <a:lnTo>
                    <a:pt x="334" y="12"/>
                  </a:lnTo>
                  <a:lnTo>
                    <a:pt x="315" y="12"/>
                  </a:lnTo>
                  <a:lnTo>
                    <a:pt x="314" y="12"/>
                  </a:lnTo>
                  <a:lnTo>
                    <a:pt x="313" y="10"/>
                  </a:lnTo>
                  <a:lnTo>
                    <a:pt x="312" y="8"/>
                  </a:lnTo>
                  <a:lnTo>
                    <a:pt x="312" y="6"/>
                  </a:lnTo>
                  <a:lnTo>
                    <a:pt x="312" y="4"/>
                  </a:lnTo>
                  <a:lnTo>
                    <a:pt x="313" y="2"/>
                  </a:lnTo>
                  <a:lnTo>
                    <a:pt x="314" y="0"/>
                  </a:lnTo>
                  <a:lnTo>
                    <a:pt x="315" y="0"/>
                  </a:lnTo>
                  <a:lnTo>
                    <a:pt x="315" y="0"/>
                  </a:lnTo>
                  <a:close/>
                  <a:moveTo>
                    <a:pt x="360" y="0"/>
                  </a:moveTo>
                  <a:lnTo>
                    <a:pt x="378" y="0"/>
                  </a:lnTo>
                  <a:lnTo>
                    <a:pt x="379" y="0"/>
                  </a:lnTo>
                  <a:lnTo>
                    <a:pt x="381" y="2"/>
                  </a:lnTo>
                  <a:lnTo>
                    <a:pt x="382" y="4"/>
                  </a:lnTo>
                  <a:lnTo>
                    <a:pt x="382" y="6"/>
                  </a:lnTo>
                  <a:lnTo>
                    <a:pt x="382" y="8"/>
                  </a:lnTo>
                  <a:lnTo>
                    <a:pt x="381" y="10"/>
                  </a:lnTo>
                  <a:lnTo>
                    <a:pt x="379" y="12"/>
                  </a:lnTo>
                  <a:lnTo>
                    <a:pt x="378" y="12"/>
                  </a:lnTo>
                  <a:lnTo>
                    <a:pt x="360" y="12"/>
                  </a:lnTo>
                  <a:lnTo>
                    <a:pt x="359" y="12"/>
                  </a:lnTo>
                  <a:lnTo>
                    <a:pt x="358" y="10"/>
                  </a:lnTo>
                  <a:lnTo>
                    <a:pt x="357" y="8"/>
                  </a:lnTo>
                  <a:lnTo>
                    <a:pt x="357" y="6"/>
                  </a:lnTo>
                  <a:lnTo>
                    <a:pt x="357" y="4"/>
                  </a:lnTo>
                  <a:lnTo>
                    <a:pt x="358" y="2"/>
                  </a:lnTo>
                  <a:lnTo>
                    <a:pt x="359" y="0"/>
                  </a:lnTo>
                  <a:lnTo>
                    <a:pt x="360" y="0"/>
                  </a:lnTo>
                  <a:lnTo>
                    <a:pt x="360" y="0"/>
                  </a:lnTo>
                  <a:close/>
                  <a:moveTo>
                    <a:pt x="404" y="0"/>
                  </a:moveTo>
                  <a:lnTo>
                    <a:pt x="423" y="0"/>
                  </a:lnTo>
                  <a:lnTo>
                    <a:pt x="424" y="0"/>
                  </a:lnTo>
                  <a:lnTo>
                    <a:pt x="425" y="2"/>
                  </a:lnTo>
                  <a:lnTo>
                    <a:pt x="426" y="4"/>
                  </a:lnTo>
                  <a:lnTo>
                    <a:pt x="426" y="6"/>
                  </a:lnTo>
                  <a:lnTo>
                    <a:pt x="426" y="8"/>
                  </a:lnTo>
                  <a:lnTo>
                    <a:pt x="425" y="10"/>
                  </a:lnTo>
                  <a:lnTo>
                    <a:pt x="424" y="12"/>
                  </a:lnTo>
                  <a:lnTo>
                    <a:pt x="423" y="12"/>
                  </a:lnTo>
                  <a:lnTo>
                    <a:pt x="404" y="12"/>
                  </a:lnTo>
                  <a:lnTo>
                    <a:pt x="403" y="12"/>
                  </a:lnTo>
                  <a:lnTo>
                    <a:pt x="402" y="10"/>
                  </a:lnTo>
                  <a:lnTo>
                    <a:pt x="401" y="8"/>
                  </a:lnTo>
                  <a:lnTo>
                    <a:pt x="401" y="6"/>
                  </a:lnTo>
                  <a:lnTo>
                    <a:pt x="401" y="4"/>
                  </a:lnTo>
                  <a:lnTo>
                    <a:pt x="402" y="2"/>
                  </a:lnTo>
                  <a:lnTo>
                    <a:pt x="403" y="0"/>
                  </a:lnTo>
                  <a:lnTo>
                    <a:pt x="404" y="0"/>
                  </a:lnTo>
                  <a:lnTo>
                    <a:pt x="404" y="0"/>
                  </a:lnTo>
                  <a:close/>
                  <a:moveTo>
                    <a:pt x="449" y="0"/>
                  </a:moveTo>
                  <a:lnTo>
                    <a:pt x="468" y="0"/>
                  </a:lnTo>
                  <a:lnTo>
                    <a:pt x="469" y="0"/>
                  </a:lnTo>
                  <a:lnTo>
                    <a:pt x="470" y="2"/>
                  </a:lnTo>
                  <a:lnTo>
                    <a:pt x="471" y="4"/>
                  </a:lnTo>
                  <a:lnTo>
                    <a:pt x="471" y="6"/>
                  </a:lnTo>
                  <a:lnTo>
                    <a:pt x="471" y="8"/>
                  </a:lnTo>
                  <a:lnTo>
                    <a:pt x="470" y="10"/>
                  </a:lnTo>
                  <a:lnTo>
                    <a:pt x="469" y="12"/>
                  </a:lnTo>
                  <a:lnTo>
                    <a:pt x="468" y="12"/>
                  </a:lnTo>
                  <a:lnTo>
                    <a:pt x="449" y="12"/>
                  </a:lnTo>
                  <a:lnTo>
                    <a:pt x="448" y="12"/>
                  </a:lnTo>
                  <a:lnTo>
                    <a:pt x="447" y="10"/>
                  </a:lnTo>
                  <a:lnTo>
                    <a:pt x="446" y="8"/>
                  </a:lnTo>
                  <a:lnTo>
                    <a:pt x="446" y="6"/>
                  </a:lnTo>
                  <a:lnTo>
                    <a:pt x="446" y="4"/>
                  </a:lnTo>
                  <a:lnTo>
                    <a:pt x="447" y="2"/>
                  </a:lnTo>
                  <a:lnTo>
                    <a:pt x="448" y="0"/>
                  </a:lnTo>
                  <a:lnTo>
                    <a:pt x="449" y="0"/>
                  </a:lnTo>
                  <a:lnTo>
                    <a:pt x="449" y="0"/>
                  </a:lnTo>
                  <a:close/>
                  <a:moveTo>
                    <a:pt x="493" y="0"/>
                  </a:moveTo>
                  <a:lnTo>
                    <a:pt x="513" y="0"/>
                  </a:lnTo>
                  <a:lnTo>
                    <a:pt x="514" y="0"/>
                  </a:lnTo>
                  <a:lnTo>
                    <a:pt x="515" y="2"/>
                  </a:lnTo>
                  <a:lnTo>
                    <a:pt x="516" y="4"/>
                  </a:lnTo>
                  <a:lnTo>
                    <a:pt x="516" y="6"/>
                  </a:lnTo>
                  <a:lnTo>
                    <a:pt x="516" y="8"/>
                  </a:lnTo>
                  <a:lnTo>
                    <a:pt x="515" y="10"/>
                  </a:lnTo>
                  <a:lnTo>
                    <a:pt x="514" y="12"/>
                  </a:lnTo>
                  <a:lnTo>
                    <a:pt x="513" y="12"/>
                  </a:lnTo>
                  <a:lnTo>
                    <a:pt x="493" y="12"/>
                  </a:lnTo>
                  <a:lnTo>
                    <a:pt x="492" y="12"/>
                  </a:lnTo>
                  <a:lnTo>
                    <a:pt x="491" y="10"/>
                  </a:lnTo>
                  <a:lnTo>
                    <a:pt x="490" y="8"/>
                  </a:lnTo>
                  <a:lnTo>
                    <a:pt x="490" y="6"/>
                  </a:lnTo>
                  <a:lnTo>
                    <a:pt x="490" y="4"/>
                  </a:lnTo>
                  <a:lnTo>
                    <a:pt x="491" y="2"/>
                  </a:lnTo>
                  <a:lnTo>
                    <a:pt x="492" y="0"/>
                  </a:lnTo>
                  <a:lnTo>
                    <a:pt x="493" y="0"/>
                  </a:lnTo>
                  <a:lnTo>
                    <a:pt x="493" y="0"/>
                  </a:lnTo>
                  <a:close/>
                  <a:moveTo>
                    <a:pt x="538" y="0"/>
                  </a:moveTo>
                  <a:lnTo>
                    <a:pt x="557" y="0"/>
                  </a:lnTo>
                  <a:lnTo>
                    <a:pt x="558" y="0"/>
                  </a:lnTo>
                  <a:lnTo>
                    <a:pt x="560" y="2"/>
                  </a:lnTo>
                  <a:lnTo>
                    <a:pt x="561" y="4"/>
                  </a:lnTo>
                  <a:lnTo>
                    <a:pt x="561" y="6"/>
                  </a:lnTo>
                  <a:lnTo>
                    <a:pt x="561" y="8"/>
                  </a:lnTo>
                  <a:lnTo>
                    <a:pt x="560" y="10"/>
                  </a:lnTo>
                  <a:lnTo>
                    <a:pt x="558" y="12"/>
                  </a:lnTo>
                  <a:lnTo>
                    <a:pt x="557" y="12"/>
                  </a:lnTo>
                  <a:lnTo>
                    <a:pt x="538" y="12"/>
                  </a:lnTo>
                  <a:lnTo>
                    <a:pt x="537" y="12"/>
                  </a:lnTo>
                  <a:lnTo>
                    <a:pt x="536" y="10"/>
                  </a:lnTo>
                  <a:lnTo>
                    <a:pt x="535" y="8"/>
                  </a:lnTo>
                  <a:lnTo>
                    <a:pt x="535" y="6"/>
                  </a:lnTo>
                  <a:lnTo>
                    <a:pt x="535" y="4"/>
                  </a:lnTo>
                  <a:lnTo>
                    <a:pt x="536" y="2"/>
                  </a:lnTo>
                  <a:lnTo>
                    <a:pt x="537" y="0"/>
                  </a:lnTo>
                  <a:lnTo>
                    <a:pt x="538" y="0"/>
                  </a:lnTo>
                  <a:lnTo>
                    <a:pt x="538" y="0"/>
                  </a:lnTo>
                  <a:close/>
                  <a:moveTo>
                    <a:pt x="582" y="0"/>
                  </a:moveTo>
                  <a:lnTo>
                    <a:pt x="602" y="0"/>
                  </a:lnTo>
                  <a:lnTo>
                    <a:pt x="603" y="0"/>
                  </a:lnTo>
                  <a:lnTo>
                    <a:pt x="604" y="2"/>
                  </a:lnTo>
                  <a:lnTo>
                    <a:pt x="605" y="4"/>
                  </a:lnTo>
                  <a:lnTo>
                    <a:pt x="605" y="6"/>
                  </a:lnTo>
                  <a:lnTo>
                    <a:pt x="605" y="8"/>
                  </a:lnTo>
                  <a:lnTo>
                    <a:pt x="604" y="10"/>
                  </a:lnTo>
                  <a:lnTo>
                    <a:pt x="603" y="12"/>
                  </a:lnTo>
                  <a:lnTo>
                    <a:pt x="602" y="12"/>
                  </a:lnTo>
                  <a:lnTo>
                    <a:pt x="582" y="12"/>
                  </a:lnTo>
                  <a:lnTo>
                    <a:pt x="581" y="12"/>
                  </a:lnTo>
                  <a:lnTo>
                    <a:pt x="580" y="10"/>
                  </a:lnTo>
                  <a:lnTo>
                    <a:pt x="579" y="8"/>
                  </a:lnTo>
                  <a:lnTo>
                    <a:pt x="579" y="6"/>
                  </a:lnTo>
                  <a:lnTo>
                    <a:pt x="579" y="4"/>
                  </a:lnTo>
                  <a:lnTo>
                    <a:pt x="580" y="2"/>
                  </a:lnTo>
                  <a:lnTo>
                    <a:pt x="581" y="0"/>
                  </a:lnTo>
                  <a:lnTo>
                    <a:pt x="582" y="0"/>
                  </a:lnTo>
                  <a:lnTo>
                    <a:pt x="582" y="0"/>
                  </a:lnTo>
                  <a:close/>
                  <a:moveTo>
                    <a:pt x="627" y="0"/>
                  </a:moveTo>
                  <a:lnTo>
                    <a:pt x="647" y="0"/>
                  </a:lnTo>
                  <a:lnTo>
                    <a:pt x="648" y="0"/>
                  </a:lnTo>
                  <a:lnTo>
                    <a:pt x="649" y="2"/>
                  </a:lnTo>
                  <a:lnTo>
                    <a:pt x="650" y="4"/>
                  </a:lnTo>
                  <a:lnTo>
                    <a:pt x="650" y="6"/>
                  </a:lnTo>
                  <a:lnTo>
                    <a:pt x="650" y="8"/>
                  </a:lnTo>
                  <a:lnTo>
                    <a:pt x="649" y="10"/>
                  </a:lnTo>
                  <a:lnTo>
                    <a:pt x="648" y="12"/>
                  </a:lnTo>
                  <a:lnTo>
                    <a:pt x="647" y="12"/>
                  </a:lnTo>
                  <a:lnTo>
                    <a:pt x="627" y="12"/>
                  </a:lnTo>
                  <a:lnTo>
                    <a:pt x="626" y="12"/>
                  </a:lnTo>
                  <a:lnTo>
                    <a:pt x="625" y="10"/>
                  </a:lnTo>
                  <a:lnTo>
                    <a:pt x="624" y="8"/>
                  </a:lnTo>
                  <a:lnTo>
                    <a:pt x="624" y="6"/>
                  </a:lnTo>
                  <a:lnTo>
                    <a:pt x="624" y="4"/>
                  </a:lnTo>
                  <a:lnTo>
                    <a:pt x="625" y="2"/>
                  </a:lnTo>
                  <a:lnTo>
                    <a:pt x="626" y="0"/>
                  </a:lnTo>
                  <a:lnTo>
                    <a:pt x="627" y="0"/>
                  </a:lnTo>
                  <a:lnTo>
                    <a:pt x="627" y="0"/>
                  </a:lnTo>
                  <a:close/>
                  <a:moveTo>
                    <a:pt x="672" y="0"/>
                  </a:moveTo>
                  <a:lnTo>
                    <a:pt x="691" y="0"/>
                  </a:lnTo>
                  <a:lnTo>
                    <a:pt x="692" y="0"/>
                  </a:lnTo>
                  <a:lnTo>
                    <a:pt x="694" y="2"/>
                  </a:lnTo>
                  <a:lnTo>
                    <a:pt x="695" y="4"/>
                  </a:lnTo>
                  <a:lnTo>
                    <a:pt x="695" y="6"/>
                  </a:lnTo>
                  <a:lnTo>
                    <a:pt x="695" y="8"/>
                  </a:lnTo>
                  <a:lnTo>
                    <a:pt x="694" y="10"/>
                  </a:lnTo>
                  <a:lnTo>
                    <a:pt x="692" y="12"/>
                  </a:lnTo>
                  <a:lnTo>
                    <a:pt x="691" y="12"/>
                  </a:lnTo>
                  <a:lnTo>
                    <a:pt x="672" y="12"/>
                  </a:lnTo>
                  <a:lnTo>
                    <a:pt x="671" y="12"/>
                  </a:lnTo>
                  <a:lnTo>
                    <a:pt x="670" y="10"/>
                  </a:lnTo>
                  <a:lnTo>
                    <a:pt x="669" y="8"/>
                  </a:lnTo>
                  <a:lnTo>
                    <a:pt x="669" y="6"/>
                  </a:lnTo>
                  <a:lnTo>
                    <a:pt x="669" y="4"/>
                  </a:lnTo>
                  <a:lnTo>
                    <a:pt x="670" y="2"/>
                  </a:lnTo>
                  <a:lnTo>
                    <a:pt x="671" y="0"/>
                  </a:lnTo>
                  <a:lnTo>
                    <a:pt x="672" y="0"/>
                  </a:lnTo>
                  <a:lnTo>
                    <a:pt x="672" y="0"/>
                  </a:lnTo>
                  <a:close/>
                  <a:moveTo>
                    <a:pt x="717" y="0"/>
                  </a:moveTo>
                  <a:lnTo>
                    <a:pt x="735" y="0"/>
                  </a:lnTo>
                  <a:lnTo>
                    <a:pt x="736" y="0"/>
                  </a:lnTo>
                  <a:lnTo>
                    <a:pt x="738" y="2"/>
                  </a:lnTo>
                  <a:lnTo>
                    <a:pt x="739" y="4"/>
                  </a:lnTo>
                  <a:lnTo>
                    <a:pt x="739" y="6"/>
                  </a:lnTo>
                  <a:lnTo>
                    <a:pt x="739" y="8"/>
                  </a:lnTo>
                  <a:lnTo>
                    <a:pt x="738" y="10"/>
                  </a:lnTo>
                  <a:lnTo>
                    <a:pt x="736" y="12"/>
                  </a:lnTo>
                  <a:lnTo>
                    <a:pt x="735" y="12"/>
                  </a:lnTo>
                  <a:lnTo>
                    <a:pt x="717" y="12"/>
                  </a:lnTo>
                  <a:lnTo>
                    <a:pt x="716" y="12"/>
                  </a:lnTo>
                  <a:lnTo>
                    <a:pt x="715" y="10"/>
                  </a:lnTo>
                  <a:lnTo>
                    <a:pt x="714" y="8"/>
                  </a:lnTo>
                  <a:lnTo>
                    <a:pt x="714" y="6"/>
                  </a:lnTo>
                  <a:lnTo>
                    <a:pt x="714" y="4"/>
                  </a:lnTo>
                  <a:lnTo>
                    <a:pt x="715" y="2"/>
                  </a:lnTo>
                  <a:lnTo>
                    <a:pt x="716" y="0"/>
                  </a:lnTo>
                  <a:lnTo>
                    <a:pt x="717" y="0"/>
                  </a:lnTo>
                  <a:lnTo>
                    <a:pt x="717" y="0"/>
                  </a:lnTo>
                  <a:close/>
                  <a:moveTo>
                    <a:pt x="761" y="0"/>
                  </a:moveTo>
                  <a:lnTo>
                    <a:pt x="780" y="0"/>
                  </a:lnTo>
                  <a:lnTo>
                    <a:pt x="781" y="0"/>
                  </a:lnTo>
                  <a:lnTo>
                    <a:pt x="782" y="2"/>
                  </a:lnTo>
                  <a:lnTo>
                    <a:pt x="783" y="4"/>
                  </a:lnTo>
                  <a:lnTo>
                    <a:pt x="783" y="6"/>
                  </a:lnTo>
                  <a:lnTo>
                    <a:pt x="783" y="8"/>
                  </a:lnTo>
                  <a:lnTo>
                    <a:pt x="782" y="10"/>
                  </a:lnTo>
                  <a:lnTo>
                    <a:pt x="781" y="12"/>
                  </a:lnTo>
                  <a:lnTo>
                    <a:pt x="780" y="12"/>
                  </a:lnTo>
                  <a:lnTo>
                    <a:pt x="761" y="12"/>
                  </a:lnTo>
                  <a:lnTo>
                    <a:pt x="760" y="12"/>
                  </a:lnTo>
                  <a:lnTo>
                    <a:pt x="759" y="10"/>
                  </a:lnTo>
                  <a:lnTo>
                    <a:pt x="758" y="8"/>
                  </a:lnTo>
                  <a:lnTo>
                    <a:pt x="758" y="6"/>
                  </a:lnTo>
                  <a:lnTo>
                    <a:pt x="758" y="4"/>
                  </a:lnTo>
                  <a:lnTo>
                    <a:pt x="759" y="2"/>
                  </a:lnTo>
                  <a:lnTo>
                    <a:pt x="760" y="0"/>
                  </a:lnTo>
                  <a:lnTo>
                    <a:pt x="761" y="0"/>
                  </a:lnTo>
                  <a:lnTo>
                    <a:pt x="761" y="0"/>
                  </a:lnTo>
                  <a:close/>
                  <a:moveTo>
                    <a:pt x="806" y="0"/>
                  </a:moveTo>
                  <a:lnTo>
                    <a:pt x="825" y="0"/>
                  </a:lnTo>
                  <a:lnTo>
                    <a:pt x="826" y="0"/>
                  </a:lnTo>
                  <a:lnTo>
                    <a:pt x="827" y="2"/>
                  </a:lnTo>
                  <a:lnTo>
                    <a:pt x="828" y="4"/>
                  </a:lnTo>
                  <a:lnTo>
                    <a:pt x="828" y="6"/>
                  </a:lnTo>
                  <a:lnTo>
                    <a:pt x="828" y="8"/>
                  </a:lnTo>
                  <a:lnTo>
                    <a:pt x="827" y="10"/>
                  </a:lnTo>
                  <a:lnTo>
                    <a:pt x="826" y="12"/>
                  </a:lnTo>
                  <a:lnTo>
                    <a:pt x="825" y="12"/>
                  </a:lnTo>
                  <a:lnTo>
                    <a:pt x="806" y="12"/>
                  </a:lnTo>
                  <a:lnTo>
                    <a:pt x="805" y="12"/>
                  </a:lnTo>
                  <a:lnTo>
                    <a:pt x="804" y="10"/>
                  </a:lnTo>
                  <a:lnTo>
                    <a:pt x="803" y="8"/>
                  </a:lnTo>
                  <a:lnTo>
                    <a:pt x="803" y="6"/>
                  </a:lnTo>
                  <a:lnTo>
                    <a:pt x="803" y="4"/>
                  </a:lnTo>
                  <a:lnTo>
                    <a:pt x="804" y="2"/>
                  </a:lnTo>
                  <a:lnTo>
                    <a:pt x="805" y="0"/>
                  </a:lnTo>
                  <a:lnTo>
                    <a:pt x="806" y="0"/>
                  </a:lnTo>
                  <a:lnTo>
                    <a:pt x="806" y="0"/>
                  </a:lnTo>
                  <a:close/>
                  <a:moveTo>
                    <a:pt x="851" y="0"/>
                  </a:moveTo>
                  <a:lnTo>
                    <a:pt x="870" y="0"/>
                  </a:lnTo>
                  <a:lnTo>
                    <a:pt x="871" y="0"/>
                  </a:lnTo>
                  <a:lnTo>
                    <a:pt x="872" y="2"/>
                  </a:lnTo>
                  <a:lnTo>
                    <a:pt x="873" y="4"/>
                  </a:lnTo>
                  <a:lnTo>
                    <a:pt x="873" y="6"/>
                  </a:lnTo>
                  <a:lnTo>
                    <a:pt x="873" y="8"/>
                  </a:lnTo>
                  <a:lnTo>
                    <a:pt x="872" y="10"/>
                  </a:lnTo>
                  <a:lnTo>
                    <a:pt x="871" y="12"/>
                  </a:lnTo>
                  <a:lnTo>
                    <a:pt x="870" y="12"/>
                  </a:lnTo>
                  <a:lnTo>
                    <a:pt x="851" y="12"/>
                  </a:lnTo>
                  <a:lnTo>
                    <a:pt x="850" y="12"/>
                  </a:lnTo>
                  <a:lnTo>
                    <a:pt x="849" y="10"/>
                  </a:lnTo>
                  <a:lnTo>
                    <a:pt x="848" y="8"/>
                  </a:lnTo>
                  <a:lnTo>
                    <a:pt x="848" y="6"/>
                  </a:lnTo>
                  <a:lnTo>
                    <a:pt x="848" y="4"/>
                  </a:lnTo>
                  <a:lnTo>
                    <a:pt x="849" y="2"/>
                  </a:lnTo>
                  <a:lnTo>
                    <a:pt x="850" y="0"/>
                  </a:lnTo>
                  <a:lnTo>
                    <a:pt x="851" y="0"/>
                  </a:lnTo>
                  <a:lnTo>
                    <a:pt x="851" y="0"/>
                  </a:lnTo>
                  <a:close/>
                  <a:moveTo>
                    <a:pt x="896" y="0"/>
                  </a:moveTo>
                  <a:lnTo>
                    <a:pt x="914" y="0"/>
                  </a:lnTo>
                  <a:lnTo>
                    <a:pt x="915" y="0"/>
                  </a:lnTo>
                  <a:lnTo>
                    <a:pt x="917" y="2"/>
                  </a:lnTo>
                  <a:lnTo>
                    <a:pt x="918" y="4"/>
                  </a:lnTo>
                  <a:lnTo>
                    <a:pt x="918" y="6"/>
                  </a:lnTo>
                  <a:lnTo>
                    <a:pt x="918" y="8"/>
                  </a:lnTo>
                  <a:lnTo>
                    <a:pt x="917" y="10"/>
                  </a:lnTo>
                  <a:lnTo>
                    <a:pt x="915" y="12"/>
                  </a:lnTo>
                  <a:lnTo>
                    <a:pt x="914" y="12"/>
                  </a:lnTo>
                  <a:lnTo>
                    <a:pt x="896" y="12"/>
                  </a:lnTo>
                  <a:lnTo>
                    <a:pt x="895" y="12"/>
                  </a:lnTo>
                  <a:lnTo>
                    <a:pt x="894" y="10"/>
                  </a:lnTo>
                  <a:lnTo>
                    <a:pt x="893" y="8"/>
                  </a:lnTo>
                  <a:lnTo>
                    <a:pt x="893" y="6"/>
                  </a:lnTo>
                  <a:lnTo>
                    <a:pt x="893" y="4"/>
                  </a:lnTo>
                  <a:lnTo>
                    <a:pt x="894" y="2"/>
                  </a:lnTo>
                  <a:lnTo>
                    <a:pt x="895" y="0"/>
                  </a:lnTo>
                  <a:lnTo>
                    <a:pt x="896" y="0"/>
                  </a:lnTo>
                  <a:lnTo>
                    <a:pt x="896" y="0"/>
                  </a:lnTo>
                  <a:close/>
                  <a:moveTo>
                    <a:pt x="939" y="0"/>
                  </a:moveTo>
                  <a:lnTo>
                    <a:pt x="959" y="0"/>
                  </a:lnTo>
                  <a:lnTo>
                    <a:pt x="960" y="0"/>
                  </a:lnTo>
                  <a:lnTo>
                    <a:pt x="961" y="2"/>
                  </a:lnTo>
                  <a:lnTo>
                    <a:pt x="962" y="4"/>
                  </a:lnTo>
                  <a:lnTo>
                    <a:pt x="962" y="6"/>
                  </a:lnTo>
                  <a:lnTo>
                    <a:pt x="962" y="8"/>
                  </a:lnTo>
                  <a:lnTo>
                    <a:pt x="961" y="10"/>
                  </a:lnTo>
                  <a:lnTo>
                    <a:pt x="960" y="12"/>
                  </a:lnTo>
                  <a:lnTo>
                    <a:pt x="959" y="12"/>
                  </a:lnTo>
                  <a:lnTo>
                    <a:pt x="939" y="12"/>
                  </a:lnTo>
                  <a:lnTo>
                    <a:pt x="938" y="12"/>
                  </a:lnTo>
                  <a:lnTo>
                    <a:pt x="937" y="10"/>
                  </a:lnTo>
                  <a:lnTo>
                    <a:pt x="936" y="8"/>
                  </a:lnTo>
                  <a:lnTo>
                    <a:pt x="936" y="6"/>
                  </a:lnTo>
                  <a:lnTo>
                    <a:pt x="936" y="4"/>
                  </a:lnTo>
                  <a:lnTo>
                    <a:pt x="937" y="2"/>
                  </a:lnTo>
                  <a:lnTo>
                    <a:pt x="938" y="0"/>
                  </a:lnTo>
                  <a:lnTo>
                    <a:pt x="939" y="0"/>
                  </a:lnTo>
                  <a:lnTo>
                    <a:pt x="939" y="0"/>
                  </a:lnTo>
                  <a:close/>
                  <a:moveTo>
                    <a:pt x="984" y="0"/>
                  </a:moveTo>
                  <a:lnTo>
                    <a:pt x="1004" y="0"/>
                  </a:lnTo>
                  <a:lnTo>
                    <a:pt x="1005" y="0"/>
                  </a:lnTo>
                  <a:lnTo>
                    <a:pt x="1006" y="2"/>
                  </a:lnTo>
                  <a:lnTo>
                    <a:pt x="1007" y="4"/>
                  </a:lnTo>
                  <a:lnTo>
                    <a:pt x="1007" y="6"/>
                  </a:lnTo>
                  <a:lnTo>
                    <a:pt x="1007" y="8"/>
                  </a:lnTo>
                  <a:lnTo>
                    <a:pt x="1006" y="10"/>
                  </a:lnTo>
                  <a:lnTo>
                    <a:pt x="1005" y="12"/>
                  </a:lnTo>
                  <a:lnTo>
                    <a:pt x="1004" y="12"/>
                  </a:lnTo>
                  <a:lnTo>
                    <a:pt x="984" y="12"/>
                  </a:lnTo>
                  <a:lnTo>
                    <a:pt x="983" y="12"/>
                  </a:lnTo>
                  <a:lnTo>
                    <a:pt x="982" y="10"/>
                  </a:lnTo>
                  <a:lnTo>
                    <a:pt x="981" y="8"/>
                  </a:lnTo>
                  <a:lnTo>
                    <a:pt x="981" y="6"/>
                  </a:lnTo>
                  <a:lnTo>
                    <a:pt x="981" y="4"/>
                  </a:lnTo>
                  <a:lnTo>
                    <a:pt x="982" y="2"/>
                  </a:lnTo>
                  <a:lnTo>
                    <a:pt x="983" y="0"/>
                  </a:lnTo>
                  <a:lnTo>
                    <a:pt x="984" y="0"/>
                  </a:lnTo>
                  <a:lnTo>
                    <a:pt x="984" y="0"/>
                  </a:lnTo>
                  <a:close/>
                  <a:moveTo>
                    <a:pt x="1029" y="0"/>
                  </a:moveTo>
                  <a:lnTo>
                    <a:pt x="1049" y="0"/>
                  </a:lnTo>
                  <a:lnTo>
                    <a:pt x="1050" y="0"/>
                  </a:lnTo>
                  <a:lnTo>
                    <a:pt x="1051" y="2"/>
                  </a:lnTo>
                  <a:lnTo>
                    <a:pt x="1052" y="4"/>
                  </a:lnTo>
                  <a:lnTo>
                    <a:pt x="1052" y="6"/>
                  </a:lnTo>
                  <a:lnTo>
                    <a:pt x="1052" y="8"/>
                  </a:lnTo>
                  <a:lnTo>
                    <a:pt x="1051" y="10"/>
                  </a:lnTo>
                  <a:lnTo>
                    <a:pt x="1050" y="12"/>
                  </a:lnTo>
                  <a:lnTo>
                    <a:pt x="1049" y="12"/>
                  </a:lnTo>
                  <a:lnTo>
                    <a:pt x="1029" y="12"/>
                  </a:lnTo>
                  <a:lnTo>
                    <a:pt x="1028" y="12"/>
                  </a:lnTo>
                  <a:lnTo>
                    <a:pt x="1027" y="10"/>
                  </a:lnTo>
                  <a:lnTo>
                    <a:pt x="1026" y="8"/>
                  </a:lnTo>
                  <a:lnTo>
                    <a:pt x="1026" y="6"/>
                  </a:lnTo>
                  <a:lnTo>
                    <a:pt x="1026" y="4"/>
                  </a:lnTo>
                  <a:lnTo>
                    <a:pt x="1027" y="2"/>
                  </a:lnTo>
                  <a:lnTo>
                    <a:pt x="1028" y="0"/>
                  </a:lnTo>
                  <a:lnTo>
                    <a:pt x="1029" y="0"/>
                  </a:lnTo>
                  <a:lnTo>
                    <a:pt x="1029" y="0"/>
                  </a:lnTo>
                  <a:close/>
                  <a:moveTo>
                    <a:pt x="1074" y="0"/>
                  </a:moveTo>
                  <a:lnTo>
                    <a:pt x="1093" y="0"/>
                  </a:lnTo>
                  <a:lnTo>
                    <a:pt x="1094" y="0"/>
                  </a:lnTo>
                  <a:lnTo>
                    <a:pt x="1096" y="2"/>
                  </a:lnTo>
                  <a:lnTo>
                    <a:pt x="1097" y="4"/>
                  </a:lnTo>
                  <a:lnTo>
                    <a:pt x="1097" y="6"/>
                  </a:lnTo>
                  <a:lnTo>
                    <a:pt x="1097" y="8"/>
                  </a:lnTo>
                  <a:lnTo>
                    <a:pt x="1096" y="10"/>
                  </a:lnTo>
                  <a:lnTo>
                    <a:pt x="1094" y="12"/>
                  </a:lnTo>
                  <a:lnTo>
                    <a:pt x="1093" y="12"/>
                  </a:lnTo>
                  <a:lnTo>
                    <a:pt x="1074" y="12"/>
                  </a:lnTo>
                  <a:lnTo>
                    <a:pt x="1073" y="12"/>
                  </a:lnTo>
                  <a:lnTo>
                    <a:pt x="1072" y="10"/>
                  </a:lnTo>
                  <a:lnTo>
                    <a:pt x="1071" y="8"/>
                  </a:lnTo>
                  <a:lnTo>
                    <a:pt x="1071" y="6"/>
                  </a:lnTo>
                  <a:lnTo>
                    <a:pt x="1071" y="4"/>
                  </a:lnTo>
                  <a:lnTo>
                    <a:pt x="1072" y="2"/>
                  </a:lnTo>
                  <a:lnTo>
                    <a:pt x="1073" y="0"/>
                  </a:lnTo>
                  <a:lnTo>
                    <a:pt x="1074" y="0"/>
                  </a:lnTo>
                  <a:lnTo>
                    <a:pt x="1074" y="0"/>
                  </a:lnTo>
                  <a:close/>
                  <a:moveTo>
                    <a:pt x="1118" y="0"/>
                  </a:moveTo>
                  <a:lnTo>
                    <a:pt x="1137" y="0"/>
                  </a:lnTo>
                  <a:lnTo>
                    <a:pt x="1138" y="0"/>
                  </a:lnTo>
                  <a:lnTo>
                    <a:pt x="1139" y="2"/>
                  </a:lnTo>
                  <a:lnTo>
                    <a:pt x="1141" y="4"/>
                  </a:lnTo>
                  <a:lnTo>
                    <a:pt x="1141" y="6"/>
                  </a:lnTo>
                  <a:lnTo>
                    <a:pt x="1141" y="8"/>
                  </a:lnTo>
                  <a:lnTo>
                    <a:pt x="1139" y="10"/>
                  </a:lnTo>
                  <a:lnTo>
                    <a:pt x="1138" y="12"/>
                  </a:lnTo>
                  <a:lnTo>
                    <a:pt x="1137" y="12"/>
                  </a:lnTo>
                  <a:lnTo>
                    <a:pt x="1118" y="12"/>
                  </a:lnTo>
                  <a:lnTo>
                    <a:pt x="1117" y="12"/>
                  </a:lnTo>
                  <a:lnTo>
                    <a:pt x="1116" y="10"/>
                  </a:lnTo>
                  <a:lnTo>
                    <a:pt x="1115" y="8"/>
                  </a:lnTo>
                  <a:lnTo>
                    <a:pt x="1115" y="6"/>
                  </a:lnTo>
                  <a:lnTo>
                    <a:pt x="1115" y="4"/>
                  </a:lnTo>
                  <a:lnTo>
                    <a:pt x="1116" y="2"/>
                  </a:lnTo>
                  <a:lnTo>
                    <a:pt x="1117" y="0"/>
                  </a:lnTo>
                  <a:lnTo>
                    <a:pt x="1118" y="0"/>
                  </a:lnTo>
                  <a:lnTo>
                    <a:pt x="1118" y="0"/>
                  </a:lnTo>
                  <a:close/>
                  <a:moveTo>
                    <a:pt x="1163" y="0"/>
                  </a:moveTo>
                  <a:lnTo>
                    <a:pt x="1182" y="0"/>
                  </a:lnTo>
                  <a:lnTo>
                    <a:pt x="1183" y="0"/>
                  </a:lnTo>
                  <a:lnTo>
                    <a:pt x="1184" y="2"/>
                  </a:lnTo>
                  <a:lnTo>
                    <a:pt x="1185" y="4"/>
                  </a:lnTo>
                  <a:lnTo>
                    <a:pt x="1185" y="6"/>
                  </a:lnTo>
                  <a:lnTo>
                    <a:pt x="1185" y="8"/>
                  </a:lnTo>
                  <a:lnTo>
                    <a:pt x="1184" y="10"/>
                  </a:lnTo>
                  <a:lnTo>
                    <a:pt x="1183" y="12"/>
                  </a:lnTo>
                  <a:lnTo>
                    <a:pt x="1182" y="12"/>
                  </a:lnTo>
                  <a:lnTo>
                    <a:pt x="1163" y="12"/>
                  </a:lnTo>
                  <a:lnTo>
                    <a:pt x="1162" y="12"/>
                  </a:lnTo>
                  <a:lnTo>
                    <a:pt x="1161" y="10"/>
                  </a:lnTo>
                  <a:lnTo>
                    <a:pt x="1160" y="8"/>
                  </a:lnTo>
                  <a:lnTo>
                    <a:pt x="1160" y="6"/>
                  </a:lnTo>
                  <a:lnTo>
                    <a:pt x="1160" y="4"/>
                  </a:lnTo>
                  <a:lnTo>
                    <a:pt x="1161" y="2"/>
                  </a:lnTo>
                  <a:lnTo>
                    <a:pt x="1162" y="0"/>
                  </a:lnTo>
                  <a:lnTo>
                    <a:pt x="1163" y="0"/>
                  </a:lnTo>
                  <a:lnTo>
                    <a:pt x="1163" y="0"/>
                  </a:lnTo>
                  <a:close/>
                  <a:moveTo>
                    <a:pt x="1208" y="0"/>
                  </a:moveTo>
                  <a:lnTo>
                    <a:pt x="1227" y="0"/>
                  </a:lnTo>
                  <a:lnTo>
                    <a:pt x="1228" y="0"/>
                  </a:lnTo>
                  <a:lnTo>
                    <a:pt x="1229" y="2"/>
                  </a:lnTo>
                  <a:lnTo>
                    <a:pt x="1230" y="4"/>
                  </a:lnTo>
                  <a:lnTo>
                    <a:pt x="1230" y="6"/>
                  </a:lnTo>
                  <a:lnTo>
                    <a:pt x="1230" y="8"/>
                  </a:lnTo>
                  <a:lnTo>
                    <a:pt x="1229" y="10"/>
                  </a:lnTo>
                  <a:lnTo>
                    <a:pt x="1228" y="12"/>
                  </a:lnTo>
                  <a:lnTo>
                    <a:pt x="1227" y="12"/>
                  </a:lnTo>
                  <a:lnTo>
                    <a:pt x="1208" y="12"/>
                  </a:lnTo>
                  <a:lnTo>
                    <a:pt x="1207" y="12"/>
                  </a:lnTo>
                  <a:lnTo>
                    <a:pt x="1206" y="10"/>
                  </a:lnTo>
                  <a:lnTo>
                    <a:pt x="1205" y="8"/>
                  </a:lnTo>
                  <a:lnTo>
                    <a:pt x="1205" y="6"/>
                  </a:lnTo>
                  <a:lnTo>
                    <a:pt x="1205" y="4"/>
                  </a:lnTo>
                  <a:lnTo>
                    <a:pt x="1206" y="2"/>
                  </a:lnTo>
                  <a:lnTo>
                    <a:pt x="1207" y="0"/>
                  </a:lnTo>
                  <a:lnTo>
                    <a:pt x="1208" y="0"/>
                  </a:lnTo>
                  <a:lnTo>
                    <a:pt x="1208" y="0"/>
                  </a:lnTo>
                  <a:close/>
                  <a:moveTo>
                    <a:pt x="1253" y="0"/>
                  </a:moveTo>
                  <a:lnTo>
                    <a:pt x="1271" y="0"/>
                  </a:lnTo>
                  <a:lnTo>
                    <a:pt x="1272" y="0"/>
                  </a:lnTo>
                  <a:lnTo>
                    <a:pt x="1274" y="2"/>
                  </a:lnTo>
                  <a:lnTo>
                    <a:pt x="1275" y="4"/>
                  </a:lnTo>
                  <a:lnTo>
                    <a:pt x="1275" y="6"/>
                  </a:lnTo>
                  <a:lnTo>
                    <a:pt x="1275" y="8"/>
                  </a:lnTo>
                  <a:lnTo>
                    <a:pt x="1274" y="10"/>
                  </a:lnTo>
                  <a:lnTo>
                    <a:pt x="1272" y="12"/>
                  </a:lnTo>
                  <a:lnTo>
                    <a:pt x="1271" y="12"/>
                  </a:lnTo>
                  <a:lnTo>
                    <a:pt x="1253" y="12"/>
                  </a:lnTo>
                  <a:lnTo>
                    <a:pt x="1252" y="12"/>
                  </a:lnTo>
                  <a:lnTo>
                    <a:pt x="1251" y="10"/>
                  </a:lnTo>
                  <a:lnTo>
                    <a:pt x="1250" y="8"/>
                  </a:lnTo>
                  <a:lnTo>
                    <a:pt x="1250" y="6"/>
                  </a:lnTo>
                  <a:lnTo>
                    <a:pt x="1250" y="4"/>
                  </a:lnTo>
                  <a:lnTo>
                    <a:pt x="1251" y="2"/>
                  </a:lnTo>
                  <a:lnTo>
                    <a:pt x="1252" y="0"/>
                  </a:lnTo>
                  <a:lnTo>
                    <a:pt x="1253" y="0"/>
                  </a:lnTo>
                  <a:lnTo>
                    <a:pt x="1253" y="0"/>
                  </a:lnTo>
                  <a:close/>
                  <a:moveTo>
                    <a:pt x="1297" y="0"/>
                  </a:moveTo>
                  <a:lnTo>
                    <a:pt x="1316" y="0"/>
                  </a:lnTo>
                  <a:lnTo>
                    <a:pt x="1317" y="0"/>
                  </a:lnTo>
                  <a:lnTo>
                    <a:pt x="1318" y="2"/>
                  </a:lnTo>
                  <a:lnTo>
                    <a:pt x="1319" y="4"/>
                  </a:lnTo>
                  <a:lnTo>
                    <a:pt x="1319" y="6"/>
                  </a:lnTo>
                  <a:lnTo>
                    <a:pt x="1319" y="8"/>
                  </a:lnTo>
                  <a:lnTo>
                    <a:pt x="1318" y="10"/>
                  </a:lnTo>
                  <a:lnTo>
                    <a:pt x="1317" y="12"/>
                  </a:lnTo>
                  <a:lnTo>
                    <a:pt x="1316" y="12"/>
                  </a:lnTo>
                  <a:lnTo>
                    <a:pt x="1297" y="12"/>
                  </a:lnTo>
                  <a:lnTo>
                    <a:pt x="1296" y="12"/>
                  </a:lnTo>
                  <a:lnTo>
                    <a:pt x="1295" y="10"/>
                  </a:lnTo>
                  <a:lnTo>
                    <a:pt x="1294" y="8"/>
                  </a:lnTo>
                  <a:lnTo>
                    <a:pt x="1294" y="6"/>
                  </a:lnTo>
                  <a:lnTo>
                    <a:pt x="1294" y="4"/>
                  </a:lnTo>
                  <a:lnTo>
                    <a:pt x="1295" y="2"/>
                  </a:lnTo>
                  <a:lnTo>
                    <a:pt x="1296" y="0"/>
                  </a:lnTo>
                  <a:lnTo>
                    <a:pt x="1297" y="0"/>
                  </a:lnTo>
                  <a:lnTo>
                    <a:pt x="1297" y="0"/>
                  </a:lnTo>
                  <a:close/>
                  <a:moveTo>
                    <a:pt x="1342" y="0"/>
                  </a:moveTo>
                  <a:lnTo>
                    <a:pt x="1361" y="0"/>
                  </a:lnTo>
                  <a:lnTo>
                    <a:pt x="1362" y="0"/>
                  </a:lnTo>
                  <a:lnTo>
                    <a:pt x="1363" y="2"/>
                  </a:lnTo>
                  <a:lnTo>
                    <a:pt x="1364" y="4"/>
                  </a:lnTo>
                  <a:lnTo>
                    <a:pt x="1364" y="6"/>
                  </a:lnTo>
                  <a:lnTo>
                    <a:pt x="1364" y="8"/>
                  </a:lnTo>
                  <a:lnTo>
                    <a:pt x="1363" y="10"/>
                  </a:lnTo>
                  <a:lnTo>
                    <a:pt x="1362" y="12"/>
                  </a:lnTo>
                  <a:lnTo>
                    <a:pt x="1361" y="12"/>
                  </a:lnTo>
                  <a:lnTo>
                    <a:pt x="1342" y="12"/>
                  </a:lnTo>
                  <a:lnTo>
                    <a:pt x="1341" y="12"/>
                  </a:lnTo>
                  <a:lnTo>
                    <a:pt x="1340" y="10"/>
                  </a:lnTo>
                  <a:lnTo>
                    <a:pt x="1338" y="8"/>
                  </a:lnTo>
                  <a:lnTo>
                    <a:pt x="1338" y="6"/>
                  </a:lnTo>
                  <a:lnTo>
                    <a:pt x="1338" y="4"/>
                  </a:lnTo>
                  <a:lnTo>
                    <a:pt x="1340" y="2"/>
                  </a:lnTo>
                  <a:lnTo>
                    <a:pt x="1341" y="0"/>
                  </a:lnTo>
                  <a:lnTo>
                    <a:pt x="1342" y="0"/>
                  </a:lnTo>
                  <a:lnTo>
                    <a:pt x="1342" y="0"/>
                  </a:lnTo>
                  <a:close/>
                  <a:moveTo>
                    <a:pt x="1386" y="0"/>
                  </a:moveTo>
                  <a:lnTo>
                    <a:pt x="1406" y="0"/>
                  </a:lnTo>
                  <a:lnTo>
                    <a:pt x="1407" y="0"/>
                  </a:lnTo>
                  <a:lnTo>
                    <a:pt x="1408" y="2"/>
                  </a:lnTo>
                  <a:lnTo>
                    <a:pt x="1409" y="4"/>
                  </a:lnTo>
                  <a:lnTo>
                    <a:pt x="1409" y="6"/>
                  </a:lnTo>
                  <a:lnTo>
                    <a:pt x="1409" y="8"/>
                  </a:lnTo>
                  <a:lnTo>
                    <a:pt x="1408" y="10"/>
                  </a:lnTo>
                  <a:lnTo>
                    <a:pt x="1407" y="12"/>
                  </a:lnTo>
                  <a:lnTo>
                    <a:pt x="1406" y="12"/>
                  </a:lnTo>
                  <a:lnTo>
                    <a:pt x="1386" y="12"/>
                  </a:lnTo>
                  <a:lnTo>
                    <a:pt x="1385" y="12"/>
                  </a:lnTo>
                  <a:lnTo>
                    <a:pt x="1384" y="10"/>
                  </a:lnTo>
                  <a:lnTo>
                    <a:pt x="1383" y="8"/>
                  </a:lnTo>
                  <a:lnTo>
                    <a:pt x="1383" y="6"/>
                  </a:lnTo>
                  <a:lnTo>
                    <a:pt x="1383" y="4"/>
                  </a:lnTo>
                  <a:lnTo>
                    <a:pt x="1384" y="2"/>
                  </a:lnTo>
                  <a:lnTo>
                    <a:pt x="1385" y="0"/>
                  </a:lnTo>
                  <a:lnTo>
                    <a:pt x="1386" y="0"/>
                  </a:lnTo>
                  <a:lnTo>
                    <a:pt x="1386" y="0"/>
                  </a:lnTo>
                  <a:close/>
                  <a:moveTo>
                    <a:pt x="1431" y="0"/>
                  </a:moveTo>
                  <a:lnTo>
                    <a:pt x="1450" y="0"/>
                  </a:lnTo>
                  <a:lnTo>
                    <a:pt x="1451" y="0"/>
                  </a:lnTo>
                  <a:lnTo>
                    <a:pt x="1453" y="2"/>
                  </a:lnTo>
                  <a:lnTo>
                    <a:pt x="1454" y="4"/>
                  </a:lnTo>
                  <a:lnTo>
                    <a:pt x="1454" y="6"/>
                  </a:lnTo>
                  <a:lnTo>
                    <a:pt x="1454" y="8"/>
                  </a:lnTo>
                  <a:lnTo>
                    <a:pt x="1453" y="10"/>
                  </a:lnTo>
                  <a:lnTo>
                    <a:pt x="1451" y="12"/>
                  </a:lnTo>
                  <a:lnTo>
                    <a:pt x="1450" y="12"/>
                  </a:lnTo>
                  <a:lnTo>
                    <a:pt x="1431" y="12"/>
                  </a:lnTo>
                  <a:lnTo>
                    <a:pt x="1430" y="12"/>
                  </a:lnTo>
                  <a:lnTo>
                    <a:pt x="1429" y="10"/>
                  </a:lnTo>
                  <a:lnTo>
                    <a:pt x="1428" y="8"/>
                  </a:lnTo>
                  <a:lnTo>
                    <a:pt x="1428" y="6"/>
                  </a:lnTo>
                  <a:lnTo>
                    <a:pt x="1428" y="4"/>
                  </a:lnTo>
                  <a:lnTo>
                    <a:pt x="1429" y="2"/>
                  </a:lnTo>
                  <a:lnTo>
                    <a:pt x="1430" y="0"/>
                  </a:lnTo>
                  <a:lnTo>
                    <a:pt x="1431" y="0"/>
                  </a:lnTo>
                  <a:lnTo>
                    <a:pt x="1431" y="0"/>
                  </a:lnTo>
                  <a:close/>
                  <a:moveTo>
                    <a:pt x="1475" y="0"/>
                  </a:moveTo>
                  <a:lnTo>
                    <a:pt x="1495" y="0"/>
                  </a:lnTo>
                  <a:lnTo>
                    <a:pt x="1496" y="0"/>
                  </a:lnTo>
                  <a:lnTo>
                    <a:pt x="1497" y="2"/>
                  </a:lnTo>
                  <a:lnTo>
                    <a:pt x="1498" y="4"/>
                  </a:lnTo>
                  <a:lnTo>
                    <a:pt x="1498" y="6"/>
                  </a:lnTo>
                  <a:lnTo>
                    <a:pt x="1498" y="8"/>
                  </a:lnTo>
                  <a:lnTo>
                    <a:pt x="1497" y="10"/>
                  </a:lnTo>
                  <a:lnTo>
                    <a:pt x="1496" y="12"/>
                  </a:lnTo>
                  <a:lnTo>
                    <a:pt x="1495" y="12"/>
                  </a:lnTo>
                  <a:lnTo>
                    <a:pt x="1475" y="12"/>
                  </a:lnTo>
                  <a:lnTo>
                    <a:pt x="1474" y="12"/>
                  </a:lnTo>
                  <a:lnTo>
                    <a:pt x="1473" y="10"/>
                  </a:lnTo>
                  <a:lnTo>
                    <a:pt x="1472" y="8"/>
                  </a:lnTo>
                  <a:lnTo>
                    <a:pt x="1472" y="6"/>
                  </a:lnTo>
                  <a:lnTo>
                    <a:pt x="1472" y="4"/>
                  </a:lnTo>
                  <a:lnTo>
                    <a:pt x="1473" y="2"/>
                  </a:lnTo>
                  <a:lnTo>
                    <a:pt x="1474" y="0"/>
                  </a:lnTo>
                  <a:lnTo>
                    <a:pt x="1475" y="0"/>
                  </a:lnTo>
                  <a:lnTo>
                    <a:pt x="1475" y="0"/>
                  </a:lnTo>
                  <a:close/>
                  <a:moveTo>
                    <a:pt x="1520" y="0"/>
                  </a:moveTo>
                  <a:lnTo>
                    <a:pt x="1540" y="0"/>
                  </a:lnTo>
                  <a:lnTo>
                    <a:pt x="1541" y="0"/>
                  </a:lnTo>
                  <a:lnTo>
                    <a:pt x="1542" y="2"/>
                  </a:lnTo>
                  <a:lnTo>
                    <a:pt x="1543" y="4"/>
                  </a:lnTo>
                  <a:lnTo>
                    <a:pt x="1543" y="6"/>
                  </a:lnTo>
                  <a:lnTo>
                    <a:pt x="1543" y="8"/>
                  </a:lnTo>
                  <a:lnTo>
                    <a:pt x="1542" y="10"/>
                  </a:lnTo>
                  <a:lnTo>
                    <a:pt x="1541" y="12"/>
                  </a:lnTo>
                  <a:lnTo>
                    <a:pt x="1540" y="12"/>
                  </a:lnTo>
                  <a:lnTo>
                    <a:pt x="1520" y="12"/>
                  </a:lnTo>
                  <a:lnTo>
                    <a:pt x="1519" y="12"/>
                  </a:lnTo>
                  <a:lnTo>
                    <a:pt x="1518" y="10"/>
                  </a:lnTo>
                  <a:lnTo>
                    <a:pt x="1517" y="8"/>
                  </a:lnTo>
                  <a:lnTo>
                    <a:pt x="1517" y="6"/>
                  </a:lnTo>
                  <a:lnTo>
                    <a:pt x="1517" y="4"/>
                  </a:lnTo>
                  <a:lnTo>
                    <a:pt x="1518" y="2"/>
                  </a:lnTo>
                  <a:lnTo>
                    <a:pt x="1519" y="0"/>
                  </a:lnTo>
                  <a:lnTo>
                    <a:pt x="1520" y="0"/>
                  </a:lnTo>
                  <a:lnTo>
                    <a:pt x="1520" y="0"/>
                  </a:lnTo>
                  <a:close/>
                  <a:moveTo>
                    <a:pt x="1565" y="0"/>
                  </a:moveTo>
                  <a:lnTo>
                    <a:pt x="1584" y="0"/>
                  </a:lnTo>
                  <a:lnTo>
                    <a:pt x="1585" y="0"/>
                  </a:lnTo>
                  <a:lnTo>
                    <a:pt x="1586" y="2"/>
                  </a:lnTo>
                  <a:lnTo>
                    <a:pt x="1587" y="4"/>
                  </a:lnTo>
                  <a:lnTo>
                    <a:pt x="1587" y="6"/>
                  </a:lnTo>
                  <a:lnTo>
                    <a:pt x="1587" y="8"/>
                  </a:lnTo>
                  <a:lnTo>
                    <a:pt x="1586" y="10"/>
                  </a:lnTo>
                  <a:lnTo>
                    <a:pt x="1585" y="12"/>
                  </a:lnTo>
                  <a:lnTo>
                    <a:pt x="1584" y="12"/>
                  </a:lnTo>
                  <a:lnTo>
                    <a:pt x="1565" y="12"/>
                  </a:lnTo>
                  <a:lnTo>
                    <a:pt x="1564" y="12"/>
                  </a:lnTo>
                  <a:lnTo>
                    <a:pt x="1563" y="10"/>
                  </a:lnTo>
                  <a:lnTo>
                    <a:pt x="1562" y="8"/>
                  </a:lnTo>
                  <a:lnTo>
                    <a:pt x="1562" y="6"/>
                  </a:lnTo>
                  <a:lnTo>
                    <a:pt x="1562" y="4"/>
                  </a:lnTo>
                  <a:lnTo>
                    <a:pt x="1563" y="2"/>
                  </a:lnTo>
                  <a:lnTo>
                    <a:pt x="1564" y="0"/>
                  </a:lnTo>
                  <a:lnTo>
                    <a:pt x="1565" y="0"/>
                  </a:lnTo>
                  <a:lnTo>
                    <a:pt x="1565" y="0"/>
                  </a:lnTo>
                  <a:close/>
                  <a:moveTo>
                    <a:pt x="1610" y="0"/>
                  </a:moveTo>
                  <a:lnTo>
                    <a:pt x="1628" y="0"/>
                  </a:lnTo>
                  <a:lnTo>
                    <a:pt x="1629" y="0"/>
                  </a:lnTo>
                  <a:lnTo>
                    <a:pt x="1631" y="2"/>
                  </a:lnTo>
                  <a:lnTo>
                    <a:pt x="1632" y="4"/>
                  </a:lnTo>
                  <a:lnTo>
                    <a:pt x="1632" y="6"/>
                  </a:lnTo>
                  <a:lnTo>
                    <a:pt x="1632" y="8"/>
                  </a:lnTo>
                  <a:lnTo>
                    <a:pt x="1631" y="10"/>
                  </a:lnTo>
                  <a:lnTo>
                    <a:pt x="1629" y="12"/>
                  </a:lnTo>
                  <a:lnTo>
                    <a:pt x="1628" y="12"/>
                  </a:lnTo>
                  <a:lnTo>
                    <a:pt x="1610" y="12"/>
                  </a:lnTo>
                  <a:lnTo>
                    <a:pt x="1609" y="12"/>
                  </a:lnTo>
                  <a:lnTo>
                    <a:pt x="1608" y="10"/>
                  </a:lnTo>
                  <a:lnTo>
                    <a:pt x="1607" y="8"/>
                  </a:lnTo>
                  <a:lnTo>
                    <a:pt x="1607" y="6"/>
                  </a:lnTo>
                  <a:lnTo>
                    <a:pt x="1607" y="4"/>
                  </a:lnTo>
                  <a:lnTo>
                    <a:pt x="1608" y="2"/>
                  </a:lnTo>
                  <a:lnTo>
                    <a:pt x="1609" y="0"/>
                  </a:lnTo>
                  <a:lnTo>
                    <a:pt x="1610" y="0"/>
                  </a:lnTo>
                  <a:lnTo>
                    <a:pt x="1610" y="0"/>
                  </a:lnTo>
                  <a:close/>
                  <a:moveTo>
                    <a:pt x="1654" y="0"/>
                  </a:moveTo>
                  <a:lnTo>
                    <a:pt x="1673" y="0"/>
                  </a:lnTo>
                  <a:lnTo>
                    <a:pt x="1674" y="0"/>
                  </a:lnTo>
                  <a:lnTo>
                    <a:pt x="1675" y="2"/>
                  </a:lnTo>
                  <a:lnTo>
                    <a:pt x="1676" y="4"/>
                  </a:lnTo>
                  <a:lnTo>
                    <a:pt x="1676" y="6"/>
                  </a:lnTo>
                  <a:lnTo>
                    <a:pt x="1676" y="8"/>
                  </a:lnTo>
                  <a:lnTo>
                    <a:pt x="1675" y="10"/>
                  </a:lnTo>
                  <a:lnTo>
                    <a:pt x="1674" y="12"/>
                  </a:lnTo>
                  <a:lnTo>
                    <a:pt x="1673" y="12"/>
                  </a:lnTo>
                  <a:lnTo>
                    <a:pt x="1654" y="12"/>
                  </a:lnTo>
                  <a:lnTo>
                    <a:pt x="1653" y="12"/>
                  </a:lnTo>
                  <a:lnTo>
                    <a:pt x="1652" y="10"/>
                  </a:lnTo>
                  <a:lnTo>
                    <a:pt x="1651" y="8"/>
                  </a:lnTo>
                  <a:lnTo>
                    <a:pt x="1651" y="6"/>
                  </a:lnTo>
                  <a:lnTo>
                    <a:pt x="1651" y="4"/>
                  </a:lnTo>
                  <a:lnTo>
                    <a:pt x="1652" y="2"/>
                  </a:lnTo>
                  <a:lnTo>
                    <a:pt x="1653" y="0"/>
                  </a:lnTo>
                  <a:lnTo>
                    <a:pt x="1654" y="0"/>
                  </a:lnTo>
                  <a:lnTo>
                    <a:pt x="1654" y="0"/>
                  </a:lnTo>
                  <a:close/>
                  <a:moveTo>
                    <a:pt x="1699" y="0"/>
                  </a:moveTo>
                  <a:lnTo>
                    <a:pt x="1718" y="0"/>
                  </a:lnTo>
                  <a:lnTo>
                    <a:pt x="1719" y="0"/>
                  </a:lnTo>
                  <a:lnTo>
                    <a:pt x="1720" y="2"/>
                  </a:lnTo>
                  <a:lnTo>
                    <a:pt x="1721" y="4"/>
                  </a:lnTo>
                  <a:lnTo>
                    <a:pt x="1721" y="6"/>
                  </a:lnTo>
                  <a:lnTo>
                    <a:pt x="1721" y="8"/>
                  </a:lnTo>
                  <a:lnTo>
                    <a:pt x="1720" y="10"/>
                  </a:lnTo>
                  <a:lnTo>
                    <a:pt x="1719" y="12"/>
                  </a:lnTo>
                  <a:lnTo>
                    <a:pt x="1718" y="12"/>
                  </a:lnTo>
                  <a:lnTo>
                    <a:pt x="1699" y="12"/>
                  </a:lnTo>
                  <a:lnTo>
                    <a:pt x="1698" y="12"/>
                  </a:lnTo>
                  <a:lnTo>
                    <a:pt x="1697" y="10"/>
                  </a:lnTo>
                  <a:lnTo>
                    <a:pt x="1696" y="8"/>
                  </a:lnTo>
                  <a:lnTo>
                    <a:pt x="1696" y="6"/>
                  </a:lnTo>
                  <a:lnTo>
                    <a:pt x="1696" y="4"/>
                  </a:lnTo>
                  <a:lnTo>
                    <a:pt x="1697" y="2"/>
                  </a:lnTo>
                  <a:lnTo>
                    <a:pt x="1698" y="0"/>
                  </a:lnTo>
                  <a:lnTo>
                    <a:pt x="1699" y="0"/>
                  </a:lnTo>
                  <a:lnTo>
                    <a:pt x="1699" y="0"/>
                  </a:lnTo>
                  <a:close/>
                  <a:moveTo>
                    <a:pt x="1744" y="0"/>
                  </a:moveTo>
                  <a:lnTo>
                    <a:pt x="1763" y="0"/>
                  </a:lnTo>
                  <a:lnTo>
                    <a:pt x="1764" y="0"/>
                  </a:lnTo>
                  <a:lnTo>
                    <a:pt x="1765" y="2"/>
                  </a:lnTo>
                  <a:lnTo>
                    <a:pt x="1766" y="4"/>
                  </a:lnTo>
                  <a:lnTo>
                    <a:pt x="1766" y="6"/>
                  </a:lnTo>
                  <a:lnTo>
                    <a:pt x="1766" y="8"/>
                  </a:lnTo>
                  <a:lnTo>
                    <a:pt x="1765" y="10"/>
                  </a:lnTo>
                  <a:lnTo>
                    <a:pt x="1764" y="12"/>
                  </a:lnTo>
                  <a:lnTo>
                    <a:pt x="1763" y="12"/>
                  </a:lnTo>
                  <a:lnTo>
                    <a:pt x="1744" y="12"/>
                  </a:lnTo>
                  <a:lnTo>
                    <a:pt x="1743" y="12"/>
                  </a:lnTo>
                  <a:lnTo>
                    <a:pt x="1742" y="10"/>
                  </a:lnTo>
                  <a:lnTo>
                    <a:pt x="1741" y="8"/>
                  </a:lnTo>
                  <a:lnTo>
                    <a:pt x="1741" y="6"/>
                  </a:lnTo>
                  <a:lnTo>
                    <a:pt x="1741" y="4"/>
                  </a:lnTo>
                  <a:lnTo>
                    <a:pt x="1742" y="2"/>
                  </a:lnTo>
                  <a:lnTo>
                    <a:pt x="1743" y="0"/>
                  </a:lnTo>
                  <a:lnTo>
                    <a:pt x="1744" y="0"/>
                  </a:lnTo>
                  <a:lnTo>
                    <a:pt x="1744" y="0"/>
                  </a:lnTo>
                  <a:close/>
                  <a:moveTo>
                    <a:pt x="1789" y="0"/>
                  </a:moveTo>
                  <a:lnTo>
                    <a:pt x="1807" y="0"/>
                  </a:lnTo>
                  <a:lnTo>
                    <a:pt x="1808" y="0"/>
                  </a:lnTo>
                  <a:lnTo>
                    <a:pt x="1810" y="2"/>
                  </a:lnTo>
                  <a:lnTo>
                    <a:pt x="1811" y="4"/>
                  </a:lnTo>
                  <a:lnTo>
                    <a:pt x="1811" y="6"/>
                  </a:lnTo>
                  <a:lnTo>
                    <a:pt x="1811" y="8"/>
                  </a:lnTo>
                  <a:lnTo>
                    <a:pt x="1810" y="10"/>
                  </a:lnTo>
                  <a:lnTo>
                    <a:pt x="1808" y="12"/>
                  </a:lnTo>
                  <a:lnTo>
                    <a:pt x="1807" y="12"/>
                  </a:lnTo>
                  <a:lnTo>
                    <a:pt x="1789" y="12"/>
                  </a:lnTo>
                  <a:lnTo>
                    <a:pt x="1788" y="12"/>
                  </a:lnTo>
                  <a:lnTo>
                    <a:pt x="1787" y="10"/>
                  </a:lnTo>
                  <a:lnTo>
                    <a:pt x="1785" y="8"/>
                  </a:lnTo>
                  <a:lnTo>
                    <a:pt x="1785" y="6"/>
                  </a:lnTo>
                  <a:lnTo>
                    <a:pt x="1785" y="4"/>
                  </a:lnTo>
                  <a:lnTo>
                    <a:pt x="1787" y="2"/>
                  </a:lnTo>
                  <a:lnTo>
                    <a:pt x="1788" y="0"/>
                  </a:lnTo>
                  <a:lnTo>
                    <a:pt x="1789" y="0"/>
                  </a:lnTo>
                  <a:lnTo>
                    <a:pt x="1789" y="0"/>
                  </a:lnTo>
                  <a:close/>
                  <a:moveTo>
                    <a:pt x="1832" y="0"/>
                  </a:moveTo>
                  <a:lnTo>
                    <a:pt x="1852" y="0"/>
                  </a:lnTo>
                  <a:lnTo>
                    <a:pt x="1853" y="0"/>
                  </a:lnTo>
                  <a:lnTo>
                    <a:pt x="1854" y="2"/>
                  </a:lnTo>
                  <a:lnTo>
                    <a:pt x="1855" y="4"/>
                  </a:lnTo>
                  <a:lnTo>
                    <a:pt x="1855" y="6"/>
                  </a:lnTo>
                  <a:lnTo>
                    <a:pt x="1855" y="8"/>
                  </a:lnTo>
                  <a:lnTo>
                    <a:pt x="1854" y="10"/>
                  </a:lnTo>
                  <a:lnTo>
                    <a:pt x="1853" y="12"/>
                  </a:lnTo>
                  <a:lnTo>
                    <a:pt x="1852" y="12"/>
                  </a:lnTo>
                  <a:lnTo>
                    <a:pt x="1832" y="12"/>
                  </a:lnTo>
                  <a:lnTo>
                    <a:pt x="1831" y="12"/>
                  </a:lnTo>
                  <a:lnTo>
                    <a:pt x="1830" y="10"/>
                  </a:lnTo>
                  <a:lnTo>
                    <a:pt x="1829" y="8"/>
                  </a:lnTo>
                  <a:lnTo>
                    <a:pt x="1829" y="6"/>
                  </a:lnTo>
                  <a:lnTo>
                    <a:pt x="1829" y="4"/>
                  </a:lnTo>
                  <a:lnTo>
                    <a:pt x="1830" y="2"/>
                  </a:lnTo>
                  <a:lnTo>
                    <a:pt x="1831" y="0"/>
                  </a:lnTo>
                  <a:lnTo>
                    <a:pt x="1832" y="0"/>
                  </a:lnTo>
                  <a:lnTo>
                    <a:pt x="1832" y="0"/>
                  </a:lnTo>
                  <a:close/>
                  <a:moveTo>
                    <a:pt x="1877" y="0"/>
                  </a:moveTo>
                  <a:lnTo>
                    <a:pt x="1897" y="0"/>
                  </a:lnTo>
                  <a:lnTo>
                    <a:pt x="1898" y="0"/>
                  </a:lnTo>
                  <a:lnTo>
                    <a:pt x="1899" y="2"/>
                  </a:lnTo>
                  <a:lnTo>
                    <a:pt x="1900" y="4"/>
                  </a:lnTo>
                  <a:lnTo>
                    <a:pt x="1900" y="6"/>
                  </a:lnTo>
                  <a:lnTo>
                    <a:pt x="1900" y="8"/>
                  </a:lnTo>
                  <a:lnTo>
                    <a:pt x="1899" y="10"/>
                  </a:lnTo>
                  <a:lnTo>
                    <a:pt x="1898" y="12"/>
                  </a:lnTo>
                  <a:lnTo>
                    <a:pt x="1897" y="12"/>
                  </a:lnTo>
                  <a:lnTo>
                    <a:pt x="1877" y="12"/>
                  </a:lnTo>
                  <a:lnTo>
                    <a:pt x="1876" y="12"/>
                  </a:lnTo>
                  <a:lnTo>
                    <a:pt x="1875" y="10"/>
                  </a:lnTo>
                  <a:lnTo>
                    <a:pt x="1874" y="8"/>
                  </a:lnTo>
                  <a:lnTo>
                    <a:pt x="1874" y="6"/>
                  </a:lnTo>
                  <a:lnTo>
                    <a:pt x="1874" y="4"/>
                  </a:lnTo>
                  <a:lnTo>
                    <a:pt x="1875" y="2"/>
                  </a:lnTo>
                  <a:lnTo>
                    <a:pt x="1876" y="0"/>
                  </a:lnTo>
                  <a:lnTo>
                    <a:pt x="1877" y="0"/>
                  </a:lnTo>
                  <a:lnTo>
                    <a:pt x="1877" y="0"/>
                  </a:lnTo>
                  <a:close/>
                  <a:moveTo>
                    <a:pt x="1922" y="0"/>
                  </a:moveTo>
                  <a:lnTo>
                    <a:pt x="1942" y="0"/>
                  </a:lnTo>
                  <a:lnTo>
                    <a:pt x="1943" y="0"/>
                  </a:lnTo>
                  <a:lnTo>
                    <a:pt x="1944" y="2"/>
                  </a:lnTo>
                  <a:lnTo>
                    <a:pt x="1945" y="4"/>
                  </a:lnTo>
                  <a:lnTo>
                    <a:pt x="1945" y="6"/>
                  </a:lnTo>
                  <a:lnTo>
                    <a:pt x="1945" y="8"/>
                  </a:lnTo>
                  <a:lnTo>
                    <a:pt x="1944" y="10"/>
                  </a:lnTo>
                  <a:lnTo>
                    <a:pt x="1943" y="12"/>
                  </a:lnTo>
                  <a:lnTo>
                    <a:pt x="1942" y="12"/>
                  </a:lnTo>
                  <a:lnTo>
                    <a:pt x="1922" y="12"/>
                  </a:lnTo>
                  <a:lnTo>
                    <a:pt x="1921" y="12"/>
                  </a:lnTo>
                  <a:lnTo>
                    <a:pt x="1920" y="10"/>
                  </a:lnTo>
                  <a:lnTo>
                    <a:pt x="1919" y="8"/>
                  </a:lnTo>
                  <a:lnTo>
                    <a:pt x="1919" y="6"/>
                  </a:lnTo>
                  <a:lnTo>
                    <a:pt x="1919" y="4"/>
                  </a:lnTo>
                  <a:lnTo>
                    <a:pt x="1920" y="2"/>
                  </a:lnTo>
                  <a:lnTo>
                    <a:pt x="1921" y="0"/>
                  </a:lnTo>
                  <a:lnTo>
                    <a:pt x="1922" y="0"/>
                  </a:lnTo>
                  <a:lnTo>
                    <a:pt x="1922" y="0"/>
                  </a:lnTo>
                  <a:close/>
                  <a:moveTo>
                    <a:pt x="1967" y="0"/>
                  </a:moveTo>
                  <a:lnTo>
                    <a:pt x="1986" y="0"/>
                  </a:lnTo>
                  <a:lnTo>
                    <a:pt x="1987" y="0"/>
                  </a:lnTo>
                  <a:lnTo>
                    <a:pt x="1989" y="2"/>
                  </a:lnTo>
                  <a:lnTo>
                    <a:pt x="1990" y="4"/>
                  </a:lnTo>
                  <a:lnTo>
                    <a:pt x="1990" y="6"/>
                  </a:lnTo>
                  <a:lnTo>
                    <a:pt x="1990" y="8"/>
                  </a:lnTo>
                  <a:lnTo>
                    <a:pt x="1989" y="10"/>
                  </a:lnTo>
                  <a:lnTo>
                    <a:pt x="1987" y="12"/>
                  </a:lnTo>
                  <a:lnTo>
                    <a:pt x="1986" y="12"/>
                  </a:lnTo>
                  <a:lnTo>
                    <a:pt x="1967" y="12"/>
                  </a:lnTo>
                  <a:lnTo>
                    <a:pt x="1966" y="12"/>
                  </a:lnTo>
                  <a:lnTo>
                    <a:pt x="1965" y="10"/>
                  </a:lnTo>
                  <a:lnTo>
                    <a:pt x="1964" y="8"/>
                  </a:lnTo>
                  <a:lnTo>
                    <a:pt x="1964" y="6"/>
                  </a:lnTo>
                  <a:lnTo>
                    <a:pt x="1964" y="4"/>
                  </a:lnTo>
                  <a:lnTo>
                    <a:pt x="1965" y="2"/>
                  </a:lnTo>
                  <a:lnTo>
                    <a:pt x="1966" y="0"/>
                  </a:lnTo>
                  <a:lnTo>
                    <a:pt x="1967" y="0"/>
                  </a:lnTo>
                  <a:lnTo>
                    <a:pt x="1967" y="0"/>
                  </a:lnTo>
                  <a:close/>
                  <a:moveTo>
                    <a:pt x="2011" y="0"/>
                  </a:moveTo>
                  <a:lnTo>
                    <a:pt x="2030" y="0"/>
                  </a:lnTo>
                  <a:lnTo>
                    <a:pt x="2031" y="0"/>
                  </a:lnTo>
                  <a:lnTo>
                    <a:pt x="2032" y="2"/>
                  </a:lnTo>
                  <a:lnTo>
                    <a:pt x="2033" y="4"/>
                  </a:lnTo>
                  <a:lnTo>
                    <a:pt x="2033" y="6"/>
                  </a:lnTo>
                  <a:lnTo>
                    <a:pt x="2033" y="8"/>
                  </a:lnTo>
                  <a:lnTo>
                    <a:pt x="2032" y="10"/>
                  </a:lnTo>
                  <a:lnTo>
                    <a:pt x="2031" y="12"/>
                  </a:lnTo>
                  <a:lnTo>
                    <a:pt x="2030" y="12"/>
                  </a:lnTo>
                  <a:lnTo>
                    <a:pt x="2011" y="12"/>
                  </a:lnTo>
                  <a:lnTo>
                    <a:pt x="2010" y="12"/>
                  </a:lnTo>
                  <a:lnTo>
                    <a:pt x="2009" y="10"/>
                  </a:lnTo>
                  <a:lnTo>
                    <a:pt x="2008" y="8"/>
                  </a:lnTo>
                  <a:lnTo>
                    <a:pt x="2008" y="6"/>
                  </a:lnTo>
                  <a:lnTo>
                    <a:pt x="2008" y="4"/>
                  </a:lnTo>
                  <a:lnTo>
                    <a:pt x="2009" y="2"/>
                  </a:lnTo>
                  <a:lnTo>
                    <a:pt x="2010" y="0"/>
                  </a:lnTo>
                  <a:lnTo>
                    <a:pt x="2011" y="0"/>
                  </a:lnTo>
                  <a:lnTo>
                    <a:pt x="2011" y="0"/>
                  </a:lnTo>
                  <a:close/>
                  <a:moveTo>
                    <a:pt x="2056" y="0"/>
                  </a:moveTo>
                  <a:lnTo>
                    <a:pt x="2075" y="0"/>
                  </a:lnTo>
                  <a:lnTo>
                    <a:pt x="2076" y="0"/>
                  </a:lnTo>
                  <a:lnTo>
                    <a:pt x="2077" y="2"/>
                  </a:lnTo>
                  <a:lnTo>
                    <a:pt x="2078" y="4"/>
                  </a:lnTo>
                  <a:lnTo>
                    <a:pt x="2078" y="6"/>
                  </a:lnTo>
                  <a:lnTo>
                    <a:pt x="2078" y="8"/>
                  </a:lnTo>
                  <a:lnTo>
                    <a:pt x="2077" y="10"/>
                  </a:lnTo>
                  <a:lnTo>
                    <a:pt x="2076" y="12"/>
                  </a:lnTo>
                  <a:lnTo>
                    <a:pt x="2075" y="12"/>
                  </a:lnTo>
                  <a:lnTo>
                    <a:pt x="2056" y="12"/>
                  </a:lnTo>
                  <a:lnTo>
                    <a:pt x="2055" y="12"/>
                  </a:lnTo>
                  <a:lnTo>
                    <a:pt x="2054" y="10"/>
                  </a:lnTo>
                  <a:lnTo>
                    <a:pt x="2053" y="8"/>
                  </a:lnTo>
                  <a:lnTo>
                    <a:pt x="2053" y="6"/>
                  </a:lnTo>
                  <a:lnTo>
                    <a:pt x="2053" y="4"/>
                  </a:lnTo>
                  <a:lnTo>
                    <a:pt x="2054" y="2"/>
                  </a:lnTo>
                  <a:lnTo>
                    <a:pt x="2055" y="0"/>
                  </a:lnTo>
                  <a:lnTo>
                    <a:pt x="2056" y="0"/>
                  </a:lnTo>
                  <a:lnTo>
                    <a:pt x="2056" y="0"/>
                  </a:lnTo>
                  <a:close/>
                  <a:moveTo>
                    <a:pt x="2101" y="0"/>
                  </a:moveTo>
                  <a:lnTo>
                    <a:pt x="2120" y="0"/>
                  </a:lnTo>
                  <a:lnTo>
                    <a:pt x="2121" y="0"/>
                  </a:lnTo>
                  <a:lnTo>
                    <a:pt x="2122" y="2"/>
                  </a:lnTo>
                  <a:lnTo>
                    <a:pt x="2123" y="4"/>
                  </a:lnTo>
                  <a:lnTo>
                    <a:pt x="2123" y="6"/>
                  </a:lnTo>
                  <a:lnTo>
                    <a:pt x="2123" y="8"/>
                  </a:lnTo>
                  <a:lnTo>
                    <a:pt x="2122" y="10"/>
                  </a:lnTo>
                  <a:lnTo>
                    <a:pt x="2121" y="12"/>
                  </a:lnTo>
                  <a:lnTo>
                    <a:pt x="2120" y="12"/>
                  </a:lnTo>
                  <a:lnTo>
                    <a:pt x="2101" y="12"/>
                  </a:lnTo>
                  <a:lnTo>
                    <a:pt x="2100" y="12"/>
                  </a:lnTo>
                  <a:lnTo>
                    <a:pt x="2099" y="10"/>
                  </a:lnTo>
                  <a:lnTo>
                    <a:pt x="2098" y="8"/>
                  </a:lnTo>
                  <a:lnTo>
                    <a:pt x="2098" y="6"/>
                  </a:lnTo>
                  <a:lnTo>
                    <a:pt x="2098" y="4"/>
                  </a:lnTo>
                  <a:lnTo>
                    <a:pt x="2099" y="2"/>
                  </a:lnTo>
                  <a:lnTo>
                    <a:pt x="2100" y="0"/>
                  </a:lnTo>
                  <a:lnTo>
                    <a:pt x="2101" y="0"/>
                  </a:lnTo>
                  <a:lnTo>
                    <a:pt x="2101" y="0"/>
                  </a:lnTo>
                  <a:close/>
                  <a:moveTo>
                    <a:pt x="2146" y="0"/>
                  </a:moveTo>
                  <a:lnTo>
                    <a:pt x="2164" y="0"/>
                  </a:lnTo>
                  <a:lnTo>
                    <a:pt x="2165" y="0"/>
                  </a:lnTo>
                  <a:lnTo>
                    <a:pt x="2167" y="2"/>
                  </a:lnTo>
                  <a:lnTo>
                    <a:pt x="2168" y="4"/>
                  </a:lnTo>
                  <a:lnTo>
                    <a:pt x="2168" y="6"/>
                  </a:lnTo>
                  <a:lnTo>
                    <a:pt x="2168" y="8"/>
                  </a:lnTo>
                  <a:lnTo>
                    <a:pt x="2167" y="10"/>
                  </a:lnTo>
                  <a:lnTo>
                    <a:pt x="2165" y="12"/>
                  </a:lnTo>
                  <a:lnTo>
                    <a:pt x="2164" y="12"/>
                  </a:lnTo>
                  <a:lnTo>
                    <a:pt x="2146" y="12"/>
                  </a:lnTo>
                  <a:lnTo>
                    <a:pt x="2145" y="12"/>
                  </a:lnTo>
                  <a:lnTo>
                    <a:pt x="2144" y="10"/>
                  </a:lnTo>
                  <a:lnTo>
                    <a:pt x="2143" y="8"/>
                  </a:lnTo>
                  <a:lnTo>
                    <a:pt x="2143" y="6"/>
                  </a:lnTo>
                  <a:lnTo>
                    <a:pt x="2143" y="4"/>
                  </a:lnTo>
                  <a:lnTo>
                    <a:pt x="2144" y="2"/>
                  </a:lnTo>
                  <a:lnTo>
                    <a:pt x="2145" y="0"/>
                  </a:lnTo>
                  <a:lnTo>
                    <a:pt x="2146" y="0"/>
                  </a:lnTo>
                  <a:lnTo>
                    <a:pt x="2146" y="0"/>
                  </a:lnTo>
                  <a:close/>
                  <a:moveTo>
                    <a:pt x="2190" y="0"/>
                  </a:moveTo>
                  <a:lnTo>
                    <a:pt x="2209" y="0"/>
                  </a:lnTo>
                  <a:lnTo>
                    <a:pt x="2210" y="0"/>
                  </a:lnTo>
                  <a:lnTo>
                    <a:pt x="2211" y="2"/>
                  </a:lnTo>
                  <a:lnTo>
                    <a:pt x="2212" y="4"/>
                  </a:lnTo>
                  <a:lnTo>
                    <a:pt x="2212" y="6"/>
                  </a:lnTo>
                  <a:lnTo>
                    <a:pt x="2212" y="8"/>
                  </a:lnTo>
                  <a:lnTo>
                    <a:pt x="2211" y="10"/>
                  </a:lnTo>
                  <a:lnTo>
                    <a:pt x="2210" y="12"/>
                  </a:lnTo>
                  <a:lnTo>
                    <a:pt x="2209" y="12"/>
                  </a:lnTo>
                  <a:lnTo>
                    <a:pt x="2190" y="12"/>
                  </a:lnTo>
                  <a:lnTo>
                    <a:pt x="2189" y="12"/>
                  </a:lnTo>
                  <a:lnTo>
                    <a:pt x="2188" y="10"/>
                  </a:lnTo>
                  <a:lnTo>
                    <a:pt x="2187" y="8"/>
                  </a:lnTo>
                  <a:lnTo>
                    <a:pt x="2187" y="6"/>
                  </a:lnTo>
                  <a:lnTo>
                    <a:pt x="2187" y="4"/>
                  </a:lnTo>
                  <a:lnTo>
                    <a:pt x="2188" y="2"/>
                  </a:lnTo>
                  <a:lnTo>
                    <a:pt x="2189" y="0"/>
                  </a:lnTo>
                  <a:lnTo>
                    <a:pt x="2190" y="0"/>
                  </a:lnTo>
                  <a:lnTo>
                    <a:pt x="2190" y="0"/>
                  </a:lnTo>
                  <a:close/>
                  <a:moveTo>
                    <a:pt x="2235" y="0"/>
                  </a:moveTo>
                  <a:lnTo>
                    <a:pt x="2254" y="0"/>
                  </a:lnTo>
                  <a:lnTo>
                    <a:pt x="2255" y="0"/>
                  </a:lnTo>
                  <a:lnTo>
                    <a:pt x="2256" y="2"/>
                  </a:lnTo>
                  <a:lnTo>
                    <a:pt x="2257" y="4"/>
                  </a:lnTo>
                  <a:lnTo>
                    <a:pt x="2257" y="6"/>
                  </a:lnTo>
                  <a:lnTo>
                    <a:pt x="2257" y="8"/>
                  </a:lnTo>
                  <a:lnTo>
                    <a:pt x="2256" y="10"/>
                  </a:lnTo>
                  <a:lnTo>
                    <a:pt x="2255" y="12"/>
                  </a:lnTo>
                  <a:lnTo>
                    <a:pt x="2254" y="12"/>
                  </a:lnTo>
                  <a:lnTo>
                    <a:pt x="2235" y="12"/>
                  </a:lnTo>
                  <a:lnTo>
                    <a:pt x="2234" y="12"/>
                  </a:lnTo>
                  <a:lnTo>
                    <a:pt x="2232" y="10"/>
                  </a:lnTo>
                  <a:lnTo>
                    <a:pt x="2231" y="8"/>
                  </a:lnTo>
                  <a:lnTo>
                    <a:pt x="2231" y="6"/>
                  </a:lnTo>
                  <a:lnTo>
                    <a:pt x="2231" y="4"/>
                  </a:lnTo>
                  <a:lnTo>
                    <a:pt x="2232" y="2"/>
                  </a:lnTo>
                  <a:lnTo>
                    <a:pt x="2234" y="0"/>
                  </a:lnTo>
                  <a:lnTo>
                    <a:pt x="2235" y="0"/>
                  </a:lnTo>
                  <a:lnTo>
                    <a:pt x="2235" y="0"/>
                  </a:lnTo>
                  <a:close/>
                  <a:moveTo>
                    <a:pt x="2279" y="0"/>
                  </a:moveTo>
                  <a:lnTo>
                    <a:pt x="2299" y="0"/>
                  </a:lnTo>
                  <a:lnTo>
                    <a:pt x="2300" y="0"/>
                  </a:lnTo>
                  <a:lnTo>
                    <a:pt x="2301" y="2"/>
                  </a:lnTo>
                  <a:lnTo>
                    <a:pt x="2302" y="4"/>
                  </a:lnTo>
                  <a:lnTo>
                    <a:pt x="2302" y="6"/>
                  </a:lnTo>
                  <a:lnTo>
                    <a:pt x="2302" y="8"/>
                  </a:lnTo>
                  <a:lnTo>
                    <a:pt x="2301" y="10"/>
                  </a:lnTo>
                  <a:lnTo>
                    <a:pt x="2300" y="12"/>
                  </a:lnTo>
                  <a:lnTo>
                    <a:pt x="2299" y="12"/>
                  </a:lnTo>
                  <a:lnTo>
                    <a:pt x="2279" y="12"/>
                  </a:lnTo>
                  <a:lnTo>
                    <a:pt x="2278" y="12"/>
                  </a:lnTo>
                  <a:lnTo>
                    <a:pt x="2277" y="10"/>
                  </a:lnTo>
                  <a:lnTo>
                    <a:pt x="2276" y="8"/>
                  </a:lnTo>
                  <a:lnTo>
                    <a:pt x="2276" y="6"/>
                  </a:lnTo>
                  <a:lnTo>
                    <a:pt x="2276" y="4"/>
                  </a:lnTo>
                  <a:lnTo>
                    <a:pt x="2277" y="2"/>
                  </a:lnTo>
                  <a:lnTo>
                    <a:pt x="2278" y="0"/>
                  </a:lnTo>
                  <a:lnTo>
                    <a:pt x="2279" y="0"/>
                  </a:lnTo>
                  <a:lnTo>
                    <a:pt x="2279" y="0"/>
                  </a:lnTo>
                  <a:close/>
                  <a:moveTo>
                    <a:pt x="2324" y="0"/>
                  </a:moveTo>
                  <a:lnTo>
                    <a:pt x="2343" y="0"/>
                  </a:lnTo>
                  <a:lnTo>
                    <a:pt x="2344" y="0"/>
                  </a:lnTo>
                  <a:lnTo>
                    <a:pt x="2346" y="2"/>
                  </a:lnTo>
                  <a:lnTo>
                    <a:pt x="2347" y="4"/>
                  </a:lnTo>
                  <a:lnTo>
                    <a:pt x="2347" y="6"/>
                  </a:lnTo>
                  <a:lnTo>
                    <a:pt x="2347" y="8"/>
                  </a:lnTo>
                  <a:lnTo>
                    <a:pt x="2346" y="10"/>
                  </a:lnTo>
                  <a:lnTo>
                    <a:pt x="2344" y="12"/>
                  </a:lnTo>
                  <a:lnTo>
                    <a:pt x="2343" y="12"/>
                  </a:lnTo>
                  <a:lnTo>
                    <a:pt x="2324" y="12"/>
                  </a:lnTo>
                  <a:lnTo>
                    <a:pt x="2323" y="12"/>
                  </a:lnTo>
                  <a:lnTo>
                    <a:pt x="2322" y="10"/>
                  </a:lnTo>
                  <a:lnTo>
                    <a:pt x="2321" y="8"/>
                  </a:lnTo>
                  <a:lnTo>
                    <a:pt x="2321" y="6"/>
                  </a:lnTo>
                  <a:lnTo>
                    <a:pt x="2321" y="4"/>
                  </a:lnTo>
                  <a:lnTo>
                    <a:pt x="2322" y="2"/>
                  </a:lnTo>
                  <a:lnTo>
                    <a:pt x="2323" y="0"/>
                  </a:lnTo>
                  <a:lnTo>
                    <a:pt x="2324" y="0"/>
                  </a:lnTo>
                  <a:lnTo>
                    <a:pt x="2324" y="0"/>
                  </a:lnTo>
                  <a:close/>
                  <a:moveTo>
                    <a:pt x="2368" y="0"/>
                  </a:moveTo>
                  <a:lnTo>
                    <a:pt x="2388" y="0"/>
                  </a:lnTo>
                  <a:lnTo>
                    <a:pt x="2389" y="0"/>
                  </a:lnTo>
                  <a:lnTo>
                    <a:pt x="2390" y="2"/>
                  </a:lnTo>
                  <a:lnTo>
                    <a:pt x="2391" y="4"/>
                  </a:lnTo>
                  <a:lnTo>
                    <a:pt x="2391" y="6"/>
                  </a:lnTo>
                  <a:lnTo>
                    <a:pt x="2391" y="8"/>
                  </a:lnTo>
                  <a:lnTo>
                    <a:pt x="2390" y="10"/>
                  </a:lnTo>
                  <a:lnTo>
                    <a:pt x="2389" y="12"/>
                  </a:lnTo>
                  <a:lnTo>
                    <a:pt x="2388" y="12"/>
                  </a:lnTo>
                  <a:lnTo>
                    <a:pt x="2368" y="12"/>
                  </a:lnTo>
                  <a:lnTo>
                    <a:pt x="2367" y="12"/>
                  </a:lnTo>
                  <a:lnTo>
                    <a:pt x="2366" y="10"/>
                  </a:lnTo>
                  <a:lnTo>
                    <a:pt x="2365" y="8"/>
                  </a:lnTo>
                  <a:lnTo>
                    <a:pt x="2365" y="6"/>
                  </a:lnTo>
                  <a:lnTo>
                    <a:pt x="2365" y="4"/>
                  </a:lnTo>
                  <a:lnTo>
                    <a:pt x="2366" y="2"/>
                  </a:lnTo>
                  <a:lnTo>
                    <a:pt x="2367" y="0"/>
                  </a:lnTo>
                  <a:lnTo>
                    <a:pt x="2368" y="0"/>
                  </a:lnTo>
                  <a:lnTo>
                    <a:pt x="2368" y="0"/>
                  </a:lnTo>
                  <a:close/>
                  <a:moveTo>
                    <a:pt x="2413" y="0"/>
                  </a:moveTo>
                  <a:lnTo>
                    <a:pt x="2433" y="0"/>
                  </a:lnTo>
                  <a:lnTo>
                    <a:pt x="2434" y="0"/>
                  </a:lnTo>
                  <a:lnTo>
                    <a:pt x="2435" y="2"/>
                  </a:lnTo>
                  <a:lnTo>
                    <a:pt x="2436" y="4"/>
                  </a:lnTo>
                  <a:lnTo>
                    <a:pt x="2436" y="6"/>
                  </a:lnTo>
                  <a:lnTo>
                    <a:pt x="2436" y="8"/>
                  </a:lnTo>
                  <a:lnTo>
                    <a:pt x="2435" y="10"/>
                  </a:lnTo>
                  <a:lnTo>
                    <a:pt x="2434" y="12"/>
                  </a:lnTo>
                  <a:lnTo>
                    <a:pt x="2433" y="12"/>
                  </a:lnTo>
                  <a:lnTo>
                    <a:pt x="2413" y="12"/>
                  </a:lnTo>
                  <a:lnTo>
                    <a:pt x="2412" y="12"/>
                  </a:lnTo>
                  <a:lnTo>
                    <a:pt x="2411" y="10"/>
                  </a:lnTo>
                  <a:lnTo>
                    <a:pt x="2410" y="8"/>
                  </a:lnTo>
                  <a:lnTo>
                    <a:pt x="2410" y="6"/>
                  </a:lnTo>
                  <a:lnTo>
                    <a:pt x="2410" y="4"/>
                  </a:lnTo>
                  <a:lnTo>
                    <a:pt x="2411" y="2"/>
                  </a:lnTo>
                  <a:lnTo>
                    <a:pt x="2412" y="0"/>
                  </a:lnTo>
                  <a:lnTo>
                    <a:pt x="2413" y="0"/>
                  </a:lnTo>
                  <a:lnTo>
                    <a:pt x="2413" y="0"/>
                  </a:lnTo>
                  <a:close/>
                  <a:moveTo>
                    <a:pt x="2458" y="0"/>
                  </a:moveTo>
                  <a:lnTo>
                    <a:pt x="2477" y="0"/>
                  </a:lnTo>
                  <a:lnTo>
                    <a:pt x="2478" y="0"/>
                  </a:lnTo>
                  <a:lnTo>
                    <a:pt x="2479" y="2"/>
                  </a:lnTo>
                  <a:lnTo>
                    <a:pt x="2480" y="4"/>
                  </a:lnTo>
                  <a:lnTo>
                    <a:pt x="2480" y="6"/>
                  </a:lnTo>
                  <a:lnTo>
                    <a:pt x="2480" y="8"/>
                  </a:lnTo>
                  <a:lnTo>
                    <a:pt x="2479" y="10"/>
                  </a:lnTo>
                  <a:lnTo>
                    <a:pt x="2478" y="12"/>
                  </a:lnTo>
                  <a:lnTo>
                    <a:pt x="2477" y="12"/>
                  </a:lnTo>
                  <a:lnTo>
                    <a:pt x="2458" y="12"/>
                  </a:lnTo>
                  <a:lnTo>
                    <a:pt x="2457" y="12"/>
                  </a:lnTo>
                  <a:lnTo>
                    <a:pt x="2456" y="10"/>
                  </a:lnTo>
                  <a:lnTo>
                    <a:pt x="2455" y="8"/>
                  </a:lnTo>
                  <a:lnTo>
                    <a:pt x="2455" y="6"/>
                  </a:lnTo>
                  <a:lnTo>
                    <a:pt x="2455" y="4"/>
                  </a:lnTo>
                  <a:lnTo>
                    <a:pt x="2456" y="2"/>
                  </a:lnTo>
                  <a:lnTo>
                    <a:pt x="2457" y="0"/>
                  </a:lnTo>
                  <a:lnTo>
                    <a:pt x="2458" y="0"/>
                  </a:lnTo>
                  <a:lnTo>
                    <a:pt x="2458" y="0"/>
                  </a:lnTo>
                  <a:close/>
                  <a:moveTo>
                    <a:pt x="2503" y="0"/>
                  </a:moveTo>
                  <a:lnTo>
                    <a:pt x="2521" y="0"/>
                  </a:lnTo>
                  <a:lnTo>
                    <a:pt x="2522" y="0"/>
                  </a:lnTo>
                  <a:lnTo>
                    <a:pt x="2524" y="2"/>
                  </a:lnTo>
                  <a:lnTo>
                    <a:pt x="2525" y="4"/>
                  </a:lnTo>
                  <a:lnTo>
                    <a:pt x="2525" y="6"/>
                  </a:lnTo>
                  <a:lnTo>
                    <a:pt x="2525" y="8"/>
                  </a:lnTo>
                  <a:lnTo>
                    <a:pt x="2524" y="10"/>
                  </a:lnTo>
                  <a:lnTo>
                    <a:pt x="2522" y="12"/>
                  </a:lnTo>
                  <a:lnTo>
                    <a:pt x="2521" y="12"/>
                  </a:lnTo>
                  <a:lnTo>
                    <a:pt x="2503" y="12"/>
                  </a:lnTo>
                  <a:lnTo>
                    <a:pt x="2502" y="12"/>
                  </a:lnTo>
                  <a:lnTo>
                    <a:pt x="2501" y="10"/>
                  </a:lnTo>
                  <a:lnTo>
                    <a:pt x="2500" y="8"/>
                  </a:lnTo>
                  <a:lnTo>
                    <a:pt x="2500" y="6"/>
                  </a:lnTo>
                  <a:lnTo>
                    <a:pt x="2500" y="4"/>
                  </a:lnTo>
                  <a:lnTo>
                    <a:pt x="2501" y="2"/>
                  </a:lnTo>
                  <a:lnTo>
                    <a:pt x="2502" y="0"/>
                  </a:lnTo>
                  <a:lnTo>
                    <a:pt x="2503" y="0"/>
                  </a:lnTo>
                  <a:lnTo>
                    <a:pt x="2503" y="0"/>
                  </a:lnTo>
                  <a:close/>
                  <a:moveTo>
                    <a:pt x="2547" y="0"/>
                  </a:moveTo>
                  <a:lnTo>
                    <a:pt x="2566" y="0"/>
                  </a:lnTo>
                  <a:lnTo>
                    <a:pt x="2567" y="0"/>
                  </a:lnTo>
                  <a:lnTo>
                    <a:pt x="2568" y="2"/>
                  </a:lnTo>
                  <a:lnTo>
                    <a:pt x="2569" y="4"/>
                  </a:lnTo>
                  <a:lnTo>
                    <a:pt x="2569" y="6"/>
                  </a:lnTo>
                  <a:lnTo>
                    <a:pt x="2569" y="8"/>
                  </a:lnTo>
                  <a:lnTo>
                    <a:pt x="2568" y="10"/>
                  </a:lnTo>
                  <a:lnTo>
                    <a:pt x="2567" y="12"/>
                  </a:lnTo>
                  <a:lnTo>
                    <a:pt x="2566" y="12"/>
                  </a:lnTo>
                  <a:lnTo>
                    <a:pt x="2547" y="12"/>
                  </a:lnTo>
                  <a:lnTo>
                    <a:pt x="2546" y="12"/>
                  </a:lnTo>
                  <a:lnTo>
                    <a:pt x="2545" y="10"/>
                  </a:lnTo>
                  <a:lnTo>
                    <a:pt x="2544" y="8"/>
                  </a:lnTo>
                  <a:lnTo>
                    <a:pt x="2544" y="6"/>
                  </a:lnTo>
                  <a:lnTo>
                    <a:pt x="2544" y="4"/>
                  </a:lnTo>
                  <a:lnTo>
                    <a:pt x="2545" y="2"/>
                  </a:lnTo>
                  <a:lnTo>
                    <a:pt x="2546" y="0"/>
                  </a:lnTo>
                  <a:lnTo>
                    <a:pt x="2547" y="0"/>
                  </a:lnTo>
                  <a:lnTo>
                    <a:pt x="2547" y="0"/>
                  </a:lnTo>
                  <a:close/>
                  <a:moveTo>
                    <a:pt x="2592" y="0"/>
                  </a:moveTo>
                  <a:lnTo>
                    <a:pt x="2611" y="0"/>
                  </a:lnTo>
                  <a:lnTo>
                    <a:pt x="2612" y="0"/>
                  </a:lnTo>
                  <a:lnTo>
                    <a:pt x="2613" y="2"/>
                  </a:lnTo>
                  <a:lnTo>
                    <a:pt x="2614" y="4"/>
                  </a:lnTo>
                  <a:lnTo>
                    <a:pt x="2614" y="6"/>
                  </a:lnTo>
                  <a:lnTo>
                    <a:pt x="2614" y="8"/>
                  </a:lnTo>
                  <a:lnTo>
                    <a:pt x="2613" y="10"/>
                  </a:lnTo>
                  <a:lnTo>
                    <a:pt x="2612" y="12"/>
                  </a:lnTo>
                  <a:lnTo>
                    <a:pt x="2611" y="12"/>
                  </a:lnTo>
                  <a:lnTo>
                    <a:pt x="2592" y="12"/>
                  </a:lnTo>
                  <a:lnTo>
                    <a:pt x="2591" y="12"/>
                  </a:lnTo>
                  <a:lnTo>
                    <a:pt x="2590" y="10"/>
                  </a:lnTo>
                  <a:lnTo>
                    <a:pt x="2589" y="8"/>
                  </a:lnTo>
                  <a:lnTo>
                    <a:pt x="2589" y="6"/>
                  </a:lnTo>
                  <a:lnTo>
                    <a:pt x="2589" y="4"/>
                  </a:lnTo>
                  <a:lnTo>
                    <a:pt x="2590" y="2"/>
                  </a:lnTo>
                  <a:lnTo>
                    <a:pt x="2591" y="0"/>
                  </a:lnTo>
                  <a:lnTo>
                    <a:pt x="2592" y="0"/>
                  </a:lnTo>
                  <a:lnTo>
                    <a:pt x="2592" y="0"/>
                  </a:lnTo>
                  <a:close/>
                  <a:moveTo>
                    <a:pt x="2637" y="0"/>
                  </a:moveTo>
                  <a:lnTo>
                    <a:pt x="2656" y="0"/>
                  </a:lnTo>
                  <a:lnTo>
                    <a:pt x="2657" y="0"/>
                  </a:lnTo>
                  <a:lnTo>
                    <a:pt x="2658" y="2"/>
                  </a:lnTo>
                  <a:lnTo>
                    <a:pt x="2659" y="4"/>
                  </a:lnTo>
                  <a:lnTo>
                    <a:pt x="2659" y="6"/>
                  </a:lnTo>
                  <a:lnTo>
                    <a:pt x="2659" y="8"/>
                  </a:lnTo>
                  <a:lnTo>
                    <a:pt x="2658" y="10"/>
                  </a:lnTo>
                  <a:lnTo>
                    <a:pt x="2657" y="12"/>
                  </a:lnTo>
                  <a:lnTo>
                    <a:pt x="2656" y="12"/>
                  </a:lnTo>
                  <a:lnTo>
                    <a:pt x="2637" y="12"/>
                  </a:lnTo>
                  <a:lnTo>
                    <a:pt x="2636" y="12"/>
                  </a:lnTo>
                  <a:lnTo>
                    <a:pt x="2635" y="10"/>
                  </a:lnTo>
                  <a:lnTo>
                    <a:pt x="2634" y="8"/>
                  </a:lnTo>
                  <a:lnTo>
                    <a:pt x="2634" y="6"/>
                  </a:lnTo>
                  <a:lnTo>
                    <a:pt x="2634" y="4"/>
                  </a:lnTo>
                  <a:lnTo>
                    <a:pt x="2635" y="2"/>
                  </a:lnTo>
                  <a:lnTo>
                    <a:pt x="2636" y="0"/>
                  </a:lnTo>
                  <a:lnTo>
                    <a:pt x="2637" y="0"/>
                  </a:lnTo>
                  <a:lnTo>
                    <a:pt x="2637" y="0"/>
                  </a:lnTo>
                  <a:close/>
                  <a:moveTo>
                    <a:pt x="2682" y="0"/>
                  </a:moveTo>
                  <a:lnTo>
                    <a:pt x="2700" y="0"/>
                  </a:lnTo>
                  <a:lnTo>
                    <a:pt x="2701" y="0"/>
                  </a:lnTo>
                  <a:lnTo>
                    <a:pt x="2703" y="2"/>
                  </a:lnTo>
                  <a:lnTo>
                    <a:pt x="2704" y="4"/>
                  </a:lnTo>
                  <a:lnTo>
                    <a:pt x="2704" y="6"/>
                  </a:lnTo>
                  <a:lnTo>
                    <a:pt x="2704" y="8"/>
                  </a:lnTo>
                  <a:lnTo>
                    <a:pt x="2703" y="10"/>
                  </a:lnTo>
                  <a:lnTo>
                    <a:pt x="2701" y="12"/>
                  </a:lnTo>
                  <a:lnTo>
                    <a:pt x="2700" y="12"/>
                  </a:lnTo>
                  <a:lnTo>
                    <a:pt x="2682" y="12"/>
                  </a:lnTo>
                  <a:lnTo>
                    <a:pt x="2680" y="12"/>
                  </a:lnTo>
                  <a:lnTo>
                    <a:pt x="2679" y="10"/>
                  </a:lnTo>
                  <a:lnTo>
                    <a:pt x="2678" y="8"/>
                  </a:lnTo>
                  <a:lnTo>
                    <a:pt x="2678" y="6"/>
                  </a:lnTo>
                  <a:lnTo>
                    <a:pt x="2678" y="4"/>
                  </a:lnTo>
                  <a:lnTo>
                    <a:pt x="2679" y="2"/>
                  </a:lnTo>
                  <a:lnTo>
                    <a:pt x="2680" y="0"/>
                  </a:lnTo>
                  <a:lnTo>
                    <a:pt x="2682" y="0"/>
                  </a:lnTo>
                  <a:lnTo>
                    <a:pt x="2682" y="0"/>
                  </a:lnTo>
                  <a:close/>
                  <a:moveTo>
                    <a:pt x="2725" y="0"/>
                  </a:moveTo>
                  <a:lnTo>
                    <a:pt x="2745" y="0"/>
                  </a:lnTo>
                  <a:lnTo>
                    <a:pt x="2746" y="0"/>
                  </a:lnTo>
                  <a:lnTo>
                    <a:pt x="2747" y="2"/>
                  </a:lnTo>
                  <a:lnTo>
                    <a:pt x="2748" y="4"/>
                  </a:lnTo>
                  <a:lnTo>
                    <a:pt x="2748" y="6"/>
                  </a:lnTo>
                  <a:lnTo>
                    <a:pt x="2748" y="8"/>
                  </a:lnTo>
                  <a:lnTo>
                    <a:pt x="2747" y="10"/>
                  </a:lnTo>
                  <a:lnTo>
                    <a:pt x="2746" y="12"/>
                  </a:lnTo>
                  <a:lnTo>
                    <a:pt x="2745" y="12"/>
                  </a:lnTo>
                  <a:lnTo>
                    <a:pt x="2725" y="12"/>
                  </a:lnTo>
                  <a:lnTo>
                    <a:pt x="2724" y="12"/>
                  </a:lnTo>
                  <a:lnTo>
                    <a:pt x="2723" y="10"/>
                  </a:lnTo>
                  <a:lnTo>
                    <a:pt x="2722" y="8"/>
                  </a:lnTo>
                  <a:lnTo>
                    <a:pt x="2722" y="6"/>
                  </a:lnTo>
                  <a:lnTo>
                    <a:pt x="2722" y="4"/>
                  </a:lnTo>
                  <a:lnTo>
                    <a:pt x="2723" y="2"/>
                  </a:lnTo>
                  <a:lnTo>
                    <a:pt x="2724" y="0"/>
                  </a:lnTo>
                  <a:lnTo>
                    <a:pt x="2725" y="0"/>
                  </a:lnTo>
                  <a:lnTo>
                    <a:pt x="2725" y="0"/>
                  </a:lnTo>
                  <a:close/>
                  <a:moveTo>
                    <a:pt x="2770" y="0"/>
                  </a:moveTo>
                  <a:lnTo>
                    <a:pt x="2790" y="0"/>
                  </a:lnTo>
                  <a:lnTo>
                    <a:pt x="2791" y="0"/>
                  </a:lnTo>
                  <a:lnTo>
                    <a:pt x="2792" y="2"/>
                  </a:lnTo>
                  <a:lnTo>
                    <a:pt x="2793" y="4"/>
                  </a:lnTo>
                  <a:lnTo>
                    <a:pt x="2793" y="6"/>
                  </a:lnTo>
                  <a:lnTo>
                    <a:pt x="2793" y="8"/>
                  </a:lnTo>
                  <a:lnTo>
                    <a:pt x="2792" y="10"/>
                  </a:lnTo>
                  <a:lnTo>
                    <a:pt x="2791" y="12"/>
                  </a:lnTo>
                  <a:lnTo>
                    <a:pt x="2790" y="12"/>
                  </a:lnTo>
                  <a:lnTo>
                    <a:pt x="2770" y="12"/>
                  </a:lnTo>
                  <a:lnTo>
                    <a:pt x="2769" y="12"/>
                  </a:lnTo>
                  <a:lnTo>
                    <a:pt x="2768" y="10"/>
                  </a:lnTo>
                  <a:lnTo>
                    <a:pt x="2767" y="8"/>
                  </a:lnTo>
                  <a:lnTo>
                    <a:pt x="2767" y="6"/>
                  </a:lnTo>
                  <a:lnTo>
                    <a:pt x="2767" y="4"/>
                  </a:lnTo>
                  <a:lnTo>
                    <a:pt x="2768" y="2"/>
                  </a:lnTo>
                  <a:lnTo>
                    <a:pt x="2769" y="0"/>
                  </a:lnTo>
                  <a:lnTo>
                    <a:pt x="2770" y="0"/>
                  </a:lnTo>
                  <a:lnTo>
                    <a:pt x="2770" y="0"/>
                  </a:lnTo>
                  <a:close/>
                  <a:moveTo>
                    <a:pt x="2815" y="0"/>
                  </a:moveTo>
                  <a:lnTo>
                    <a:pt x="2835" y="0"/>
                  </a:lnTo>
                  <a:lnTo>
                    <a:pt x="2836" y="0"/>
                  </a:lnTo>
                  <a:lnTo>
                    <a:pt x="2837" y="2"/>
                  </a:lnTo>
                  <a:lnTo>
                    <a:pt x="2838" y="4"/>
                  </a:lnTo>
                  <a:lnTo>
                    <a:pt x="2838" y="6"/>
                  </a:lnTo>
                  <a:lnTo>
                    <a:pt x="2838" y="8"/>
                  </a:lnTo>
                  <a:lnTo>
                    <a:pt x="2837" y="10"/>
                  </a:lnTo>
                  <a:lnTo>
                    <a:pt x="2836" y="12"/>
                  </a:lnTo>
                  <a:lnTo>
                    <a:pt x="2835" y="12"/>
                  </a:lnTo>
                  <a:lnTo>
                    <a:pt x="2815" y="12"/>
                  </a:lnTo>
                  <a:lnTo>
                    <a:pt x="2814" y="12"/>
                  </a:lnTo>
                  <a:lnTo>
                    <a:pt x="2813" y="10"/>
                  </a:lnTo>
                  <a:lnTo>
                    <a:pt x="2812" y="8"/>
                  </a:lnTo>
                  <a:lnTo>
                    <a:pt x="2812" y="6"/>
                  </a:lnTo>
                  <a:lnTo>
                    <a:pt x="2812" y="4"/>
                  </a:lnTo>
                  <a:lnTo>
                    <a:pt x="2813" y="2"/>
                  </a:lnTo>
                  <a:lnTo>
                    <a:pt x="2814" y="0"/>
                  </a:lnTo>
                  <a:lnTo>
                    <a:pt x="2815" y="0"/>
                  </a:lnTo>
                  <a:lnTo>
                    <a:pt x="2815" y="0"/>
                  </a:lnTo>
                  <a:close/>
                  <a:moveTo>
                    <a:pt x="2860" y="0"/>
                  </a:moveTo>
                  <a:lnTo>
                    <a:pt x="2878" y="0"/>
                  </a:lnTo>
                  <a:lnTo>
                    <a:pt x="2880" y="0"/>
                  </a:lnTo>
                  <a:lnTo>
                    <a:pt x="2882" y="2"/>
                  </a:lnTo>
                  <a:lnTo>
                    <a:pt x="2883" y="4"/>
                  </a:lnTo>
                  <a:lnTo>
                    <a:pt x="2883" y="6"/>
                  </a:lnTo>
                  <a:lnTo>
                    <a:pt x="2883" y="8"/>
                  </a:lnTo>
                  <a:lnTo>
                    <a:pt x="2882" y="10"/>
                  </a:lnTo>
                  <a:lnTo>
                    <a:pt x="2880" y="12"/>
                  </a:lnTo>
                  <a:lnTo>
                    <a:pt x="2878" y="12"/>
                  </a:lnTo>
                  <a:lnTo>
                    <a:pt x="2860" y="12"/>
                  </a:lnTo>
                  <a:lnTo>
                    <a:pt x="2859" y="12"/>
                  </a:lnTo>
                  <a:lnTo>
                    <a:pt x="2858" y="10"/>
                  </a:lnTo>
                  <a:lnTo>
                    <a:pt x="2857" y="8"/>
                  </a:lnTo>
                  <a:lnTo>
                    <a:pt x="2857" y="6"/>
                  </a:lnTo>
                  <a:lnTo>
                    <a:pt x="2857" y="4"/>
                  </a:lnTo>
                  <a:lnTo>
                    <a:pt x="2858" y="2"/>
                  </a:lnTo>
                  <a:lnTo>
                    <a:pt x="2859" y="0"/>
                  </a:lnTo>
                  <a:lnTo>
                    <a:pt x="2860" y="0"/>
                  </a:lnTo>
                  <a:lnTo>
                    <a:pt x="2860" y="0"/>
                  </a:lnTo>
                  <a:close/>
                  <a:moveTo>
                    <a:pt x="2904" y="0"/>
                  </a:moveTo>
                  <a:lnTo>
                    <a:pt x="2923" y="0"/>
                  </a:lnTo>
                  <a:lnTo>
                    <a:pt x="2924" y="0"/>
                  </a:lnTo>
                  <a:lnTo>
                    <a:pt x="2925" y="2"/>
                  </a:lnTo>
                  <a:lnTo>
                    <a:pt x="2926" y="4"/>
                  </a:lnTo>
                  <a:lnTo>
                    <a:pt x="2926" y="6"/>
                  </a:lnTo>
                  <a:lnTo>
                    <a:pt x="2926" y="8"/>
                  </a:lnTo>
                  <a:lnTo>
                    <a:pt x="2925" y="10"/>
                  </a:lnTo>
                  <a:lnTo>
                    <a:pt x="2924" y="12"/>
                  </a:lnTo>
                  <a:lnTo>
                    <a:pt x="2923" y="12"/>
                  </a:lnTo>
                  <a:lnTo>
                    <a:pt x="2904" y="12"/>
                  </a:lnTo>
                  <a:lnTo>
                    <a:pt x="2903" y="12"/>
                  </a:lnTo>
                  <a:lnTo>
                    <a:pt x="2902" y="10"/>
                  </a:lnTo>
                  <a:lnTo>
                    <a:pt x="2901" y="8"/>
                  </a:lnTo>
                  <a:lnTo>
                    <a:pt x="2901" y="6"/>
                  </a:lnTo>
                  <a:lnTo>
                    <a:pt x="2901" y="4"/>
                  </a:lnTo>
                  <a:lnTo>
                    <a:pt x="2902" y="2"/>
                  </a:lnTo>
                  <a:lnTo>
                    <a:pt x="2903" y="0"/>
                  </a:lnTo>
                  <a:lnTo>
                    <a:pt x="2904" y="0"/>
                  </a:lnTo>
                  <a:lnTo>
                    <a:pt x="2904" y="0"/>
                  </a:lnTo>
                  <a:close/>
                  <a:moveTo>
                    <a:pt x="2949" y="0"/>
                  </a:moveTo>
                  <a:lnTo>
                    <a:pt x="2968" y="0"/>
                  </a:lnTo>
                  <a:lnTo>
                    <a:pt x="2969" y="0"/>
                  </a:lnTo>
                  <a:lnTo>
                    <a:pt x="2970" y="2"/>
                  </a:lnTo>
                  <a:lnTo>
                    <a:pt x="2971" y="4"/>
                  </a:lnTo>
                  <a:lnTo>
                    <a:pt x="2971" y="6"/>
                  </a:lnTo>
                  <a:lnTo>
                    <a:pt x="2971" y="8"/>
                  </a:lnTo>
                  <a:lnTo>
                    <a:pt x="2970" y="10"/>
                  </a:lnTo>
                  <a:lnTo>
                    <a:pt x="2969" y="12"/>
                  </a:lnTo>
                  <a:lnTo>
                    <a:pt x="2968" y="12"/>
                  </a:lnTo>
                  <a:lnTo>
                    <a:pt x="2949" y="12"/>
                  </a:lnTo>
                  <a:lnTo>
                    <a:pt x="2948" y="12"/>
                  </a:lnTo>
                  <a:lnTo>
                    <a:pt x="2947" y="10"/>
                  </a:lnTo>
                  <a:lnTo>
                    <a:pt x="2946" y="8"/>
                  </a:lnTo>
                  <a:lnTo>
                    <a:pt x="2946" y="6"/>
                  </a:lnTo>
                  <a:lnTo>
                    <a:pt x="2946" y="4"/>
                  </a:lnTo>
                  <a:lnTo>
                    <a:pt x="2947" y="2"/>
                  </a:lnTo>
                  <a:lnTo>
                    <a:pt x="2948" y="0"/>
                  </a:lnTo>
                  <a:lnTo>
                    <a:pt x="2949" y="0"/>
                  </a:lnTo>
                  <a:lnTo>
                    <a:pt x="2949" y="0"/>
                  </a:lnTo>
                  <a:close/>
                  <a:moveTo>
                    <a:pt x="2994" y="0"/>
                  </a:moveTo>
                  <a:lnTo>
                    <a:pt x="3013" y="0"/>
                  </a:lnTo>
                  <a:lnTo>
                    <a:pt x="3014" y="0"/>
                  </a:lnTo>
                  <a:lnTo>
                    <a:pt x="3015" y="2"/>
                  </a:lnTo>
                  <a:lnTo>
                    <a:pt x="3016" y="4"/>
                  </a:lnTo>
                  <a:lnTo>
                    <a:pt x="3016" y="6"/>
                  </a:lnTo>
                  <a:lnTo>
                    <a:pt x="3016" y="8"/>
                  </a:lnTo>
                  <a:lnTo>
                    <a:pt x="3015" y="10"/>
                  </a:lnTo>
                  <a:lnTo>
                    <a:pt x="3014" y="12"/>
                  </a:lnTo>
                  <a:lnTo>
                    <a:pt x="3013" y="12"/>
                  </a:lnTo>
                  <a:lnTo>
                    <a:pt x="2994" y="12"/>
                  </a:lnTo>
                  <a:lnTo>
                    <a:pt x="2993" y="12"/>
                  </a:lnTo>
                  <a:lnTo>
                    <a:pt x="2992" y="10"/>
                  </a:lnTo>
                  <a:lnTo>
                    <a:pt x="2991" y="8"/>
                  </a:lnTo>
                  <a:lnTo>
                    <a:pt x="2991" y="6"/>
                  </a:lnTo>
                  <a:lnTo>
                    <a:pt x="2991" y="4"/>
                  </a:lnTo>
                  <a:lnTo>
                    <a:pt x="2992" y="2"/>
                  </a:lnTo>
                  <a:lnTo>
                    <a:pt x="2993" y="0"/>
                  </a:lnTo>
                  <a:lnTo>
                    <a:pt x="2994" y="0"/>
                  </a:lnTo>
                  <a:lnTo>
                    <a:pt x="2994" y="0"/>
                  </a:lnTo>
                  <a:close/>
                  <a:moveTo>
                    <a:pt x="3039" y="0"/>
                  </a:moveTo>
                  <a:lnTo>
                    <a:pt x="3057" y="0"/>
                  </a:lnTo>
                  <a:lnTo>
                    <a:pt x="3058" y="0"/>
                  </a:lnTo>
                  <a:lnTo>
                    <a:pt x="3060" y="2"/>
                  </a:lnTo>
                  <a:lnTo>
                    <a:pt x="3061" y="4"/>
                  </a:lnTo>
                  <a:lnTo>
                    <a:pt x="3061" y="6"/>
                  </a:lnTo>
                  <a:lnTo>
                    <a:pt x="3061" y="8"/>
                  </a:lnTo>
                  <a:lnTo>
                    <a:pt x="3060" y="10"/>
                  </a:lnTo>
                  <a:lnTo>
                    <a:pt x="3058" y="12"/>
                  </a:lnTo>
                  <a:lnTo>
                    <a:pt x="3057" y="12"/>
                  </a:lnTo>
                  <a:lnTo>
                    <a:pt x="3039" y="12"/>
                  </a:lnTo>
                  <a:lnTo>
                    <a:pt x="3038" y="12"/>
                  </a:lnTo>
                  <a:lnTo>
                    <a:pt x="3037" y="10"/>
                  </a:lnTo>
                  <a:lnTo>
                    <a:pt x="3036" y="8"/>
                  </a:lnTo>
                  <a:lnTo>
                    <a:pt x="3036" y="6"/>
                  </a:lnTo>
                  <a:lnTo>
                    <a:pt x="3036" y="4"/>
                  </a:lnTo>
                  <a:lnTo>
                    <a:pt x="3037" y="2"/>
                  </a:lnTo>
                  <a:lnTo>
                    <a:pt x="3038" y="0"/>
                  </a:lnTo>
                  <a:lnTo>
                    <a:pt x="3039" y="0"/>
                  </a:lnTo>
                  <a:lnTo>
                    <a:pt x="3039" y="0"/>
                  </a:lnTo>
                  <a:close/>
                  <a:moveTo>
                    <a:pt x="3083" y="0"/>
                  </a:moveTo>
                  <a:lnTo>
                    <a:pt x="3102" y="0"/>
                  </a:lnTo>
                  <a:lnTo>
                    <a:pt x="3103" y="0"/>
                  </a:lnTo>
                  <a:lnTo>
                    <a:pt x="3104" y="2"/>
                  </a:lnTo>
                  <a:lnTo>
                    <a:pt x="3105" y="4"/>
                  </a:lnTo>
                  <a:lnTo>
                    <a:pt x="3105" y="6"/>
                  </a:lnTo>
                  <a:lnTo>
                    <a:pt x="3105" y="8"/>
                  </a:lnTo>
                  <a:lnTo>
                    <a:pt x="3104" y="10"/>
                  </a:lnTo>
                  <a:lnTo>
                    <a:pt x="3103" y="12"/>
                  </a:lnTo>
                  <a:lnTo>
                    <a:pt x="3102" y="12"/>
                  </a:lnTo>
                  <a:lnTo>
                    <a:pt x="3083" y="12"/>
                  </a:lnTo>
                  <a:lnTo>
                    <a:pt x="3082" y="12"/>
                  </a:lnTo>
                  <a:lnTo>
                    <a:pt x="3081" y="10"/>
                  </a:lnTo>
                  <a:lnTo>
                    <a:pt x="3080" y="8"/>
                  </a:lnTo>
                  <a:lnTo>
                    <a:pt x="3080" y="6"/>
                  </a:lnTo>
                  <a:lnTo>
                    <a:pt x="3080" y="4"/>
                  </a:lnTo>
                  <a:lnTo>
                    <a:pt x="3081" y="2"/>
                  </a:lnTo>
                  <a:lnTo>
                    <a:pt x="3082" y="0"/>
                  </a:lnTo>
                  <a:lnTo>
                    <a:pt x="3083" y="0"/>
                  </a:lnTo>
                  <a:lnTo>
                    <a:pt x="3083" y="0"/>
                  </a:lnTo>
                  <a:close/>
                  <a:moveTo>
                    <a:pt x="3127" y="0"/>
                  </a:moveTo>
                  <a:lnTo>
                    <a:pt x="3147" y="0"/>
                  </a:lnTo>
                  <a:lnTo>
                    <a:pt x="3148" y="0"/>
                  </a:lnTo>
                  <a:lnTo>
                    <a:pt x="3149" y="2"/>
                  </a:lnTo>
                  <a:lnTo>
                    <a:pt x="3150" y="4"/>
                  </a:lnTo>
                  <a:lnTo>
                    <a:pt x="3150" y="6"/>
                  </a:lnTo>
                  <a:lnTo>
                    <a:pt x="3150" y="8"/>
                  </a:lnTo>
                  <a:lnTo>
                    <a:pt x="3149" y="10"/>
                  </a:lnTo>
                  <a:lnTo>
                    <a:pt x="3148" y="12"/>
                  </a:lnTo>
                  <a:lnTo>
                    <a:pt x="3147" y="12"/>
                  </a:lnTo>
                  <a:lnTo>
                    <a:pt x="3127" y="12"/>
                  </a:lnTo>
                  <a:lnTo>
                    <a:pt x="3126" y="12"/>
                  </a:lnTo>
                  <a:lnTo>
                    <a:pt x="3125" y="10"/>
                  </a:lnTo>
                  <a:lnTo>
                    <a:pt x="3124" y="8"/>
                  </a:lnTo>
                  <a:lnTo>
                    <a:pt x="3124" y="6"/>
                  </a:lnTo>
                  <a:lnTo>
                    <a:pt x="3124" y="4"/>
                  </a:lnTo>
                  <a:lnTo>
                    <a:pt x="3125" y="2"/>
                  </a:lnTo>
                  <a:lnTo>
                    <a:pt x="3126" y="0"/>
                  </a:lnTo>
                  <a:lnTo>
                    <a:pt x="3127" y="0"/>
                  </a:lnTo>
                  <a:lnTo>
                    <a:pt x="3127" y="0"/>
                  </a:lnTo>
                  <a:close/>
                  <a:moveTo>
                    <a:pt x="3172" y="0"/>
                  </a:moveTo>
                  <a:lnTo>
                    <a:pt x="3192" y="0"/>
                  </a:lnTo>
                  <a:lnTo>
                    <a:pt x="3193" y="0"/>
                  </a:lnTo>
                  <a:lnTo>
                    <a:pt x="3194" y="2"/>
                  </a:lnTo>
                  <a:lnTo>
                    <a:pt x="3195" y="4"/>
                  </a:lnTo>
                  <a:lnTo>
                    <a:pt x="3195" y="6"/>
                  </a:lnTo>
                  <a:lnTo>
                    <a:pt x="3195" y="8"/>
                  </a:lnTo>
                  <a:lnTo>
                    <a:pt x="3194" y="10"/>
                  </a:lnTo>
                  <a:lnTo>
                    <a:pt x="3193" y="12"/>
                  </a:lnTo>
                  <a:lnTo>
                    <a:pt x="3192" y="12"/>
                  </a:lnTo>
                  <a:lnTo>
                    <a:pt x="3172" y="12"/>
                  </a:lnTo>
                  <a:lnTo>
                    <a:pt x="3171" y="12"/>
                  </a:lnTo>
                  <a:lnTo>
                    <a:pt x="3170" y="10"/>
                  </a:lnTo>
                  <a:lnTo>
                    <a:pt x="3169" y="8"/>
                  </a:lnTo>
                  <a:lnTo>
                    <a:pt x="3169" y="6"/>
                  </a:lnTo>
                  <a:lnTo>
                    <a:pt x="3169" y="4"/>
                  </a:lnTo>
                  <a:lnTo>
                    <a:pt x="3170" y="2"/>
                  </a:lnTo>
                  <a:lnTo>
                    <a:pt x="3171" y="0"/>
                  </a:lnTo>
                  <a:lnTo>
                    <a:pt x="3172" y="0"/>
                  </a:lnTo>
                  <a:lnTo>
                    <a:pt x="3172" y="0"/>
                  </a:lnTo>
                  <a:close/>
                  <a:moveTo>
                    <a:pt x="3217" y="0"/>
                  </a:moveTo>
                  <a:lnTo>
                    <a:pt x="3236" y="0"/>
                  </a:lnTo>
                  <a:lnTo>
                    <a:pt x="3237" y="0"/>
                  </a:lnTo>
                  <a:lnTo>
                    <a:pt x="3239" y="2"/>
                  </a:lnTo>
                  <a:lnTo>
                    <a:pt x="3240" y="4"/>
                  </a:lnTo>
                  <a:lnTo>
                    <a:pt x="3240" y="6"/>
                  </a:lnTo>
                  <a:lnTo>
                    <a:pt x="3240" y="8"/>
                  </a:lnTo>
                  <a:lnTo>
                    <a:pt x="3239" y="10"/>
                  </a:lnTo>
                  <a:lnTo>
                    <a:pt x="3237" y="12"/>
                  </a:lnTo>
                  <a:lnTo>
                    <a:pt x="3236" y="12"/>
                  </a:lnTo>
                  <a:lnTo>
                    <a:pt x="3217" y="12"/>
                  </a:lnTo>
                  <a:lnTo>
                    <a:pt x="3216" y="12"/>
                  </a:lnTo>
                  <a:lnTo>
                    <a:pt x="3215" y="10"/>
                  </a:lnTo>
                  <a:lnTo>
                    <a:pt x="3214" y="8"/>
                  </a:lnTo>
                  <a:lnTo>
                    <a:pt x="3214" y="6"/>
                  </a:lnTo>
                  <a:lnTo>
                    <a:pt x="3214" y="4"/>
                  </a:lnTo>
                  <a:lnTo>
                    <a:pt x="3215" y="2"/>
                  </a:lnTo>
                  <a:lnTo>
                    <a:pt x="3216" y="0"/>
                  </a:lnTo>
                  <a:lnTo>
                    <a:pt x="3217" y="0"/>
                  </a:lnTo>
                  <a:lnTo>
                    <a:pt x="3217" y="0"/>
                  </a:lnTo>
                  <a:close/>
                  <a:moveTo>
                    <a:pt x="3261" y="0"/>
                  </a:moveTo>
                  <a:lnTo>
                    <a:pt x="3281" y="0"/>
                  </a:lnTo>
                  <a:lnTo>
                    <a:pt x="3282" y="0"/>
                  </a:lnTo>
                  <a:lnTo>
                    <a:pt x="3283" y="2"/>
                  </a:lnTo>
                  <a:lnTo>
                    <a:pt x="3284" y="4"/>
                  </a:lnTo>
                  <a:lnTo>
                    <a:pt x="3284" y="6"/>
                  </a:lnTo>
                  <a:lnTo>
                    <a:pt x="3284" y="8"/>
                  </a:lnTo>
                  <a:lnTo>
                    <a:pt x="3283" y="10"/>
                  </a:lnTo>
                  <a:lnTo>
                    <a:pt x="3282" y="12"/>
                  </a:lnTo>
                  <a:lnTo>
                    <a:pt x="3281" y="12"/>
                  </a:lnTo>
                  <a:lnTo>
                    <a:pt x="3261" y="12"/>
                  </a:lnTo>
                  <a:lnTo>
                    <a:pt x="3260" y="12"/>
                  </a:lnTo>
                  <a:lnTo>
                    <a:pt x="3259" y="10"/>
                  </a:lnTo>
                  <a:lnTo>
                    <a:pt x="3258" y="8"/>
                  </a:lnTo>
                  <a:lnTo>
                    <a:pt x="3258" y="6"/>
                  </a:lnTo>
                  <a:lnTo>
                    <a:pt x="3258" y="4"/>
                  </a:lnTo>
                  <a:lnTo>
                    <a:pt x="3259" y="2"/>
                  </a:lnTo>
                  <a:lnTo>
                    <a:pt x="3260" y="0"/>
                  </a:lnTo>
                  <a:lnTo>
                    <a:pt x="3261" y="0"/>
                  </a:lnTo>
                  <a:lnTo>
                    <a:pt x="3261" y="0"/>
                  </a:lnTo>
                  <a:close/>
                  <a:moveTo>
                    <a:pt x="3306" y="0"/>
                  </a:moveTo>
                  <a:lnTo>
                    <a:pt x="3325" y="0"/>
                  </a:lnTo>
                  <a:lnTo>
                    <a:pt x="3326" y="0"/>
                  </a:lnTo>
                  <a:lnTo>
                    <a:pt x="3328" y="2"/>
                  </a:lnTo>
                  <a:lnTo>
                    <a:pt x="3329" y="4"/>
                  </a:lnTo>
                  <a:lnTo>
                    <a:pt x="3329" y="6"/>
                  </a:lnTo>
                  <a:lnTo>
                    <a:pt x="3329" y="8"/>
                  </a:lnTo>
                  <a:lnTo>
                    <a:pt x="3328" y="10"/>
                  </a:lnTo>
                  <a:lnTo>
                    <a:pt x="3326" y="12"/>
                  </a:lnTo>
                  <a:lnTo>
                    <a:pt x="3325" y="12"/>
                  </a:lnTo>
                  <a:lnTo>
                    <a:pt x="3306" y="12"/>
                  </a:lnTo>
                  <a:lnTo>
                    <a:pt x="3305" y="12"/>
                  </a:lnTo>
                  <a:lnTo>
                    <a:pt x="3304" y="10"/>
                  </a:lnTo>
                  <a:lnTo>
                    <a:pt x="3303" y="8"/>
                  </a:lnTo>
                  <a:lnTo>
                    <a:pt x="3303" y="6"/>
                  </a:lnTo>
                  <a:lnTo>
                    <a:pt x="3303" y="4"/>
                  </a:lnTo>
                  <a:lnTo>
                    <a:pt x="3304" y="2"/>
                  </a:lnTo>
                  <a:lnTo>
                    <a:pt x="3305" y="0"/>
                  </a:lnTo>
                  <a:lnTo>
                    <a:pt x="3306" y="0"/>
                  </a:lnTo>
                  <a:lnTo>
                    <a:pt x="3306" y="0"/>
                  </a:lnTo>
                  <a:close/>
                  <a:moveTo>
                    <a:pt x="3351" y="0"/>
                  </a:moveTo>
                  <a:lnTo>
                    <a:pt x="3370" y="0"/>
                  </a:lnTo>
                  <a:lnTo>
                    <a:pt x="3371" y="0"/>
                  </a:lnTo>
                  <a:lnTo>
                    <a:pt x="3372" y="2"/>
                  </a:lnTo>
                  <a:lnTo>
                    <a:pt x="3373" y="4"/>
                  </a:lnTo>
                  <a:lnTo>
                    <a:pt x="3373" y="6"/>
                  </a:lnTo>
                  <a:lnTo>
                    <a:pt x="3373" y="8"/>
                  </a:lnTo>
                  <a:lnTo>
                    <a:pt x="3372" y="10"/>
                  </a:lnTo>
                  <a:lnTo>
                    <a:pt x="3371" y="12"/>
                  </a:lnTo>
                  <a:lnTo>
                    <a:pt x="3370" y="12"/>
                  </a:lnTo>
                  <a:lnTo>
                    <a:pt x="3351" y="12"/>
                  </a:lnTo>
                  <a:lnTo>
                    <a:pt x="3350" y="12"/>
                  </a:lnTo>
                  <a:lnTo>
                    <a:pt x="3349" y="10"/>
                  </a:lnTo>
                  <a:lnTo>
                    <a:pt x="3348" y="8"/>
                  </a:lnTo>
                  <a:lnTo>
                    <a:pt x="3348" y="6"/>
                  </a:lnTo>
                  <a:lnTo>
                    <a:pt x="3348" y="4"/>
                  </a:lnTo>
                  <a:lnTo>
                    <a:pt x="3349" y="2"/>
                  </a:lnTo>
                  <a:lnTo>
                    <a:pt x="3350" y="0"/>
                  </a:lnTo>
                  <a:lnTo>
                    <a:pt x="3351" y="0"/>
                  </a:lnTo>
                  <a:lnTo>
                    <a:pt x="3351" y="0"/>
                  </a:lnTo>
                  <a:close/>
                  <a:moveTo>
                    <a:pt x="3396" y="0"/>
                  </a:moveTo>
                  <a:lnTo>
                    <a:pt x="3414" y="0"/>
                  </a:lnTo>
                  <a:lnTo>
                    <a:pt x="3415" y="0"/>
                  </a:lnTo>
                  <a:lnTo>
                    <a:pt x="3417" y="2"/>
                  </a:lnTo>
                  <a:lnTo>
                    <a:pt x="3418" y="4"/>
                  </a:lnTo>
                  <a:lnTo>
                    <a:pt x="3418" y="6"/>
                  </a:lnTo>
                  <a:lnTo>
                    <a:pt x="3418" y="8"/>
                  </a:lnTo>
                  <a:lnTo>
                    <a:pt x="3417" y="10"/>
                  </a:lnTo>
                  <a:lnTo>
                    <a:pt x="3415" y="12"/>
                  </a:lnTo>
                  <a:lnTo>
                    <a:pt x="3414" y="12"/>
                  </a:lnTo>
                  <a:lnTo>
                    <a:pt x="3396" y="12"/>
                  </a:lnTo>
                  <a:lnTo>
                    <a:pt x="3395" y="12"/>
                  </a:lnTo>
                  <a:lnTo>
                    <a:pt x="3394" y="10"/>
                  </a:lnTo>
                  <a:lnTo>
                    <a:pt x="3393" y="8"/>
                  </a:lnTo>
                  <a:lnTo>
                    <a:pt x="3393" y="6"/>
                  </a:lnTo>
                  <a:lnTo>
                    <a:pt x="3393" y="4"/>
                  </a:lnTo>
                  <a:lnTo>
                    <a:pt x="3394" y="2"/>
                  </a:lnTo>
                  <a:lnTo>
                    <a:pt x="3395" y="0"/>
                  </a:lnTo>
                  <a:lnTo>
                    <a:pt x="3396" y="0"/>
                  </a:lnTo>
                  <a:lnTo>
                    <a:pt x="3396" y="0"/>
                  </a:lnTo>
                  <a:close/>
                  <a:moveTo>
                    <a:pt x="3440" y="0"/>
                  </a:moveTo>
                  <a:lnTo>
                    <a:pt x="3459" y="0"/>
                  </a:lnTo>
                  <a:lnTo>
                    <a:pt x="3460" y="0"/>
                  </a:lnTo>
                  <a:lnTo>
                    <a:pt x="3461" y="2"/>
                  </a:lnTo>
                  <a:lnTo>
                    <a:pt x="3462" y="4"/>
                  </a:lnTo>
                  <a:lnTo>
                    <a:pt x="3462" y="6"/>
                  </a:lnTo>
                  <a:lnTo>
                    <a:pt x="3462" y="8"/>
                  </a:lnTo>
                  <a:lnTo>
                    <a:pt x="3461" y="10"/>
                  </a:lnTo>
                  <a:lnTo>
                    <a:pt x="3460" y="12"/>
                  </a:lnTo>
                  <a:lnTo>
                    <a:pt x="3459" y="12"/>
                  </a:lnTo>
                  <a:lnTo>
                    <a:pt x="3440" y="12"/>
                  </a:lnTo>
                  <a:lnTo>
                    <a:pt x="3439" y="12"/>
                  </a:lnTo>
                  <a:lnTo>
                    <a:pt x="3438" y="10"/>
                  </a:lnTo>
                  <a:lnTo>
                    <a:pt x="3437" y="8"/>
                  </a:lnTo>
                  <a:lnTo>
                    <a:pt x="3437" y="6"/>
                  </a:lnTo>
                  <a:lnTo>
                    <a:pt x="3437" y="4"/>
                  </a:lnTo>
                  <a:lnTo>
                    <a:pt x="3438" y="2"/>
                  </a:lnTo>
                  <a:lnTo>
                    <a:pt x="3439" y="0"/>
                  </a:lnTo>
                  <a:lnTo>
                    <a:pt x="3440" y="0"/>
                  </a:lnTo>
                  <a:lnTo>
                    <a:pt x="3440" y="0"/>
                  </a:lnTo>
                  <a:close/>
                  <a:moveTo>
                    <a:pt x="3485" y="0"/>
                  </a:moveTo>
                  <a:lnTo>
                    <a:pt x="3504" y="0"/>
                  </a:lnTo>
                  <a:lnTo>
                    <a:pt x="3505" y="0"/>
                  </a:lnTo>
                  <a:lnTo>
                    <a:pt x="3506" y="2"/>
                  </a:lnTo>
                  <a:lnTo>
                    <a:pt x="3507" y="4"/>
                  </a:lnTo>
                  <a:lnTo>
                    <a:pt x="3507" y="6"/>
                  </a:lnTo>
                  <a:lnTo>
                    <a:pt x="3507" y="8"/>
                  </a:lnTo>
                  <a:lnTo>
                    <a:pt x="3506" y="10"/>
                  </a:lnTo>
                  <a:lnTo>
                    <a:pt x="3505" y="12"/>
                  </a:lnTo>
                  <a:lnTo>
                    <a:pt x="3504" y="12"/>
                  </a:lnTo>
                  <a:lnTo>
                    <a:pt x="3485" y="12"/>
                  </a:lnTo>
                  <a:lnTo>
                    <a:pt x="3484" y="12"/>
                  </a:lnTo>
                  <a:lnTo>
                    <a:pt x="3483" y="10"/>
                  </a:lnTo>
                  <a:lnTo>
                    <a:pt x="3482" y="8"/>
                  </a:lnTo>
                  <a:lnTo>
                    <a:pt x="3482" y="6"/>
                  </a:lnTo>
                  <a:lnTo>
                    <a:pt x="3482" y="4"/>
                  </a:lnTo>
                  <a:lnTo>
                    <a:pt x="3483" y="2"/>
                  </a:lnTo>
                  <a:lnTo>
                    <a:pt x="3484" y="0"/>
                  </a:lnTo>
                  <a:lnTo>
                    <a:pt x="3485" y="0"/>
                  </a:lnTo>
                  <a:lnTo>
                    <a:pt x="3485" y="0"/>
                  </a:lnTo>
                  <a:close/>
                  <a:moveTo>
                    <a:pt x="3530" y="0"/>
                  </a:moveTo>
                  <a:lnTo>
                    <a:pt x="3549" y="0"/>
                  </a:lnTo>
                  <a:lnTo>
                    <a:pt x="3550" y="0"/>
                  </a:lnTo>
                  <a:lnTo>
                    <a:pt x="3551" y="2"/>
                  </a:lnTo>
                  <a:lnTo>
                    <a:pt x="3552" y="4"/>
                  </a:lnTo>
                  <a:lnTo>
                    <a:pt x="3552" y="6"/>
                  </a:lnTo>
                  <a:lnTo>
                    <a:pt x="3552" y="8"/>
                  </a:lnTo>
                  <a:lnTo>
                    <a:pt x="3551" y="10"/>
                  </a:lnTo>
                  <a:lnTo>
                    <a:pt x="3550" y="12"/>
                  </a:lnTo>
                  <a:lnTo>
                    <a:pt x="3549" y="12"/>
                  </a:lnTo>
                  <a:lnTo>
                    <a:pt x="3530" y="12"/>
                  </a:lnTo>
                  <a:lnTo>
                    <a:pt x="3529" y="12"/>
                  </a:lnTo>
                  <a:lnTo>
                    <a:pt x="3528" y="10"/>
                  </a:lnTo>
                  <a:lnTo>
                    <a:pt x="3527" y="8"/>
                  </a:lnTo>
                  <a:lnTo>
                    <a:pt x="3527" y="6"/>
                  </a:lnTo>
                  <a:lnTo>
                    <a:pt x="3527" y="4"/>
                  </a:lnTo>
                  <a:lnTo>
                    <a:pt x="3528" y="2"/>
                  </a:lnTo>
                  <a:lnTo>
                    <a:pt x="3529" y="0"/>
                  </a:lnTo>
                  <a:lnTo>
                    <a:pt x="3530" y="0"/>
                  </a:lnTo>
                  <a:lnTo>
                    <a:pt x="3530" y="0"/>
                  </a:lnTo>
                  <a:close/>
                  <a:moveTo>
                    <a:pt x="3574" y="0"/>
                  </a:moveTo>
                  <a:lnTo>
                    <a:pt x="3593" y="0"/>
                  </a:lnTo>
                  <a:lnTo>
                    <a:pt x="3594" y="0"/>
                  </a:lnTo>
                  <a:lnTo>
                    <a:pt x="3596" y="2"/>
                  </a:lnTo>
                  <a:lnTo>
                    <a:pt x="3597" y="4"/>
                  </a:lnTo>
                  <a:lnTo>
                    <a:pt x="3597" y="6"/>
                  </a:lnTo>
                  <a:lnTo>
                    <a:pt x="3597" y="8"/>
                  </a:lnTo>
                  <a:lnTo>
                    <a:pt x="3596" y="10"/>
                  </a:lnTo>
                  <a:lnTo>
                    <a:pt x="3594" y="12"/>
                  </a:lnTo>
                  <a:lnTo>
                    <a:pt x="3593" y="12"/>
                  </a:lnTo>
                  <a:lnTo>
                    <a:pt x="3574" y="12"/>
                  </a:lnTo>
                  <a:lnTo>
                    <a:pt x="3573" y="12"/>
                  </a:lnTo>
                  <a:lnTo>
                    <a:pt x="3572" y="10"/>
                  </a:lnTo>
                  <a:lnTo>
                    <a:pt x="3571" y="8"/>
                  </a:lnTo>
                  <a:lnTo>
                    <a:pt x="3571" y="6"/>
                  </a:lnTo>
                  <a:lnTo>
                    <a:pt x="3571" y="4"/>
                  </a:lnTo>
                  <a:lnTo>
                    <a:pt x="3572" y="2"/>
                  </a:lnTo>
                  <a:lnTo>
                    <a:pt x="3573" y="0"/>
                  </a:lnTo>
                  <a:lnTo>
                    <a:pt x="3574" y="0"/>
                  </a:lnTo>
                  <a:lnTo>
                    <a:pt x="3574" y="0"/>
                  </a:lnTo>
                  <a:close/>
                  <a:moveTo>
                    <a:pt x="3618" y="0"/>
                  </a:moveTo>
                  <a:lnTo>
                    <a:pt x="3638" y="0"/>
                  </a:lnTo>
                  <a:lnTo>
                    <a:pt x="3639" y="0"/>
                  </a:lnTo>
                  <a:lnTo>
                    <a:pt x="3640" y="2"/>
                  </a:lnTo>
                  <a:lnTo>
                    <a:pt x="3641" y="4"/>
                  </a:lnTo>
                  <a:lnTo>
                    <a:pt x="3641" y="6"/>
                  </a:lnTo>
                  <a:lnTo>
                    <a:pt x="3641" y="8"/>
                  </a:lnTo>
                  <a:lnTo>
                    <a:pt x="3640" y="10"/>
                  </a:lnTo>
                  <a:lnTo>
                    <a:pt x="3639" y="12"/>
                  </a:lnTo>
                  <a:lnTo>
                    <a:pt x="3638" y="12"/>
                  </a:lnTo>
                  <a:lnTo>
                    <a:pt x="3618" y="12"/>
                  </a:lnTo>
                  <a:lnTo>
                    <a:pt x="3617" y="12"/>
                  </a:lnTo>
                  <a:lnTo>
                    <a:pt x="3616" y="10"/>
                  </a:lnTo>
                  <a:lnTo>
                    <a:pt x="3615" y="8"/>
                  </a:lnTo>
                  <a:lnTo>
                    <a:pt x="3615" y="6"/>
                  </a:lnTo>
                  <a:lnTo>
                    <a:pt x="3615" y="4"/>
                  </a:lnTo>
                  <a:lnTo>
                    <a:pt x="3616" y="2"/>
                  </a:lnTo>
                  <a:lnTo>
                    <a:pt x="3617" y="0"/>
                  </a:lnTo>
                  <a:lnTo>
                    <a:pt x="3618" y="0"/>
                  </a:lnTo>
                  <a:lnTo>
                    <a:pt x="3618" y="0"/>
                  </a:lnTo>
                  <a:close/>
                  <a:moveTo>
                    <a:pt x="3663" y="0"/>
                  </a:moveTo>
                  <a:lnTo>
                    <a:pt x="3683" y="0"/>
                  </a:lnTo>
                  <a:lnTo>
                    <a:pt x="3684" y="0"/>
                  </a:lnTo>
                  <a:lnTo>
                    <a:pt x="3685" y="2"/>
                  </a:lnTo>
                  <a:lnTo>
                    <a:pt x="3686" y="4"/>
                  </a:lnTo>
                  <a:lnTo>
                    <a:pt x="3686" y="6"/>
                  </a:lnTo>
                  <a:lnTo>
                    <a:pt x="3686" y="8"/>
                  </a:lnTo>
                  <a:lnTo>
                    <a:pt x="3685" y="10"/>
                  </a:lnTo>
                  <a:lnTo>
                    <a:pt x="3684" y="12"/>
                  </a:lnTo>
                  <a:lnTo>
                    <a:pt x="3683" y="12"/>
                  </a:lnTo>
                  <a:lnTo>
                    <a:pt x="3663" y="12"/>
                  </a:lnTo>
                  <a:lnTo>
                    <a:pt x="3662" y="12"/>
                  </a:lnTo>
                  <a:lnTo>
                    <a:pt x="3661" y="10"/>
                  </a:lnTo>
                  <a:lnTo>
                    <a:pt x="3660" y="8"/>
                  </a:lnTo>
                  <a:lnTo>
                    <a:pt x="3660" y="6"/>
                  </a:lnTo>
                  <a:lnTo>
                    <a:pt x="3660" y="4"/>
                  </a:lnTo>
                  <a:lnTo>
                    <a:pt x="3661" y="2"/>
                  </a:lnTo>
                  <a:lnTo>
                    <a:pt x="3662" y="0"/>
                  </a:lnTo>
                  <a:lnTo>
                    <a:pt x="3663" y="0"/>
                  </a:lnTo>
                  <a:lnTo>
                    <a:pt x="3663" y="0"/>
                  </a:lnTo>
                  <a:close/>
                  <a:moveTo>
                    <a:pt x="3708" y="0"/>
                  </a:moveTo>
                  <a:lnTo>
                    <a:pt x="3728" y="0"/>
                  </a:lnTo>
                  <a:lnTo>
                    <a:pt x="3729" y="0"/>
                  </a:lnTo>
                  <a:lnTo>
                    <a:pt x="3730" y="2"/>
                  </a:lnTo>
                  <a:lnTo>
                    <a:pt x="3731" y="4"/>
                  </a:lnTo>
                  <a:lnTo>
                    <a:pt x="3731" y="6"/>
                  </a:lnTo>
                  <a:lnTo>
                    <a:pt x="3731" y="8"/>
                  </a:lnTo>
                  <a:lnTo>
                    <a:pt x="3730" y="10"/>
                  </a:lnTo>
                  <a:lnTo>
                    <a:pt x="3729" y="12"/>
                  </a:lnTo>
                  <a:lnTo>
                    <a:pt x="3728" y="12"/>
                  </a:lnTo>
                  <a:lnTo>
                    <a:pt x="3708" y="12"/>
                  </a:lnTo>
                  <a:lnTo>
                    <a:pt x="3707" y="12"/>
                  </a:lnTo>
                  <a:lnTo>
                    <a:pt x="3706" y="10"/>
                  </a:lnTo>
                  <a:lnTo>
                    <a:pt x="3705" y="8"/>
                  </a:lnTo>
                  <a:lnTo>
                    <a:pt x="3705" y="6"/>
                  </a:lnTo>
                  <a:lnTo>
                    <a:pt x="3705" y="4"/>
                  </a:lnTo>
                  <a:lnTo>
                    <a:pt x="3706" y="2"/>
                  </a:lnTo>
                  <a:lnTo>
                    <a:pt x="3707" y="0"/>
                  </a:lnTo>
                  <a:lnTo>
                    <a:pt x="3708" y="0"/>
                  </a:lnTo>
                  <a:lnTo>
                    <a:pt x="3708" y="0"/>
                  </a:lnTo>
                  <a:close/>
                  <a:moveTo>
                    <a:pt x="3753" y="0"/>
                  </a:moveTo>
                  <a:lnTo>
                    <a:pt x="3771" y="0"/>
                  </a:lnTo>
                  <a:lnTo>
                    <a:pt x="3772" y="0"/>
                  </a:lnTo>
                  <a:lnTo>
                    <a:pt x="3775" y="2"/>
                  </a:lnTo>
                  <a:lnTo>
                    <a:pt x="3776" y="4"/>
                  </a:lnTo>
                  <a:lnTo>
                    <a:pt x="3776" y="6"/>
                  </a:lnTo>
                  <a:lnTo>
                    <a:pt x="3776" y="8"/>
                  </a:lnTo>
                  <a:lnTo>
                    <a:pt x="3775" y="10"/>
                  </a:lnTo>
                  <a:lnTo>
                    <a:pt x="3772" y="12"/>
                  </a:lnTo>
                  <a:lnTo>
                    <a:pt x="3771" y="12"/>
                  </a:lnTo>
                  <a:lnTo>
                    <a:pt x="3753" y="12"/>
                  </a:lnTo>
                  <a:lnTo>
                    <a:pt x="3752" y="12"/>
                  </a:lnTo>
                  <a:lnTo>
                    <a:pt x="3751" y="10"/>
                  </a:lnTo>
                  <a:lnTo>
                    <a:pt x="3750" y="8"/>
                  </a:lnTo>
                  <a:lnTo>
                    <a:pt x="3750" y="6"/>
                  </a:lnTo>
                  <a:lnTo>
                    <a:pt x="3750" y="4"/>
                  </a:lnTo>
                  <a:lnTo>
                    <a:pt x="3751" y="2"/>
                  </a:lnTo>
                  <a:lnTo>
                    <a:pt x="3752" y="0"/>
                  </a:lnTo>
                  <a:lnTo>
                    <a:pt x="3753" y="0"/>
                  </a:lnTo>
                  <a:lnTo>
                    <a:pt x="3753" y="0"/>
                  </a:lnTo>
                  <a:close/>
                  <a:moveTo>
                    <a:pt x="3797" y="0"/>
                  </a:moveTo>
                  <a:lnTo>
                    <a:pt x="3816" y="0"/>
                  </a:lnTo>
                  <a:lnTo>
                    <a:pt x="3817" y="0"/>
                  </a:lnTo>
                  <a:lnTo>
                    <a:pt x="3818" y="2"/>
                  </a:lnTo>
                  <a:lnTo>
                    <a:pt x="3819" y="4"/>
                  </a:lnTo>
                  <a:lnTo>
                    <a:pt x="3819" y="6"/>
                  </a:lnTo>
                  <a:lnTo>
                    <a:pt x="3819" y="8"/>
                  </a:lnTo>
                  <a:lnTo>
                    <a:pt x="3818" y="10"/>
                  </a:lnTo>
                  <a:lnTo>
                    <a:pt x="3817" y="12"/>
                  </a:lnTo>
                  <a:lnTo>
                    <a:pt x="3816" y="12"/>
                  </a:lnTo>
                  <a:lnTo>
                    <a:pt x="3797" y="12"/>
                  </a:lnTo>
                  <a:lnTo>
                    <a:pt x="3796" y="12"/>
                  </a:lnTo>
                  <a:lnTo>
                    <a:pt x="3795" y="10"/>
                  </a:lnTo>
                  <a:lnTo>
                    <a:pt x="3794" y="8"/>
                  </a:lnTo>
                  <a:lnTo>
                    <a:pt x="3794" y="6"/>
                  </a:lnTo>
                  <a:lnTo>
                    <a:pt x="3794" y="4"/>
                  </a:lnTo>
                  <a:lnTo>
                    <a:pt x="3795" y="2"/>
                  </a:lnTo>
                  <a:lnTo>
                    <a:pt x="3796" y="0"/>
                  </a:lnTo>
                  <a:lnTo>
                    <a:pt x="3797" y="0"/>
                  </a:lnTo>
                  <a:lnTo>
                    <a:pt x="3797" y="0"/>
                  </a:lnTo>
                  <a:close/>
                  <a:moveTo>
                    <a:pt x="3842" y="0"/>
                  </a:moveTo>
                  <a:lnTo>
                    <a:pt x="3861" y="0"/>
                  </a:lnTo>
                  <a:lnTo>
                    <a:pt x="3862" y="0"/>
                  </a:lnTo>
                  <a:lnTo>
                    <a:pt x="3863" y="2"/>
                  </a:lnTo>
                  <a:lnTo>
                    <a:pt x="3864" y="4"/>
                  </a:lnTo>
                  <a:lnTo>
                    <a:pt x="3864" y="6"/>
                  </a:lnTo>
                  <a:lnTo>
                    <a:pt x="3864" y="8"/>
                  </a:lnTo>
                  <a:lnTo>
                    <a:pt x="3863" y="10"/>
                  </a:lnTo>
                  <a:lnTo>
                    <a:pt x="3862" y="12"/>
                  </a:lnTo>
                  <a:lnTo>
                    <a:pt x="3861" y="12"/>
                  </a:lnTo>
                  <a:lnTo>
                    <a:pt x="3842" y="12"/>
                  </a:lnTo>
                  <a:lnTo>
                    <a:pt x="3841" y="12"/>
                  </a:lnTo>
                  <a:lnTo>
                    <a:pt x="3840" y="10"/>
                  </a:lnTo>
                  <a:lnTo>
                    <a:pt x="3839" y="8"/>
                  </a:lnTo>
                  <a:lnTo>
                    <a:pt x="3839" y="6"/>
                  </a:lnTo>
                  <a:lnTo>
                    <a:pt x="3839" y="4"/>
                  </a:lnTo>
                  <a:lnTo>
                    <a:pt x="3840" y="2"/>
                  </a:lnTo>
                  <a:lnTo>
                    <a:pt x="3841" y="0"/>
                  </a:lnTo>
                  <a:lnTo>
                    <a:pt x="3842" y="0"/>
                  </a:lnTo>
                  <a:lnTo>
                    <a:pt x="3842" y="0"/>
                  </a:lnTo>
                  <a:close/>
                  <a:moveTo>
                    <a:pt x="3887" y="0"/>
                  </a:moveTo>
                  <a:lnTo>
                    <a:pt x="3906" y="0"/>
                  </a:lnTo>
                  <a:lnTo>
                    <a:pt x="3907" y="0"/>
                  </a:lnTo>
                  <a:lnTo>
                    <a:pt x="3908" y="2"/>
                  </a:lnTo>
                  <a:lnTo>
                    <a:pt x="3909" y="4"/>
                  </a:lnTo>
                  <a:lnTo>
                    <a:pt x="3909" y="6"/>
                  </a:lnTo>
                  <a:lnTo>
                    <a:pt x="3909" y="8"/>
                  </a:lnTo>
                  <a:lnTo>
                    <a:pt x="3908" y="10"/>
                  </a:lnTo>
                  <a:lnTo>
                    <a:pt x="3907" y="12"/>
                  </a:lnTo>
                  <a:lnTo>
                    <a:pt x="3906" y="12"/>
                  </a:lnTo>
                  <a:lnTo>
                    <a:pt x="3887" y="12"/>
                  </a:lnTo>
                  <a:lnTo>
                    <a:pt x="3886" y="12"/>
                  </a:lnTo>
                  <a:lnTo>
                    <a:pt x="3885" y="10"/>
                  </a:lnTo>
                  <a:lnTo>
                    <a:pt x="3884" y="8"/>
                  </a:lnTo>
                  <a:lnTo>
                    <a:pt x="3884" y="6"/>
                  </a:lnTo>
                  <a:lnTo>
                    <a:pt x="3884" y="4"/>
                  </a:lnTo>
                  <a:lnTo>
                    <a:pt x="3885" y="2"/>
                  </a:lnTo>
                  <a:lnTo>
                    <a:pt x="3886" y="0"/>
                  </a:lnTo>
                  <a:lnTo>
                    <a:pt x="3887" y="0"/>
                  </a:lnTo>
                  <a:lnTo>
                    <a:pt x="3887" y="0"/>
                  </a:lnTo>
                  <a:close/>
                  <a:moveTo>
                    <a:pt x="3932" y="0"/>
                  </a:moveTo>
                  <a:lnTo>
                    <a:pt x="3950" y="0"/>
                  </a:lnTo>
                  <a:lnTo>
                    <a:pt x="3951" y="0"/>
                  </a:lnTo>
                  <a:lnTo>
                    <a:pt x="3953" y="2"/>
                  </a:lnTo>
                  <a:lnTo>
                    <a:pt x="3954" y="4"/>
                  </a:lnTo>
                  <a:lnTo>
                    <a:pt x="3954" y="6"/>
                  </a:lnTo>
                  <a:lnTo>
                    <a:pt x="3954" y="8"/>
                  </a:lnTo>
                  <a:lnTo>
                    <a:pt x="3953" y="10"/>
                  </a:lnTo>
                  <a:lnTo>
                    <a:pt x="3951" y="12"/>
                  </a:lnTo>
                  <a:lnTo>
                    <a:pt x="3950" y="12"/>
                  </a:lnTo>
                  <a:lnTo>
                    <a:pt x="3932" y="12"/>
                  </a:lnTo>
                  <a:lnTo>
                    <a:pt x="3931" y="12"/>
                  </a:lnTo>
                  <a:lnTo>
                    <a:pt x="3930" y="10"/>
                  </a:lnTo>
                  <a:lnTo>
                    <a:pt x="3929" y="8"/>
                  </a:lnTo>
                  <a:lnTo>
                    <a:pt x="3929" y="6"/>
                  </a:lnTo>
                  <a:lnTo>
                    <a:pt x="3929" y="4"/>
                  </a:lnTo>
                  <a:lnTo>
                    <a:pt x="3930" y="2"/>
                  </a:lnTo>
                  <a:lnTo>
                    <a:pt x="3931" y="0"/>
                  </a:lnTo>
                  <a:lnTo>
                    <a:pt x="3932" y="0"/>
                  </a:lnTo>
                  <a:lnTo>
                    <a:pt x="3932" y="0"/>
                  </a:lnTo>
                  <a:close/>
                  <a:moveTo>
                    <a:pt x="3976" y="0"/>
                  </a:moveTo>
                  <a:lnTo>
                    <a:pt x="3995" y="0"/>
                  </a:lnTo>
                  <a:lnTo>
                    <a:pt x="3996" y="0"/>
                  </a:lnTo>
                  <a:lnTo>
                    <a:pt x="3997" y="2"/>
                  </a:lnTo>
                  <a:lnTo>
                    <a:pt x="3998" y="4"/>
                  </a:lnTo>
                  <a:lnTo>
                    <a:pt x="3998" y="6"/>
                  </a:lnTo>
                  <a:lnTo>
                    <a:pt x="3998" y="8"/>
                  </a:lnTo>
                  <a:lnTo>
                    <a:pt x="3997" y="10"/>
                  </a:lnTo>
                  <a:lnTo>
                    <a:pt x="3996" y="12"/>
                  </a:lnTo>
                  <a:lnTo>
                    <a:pt x="3995" y="12"/>
                  </a:lnTo>
                  <a:lnTo>
                    <a:pt x="3976" y="12"/>
                  </a:lnTo>
                  <a:lnTo>
                    <a:pt x="3975" y="12"/>
                  </a:lnTo>
                  <a:lnTo>
                    <a:pt x="3974" y="10"/>
                  </a:lnTo>
                  <a:lnTo>
                    <a:pt x="3973" y="8"/>
                  </a:lnTo>
                  <a:lnTo>
                    <a:pt x="3973" y="6"/>
                  </a:lnTo>
                  <a:lnTo>
                    <a:pt x="3973" y="4"/>
                  </a:lnTo>
                  <a:lnTo>
                    <a:pt x="3974" y="2"/>
                  </a:lnTo>
                  <a:lnTo>
                    <a:pt x="3975" y="0"/>
                  </a:lnTo>
                  <a:lnTo>
                    <a:pt x="3976" y="0"/>
                  </a:lnTo>
                  <a:lnTo>
                    <a:pt x="3976" y="0"/>
                  </a:lnTo>
                  <a:close/>
                  <a:moveTo>
                    <a:pt x="4020" y="0"/>
                  </a:moveTo>
                  <a:lnTo>
                    <a:pt x="4040" y="0"/>
                  </a:lnTo>
                  <a:lnTo>
                    <a:pt x="4041" y="0"/>
                  </a:lnTo>
                  <a:lnTo>
                    <a:pt x="4042" y="2"/>
                  </a:lnTo>
                  <a:lnTo>
                    <a:pt x="4043" y="4"/>
                  </a:lnTo>
                  <a:lnTo>
                    <a:pt x="4043" y="6"/>
                  </a:lnTo>
                  <a:lnTo>
                    <a:pt x="4043" y="8"/>
                  </a:lnTo>
                  <a:lnTo>
                    <a:pt x="4042" y="10"/>
                  </a:lnTo>
                  <a:lnTo>
                    <a:pt x="4041" y="12"/>
                  </a:lnTo>
                  <a:lnTo>
                    <a:pt x="4040" y="12"/>
                  </a:lnTo>
                  <a:lnTo>
                    <a:pt x="4020" y="12"/>
                  </a:lnTo>
                  <a:lnTo>
                    <a:pt x="4019" y="12"/>
                  </a:lnTo>
                  <a:lnTo>
                    <a:pt x="4018" y="10"/>
                  </a:lnTo>
                  <a:lnTo>
                    <a:pt x="4017" y="8"/>
                  </a:lnTo>
                  <a:lnTo>
                    <a:pt x="4017" y="6"/>
                  </a:lnTo>
                  <a:lnTo>
                    <a:pt x="4017" y="4"/>
                  </a:lnTo>
                  <a:lnTo>
                    <a:pt x="4018" y="2"/>
                  </a:lnTo>
                  <a:lnTo>
                    <a:pt x="4019" y="0"/>
                  </a:lnTo>
                  <a:lnTo>
                    <a:pt x="4020" y="0"/>
                  </a:lnTo>
                  <a:lnTo>
                    <a:pt x="4020" y="0"/>
                  </a:lnTo>
                  <a:close/>
                  <a:moveTo>
                    <a:pt x="4065" y="0"/>
                  </a:moveTo>
                  <a:lnTo>
                    <a:pt x="4085" y="0"/>
                  </a:lnTo>
                  <a:lnTo>
                    <a:pt x="4086" y="0"/>
                  </a:lnTo>
                  <a:lnTo>
                    <a:pt x="4087" y="2"/>
                  </a:lnTo>
                  <a:lnTo>
                    <a:pt x="4088" y="4"/>
                  </a:lnTo>
                  <a:lnTo>
                    <a:pt x="4088" y="6"/>
                  </a:lnTo>
                  <a:lnTo>
                    <a:pt x="4088" y="8"/>
                  </a:lnTo>
                  <a:lnTo>
                    <a:pt x="4087" y="10"/>
                  </a:lnTo>
                  <a:lnTo>
                    <a:pt x="4086" y="12"/>
                  </a:lnTo>
                  <a:lnTo>
                    <a:pt x="4085" y="12"/>
                  </a:lnTo>
                  <a:lnTo>
                    <a:pt x="4065" y="12"/>
                  </a:lnTo>
                  <a:lnTo>
                    <a:pt x="4064" y="12"/>
                  </a:lnTo>
                  <a:lnTo>
                    <a:pt x="4063" y="10"/>
                  </a:lnTo>
                  <a:lnTo>
                    <a:pt x="4062" y="8"/>
                  </a:lnTo>
                  <a:lnTo>
                    <a:pt x="4062" y="6"/>
                  </a:lnTo>
                  <a:lnTo>
                    <a:pt x="4062" y="4"/>
                  </a:lnTo>
                  <a:lnTo>
                    <a:pt x="4063" y="2"/>
                  </a:lnTo>
                  <a:lnTo>
                    <a:pt x="4064" y="0"/>
                  </a:lnTo>
                  <a:lnTo>
                    <a:pt x="4065" y="0"/>
                  </a:lnTo>
                  <a:lnTo>
                    <a:pt x="4065" y="0"/>
                  </a:lnTo>
                  <a:close/>
                  <a:moveTo>
                    <a:pt x="4110" y="0"/>
                  </a:moveTo>
                  <a:lnTo>
                    <a:pt x="4129" y="0"/>
                  </a:lnTo>
                  <a:lnTo>
                    <a:pt x="4130" y="0"/>
                  </a:lnTo>
                  <a:lnTo>
                    <a:pt x="4132" y="2"/>
                  </a:lnTo>
                  <a:lnTo>
                    <a:pt x="4133" y="4"/>
                  </a:lnTo>
                  <a:lnTo>
                    <a:pt x="4133" y="6"/>
                  </a:lnTo>
                  <a:lnTo>
                    <a:pt x="4133" y="8"/>
                  </a:lnTo>
                  <a:lnTo>
                    <a:pt x="4132" y="10"/>
                  </a:lnTo>
                  <a:lnTo>
                    <a:pt x="4130" y="12"/>
                  </a:lnTo>
                  <a:lnTo>
                    <a:pt x="4129" y="12"/>
                  </a:lnTo>
                  <a:lnTo>
                    <a:pt x="4110" y="12"/>
                  </a:lnTo>
                  <a:lnTo>
                    <a:pt x="4109" y="12"/>
                  </a:lnTo>
                  <a:lnTo>
                    <a:pt x="4108" y="10"/>
                  </a:lnTo>
                  <a:lnTo>
                    <a:pt x="4107" y="8"/>
                  </a:lnTo>
                  <a:lnTo>
                    <a:pt x="4107" y="6"/>
                  </a:lnTo>
                  <a:lnTo>
                    <a:pt x="4107" y="4"/>
                  </a:lnTo>
                  <a:lnTo>
                    <a:pt x="4108" y="2"/>
                  </a:lnTo>
                  <a:lnTo>
                    <a:pt x="4109" y="0"/>
                  </a:lnTo>
                  <a:lnTo>
                    <a:pt x="4110" y="0"/>
                  </a:lnTo>
                  <a:lnTo>
                    <a:pt x="4110" y="0"/>
                  </a:lnTo>
                  <a:close/>
                  <a:moveTo>
                    <a:pt x="4154" y="0"/>
                  </a:moveTo>
                  <a:lnTo>
                    <a:pt x="4174" y="0"/>
                  </a:lnTo>
                  <a:lnTo>
                    <a:pt x="4175" y="0"/>
                  </a:lnTo>
                  <a:lnTo>
                    <a:pt x="4176" y="2"/>
                  </a:lnTo>
                  <a:lnTo>
                    <a:pt x="4177" y="4"/>
                  </a:lnTo>
                  <a:lnTo>
                    <a:pt x="4177" y="6"/>
                  </a:lnTo>
                  <a:lnTo>
                    <a:pt x="4177" y="8"/>
                  </a:lnTo>
                  <a:lnTo>
                    <a:pt x="4176" y="10"/>
                  </a:lnTo>
                  <a:lnTo>
                    <a:pt x="4175" y="12"/>
                  </a:lnTo>
                  <a:lnTo>
                    <a:pt x="4174" y="12"/>
                  </a:lnTo>
                  <a:lnTo>
                    <a:pt x="4154" y="12"/>
                  </a:lnTo>
                  <a:lnTo>
                    <a:pt x="4153" y="12"/>
                  </a:lnTo>
                  <a:lnTo>
                    <a:pt x="4152" y="10"/>
                  </a:lnTo>
                  <a:lnTo>
                    <a:pt x="4151" y="8"/>
                  </a:lnTo>
                  <a:lnTo>
                    <a:pt x="4151" y="6"/>
                  </a:lnTo>
                  <a:lnTo>
                    <a:pt x="4151" y="4"/>
                  </a:lnTo>
                  <a:lnTo>
                    <a:pt x="4152" y="2"/>
                  </a:lnTo>
                  <a:lnTo>
                    <a:pt x="4153" y="0"/>
                  </a:lnTo>
                  <a:lnTo>
                    <a:pt x="4154" y="0"/>
                  </a:lnTo>
                  <a:lnTo>
                    <a:pt x="4154" y="0"/>
                  </a:lnTo>
                  <a:close/>
                  <a:moveTo>
                    <a:pt x="4199" y="0"/>
                  </a:moveTo>
                  <a:lnTo>
                    <a:pt x="4218" y="0"/>
                  </a:lnTo>
                  <a:lnTo>
                    <a:pt x="4219" y="0"/>
                  </a:lnTo>
                  <a:lnTo>
                    <a:pt x="4220" y="2"/>
                  </a:lnTo>
                  <a:lnTo>
                    <a:pt x="4222" y="4"/>
                  </a:lnTo>
                  <a:lnTo>
                    <a:pt x="4222" y="6"/>
                  </a:lnTo>
                  <a:lnTo>
                    <a:pt x="4222" y="8"/>
                  </a:lnTo>
                  <a:lnTo>
                    <a:pt x="4220" y="10"/>
                  </a:lnTo>
                  <a:lnTo>
                    <a:pt x="4219" y="12"/>
                  </a:lnTo>
                  <a:lnTo>
                    <a:pt x="4218" y="12"/>
                  </a:lnTo>
                  <a:lnTo>
                    <a:pt x="4199" y="12"/>
                  </a:lnTo>
                  <a:lnTo>
                    <a:pt x="4198" y="12"/>
                  </a:lnTo>
                  <a:lnTo>
                    <a:pt x="4197" y="10"/>
                  </a:lnTo>
                  <a:lnTo>
                    <a:pt x="4196" y="8"/>
                  </a:lnTo>
                  <a:lnTo>
                    <a:pt x="4196" y="6"/>
                  </a:lnTo>
                  <a:lnTo>
                    <a:pt x="4196" y="4"/>
                  </a:lnTo>
                  <a:lnTo>
                    <a:pt x="4197" y="2"/>
                  </a:lnTo>
                  <a:lnTo>
                    <a:pt x="4198" y="0"/>
                  </a:lnTo>
                  <a:lnTo>
                    <a:pt x="4199" y="0"/>
                  </a:lnTo>
                  <a:lnTo>
                    <a:pt x="4199" y="0"/>
                  </a:lnTo>
                  <a:close/>
                  <a:moveTo>
                    <a:pt x="4244" y="0"/>
                  </a:moveTo>
                  <a:lnTo>
                    <a:pt x="4263" y="0"/>
                  </a:lnTo>
                  <a:lnTo>
                    <a:pt x="4264" y="0"/>
                  </a:lnTo>
                  <a:lnTo>
                    <a:pt x="4265" y="2"/>
                  </a:lnTo>
                  <a:lnTo>
                    <a:pt x="4266" y="4"/>
                  </a:lnTo>
                  <a:lnTo>
                    <a:pt x="4266" y="6"/>
                  </a:lnTo>
                  <a:lnTo>
                    <a:pt x="4266" y="8"/>
                  </a:lnTo>
                  <a:lnTo>
                    <a:pt x="4265" y="10"/>
                  </a:lnTo>
                  <a:lnTo>
                    <a:pt x="4264" y="12"/>
                  </a:lnTo>
                  <a:lnTo>
                    <a:pt x="4263" y="12"/>
                  </a:lnTo>
                  <a:lnTo>
                    <a:pt x="4244" y="12"/>
                  </a:lnTo>
                  <a:lnTo>
                    <a:pt x="4243" y="12"/>
                  </a:lnTo>
                  <a:lnTo>
                    <a:pt x="4242" y="10"/>
                  </a:lnTo>
                  <a:lnTo>
                    <a:pt x="4241" y="8"/>
                  </a:lnTo>
                  <a:lnTo>
                    <a:pt x="4241" y="6"/>
                  </a:lnTo>
                  <a:lnTo>
                    <a:pt x="4241" y="4"/>
                  </a:lnTo>
                  <a:lnTo>
                    <a:pt x="4242" y="2"/>
                  </a:lnTo>
                  <a:lnTo>
                    <a:pt x="4243" y="0"/>
                  </a:lnTo>
                  <a:lnTo>
                    <a:pt x="4244" y="0"/>
                  </a:lnTo>
                  <a:lnTo>
                    <a:pt x="4244" y="0"/>
                  </a:lnTo>
                  <a:close/>
                  <a:moveTo>
                    <a:pt x="4289" y="0"/>
                  </a:moveTo>
                  <a:lnTo>
                    <a:pt x="4307" y="0"/>
                  </a:lnTo>
                  <a:lnTo>
                    <a:pt x="4308" y="0"/>
                  </a:lnTo>
                  <a:lnTo>
                    <a:pt x="4310" y="2"/>
                  </a:lnTo>
                  <a:lnTo>
                    <a:pt x="4311" y="4"/>
                  </a:lnTo>
                  <a:lnTo>
                    <a:pt x="4311" y="6"/>
                  </a:lnTo>
                  <a:lnTo>
                    <a:pt x="4311" y="8"/>
                  </a:lnTo>
                  <a:lnTo>
                    <a:pt x="4310" y="10"/>
                  </a:lnTo>
                  <a:lnTo>
                    <a:pt x="4308" y="12"/>
                  </a:lnTo>
                  <a:lnTo>
                    <a:pt x="4307" y="12"/>
                  </a:lnTo>
                  <a:lnTo>
                    <a:pt x="4289" y="12"/>
                  </a:lnTo>
                  <a:lnTo>
                    <a:pt x="4288" y="12"/>
                  </a:lnTo>
                  <a:lnTo>
                    <a:pt x="4287" y="10"/>
                  </a:lnTo>
                  <a:lnTo>
                    <a:pt x="4286" y="8"/>
                  </a:lnTo>
                  <a:lnTo>
                    <a:pt x="4286" y="6"/>
                  </a:lnTo>
                  <a:lnTo>
                    <a:pt x="4286" y="4"/>
                  </a:lnTo>
                  <a:lnTo>
                    <a:pt x="4287" y="2"/>
                  </a:lnTo>
                  <a:lnTo>
                    <a:pt x="4288" y="0"/>
                  </a:lnTo>
                  <a:lnTo>
                    <a:pt x="4289" y="0"/>
                  </a:lnTo>
                  <a:lnTo>
                    <a:pt x="4289" y="0"/>
                  </a:lnTo>
                  <a:close/>
                  <a:moveTo>
                    <a:pt x="4333" y="0"/>
                  </a:moveTo>
                  <a:lnTo>
                    <a:pt x="4352" y="0"/>
                  </a:lnTo>
                  <a:lnTo>
                    <a:pt x="4353" y="0"/>
                  </a:lnTo>
                  <a:lnTo>
                    <a:pt x="4354" y="2"/>
                  </a:lnTo>
                  <a:lnTo>
                    <a:pt x="4355" y="4"/>
                  </a:lnTo>
                  <a:lnTo>
                    <a:pt x="4355" y="6"/>
                  </a:lnTo>
                  <a:lnTo>
                    <a:pt x="4355" y="8"/>
                  </a:lnTo>
                  <a:lnTo>
                    <a:pt x="4354" y="10"/>
                  </a:lnTo>
                  <a:lnTo>
                    <a:pt x="4353" y="12"/>
                  </a:lnTo>
                  <a:lnTo>
                    <a:pt x="4352" y="12"/>
                  </a:lnTo>
                  <a:lnTo>
                    <a:pt x="4333" y="12"/>
                  </a:lnTo>
                  <a:lnTo>
                    <a:pt x="4332" y="12"/>
                  </a:lnTo>
                  <a:lnTo>
                    <a:pt x="4331" y="10"/>
                  </a:lnTo>
                  <a:lnTo>
                    <a:pt x="4330" y="8"/>
                  </a:lnTo>
                  <a:lnTo>
                    <a:pt x="4330" y="6"/>
                  </a:lnTo>
                  <a:lnTo>
                    <a:pt x="4330" y="4"/>
                  </a:lnTo>
                  <a:lnTo>
                    <a:pt x="4331" y="2"/>
                  </a:lnTo>
                  <a:lnTo>
                    <a:pt x="4332" y="0"/>
                  </a:lnTo>
                  <a:lnTo>
                    <a:pt x="4333" y="0"/>
                  </a:lnTo>
                  <a:lnTo>
                    <a:pt x="4333" y="0"/>
                  </a:lnTo>
                  <a:close/>
                  <a:moveTo>
                    <a:pt x="4378" y="0"/>
                  </a:moveTo>
                  <a:lnTo>
                    <a:pt x="4397" y="0"/>
                  </a:lnTo>
                  <a:lnTo>
                    <a:pt x="4398" y="0"/>
                  </a:lnTo>
                  <a:lnTo>
                    <a:pt x="4399" y="2"/>
                  </a:lnTo>
                  <a:lnTo>
                    <a:pt x="4400" y="4"/>
                  </a:lnTo>
                  <a:lnTo>
                    <a:pt x="4400" y="6"/>
                  </a:lnTo>
                  <a:lnTo>
                    <a:pt x="4400" y="8"/>
                  </a:lnTo>
                  <a:lnTo>
                    <a:pt x="4399" y="10"/>
                  </a:lnTo>
                  <a:lnTo>
                    <a:pt x="4398" y="12"/>
                  </a:lnTo>
                  <a:lnTo>
                    <a:pt x="4397" y="12"/>
                  </a:lnTo>
                  <a:lnTo>
                    <a:pt x="4378" y="12"/>
                  </a:lnTo>
                  <a:lnTo>
                    <a:pt x="4377" y="12"/>
                  </a:lnTo>
                  <a:lnTo>
                    <a:pt x="4376" y="10"/>
                  </a:lnTo>
                  <a:lnTo>
                    <a:pt x="4375" y="8"/>
                  </a:lnTo>
                  <a:lnTo>
                    <a:pt x="4375" y="6"/>
                  </a:lnTo>
                  <a:lnTo>
                    <a:pt x="4375" y="4"/>
                  </a:lnTo>
                  <a:lnTo>
                    <a:pt x="4376" y="2"/>
                  </a:lnTo>
                  <a:lnTo>
                    <a:pt x="4377" y="0"/>
                  </a:lnTo>
                  <a:lnTo>
                    <a:pt x="4378" y="0"/>
                  </a:lnTo>
                  <a:lnTo>
                    <a:pt x="4378" y="0"/>
                  </a:lnTo>
                  <a:close/>
                  <a:moveTo>
                    <a:pt x="4423" y="0"/>
                  </a:moveTo>
                  <a:lnTo>
                    <a:pt x="4442" y="0"/>
                  </a:lnTo>
                  <a:lnTo>
                    <a:pt x="4443" y="0"/>
                  </a:lnTo>
                  <a:lnTo>
                    <a:pt x="4444" y="2"/>
                  </a:lnTo>
                  <a:lnTo>
                    <a:pt x="4445" y="4"/>
                  </a:lnTo>
                  <a:lnTo>
                    <a:pt x="4445" y="6"/>
                  </a:lnTo>
                  <a:lnTo>
                    <a:pt x="4445" y="8"/>
                  </a:lnTo>
                  <a:lnTo>
                    <a:pt x="4444" y="10"/>
                  </a:lnTo>
                  <a:lnTo>
                    <a:pt x="4443" y="12"/>
                  </a:lnTo>
                  <a:lnTo>
                    <a:pt x="4442" y="12"/>
                  </a:lnTo>
                  <a:lnTo>
                    <a:pt x="4423" y="12"/>
                  </a:lnTo>
                  <a:lnTo>
                    <a:pt x="4422" y="12"/>
                  </a:lnTo>
                  <a:lnTo>
                    <a:pt x="4421" y="10"/>
                  </a:lnTo>
                  <a:lnTo>
                    <a:pt x="4419" y="8"/>
                  </a:lnTo>
                  <a:lnTo>
                    <a:pt x="4419" y="6"/>
                  </a:lnTo>
                  <a:lnTo>
                    <a:pt x="4419" y="4"/>
                  </a:lnTo>
                  <a:lnTo>
                    <a:pt x="4421" y="2"/>
                  </a:lnTo>
                  <a:lnTo>
                    <a:pt x="4422" y="0"/>
                  </a:lnTo>
                  <a:lnTo>
                    <a:pt x="4423" y="0"/>
                  </a:lnTo>
                  <a:lnTo>
                    <a:pt x="4423" y="0"/>
                  </a:lnTo>
                  <a:close/>
                  <a:moveTo>
                    <a:pt x="4467" y="0"/>
                  </a:moveTo>
                  <a:lnTo>
                    <a:pt x="4486" y="0"/>
                  </a:lnTo>
                  <a:lnTo>
                    <a:pt x="4487" y="0"/>
                  </a:lnTo>
                  <a:lnTo>
                    <a:pt x="4489" y="2"/>
                  </a:lnTo>
                  <a:lnTo>
                    <a:pt x="4490" y="4"/>
                  </a:lnTo>
                  <a:lnTo>
                    <a:pt x="4490" y="6"/>
                  </a:lnTo>
                  <a:lnTo>
                    <a:pt x="4490" y="8"/>
                  </a:lnTo>
                  <a:lnTo>
                    <a:pt x="4489" y="10"/>
                  </a:lnTo>
                  <a:lnTo>
                    <a:pt x="4487" y="12"/>
                  </a:lnTo>
                  <a:lnTo>
                    <a:pt x="4486" y="12"/>
                  </a:lnTo>
                  <a:lnTo>
                    <a:pt x="4467" y="12"/>
                  </a:lnTo>
                  <a:lnTo>
                    <a:pt x="4466" y="12"/>
                  </a:lnTo>
                  <a:lnTo>
                    <a:pt x="4465" y="10"/>
                  </a:lnTo>
                  <a:lnTo>
                    <a:pt x="4464" y="8"/>
                  </a:lnTo>
                  <a:lnTo>
                    <a:pt x="4464" y="6"/>
                  </a:lnTo>
                  <a:lnTo>
                    <a:pt x="4464" y="4"/>
                  </a:lnTo>
                  <a:lnTo>
                    <a:pt x="4465" y="2"/>
                  </a:lnTo>
                  <a:lnTo>
                    <a:pt x="4466" y="0"/>
                  </a:lnTo>
                  <a:lnTo>
                    <a:pt x="4467" y="0"/>
                  </a:lnTo>
                  <a:lnTo>
                    <a:pt x="4467" y="0"/>
                  </a:lnTo>
                  <a:close/>
                  <a:moveTo>
                    <a:pt x="4511" y="0"/>
                  </a:moveTo>
                  <a:lnTo>
                    <a:pt x="4531" y="0"/>
                  </a:lnTo>
                  <a:lnTo>
                    <a:pt x="4532" y="0"/>
                  </a:lnTo>
                  <a:lnTo>
                    <a:pt x="4533" y="2"/>
                  </a:lnTo>
                  <a:lnTo>
                    <a:pt x="4534" y="4"/>
                  </a:lnTo>
                  <a:lnTo>
                    <a:pt x="4534" y="6"/>
                  </a:lnTo>
                  <a:lnTo>
                    <a:pt x="4534" y="8"/>
                  </a:lnTo>
                  <a:lnTo>
                    <a:pt x="4533" y="10"/>
                  </a:lnTo>
                  <a:lnTo>
                    <a:pt x="4532" y="12"/>
                  </a:lnTo>
                  <a:lnTo>
                    <a:pt x="4531" y="12"/>
                  </a:lnTo>
                  <a:lnTo>
                    <a:pt x="4511" y="12"/>
                  </a:lnTo>
                  <a:lnTo>
                    <a:pt x="4510" y="12"/>
                  </a:lnTo>
                  <a:lnTo>
                    <a:pt x="4509" y="10"/>
                  </a:lnTo>
                  <a:lnTo>
                    <a:pt x="4508" y="8"/>
                  </a:lnTo>
                  <a:lnTo>
                    <a:pt x="4508" y="6"/>
                  </a:lnTo>
                  <a:lnTo>
                    <a:pt x="4508" y="4"/>
                  </a:lnTo>
                  <a:lnTo>
                    <a:pt x="4509" y="2"/>
                  </a:lnTo>
                  <a:lnTo>
                    <a:pt x="4510" y="0"/>
                  </a:lnTo>
                  <a:lnTo>
                    <a:pt x="4511" y="0"/>
                  </a:lnTo>
                  <a:lnTo>
                    <a:pt x="4511" y="0"/>
                  </a:lnTo>
                  <a:close/>
                  <a:moveTo>
                    <a:pt x="4556" y="0"/>
                  </a:moveTo>
                  <a:lnTo>
                    <a:pt x="4576" y="0"/>
                  </a:lnTo>
                  <a:lnTo>
                    <a:pt x="4577" y="0"/>
                  </a:lnTo>
                  <a:lnTo>
                    <a:pt x="4578" y="2"/>
                  </a:lnTo>
                  <a:lnTo>
                    <a:pt x="4579" y="4"/>
                  </a:lnTo>
                  <a:lnTo>
                    <a:pt x="4579" y="6"/>
                  </a:lnTo>
                  <a:lnTo>
                    <a:pt x="4579" y="8"/>
                  </a:lnTo>
                  <a:lnTo>
                    <a:pt x="4578" y="10"/>
                  </a:lnTo>
                  <a:lnTo>
                    <a:pt x="4577" y="12"/>
                  </a:lnTo>
                  <a:lnTo>
                    <a:pt x="4576" y="12"/>
                  </a:lnTo>
                  <a:lnTo>
                    <a:pt x="4556" y="12"/>
                  </a:lnTo>
                  <a:lnTo>
                    <a:pt x="4555" y="12"/>
                  </a:lnTo>
                  <a:lnTo>
                    <a:pt x="4554" y="10"/>
                  </a:lnTo>
                  <a:lnTo>
                    <a:pt x="4553" y="8"/>
                  </a:lnTo>
                  <a:lnTo>
                    <a:pt x="4553" y="6"/>
                  </a:lnTo>
                  <a:lnTo>
                    <a:pt x="4553" y="4"/>
                  </a:lnTo>
                  <a:lnTo>
                    <a:pt x="4554" y="2"/>
                  </a:lnTo>
                  <a:lnTo>
                    <a:pt x="4555" y="0"/>
                  </a:lnTo>
                  <a:lnTo>
                    <a:pt x="4556" y="0"/>
                  </a:lnTo>
                  <a:lnTo>
                    <a:pt x="4556" y="0"/>
                  </a:lnTo>
                  <a:close/>
                  <a:moveTo>
                    <a:pt x="4601" y="0"/>
                  </a:moveTo>
                  <a:lnTo>
                    <a:pt x="4621" y="0"/>
                  </a:lnTo>
                  <a:lnTo>
                    <a:pt x="4622" y="0"/>
                  </a:lnTo>
                  <a:lnTo>
                    <a:pt x="4623" y="2"/>
                  </a:lnTo>
                  <a:lnTo>
                    <a:pt x="4624" y="4"/>
                  </a:lnTo>
                  <a:lnTo>
                    <a:pt x="4624" y="6"/>
                  </a:lnTo>
                  <a:lnTo>
                    <a:pt x="4624" y="8"/>
                  </a:lnTo>
                  <a:lnTo>
                    <a:pt x="4623" y="10"/>
                  </a:lnTo>
                  <a:lnTo>
                    <a:pt x="4622" y="12"/>
                  </a:lnTo>
                  <a:lnTo>
                    <a:pt x="4621" y="12"/>
                  </a:lnTo>
                  <a:lnTo>
                    <a:pt x="4601" y="12"/>
                  </a:lnTo>
                  <a:lnTo>
                    <a:pt x="4600" y="12"/>
                  </a:lnTo>
                  <a:lnTo>
                    <a:pt x="4599" y="10"/>
                  </a:lnTo>
                  <a:lnTo>
                    <a:pt x="4598" y="8"/>
                  </a:lnTo>
                  <a:lnTo>
                    <a:pt x="4598" y="6"/>
                  </a:lnTo>
                  <a:lnTo>
                    <a:pt x="4598" y="4"/>
                  </a:lnTo>
                  <a:lnTo>
                    <a:pt x="4599" y="2"/>
                  </a:lnTo>
                  <a:lnTo>
                    <a:pt x="4600" y="0"/>
                  </a:lnTo>
                  <a:lnTo>
                    <a:pt x="4601" y="0"/>
                  </a:lnTo>
                  <a:lnTo>
                    <a:pt x="4601" y="0"/>
                  </a:lnTo>
                  <a:close/>
                  <a:moveTo>
                    <a:pt x="4646" y="0"/>
                  </a:moveTo>
                  <a:lnTo>
                    <a:pt x="4664" y="0"/>
                  </a:lnTo>
                  <a:lnTo>
                    <a:pt x="4665" y="0"/>
                  </a:lnTo>
                  <a:lnTo>
                    <a:pt x="4667" y="2"/>
                  </a:lnTo>
                  <a:lnTo>
                    <a:pt x="4669" y="4"/>
                  </a:lnTo>
                  <a:lnTo>
                    <a:pt x="4669" y="6"/>
                  </a:lnTo>
                  <a:lnTo>
                    <a:pt x="4669" y="8"/>
                  </a:lnTo>
                  <a:lnTo>
                    <a:pt x="4667" y="10"/>
                  </a:lnTo>
                  <a:lnTo>
                    <a:pt x="4665" y="12"/>
                  </a:lnTo>
                  <a:lnTo>
                    <a:pt x="4664" y="12"/>
                  </a:lnTo>
                  <a:lnTo>
                    <a:pt x="4646" y="12"/>
                  </a:lnTo>
                  <a:lnTo>
                    <a:pt x="4645" y="12"/>
                  </a:lnTo>
                  <a:lnTo>
                    <a:pt x="4644" y="10"/>
                  </a:lnTo>
                  <a:lnTo>
                    <a:pt x="4643" y="8"/>
                  </a:lnTo>
                  <a:lnTo>
                    <a:pt x="4643" y="6"/>
                  </a:lnTo>
                  <a:lnTo>
                    <a:pt x="4643" y="4"/>
                  </a:lnTo>
                  <a:lnTo>
                    <a:pt x="4644" y="2"/>
                  </a:lnTo>
                  <a:lnTo>
                    <a:pt x="4645" y="0"/>
                  </a:lnTo>
                  <a:lnTo>
                    <a:pt x="4646" y="0"/>
                  </a:lnTo>
                  <a:lnTo>
                    <a:pt x="4646" y="0"/>
                  </a:lnTo>
                  <a:close/>
                  <a:moveTo>
                    <a:pt x="4690" y="0"/>
                  </a:moveTo>
                  <a:lnTo>
                    <a:pt x="4709" y="0"/>
                  </a:lnTo>
                  <a:lnTo>
                    <a:pt x="4710" y="0"/>
                  </a:lnTo>
                  <a:lnTo>
                    <a:pt x="4711" y="2"/>
                  </a:lnTo>
                  <a:lnTo>
                    <a:pt x="4712" y="4"/>
                  </a:lnTo>
                  <a:lnTo>
                    <a:pt x="4712" y="6"/>
                  </a:lnTo>
                  <a:lnTo>
                    <a:pt x="4712" y="8"/>
                  </a:lnTo>
                  <a:lnTo>
                    <a:pt x="4711" y="10"/>
                  </a:lnTo>
                  <a:lnTo>
                    <a:pt x="4710" y="12"/>
                  </a:lnTo>
                  <a:lnTo>
                    <a:pt x="4709" y="12"/>
                  </a:lnTo>
                  <a:lnTo>
                    <a:pt x="4690" y="12"/>
                  </a:lnTo>
                  <a:lnTo>
                    <a:pt x="4689" y="12"/>
                  </a:lnTo>
                  <a:lnTo>
                    <a:pt x="4688" y="10"/>
                  </a:lnTo>
                  <a:lnTo>
                    <a:pt x="4687" y="8"/>
                  </a:lnTo>
                  <a:lnTo>
                    <a:pt x="4687" y="6"/>
                  </a:lnTo>
                  <a:lnTo>
                    <a:pt x="4687" y="4"/>
                  </a:lnTo>
                  <a:lnTo>
                    <a:pt x="4688" y="2"/>
                  </a:lnTo>
                  <a:lnTo>
                    <a:pt x="4689" y="0"/>
                  </a:lnTo>
                  <a:lnTo>
                    <a:pt x="4690" y="0"/>
                  </a:lnTo>
                  <a:lnTo>
                    <a:pt x="4690" y="0"/>
                  </a:lnTo>
                  <a:close/>
                  <a:moveTo>
                    <a:pt x="4735" y="0"/>
                  </a:moveTo>
                  <a:lnTo>
                    <a:pt x="4754" y="0"/>
                  </a:lnTo>
                  <a:lnTo>
                    <a:pt x="4755" y="0"/>
                  </a:lnTo>
                  <a:lnTo>
                    <a:pt x="4756" y="2"/>
                  </a:lnTo>
                  <a:lnTo>
                    <a:pt x="4757" y="4"/>
                  </a:lnTo>
                  <a:lnTo>
                    <a:pt x="4757" y="6"/>
                  </a:lnTo>
                  <a:lnTo>
                    <a:pt x="4757" y="8"/>
                  </a:lnTo>
                  <a:lnTo>
                    <a:pt x="4756" y="10"/>
                  </a:lnTo>
                  <a:lnTo>
                    <a:pt x="4755" y="12"/>
                  </a:lnTo>
                  <a:lnTo>
                    <a:pt x="4754" y="12"/>
                  </a:lnTo>
                  <a:lnTo>
                    <a:pt x="4735" y="12"/>
                  </a:lnTo>
                  <a:lnTo>
                    <a:pt x="4734" y="12"/>
                  </a:lnTo>
                  <a:lnTo>
                    <a:pt x="4733" y="10"/>
                  </a:lnTo>
                  <a:lnTo>
                    <a:pt x="4732" y="8"/>
                  </a:lnTo>
                  <a:lnTo>
                    <a:pt x="4732" y="6"/>
                  </a:lnTo>
                  <a:lnTo>
                    <a:pt x="4732" y="4"/>
                  </a:lnTo>
                  <a:lnTo>
                    <a:pt x="4733" y="2"/>
                  </a:lnTo>
                  <a:lnTo>
                    <a:pt x="4734" y="0"/>
                  </a:lnTo>
                  <a:lnTo>
                    <a:pt x="4735" y="0"/>
                  </a:lnTo>
                  <a:lnTo>
                    <a:pt x="4735" y="0"/>
                  </a:lnTo>
                  <a:close/>
                  <a:moveTo>
                    <a:pt x="4780" y="0"/>
                  </a:moveTo>
                  <a:lnTo>
                    <a:pt x="4799" y="0"/>
                  </a:lnTo>
                  <a:lnTo>
                    <a:pt x="4800" y="0"/>
                  </a:lnTo>
                  <a:lnTo>
                    <a:pt x="4801" y="2"/>
                  </a:lnTo>
                  <a:lnTo>
                    <a:pt x="4802" y="4"/>
                  </a:lnTo>
                  <a:lnTo>
                    <a:pt x="4802" y="6"/>
                  </a:lnTo>
                  <a:lnTo>
                    <a:pt x="4802" y="8"/>
                  </a:lnTo>
                  <a:lnTo>
                    <a:pt x="4801" y="10"/>
                  </a:lnTo>
                  <a:lnTo>
                    <a:pt x="4800" y="12"/>
                  </a:lnTo>
                  <a:lnTo>
                    <a:pt x="4799" y="12"/>
                  </a:lnTo>
                  <a:lnTo>
                    <a:pt x="4780" y="12"/>
                  </a:lnTo>
                  <a:lnTo>
                    <a:pt x="4779" y="12"/>
                  </a:lnTo>
                  <a:lnTo>
                    <a:pt x="4778" y="10"/>
                  </a:lnTo>
                  <a:lnTo>
                    <a:pt x="4777" y="8"/>
                  </a:lnTo>
                  <a:lnTo>
                    <a:pt x="4777" y="6"/>
                  </a:lnTo>
                  <a:lnTo>
                    <a:pt x="4777" y="4"/>
                  </a:lnTo>
                  <a:lnTo>
                    <a:pt x="4778" y="2"/>
                  </a:lnTo>
                  <a:lnTo>
                    <a:pt x="4779" y="0"/>
                  </a:lnTo>
                  <a:lnTo>
                    <a:pt x="4780" y="0"/>
                  </a:lnTo>
                  <a:lnTo>
                    <a:pt x="4780" y="0"/>
                  </a:lnTo>
                  <a:close/>
                  <a:moveTo>
                    <a:pt x="4825" y="0"/>
                  </a:moveTo>
                  <a:lnTo>
                    <a:pt x="4843" y="0"/>
                  </a:lnTo>
                  <a:lnTo>
                    <a:pt x="4844" y="0"/>
                  </a:lnTo>
                  <a:lnTo>
                    <a:pt x="4846" y="2"/>
                  </a:lnTo>
                  <a:lnTo>
                    <a:pt x="4847" y="4"/>
                  </a:lnTo>
                  <a:lnTo>
                    <a:pt x="4847" y="6"/>
                  </a:lnTo>
                  <a:lnTo>
                    <a:pt x="4847" y="8"/>
                  </a:lnTo>
                  <a:lnTo>
                    <a:pt x="4846" y="10"/>
                  </a:lnTo>
                  <a:lnTo>
                    <a:pt x="4844" y="12"/>
                  </a:lnTo>
                  <a:lnTo>
                    <a:pt x="4843" y="12"/>
                  </a:lnTo>
                  <a:lnTo>
                    <a:pt x="4825" y="12"/>
                  </a:lnTo>
                  <a:lnTo>
                    <a:pt x="4824" y="12"/>
                  </a:lnTo>
                  <a:lnTo>
                    <a:pt x="4823" y="10"/>
                  </a:lnTo>
                  <a:lnTo>
                    <a:pt x="4822" y="8"/>
                  </a:lnTo>
                  <a:lnTo>
                    <a:pt x="4822" y="6"/>
                  </a:lnTo>
                  <a:lnTo>
                    <a:pt x="4822" y="4"/>
                  </a:lnTo>
                  <a:lnTo>
                    <a:pt x="4823" y="2"/>
                  </a:lnTo>
                  <a:lnTo>
                    <a:pt x="4824" y="0"/>
                  </a:lnTo>
                  <a:lnTo>
                    <a:pt x="4825" y="0"/>
                  </a:lnTo>
                  <a:lnTo>
                    <a:pt x="4825" y="0"/>
                  </a:lnTo>
                  <a:close/>
                  <a:moveTo>
                    <a:pt x="4869" y="0"/>
                  </a:moveTo>
                  <a:lnTo>
                    <a:pt x="4888" y="0"/>
                  </a:lnTo>
                  <a:lnTo>
                    <a:pt x="4889" y="0"/>
                  </a:lnTo>
                  <a:lnTo>
                    <a:pt x="4890" y="2"/>
                  </a:lnTo>
                  <a:lnTo>
                    <a:pt x="4891" y="4"/>
                  </a:lnTo>
                  <a:lnTo>
                    <a:pt x="4891" y="6"/>
                  </a:lnTo>
                  <a:lnTo>
                    <a:pt x="4891" y="8"/>
                  </a:lnTo>
                  <a:lnTo>
                    <a:pt x="4890" y="10"/>
                  </a:lnTo>
                  <a:lnTo>
                    <a:pt x="4889" y="12"/>
                  </a:lnTo>
                  <a:lnTo>
                    <a:pt x="4888" y="12"/>
                  </a:lnTo>
                  <a:lnTo>
                    <a:pt x="4869" y="12"/>
                  </a:lnTo>
                  <a:lnTo>
                    <a:pt x="4868" y="12"/>
                  </a:lnTo>
                  <a:lnTo>
                    <a:pt x="4866" y="10"/>
                  </a:lnTo>
                  <a:lnTo>
                    <a:pt x="4865" y="8"/>
                  </a:lnTo>
                  <a:lnTo>
                    <a:pt x="4865" y="6"/>
                  </a:lnTo>
                  <a:lnTo>
                    <a:pt x="4865" y="4"/>
                  </a:lnTo>
                  <a:lnTo>
                    <a:pt x="4866" y="2"/>
                  </a:lnTo>
                  <a:lnTo>
                    <a:pt x="4868" y="0"/>
                  </a:lnTo>
                  <a:lnTo>
                    <a:pt x="4869" y="0"/>
                  </a:lnTo>
                  <a:lnTo>
                    <a:pt x="4869" y="0"/>
                  </a:lnTo>
                  <a:close/>
                  <a:moveTo>
                    <a:pt x="4913" y="0"/>
                  </a:moveTo>
                  <a:lnTo>
                    <a:pt x="4933" y="0"/>
                  </a:lnTo>
                  <a:lnTo>
                    <a:pt x="4934" y="0"/>
                  </a:lnTo>
                  <a:lnTo>
                    <a:pt x="4935" y="2"/>
                  </a:lnTo>
                  <a:lnTo>
                    <a:pt x="4936" y="4"/>
                  </a:lnTo>
                  <a:lnTo>
                    <a:pt x="4936" y="6"/>
                  </a:lnTo>
                  <a:lnTo>
                    <a:pt x="4936" y="8"/>
                  </a:lnTo>
                  <a:lnTo>
                    <a:pt x="4935" y="10"/>
                  </a:lnTo>
                  <a:lnTo>
                    <a:pt x="4934" y="12"/>
                  </a:lnTo>
                  <a:lnTo>
                    <a:pt x="4933" y="12"/>
                  </a:lnTo>
                  <a:lnTo>
                    <a:pt x="4913" y="12"/>
                  </a:lnTo>
                  <a:lnTo>
                    <a:pt x="4912" y="12"/>
                  </a:lnTo>
                  <a:lnTo>
                    <a:pt x="4911" y="10"/>
                  </a:lnTo>
                  <a:lnTo>
                    <a:pt x="4910" y="8"/>
                  </a:lnTo>
                  <a:lnTo>
                    <a:pt x="4910" y="6"/>
                  </a:lnTo>
                  <a:lnTo>
                    <a:pt x="4910" y="4"/>
                  </a:lnTo>
                  <a:lnTo>
                    <a:pt x="4911" y="2"/>
                  </a:lnTo>
                  <a:lnTo>
                    <a:pt x="4912" y="0"/>
                  </a:lnTo>
                  <a:lnTo>
                    <a:pt x="4913" y="0"/>
                  </a:lnTo>
                  <a:lnTo>
                    <a:pt x="4913" y="0"/>
                  </a:lnTo>
                  <a:close/>
                  <a:moveTo>
                    <a:pt x="4958" y="0"/>
                  </a:moveTo>
                  <a:lnTo>
                    <a:pt x="4978" y="0"/>
                  </a:lnTo>
                  <a:lnTo>
                    <a:pt x="4979" y="0"/>
                  </a:lnTo>
                  <a:lnTo>
                    <a:pt x="4980" y="2"/>
                  </a:lnTo>
                  <a:lnTo>
                    <a:pt x="4981" y="4"/>
                  </a:lnTo>
                  <a:lnTo>
                    <a:pt x="4981" y="6"/>
                  </a:lnTo>
                  <a:lnTo>
                    <a:pt x="4981" y="8"/>
                  </a:lnTo>
                  <a:lnTo>
                    <a:pt x="4980" y="10"/>
                  </a:lnTo>
                  <a:lnTo>
                    <a:pt x="4979" y="12"/>
                  </a:lnTo>
                  <a:lnTo>
                    <a:pt x="4978" y="12"/>
                  </a:lnTo>
                  <a:lnTo>
                    <a:pt x="4958" y="12"/>
                  </a:lnTo>
                  <a:lnTo>
                    <a:pt x="4957" y="12"/>
                  </a:lnTo>
                  <a:lnTo>
                    <a:pt x="4956" y="10"/>
                  </a:lnTo>
                  <a:lnTo>
                    <a:pt x="4955" y="8"/>
                  </a:lnTo>
                  <a:lnTo>
                    <a:pt x="4955" y="6"/>
                  </a:lnTo>
                  <a:lnTo>
                    <a:pt x="4955" y="4"/>
                  </a:lnTo>
                  <a:lnTo>
                    <a:pt x="4956" y="2"/>
                  </a:lnTo>
                  <a:lnTo>
                    <a:pt x="4957" y="0"/>
                  </a:lnTo>
                  <a:lnTo>
                    <a:pt x="4958" y="0"/>
                  </a:lnTo>
                  <a:lnTo>
                    <a:pt x="4958" y="0"/>
                  </a:lnTo>
                  <a:close/>
                  <a:moveTo>
                    <a:pt x="5003" y="0"/>
                  </a:moveTo>
                  <a:lnTo>
                    <a:pt x="5022" y="0"/>
                  </a:lnTo>
                  <a:lnTo>
                    <a:pt x="5023" y="0"/>
                  </a:lnTo>
                  <a:lnTo>
                    <a:pt x="5025" y="2"/>
                  </a:lnTo>
                  <a:lnTo>
                    <a:pt x="5026" y="4"/>
                  </a:lnTo>
                  <a:lnTo>
                    <a:pt x="5026" y="6"/>
                  </a:lnTo>
                  <a:lnTo>
                    <a:pt x="5026" y="8"/>
                  </a:lnTo>
                  <a:lnTo>
                    <a:pt x="5025" y="10"/>
                  </a:lnTo>
                  <a:lnTo>
                    <a:pt x="5023" y="12"/>
                  </a:lnTo>
                  <a:lnTo>
                    <a:pt x="5022" y="12"/>
                  </a:lnTo>
                  <a:lnTo>
                    <a:pt x="5003" y="12"/>
                  </a:lnTo>
                  <a:lnTo>
                    <a:pt x="5002" y="12"/>
                  </a:lnTo>
                  <a:lnTo>
                    <a:pt x="5001" y="10"/>
                  </a:lnTo>
                  <a:lnTo>
                    <a:pt x="5000" y="8"/>
                  </a:lnTo>
                  <a:lnTo>
                    <a:pt x="5000" y="6"/>
                  </a:lnTo>
                  <a:lnTo>
                    <a:pt x="5000" y="4"/>
                  </a:lnTo>
                  <a:lnTo>
                    <a:pt x="5001" y="2"/>
                  </a:lnTo>
                  <a:lnTo>
                    <a:pt x="5002" y="0"/>
                  </a:lnTo>
                  <a:lnTo>
                    <a:pt x="5003" y="0"/>
                  </a:lnTo>
                  <a:lnTo>
                    <a:pt x="5003" y="0"/>
                  </a:lnTo>
                  <a:close/>
                  <a:moveTo>
                    <a:pt x="5047" y="0"/>
                  </a:moveTo>
                  <a:lnTo>
                    <a:pt x="5067" y="0"/>
                  </a:lnTo>
                  <a:lnTo>
                    <a:pt x="5068" y="0"/>
                  </a:lnTo>
                  <a:lnTo>
                    <a:pt x="5069" y="2"/>
                  </a:lnTo>
                  <a:lnTo>
                    <a:pt x="5070" y="4"/>
                  </a:lnTo>
                  <a:lnTo>
                    <a:pt x="5070" y="6"/>
                  </a:lnTo>
                  <a:lnTo>
                    <a:pt x="5070" y="8"/>
                  </a:lnTo>
                  <a:lnTo>
                    <a:pt x="5069" y="10"/>
                  </a:lnTo>
                  <a:lnTo>
                    <a:pt x="5068" y="12"/>
                  </a:lnTo>
                  <a:lnTo>
                    <a:pt x="5067" y="12"/>
                  </a:lnTo>
                  <a:lnTo>
                    <a:pt x="5047" y="12"/>
                  </a:lnTo>
                  <a:lnTo>
                    <a:pt x="5046" y="12"/>
                  </a:lnTo>
                  <a:lnTo>
                    <a:pt x="5045" y="10"/>
                  </a:lnTo>
                  <a:lnTo>
                    <a:pt x="5044" y="8"/>
                  </a:lnTo>
                  <a:lnTo>
                    <a:pt x="5044" y="6"/>
                  </a:lnTo>
                  <a:lnTo>
                    <a:pt x="5044" y="4"/>
                  </a:lnTo>
                  <a:lnTo>
                    <a:pt x="5045" y="2"/>
                  </a:lnTo>
                  <a:lnTo>
                    <a:pt x="5046" y="0"/>
                  </a:lnTo>
                  <a:lnTo>
                    <a:pt x="5047" y="0"/>
                  </a:lnTo>
                  <a:lnTo>
                    <a:pt x="5047" y="0"/>
                  </a:lnTo>
                  <a:close/>
                  <a:moveTo>
                    <a:pt x="5092" y="0"/>
                  </a:moveTo>
                  <a:lnTo>
                    <a:pt x="5111" y="0"/>
                  </a:lnTo>
                  <a:lnTo>
                    <a:pt x="5112" y="0"/>
                  </a:lnTo>
                  <a:lnTo>
                    <a:pt x="5113" y="2"/>
                  </a:lnTo>
                  <a:lnTo>
                    <a:pt x="5114" y="4"/>
                  </a:lnTo>
                  <a:lnTo>
                    <a:pt x="5114" y="6"/>
                  </a:lnTo>
                  <a:lnTo>
                    <a:pt x="5114" y="8"/>
                  </a:lnTo>
                  <a:lnTo>
                    <a:pt x="5113" y="10"/>
                  </a:lnTo>
                  <a:lnTo>
                    <a:pt x="5112" y="12"/>
                  </a:lnTo>
                  <a:lnTo>
                    <a:pt x="5111" y="12"/>
                  </a:lnTo>
                  <a:lnTo>
                    <a:pt x="5092" y="12"/>
                  </a:lnTo>
                  <a:lnTo>
                    <a:pt x="5091" y="12"/>
                  </a:lnTo>
                  <a:lnTo>
                    <a:pt x="5090" y="10"/>
                  </a:lnTo>
                  <a:lnTo>
                    <a:pt x="5089" y="8"/>
                  </a:lnTo>
                  <a:lnTo>
                    <a:pt x="5089" y="6"/>
                  </a:lnTo>
                  <a:lnTo>
                    <a:pt x="5089" y="4"/>
                  </a:lnTo>
                  <a:lnTo>
                    <a:pt x="5090" y="2"/>
                  </a:lnTo>
                  <a:lnTo>
                    <a:pt x="5091" y="0"/>
                  </a:lnTo>
                  <a:lnTo>
                    <a:pt x="5092" y="0"/>
                  </a:lnTo>
                  <a:lnTo>
                    <a:pt x="5092" y="0"/>
                  </a:lnTo>
                  <a:close/>
                  <a:moveTo>
                    <a:pt x="5137" y="0"/>
                  </a:moveTo>
                  <a:lnTo>
                    <a:pt x="5141" y="0"/>
                  </a:lnTo>
                  <a:lnTo>
                    <a:pt x="5142" y="0"/>
                  </a:lnTo>
                  <a:lnTo>
                    <a:pt x="5143" y="2"/>
                  </a:lnTo>
                  <a:lnTo>
                    <a:pt x="5144" y="4"/>
                  </a:lnTo>
                  <a:lnTo>
                    <a:pt x="5144" y="6"/>
                  </a:lnTo>
                  <a:lnTo>
                    <a:pt x="5144" y="8"/>
                  </a:lnTo>
                  <a:lnTo>
                    <a:pt x="5143" y="10"/>
                  </a:lnTo>
                  <a:lnTo>
                    <a:pt x="5142" y="12"/>
                  </a:lnTo>
                  <a:lnTo>
                    <a:pt x="5141" y="12"/>
                  </a:lnTo>
                  <a:lnTo>
                    <a:pt x="5137" y="12"/>
                  </a:lnTo>
                  <a:lnTo>
                    <a:pt x="5136" y="12"/>
                  </a:lnTo>
                  <a:lnTo>
                    <a:pt x="5135" y="10"/>
                  </a:lnTo>
                  <a:lnTo>
                    <a:pt x="5134" y="8"/>
                  </a:lnTo>
                  <a:lnTo>
                    <a:pt x="5134" y="6"/>
                  </a:lnTo>
                  <a:lnTo>
                    <a:pt x="5134" y="4"/>
                  </a:lnTo>
                  <a:lnTo>
                    <a:pt x="5135" y="2"/>
                  </a:lnTo>
                  <a:lnTo>
                    <a:pt x="5136" y="0"/>
                  </a:lnTo>
                  <a:lnTo>
                    <a:pt x="5137" y="0"/>
                  </a:lnTo>
                  <a:lnTo>
                    <a:pt x="5137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27120" y="1422360"/>
              <a:ext cx="8165880" cy="9720"/>
            </a:xfrm>
            <a:custGeom>
              <a:avLst/>
              <a:gdLst/>
              <a:ahLst/>
              <a:rect l="l" t="t" r="r" b="b"/>
              <a:pathLst>
                <a:path w="5144" h="12">
                  <a:moveTo>
                    <a:pt x="3" y="0"/>
                  </a:moveTo>
                  <a:lnTo>
                    <a:pt x="21" y="0"/>
                  </a:lnTo>
                  <a:lnTo>
                    <a:pt x="22" y="0"/>
                  </a:lnTo>
                  <a:lnTo>
                    <a:pt x="24" y="2"/>
                  </a:lnTo>
                  <a:lnTo>
                    <a:pt x="25" y="4"/>
                  </a:lnTo>
                  <a:lnTo>
                    <a:pt x="25" y="6"/>
                  </a:lnTo>
                  <a:lnTo>
                    <a:pt x="25" y="8"/>
                  </a:lnTo>
                  <a:lnTo>
                    <a:pt x="24" y="10"/>
                  </a:lnTo>
                  <a:lnTo>
                    <a:pt x="22" y="12"/>
                  </a:lnTo>
                  <a:lnTo>
                    <a:pt x="21" y="12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2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close/>
                  <a:moveTo>
                    <a:pt x="46" y="0"/>
                  </a:moveTo>
                  <a:lnTo>
                    <a:pt x="66" y="0"/>
                  </a:lnTo>
                  <a:lnTo>
                    <a:pt x="67" y="0"/>
                  </a:lnTo>
                  <a:lnTo>
                    <a:pt x="68" y="2"/>
                  </a:lnTo>
                  <a:lnTo>
                    <a:pt x="69" y="4"/>
                  </a:lnTo>
                  <a:lnTo>
                    <a:pt x="69" y="6"/>
                  </a:lnTo>
                  <a:lnTo>
                    <a:pt x="69" y="8"/>
                  </a:lnTo>
                  <a:lnTo>
                    <a:pt x="68" y="10"/>
                  </a:lnTo>
                  <a:lnTo>
                    <a:pt x="67" y="12"/>
                  </a:lnTo>
                  <a:lnTo>
                    <a:pt x="66" y="12"/>
                  </a:lnTo>
                  <a:lnTo>
                    <a:pt x="46" y="12"/>
                  </a:lnTo>
                  <a:lnTo>
                    <a:pt x="45" y="12"/>
                  </a:lnTo>
                  <a:lnTo>
                    <a:pt x="44" y="10"/>
                  </a:lnTo>
                  <a:lnTo>
                    <a:pt x="43" y="8"/>
                  </a:lnTo>
                  <a:lnTo>
                    <a:pt x="43" y="6"/>
                  </a:lnTo>
                  <a:lnTo>
                    <a:pt x="43" y="4"/>
                  </a:lnTo>
                  <a:lnTo>
                    <a:pt x="44" y="2"/>
                  </a:lnTo>
                  <a:lnTo>
                    <a:pt x="45" y="0"/>
                  </a:lnTo>
                  <a:lnTo>
                    <a:pt x="46" y="0"/>
                  </a:lnTo>
                  <a:lnTo>
                    <a:pt x="46" y="0"/>
                  </a:lnTo>
                  <a:close/>
                  <a:moveTo>
                    <a:pt x="91" y="0"/>
                  </a:moveTo>
                  <a:lnTo>
                    <a:pt x="111" y="0"/>
                  </a:lnTo>
                  <a:lnTo>
                    <a:pt x="112" y="0"/>
                  </a:lnTo>
                  <a:lnTo>
                    <a:pt x="113" y="2"/>
                  </a:lnTo>
                  <a:lnTo>
                    <a:pt x="114" y="4"/>
                  </a:lnTo>
                  <a:lnTo>
                    <a:pt x="114" y="6"/>
                  </a:lnTo>
                  <a:lnTo>
                    <a:pt x="114" y="8"/>
                  </a:lnTo>
                  <a:lnTo>
                    <a:pt x="113" y="10"/>
                  </a:lnTo>
                  <a:lnTo>
                    <a:pt x="112" y="12"/>
                  </a:lnTo>
                  <a:lnTo>
                    <a:pt x="111" y="12"/>
                  </a:lnTo>
                  <a:lnTo>
                    <a:pt x="91" y="12"/>
                  </a:lnTo>
                  <a:lnTo>
                    <a:pt x="90" y="12"/>
                  </a:lnTo>
                  <a:lnTo>
                    <a:pt x="89" y="10"/>
                  </a:lnTo>
                  <a:lnTo>
                    <a:pt x="88" y="8"/>
                  </a:lnTo>
                  <a:lnTo>
                    <a:pt x="88" y="6"/>
                  </a:lnTo>
                  <a:lnTo>
                    <a:pt x="88" y="4"/>
                  </a:lnTo>
                  <a:lnTo>
                    <a:pt x="89" y="2"/>
                  </a:lnTo>
                  <a:lnTo>
                    <a:pt x="90" y="0"/>
                  </a:lnTo>
                  <a:lnTo>
                    <a:pt x="91" y="0"/>
                  </a:lnTo>
                  <a:lnTo>
                    <a:pt x="91" y="0"/>
                  </a:lnTo>
                  <a:close/>
                  <a:moveTo>
                    <a:pt x="136" y="0"/>
                  </a:moveTo>
                  <a:lnTo>
                    <a:pt x="156" y="0"/>
                  </a:lnTo>
                  <a:lnTo>
                    <a:pt x="157" y="0"/>
                  </a:lnTo>
                  <a:lnTo>
                    <a:pt x="158" y="2"/>
                  </a:lnTo>
                  <a:lnTo>
                    <a:pt x="159" y="4"/>
                  </a:lnTo>
                  <a:lnTo>
                    <a:pt x="159" y="6"/>
                  </a:lnTo>
                  <a:lnTo>
                    <a:pt x="159" y="8"/>
                  </a:lnTo>
                  <a:lnTo>
                    <a:pt x="158" y="10"/>
                  </a:lnTo>
                  <a:lnTo>
                    <a:pt x="157" y="12"/>
                  </a:lnTo>
                  <a:lnTo>
                    <a:pt x="156" y="12"/>
                  </a:lnTo>
                  <a:lnTo>
                    <a:pt x="136" y="12"/>
                  </a:lnTo>
                  <a:lnTo>
                    <a:pt x="135" y="12"/>
                  </a:lnTo>
                  <a:lnTo>
                    <a:pt x="134" y="10"/>
                  </a:lnTo>
                  <a:lnTo>
                    <a:pt x="133" y="8"/>
                  </a:lnTo>
                  <a:lnTo>
                    <a:pt x="133" y="6"/>
                  </a:lnTo>
                  <a:lnTo>
                    <a:pt x="133" y="4"/>
                  </a:lnTo>
                  <a:lnTo>
                    <a:pt x="134" y="2"/>
                  </a:lnTo>
                  <a:lnTo>
                    <a:pt x="135" y="0"/>
                  </a:lnTo>
                  <a:lnTo>
                    <a:pt x="136" y="0"/>
                  </a:lnTo>
                  <a:lnTo>
                    <a:pt x="136" y="0"/>
                  </a:lnTo>
                  <a:close/>
                  <a:moveTo>
                    <a:pt x="181" y="0"/>
                  </a:moveTo>
                  <a:lnTo>
                    <a:pt x="200" y="0"/>
                  </a:lnTo>
                  <a:lnTo>
                    <a:pt x="201" y="0"/>
                  </a:lnTo>
                  <a:lnTo>
                    <a:pt x="203" y="2"/>
                  </a:lnTo>
                  <a:lnTo>
                    <a:pt x="204" y="4"/>
                  </a:lnTo>
                  <a:lnTo>
                    <a:pt x="204" y="6"/>
                  </a:lnTo>
                  <a:lnTo>
                    <a:pt x="204" y="8"/>
                  </a:lnTo>
                  <a:lnTo>
                    <a:pt x="203" y="10"/>
                  </a:lnTo>
                  <a:lnTo>
                    <a:pt x="201" y="12"/>
                  </a:lnTo>
                  <a:lnTo>
                    <a:pt x="200" y="12"/>
                  </a:lnTo>
                  <a:lnTo>
                    <a:pt x="181" y="12"/>
                  </a:lnTo>
                  <a:lnTo>
                    <a:pt x="180" y="12"/>
                  </a:lnTo>
                  <a:lnTo>
                    <a:pt x="179" y="10"/>
                  </a:lnTo>
                  <a:lnTo>
                    <a:pt x="178" y="8"/>
                  </a:lnTo>
                  <a:lnTo>
                    <a:pt x="178" y="6"/>
                  </a:lnTo>
                  <a:lnTo>
                    <a:pt x="178" y="4"/>
                  </a:lnTo>
                  <a:lnTo>
                    <a:pt x="179" y="2"/>
                  </a:lnTo>
                  <a:lnTo>
                    <a:pt x="180" y="0"/>
                  </a:lnTo>
                  <a:lnTo>
                    <a:pt x="181" y="0"/>
                  </a:lnTo>
                  <a:lnTo>
                    <a:pt x="181" y="0"/>
                  </a:lnTo>
                  <a:close/>
                  <a:moveTo>
                    <a:pt x="225" y="0"/>
                  </a:moveTo>
                  <a:lnTo>
                    <a:pt x="244" y="0"/>
                  </a:lnTo>
                  <a:lnTo>
                    <a:pt x="245" y="0"/>
                  </a:lnTo>
                  <a:lnTo>
                    <a:pt x="247" y="2"/>
                  </a:lnTo>
                  <a:lnTo>
                    <a:pt x="248" y="4"/>
                  </a:lnTo>
                  <a:lnTo>
                    <a:pt x="248" y="6"/>
                  </a:lnTo>
                  <a:lnTo>
                    <a:pt x="248" y="8"/>
                  </a:lnTo>
                  <a:lnTo>
                    <a:pt x="247" y="10"/>
                  </a:lnTo>
                  <a:lnTo>
                    <a:pt x="245" y="12"/>
                  </a:lnTo>
                  <a:lnTo>
                    <a:pt x="244" y="12"/>
                  </a:lnTo>
                  <a:lnTo>
                    <a:pt x="225" y="12"/>
                  </a:lnTo>
                  <a:lnTo>
                    <a:pt x="224" y="12"/>
                  </a:lnTo>
                  <a:lnTo>
                    <a:pt x="223" y="10"/>
                  </a:lnTo>
                  <a:lnTo>
                    <a:pt x="222" y="8"/>
                  </a:lnTo>
                  <a:lnTo>
                    <a:pt x="222" y="6"/>
                  </a:lnTo>
                  <a:lnTo>
                    <a:pt x="222" y="4"/>
                  </a:lnTo>
                  <a:lnTo>
                    <a:pt x="223" y="2"/>
                  </a:lnTo>
                  <a:lnTo>
                    <a:pt x="224" y="0"/>
                  </a:lnTo>
                  <a:lnTo>
                    <a:pt x="225" y="0"/>
                  </a:lnTo>
                  <a:lnTo>
                    <a:pt x="225" y="0"/>
                  </a:lnTo>
                  <a:close/>
                  <a:moveTo>
                    <a:pt x="270" y="0"/>
                  </a:moveTo>
                  <a:lnTo>
                    <a:pt x="289" y="0"/>
                  </a:lnTo>
                  <a:lnTo>
                    <a:pt x="290" y="0"/>
                  </a:lnTo>
                  <a:lnTo>
                    <a:pt x="291" y="2"/>
                  </a:lnTo>
                  <a:lnTo>
                    <a:pt x="292" y="4"/>
                  </a:lnTo>
                  <a:lnTo>
                    <a:pt x="292" y="6"/>
                  </a:lnTo>
                  <a:lnTo>
                    <a:pt x="292" y="8"/>
                  </a:lnTo>
                  <a:lnTo>
                    <a:pt x="291" y="10"/>
                  </a:lnTo>
                  <a:lnTo>
                    <a:pt x="290" y="12"/>
                  </a:lnTo>
                  <a:lnTo>
                    <a:pt x="289" y="12"/>
                  </a:lnTo>
                  <a:lnTo>
                    <a:pt x="270" y="12"/>
                  </a:lnTo>
                  <a:lnTo>
                    <a:pt x="269" y="12"/>
                  </a:lnTo>
                  <a:lnTo>
                    <a:pt x="268" y="10"/>
                  </a:lnTo>
                  <a:lnTo>
                    <a:pt x="267" y="8"/>
                  </a:lnTo>
                  <a:lnTo>
                    <a:pt x="267" y="6"/>
                  </a:lnTo>
                  <a:lnTo>
                    <a:pt x="267" y="4"/>
                  </a:lnTo>
                  <a:lnTo>
                    <a:pt x="268" y="2"/>
                  </a:lnTo>
                  <a:lnTo>
                    <a:pt x="269" y="0"/>
                  </a:lnTo>
                  <a:lnTo>
                    <a:pt x="270" y="0"/>
                  </a:lnTo>
                  <a:lnTo>
                    <a:pt x="270" y="0"/>
                  </a:lnTo>
                  <a:close/>
                  <a:moveTo>
                    <a:pt x="315" y="0"/>
                  </a:moveTo>
                  <a:lnTo>
                    <a:pt x="334" y="0"/>
                  </a:lnTo>
                  <a:lnTo>
                    <a:pt x="335" y="0"/>
                  </a:lnTo>
                  <a:lnTo>
                    <a:pt x="336" y="2"/>
                  </a:lnTo>
                  <a:lnTo>
                    <a:pt x="337" y="4"/>
                  </a:lnTo>
                  <a:lnTo>
                    <a:pt x="337" y="6"/>
                  </a:lnTo>
                  <a:lnTo>
                    <a:pt x="337" y="8"/>
                  </a:lnTo>
                  <a:lnTo>
                    <a:pt x="336" y="10"/>
                  </a:lnTo>
                  <a:lnTo>
                    <a:pt x="335" y="12"/>
                  </a:lnTo>
                  <a:lnTo>
                    <a:pt x="334" y="12"/>
                  </a:lnTo>
                  <a:lnTo>
                    <a:pt x="315" y="12"/>
                  </a:lnTo>
                  <a:lnTo>
                    <a:pt x="314" y="12"/>
                  </a:lnTo>
                  <a:lnTo>
                    <a:pt x="313" y="10"/>
                  </a:lnTo>
                  <a:lnTo>
                    <a:pt x="312" y="8"/>
                  </a:lnTo>
                  <a:lnTo>
                    <a:pt x="312" y="6"/>
                  </a:lnTo>
                  <a:lnTo>
                    <a:pt x="312" y="4"/>
                  </a:lnTo>
                  <a:lnTo>
                    <a:pt x="313" y="2"/>
                  </a:lnTo>
                  <a:lnTo>
                    <a:pt x="314" y="0"/>
                  </a:lnTo>
                  <a:lnTo>
                    <a:pt x="315" y="0"/>
                  </a:lnTo>
                  <a:lnTo>
                    <a:pt x="315" y="0"/>
                  </a:lnTo>
                  <a:close/>
                  <a:moveTo>
                    <a:pt x="360" y="0"/>
                  </a:moveTo>
                  <a:lnTo>
                    <a:pt x="378" y="0"/>
                  </a:lnTo>
                  <a:lnTo>
                    <a:pt x="379" y="0"/>
                  </a:lnTo>
                  <a:lnTo>
                    <a:pt x="381" y="2"/>
                  </a:lnTo>
                  <a:lnTo>
                    <a:pt x="382" y="4"/>
                  </a:lnTo>
                  <a:lnTo>
                    <a:pt x="382" y="6"/>
                  </a:lnTo>
                  <a:lnTo>
                    <a:pt x="382" y="8"/>
                  </a:lnTo>
                  <a:lnTo>
                    <a:pt x="381" y="10"/>
                  </a:lnTo>
                  <a:lnTo>
                    <a:pt x="379" y="12"/>
                  </a:lnTo>
                  <a:lnTo>
                    <a:pt x="378" y="12"/>
                  </a:lnTo>
                  <a:lnTo>
                    <a:pt x="360" y="12"/>
                  </a:lnTo>
                  <a:lnTo>
                    <a:pt x="359" y="12"/>
                  </a:lnTo>
                  <a:lnTo>
                    <a:pt x="358" y="10"/>
                  </a:lnTo>
                  <a:lnTo>
                    <a:pt x="357" y="8"/>
                  </a:lnTo>
                  <a:lnTo>
                    <a:pt x="357" y="6"/>
                  </a:lnTo>
                  <a:lnTo>
                    <a:pt x="357" y="4"/>
                  </a:lnTo>
                  <a:lnTo>
                    <a:pt x="358" y="2"/>
                  </a:lnTo>
                  <a:lnTo>
                    <a:pt x="359" y="0"/>
                  </a:lnTo>
                  <a:lnTo>
                    <a:pt x="360" y="0"/>
                  </a:lnTo>
                  <a:lnTo>
                    <a:pt x="360" y="0"/>
                  </a:lnTo>
                  <a:close/>
                  <a:moveTo>
                    <a:pt x="404" y="0"/>
                  </a:moveTo>
                  <a:lnTo>
                    <a:pt x="423" y="0"/>
                  </a:lnTo>
                  <a:lnTo>
                    <a:pt x="424" y="0"/>
                  </a:lnTo>
                  <a:lnTo>
                    <a:pt x="425" y="2"/>
                  </a:lnTo>
                  <a:lnTo>
                    <a:pt x="426" y="4"/>
                  </a:lnTo>
                  <a:lnTo>
                    <a:pt x="426" y="6"/>
                  </a:lnTo>
                  <a:lnTo>
                    <a:pt x="426" y="8"/>
                  </a:lnTo>
                  <a:lnTo>
                    <a:pt x="425" y="10"/>
                  </a:lnTo>
                  <a:lnTo>
                    <a:pt x="424" y="12"/>
                  </a:lnTo>
                  <a:lnTo>
                    <a:pt x="423" y="12"/>
                  </a:lnTo>
                  <a:lnTo>
                    <a:pt x="404" y="12"/>
                  </a:lnTo>
                  <a:lnTo>
                    <a:pt x="403" y="12"/>
                  </a:lnTo>
                  <a:lnTo>
                    <a:pt x="402" y="10"/>
                  </a:lnTo>
                  <a:lnTo>
                    <a:pt x="401" y="8"/>
                  </a:lnTo>
                  <a:lnTo>
                    <a:pt x="401" y="6"/>
                  </a:lnTo>
                  <a:lnTo>
                    <a:pt x="401" y="4"/>
                  </a:lnTo>
                  <a:lnTo>
                    <a:pt x="402" y="2"/>
                  </a:lnTo>
                  <a:lnTo>
                    <a:pt x="403" y="0"/>
                  </a:lnTo>
                  <a:lnTo>
                    <a:pt x="404" y="0"/>
                  </a:lnTo>
                  <a:lnTo>
                    <a:pt x="404" y="0"/>
                  </a:lnTo>
                  <a:close/>
                  <a:moveTo>
                    <a:pt x="449" y="0"/>
                  </a:moveTo>
                  <a:lnTo>
                    <a:pt x="468" y="0"/>
                  </a:lnTo>
                  <a:lnTo>
                    <a:pt x="469" y="0"/>
                  </a:lnTo>
                  <a:lnTo>
                    <a:pt x="470" y="2"/>
                  </a:lnTo>
                  <a:lnTo>
                    <a:pt x="471" y="4"/>
                  </a:lnTo>
                  <a:lnTo>
                    <a:pt x="471" y="6"/>
                  </a:lnTo>
                  <a:lnTo>
                    <a:pt x="471" y="8"/>
                  </a:lnTo>
                  <a:lnTo>
                    <a:pt x="470" y="10"/>
                  </a:lnTo>
                  <a:lnTo>
                    <a:pt x="469" y="12"/>
                  </a:lnTo>
                  <a:lnTo>
                    <a:pt x="468" y="12"/>
                  </a:lnTo>
                  <a:lnTo>
                    <a:pt x="449" y="12"/>
                  </a:lnTo>
                  <a:lnTo>
                    <a:pt x="448" y="12"/>
                  </a:lnTo>
                  <a:lnTo>
                    <a:pt x="447" y="10"/>
                  </a:lnTo>
                  <a:lnTo>
                    <a:pt x="446" y="8"/>
                  </a:lnTo>
                  <a:lnTo>
                    <a:pt x="446" y="6"/>
                  </a:lnTo>
                  <a:lnTo>
                    <a:pt x="446" y="4"/>
                  </a:lnTo>
                  <a:lnTo>
                    <a:pt x="447" y="2"/>
                  </a:lnTo>
                  <a:lnTo>
                    <a:pt x="448" y="0"/>
                  </a:lnTo>
                  <a:lnTo>
                    <a:pt x="449" y="0"/>
                  </a:lnTo>
                  <a:lnTo>
                    <a:pt x="449" y="0"/>
                  </a:lnTo>
                  <a:close/>
                  <a:moveTo>
                    <a:pt x="493" y="0"/>
                  </a:moveTo>
                  <a:lnTo>
                    <a:pt x="513" y="0"/>
                  </a:lnTo>
                  <a:lnTo>
                    <a:pt x="514" y="0"/>
                  </a:lnTo>
                  <a:lnTo>
                    <a:pt x="515" y="2"/>
                  </a:lnTo>
                  <a:lnTo>
                    <a:pt x="516" y="4"/>
                  </a:lnTo>
                  <a:lnTo>
                    <a:pt x="516" y="6"/>
                  </a:lnTo>
                  <a:lnTo>
                    <a:pt x="516" y="8"/>
                  </a:lnTo>
                  <a:lnTo>
                    <a:pt x="515" y="10"/>
                  </a:lnTo>
                  <a:lnTo>
                    <a:pt x="514" y="12"/>
                  </a:lnTo>
                  <a:lnTo>
                    <a:pt x="513" y="12"/>
                  </a:lnTo>
                  <a:lnTo>
                    <a:pt x="493" y="12"/>
                  </a:lnTo>
                  <a:lnTo>
                    <a:pt x="492" y="12"/>
                  </a:lnTo>
                  <a:lnTo>
                    <a:pt x="491" y="10"/>
                  </a:lnTo>
                  <a:lnTo>
                    <a:pt x="490" y="8"/>
                  </a:lnTo>
                  <a:lnTo>
                    <a:pt x="490" y="6"/>
                  </a:lnTo>
                  <a:lnTo>
                    <a:pt x="490" y="4"/>
                  </a:lnTo>
                  <a:lnTo>
                    <a:pt x="491" y="2"/>
                  </a:lnTo>
                  <a:lnTo>
                    <a:pt x="492" y="0"/>
                  </a:lnTo>
                  <a:lnTo>
                    <a:pt x="493" y="0"/>
                  </a:lnTo>
                  <a:lnTo>
                    <a:pt x="493" y="0"/>
                  </a:lnTo>
                  <a:close/>
                  <a:moveTo>
                    <a:pt x="538" y="0"/>
                  </a:moveTo>
                  <a:lnTo>
                    <a:pt x="557" y="0"/>
                  </a:lnTo>
                  <a:lnTo>
                    <a:pt x="558" y="0"/>
                  </a:lnTo>
                  <a:lnTo>
                    <a:pt x="560" y="2"/>
                  </a:lnTo>
                  <a:lnTo>
                    <a:pt x="561" y="4"/>
                  </a:lnTo>
                  <a:lnTo>
                    <a:pt x="561" y="6"/>
                  </a:lnTo>
                  <a:lnTo>
                    <a:pt x="561" y="8"/>
                  </a:lnTo>
                  <a:lnTo>
                    <a:pt x="560" y="10"/>
                  </a:lnTo>
                  <a:lnTo>
                    <a:pt x="558" y="12"/>
                  </a:lnTo>
                  <a:lnTo>
                    <a:pt x="557" y="12"/>
                  </a:lnTo>
                  <a:lnTo>
                    <a:pt x="538" y="12"/>
                  </a:lnTo>
                  <a:lnTo>
                    <a:pt x="537" y="12"/>
                  </a:lnTo>
                  <a:lnTo>
                    <a:pt x="536" y="10"/>
                  </a:lnTo>
                  <a:lnTo>
                    <a:pt x="535" y="8"/>
                  </a:lnTo>
                  <a:lnTo>
                    <a:pt x="535" y="6"/>
                  </a:lnTo>
                  <a:lnTo>
                    <a:pt x="535" y="4"/>
                  </a:lnTo>
                  <a:lnTo>
                    <a:pt x="536" y="2"/>
                  </a:lnTo>
                  <a:lnTo>
                    <a:pt x="537" y="0"/>
                  </a:lnTo>
                  <a:lnTo>
                    <a:pt x="538" y="0"/>
                  </a:lnTo>
                  <a:lnTo>
                    <a:pt x="538" y="0"/>
                  </a:lnTo>
                  <a:close/>
                  <a:moveTo>
                    <a:pt x="582" y="0"/>
                  </a:moveTo>
                  <a:lnTo>
                    <a:pt x="602" y="0"/>
                  </a:lnTo>
                  <a:lnTo>
                    <a:pt x="603" y="0"/>
                  </a:lnTo>
                  <a:lnTo>
                    <a:pt x="604" y="2"/>
                  </a:lnTo>
                  <a:lnTo>
                    <a:pt x="605" y="4"/>
                  </a:lnTo>
                  <a:lnTo>
                    <a:pt x="605" y="6"/>
                  </a:lnTo>
                  <a:lnTo>
                    <a:pt x="605" y="8"/>
                  </a:lnTo>
                  <a:lnTo>
                    <a:pt x="604" y="10"/>
                  </a:lnTo>
                  <a:lnTo>
                    <a:pt x="603" y="12"/>
                  </a:lnTo>
                  <a:lnTo>
                    <a:pt x="602" y="12"/>
                  </a:lnTo>
                  <a:lnTo>
                    <a:pt x="582" y="12"/>
                  </a:lnTo>
                  <a:lnTo>
                    <a:pt x="581" y="12"/>
                  </a:lnTo>
                  <a:lnTo>
                    <a:pt x="580" y="10"/>
                  </a:lnTo>
                  <a:lnTo>
                    <a:pt x="579" y="8"/>
                  </a:lnTo>
                  <a:lnTo>
                    <a:pt x="579" y="6"/>
                  </a:lnTo>
                  <a:lnTo>
                    <a:pt x="579" y="4"/>
                  </a:lnTo>
                  <a:lnTo>
                    <a:pt x="580" y="2"/>
                  </a:lnTo>
                  <a:lnTo>
                    <a:pt x="581" y="0"/>
                  </a:lnTo>
                  <a:lnTo>
                    <a:pt x="582" y="0"/>
                  </a:lnTo>
                  <a:lnTo>
                    <a:pt x="582" y="0"/>
                  </a:lnTo>
                  <a:close/>
                  <a:moveTo>
                    <a:pt x="627" y="0"/>
                  </a:moveTo>
                  <a:lnTo>
                    <a:pt x="647" y="0"/>
                  </a:lnTo>
                  <a:lnTo>
                    <a:pt x="648" y="0"/>
                  </a:lnTo>
                  <a:lnTo>
                    <a:pt x="649" y="2"/>
                  </a:lnTo>
                  <a:lnTo>
                    <a:pt x="650" y="4"/>
                  </a:lnTo>
                  <a:lnTo>
                    <a:pt x="650" y="6"/>
                  </a:lnTo>
                  <a:lnTo>
                    <a:pt x="650" y="8"/>
                  </a:lnTo>
                  <a:lnTo>
                    <a:pt x="649" y="10"/>
                  </a:lnTo>
                  <a:lnTo>
                    <a:pt x="648" y="12"/>
                  </a:lnTo>
                  <a:lnTo>
                    <a:pt x="647" y="12"/>
                  </a:lnTo>
                  <a:lnTo>
                    <a:pt x="627" y="12"/>
                  </a:lnTo>
                  <a:lnTo>
                    <a:pt x="626" y="12"/>
                  </a:lnTo>
                  <a:lnTo>
                    <a:pt x="625" y="10"/>
                  </a:lnTo>
                  <a:lnTo>
                    <a:pt x="624" y="8"/>
                  </a:lnTo>
                  <a:lnTo>
                    <a:pt x="624" y="6"/>
                  </a:lnTo>
                  <a:lnTo>
                    <a:pt x="624" y="4"/>
                  </a:lnTo>
                  <a:lnTo>
                    <a:pt x="625" y="2"/>
                  </a:lnTo>
                  <a:lnTo>
                    <a:pt x="626" y="0"/>
                  </a:lnTo>
                  <a:lnTo>
                    <a:pt x="627" y="0"/>
                  </a:lnTo>
                  <a:lnTo>
                    <a:pt x="627" y="0"/>
                  </a:lnTo>
                  <a:close/>
                  <a:moveTo>
                    <a:pt x="672" y="0"/>
                  </a:moveTo>
                  <a:lnTo>
                    <a:pt x="691" y="0"/>
                  </a:lnTo>
                  <a:lnTo>
                    <a:pt x="692" y="0"/>
                  </a:lnTo>
                  <a:lnTo>
                    <a:pt x="694" y="2"/>
                  </a:lnTo>
                  <a:lnTo>
                    <a:pt x="695" y="4"/>
                  </a:lnTo>
                  <a:lnTo>
                    <a:pt x="695" y="6"/>
                  </a:lnTo>
                  <a:lnTo>
                    <a:pt x="695" y="8"/>
                  </a:lnTo>
                  <a:lnTo>
                    <a:pt x="694" y="10"/>
                  </a:lnTo>
                  <a:lnTo>
                    <a:pt x="692" y="12"/>
                  </a:lnTo>
                  <a:lnTo>
                    <a:pt x="691" y="12"/>
                  </a:lnTo>
                  <a:lnTo>
                    <a:pt x="672" y="12"/>
                  </a:lnTo>
                  <a:lnTo>
                    <a:pt x="671" y="12"/>
                  </a:lnTo>
                  <a:lnTo>
                    <a:pt x="670" y="10"/>
                  </a:lnTo>
                  <a:lnTo>
                    <a:pt x="669" y="8"/>
                  </a:lnTo>
                  <a:lnTo>
                    <a:pt x="669" y="6"/>
                  </a:lnTo>
                  <a:lnTo>
                    <a:pt x="669" y="4"/>
                  </a:lnTo>
                  <a:lnTo>
                    <a:pt x="670" y="2"/>
                  </a:lnTo>
                  <a:lnTo>
                    <a:pt x="671" y="0"/>
                  </a:lnTo>
                  <a:lnTo>
                    <a:pt x="672" y="0"/>
                  </a:lnTo>
                  <a:lnTo>
                    <a:pt x="672" y="0"/>
                  </a:lnTo>
                  <a:close/>
                  <a:moveTo>
                    <a:pt x="717" y="0"/>
                  </a:moveTo>
                  <a:lnTo>
                    <a:pt x="735" y="0"/>
                  </a:lnTo>
                  <a:lnTo>
                    <a:pt x="736" y="0"/>
                  </a:lnTo>
                  <a:lnTo>
                    <a:pt x="738" y="2"/>
                  </a:lnTo>
                  <a:lnTo>
                    <a:pt x="739" y="4"/>
                  </a:lnTo>
                  <a:lnTo>
                    <a:pt x="739" y="6"/>
                  </a:lnTo>
                  <a:lnTo>
                    <a:pt x="739" y="8"/>
                  </a:lnTo>
                  <a:lnTo>
                    <a:pt x="738" y="10"/>
                  </a:lnTo>
                  <a:lnTo>
                    <a:pt x="736" y="12"/>
                  </a:lnTo>
                  <a:lnTo>
                    <a:pt x="735" y="12"/>
                  </a:lnTo>
                  <a:lnTo>
                    <a:pt x="717" y="12"/>
                  </a:lnTo>
                  <a:lnTo>
                    <a:pt x="716" y="12"/>
                  </a:lnTo>
                  <a:lnTo>
                    <a:pt x="715" y="10"/>
                  </a:lnTo>
                  <a:lnTo>
                    <a:pt x="714" y="8"/>
                  </a:lnTo>
                  <a:lnTo>
                    <a:pt x="714" y="6"/>
                  </a:lnTo>
                  <a:lnTo>
                    <a:pt x="714" y="4"/>
                  </a:lnTo>
                  <a:lnTo>
                    <a:pt x="715" y="2"/>
                  </a:lnTo>
                  <a:lnTo>
                    <a:pt x="716" y="0"/>
                  </a:lnTo>
                  <a:lnTo>
                    <a:pt x="717" y="0"/>
                  </a:lnTo>
                  <a:lnTo>
                    <a:pt x="717" y="0"/>
                  </a:lnTo>
                  <a:close/>
                  <a:moveTo>
                    <a:pt x="761" y="0"/>
                  </a:moveTo>
                  <a:lnTo>
                    <a:pt x="780" y="0"/>
                  </a:lnTo>
                  <a:lnTo>
                    <a:pt x="781" y="0"/>
                  </a:lnTo>
                  <a:lnTo>
                    <a:pt x="782" y="2"/>
                  </a:lnTo>
                  <a:lnTo>
                    <a:pt x="783" y="4"/>
                  </a:lnTo>
                  <a:lnTo>
                    <a:pt x="783" y="6"/>
                  </a:lnTo>
                  <a:lnTo>
                    <a:pt x="783" y="8"/>
                  </a:lnTo>
                  <a:lnTo>
                    <a:pt x="782" y="10"/>
                  </a:lnTo>
                  <a:lnTo>
                    <a:pt x="781" y="12"/>
                  </a:lnTo>
                  <a:lnTo>
                    <a:pt x="780" y="12"/>
                  </a:lnTo>
                  <a:lnTo>
                    <a:pt x="761" y="12"/>
                  </a:lnTo>
                  <a:lnTo>
                    <a:pt x="760" y="12"/>
                  </a:lnTo>
                  <a:lnTo>
                    <a:pt x="759" y="10"/>
                  </a:lnTo>
                  <a:lnTo>
                    <a:pt x="758" y="8"/>
                  </a:lnTo>
                  <a:lnTo>
                    <a:pt x="758" y="6"/>
                  </a:lnTo>
                  <a:lnTo>
                    <a:pt x="758" y="4"/>
                  </a:lnTo>
                  <a:lnTo>
                    <a:pt x="759" y="2"/>
                  </a:lnTo>
                  <a:lnTo>
                    <a:pt x="760" y="0"/>
                  </a:lnTo>
                  <a:lnTo>
                    <a:pt x="761" y="0"/>
                  </a:lnTo>
                  <a:lnTo>
                    <a:pt x="761" y="0"/>
                  </a:lnTo>
                  <a:close/>
                  <a:moveTo>
                    <a:pt x="806" y="0"/>
                  </a:moveTo>
                  <a:lnTo>
                    <a:pt x="825" y="0"/>
                  </a:lnTo>
                  <a:lnTo>
                    <a:pt x="826" y="0"/>
                  </a:lnTo>
                  <a:lnTo>
                    <a:pt x="827" y="2"/>
                  </a:lnTo>
                  <a:lnTo>
                    <a:pt x="828" y="4"/>
                  </a:lnTo>
                  <a:lnTo>
                    <a:pt x="828" y="6"/>
                  </a:lnTo>
                  <a:lnTo>
                    <a:pt x="828" y="8"/>
                  </a:lnTo>
                  <a:lnTo>
                    <a:pt x="827" y="10"/>
                  </a:lnTo>
                  <a:lnTo>
                    <a:pt x="826" y="12"/>
                  </a:lnTo>
                  <a:lnTo>
                    <a:pt x="825" y="12"/>
                  </a:lnTo>
                  <a:lnTo>
                    <a:pt x="806" y="12"/>
                  </a:lnTo>
                  <a:lnTo>
                    <a:pt x="805" y="12"/>
                  </a:lnTo>
                  <a:lnTo>
                    <a:pt x="804" y="10"/>
                  </a:lnTo>
                  <a:lnTo>
                    <a:pt x="803" y="8"/>
                  </a:lnTo>
                  <a:lnTo>
                    <a:pt x="803" y="6"/>
                  </a:lnTo>
                  <a:lnTo>
                    <a:pt x="803" y="4"/>
                  </a:lnTo>
                  <a:lnTo>
                    <a:pt x="804" y="2"/>
                  </a:lnTo>
                  <a:lnTo>
                    <a:pt x="805" y="0"/>
                  </a:lnTo>
                  <a:lnTo>
                    <a:pt x="806" y="0"/>
                  </a:lnTo>
                  <a:lnTo>
                    <a:pt x="806" y="0"/>
                  </a:lnTo>
                  <a:close/>
                  <a:moveTo>
                    <a:pt x="851" y="0"/>
                  </a:moveTo>
                  <a:lnTo>
                    <a:pt x="870" y="0"/>
                  </a:lnTo>
                  <a:lnTo>
                    <a:pt x="871" y="0"/>
                  </a:lnTo>
                  <a:lnTo>
                    <a:pt x="872" y="2"/>
                  </a:lnTo>
                  <a:lnTo>
                    <a:pt x="873" y="4"/>
                  </a:lnTo>
                  <a:lnTo>
                    <a:pt x="873" y="6"/>
                  </a:lnTo>
                  <a:lnTo>
                    <a:pt x="873" y="8"/>
                  </a:lnTo>
                  <a:lnTo>
                    <a:pt x="872" y="10"/>
                  </a:lnTo>
                  <a:lnTo>
                    <a:pt x="871" y="12"/>
                  </a:lnTo>
                  <a:lnTo>
                    <a:pt x="870" y="12"/>
                  </a:lnTo>
                  <a:lnTo>
                    <a:pt x="851" y="12"/>
                  </a:lnTo>
                  <a:lnTo>
                    <a:pt x="850" y="12"/>
                  </a:lnTo>
                  <a:lnTo>
                    <a:pt x="849" y="10"/>
                  </a:lnTo>
                  <a:lnTo>
                    <a:pt x="848" y="8"/>
                  </a:lnTo>
                  <a:lnTo>
                    <a:pt x="848" y="6"/>
                  </a:lnTo>
                  <a:lnTo>
                    <a:pt x="848" y="4"/>
                  </a:lnTo>
                  <a:lnTo>
                    <a:pt x="849" y="2"/>
                  </a:lnTo>
                  <a:lnTo>
                    <a:pt x="850" y="0"/>
                  </a:lnTo>
                  <a:lnTo>
                    <a:pt x="851" y="0"/>
                  </a:lnTo>
                  <a:lnTo>
                    <a:pt x="851" y="0"/>
                  </a:lnTo>
                  <a:close/>
                  <a:moveTo>
                    <a:pt x="896" y="0"/>
                  </a:moveTo>
                  <a:lnTo>
                    <a:pt x="914" y="0"/>
                  </a:lnTo>
                  <a:lnTo>
                    <a:pt x="915" y="0"/>
                  </a:lnTo>
                  <a:lnTo>
                    <a:pt x="917" y="2"/>
                  </a:lnTo>
                  <a:lnTo>
                    <a:pt x="918" y="4"/>
                  </a:lnTo>
                  <a:lnTo>
                    <a:pt x="918" y="6"/>
                  </a:lnTo>
                  <a:lnTo>
                    <a:pt x="918" y="8"/>
                  </a:lnTo>
                  <a:lnTo>
                    <a:pt x="917" y="10"/>
                  </a:lnTo>
                  <a:lnTo>
                    <a:pt x="915" y="12"/>
                  </a:lnTo>
                  <a:lnTo>
                    <a:pt x="914" y="12"/>
                  </a:lnTo>
                  <a:lnTo>
                    <a:pt x="896" y="12"/>
                  </a:lnTo>
                  <a:lnTo>
                    <a:pt x="895" y="12"/>
                  </a:lnTo>
                  <a:lnTo>
                    <a:pt x="894" y="10"/>
                  </a:lnTo>
                  <a:lnTo>
                    <a:pt x="893" y="8"/>
                  </a:lnTo>
                  <a:lnTo>
                    <a:pt x="893" y="6"/>
                  </a:lnTo>
                  <a:lnTo>
                    <a:pt x="893" y="4"/>
                  </a:lnTo>
                  <a:lnTo>
                    <a:pt x="894" y="2"/>
                  </a:lnTo>
                  <a:lnTo>
                    <a:pt x="895" y="0"/>
                  </a:lnTo>
                  <a:lnTo>
                    <a:pt x="896" y="0"/>
                  </a:lnTo>
                  <a:lnTo>
                    <a:pt x="896" y="0"/>
                  </a:lnTo>
                  <a:close/>
                  <a:moveTo>
                    <a:pt x="939" y="0"/>
                  </a:moveTo>
                  <a:lnTo>
                    <a:pt x="959" y="0"/>
                  </a:lnTo>
                  <a:lnTo>
                    <a:pt x="960" y="0"/>
                  </a:lnTo>
                  <a:lnTo>
                    <a:pt x="961" y="2"/>
                  </a:lnTo>
                  <a:lnTo>
                    <a:pt x="962" y="4"/>
                  </a:lnTo>
                  <a:lnTo>
                    <a:pt x="962" y="6"/>
                  </a:lnTo>
                  <a:lnTo>
                    <a:pt x="962" y="8"/>
                  </a:lnTo>
                  <a:lnTo>
                    <a:pt x="961" y="10"/>
                  </a:lnTo>
                  <a:lnTo>
                    <a:pt x="960" y="12"/>
                  </a:lnTo>
                  <a:lnTo>
                    <a:pt x="959" y="12"/>
                  </a:lnTo>
                  <a:lnTo>
                    <a:pt x="939" y="12"/>
                  </a:lnTo>
                  <a:lnTo>
                    <a:pt x="938" y="12"/>
                  </a:lnTo>
                  <a:lnTo>
                    <a:pt x="937" y="10"/>
                  </a:lnTo>
                  <a:lnTo>
                    <a:pt x="936" y="8"/>
                  </a:lnTo>
                  <a:lnTo>
                    <a:pt x="936" y="6"/>
                  </a:lnTo>
                  <a:lnTo>
                    <a:pt x="936" y="4"/>
                  </a:lnTo>
                  <a:lnTo>
                    <a:pt x="937" y="2"/>
                  </a:lnTo>
                  <a:lnTo>
                    <a:pt x="938" y="0"/>
                  </a:lnTo>
                  <a:lnTo>
                    <a:pt x="939" y="0"/>
                  </a:lnTo>
                  <a:lnTo>
                    <a:pt x="939" y="0"/>
                  </a:lnTo>
                  <a:close/>
                  <a:moveTo>
                    <a:pt x="984" y="0"/>
                  </a:moveTo>
                  <a:lnTo>
                    <a:pt x="1004" y="0"/>
                  </a:lnTo>
                  <a:lnTo>
                    <a:pt x="1005" y="0"/>
                  </a:lnTo>
                  <a:lnTo>
                    <a:pt x="1006" y="2"/>
                  </a:lnTo>
                  <a:lnTo>
                    <a:pt x="1007" y="4"/>
                  </a:lnTo>
                  <a:lnTo>
                    <a:pt x="1007" y="6"/>
                  </a:lnTo>
                  <a:lnTo>
                    <a:pt x="1007" y="8"/>
                  </a:lnTo>
                  <a:lnTo>
                    <a:pt x="1006" y="10"/>
                  </a:lnTo>
                  <a:lnTo>
                    <a:pt x="1005" y="12"/>
                  </a:lnTo>
                  <a:lnTo>
                    <a:pt x="1004" y="12"/>
                  </a:lnTo>
                  <a:lnTo>
                    <a:pt x="984" y="12"/>
                  </a:lnTo>
                  <a:lnTo>
                    <a:pt x="983" y="12"/>
                  </a:lnTo>
                  <a:lnTo>
                    <a:pt x="982" y="10"/>
                  </a:lnTo>
                  <a:lnTo>
                    <a:pt x="981" y="8"/>
                  </a:lnTo>
                  <a:lnTo>
                    <a:pt x="981" y="6"/>
                  </a:lnTo>
                  <a:lnTo>
                    <a:pt x="981" y="4"/>
                  </a:lnTo>
                  <a:lnTo>
                    <a:pt x="982" y="2"/>
                  </a:lnTo>
                  <a:lnTo>
                    <a:pt x="983" y="0"/>
                  </a:lnTo>
                  <a:lnTo>
                    <a:pt x="984" y="0"/>
                  </a:lnTo>
                  <a:lnTo>
                    <a:pt x="984" y="0"/>
                  </a:lnTo>
                  <a:close/>
                  <a:moveTo>
                    <a:pt x="1029" y="0"/>
                  </a:moveTo>
                  <a:lnTo>
                    <a:pt x="1049" y="0"/>
                  </a:lnTo>
                  <a:lnTo>
                    <a:pt x="1050" y="0"/>
                  </a:lnTo>
                  <a:lnTo>
                    <a:pt x="1051" y="2"/>
                  </a:lnTo>
                  <a:lnTo>
                    <a:pt x="1052" y="4"/>
                  </a:lnTo>
                  <a:lnTo>
                    <a:pt x="1052" y="6"/>
                  </a:lnTo>
                  <a:lnTo>
                    <a:pt x="1052" y="8"/>
                  </a:lnTo>
                  <a:lnTo>
                    <a:pt x="1051" y="10"/>
                  </a:lnTo>
                  <a:lnTo>
                    <a:pt x="1050" y="12"/>
                  </a:lnTo>
                  <a:lnTo>
                    <a:pt x="1049" y="12"/>
                  </a:lnTo>
                  <a:lnTo>
                    <a:pt x="1029" y="12"/>
                  </a:lnTo>
                  <a:lnTo>
                    <a:pt x="1028" y="12"/>
                  </a:lnTo>
                  <a:lnTo>
                    <a:pt x="1027" y="10"/>
                  </a:lnTo>
                  <a:lnTo>
                    <a:pt x="1026" y="8"/>
                  </a:lnTo>
                  <a:lnTo>
                    <a:pt x="1026" y="6"/>
                  </a:lnTo>
                  <a:lnTo>
                    <a:pt x="1026" y="4"/>
                  </a:lnTo>
                  <a:lnTo>
                    <a:pt x="1027" y="2"/>
                  </a:lnTo>
                  <a:lnTo>
                    <a:pt x="1028" y="0"/>
                  </a:lnTo>
                  <a:lnTo>
                    <a:pt x="1029" y="0"/>
                  </a:lnTo>
                  <a:lnTo>
                    <a:pt x="1029" y="0"/>
                  </a:lnTo>
                  <a:close/>
                  <a:moveTo>
                    <a:pt x="1074" y="0"/>
                  </a:moveTo>
                  <a:lnTo>
                    <a:pt x="1093" y="0"/>
                  </a:lnTo>
                  <a:lnTo>
                    <a:pt x="1094" y="0"/>
                  </a:lnTo>
                  <a:lnTo>
                    <a:pt x="1096" y="2"/>
                  </a:lnTo>
                  <a:lnTo>
                    <a:pt x="1097" y="4"/>
                  </a:lnTo>
                  <a:lnTo>
                    <a:pt x="1097" y="6"/>
                  </a:lnTo>
                  <a:lnTo>
                    <a:pt x="1097" y="8"/>
                  </a:lnTo>
                  <a:lnTo>
                    <a:pt x="1096" y="10"/>
                  </a:lnTo>
                  <a:lnTo>
                    <a:pt x="1094" y="12"/>
                  </a:lnTo>
                  <a:lnTo>
                    <a:pt x="1093" y="12"/>
                  </a:lnTo>
                  <a:lnTo>
                    <a:pt x="1074" y="12"/>
                  </a:lnTo>
                  <a:lnTo>
                    <a:pt x="1073" y="12"/>
                  </a:lnTo>
                  <a:lnTo>
                    <a:pt x="1072" y="10"/>
                  </a:lnTo>
                  <a:lnTo>
                    <a:pt x="1071" y="8"/>
                  </a:lnTo>
                  <a:lnTo>
                    <a:pt x="1071" y="6"/>
                  </a:lnTo>
                  <a:lnTo>
                    <a:pt x="1071" y="4"/>
                  </a:lnTo>
                  <a:lnTo>
                    <a:pt x="1072" y="2"/>
                  </a:lnTo>
                  <a:lnTo>
                    <a:pt x="1073" y="0"/>
                  </a:lnTo>
                  <a:lnTo>
                    <a:pt x="1074" y="0"/>
                  </a:lnTo>
                  <a:lnTo>
                    <a:pt x="1074" y="0"/>
                  </a:lnTo>
                  <a:close/>
                  <a:moveTo>
                    <a:pt x="1118" y="0"/>
                  </a:moveTo>
                  <a:lnTo>
                    <a:pt x="1137" y="0"/>
                  </a:lnTo>
                  <a:lnTo>
                    <a:pt x="1138" y="0"/>
                  </a:lnTo>
                  <a:lnTo>
                    <a:pt x="1139" y="2"/>
                  </a:lnTo>
                  <a:lnTo>
                    <a:pt x="1141" y="4"/>
                  </a:lnTo>
                  <a:lnTo>
                    <a:pt x="1141" y="6"/>
                  </a:lnTo>
                  <a:lnTo>
                    <a:pt x="1141" y="8"/>
                  </a:lnTo>
                  <a:lnTo>
                    <a:pt x="1139" y="10"/>
                  </a:lnTo>
                  <a:lnTo>
                    <a:pt x="1138" y="12"/>
                  </a:lnTo>
                  <a:lnTo>
                    <a:pt x="1137" y="12"/>
                  </a:lnTo>
                  <a:lnTo>
                    <a:pt x="1118" y="12"/>
                  </a:lnTo>
                  <a:lnTo>
                    <a:pt x="1117" y="12"/>
                  </a:lnTo>
                  <a:lnTo>
                    <a:pt x="1116" y="10"/>
                  </a:lnTo>
                  <a:lnTo>
                    <a:pt x="1115" y="8"/>
                  </a:lnTo>
                  <a:lnTo>
                    <a:pt x="1115" y="6"/>
                  </a:lnTo>
                  <a:lnTo>
                    <a:pt x="1115" y="4"/>
                  </a:lnTo>
                  <a:lnTo>
                    <a:pt x="1116" y="2"/>
                  </a:lnTo>
                  <a:lnTo>
                    <a:pt x="1117" y="0"/>
                  </a:lnTo>
                  <a:lnTo>
                    <a:pt x="1118" y="0"/>
                  </a:lnTo>
                  <a:lnTo>
                    <a:pt x="1118" y="0"/>
                  </a:lnTo>
                  <a:close/>
                  <a:moveTo>
                    <a:pt x="1163" y="0"/>
                  </a:moveTo>
                  <a:lnTo>
                    <a:pt x="1182" y="0"/>
                  </a:lnTo>
                  <a:lnTo>
                    <a:pt x="1183" y="0"/>
                  </a:lnTo>
                  <a:lnTo>
                    <a:pt x="1184" y="2"/>
                  </a:lnTo>
                  <a:lnTo>
                    <a:pt x="1185" y="4"/>
                  </a:lnTo>
                  <a:lnTo>
                    <a:pt x="1185" y="6"/>
                  </a:lnTo>
                  <a:lnTo>
                    <a:pt x="1185" y="8"/>
                  </a:lnTo>
                  <a:lnTo>
                    <a:pt x="1184" y="10"/>
                  </a:lnTo>
                  <a:lnTo>
                    <a:pt x="1183" y="12"/>
                  </a:lnTo>
                  <a:lnTo>
                    <a:pt x="1182" y="12"/>
                  </a:lnTo>
                  <a:lnTo>
                    <a:pt x="1163" y="12"/>
                  </a:lnTo>
                  <a:lnTo>
                    <a:pt x="1162" y="12"/>
                  </a:lnTo>
                  <a:lnTo>
                    <a:pt x="1161" y="10"/>
                  </a:lnTo>
                  <a:lnTo>
                    <a:pt x="1160" y="8"/>
                  </a:lnTo>
                  <a:lnTo>
                    <a:pt x="1160" y="6"/>
                  </a:lnTo>
                  <a:lnTo>
                    <a:pt x="1160" y="4"/>
                  </a:lnTo>
                  <a:lnTo>
                    <a:pt x="1161" y="2"/>
                  </a:lnTo>
                  <a:lnTo>
                    <a:pt x="1162" y="0"/>
                  </a:lnTo>
                  <a:lnTo>
                    <a:pt x="1163" y="0"/>
                  </a:lnTo>
                  <a:lnTo>
                    <a:pt x="1163" y="0"/>
                  </a:lnTo>
                  <a:close/>
                  <a:moveTo>
                    <a:pt x="1208" y="0"/>
                  </a:moveTo>
                  <a:lnTo>
                    <a:pt x="1227" y="0"/>
                  </a:lnTo>
                  <a:lnTo>
                    <a:pt x="1228" y="0"/>
                  </a:lnTo>
                  <a:lnTo>
                    <a:pt x="1229" y="2"/>
                  </a:lnTo>
                  <a:lnTo>
                    <a:pt x="1230" y="4"/>
                  </a:lnTo>
                  <a:lnTo>
                    <a:pt x="1230" y="6"/>
                  </a:lnTo>
                  <a:lnTo>
                    <a:pt x="1230" y="8"/>
                  </a:lnTo>
                  <a:lnTo>
                    <a:pt x="1229" y="10"/>
                  </a:lnTo>
                  <a:lnTo>
                    <a:pt x="1228" y="12"/>
                  </a:lnTo>
                  <a:lnTo>
                    <a:pt x="1227" y="12"/>
                  </a:lnTo>
                  <a:lnTo>
                    <a:pt x="1208" y="12"/>
                  </a:lnTo>
                  <a:lnTo>
                    <a:pt x="1207" y="12"/>
                  </a:lnTo>
                  <a:lnTo>
                    <a:pt x="1206" y="10"/>
                  </a:lnTo>
                  <a:lnTo>
                    <a:pt x="1205" y="8"/>
                  </a:lnTo>
                  <a:lnTo>
                    <a:pt x="1205" y="6"/>
                  </a:lnTo>
                  <a:lnTo>
                    <a:pt x="1205" y="4"/>
                  </a:lnTo>
                  <a:lnTo>
                    <a:pt x="1206" y="2"/>
                  </a:lnTo>
                  <a:lnTo>
                    <a:pt x="1207" y="0"/>
                  </a:lnTo>
                  <a:lnTo>
                    <a:pt x="1208" y="0"/>
                  </a:lnTo>
                  <a:lnTo>
                    <a:pt x="1208" y="0"/>
                  </a:lnTo>
                  <a:close/>
                  <a:moveTo>
                    <a:pt x="1253" y="0"/>
                  </a:moveTo>
                  <a:lnTo>
                    <a:pt x="1271" y="0"/>
                  </a:lnTo>
                  <a:lnTo>
                    <a:pt x="1272" y="0"/>
                  </a:lnTo>
                  <a:lnTo>
                    <a:pt x="1274" y="2"/>
                  </a:lnTo>
                  <a:lnTo>
                    <a:pt x="1275" y="4"/>
                  </a:lnTo>
                  <a:lnTo>
                    <a:pt x="1275" y="6"/>
                  </a:lnTo>
                  <a:lnTo>
                    <a:pt x="1275" y="8"/>
                  </a:lnTo>
                  <a:lnTo>
                    <a:pt x="1274" y="10"/>
                  </a:lnTo>
                  <a:lnTo>
                    <a:pt x="1272" y="12"/>
                  </a:lnTo>
                  <a:lnTo>
                    <a:pt x="1271" y="12"/>
                  </a:lnTo>
                  <a:lnTo>
                    <a:pt x="1253" y="12"/>
                  </a:lnTo>
                  <a:lnTo>
                    <a:pt x="1252" y="12"/>
                  </a:lnTo>
                  <a:lnTo>
                    <a:pt x="1251" y="10"/>
                  </a:lnTo>
                  <a:lnTo>
                    <a:pt x="1250" y="8"/>
                  </a:lnTo>
                  <a:lnTo>
                    <a:pt x="1250" y="6"/>
                  </a:lnTo>
                  <a:lnTo>
                    <a:pt x="1250" y="4"/>
                  </a:lnTo>
                  <a:lnTo>
                    <a:pt x="1251" y="2"/>
                  </a:lnTo>
                  <a:lnTo>
                    <a:pt x="1252" y="0"/>
                  </a:lnTo>
                  <a:lnTo>
                    <a:pt x="1253" y="0"/>
                  </a:lnTo>
                  <a:lnTo>
                    <a:pt x="1253" y="0"/>
                  </a:lnTo>
                  <a:close/>
                  <a:moveTo>
                    <a:pt x="1297" y="0"/>
                  </a:moveTo>
                  <a:lnTo>
                    <a:pt x="1316" y="0"/>
                  </a:lnTo>
                  <a:lnTo>
                    <a:pt x="1317" y="0"/>
                  </a:lnTo>
                  <a:lnTo>
                    <a:pt x="1318" y="2"/>
                  </a:lnTo>
                  <a:lnTo>
                    <a:pt x="1319" y="4"/>
                  </a:lnTo>
                  <a:lnTo>
                    <a:pt x="1319" y="6"/>
                  </a:lnTo>
                  <a:lnTo>
                    <a:pt x="1319" y="8"/>
                  </a:lnTo>
                  <a:lnTo>
                    <a:pt x="1318" y="10"/>
                  </a:lnTo>
                  <a:lnTo>
                    <a:pt x="1317" y="12"/>
                  </a:lnTo>
                  <a:lnTo>
                    <a:pt x="1316" y="12"/>
                  </a:lnTo>
                  <a:lnTo>
                    <a:pt x="1297" y="12"/>
                  </a:lnTo>
                  <a:lnTo>
                    <a:pt x="1296" y="12"/>
                  </a:lnTo>
                  <a:lnTo>
                    <a:pt x="1295" y="10"/>
                  </a:lnTo>
                  <a:lnTo>
                    <a:pt x="1294" y="8"/>
                  </a:lnTo>
                  <a:lnTo>
                    <a:pt x="1294" y="6"/>
                  </a:lnTo>
                  <a:lnTo>
                    <a:pt x="1294" y="4"/>
                  </a:lnTo>
                  <a:lnTo>
                    <a:pt x="1295" y="2"/>
                  </a:lnTo>
                  <a:lnTo>
                    <a:pt x="1296" y="0"/>
                  </a:lnTo>
                  <a:lnTo>
                    <a:pt x="1297" y="0"/>
                  </a:lnTo>
                  <a:lnTo>
                    <a:pt x="1297" y="0"/>
                  </a:lnTo>
                  <a:close/>
                  <a:moveTo>
                    <a:pt x="1342" y="0"/>
                  </a:moveTo>
                  <a:lnTo>
                    <a:pt x="1361" y="0"/>
                  </a:lnTo>
                  <a:lnTo>
                    <a:pt x="1362" y="0"/>
                  </a:lnTo>
                  <a:lnTo>
                    <a:pt x="1363" y="2"/>
                  </a:lnTo>
                  <a:lnTo>
                    <a:pt x="1364" y="4"/>
                  </a:lnTo>
                  <a:lnTo>
                    <a:pt x="1364" y="6"/>
                  </a:lnTo>
                  <a:lnTo>
                    <a:pt x="1364" y="8"/>
                  </a:lnTo>
                  <a:lnTo>
                    <a:pt x="1363" y="10"/>
                  </a:lnTo>
                  <a:lnTo>
                    <a:pt x="1362" y="12"/>
                  </a:lnTo>
                  <a:lnTo>
                    <a:pt x="1361" y="12"/>
                  </a:lnTo>
                  <a:lnTo>
                    <a:pt x="1342" y="12"/>
                  </a:lnTo>
                  <a:lnTo>
                    <a:pt x="1341" y="12"/>
                  </a:lnTo>
                  <a:lnTo>
                    <a:pt x="1340" y="10"/>
                  </a:lnTo>
                  <a:lnTo>
                    <a:pt x="1338" y="8"/>
                  </a:lnTo>
                  <a:lnTo>
                    <a:pt x="1338" y="6"/>
                  </a:lnTo>
                  <a:lnTo>
                    <a:pt x="1338" y="4"/>
                  </a:lnTo>
                  <a:lnTo>
                    <a:pt x="1340" y="2"/>
                  </a:lnTo>
                  <a:lnTo>
                    <a:pt x="1341" y="0"/>
                  </a:lnTo>
                  <a:lnTo>
                    <a:pt x="1342" y="0"/>
                  </a:lnTo>
                  <a:lnTo>
                    <a:pt x="1342" y="0"/>
                  </a:lnTo>
                  <a:close/>
                  <a:moveTo>
                    <a:pt x="1386" y="0"/>
                  </a:moveTo>
                  <a:lnTo>
                    <a:pt x="1406" y="0"/>
                  </a:lnTo>
                  <a:lnTo>
                    <a:pt x="1407" y="0"/>
                  </a:lnTo>
                  <a:lnTo>
                    <a:pt x="1408" y="2"/>
                  </a:lnTo>
                  <a:lnTo>
                    <a:pt x="1409" y="4"/>
                  </a:lnTo>
                  <a:lnTo>
                    <a:pt x="1409" y="6"/>
                  </a:lnTo>
                  <a:lnTo>
                    <a:pt x="1409" y="8"/>
                  </a:lnTo>
                  <a:lnTo>
                    <a:pt x="1408" y="10"/>
                  </a:lnTo>
                  <a:lnTo>
                    <a:pt x="1407" y="12"/>
                  </a:lnTo>
                  <a:lnTo>
                    <a:pt x="1406" y="12"/>
                  </a:lnTo>
                  <a:lnTo>
                    <a:pt x="1386" y="12"/>
                  </a:lnTo>
                  <a:lnTo>
                    <a:pt x="1385" y="12"/>
                  </a:lnTo>
                  <a:lnTo>
                    <a:pt x="1384" y="10"/>
                  </a:lnTo>
                  <a:lnTo>
                    <a:pt x="1383" y="8"/>
                  </a:lnTo>
                  <a:lnTo>
                    <a:pt x="1383" y="6"/>
                  </a:lnTo>
                  <a:lnTo>
                    <a:pt x="1383" y="4"/>
                  </a:lnTo>
                  <a:lnTo>
                    <a:pt x="1384" y="2"/>
                  </a:lnTo>
                  <a:lnTo>
                    <a:pt x="1385" y="0"/>
                  </a:lnTo>
                  <a:lnTo>
                    <a:pt x="1386" y="0"/>
                  </a:lnTo>
                  <a:lnTo>
                    <a:pt x="1386" y="0"/>
                  </a:lnTo>
                  <a:close/>
                  <a:moveTo>
                    <a:pt x="1431" y="0"/>
                  </a:moveTo>
                  <a:lnTo>
                    <a:pt x="1450" y="0"/>
                  </a:lnTo>
                  <a:lnTo>
                    <a:pt x="1451" y="0"/>
                  </a:lnTo>
                  <a:lnTo>
                    <a:pt x="1453" y="2"/>
                  </a:lnTo>
                  <a:lnTo>
                    <a:pt x="1454" y="4"/>
                  </a:lnTo>
                  <a:lnTo>
                    <a:pt x="1454" y="6"/>
                  </a:lnTo>
                  <a:lnTo>
                    <a:pt x="1454" y="8"/>
                  </a:lnTo>
                  <a:lnTo>
                    <a:pt x="1453" y="10"/>
                  </a:lnTo>
                  <a:lnTo>
                    <a:pt x="1451" y="12"/>
                  </a:lnTo>
                  <a:lnTo>
                    <a:pt x="1450" y="12"/>
                  </a:lnTo>
                  <a:lnTo>
                    <a:pt x="1431" y="12"/>
                  </a:lnTo>
                  <a:lnTo>
                    <a:pt x="1430" y="12"/>
                  </a:lnTo>
                  <a:lnTo>
                    <a:pt x="1429" y="10"/>
                  </a:lnTo>
                  <a:lnTo>
                    <a:pt x="1428" y="8"/>
                  </a:lnTo>
                  <a:lnTo>
                    <a:pt x="1428" y="6"/>
                  </a:lnTo>
                  <a:lnTo>
                    <a:pt x="1428" y="4"/>
                  </a:lnTo>
                  <a:lnTo>
                    <a:pt x="1429" y="2"/>
                  </a:lnTo>
                  <a:lnTo>
                    <a:pt x="1430" y="0"/>
                  </a:lnTo>
                  <a:lnTo>
                    <a:pt x="1431" y="0"/>
                  </a:lnTo>
                  <a:lnTo>
                    <a:pt x="1431" y="0"/>
                  </a:lnTo>
                  <a:close/>
                  <a:moveTo>
                    <a:pt x="1475" y="0"/>
                  </a:moveTo>
                  <a:lnTo>
                    <a:pt x="1495" y="0"/>
                  </a:lnTo>
                  <a:lnTo>
                    <a:pt x="1496" y="0"/>
                  </a:lnTo>
                  <a:lnTo>
                    <a:pt x="1497" y="2"/>
                  </a:lnTo>
                  <a:lnTo>
                    <a:pt x="1498" y="4"/>
                  </a:lnTo>
                  <a:lnTo>
                    <a:pt x="1498" y="6"/>
                  </a:lnTo>
                  <a:lnTo>
                    <a:pt x="1498" y="8"/>
                  </a:lnTo>
                  <a:lnTo>
                    <a:pt x="1497" y="10"/>
                  </a:lnTo>
                  <a:lnTo>
                    <a:pt x="1496" y="12"/>
                  </a:lnTo>
                  <a:lnTo>
                    <a:pt x="1495" y="12"/>
                  </a:lnTo>
                  <a:lnTo>
                    <a:pt x="1475" y="12"/>
                  </a:lnTo>
                  <a:lnTo>
                    <a:pt x="1474" y="12"/>
                  </a:lnTo>
                  <a:lnTo>
                    <a:pt x="1473" y="10"/>
                  </a:lnTo>
                  <a:lnTo>
                    <a:pt x="1472" y="8"/>
                  </a:lnTo>
                  <a:lnTo>
                    <a:pt x="1472" y="6"/>
                  </a:lnTo>
                  <a:lnTo>
                    <a:pt x="1472" y="4"/>
                  </a:lnTo>
                  <a:lnTo>
                    <a:pt x="1473" y="2"/>
                  </a:lnTo>
                  <a:lnTo>
                    <a:pt x="1474" y="0"/>
                  </a:lnTo>
                  <a:lnTo>
                    <a:pt x="1475" y="0"/>
                  </a:lnTo>
                  <a:lnTo>
                    <a:pt x="1475" y="0"/>
                  </a:lnTo>
                  <a:close/>
                  <a:moveTo>
                    <a:pt x="1520" y="0"/>
                  </a:moveTo>
                  <a:lnTo>
                    <a:pt x="1540" y="0"/>
                  </a:lnTo>
                  <a:lnTo>
                    <a:pt x="1541" y="0"/>
                  </a:lnTo>
                  <a:lnTo>
                    <a:pt x="1542" y="2"/>
                  </a:lnTo>
                  <a:lnTo>
                    <a:pt x="1543" y="4"/>
                  </a:lnTo>
                  <a:lnTo>
                    <a:pt x="1543" y="6"/>
                  </a:lnTo>
                  <a:lnTo>
                    <a:pt x="1543" y="8"/>
                  </a:lnTo>
                  <a:lnTo>
                    <a:pt x="1542" y="10"/>
                  </a:lnTo>
                  <a:lnTo>
                    <a:pt x="1541" y="12"/>
                  </a:lnTo>
                  <a:lnTo>
                    <a:pt x="1540" y="12"/>
                  </a:lnTo>
                  <a:lnTo>
                    <a:pt x="1520" y="12"/>
                  </a:lnTo>
                  <a:lnTo>
                    <a:pt x="1519" y="12"/>
                  </a:lnTo>
                  <a:lnTo>
                    <a:pt x="1518" y="10"/>
                  </a:lnTo>
                  <a:lnTo>
                    <a:pt x="1517" y="8"/>
                  </a:lnTo>
                  <a:lnTo>
                    <a:pt x="1517" y="6"/>
                  </a:lnTo>
                  <a:lnTo>
                    <a:pt x="1517" y="4"/>
                  </a:lnTo>
                  <a:lnTo>
                    <a:pt x="1518" y="2"/>
                  </a:lnTo>
                  <a:lnTo>
                    <a:pt x="1519" y="0"/>
                  </a:lnTo>
                  <a:lnTo>
                    <a:pt x="1520" y="0"/>
                  </a:lnTo>
                  <a:lnTo>
                    <a:pt x="1520" y="0"/>
                  </a:lnTo>
                  <a:close/>
                  <a:moveTo>
                    <a:pt x="1565" y="0"/>
                  </a:moveTo>
                  <a:lnTo>
                    <a:pt x="1584" y="0"/>
                  </a:lnTo>
                  <a:lnTo>
                    <a:pt x="1585" y="0"/>
                  </a:lnTo>
                  <a:lnTo>
                    <a:pt x="1586" y="2"/>
                  </a:lnTo>
                  <a:lnTo>
                    <a:pt x="1587" y="4"/>
                  </a:lnTo>
                  <a:lnTo>
                    <a:pt x="1587" y="6"/>
                  </a:lnTo>
                  <a:lnTo>
                    <a:pt x="1587" y="8"/>
                  </a:lnTo>
                  <a:lnTo>
                    <a:pt x="1586" y="10"/>
                  </a:lnTo>
                  <a:lnTo>
                    <a:pt x="1585" y="12"/>
                  </a:lnTo>
                  <a:lnTo>
                    <a:pt x="1584" y="12"/>
                  </a:lnTo>
                  <a:lnTo>
                    <a:pt x="1565" y="12"/>
                  </a:lnTo>
                  <a:lnTo>
                    <a:pt x="1564" y="12"/>
                  </a:lnTo>
                  <a:lnTo>
                    <a:pt x="1563" y="10"/>
                  </a:lnTo>
                  <a:lnTo>
                    <a:pt x="1562" y="8"/>
                  </a:lnTo>
                  <a:lnTo>
                    <a:pt x="1562" y="6"/>
                  </a:lnTo>
                  <a:lnTo>
                    <a:pt x="1562" y="4"/>
                  </a:lnTo>
                  <a:lnTo>
                    <a:pt x="1563" y="2"/>
                  </a:lnTo>
                  <a:lnTo>
                    <a:pt x="1564" y="0"/>
                  </a:lnTo>
                  <a:lnTo>
                    <a:pt x="1565" y="0"/>
                  </a:lnTo>
                  <a:lnTo>
                    <a:pt x="1565" y="0"/>
                  </a:lnTo>
                  <a:close/>
                  <a:moveTo>
                    <a:pt x="1610" y="0"/>
                  </a:moveTo>
                  <a:lnTo>
                    <a:pt x="1628" y="0"/>
                  </a:lnTo>
                  <a:lnTo>
                    <a:pt x="1629" y="0"/>
                  </a:lnTo>
                  <a:lnTo>
                    <a:pt x="1631" y="2"/>
                  </a:lnTo>
                  <a:lnTo>
                    <a:pt x="1632" y="4"/>
                  </a:lnTo>
                  <a:lnTo>
                    <a:pt x="1632" y="6"/>
                  </a:lnTo>
                  <a:lnTo>
                    <a:pt x="1632" y="8"/>
                  </a:lnTo>
                  <a:lnTo>
                    <a:pt x="1631" y="10"/>
                  </a:lnTo>
                  <a:lnTo>
                    <a:pt x="1629" y="12"/>
                  </a:lnTo>
                  <a:lnTo>
                    <a:pt x="1628" y="12"/>
                  </a:lnTo>
                  <a:lnTo>
                    <a:pt x="1610" y="12"/>
                  </a:lnTo>
                  <a:lnTo>
                    <a:pt x="1609" y="12"/>
                  </a:lnTo>
                  <a:lnTo>
                    <a:pt x="1608" y="10"/>
                  </a:lnTo>
                  <a:lnTo>
                    <a:pt x="1607" y="8"/>
                  </a:lnTo>
                  <a:lnTo>
                    <a:pt x="1607" y="6"/>
                  </a:lnTo>
                  <a:lnTo>
                    <a:pt x="1607" y="4"/>
                  </a:lnTo>
                  <a:lnTo>
                    <a:pt x="1608" y="2"/>
                  </a:lnTo>
                  <a:lnTo>
                    <a:pt x="1609" y="0"/>
                  </a:lnTo>
                  <a:lnTo>
                    <a:pt x="1610" y="0"/>
                  </a:lnTo>
                  <a:lnTo>
                    <a:pt x="1610" y="0"/>
                  </a:lnTo>
                  <a:close/>
                  <a:moveTo>
                    <a:pt x="1654" y="0"/>
                  </a:moveTo>
                  <a:lnTo>
                    <a:pt x="1673" y="0"/>
                  </a:lnTo>
                  <a:lnTo>
                    <a:pt x="1674" y="0"/>
                  </a:lnTo>
                  <a:lnTo>
                    <a:pt x="1675" y="2"/>
                  </a:lnTo>
                  <a:lnTo>
                    <a:pt x="1676" y="4"/>
                  </a:lnTo>
                  <a:lnTo>
                    <a:pt x="1676" y="6"/>
                  </a:lnTo>
                  <a:lnTo>
                    <a:pt x="1676" y="8"/>
                  </a:lnTo>
                  <a:lnTo>
                    <a:pt x="1675" y="10"/>
                  </a:lnTo>
                  <a:lnTo>
                    <a:pt x="1674" y="12"/>
                  </a:lnTo>
                  <a:lnTo>
                    <a:pt x="1673" y="12"/>
                  </a:lnTo>
                  <a:lnTo>
                    <a:pt x="1654" y="12"/>
                  </a:lnTo>
                  <a:lnTo>
                    <a:pt x="1653" y="12"/>
                  </a:lnTo>
                  <a:lnTo>
                    <a:pt x="1652" y="10"/>
                  </a:lnTo>
                  <a:lnTo>
                    <a:pt x="1651" y="8"/>
                  </a:lnTo>
                  <a:lnTo>
                    <a:pt x="1651" y="6"/>
                  </a:lnTo>
                  <a:lnTo>
                    <a:pt x="1651" y="4"/>
                  </a:lnTo>
                  <a:lnTo>
                    <a:pt x="1652" y="2"/>
                  </a:lnTo>
                  <a:lnTo>
                    <a:pt x="1653" y="0"/>
                  </a:lnTo>
                  <a:lnTo>
                    <a:pt x="1654" y="0"/>
                  </a:lnTo>
                  <a:lnTo>
                    <a:pt x="1654" y="0"/>
                  </a:lnTo>
                  <a:close/>
                  <a:moveTo>
                    <a:pt x="1699" y="0"/>
                  </a:moveTo>
                  <a:lnTo>
                    <a:pt x="1718" y="0"/>
                  </a:lnTo>
                  <a:lnTo>
                    <a:pt x="1719" y="0"/>
                  </a:lnTo>
                  <a:lnTo>
                    <a:pt x="1720" y="2"/>
                  </a:lnTo>
                  <a:lnTo>
                    <a:pt x="1721" y="4"/>
                  </a:lnTo>
                  <a:lnTo>
                    <a:pt x="1721" y="6"/>
                  </a:lnTo>
                  <a:lnTo>
                    <a:pt x="1721" y="8"/>
                  </a:lnTo>
                  <a:lnTo>
                    <a:pt x="1720" y="10"/>
                  </a:lnTo>
                  <a:lnTo>
                    <a:pt x="1719" y="12"/>
                  </a:lnTo>
                  <a:lnTo>
                    <a:pt x="1718" y="12"/>
                  </a:lnTo>
                  <a:lnTo>
                    <a:pt x="1699" y="12"/>
                  </a:lnTo>
                  <a:lnTo>
                    <a:pt x="1698" y="12"/>
                  </a:lnTo>
                  <a:lnTo>
                    <a:pt x="1697" y="10"/>
                  </a:lnTo>
                  <a:lnTo>
                    <a:pt x="1696" y="8"/>
                  </a:lnTo>
                  <a:lnTo>
                    <a:pt x="1696" y="6"/>
                  </a:lnTo>
                  <a:lnTo>
                    <a:pt x="1696" y="4"/>
                  </a:lnTo>
                  <a:lnTo>
                    <a:pt x="1697" y="2"/>
                  </a:lnTo>
                  <a:lnTo>
                    <a:pt x="1698" y="0"/>
                  </a:lnTo>
                  <a:lnTo>
                    <a:pt x="1699" y="0"/>
                  </a:lnTo>
                  <a:lnTo>
                    <a:pt x="1699" y="0"/>
                  </a:lnTo>
                  <a:close/>
                  <a:moveTo>
                    <a:pt x="1744" y="0"/>
                  </a:moveTo>
                  <a:lnTo>
                    <a:pt x="1763" y="0"/>
                  </a:lnTo>
                  <a:lnTo>
                    <a:pt x="1764" y="0"/>
                  </a:lnTo>
                  <a:lnTo>
                    <a:pt x="1765" y="2"/>
                  </a:lnTo>
                  <a:lnTo>
                    <a:pt x="1766" y="4"/>
                  </a:lnTo>
                  <a:lnTo>
                    <a:pt x="1766" y="6"/>
                  </a:lnTo>
                  <a:lnTo>
                    <a:pt x="1766" y="8"/>
                  </a:lnTo>
                  <a:lnTo>
                    <a:pt x="1765" y="10"/>
                  </a:lnTo>
                  <a:lnTo>
                    <a:pt x="1764" y="12"/>
                  </a:lnTo>
                  <a:lnTo>
                    <a:pt x="1763" y="12"/>
                  </a:lnTo>
                  <a:lnTo>
                    <a:pt x="1744" y="12"/>
                  </a:lnTo>
                  <a:lnTo>
                    <a:pt x="1743" y="12"/>
                  </a:lnTo>
                  <a:lnTo>
                    <a:pt x="1742" y="10"/>
                  </a:lnTo>
                  <a:lnTo>
                    <a:pt x="1741" y="8"/>
                  </a:lnTo>
                  <a:lnTo>
                    <a:pt x="1741" y="6"/>
                  </a:lnTo>
                  <a:lnTo>
                    <a:pt x="1741" y="4"/>
                  </a:lnTo>
                  <a:lnTo>
                    <a:pt x="1742" y="2"/>
                  </a:lnTo>
                  <a:lnTo>
                    <a:pt x="1743" y="0"/>
                  </a:lnTo>
                  <a:lnTo>
                    <a:pt x="1744" y="0"/>
                  </a:lnTo>
                  <a:lnTo>
                    <a:pt x="1744" y="0"/>
                  </a:lnTo>
                  <a:close/>
                  <a:moveTo>
                    <a:pt x="1789" y="0"/>
                  </a:moveTo>
                  <a:lnTo>
                    <a:pt x="1807" y="0"/>
                  </a:lnTo>
                  <a:lnTo>
                    <a:pt x="1808" y="0"/>
                  </a:lnTo>
                  <a:lnTo>
                    <a:pt x="1810" y="2"/>
                  </a:lnTo>
                  <a:lnTo>
                    <a:pt x="1811" y="4"/>
                  </a:lnTo>
                  <a:lnTo>
                    <a:pt x="1811" y="6"/>
                  </a:lnTo>
                  <a:lnTo>
                    <a:pt x="1811" y="8"/>
                  </a:lnTo>
                  <a:lnTo>
                    <a:pt x="1810" y="10"/>
                  </a:lnTo>
                  <a:lnTo>
                    <a:pt x="1808" y="12"/>
                  </a:lnTo>
                  <a:lnTo>
                    <a:pt x="1807" y="12"/>
                  </a:lnTo>
                  <a:lnTo>
                    <a:pt x="1789" y="12"/>
                  </a:lnTo>
                  <a:lnTo>
                    <a:pt x="1788" y="12"/>
                  </a:lnTo>
                  <a:lnTo>
                    <a:pt x="1787" y="10"/>
                  </a:lnTo>
                  <a:lnTo>
                    <a:pt x="1785" y="8"/>
                  </a:lnTo>
                  <a:lnTo>
                    <a:pt x="1785" y="6"/>
                  </a:lnTo>
                  <a:lnTo>
                    <a:pt x="1785" y="4"/>
                  </a:lnTo>
                  <a:lnTo>
                    <a:pt x="1787" y="2"/>
                  </a:lnTo>
                  <a:lnTo>
                    <a:pt x="1788" y="0"/>
                  </a:lnTo>
                  <a:lnTo>
                    <a:pt x="1789" y="0"/>
                  </a:lnTo>
                  <a:lnTo>
                    <a:pt x="1789" y="0"/>
                  </a:lnTo>
                  <a:close/>
                  <a:moveTo>
                    <a:pt x="1832" y="0"/>
                  </a:moveTo>
                  <a:lnTo>
                    <a:pt x="1852" y="0"/>
                  </a:lnTo>
                  <a:lnTo>
                    <a:pt x="1853" y="0"/>
                  </a:lnTo>
                  <a:lnTo>
                    <a:pt x="1854" y="2"/>
                  </a:lnTo>
                  <a:lnTo>
                    <a:pt x="1855" y="4"/>
                  </a:lnTo>
                  <a:lnTo>
                    <a:pt x="1855" y="6"/>
                  </a:lnTo>
                  <a:lnTo>
                    <a:pt x="1855" y="8"/>
                  </a:lnTo>
                  <a:lnTo>
                    <a:pt x="1854" y="10"/>
                  </a:lnTo>
                  <a:lnTo>
                    <a:pt x="1853" y="12"/>
                  </a:lnTo>
                  <a:lnTo>
                    <a:pt x="1852" y="12"/>
                  </a:lnTo>
                  <a:lnTo>
                    <a:pt x="1832" y="12"/>
                  </a:lnTo>
                  <a:lnTo>
                    <a:pt x="1831" y="12"/>
                  </a:lnTo>
                  <a:lnTo>
                    <a:pt x="1830" y="10"/>
                  </a:lnTo>
                  <a:lnTo>
                    <a:pt x="1829" y="8"/>
                  </a:lnTo>
                  <a:lnTo>
                    <a:pt x="1829" y="6"/>
                  </a:lnTo>
                  <a:lnTo>
                    <a:pt x="1829" y="4"/>
                  </a:lnTo>
                  <a:lnTo>
                    <a:pt x="1830" y="2"/>
                  </a:lnTo>
                  <a:lnTo>
                    <a:pt x="1831" y="0"/>
                  </a:lnTo>
                  <a:lnTo>
                    <a:pt x="1832" y="0"/>
                  </a:lnTo>
                  <a:lnTo>
                    <a:pt x="1832" y="0"/>
                  </a:lnTo>
                  <a:close/>
                  <a:moveTo>
                    <a:pt x="1877" y="0"/>
                  </a:moveTo>
                  <a:lnTo>
                    <a:pt x="1897" y="0"/>
                  </a:lnTo>
                  <a:lnTo>
                    <a:pt x="1898" y="0"/>
                  </a:lnTo>
                  <a:lnTo>
                    <a:pt x="1899" y="2"/>
                  </a:lnTo>
                  <a:lnTo>
                    <a:pt x="1900" y="4"/>
                  </a:lnTo>
                  <a:lnTo>
                    <a:pt x="1900" y="6"/>
                  </a:lnTo>
                  <a:lnTo>
                    <a:pt x="1900" y="8"/>
                  </a:lnTo>
                  <a:lnTo>
                    <a:pt x="1899" y="10"/>
                  </a:lnTo>
                  <a:lnTo>
                    <a:pt x="1898" y="12"/>
                  </a:lnTo>
                  <a:lnTo>
                    <a:pt x="1897" y="12"/>
                  </a:lnTo>
                  <a:lnTo>
                    <a:pt x="1877" y="12"/>
                  </a:lnTo>
                  <a:lnTo>
                    <a:pt x="1876" y="12"/>
                  </a:lnTo>
                  <a:lnTo>
                    <a:pt x="1875" y="10"/>
                  </a:lnTo>
                  <a:lnTo>
                    <a:pt x="1874" y="8"/>
                  </a:lnTo>
                  <a:lnTo>
                    <a:pt x="1874" y="6"/>
                  </a:lnTo>
                  <a:lnTo>
                    <a:pt x="1874" y="4"/>
                  </a:lnTo>
                  <a:lnTo>
                    <a:pt x="1875" y="2"/>
                  </a:lnTo>
                  <a:lnTo>
                    <a:pt x="1876" y="0"/>
                  </a:lnTo>
                  <a:lnTo>
                    <a:pt x="1877" y="0"/>
                  </a:lnTo>
                  <a:lnTo>
                    <a:pt x="1877" y="0"/>
                  </a:lnTo>
                  <a:close/>
                  <a:moveTo>
                    <a:pt x="1922" y="0"/>
                  </a:moveTo>
                  <a:lnTo>
                    <a:pt x="1942" y="0"/>
                  </a:lnTo>
                  <a:lnTo>
                    <a:pt x="1943" y="0"/>
                  </a:lnTo>
                  <a:lnTo>
                    <a:pt x="1944" y="2"/>
                  </a:lnTo>
                  <a:lnTo>
                    <a:pt x="1945" y="4"/>
                  </a:lnTo>
                  <a:lnTo>
                    <a:pt x="1945" y="6"/>
                  </a:lnTo>
                  <a:lnTo>
                    <a:pt x="1945" y="8"/>
                  </a:lnTo>
                  <a:lnTo>
                    <a:pt x="1944" y="10"/>
                  </a:lnTo>
                  <a:lnTo>
                    <a:pt x="1943" y="12"/>
                  </a:lnTo>
                  <a:lnTo>
                    <a:pt x="1942" y="12"/>
                  </a:lnTo>
                  <a:lnTo>
                    <a:pt x="1922" y="12"/>
                  </a:lnTo>
                  <a:lnTo>
                    <a:pt x="1921" y="12"/>
                  </a:lnTo>
                  <a:lnTo>
                    <a:pt x="1920" y="10"/>
                  </a:lnTo>
                  <a:lnTo>
                    <a:pt x="1919" y="8"/>
                  </a:lnTo>
                  <a:lnTo>
                    <a:pt x="1919" y="6"/>
                  </a:lnTo>
                  <a:lnTo>
                    <a:pt x="1919" y="4"/>
                  </a:lnTo>
                  <a:lnTo>
                    <a:pt x="1920" y="2"/>
                  </a:lnTo>
                  <a:lnTo>
                    <a:pt x="1921" y="0"/>
                  </a:lnTo>
                  <a:lnTo>
                    <a:pt x="1922" y="0"/>
                  </a:lnTo>
                  <a:lnTo>
                    <a:pt x="1922" y="0"/>
                  </a:lnTo>
                  <a:close/>
                  <a:moveTo>
                    <a:pt x="1967" y="0"/>
                  </a:moveTo>
                  <a:lnTo>
                    <a:pt x="1986" y="0"/>
                  </a:lnTo>
                  <a:lnTo>
                    <a:pt x="1987" y="0"/>
                  </a:lnTo>
                  <a:lnTo>
                    <a:pt x="1989" y="2"/>
                  </a:lnTo>
                  <a:lnTo>
                    <a:pt x="1990" y="4"/>
                  </a:lnTo>
                  <a:lnTo>
                    <a:pt x="1990" y="6"/>
                  </a:lnTo>
                  <a:lnTo>
                    <a:pt x="1990" y="8"/>
                  </a:lnTo>
                  <a:lnTo>
                    <a:pt x="1989" y="10"/>
                  </a:lnTo>
                  <a:lnTo>
                    <a:pt x="1987" y="12"/>
                  </a:lnTo>
                  <a:lnTo>
                    <a:pt x="1986" y="12"/>
                  </a:lnTo>
                  <a:lnTo>
                    <a:pt x="1967" y="12"/>
                  </a:lnTo>
                  <a:lnTo>
                    <a:pt x="1966" y="12"/>
                  </a:lnTo>
                  <a:lnTo>
                    <a:pt x="1965" y="10"/>
                  </a:lnTo>
                  <a:lnTo>
                    <a:pt x="1964" y="8"/>
                  </a:lnTo>
                  <a:lnTo>
                    <a:pt x="1964" y="6"/>
                  </a:lnTo>
                  <a:lnTo>
                    <a:pt x="1964" y="4"/>
                  </a:lnTo>
                  <a:lnTo>
                    <a:pt x="1965" y="2"/>
                  </a:lnTo>
                  <a:lnTo>
                    <a:pt x="1966" y="0"/>
                  </a:lnTo>
                  <a:lnTo>
                    <a:pt x="1967" y="0"/>
                  </a:lnTo>
                  <a:lnTo>
                    <a:pt x="1967" y="0"/>
                  </a:lnTo>
                  <a:close/>
                  <a:moveTo>
                    <a:pt x="2011" y="0"/>
                  </a:moveTo>
                  <a:lnTo>
                    <a:pt x="2030" y="0"/>
                  </a:lnTo>
                  <a:lnTo>
                    <a:pt x="2031" y="0"/>
                  </a:lnTo>
                  <a:lnTo>
                    <a:pt x="2032" y="2"/>
                  </a:lnTo>
                  <a:lnTo>
                    <a:pt x="2033" y="4"/>
                  </a:lnTo>
                  <a:lnTo>
                    <a:pt x="2033" y="6"/>
                  </a:lnTo>
                  <a:lnTo>
                    <a:pt x="2033" y="8"/>
                  </a:lnTo>
                  <a:lnTo>
                    <a:pt x="2032" y="10"/>
                  </a:lnTo>
                  <a:lnTo>
                    <a:pt x="2031" y="12"/>
                  </a:lnTo>
                  <a:lnTo>
                    <a:pt x="2030" y="12"/>
                  </a:lnTo>
                  <a:lnTo>
                    <a:pt x="2011" y="12"/>
                  </a:lnTo>
                  <a:lnTo>
                    <a:pt x="2010" y="12"/>
                  </a:lnTo>
                  <a:lnTo>
                    <a:pt x="2009" y="10"/>
                  </a:lnTo>
                  <a:lnTo>
                    <a:pt x="2008" y="8"/>
                  </a:lnTo>
                  <a:lnTo>
                    <a:pt x="2008" y="6"/>
                  </a:lnTo>
                  <a:lnTo>
                    <a:pt x="2008" y="4"/>
                  </a:lnTo>
                  <a:lnTo>
                    <a:pt x="2009" y="2"/>
                  </a:lnTo>
                  <a:lnTo>
                    <a:pt x="2010" y="0"/>
                  </a:lnTo>
                  <a:lnTo>
                    <a:pt x="2011" y="0"/>
                  </a:lnTo>
                  <a:lnTo>
                    <a:pt x="2011" y="0"/>
                  </a:lnTo>
                  <a:close/>
                  <a:moveTo>
                    <a:pt x="2056" y="0"/>
                  </a:moveTo>
                  <a:lnTo>
                    <a:pt x="2075" y="0"/>
                  </a:lnTo>
                  <a:lnTo>
                    <a:pt x="2076" y="0"/>
                  </a:lnTo>
                  <a:lnTo>
                    <a:pt x="2077" y="2"/>
                  </a:lnTo>
                  <a:lnTo>
                    <a:pt x="2078" y="4"/>
                  </a:lnTo>
                  <a:lnTo>
                    <a:pt x="2078" y="6"/>
                  </a:lnTo>
                  <a:lnTo>
                    <a:pt x="2078" y="8"/>
                  </a:lnTo>
                  <a:lnTo>
                    <a:pt x="2077" y="10"/>
                  </a:lnTo>
                  <a:lnTo>
                    <a:pt x="2076" y="12"/>
                  </a:lnTo>
                  <a:lnTo>
                    <a:pt x="2075" y="12"/>
                  </a:lnTo>
                  <a:lnTo>
                    <a:pt x="2056" y="12"/>
                  </a:lnTo>
                  <a:lnTo>
                    <a:pt x="2055" y="12"/>
                  </a:lnTo>
                  <a:lnTo>
                    <a:pt x="2054" y="10"/>
                  </a:lnTo>
                  <a:lnTo>
                    <a:pt x="2053" y="8"/>
                  </a:lnTo>
                  <a:lnTo>
                    <a:pt x="2053" y="6"/>
                  </a:lnTo>
                  <a:lnTo>
                    <a:pt x="2053" y="4"/>
                  </a:lnTo>
                  <a:lnTo>
                    <a:pt x="2054" y="2"/>
                  </a:lnTo>
                  <a:lnTo>
                    <a:pt x="2055" y="0"/>
                  </a:lnTo>
                  <a:lnTo>
                    <a:pt x="2056" y="0"/>
                  </a:lnTo>
                  <a:lnTo>
                    <a:pt x="2056" y="0"/>
                  </a:lnTo>
                  <a:close/>
                  <a:moveTo>
                    <a:pt x="2101" y="0"/>
                  </a:moveTo>
                  <a:lnTo>
                    <a:pt x="2120" y="0"/>
                  </a:lnTo>
                  <a:lnTo>
                    <a:pt x="2121" y="0"/>
                  </a:lnTo>
                  <a:lnTo>
                    <a:pt x="2122" y="2"/>
                  </a:lnTo>
                  <a:lnTo>
                    <a:pt x="2123" y="4"/>
                  </a:lnTo>
                  <a:lnTo>
                    <a:pt x="2123" y="6"/>
                  </a:lnTo>
                  <a:lnTo>
                    <a:pt x="2123" y="8"/>
                  </a:lnTo>
                  <a:lnTo>
                    <a:pt x="2122" y="10"/>
                  </a:lnTo>
                  <a:lnTo>
                    <a:pt x="2121" y="12"/>
                  </a:lnTo>
                  <a:lnTo>
                    <a:pt x="2120" y="12"/>
                  </a:lnTo>
                  <a:lnTo>
                    <a:pt x="2101" y="12"/>
                  </a:lnTo>
                  <a:lnTo>
                    <a:pt x="2100" y="12"/>
                  </a:lnTo>
                  <a:lnTo>
                    <a:pt x="2099" y="10"/>
                  </a:lnTo>
                  <a:lnTo>
                    <a:pt x="2098" y="8"/>
                  </a:lnTo>
                  <a:lnTo>
                    <a:pt x="2098" y="6"/>
                  </a:lnTo>
                  <a:lnTo>
                    <a:pt x="2098" y="4"/>
                  </a:lnTo>
                  <a:lnTo>
                    <a:pt x="2099" y="2"/>
                  </a:lnTo>
                  <a:lnTo>
                    <a:pt x="2100" y="0"/>
                  </a:lnTo>
                  <a:lnTo>
                    <a:pt x="2101" y="0"/>
                  </a:lnTo>
                  <a:lnTo>
                    <a:pt x="2101" y="0"/>
                  </a:lnTo>
                  <a:close/>
                  <a:moveTo>
                    <a:pt x="2146" y="0"/>
                  </a:moveTo>
                  <a:lnTo>
                    <a:pt x="2164" y="0"/>
                  </a:lnTo>
                  <a:lnTo>
                    <a:pt x="2165" y="0"/>
                  </a:lnTo>
                  <a:lnTo>
                    <a:pt x="2167" y="2"/>
                  </a:lnTo>
                  <a:lnTo>
                    <a:pt x="2168" y="4"/>
                  </a:lnTo>
                  <a:lnTo>
                    <a:pt x="2168" y="6"/>
                  </a:lnTo>
                  <a:lnTo>
                    <a:pt x="2168" y="8"/>
                  </a:lnTo>
                  <a:lnTo>
                    <a:pt x="2167" y="10"/>
                  </a:lnTo>
                  <a:lnTo>
                    <a:pt x="2165" y="12"/>
                  </a:lnTo>
                  <a:lnTo>
                    <a:pt x="2164" y="12"/>
                  </a:lnTo>
                  <a:lnTo>
                    <a:pt x="2146" y="12"/>
                  </a:lnTo>
                  <a:lnTo>
                    <a:pt x="2145" y="12"/>
                  </a:lnTo>
                  <a:lnTo>
                    <a:pt x="2144" y="10"/>
                  </a:lnTo>
                  <a:lnTo>
                    <a:pt x="2143" y="8"/>
                  </a:lnTo>
                  <a:lnTo>
                    <a:pt x="2143" y="6"/>
                  </a:lnTo>
                  <a:lnTo>
                    <a:pt x="2143" y="4"/>
                  </a:lnTo>
                  <a:lnTo>
                    <a:pt x="2144" y="2"/>
                  </a:lnTo>
                  <a:lnTo>
                    <a:pt x="2145" y="0"/>
                  </a:lnTo>
                  <a:lnTo>
                    <a:pt x="2146" y="0"/>
                  </a:lnTo>
                  <a:lnTo>
                    <a:pt x="2146" y="0"/>
                  </a:lnTo>
                  <a:close/>
                  <a:moveTo>
                    <a:pt x="2190" y="0"/>
                  </a:moveTo>
                  <a:lnTo>
                    <a:pt x="2209" y="0"/>
                  </a:lnTo>
                  <a:lnTo>
                    <a:pt x="2210" y="0"/>
                  </a:lnTo>
                  <a:lnTo>
                    <a:pt x="2211" y="2"/>
                  </a:lnTo>
                  <a:lnTo>
                    <a:pt x="2212" y="4"/>
                  </a:lnTo>
                  <a:lnTo>
                    <a:pt x="2212" y="6"/>
                  </a:lnTo>
                  <a:lnTo>
                    <a:pt x="2212" y="8"/>
                  </a:lnTo>
                  <a:lnTo>
                    <a:pt x="2211" y="10"/>
                  </a:lnTo>
                  <a:lnTo>
                    <a:pt x="2210" y="12"/>
                  </a:lnTo>
                  <a:lnTo>
                    <a:pt x="2209" y="12"/>
                  </a:lnTo>
                  <a:lnTo>
                    <a:pt x="2190" y="12"/>
                  </a:lnTo>
                  <a:lnTo>
                    <a:pt x="2189" y="12"/>
                  </a:lnTo>
                  <a:lnTo>
                    <a:pt x="2188" y="10"/>
                  </a:lnTo>
                  <a:lnTo>
                    <a:pt x="2187" y="8"/>
                  </a:lnTo>
                  <a:lnTo>
                    <a:pt x="2187" y="6"/>
                  </a:lnTo>
                  <a:lnTo>
                    <a:pt x="2187" y="4"/>
                  </a:lnTo>
                  <a:lnTo>
                    <a:pt x="2188" y="2"/>
                  </a:lnTo>
                  <a:lnTo>
                    <a:pt x="2189" y="0"/>
                  </a:lnTo>
                  <a:lnTo>
                    <a:pt x="2190" y="0"/>
                  </a:lnTo>
                  <a:lnTo>
                    <a:pt x="2190" y="0"/>
                  </a:lnTo>
                  <a:close/>
                  <a:moveTo>
                    <a:pt x="2235" y="0"/>
                  </a:moveTo>
                  <a:lnTo>
                    <a:pt x="2254" y="0"/>
                  </a:lnTo>
                  <a:lnTo>
                    <a:pt x="2255" y="0"/>
                  </a:lnTo>
                  <a:lnTo>
                    <a:pt x="2256" y="2"/>
                  </a:lnTo>
                  <a:lnTo>
                    <a:pt x="2257" y="4"/>
                  </a:lnTo>
                  <a:lnTo>
                    <a:pt x="2257" y="6"/>
                  </a:lnTo>
                  <a:lnTo>
                    <a:pt x="2257" y="8"/>
                  </a:lnTo>
                  <a:lnTo>
                    <a:pt x="2256" y="10"/>
                  </a:lnTo>
                  <a:lnTo>
                    <a:pt x="2255" y="12"/>
                  </a:lnTo>
                  <a:lnTo>
                    <a:pt x="2254" y="12"/>
                  </a:lnTo>
                  <a:lnTo>
                    <a:pt x="2235" y="12"/>
                  </a:lnTo>
                  <a:lnTo>
                    <a:pt x="2234" y="12"/>
                  </a:lnTo>
                  <a:lnTo>
                    <a:pt x="2232" y="10"/>
                  </a:lnTo>
                  <a:lnTo>
                    <a:pt x="2231" y="8"/>
                  </a:lnTo>
                  <a:lnTo>
                    <a:pt x="2231" y="6"/>
                  </a:lnTo>
                  <a:lnTo>
                    <a:pt x="2231" y="4"/>
                  </a:lnTo>
                  <a:lnTo>
                    <a:pt x="2232" y="2"/>
                  </a:lnTo>
                  <a:lnTo>
                    <a:pt x="2234" y="0"/>
                  </a:lnTo>
                  <a:lnTo>
                    <a:pt x="2235" y="0"/>
                  </a:lnTo>
                  <a:lnTo>
                    <a:pt x="2235" y="0"/>
                  </a:lnTo>
                  <a:close/>
                  <a:moveTo>
                    <a:pt x="2279" y="0"/>
                  </a:moveTo>
                  <a:lnTo>
                    <a:pt x="2299" y="0"/>
                  </a:lnTo>
                  <a:lnTo>
                    <a:pt x="2300" y="0"/>
                  </a:lnTo>
                  <a:lnTo>
                    <a:pt x="2301" y="2"/>
                  </a:lnTo>
                  <a:lnTo>
                    <a:pt x="2302" y="4"/>
                  </a:lnTo>
                  <a:lnTo>
                    <a:pt x="2302" y="6"/>
                  </a:lnTo>
                  <a:lnTo>
                    <a:pt x="2302" y="8"/>
                  </a:lnTo>
                  <a:lnTo>
                    <a:pt x="2301" y="10"/>
                  </a:lnTo>
                  <a:lnTo>
                    <a:pt x="2300" y="12"/>
                  </a:lnTo>
                  <a:lnTo>
                    <a:pt x="2299" y="12"/>
                  </a:lnTo>
                  <a:lnTo>
                    <a:pt x="2279" y="12"/>
                  </a:lnTo>
                  <a:lnTo>
                    <a:pt x="2278" y="12"/>
                  </a:lnTo>
                  <a:lnTo>
                    <a:pt x="2277" y="10"/>
                  </a:lnTo>
                  <a:lnTo>
                    <a:pt x="2276" y="8"/>
                  </a:lnTo>
                  <a:lnTo>
                    <a:pt x="2276" y="6"/>
                  </a:lnTo>
                  <a:lnTo>
                    <a:pt x="2276" y="4"/>
                  </a:lnTo>
                  <a:lnTo>
                    <a:pt x="2277" y="2"/>
                  </a:lnTo>
                  <a:lnTo>
                    <a:pt x="2278" y="0"/>
                  </a:lnTo>
                  <a:lnTo>
                    <a:pt x="2279" y="0"/>
                  </a:lnTo>
                  <a:lnTo>
                    <a:pt x="2279" y="0"/>
                  </a:lnTo>
                  <a:close/>
                  <a:moveTo>
                    <a:pt x="2324" y="0"/>
                  </a:moveTo>
                  <a:lnTo>
                    <a:pt x="2343" y="0"/>
                  </a:lnTo>
                  <a:lnTo>
                    <a:pt x="2344" y="0"/>
                  </a:lnTo>
                  <a:lnTo>
                    <a:pt x="2346" y="2"/>
                  </a:lnTo>
                  <a:lnTo>
                    <a:pt x="2347" y="4"/>
                  </a:lnTo>
                  <a:lnTo>
                    <a:pt x="2347" y="6"/>
                  </a:lnTo>
                  <a:lnTo>
                    <a:pt x="2347" y="8"/>
                  </a:lnTo>
                  <a:lnTo>
                    <a:pt x="2346" y="10"/>
                  </a:lnTo>
                  <a:lnTo>
                    <a:pt x="2344" y="12"/>
                  </a:lnTo>
                  <a:lnTo>
                    <a:pt x="2343" y="12"/>
                  </a:lnTo>
                  <a:lnTo>
                    <a:pt x="2324" y="12"/>
                  </a:lnTo>
                  <a:lnTo>
                    <a:pt x="2323" y="12"/>
                  </a:lnTo>
                  <a:lnTo>
                    <a:pt x="2322" y="10"/>
                  </a:lnTo>
                  <a:lnTo>
                    <a:pt x="2321" y="8"/>
                  </a:lnTo>
                  <a:lnTo>
                    <a:pt x="2321" y="6"/>
                  </a:lnTo>
                  <a:lnTo>
                    <a:pt x="2321" y="4"/>
                  </a:lnTo>
                  <a:lnTo>
                    <a:pt x="2322" y="2"/>
                  </a:lnTo>
                  <a:lnTo>
                    <a:pt x="2323" y="0"/>
                  </a:lnTo>
                  <a:lnTo>
                    <a:pt x="2324" y="0"/>
                  </a:lnTo>
                  <a:lnTo>
                    <a:pt x="2324" y="0"/>
                  </a:lnTo>
                  <a:close/>
                  <a:moveTo>
                    <a:pt x="2368" y="0"/>
                  </a:moveTo>
                  <a:lnTo>
                    <a:pt x="2388" y="0"/>
                  </a:lnTo>
                  <a:lnTo>
                    <a:pt x="2389" y="0"/>
                  </a:lnTo>
                  <a:lnTo>
                    <a:pt x="2390" y="2"/>
                  </a:lnTo>
                  <a:lnTo>
                    <a:pt x="2391" y="4"/>
                  </a:lnTo>
                  <a:lnTo>
                    <a:pt x="2391" y="6"/>
                  </a:lnTo>
                  <a:lnTo>
                    <a:pt x="2391" y="8"/>
                  </a:lnTo>
                  <a:lnTo>
                    <a:pt x="2390" y="10"/>
                  </a:lnTo>
                  <a:lnTo>
                    <a:pt x="2389" y="12"/>
                  </a:lnTo>
                  <a:lnTo>
                    <a:pt x="2388" y="12"/>
                  </a:lnTo>
                  <a:lnTo>
                    <a:pt x="2368" y="12"/>
                  </a:lnTo>
                  <a:lnTo>
                    <a:pt x="2367" y="12"/>
                  </a:lnTo>
                  <a:lnTo>
                    <a:pt x="2366" y="10"/>
                  </a:lnTo>
                  <a:lnTo>
                    <a:pt x="2365" y="8"/>
                  </a:lnTo>
                  <a:lnTo>
                    <a:pt x="2365" y="6"/>
                  </a:lnTo>
                  <a:lnTo>
                    <a:pt x="2365" y="4"/>
                  </a:lnTo>
                  <a:lnTo>
                    <a:pt x="2366" y="2"/>
                  </a:lnTo>
                  <a:lnTo>
                    <a:pt x="2367" y="0"/>
                  </a:lnTo>
                  <a:lnTo>
                    <a:pt x="2368" y="0"/>
                  </a:lnTo>
                  <a:lnTo>
                    <a:pt x="2368" y="0"/>
                  </a:lnTo>
                  <a:close/>
                  <a:moveTo>
                    <a:pt x="2413" y="0"/>
                  </a:moveTo>
                  <a:lnTo>
                    <a:pt x="2433" y="0"/>
                  </a:lnTo>
                  <a:lnTo>
                    <a:pt x="2434" y="0"/>
                  </a:lnTo>
                  <a:lnTo>
                    <a:pt x="2435" y="2"/>
                  </a:lnTo>
                  <a:lnTo>
                    <a:pt x="2436" y="4"/>
                  </a:lnTo>
                  <a:lnTo>
                    <a:pt x="2436" y="6"/>
                  </a:lnTo>
                  <a:lnTo>
                    <a:pt x="2436" y="8"/>
                  </a:lnTo>
                  <a:lnTo>
                    <a:pt x="2435" y="10"/>
                  </a:lnTo>
                  <a:lnTo>
                    <a:pt x="2434" y="12"/>
                  </a:lnTo>
                  <a:lnTo>
                    <a:pt x="2433" y="12"/>
                  </a:lnTo>
                  <a:lnTo>
                    <a:pt x="2413" y="12"/>
                  </a:lnTo>
                  <a:lnTo>
                    <a:pt x="2412" y="12"/>
                  </a:lnTo>
                  <a:lnTo>
                    <a:pt x="2411" y="10"/>
                  </a:lnTo>
                  <a:lnTo>
                    <a:pt x="2410" y="8"/>
                  </a:lnTo>
                  <a:lnTo>
                    <a:pt x="2410" y="6"/>
                  </a:lnTo>
                  <a:lnTo>
                    <a:pt x="2410" y="4"/>
                  </a:lnTo>
                  <a:lnTo>
                    <a:pt x="2411" y="2"/>
                  </a:lnTo>
                  <a:lnTo>
                    <a:pt x="2412" y="0"/>
                  </a:lnTo>
                  <a:lnTo>
                    <a:pt x="2413" y="0"/>
                  </a:lnTo>
                  <a:lnTo>
                    <a:pt x="2413" y="0"/>
                  </a:lnTo>
                  <a:close/>
                  <a:moveTo>
                    <a:pt x="2458" y="0"/>
                  </a:moveTo>
                  <a:lnTo>
                    <a:pt x="2477" y="0"/>
                  </a:lnTo>
                  <a:lnTo>
                    <a:pt x="2478" y="0"/>
                  </a:lnTo>
                  <a:lnTo>
                    <a:pt x="2479" y="2"/>
                  </a:lnTo>
                  <a:lnTo>
                    <a:pt x="2480" y="4"/>
                  </a:lnTo>
                  <a:lnTo>
                    <a:pt x="2480" y="6"/>
                  </a:lnTo>
                  <a:lnTo>
                    <a:pt x="2480" y="8"/>
                  </a:lnTo>
                  <a:lnTo>
                    <a:pt x="2479" y="10"/>
                  </a:lnTo>
                  <a:lnTo>
                    <a:pt x="2478" y="12"/>
                  </a:lnTo>
                  <a:lnTo>
                    <a:pt x="2477" y="12"/>
                  </a:lnTo>
                  <a:lnTo>
                    <a:pt x="2458" y="12"/>
                  </a:lnTo>
                  <a:lnTo>
                    <a:pt x="2457" y="12"/>
                  </a:lnTo>
                  <a:lnTo>
                    <a:pt x="2456" y="10"/>
                  </a:lnTo>
                  <a:lnTo>
                    <a:pt x="2455" y="8"/>
                  </a:lnTo>
                  <a:lnTo>
                    <a:pt x="2455" y="6"/>
                  </a:lnTo>
                  <a:lnTo>
                    <a:pt x="2455" y="4"/>
                  </a:lnTo>
                  <a:lnTo>
                    <a:pt x="2456" y="2"/>
                  </a:lnTo>
                  <a:lnTo>
                    <a:pt x="2457" y="0"/>
                  </a:lnTo>
                  <a:lnTo>
                    <a:pt x="2458" y="0"/>
                  </a:lnTo>
                  <a:lnTo>
                    <a:pt x="2458" y="0"/>
                  </a:lnTo>
                  <a:close/>
                  <a:moveTo>
                    <a:pt x="2503" y="0"/>
                  </a:moveTo>
                  <a:lnTo>
                    <a:pt x="2521" y="0"/>
                  </a:lnTo>
                  <a:lnTo>
                    <a:pt x="2522" y="0"/>
                  </a:lnTo>
                  <a:lnTo>
                    <a:pt x="2524" y="2"/>
                  </a:lnTo>
                  <a:lnTo>
                    <a:pt x="2525" y="4"/>
                  </a:lnTo>
                  <a:lnTo>
                    <a:pt x="2525" y="6"/>
                  </a:lnTo>
                  <a:lnTo>
                    <a:pt x="2525" y="8"/>
                  </a:lnTo>
                  <a:lnTo>
                    <a:pt x="2524" y="10"/>
                  </a:lnTo>
                  <a:lnTo>
                    <a:pt x="2522" y="12"/>
                  </a:lnTo>
                  <a:lnTo>
                    <a:pt x="2521" y="12"/>
                  </a:lnTo>
                  <a:lnTo>
                    <a:pt x="2503" y="12"/>
                  </a:lnTo>
                  <a:lnTo>
                    <a:pt x="2502" y="12"/>
                  </a:lnTo>
                  <a:lnTo>
                    <a:pt x="2501" y="10"/>
                  </a:lnTo>
                  <a:lnTo>
                    <a:pt x="2500" y="8"/>
                  </a:lnTo>
                  <a:lnTo>
                    <a:pt x="2500" y="6"/>
                  </a:lnTo>
                  <a:lnTo>
                    <a:pt x="2500" y="4"/>
                  </a:lnTo>
                  <a:lnTo>
                    <a:pt x="2501" y="2"/>
                  </a:lnTo>
                  <a:lnTo>
                    <a:pt x="2502" y="0"/>
                  </a:lnTo>
                  <a:lnTo>
                    <a:pt x="2503" y="0"/>
                  </a:lnTo>
                  <a:lnTo>
                    <a:pt x="2503" y="0"/>
                  </a:lnTo>
                  <a:close/>
                  <a:moveTo>
                    <a:pt x="2547" y="0"/>
                  </a:moveTo>
                  <a:lnTo>
                    <a:pt x="2566" y="0"/>
                  </a:lnTo>
                  <a:lnTo>
                    <a:pt x="2567" y="0"/>
                  </a:lnTo>
                  <a:lnTo>
                    <a:pt x="2568" y="2"/>
                  </a:lnTo>
                  <a:lnTo>
                    <a:pt x="2569" y="4"/>
                  </a:lnTo>
                  <a:lnTo>
                    <a:pt x="2569" y="6"/>
                  </a:lnTo>
                  <a:lnTo>
                    <a:pt x="2569" y="8"/>
                  </a:lnTo>
                  <a:lnTo>
                    <a:pt x="2568" y="10"/>
                  </a:lnTo>
                  <a:lnTo>
                    <a:pt x="2567" y="12"/>
                  </a:lnTo>
                  <a:lnTo>
                    <a:pt x="2566" y="12"/>
                  </a:lnTo>
                  <a:lnTo>
                    <a:pt x="2547" y="12"/>
                  </a:lnTo>
                  <a:lnTo>
                    <a:pt x="2546" y="12"/>
                  </a:lnTo>
                  <a:lnTo>
                    <a:pt x="2545" y="10"/>
                  </a:lnTo>
                  <a:lnTo>
                    <a:pt x="2544" y="8"/>
                  </a:lnTo>
                  <a:lnTo>
                    <a:pt x="2544" y="6"/>
                  </a:lnTo>
                  <a:lnTo>
                    <a:pt x="2544" y="4"/>
                  </a:lnTo>
                  <a:lnTo>
                    <a:pt x="2545" y="2"/>
                  </a:lnTo>
                  <a:lnTo>
                    <a:pt x="2546" y="0"/>
                  </a:lnTo>
                  <a:lnTo>
                    <a:pt x="2547" y="0"/>
                  </a:lnTo>
                  <a:lnTo>
                    <a:pt x="2547" y="0"/>
                  </a:lnTo>
                  <a:close/>
                  <a:moveTo>
                    <a:pt x="2592" y="0"/>
                  </a:moveTo>
                  <a:lnTo>
                    <a:pt x="2611" y="0"/>
                  </a:lnTo>
                  <a:lnTo>
                    <a:pt x="2612" y="0"/>
                  </a:lnTo>
                  <a:lnTo>
                    <a:pt x="2613" y="2"/>
                  </a:lnTo>
                  <a:lnTo>
                    <a:pt x="2614" y="4"/>
                  </a:lnTo>
                  <a:lnTo>
                    <a:pt x="2614" y="6"/>
                  </a:lnTo>
                  <a:lnTo>
                    <a:pt x="2614" y="8"/>
                  </a:lnTo>
                  <a:lnTo>
                    <a:pt x="2613" y="10"/>
                  </a:lnTo>
                  <a:lnTo>
                    <a:pt x="2612" y="12"/>
                  </a:lnTo>
                  <a:lnTo>
                    <a:pt x="2611" y="12"/>
                  </a:lnTo>
                  <a:lnTo>
                    <a:pt x="2592" y="12"/>
                  </a:lnTo>
                  <a:lnTo>
                    <a:pt x="2591" y="12"/>
                  </a:lnTo>
                  <a:lnTo>
                    <a:pt x="2590" y="10"/>
                  </a:lnTo>
                  <a:lnTo>
                    <a:pt x="2589" y="8"/>
                  </a:lnTo>
                  <a:lnTo>
                    <a:pt x="2589" y="6"/>
                  </a:lnTo>
                  <a:lnTo>
                    <a:pt x="2589" y="4"/>
                  </a:lnTo>
                  <a:lnTo>
                    <a:pt x="2590" y="2"/>
                  </a:lnTo>
                  <a:lnTo>
                    <a:pt x="2591" y="0"/>
                  </a:lnTo>
                  <a:lnTo>
                    <a:pt x="2592" y="0"/>
                  </a:lnTo>
                  <a:lnTo>
                    <a:pt x="2592" y="0"/>
                  </a:lnTo>
                  <a:close/>
                  <a:moveTo>
                    <a:pt x="2637" y="0"/>
                  </a:moveTo>
                  <a:lnTo>
                    <a:pt x="2656" y="0"/>
                  </a:lnTo>
                  <a:lnTo>
                    <a:pt x="2657" y="0"/>
                  </a:lnTo>
                  <a:lnTo>
                    <a:pt x="2658" y="2"/>
                  </a:lnTo>
                  <a:lnTo>
                    <a:pt x="2659" y="4"/>
                  </a:lnTo>
                  <a:lnTo>
                    <a:pt x="2659" y="6"/>
                  </a:lnTo>
                  <a:lnTo>
                    <a:pt x="2659" y="8"/>
                  </a:lnTo>
                  <a:lnTo>
                    <a:pt x="2658" y="10"/>
                  </a:lnTo>
                  <a:lnTo>
                    <a:pt x="2657" y="12"/>
                  </a:lnTo>
                  <a:lnTo>
                    <a:pt x="2656" y="12"/>
                  </a:lnTo>
                  <a:lnTo>
                    <a:pt x="2637" y="12"/>
                  </a:lnTo>
                  <a:lnTo>
                    <a:pt x="2636" y="12"/>
                  </a:lnTo>
                  <a:lnTo>
                    <a:pt x="2635" y="10"/>
                  </a:lnTo>
                  <a:lnTo>
                    <a:pt x="2634" y="8"/>
                  </a:lnTo>
                  <a:lnTo>
                    <a:pt x="2634" y="6"/>
                  </a:lnTo>
                  <a:lnTo>
                    <a:pt x="2634" y="4"/>
                  </a:lnTo>
                  <a:lnTo>
                    <a:pt x="2635" y="2"/>
                  </a:lnTo>
                  <a:lnTo>
                    <a:pt x="2636" y="0"/>
                  </a:lnTo>
                  <a:lnTo>
                    <a:pt x="2637" y="0"/>
                  </a:lnTo>
                  <a:lnTo>
                    <a:pt x="2637" y="0"/>
                  </a:lnTo>
                  <a:close/>
                  <a:moveTo>
                    <a:pt x="2682" y="0"/>
                  </a:moveTo>
                  <a:lnTo>
                    <a:pt x="2700" y="0"/>
                  </a:lnTo>
                  <a:lnTo>
                    <a:pt x="2701" y="0"/>
                  </a:lnTo>
                  <a:lnTo>
                    <a:pt x="2703" y="2"/>
                  </a:lnTo>
                  <a:lnTo>
                    <a:pt x="2704" y="4"/>
                  </a:lnTo>
                  <a:lnTo>
                    <a:pt x="2704" y="6"/>
                  </a:lnTo>
                  <a:lnTo>
                    <a:pt x="2704" y="8"/>
                  </a:lnTo>
                  <a:lnTo>
                    <a:pt x="2703" y="10"/>
                  </a:lnTo>
                  <a:lnTo>
                    <a:pt x="2701" y="12"/>
                  </a:lnTo>
                  <a:lnTo>
                    <a:pt x="2700" y="12"/>
                  </a:lnTo>
                  <a:lnTo>
                    <a:pt x="2682" y="12"/>
                  </a:lnTo>
                  <a:lnTo>
                    <a:pt x="2680" y="12"/>
                  </a:lnTo>
                  <a:lnTo>
                    <a:pt x="2679" y="10"/>
                  </a:lnTo>
                  <a:lnTo>
                    <a:pt x="2678" y="8"/>
                  </a:lnTo>
                  <a:lnTo>
                    <a:pt x="2678" y="6"/>
                  </a:lnTo>
                  <a:lnTo>
                    <a:pt x="2678" y="4"/>
                  </a:lnTo>
                  <a:lnTo>
                    <a:pt x="2679" y="2"/>
                  </a:lnTo>
                  <a:lnTo>
                    <a:pt x="2680" y="0"/>
                  </a:lnTo>
                  <a:lnTo>
                    <a:pt x="2682" y="0"/>
                  </a:lnTo>
                  <a:lnTo>
                    <a:pt x="2682" y="0"/>
                  </a:lnTo>
                  <a:close/>
                  <a:moveTo>
                    <a:pt x="2725" y="0"/>
                  </a:moveTo>
                  <a:lnTo>
                    <a:pt x="2745" y="0"/>
                  </a:lnTo>
                  <a:lnTo>
                    <a:pt x="2746" y="0"/>
                  </a:lnTo>
                  <a:lnTo>
                    <a:pt x="2747" y="2"/>
                  </a:lnTo>
                  <a:lnTo>
                    <a:pt x="2748" y="4"/>
                  </a:lnTo>
                  <a:lnTo>
                    <a:pt x="2748" y="6"/>
                  </a:lnTo>
                  <a:lnTo>
                    <a:pt x="2748" y="8"/>
                  </a:lnTo>
                  <a:lnTo>
                    <a:pt x="2747" y="10"/>
                  </a:lnTo>
                  <a:lnTo>
                    <a:pt x="2746" y="12"/>
                  </a:lnTo>
                  <a:lnTo>
                    <a:pt x="2745" y="12"/>
                  </a:lnTo>
                  <a:lnTo>
                    <a:pt x="2725" y="12"/>
                  </a:lnTo>
                  <a:lnTo>
                    <a:pt x="2724" y="12"/>
                  </a:lnTo>
                  <a:lnTo>
                    <a:pt x="2723" y="10"/>
                  </a:lnTo>
                  <a:lnTo>
                    <a:pt x="2722" y="8"/>
                  </a:lnTo>
                  <a:lnTo>
                    <a:pt x="2722" y="6"/>
                  </a:lnTo>
                  <a:lnTo>
                    <a:pt x="2722" y="4"/>
                  </a:lnTo>
                  <a:lnTo>
                    <a:pt x="2723" y="2"/>
                  </a:lnTo>
                  <a:lnTo>
                    <a:pt x="2724" y="0"/>
                  </a:lnTo>
                  <a:lnTo>
                    <a:pt x="2725" y="0"/>
                  </a:lnTo>
                  <a:lnTo>
                    <a:pt x="2725" y="0"/>
                  </a:lnTo>
                  <a:close/>
                  <a:moveTo>
                    <a:pt x="2770" y="0"/>
                  </a:moveTo>
                  <a:lnTo>
                    <a:pt x="2790" y="0"/>
                  </a:lnTo>
                  <a:lnTo>
                    <a:pt x="2791" y="0"/>
                  </a:lnTo>
                  <a:lnTo>
                    <a:pt x="2792" y="2"/>
                  </a:lnTo>
                  <a:lnTo>
                    <a:pt x="2793" y="4"/>
                  </a:lnTo>
                  <a:lnTo>
                    <a:pt x="2793" y="6"/>
                  </a:lnTo>
                  <a:lnTo>
                    <a:pt x="2793" y="8"/>
                  </a:lnTo>
                  <a:lnTo>
                    <a:pt x="2792" y="10"/>
                  </a:lnTo>
                  <a:lnTo>
                    <a:pt x="2791" y="12"/>
                  </a:lnTo>
                  <a:lnTo>
                    <a:pt x="2790" y="12"/>
                  </a:lnTo>
                  <a:lnTo>
                    <a:pt x="2770" y="12"/>
                  </a:lnTo>
                  <a:lnTo>
                    <a:pt x="2769" y="12"/>
                  </a:lnTo>
                  <a:lnTo>
                    <a:pt x="2768" y="10"/>
                  </a:lnTo>
                  <a:lnTo>
                    <a:pt x="2767" y="8"/>
                  </a:lnTo>
                  <a:lnTo>
                    <a:pt x="2767" y="6"/>
                  </a:lnTo>
                  <a:lnTo>
                    <a:pt x="2767" y="4"/>
                  </a:lnTo>
                  <a:lnTo>
                    <a:pt x="2768" y="2"/>
                  </a:lnTo>
                  <a:lnTo>
                    <a:pt x="2769" y="0"/>
                  </a:lnTo>
                  <a:lnTo>
                    <a:pt x="2770" y="0"/>
                  </a:lnTo>
                  <a:lnTo>
                    <a:pt x="2770" y="0"/>
                  </a:lnTo>
                  <a:close/>
                  <a:moveTo>
                    <a:pt x="2815" y="0"/>
                  </a:moveTo>
                  <a:lnTo>
                    <a:pt x="2835" y="0"/>
                  </a:lnTo>
                  <a:lnTo>
                    <a:pt x="2836" y="0"/>
                  </a:lnTo>
                  <a:lnTo>
                    <a:pt x="2837" y="2"/>
                  </a:lnTo>
                  <a:lnTo>
                    <a:pt x="2838" y="4"/>
                  </a:lnTo>
                  <a:lnTo>
                    <a:pt x="2838" y="6"/>
                  </a:lnTo>
                  <a:lnTo>
                    <a:pt x="2838" y="8"/>
                  </a:lnTo>
                  <a:lnTo>
                    <a:pt x="2837" y="10"/>
                  </a:lnTo>
                  <a:lnTo>
                    <a:pt x="2836" y="12"/>
                  </a:lnTo>
                  <a:lnTo>
                    <a:pt x="2835" y="12"/>
                  </a:lnTo>
                  <a:lnTo>
                    <a:pt x="2815" y="12"/>
                  </a:lnTo>
                  <a:lnTo>
                    <a:pt x="2814" y="12"/>
                  </a:lnTo>
                  <a:lnTo>
                    <a:pt x="2813" y="10"/>
                  </a:lnTo>
                  <a:lnTo>
                    <a:pt x="2812" y="8"/>
                  </a:lnTo>
                  <a:lnTo>
                    <a:pt x="2812" y="6"/>
                  </a:lnTo>
                  <a:lnTo>
                    <a:pt x="2812" y="4"/>
                  </a:lnTo>
                  <a:lnTo>
                    <a:pt x="2813" y="2"/>
                  </a:lnTo>
                  <a:lnTo>
                    <a:pt x="2814" y="0"/>
                  </a:lnTo>
                  <a:lnTo>
                    <a:pt x="2815" y="0"/>
                  </a:lnTo>
                  <a:lnTo>
                    <a:pt x="2815" y="0"/>
                  </a:lnTo>
                  <a:close/>
                  <a:moveTo>
                    <a:pt x="2860" y="0"/>
                  </a:moveTo>
                  <a:lnTo>
                    <a:pt x="2878" y="0"/>
                  </a:lnTo>
                  <a:lnTo>
                    <a:pt x="2880" y="0"/>
                  </a:lnTo>
                  <a:lnTo>
                    <a:pt x="2882" y="2"/>
                  </a:lnTo>
                  <a:lnTo>
                    <a:pt x="2883" y="4"/>
                  </a:lnTo>
                  <a:lnTo>
                    <a:pt x="2883" y="6"/>
                  </a:lnTo>
                  <a:lnTo>
                    <a:pt x="2883" y="8"/>
                  </a:lnTo>
                  <a:lnTo>
                    <a:pt x="2882" y="10"/>
                  </a:lnTo>
                  <a:lnTo>
                    <a:pt x="2880" y="12"/>
                  </a:lnTo>
                  <a:lnTo>
                    <a:pt x="2878" y="12"/>
                  </a:lnTo>
                  <a:lnTo>
                    <a:pt x="2860" y="12"/>
                  </a:lnTo>
                  <a:lnTo>
                    <a:pt x="2859" y="12"/>
                  </a:lnTo>
                  <a:lnTo>
                    <a:pt x="2858" y="10"/>
                  </a:lnTo>
                  <a:lnTo>
                    <a:pt x="2857" y="8"/>
                  </a:lnTo>
                  <a:lnTo>
                    <a:pt x="2857" y="6"/>
                  </a:lnTo>
                  <a:lnTo>
                    <a:pt x="2857" y="4"/>
                  </a:lnTo>
                  <a:lnTo>
                    <a:pt x="2858" y="2"/>
                  </a:lnTo>
                  <a:lnTo>
                    <a:pt x="2859" y="0"/>
                  </a:lnTo>
                  <a:lnTo>
                    <a:pt x="2860" y="0"/>
                  </a:lnTo>
                  <a:lnTo>
                    <a:pt x="2860" y="0"/>
                  </a:lnTo>
                  <a:close/>
                  <a:moveTo>
                    <a:pt x="2904" y="0"/>
                  </a:moveTo>
                  <a:lnTo>
                    <a:pt x="2923" y="0"/>
                  </a:lnTo>
                  <a:lnTo>
                    <a:pt x="2924" y="0"/>
                  </a:lnTo>
                  <a:lnTo>
                    <a:pt x="2925" y="2"/>
                  </a:lnTo>
                  <a:lnTo>
                    <a:pt x="2926" y="4"/>
                  </a:lnTo>
                  <a:lnTo>
                    <a:pt x="2926" y="6"/>
                  </a:lnTo>
                  <a:lnTo>
                    <a:pt x="2926" y="8"/>
                  </a:lnTo>
                  <a:lnTo>
                    <a:pt x="2925" y="10"/>
                  </a:lnTo>
                  <a:lnTo>
                    <a:pt x="2924" y="12"/>
                  </a:lnTo>
                  <a:lnTo>
                    <a:pt x="2923" y="12"/>
                  </a:lnTo>
                  <a:lnTo>
                    <a:pt x="2904" y="12"/>
                  </a:lnTo>
                  <a:lnTo>
                    <a:pt x="2903" y="12"/>
                  </a:lnTo>
                  <a:lnTo>
                    <a:pt x="2902" y="10"/>
                  </a:lnTo>
                  <a:lnTo>
                    <a:pt x="2901" y="8"/>
                  </a:lnTo>
                  <a:lnTo>
                    <a:pt x="2901" y="6"/>
                  </a:lnTo>
                  <a:lnTo>
                    <a:pt x="2901" y="4"/>
                  </a:lnTo>
                  <a:lnTo>
                    <a:pt x="2902" y="2"/>
                  </a:lnTo>
                  <a:lnTo>
                    <a:pt x="2903" y="0"/>
                  </a:lnTo>
                  <a:lnTo>
                    <a:pt x="2904" y="0"/>
                  </a:lnTo>
                  <a:lnTo>
                    <a:pt x="2904" y="0"/>
                  </a:lnTo>
                  <a:close/>
                  <a:moveTo>
                    <a:pt x="2949" y="0"/>
                  </a:moveTo>
                  <a:lnTo>
                    <a:pt x="2968" y="0"/>
                  </a:lnTo>
                  <a:lnTo>
                    <a:pt x="2969" y="0"/>
                  </a:lnTo>
                  <a:lnTo>
                    <a:pt x="2970" y="2"/>
                  </a:lnTo>
                  <a:lnTo>
                    <a:pt x="2971" y="4"/>
                  </a:lnTo>
                  <a:lnTo>
                    <a:pt x="2971" y="6"/>
                  </a:lnTo>
                  <a:lnTo>
                    <a:pt x="2971" y="8"/>
                  </a:lnTo>
                  <a:lnTo>
                    <a:pt x="2970" y="10"/>
                  </a:lnTo>
                  <a:lnTo>
                    <a:pt x="2969" y="12"/>
                  </a:lnTo>
                  <a:lnTo>
                    <a:pt x="2968" y="12"/>
                  </a:lnTo>
                  <a:lnTo>
                    <a:pt x="2949" y="12"/>
                  </a:lnTo>
                  <a:lnTo>
                    <a:pt x="2948" y="12"/>
                  </a:lnTo>
                  <a:lnTo>
                    <a:pt x="2947" y="10"/>
                  </a:lnTo>
                  <a:lnTo>
                    <a:pt x="2946" y="8"/>
                  </a:lnTo>
                  <a:lnTo>
                    <a:pt x="2946" y="6"/>
                  </a:lnTo>
                  <a:lnTo>
                    <a:pt x="2946" y="4"/>
                  </a:lnTo>
                  <a:lnTo>
                    <a:pt x="2947" y="2"/>
                  </a:lnTo>
                  <a:lnTo>
                    <a:pt x="2948" y="0"/>
                  </a:lnTo>
                  <a:lnTo>
                    <a:pt x="2949" y="0"/>
                  </a:lnTo>
                  <a:lnTo>
                    <a:pt x="2949" y="0"/>
                  </a:lnTo>
                  <a:close/>
                  <a:moveTo>
                    <a:pt x="2994" y="0"/>
                  </a:moveTo>
                  <a:lnTo>
                    <a:pt x="3013" y="0"/>
                  </a:lnTo>
                  <a:lnTo>
                    <a:pt x="3014" y="0"/>
                  </a:lnTo>
                  <a:lnTo>
                    <a:pt x="3015" y="2"/>
                  </a:lnTo>
                  <a:lnTo>
                    <a:pt x="3016" y="4"/>
                  </a:lnTo>
                  <a:lnTo>
                    <a:pt x="3016" y="6"/>
                  </a:lnTo>
                  <a:lnTo>
                    <a:pt x="3016" y="8"/>
                  </a:lnTo>
                  <a:lnTo>
                    <a:pt x="3015" y="10"/>
                  </a:lnTo>
                  <a:lnTo>
                    <a:pt x="3014" y="12"/>
                  </a:lnTo>
                  <a:lnTo>
                    <a:pt x="3013" y="12"/>
                  </a:lnTo>
                  <a:lnTo>
                    <a:pt x="2994" y="12"/>
                  </a:lnTo>
                  <a:lnTo>
                    <a:pt x="2993" y="12"/>
                  </a:lnTo>
                  <a:lnTo>
                    <a:pt x="2992" y="10"/>
                  </a:lnTo>
                  <a:lnTo>
                    <a:pt x="2991" y="8"/>
                  </a:lnTo>
                  <a:lnTo>
                    <a:pt x="2991" y="6"/>
                  </a:lnTo>
                  <a:lnTo>
                    <a:pt x="2991" y="4"/>
                  </a:lnTo>
                  <a:lnTo>
                    <a:pt x="2992" y="2"/>
                  </a:lnTo>
                  <a:lnTo>
                    <a:pt x="2993" y="0"/>
                  </a:lnTo>
                  <a:lnTo>
                    <a:pt x="2994" y="0"/>
                  </a:lnTo>
                  <a:lnTo>
                    <a:pt x="2994" y="0"/>
                  </a:lnTo>
                  <a:close/>
                  <a:moveTo>
                    <a:pt x="3039" y="0"/>
                  </a:moveTo>
                  <a:lnTo>
                    <a:pt x="3057" y="0"/>
                  </a:lnTo>
                  <a:lnTo>
                    <a:pt x="3058" y="0"/>
                  </a:lnTo>
                  <a:lnTo>
                    <a:pt x="3060" y="2"/>
                  </a:lnTo>
                  <a:lnTo>
                    <a:pt x="3061" y="4"/>
                  </a:lnTo>
                  <a:lnTo>
                    <a:pt x="3061" y="6"/>
                  </a:lnTo>
                  <a:lnTo>
                    <a:pt x="3061" y="8"/>
                  </a:lnTo>
                  <a:lnTo>
                    <a:pt x="3060" y="10"/>
                  </a:lnTo>
                  <a:lnTo>
                    <a:pt x="3058" y="12"/>
                  </a:lnTo>
                  <a:lnTo>
                    <a:pt x="3057" y="12"/>
                  </a:lnTo>
                  <a:lnTo>
                    <a:pt x="3039" y="12"/>
                  </a:lnTo>
                  <a:lnTo>
                    <a:pt x="3038" y="12"/>
                  </a:lnTo>
                  <a:lnTo>
                    <a:pt x="3037" y="10"/>
                  </a:lnTo>
                  <a:lnTo>
                    <a:pt x="3036" y="8"/>
                  </a:lnTo>
                  <a:lnTo>
                    <a:pt x="3036" y="6"/>
                  </a:lnTo>
                  <a:lnTo>
                    <a:pt x="3036" y="4"/>
                  </a:lnTo>
                  <a:lnTo>
                    <a:pt x="3037" y="2"/>
                  </a:lnTo>
                  <a:lnTo>
                    <a:pt x="3038" y="0"/>
                  </a:lnTo>
                  <a:lnTo>
                    <a:pt x="3039" y="0"/>
                  </a:lnTo>
                  <a:lnTo>
                    <a:pt x="3039" y="0"/>
                  </a:lnTo>
                  <a:close/>
                  <a:moveTo>
                    <a:pt x="3083" y="0"/>
                  </a:moveTo>
                  <a:lnTo>
                    <a:pt x="3102" y="0"/>
                  </a:lnTo>
                  <a:lnTo>
                    <a:pt x="3103" y="0"/>
                  </a:lnTo>
                  <a:lnTo>
                    <a:pt x="3104" y="2"/>
                  </a:lnTo>
                  <a:lnTo>
                    <a:pt x="3105" y="4"/>
                  </a:lnTo>
                  <a:lnTo>
                    <a:pt x="3105" y="6"/>
                  </a:lnTo>
                  <a:lnTo>
                    <a:pt x="3105" y="8"/>
                  </a:lnTo>
                  <a:lnTo>
                    <a:pt x="3104" y="10"/>
                  </a:lnTo>
                  <a:lnTo>
                    <a:pt x="3103" y="12"/>
                  </a:lnTo>
                  <a:lnTo>
                    <a:pt x="3102" y="12"/>
                  </a:lnTo>
                  <a:lnTo>
                    <a:pt x="3083" y="12"/>
                  </a:lnTo>
                  <a:lnTo>
                    <a:pt x="3082" y="12"/>
                  </a:lnTo>
                  <a:lnTo>
                    <a:pt x="3081" y="10"/>
                  </a:lnTo>
                  <a:lnTo>
                    <a:pt x="3080" y="8"/>
                  </a:lnTo>
                  <a:lnTo>
                    <a:pt x="3080" y="6"/>
                  </a:lnTo>
                  <a:lnTo>
                    <a:pt x="3080" y="4"/>
                  </a:lnTo>
                  <a:lnTo>
                    <a:pt x="3081" y="2"/>
                  </a:lnTo>
                  <a:lnTo>
                    <a:pt x="3082" y="0"/>
                  </a:lnTo>
                  <a:lnTo>
                    <a:pt x="3083" y="0"/>
                  </a:lnTo>
                  <a:lnTo>
                    <a:pt x="3083" y="0"/>
                  </a:lnTo>
                  <a:close/>
                  <a:moveTo>
                    <a:pt x="3127" y="0"/>
                  </a:moveTo>
                  <a:lnTo>
                    <a:pt x="3147" y="0"/>
                  </a:lnTo>
                  <a:lnTo>
                    <a:pt x="3148" y="0"/>
                  </a:lnTo>
                  <a:lnTo>
                    <a:pt x="3149" y="2"/>
                  </a:lnTo>
                  <a:lnTo>
                    <a:pt x="3150" y="4"/>
                  </a:lnTo>
                  <a:lnTo>
                    <a:pt x="3150" y="6"/>
                  </a:lnTo>
                  <a:lnTo>
                    <a:pt x="3150" y="8"/>
                  </a:lnTo>
                  <a:lnTo>
                    <a:pt x="3149" y="10"/>
                  </a:lnTo>
                  <a:lnTo>
                    <a:pt x="3148" y="12"/>
                  </a:lnTo>
                  <a:lnTo>
                    <a:pt x="3147" y="12"/>
                  </a:lnTo>
                  <a:lnTo>
                    <a:pt x="3127" y="12"/>
                  </a:lnTo>
                  <a:lnTo>
                    <a:pt x="3126" y="12"/>
                  </a:lnTo>
                  <a:lnTo>
                    <a:pt x="3125" y="10"/>
                  </a:lnTo>
                  <a:lnTo>
                    <a:pt x="3124" y="8"/>
                  </a:lnTo>
                  <a:lnTo>
                    <a:pt x="3124" y="6"/>
                  </a:lnTo>
                  <a:lnTo>
                    <a:pt x="3124" y="4"/>
                  </a:lnTo>
                  <a:lnTo>
                    <a:pt x="3125" y="2"/>
                  </a:lnTo>
                  <a:lnTo>
                    <a:pt x="3126" y="0"/>
                  </a:lnTo>
                  <a:lnTo>
                    <a:pt x="3127" y="0"/>
                  </a:lnTo>
                  <a:lnTo>
                    <a:pt x="3127" y="0"/>
                  </a:lnTo>
                  <a:close/>
                  <a:moveTo>
                    <a:pt x="3172" y="0"/>
                  </a:moveTo>
                  <a:lnTo>
                    <a:pt x="3192" y="0"/>
                  </a:lnTo>
                  <a:lnTo>
                    <a:pt x="3193" y="0"/>
                  </a:lnTo>
                  <a:lnTo>
                    <a:pt x="3194" y="2"/>
                  </a:lnTo>
                  <a:lnTo>
                    <a:pt x="3195" y="4"/>
                  </a:lnTo>
                  <a:lnTo>
                    <a:pt x="3195" y="6"/>
                  </a:lnTo>
                  <a:lnTo>
                    <a:pt x="3195" y="8"/>
                  </a:lnTo>
                  <a:lnTo>
                    <a:pt x="3194" y="10"/>
                  </a:lnTo>
                  <a:lnTo>
                    <a:pt x="3193" y="12"/>
                  </a:lnTo>
                  <a:lnTo>
                    <a:pt x="3192" y="12"/>
                  </a:lnTo>
                  <a:lnTo>
                    <a:pt x="3172" y="12"/>
                  </a:lnTo>
                  <a:lnTo>
                    <a:pt x="3171" y="12"/>
                  </a:lnTo>
                  <a:lnTo>
                    <a:pt x="3170" y="10"/>
                  </a:lnTo>
                  <a:lnTo>
                    <a:pt x="3169" y="8"/>
                  </a:lnTo>
                  <a:lnTo>
                    <a:pt x="3169" y="6"/>
                  </a:lnTo>
                  <a:lnTo>
                    <a:pt x="3169" y="4"/>
                  </a:lnTo>
                  <a:lnTo>
                    <a:pt x="3170" y="2"/>
                  </a:lnTo>
                  <a:lnTo>
                    <a:pt x="3171" y="0"/>
                  </a:lnTo>
                  <a:lnTo>
                    <a:pt x="3172" y="0"/>
                  </a:lnTo>
                  <a:lnTo>
                    <a:pt x="3172" y="0"/>
                  </a:lnTo>
                  <a:close/>
                  <a:moveTo>
                    <a:pt x="3217" y="0"/>
                  </a:moveTo>
                  <a:lnTo>
                    <a:pt x="3236" y="0"/>
                  </a:lnTo>
                  <a:lnTo>
                    <a:pt x="3237" y="0"/>
                  </a:lnTo>
                  <a:lnTo>
                    <a:pt x="3239" y="2"/>
                  </a:lnTo>
                  <a:lnTo>
                    <a:pt x="3240" y="4"/>
                  </a:lnTo>
                  <a:lnTo>
                    <a:pt x="3240" y="6"/>
                  </a:lnTo>
                  <a:lnTo>
                    <a:pt x="3240" y="8"/>
                  </a:lnTo>
                  <a:lnTo>
                    <a:pt x="3239" y="10"/>
                  </a:lnTo>
                  <a:lnTo>
                    <a:pt x="3237" y="12"/>
                  </a:lnTo>
                  <a:lnTo>
                    <a:pt x="3236" y="12"/>
                  </a:lnTo>
                  <a:lnTo>
                    <a:pt x="3217" y="12"/>
                  </a:lnTo>
                  <a:lnTo>
                    <a:pt x="3216" y="12"/>
                  </a:lnTo>
                  <a:lnTo>
                    <a:pt x="3215" y="10"/>
                  </a:lnTo>
                  <a:lnTo>
                    <a:pt x="3214" y="8"/>
                  </a:lnTo>
                  <a:lnTo>
                    <a:pt x="3214" y="6"/>
                  </a:lnTo>
                  <a:lnTo>
                    <a:pt x="3214" y="4"/>
                  </a:lnTo>
                  <a:lnTo>
                    <a:pt x="3215" y="2"/>
                  </a:lnTo>
                  <a:lnTo>
                    <a:pt x="3216" y="0"/>
                  </a:lnTo>
                  <a:lnTo>
                    <a:pt x="3217" y="0"/>
                  </a:lnTo>
                  <a:lnTo>
                    <a:pt x="3217" y="0"/>
                  </a:lnTo>
                  <a:close/>
                  <a:moveTo>
                    <a:pt x="3261" y="0"/>
                  </a:moveTo>
                  <a:lnTo>
                    <a:pt x="3281" y="0"/>
                  </a:lnTo>
                  <a:lnTo>
                    <a:pt x="3282" y="0"/>
                  </a:lnTo>
                  <a:lnTo>
                    <a:pt x="3283" y="2"/>
                  </a:lnTo>
                  <a:lnTo>
                    <a:pt x="3284" y="4"/>
                  </a:lnTo>
                  <a:lnTo>
                    <a:pt x="3284" y="6"/>
                  </a:lnTo>
                  <a:lnTo>
                    <a:pt x="3284" y="8"/>
                  </a:lnTo>
                  <a:lnTo>
                    <a:pt x="3283" y="10"/>
                  </a:lnTo>
                  <a:lnTo>
                    <a:pt x="3282" y="12"/>
                  </a:lnTo>
                  <a:lnTo>
                    <a:pt x="3281" y="12"/>
                  </a:lnTo>
                  <a:lnTo>
                    <a:pt x="3261" y="12"/>
                  </a:lnTo>
                  <a:lnTo>
                    <a:pt x="3260" y="12"/>
                  </a:lnTo>
                  <a:lnTo>
                    <a:pt x="3259" y="10"/>
                  </a:lnTo>
                  <a:lnTo>
                    <a:pt x="3258" y="8"/>
                  </a:lnTo>
                  <a:lnTo>
                    <a:pt x="3258" y="6"/>
                  </a:lnTo>
                  <a:lnTo>
                    <a:pt x="3258" y="4"/>
                  </a:lnTo>
                  <a:lnTo>
                    <a:pt x="3259" y="2"/>
                  </a:lnTo>
                  <a:lnTo>
                    <a:pt x="3260" y="0"/>
                  </a:lnTo>
                  <a:lnTo>
                    <a:pt x="3261" y="0"/>
                  </a:lnTo>
                  <a:lnTo>
                    <a:pt x="3261" y="0"/>
                  </a:lnTo>
                  <a:close/>
                  <a:moveTo>
                    <a:pt x="3306" y="0"/>
                  </a:moveTo>
                  <a:lnTo>
                    <a:pt x="3325" y="0"/>
                  </a:lnTo>
                  <a:lnTo>
                    <a:pt x="3326" y="0"/>
                  </a:lnTo>
                  <a:lnTo>
                    <a:pt x="3328" y="2"/>
                  </a:lnTo>
                  <a:lnTo>
                    <a:pt x="3329" y="4"/>
                  </a:lnTo>
                  <a:lnTo>
                    <a:pt x="3329" y="6"/>
                  </a:lnTo>
                  <a:lnTo>
                    <a:pt x="3329" y="8"/>
                  </a:lnTo>
                  <a:lnTo>
                    <a:pt x="3328" y="10"/>
                  </a:lnTo>
                  <a:lnTo>
                    <a:pt x="3326" y="12"/>
                  </a:lnTo>
                  <a:lnTo>
                    <a:pt x="3325" y="12"/>
                  </a:lnTo>
                  <a:lnTo>
                    <a:pt x="3306" y="12"/>
                  </a:lnTo>
                  <a:lnTo>
                    <a:pt x="3305" y="12"/>
                  </a:lnTo>
                  <a:lnTo>
                    <a:pt x="3304" y="10"/>
                  </a:lnTo>
                  <a:lnTo>
                    <a:pt x="3303" y="8"/>
                  </a:lnTo>
                  <a:lnTo>
                    <a:pt x="3303" y="6"/>
                  </a:lnTo>
                  <a:lnTo>
                    <a:pt x="3303" y="4"/>
                  </a:lnTo>
                  <a:lnTo>
                    <a:pt x="3304" y="2"/>
                  </a:lnTo>
                  <a:lnTo>
                    <a:pt x="3305" y="0"/>
                  </a:lnTo>
                  <a:lnTo>
                    <a:pt x="3306" y="0"/>
                  </a:lnTo>
                  <a:lnTo>
                    <a:pt x="3306" y="0"/>
                  </a:lnTo>
                  <a:close/>
                  <a:moveTo>
                    <a:pt x="3351" y="0"/>
                  </a:moveTo>
                  <a:lnTo>
                    <a:pt x="3370" y="0"/>
                  </a:lnTo>
                  <a:lnTo>
                    <a:pt x="3371" y="0"/>
                  </a:lnTo>
                  <a:lnTo>
                    <a:pt x="3372" y="2"/>
                  </a:lnTo>
                  <a:lnTo>
                    <a:pt x="3373" y="4"/>
                  </a:lnTo>
                  <a:lnTo>
                    <a:pt x="3373" y="6"/>
                  </a:lnTo>
                  <a:lnTo>
                    <a:pt x="3373" y="8"/>
                  </a:lnTo>
                  <a:lnTo>
                    <a:pt x="3372" y="10"/>
                  </a:lnTo>
                  <a:lnTo>
                    <a:pt x="3371" y="12"/>
                  </a:lnTo>
                  <a:lnTo>
                    <a:pt x="3370" y="12"/>
                  </a:lnTo>
                  <a:lnTo>
                    <a:pt x="3351" y="12"/>
                  </a:lnTo>
                  <a:lnTo>
                    <a:pt x="3350" y="12"/>
                  </a:lnTo>
                  <a:lnTo>
                    <a:pt x="3349" y="10"/>
                  </a:lnTo>
                  <a:lnTo>
                    <a:pt x="3348" y="8"/>
                  </a:lnTo>
                  <a:lnTo>
                    <a:pt x="3348" y="6"/>
                  </a:lnTo>
                  <a:lnTo>
                    <a:pt x="3348" y="4"/>
                  </a:lnTo>
                  <a:lnTo>
                    <a:pt x="3349" y="2"/>
                  </a:lnTo>
                  <a:lnTo>
                    <a:pt x="3350" y="0"/>
                  </a:lnTo>
                  <a:lnTo>
                    <a:pt x="3351" y="0"/>
                  </a:lnTo>
                  <a:lnTo>
                    <a:pt x="3351" y="0"/>
                  </a:lnTo>
                  <a:close/>
                  <a:moveTo>
                    <a:pt x="3396" y="0"/>
                  </a:moveTo>
                  <a:lnTo>
                    <a:pt x="3414" y="0"/>
                  </a:lnTo>
                  <a:lnTo>
                    <a:pt x="3415" y="0"/>
                  </a:lnTo>
                  <a:lnTo>
                    <a:pt x="3417" y="2"/>
                  </a:lnTo>
                  <a:lnTo>
                    <a:pt x="3418" y="4"/>
                  </a:lnTo>
                  <a:lnTo>
                    <a:pt x="3418" y="6"/>
                  </a:lnTo>
                  <a:lnTo>
                    <a:pt x="3418" y="8"/>
                  </a:lnTo>
                  <a:lnTo>
                    <a:pt x="3417" y="10"/>
                  </a:lnTo>
                  <a:lnTo>
                    <a:pt x="3415" y="12"/>
                  </a:lnTo>
                  <a:lnTo>
                    <a:pt x="3414" y="12"/>
                  </a:lnTo>
                  <a:lnTo>
                    <a:pt x="3396" y="12"/>
                  </a:lnTo>
                  <a:lnTo>
                    <a:pt x="3395" y="12"/>
                  </a:lnTo>
                  <a:lnTo>
                    <a:pt x="3394" y="10"/>
                  </a:lnTo>
                  <a:lnTo>
                    <a:pt x="3393" y="8"/>
                  </a:lnTo>
                  <a:lnTo>
                    <a:pt x="3393" y="6"/>
                  </a:lnTo>
                  <a:lnTo>
                    <a:pt x="3393" y="4"/>
                  </a:lnTo>
                  <a:lnTo>
                    <a:pt x="3394" y="2"/>
                  </a:lnTo>
                  <a:lnTo>
                    <a:pt x="3395" y="0"/>
                  </a:lnTo>
                  <a:lnTo>
                    <a:pt x="3396" y="0"/>
                  </a:lnTo>
                  <a:lnTo>
                    <a:pt x="3396" y="0"/>
                  </a:lnTo>
                  <a:close/>
                  <a:moveTo>
                    <a:pt x="3440" y="0"/>
                  </a:moveTo>
                  <a:lnTo>
                    <a:pt x="3459" y="0"/>
                  </a:lnTo>
                  <a:lnTo>
                    <a:pt x="3460" y="0"/>
                  </a:lnTo>
                  <a:lnTo>
                    <a:pt x="3461" y="2"/>
                  </a:lnTo>
                  <a:lnTo>
                    <a:pt x="3462" y="4"/>
                  </a:lnTo>
                  <a:lnTo>
                    <a:pt x="3462" y="6"/>
                  </a:lnTo>
                  <a:lnTo>
                    <a:pt x="3462" y="8"/>
                  </a:lnTo>
                  <a:lnTo>
                    <a:pt x="3461" y="10"/>
                  </a:lnTo>
                  <a:lnTo>
                    <a:pt x="3460" y="12"/>
                  </a:lnTo>
                  <a:lnTo>
                    <a:pt x="3459" y="12"/>
                  </a:lnTo>
                  <a:lnTo>
                    <a:pt x="3440" y="12"/>
                  </a:lnTo>
                  <a:lnTo>
                    <a:pt x="3439" y="12"/>
                  </a:lnTo>
                  <a:lnTo>
                    <a:pt x="3438" y="10"/>
                  </a:lnTo>
                  <a:lnTo>
                    <a:pt x="3437" y="8"/>
                  </a:lnTo>
                  <a:lnTo>
                    <a:pt x="3437" y="6"/>
                  </a:lnTo>
                  <a:lnTo>
                    <a:pt x="3437" y="4"/>
                  </a:lnTo>
                  <a:lnTo>
                    <a:pt x="3438" y="2"/>
                  </a:lnTo>
                  <a:lnTo>
                    <a:pt x="3439" y="0"/>
                  </a:lnTo>
                  <a:lnTo>
                    <a:pt x="3440" y="0"/>
                  </a:lnTo>
                  <a:lnTo>
                    <a:pt x="3440" y="0"/>
                  </a:lnTo>
                  <a:close/>
                  <a:moveTo>
                    <a:pt x="3485" y="0"/>
                  </a:moveTo>
                  <a:lnTo>
                    <a:pt x="3504" y="0"/>
                  </a:lnTo>
                  <a:lnTo>
                    <a:pt x="3505" y="0"/>
                  </a:lnTo>
                  <a:lnTo>
                    <a:pt x="3506" y="2"/>
                  </a:lnTo>
                  <a:lnTo>
                    <a:pt x="3507" y="4"/>
                  </a:lnTo>
                  <a:lnTo>
                    <a:pt x="3507" y="6"/>
                  </a:lnTo>
                  <a:lnTo>
                    <a:pt x="3507" y="8"/>
                  </a:lnTo>
                  <a:lnTo>
                    <a:pt x="3506" y="10"/>
                  </a:lnTo>
                  <a:lnTo>
                    <a:pt x="3505" y="12"/>
                  </a:lnTo>
                  <a:lnTo>
                    <a:pt x="3504" y="12"/>
                  </a:lnTo>
                  <a:lnTo>
                    <a:pt x="3485" y="12"/>
                  </a:lnTo>
                  <a:lnTo>
                    <a:pt x="3484" y="12"/>
                  </a:lnTo>
                  <a:lnTo>
                    <a:pt x="3483" y="10"/>
                  </a:lnTo>
                  <a:lnTo>
                    <a:pt x="3482" y="8"/>
                  </a:lnTo>
                  <a:lnTo>
                    <a:pt x="3482" y="6"/>
                  </a:lnTo>
                  <a:lnTo>
                    <a:pt x="3482" y="4"/>
                  </a:lnTo>
                  <a:lnTo>
                    <a:pt x="3483" y="2"/>
                  </a:lnTo>
                  <a:lnTo>
                    <a:pt x="3484" y="0"/>
                  </a:lnTo>
                  <a:lnTo>
                    <a:pt x="3485" y="0"/>
                  </a:lnTo>
                  <a:lnTo>
                    <a:pt x="3485" y="0"/>
                  </a:lnTo>
                  <a:close/>
                  <a:moveTo>
                    <a:pt x="3530" y="0"/>
                  </a:moveTo>
                  <a:lnTo>
                    <a:pt x="3549" y="0"/>
                  </a:lnTo>
                  <a:lnTo>
                    <a:pt x="3550" y="0"/>
                  </a:lnTo>
                  <a:lnTo>
                    <a:pt x="3551" y="2"/>
                  </a:lnTo>
                  <a:lnTo>
                    <a:pt x="3552" y="4"/>
                  </a:lnTo>
                  <a:lnTo>
                    <a:pt x="3552" y="6"/>
                  </a:lnTo>
                  <a:lnTo>
                    <a:pt x="3552" y="8"/>
                  </a:lnTo>
                  <a:lnTo>
                    <a:pt x="3551" y="10"/>
                  </a:lnTo>
                  <a:lnTo>
                    <a:pt x="3550" y="12"/>
                  </a:lnTo>
                  <a:lnTo>
                    <a:pt x="3549" y="12"/>
                  </a:lnTo>
                  <a:lnTo>
                    <a:pt x="3530" y="12"/>
                  </a:lnTo>
                  <a:lnTo>
                    <a:pt x="3529" y="12"/>
                  </a:lnTo>
                  <a:lnTo>
                    <a:pt x="3528" y="10"/>
                  </a:lnTo>
                  <a:lnTo>
                    <a:pt x="3527" y="8"/>
                  </a:lnTo>
                  <a:lnTo>
                    <a:pt x="3527" y="6"/>
                  </a:lnTo>
                  <a:lnTo>
                    <a:pt x="3527" y="4"/>
                  </a:lnTo>
                  <a:lnTo>
                    <a:pt x="3528" y="2"/>
                  </a:lnTo>
                  <a:lnTo>
                    <a:pt x="3529" y="0"/>
                  </a:lnTo>
                  <a:lnTo>
                    <a:pt x="3530" y="0"/>
                  </a:lnTo>
                  <a:lnTo>
                    <a:pt x="3530" y="0"/>
                  </a:lnTo>
                  <a:close/>
                  <a:moveTo>
                    <a:pt x="3574" y="0"/>
                  </a:moveTo>
                  <a:lnTo>
                    <a:pt x="3593" y="0"/>
                  </a:lnTo>
                  <a:lnTo>
                    <a:pt x="3594" y="0"/>
                  </a:lnTo>
                  <a:lnTo>
                    <a:pt x="3596" y="2"/>
                  </a:lnTo>
                  <a:lnTo>
                    <a:pt x="3597" y="4"/>
                  </a:lnTo>
                  <a:lnTo>
                    <a:pt x="3597" y="6"/>
                  </a:lnTo>
                  <a:lnTo>
                    <a:pt x="3597" y="8"/>
                  </a:lnTo>
                  <a:lnTo>
                    <a:pt x="3596" y="10"/>
                  </a:lnTo>
                  <a:lnTo>
                    <a:pt x="3594" y="12"/>
                  </a:lnTo>
                  <a:lnTo>
                    <a:pt x="3593" y="12"/>
                  </a:lnTo>
                  <a:lnTo>
                    <a:pt x="3574" y="12"/>
                  </a:lnTo>
                  <a:lnTo>
                    <a:pt x="3573" y="12"/>
                  </a:lnTo>
                  <a:lnTo>
                    <a:pt x="3572" y="10"/>
                  </a:lnTo>
                  <a:lnTo>
                    <a:pt x="3571" y="8"/>
                  </a:lnTo>
                  <a:lnTo>
                    <a:pt x="3571" y="6"/>
                  </a:lnTo>
                  <a:lnTo>
                    <a:pt x="3571" y="4"/>
                  </a:lnTo>
                  <a:lnTo>
                    <a:pt x="3572" y="2"/>
                  </a:lnTo>
                  <a:lnTo>
                    <a:pt x="3573" y="0"/>
                  </a:lnTo>
                  <a:lnTo>
                    <a:pt x="3574" y="0"/>
                  </a:lnTo>
                  <a:lnTo>
                    <a:pt x="3574" y="0"/>
                  </a:lnTo>
                  <a:close/>
                  <a:moveTo>
                    <a:pt x="3618" y="0"/>
                  </a:moveTo>
                  <a:lnTo>
                    <a:pt x="3638" y="0"/>
                  </a:lnTo>
                  <a:lnTo>
                    <a:pt x="3639" y="0"/>
                  </a:lnTo>
                  <a:lnTo>
                    <a:pt x="3640" y="2"/>
                  </a:lnTo>
                  <a:lnTo>
                    <a:pt x="3641" y="4"/>
                  </a:lnTo>
                  <a:lnTo>
                    <a:pt x="3641" y="6"/>
                  </a:lnTo>
                  <a:lnTo>
                    <a:pt x="3641" y="8"/>
                  </a:lnTo>
                  <a:lnTo>
                    <a:pt x="3640" y="10"/>
                  </a:lnTo>
                  <a:lnTo>
                    <a:pt x="3639" y="12"/>
                  </a:lnTo>
                  <a:lnTo>
                    <a:pt x="3638" y="12"/>
                  </a:lnTo>
                  <a:lnTo>
                    <a:pt x="3618" y="12"/>
                  </a:lnTo>
                  <a:lnTo>
                    <a:pt x="3617" y="12"/>
                  </a:lnTo>
                  <a:lnTo>
                    <a:pt x="3616" y="10"/>
                  </a:lnTo>
                  <a:lnTo>
                    <a:pt x="3615" y="8"/>
                  </a:lnTo>
                  <a:lnTo>
                    <a:pt x="3615" y="6"/>
                  </a:lnTo>
                  <a:lnTo>
                    <a:pt x="3615" y="4"/>
                  </a:lnTo>
                  <a:lnTo>
                    <a:pt x="3616" y="2"/>
                  </a:lnTo>
                  <a:lnTo>
                    <a:pt x="3617" y="0"/>
                  </a:lnTo>
                  <a:lnTo>
                    <a:pt x="3618" y="0"/>
                  </a:lnTo>
                  <a:lnTo>
                    <a:pt x="3618" y="0"/>
                  </a:lnTo>
                  <a:close/>
                  <a:moveTo>
                    <a:pt x="3663" y="0"/>
                  </a:moveTo>
                  <a:lnTo>
                    <a:pt x="3683" y="0"/>
                  </a:lnTo>
                  <a:lnTo>
                    <a:pt x="3684" y="0"/>
                  </a:lnTo>
                  <a:lnTo>
                    <a:pt x="3685" y="2"/>
                  </a:lnTo>
                  <a:lnTo>
                    <a:pt x="3686" y="4"/>
                  </a:lnTo>
                  <a:lnTo>
                    <a:pt x="3686" y="6"/>
                  </a:lnTo>
                  <a:lnTo>
                    <a:pt x="3686" y="8"/>
                  </a:lnTo>
                  <a:lnTo>
                    <a:pt x="3685" y="10"/>
                  </a:lnTo>
                  <a:lnTo>
                    <a:pt x="3684" y="12"/>
                  </a:lnTo>
                  <a:lnTo>
                    <a:pt x="3683" y="12"/>
                  </a:lnTo>
                  <a:lnTo>
                    <a:pt x="3663" y="12"/>
                  </a:lnTo>
                  <a:lnTo>
                    <a:pt x="3662" y="12"/>
                  </a:lnTo>
                  <a:lnTo>
                    <a:pt x="3661" y="10"/>
                  </a:lnTo>
                  <a:lnTo>
                    <a:pt x="3660" y="8"/>
                  </a:lnTo>
                  <a:lnTo>
                    <a:pt x="3660" y="6"/>
                  </a:lnTo>
                  <a:lnTo>
                    <a:pt x="3660" y="4"/>
                  </a:lnTo>
                  <a:lnTo>
                    <a:pt x="3661" y="2"/>
                  </a:lnTo>
                  <a:lnTo>
                    <a:pt x="3662" y="0"/>
                  </a:lnTo>
                  <a:lnTo>
                    <a:pt x="3663" y="0"/>
                  </a:lnTo>
                  <a:lnTo>
                    <a:pt x="3663" y="0"/>
                  </a:lnTo>
                  <a:close/>
                  <a:moveTo>
                    <a:pt x="3708" y="0"/>
                  </a:moveTo>
                  <a:lnTo>
                    <a:pt x="3728" y="0"/>
                  </a:lnTo>
                  <a:lnTo>
                    <a:pt x="3729" y="0"/>
                  </a:lnTo>
                  <a:lnTo>
                    <a:pt x="3730" y="2"/>
                  </a:lnTo>
                  <a:lnTo>
                    <a:pt x="3731" y="4"/>
                  </a:lnTo>
                  <a:lnTo>
                    <a:pt x="3731" y="6"/>
                  </a:lnTo>
                  <a:lnTo>
                    <a:pt x="3731" y="8"/>
                  </a:lnTo>
                  <a:lnTo>
                    <a:pt x="3730" y="10"/>
                  </a:lnTo>
                  <a:lnTo>
                    <a:pt x="3729" y="12"/>
                  </a:lnTo>
                  <a:lnTo>
                    <a:pt x="3728" y="12"/>
                  </a:lnTo>
                  <a:lnTo>
                    <a:pt x="3708" y="12"/>
                  </a:lnTo>
                  <a:lnTo>
                    <a:pt x="3707" y="12"/>
                  </a:lnTo>
                  <a:lnTo>
                    <a:pt x="3706" y="10"/>
                  </a:lnTo>
                  <a:lnTo>
                    <a:pt x="3705" y="8"/>
                  </a:lnTo>
                  <a:lnTo>
                    <a:pt x="3705" y="6"/>
                  </a:lnTo>
                  <a:lnTo>
                    <a:pt x="3705" y="4"/>
                  </a:lnTo>
                  <a:lnTo>
                    <a:pt x="3706" y="2"/>
                  </a:lnTo>
                  <a:lnTo>
                    <a:pt x="3707" y="0"/>
                  </a:lnTo>
                  <a:lnTo>
                    <a:pt x="3708" y="0"/>
                  </a:lnTo>
                  <a:lnTo>
                    <a:pt x="3708" y="0"/>
                  </a:lnTo>
                  <a:close/>
                  <a:moveTo>
                    <a:pt x="3753" y="0"/>
                  </a:moveTo>
                  <a:lnTo>
                    <a:pt x="3771" y="0"/>
                  </a:lnTo>
                  <a:lnTo>
                    <a:pt x="3772" y="0"/>
                  </a:lnTo>
                  <a:lnTo>
                    <a:pt x="3775" y="2"/>
                  </a:lnTo>
                  <a:lnTo>
                    <a:pt x="3776" y="4"/>
                  </a:lnTo>
                  <a:lnTo>
                    <a:pt x="3776" y="6"/>
                  </a:lnTo>
                  <a:lnTo>
                    <a:pt x="3776" y="8"/>
                  </a:lnTo>
                  <a:lnTo>
                    <a:pt x="3775" y="10"/>
                  </a:lnTo>
                  <a:lnTo>
                    <a:pt x="3772" y="12"/>
                  </a:lnTo>
                  <a:lnTo>
                    <a:pt x="3771" y="12"/>
                  </a:lnTo>
                  <a:lnTo>
                    <a:pt x="3753" y="12"/>
                  </a:lnTo>
                  <a:lnTo>
                    <a:pt x="3752" y="12"/>
                  </a:lnTo>
                  <a:lnTo>
                    <a:pt x="3751" y="10"/>
                  </a:lnTo>
                  <a:lnTo>
                    <a:pt x="3750" y="8"/>
                  </a:lnTo>
                  <a:lnTo>
                    <a:pt x="3750" y="6"/>
                  </a:lnTo>
                  <a:lnTo>
                    <a:pt x="3750" y="4"/>
                  </a:lnTo>
                  <a:lnTo>
                    <a:pt x="3751" y="2"/>
                  </a:lnTo>
                  <a:lnTo>
                    <a:pt x="3752" y="0"/>
                  </a:lnTo>
                  <a:lnTo>
                    <a:pt x="3753" y="0"/>
                  </a:lnTo>
                  <a:lnTo>
                    <a:pt x="3753" y="0"/>
                  </a:lnTo>
                  <a:close/>
                  <a:moveTo>
                    <a:pt x="3797" y="0"/>
                  </a:moveTo>
                  <a:lnTo>
                    <a:pt x="3816" y="0"/>
                  </a:lnTo>
                  <a:lnTo>
                    <a:pt x="3817" y="0"/>
                  </a:lnTo>
                  <a:lnTo>
                    <a:pt x="3818" y="2"/>
                  </a:lnTo>
                  <a:lnTo>
                    <a:pt x="3819" y="4"/>
                  </a:lnTo>
                  <a:lnTo>
                    <a:pt x="3819" y="6"/>
                  </a:lnTo>
                  <a:lnTo>
                    <a:pt x="3819" y="8"/>
                  </a:lnTo>
                  <a:lnTo>
                    <a:pt x="3818" y="10"/>
                  </a:lnTo>
                  <a:lnTo>
                    <a:pt x="3817" y="12"/>
                  </a:lnTo>
                  <a:lnTo>
                    <a:pt x="3816" y="12"/>
                  </a:lnTo>
                  <a:lnTo>
                    <a:pt x="3797" y="12"/>
                  </a:lnTo>
                  <a:lnTo>
                    <a:pt x="3796" y="12"/>
                  </a:lnTo>
                  <a:lnTo>
                    <a:pt x="3795" y="10"/>
                  </a:lnTo>
                  <a:lnTo>
                    <a:pt x="3794" y="8"/>
                  </a:lnTo>
                  <a:lnTo>
                    <a:pt x="3794" y="6"/>
                  </a:lnTo>
                  <a:lnTo>
                    <a:pt x="3794" y="4"/>
                  </a:lnTo>
                  <a:lnTo>
                    <a:pt x="3795" y="2"/>
                  </a:lnTo>
                  <a:lnTo>
                    <a:pt x="3796" y="0"/>
                  </a:lnTo>
                  <a:lnTo>
                    <a:pt x="3797" y="0"/>
                  </a:lnTo>
                  <a:lnTo>
                    <a:pt x="3797" y="0"/>
                  </a:lnTo>
                  <a:close/>
                  <a:moveTo>
                    <a:pt x="3842" y="0"/>
                  </a:moveTo>
                  <a:lnTo>
                    <a:pt x="3861" y="0"/>
                  </a:lnTo>
                  <a:lnTo>
                    <a:pt x="3862" y="0"/>
                  </a:lnTo>
                  <a:lnTo>
                    <a:pt x="3863" y="2"/>
                  </a:lnTo>
                  <a:lnTo>
                    <a:pt x="3864" y="4"/>
                  </a:lnTo>
                  <a:lnTo>
                    <a:pt x="3864" y="6"/>
                  </a:lnTo>
                  <a:lnTo>
                    <a:pt x="3864" y="8"/>
                  </a:lnTo>
                  <a:lnTo>
                    <a:pt x="3863" y="10"/>
                  </a:lnTo>
                  <a:lnTo>
                    <a:pt x="3862" y="12"/>
                  </a:lnTo>
                  <a:lnTo>
                    <a:pt x="3861" y="12"/>
                  </a:lnTo>
                  <a:lnTo>
                    <a:pt x="3842" y="12"/>
                  </a:lnTo>
                  <a:lnTo>
                    <a:pt x="3841" y="12"/>
                  </a:lnTo>
                  <a:lnTo>
                    <a:pt x="3840" y="10"/>
                  </a:lnTo>
                  <a:lnTo>
                    <a:pt x="3839" y="8"/>
                  </a:lnTo>
                  <a:lnTo>
                    <a:pt x="3839" y="6"/>
                  </a:lnTo>
                  <a:lnTo>
                    <a:pt x="3839" y="4"/>
                  </a:lnTo>
                  <a:lnTo>
                    <a:pt x="3840" y="2"/>
                  </a:lnTo>
                  <a:lnTo>
                    <a:pt x="3841" y="0"/>
                  </a:lnTo>
                  <a:lnTo>
                    <a:pt x="3842" y="0"/>
                  </a:lnTo>
                  <a:lnTo>
                    <a:pt x="3842" y="0"/>
                  </a:lnTo>
                  <a:close/>
                  <a:moveTo>
                    <a:pt x="3887" y="0"/>
                  </a:moveTo>
                  <a:lnTo>
                    <a:pt x="3906" y="0"/>
                  </a:lnTo>
                  <a:lnTo>
                    <a:pt x="3907" y="0"/>
                  </a:lnTo>
                  <a:lnTo>
                    <a:pt x="3908" y="2"/>
                  </a:lnTo>
                  <a:lnTo>
                    <a:pt x="3909" y="4"/>
                  </a:lnTo>
                  <a:lnTo>
                    <a:pt x="3909" y="6"/>
                  </a:lnTo>
                  <a:lnTo>
                    <a:pt x="3909" y="8"/>
                  </a:lnTo>
                  <a:lnTo>
                    <a:pt x="3908" y="10"/>
                  </a:lnTo>
                  <a:lnTo>
                    <a:pt x="3907" y="12"/>
                  </a:lnTo>
                  <a:lnTo>
                    <a:pt x="3906" y="12"/>
                  </a:lnTo>
                  <a:lnTo>
                    <a:pt x="3887" y="12"/>
                  </a:lnTo>
                  <a:lnTo>
                    <a:pt x="3886" y="12"/>
                  </a:lnTo>
                  <a:lnTo>
                    <a:pt x="3885" y="10"/>
                  </a:lnTo>
                  <a:lnTo>
                    <a:pt x="3884" y="8"/>
                  </a:lnTo>
                  <a:lnTo>
                    <a:pt x="3884" y="6"/>
                  </a:lnTo>
                  <a:lnTo>
                    <a:pt x="3884" y="4"/>
                  </a:lnTo>
                  <a:lnTo>
                    <a:pt x="3885" y="2"/>
                  </a:lnTo>
                  <a:lnTo>
                    <a:pt x="3886" y="0"/>
                  </a:lnTo>
                  <a:lnTo>
                    <a:pt x="3887" y="0"/>
                  </a:lnTo>
                  <a:lnTo>
                    <a:pt x="3887" y="0"/>
                  </a:lnTo>
                  <a:close/>
                  <a:moveTo>
                    <a:pt x="3932" y="0"/>
                  </a:moveTo>
                  <a:lnTo>
                    <a:pt x="3950" y="0"/>
                  </a:lnTo>
                  <a:lnTo>
                    <a:pt x="3951" y="0"/>
                  </a:lnTo>
                  <a:lnTo>
                    <a:pt x="3953" y="2"/>
                  </a:lnTo>
                  <a:lnTo>
                    <a:pt x="3954" y="4"/>
                  </a:lnTo>
                  <a:lnTo>
                    <a:pt x="3954" y="6"/>
                  </a:lnTo>
                  <a:lnTo>
                    <a:pt x="3954" y="8"/>
                  </a:lnTo>
                  <a:lnTo>
                    <a:pt x="3953" y="10"/>
                  </a:lnTo>
                  <a:lnTo>
                    <a:pt x="3951" y="12"/>
                  </a:lnTo>
                  <a:lnTo>
                    <a:pt x="3950" y="12"/>
                  </a:lnTo>
                  <a:lnTo>
                    <a:pt x="3932" y="12"/>
                  </a:lnTo>
                  <a:lnTo>
                    <a:pt x="3931" y="12"/>
                  </a:lnTo>
                  <a:lnTo>
                    <a:pt x="3930" y="10"/>
                  </a:lnTo>
                  <a:lnTo>
                    <a:pt x="3929" y="8"/>
                  </a:lnTo>
                  <a:lnTo>
                    <a:pt x="3929" y="6"/>
                  </a:lnTo>
                  <a:lnTo>
                    <a:pt x="3929" y="4"/>
                  </a:lnTo>
                  <a:lnTo>
                    <a:pt x="3930" y="2"/>
                  </a:lnTo>
                  <a:lnTo>
                    <a:pt x="3931" y="0"/>
                  </a:lnTo>
                  <a:lnTo>
                    <a:pt x="3932" y="0"/>
                  </a:lnTo>
                  <a:lnTo>
                    <a:pt x="3932" y="0"/>
                  </a:lnTo>
                  <a:close/>
                  <a:moveTo>
                    <a:pt x="3976" y="0"/>
                  </a:moveTo>
                  <a:lnTo>
                    <a:pt x="3995" y="0"/>
                  </a:lnTo>
                  <a:lnTo>
                    <a:pt x="3996" y="0"/>
                  </a:lnTo>
                  <a:lnTo>
                    <a:pt x="3997" y="2"/>
                  </a:lnTo>
                  <a:lnTo>
                    <a:pt x="3998" y="4"/>
                  </a:lnTo>
                  <a:lnTo>
                    <a:pt x="3998" y="6"/>
                  </a:lnTo>
                  <a:lnTo>
                    <a:pt x="3998" y="8"/>
                  </a:lnTo>
                  <a:lnTo>
                    <a:pt x="3997" y="10"/>
                  </a:lnTo>
                  <a:lnTo>
                    <a:pt x="3996" y="12"/>
                  </a:lnTo>
                  <a:lnTo>
                    <a:pt x="3995" y="12"/>
                  </a:lnTo>
                  <a:lnTo>
                    <a:pt x="3976" y="12"/>
                  </a:lnTo>
                  <a:lnTo>
                    <a:pt x="3975" y="12"/>
                  </a:lnTo>
                  <a:lnTo>
                    <a:pt x="3974" y="10"/>
                  </a:lnTo>
                  <a:lnTo>
                    <a:pt x="3973" y="8"/>
                  </a:lnTo>
                  <a:lnTo>
                    <a:pt x="3973" y="6"/>
                  </a:lnTo>
                  <a:lnTo>
                    <a:pt x="3973" y="4"/>
                  </a:lnTo>
                  <a:lnTo>
                    <a:pt x="3974" y="2"/>
                  </a:lnTo>
                  <a:lnTo>
                    <a:pt x="3975" y="0"/>
                  </a:lnTo>
                  <a:lnTo>
                    <a:pt x="3976" y="0"/>
                  </a:lnTo>
                  <a:lnTo>
                    <a:pt x="3976" y="0"/>
                  </a:lnTo>
                  <a:close/>
                  <a:moveTo>
                    <a:pt x="4020" y="0"/>
                  </a:moveTo>
                  <a:lnTo>
                    <a:pt x="4040" y="0"/>
                  </a:lnTo>
                  <a:lnTo>
                    <a:pt x="4041" y="0"/>
                  </a:lnTo>
                  <a:lnTo>
                    <a:pt x="4042" y="2"/>
                  </a:lnTo>
                  <a:lnTo>
                    <a:pt x="4043" y="4"/>
                  </a:lnTo>
                  <a:lnTo>
                    <a:pt x="4043" y="6"/>
                  </a:lnTo>
                  <a:lnTo>
                    <a:pt x="4043" y="8"/>
                  </a:lnTo>
                  <a:lnTo>
                    <a:pt x="4042" y="10"/>
                  </a:lnTo>
                  <a:lnTo>
                    <a:pt x="4041" y="12"/>
                  </a:lnTo>
                  <a:lnTo>
                    <a:pt x="4040" y="12"/>
                  </a:lnTo>
                  <a:lnTo>
                    <a:pt x="4020" y="12"/>
                  </a:lnTo>
                  <a:lnTo>
                    <a:pt x="4019" y="12"/>
                  </a:lnTo>
                  <a:lnTo>
                    <a:pt x="4018" y="10"/>
                  </a:lnTo>
                  <a:lnTo>
                    <a:pt x="4017" y="8"/>
                  </a:lnTo>
                  <a:lnTo>
                    <a:pt x="4017" y="6"/>
                  </a:lnTo>
                  <a:lnTo>
                    <a:pt x="4017" y="4"/>
                  </a:lnTo>
                  <a:lnTo>
                    <a:pt x="4018" y="2"/>
                  </a:lnTo>
                  <a:lnTo>
                    <a:pt x="4019" y="0"/>
                  </a:lnTo>
                  <a:lnTo>
                    <a:pt x="4020" y="0"/>
                  </a:lnTo>
                  <a:lnTo>
                    <a:pt x="4020" y="0"/>
                  </a:lnTo>
                  <a:close/>
                  <a:moveTo>
                    <a:pt x="4065" y="0"/>
                  </a:moveTo>
                  <a:lnTo>
                    <a:pt x="4085" y="0"/>
                  </a:lnTo>
                  <a:lnTo>
                    <a:pt x="4086" y="0"/>
                  </a:lnTo>
                  <a:lnTo>
                    <a:pt x="4087" y="2"/>
                  </a:lnTo>
                  <a:lnTo>
                    <a:pt x="4088" y="4"/>
                  </a:lnTo>
                  <a:lnTo>
                    <a:pt x="4088" y="6"/>
                  </a:lnTo>
                  <a:lnTo>
                    <a:pt x="4088" y="8"/>
                  </a:lnTo>
                  <a:lnTo>
                    <a:pt x="4087" y="10"/>
                  </a:lnTo>
                  <a:lnTo>
                    <a:pt x="4086" y="12"/>
                  </a:lnTo>
                  <a:lnTo>
                    <a:pt x="4085" y="12"/>
                  </a:lnTo>
                  <a:lnTo>
                    <a:pt x="4065" y="12"/>
                  </a:lnTo>
                  <a:lnTo>
                    <a:pt x="4064" y="12"/>
                  </a:lnTo>
                  <a:lnTo>
                    <a:pt x="4063" y="10"/>
                  </a:lnTo>
                  <a:lnTo>
                    <a:pt x="4062" y="8"/>
                  </a:lnTo>
                  <a:lnTo>
                    <a:pt x="4062" y="6"/>
                  </a:lnTo>
                  <a:lnTo>
                    <a:pt x="4062" y="4"/>
                  </a:lnTo>
                  <a:lnTo>
                    <a:pt x="4063" y="2"/>
                  </a:lnTo>
                  <a:lnTo>
                    <a:pt x="4064" y="0"/>
                  </a:lnTo>
                  <a:lnTo>
                    <a:pt x="4065" y="0"/>
                  </a:lnTo>
                  <a:lnTo>
                    <a:pt x="4065" y="0"/>
                  </a:lnTo>
                  <a:close/>
                  <a:moveTo>
                    <a:pt x="4110" y="0"/>
                  </a:moveTo>
                  <a:lnTo>
                    <a:pt x="4129" y="0"/>
                  </a:lnTo>
                  <a:lnTo>
                    <a:pt x="4130" y="0"/>
                  </a:lnTo>
                  <a:lnTo>
                    <a:pt x="4132" y="2"/>
                  </a:lnTo>
                  <a:lnTo>
                    <a:pt x="4133" y="4"/>
                  </a:lnTo>
                  <a:lnTo>
                    <a:pt x="4133" y="6"/>
                  </a:lnTo>
                  <a:lnTo>
                    <a:pt x="4133" y="8"/>
                  </a:lnTo>
                  <a:lnTo>
                    <a:pt x="4132" y="10"/>
                  </a:lnTo>
                  <a:lnTo>
                    <a:pt x="4130" y="12"/>
                  </a:lnTo>
                  <a:lnTo>
                    <a:pt x="4129" y="12"/>
                  </a:lnTo>
                  <a:lnTo>
                    <a:pt x="4110" y="12"/>
                  </a:lnTo>
                  <a:lnTo>
                    <a:pt x="4109" y="12"/>
                  </a:lnTo>
                  <a:lnTo>
                    <a:pt x="4108" y="10"/>
                  </a:lnTo>
                  <a:lnTo>
                    <a:pt x="4107" y="8"/>
                  </a:lnTo>
                  <a:lnTo>
                    <a:pt x="4107" y="6"/>
                  </a:lnTo>
                  <a:lnTo>
                    <a:pt x="4107" y="4"/>
                  </a:lnTo>
                  <a:lnTo>
                    <a:pt x="4108" y="2"/>
                  </a:lnTo>
                  <a:lnTo>
                    <a:pt x="4109" y="0"/>
                  </a:lnTo>
                  <a:lnTo>
                    <a:pt x="4110" y="0"/>
                  </a:lnTo>
                  <a:lnTo>
                    <a:pt x="4110" y="0"/>
                  </a:lnTo>
                  <a:close/>
                  <a:moveTo>
                    <a:pt x="4154" y="0"/>
                  </a:moveTo>
                  <a:lnTo>
                    <a:pt x="4174" y="0"/>
                  </a:lnTo>
                  <a:lnTo>
                    <a:pt x="4175" y="0"/>
                  </a:lnTo>
                  <a:lnTo>
                    <a:pt x="4176" y="2"/>
                  </a:lnTo>
                  <a:lnTo>
                    <a:pt x="4177" y="4"/>
                  </a:lnTo>
                  <a:lnTo>
                    <a:pt x="4177" y="6"/>
                  </a:lnTo>
                  <a:lnTo>
                    <a:pt x="4177" y="8"/>
                  </a:lnTo>
                  <a:lnTo>
                    <a:pt x="4176" y="10"/>
                  </a:lnTo>
                  <a:lnTo>
                    <a:pt x="4175" y="12"/>
                  </a:lnTo>
                  <a:lnTo>
                    <a:pt x="4174" y="12"/>
                  </a:lnTo>
                  <a:lnTo>
                    <a:pt x="4154" y="12"/>
                  </a:lnTo>
                  <a:lnTo>
                    <a:pt x="4153" y="12"/>
                  </a:lnTo>
                  <a:lnTo>
                    <a:pt x="4152" y="10"/>
                  </a:lnTo>
                  <a:lnTo>
                    <a:pt x="4151" y="8"/>
                  </a:lnTo>
                  <a:lnTo>
                    <a:pt x="4151" y="6"/>
                  </a:lnTo>
                  <a:lnTo>
                    <a:pt x="4151" y="4"/>
                  </a:lnTo>
                  <a:lnTo>
                    <a:pt x="4152" y="2"/>
                  </a:lnTo>
                  <a:lnTo>
                    <a:pt x="4153" y="0"/>
                  </a:lnTo>
                  <a:lnTo>
                    <a:pt x="4154" y="0"/>
                  </a:lnTo>
                  <a:lnTo>
                    <a:pt x="4154" y="0"/>
                  </a:lnTo>
                  <a:close/>
                  <a:moveTo>
                    <a:pt x="4199" y="0"/>
                  </a:moveTo>
                  <a:lnTo>
                    <a:pt x="4218" y="0"/>
                  </a:lnTo>
                  <a:lnTo>
                    <a:pt x="4219" y="0"/>
                  </a:lnTo>
                  <a:lnTo>
                    <a:pt x="4220" y="2"/>
                  </a:lnTo>
                  <a:lnTo>
                    <a:pt x="4222" y="4"/>
                  </a:lnTo>
                  <a:lnTo>
                    <a:pt x="4222" y="6"/>
                  </a:lnTo>
                  <a:lnTo>
                    <a:pt x="4222" y="8"/>
                  </a:lnTo>
                  <a:lnTo>
                    <a:pt x="4220" y="10"/>
                  </a:lnTo>
                  <a:lnTo>
                    <a:pt x="4219" y="12"/>
                  </a:lnTo>
                  <a:lnTo>
                    <a:pt x="4218" y="12"/>
                  </a:lnTo>
                  <a:lnTo>
                    <a:pt x="4199" y="12"/>
                  </a:lnTo>
                  <a:lnTo>
                    <a:pt x="4198" y="12"/>
                  </a:lnTo>
                  <a:lnTo>
                    <a:pt x="4197" y="10"/>
                  </a:lnTo>
                  <a:lnTo>
                    <a:pt x="4196" y="8"/>
                  </a:lnTo>
                  <a:lnTo>
                    <a:pt x="4196" y="6"/>
                  </a:lnTo>
                  <a:lnTo>
                    <a:pt x="4196" y="4"/>
                  </a:lnTo>
                  <a:lnTo>
                    <a:pt x="4197" y="2"/>
                  </a:lnTo>
                  <a:lnTo>
                    <a:pt x="4198" y="0"/>
                  </a:lnTo>
                  <a:lnTo>
                    <a:pt x="4199" y="0"/>
                  </a:lnTo>
                  <a:lnTo>
                    <a:pt x="4199" y="0"/>
                  </a:lnTo>
                  <a:close/>
                  <a:moveTo>
                    <a:pt x="4244" y="0"/>
                  </a:moveTo>
                  <a:lnTo>
                    <a:pt x="4263" y="0"/>
                  </a:lnTo>
                  <a:lnTo>
                    <a:pt x="4264" y="0"/>
                  </a:lnTo>
                  <a:lnTo>
                    <a:pt x="4265" y="2"/>
                  </a:lnTo>
                  <a:lnTo>
                    <a:pt x="4266" y="4"/>
                  </a:lnTo>
                  <a:lnTo>
                    <a:pt x="4266" y="6"/>
                  </a:lnTo>
                  <a:lnTo>
                    <a:pt x="4266" y="8"/>
                  </a:lnTo>
                  <a:lnTo>
                    <a:pt x="4265" y="10"/>
                  </a:lnTo>
                  <a:lnTo>
                    <a:pt x="4264" y="12"/>
                  </a:lnTo>
                  <a:lnTo>
                    <a:pt x="4263" y="12"/>
                  </a:lnTo>
                  <a:lnTo>
                    <a:pt x="4244" y="12"/>
                  </a:lnTo>
                  <a:lnTo>
                    <a:pt x="4243" y="12"/>
                  </a:lnTo>
                  <a:lnTo>
                    <a:pt x="4242" y="10"/>
                  </a:lnTo>
                  <a:lnTo>
                    <a:pt x="4241" y="8"/>
                  </a:lnTo>
                  <a:lnTo>
                    <a:pt x="4241" y="6"/>
                  </a:lnTo>
                  <a:lnTo>
                    <a:pt x="4241" y="4"/>
                  </a:lnTo>
                  <a:lnTo>
                    <a:pt x="4242" y="2"/>
                  </a:lnTo>
                  <a:lnTo>
                    <a:pt x="4243" y="0"/>
                  </a:lnTo>
                  <a:lnTo>
                    <a:pt x="4244" y="0"/>
                  </a:lnTo>
                  <a:lnTo>
                    <a:pt x="4244" y="0"/>
                  </a:lnTo>
                  <a:close/>
                  <a:moveTo>
                    <a:pt x="4289" y="0"/>
                  </a:moveTo>
                  <a:lnTo>
                    <a:pt x="4307" y="0"/>
                  </a:lnTo>
                  <a:lnTo>
                    <a:pt x="4308" y="0"/>
                  </a:lnTo>
                  <a:lnTo>
                    <a:pt x="4310" y="2"/>
                  </a:lnTo>
                  <a:lnTo>
                    <a:pt x="4311" y="4"/>
                  </a:lnTo>
                  <a:lnTo>
                    <a:pt x="4311" y="6"/>
                  </a:lnTo>
                  <a:lnTo>
                    <a:pt x="4311" y="8"/>
                  </a:lnTo>
                  <a:lnTo>
                    <a:pt x="4310" y="10"/>
                  </a:lnTo>
                  <a:lnTo>
                    <a:pt x="4308" y="12"/>
                  </a:lnTo>
                  <a:lnTo>
                    <a:pt x="4307" y="12"/>
                  </a:lnTo>
                  <a:lnTo>
                    <a:pt x="4289" y="12"/>
                  </a:lnTo>
                  <a:lnTo>
                    <a:pt x="4288" y="12"/>
                  </a:lnTo>
                  <a:lnTo>
                    <a:pt x="4287" y="10"/>
                  </a:lnTo>
                  <a:lnTo>
                    <a:pt x="4286" y="8"/>
                  </a:lnTo>
                  <a:lnTo>
                    <a:pt x="4286" y="6"/>
                  </a:lnTo>
                  <a:lnTo>
                    <a:pt x="4286" y="4"/>
                  </a:lnTo>
                  <a:lnTo>
                    <a:pt x="4287" y="2"/>
                  </a:lnTo>
                  <a:lnTo>
                    <a:pt x="4288" y="0"/>
                  </a:lnTo>
                  <a:lnTo>
                    <a:pt x="4289" y="0"/>
                  </a:lnTo>
                  <a:lnTo>
                    <a:pt x="4289" y="0"/>
                  </a:lnTo>
                  <a:close/>
                  <a:moveTo>
                    <a:pt x="4333" y="0"/>
                  </a:moveTo>
                  <a:lnTo>
                    <a:pt x="4352" y="0"/>
                  </a:lnTo>
                  <a:lnTo>
                    <a:pt x="4353" y="0"/>
                  </a:lnTo>
                  <a:lnTo>
                    <a:pt x="4354" y="2"/>
                  </a:lnTo>
                  <a:lnTo>
                    <a:pt x="4355" y="4"/>
                  </a:lnTo>
                  <a:lnTo>
                    <a:pt x="4355" y="6"/>
                  </a:lnTo>
                  <a:lnTo>
                    <a:pt x="4355" y="8"/>
                  </a:lnTo>
                  <a:lnTo>
                    <a:pt x="4354" y="10"/>
                  </a:lnTo>
                  <a:lnTo>
                    <a:pt x="4353" y="12"/>
                  </a:lnTo>
                  <a:lnTo>
                    <a:pt x="4352" y="12"/>
                  </a:lnTo>
                  <a:lnTo>
                    <a:pt x="4333" y="12"/>
                  </a:lnTo>
                  <a:lnTo>
                    <a:pt x="4332" y="12"/>
                  </a:lnTo>
                  <a:lnTo>
                    <a:pt x="4331" y="10"/>
                  </a:lnTo>
                  <a:lnTo>
                    <a:pt x="4330" y="8"/>
                  </a:lnTo>
                  <a:lnTo>
                    <a:pt x="4330" y="6"/>
                  </a:lnTo>
                  <a:lnTo>
                    <a:pt x="4330" y="4"/>
                  </a:lnTo>
                  <a:lnTo>
                    <a:pt x="4331" y="2"/>
                  </a:lnTo>
                  <a:lnTo>
                    <a:pt x="4332" y="0"/>
                  </a:lnTo>
                  <a:lnTo>
                    <a:pt x="4333" y="0"/>
                  </a:lnTo>
                  <a:lnTo>
                    <a:pt x="4333" y="0"/>
                  </a:lnTo>
                  <a:close/>
                  <a:moveTo>
                    <a:pt x="4378" y="0"/>
                  </a:moveTo>
                  <a:lnTo>
                    <a:pt x="4397" y="0"/>
                  </a:lnTo>
                  <a:lnTo>
                    <a:pt x="4398" y="0"/>
                  </a:lnTo>
                  <a:lnTo>
                    <a:pt x="4399" y="2"/>
                  </a:lnTo>
                  <a:lnTo>
                    <a:pt x="4400" y="4"/>
                  </a:lnTo>
                  <a:lnTo>
                    <a:pt x="4400" y="6"/>
                  </a:lnTo>
                  <a:lnTo>
                    <a:pt x="4400" y="8"/>
                  </a:lnTo>
                  <a:lnTo>
                    <a:pt x="4399" y="10"/>
                  </a:lnTo>
                  <a:lnTo>
                    <a:pt x="4398" y="12"/>
                  </a:lnTo>
                  <a:lnTo>
                    <a:pt x="4397" y="12"/>
                  </a:lnTo>
                  <a:lnTo>
                    <a:pt x="4378" y="12"/>
                  </a:lnTo>
                  <a:lnTo>
                    <a:pt x="4377" y="12"/>
                  </a:lnTo>
                  <a:lnTo>
                    <a:pt x="4376" y="10"/>
                  </a:lnTo>
                  <a:lnTo>
                    <a:pt x="4375" y="8"/>
                  </a:lnTo>
                  <a:lnTo>
                    <a:pt x="4375" y="6"/>
                  </a:lnTo>
                  <a:lnTo>
                    <a:pt x="4375" y="4"/>
                  </a:lnTo>
                  <a:lnTo>
                    <a:pt x="4376" y="2"/>
                  </a:lnTo>
                  <a:lnTo>
                    <a:pt x="4377" y="0"/>
                  </a:lnTo>
                  <a:lnTo>
                    <a:pt x="4378" y="0"/>
                  </a:lnTo>
                  <a:lnTo>
                    <a:pt x="4378" y="0"/>
                  </a:lnTo>
                  <a:close/>
                  <a:moveTo>
                    <a:pt x="4423" y="0"/>
                  </a:moveTo>
                  <a:lnTo>
                    <a:pt x="4442" y="0"/>
                  </a:lnTo>
                  <a:lnTo>
                    <a:pt x="4443" y="0"/>
                  </a:lnTo>
                  <a:lnTo>
                    <a:pt x="4444" y="2"/>
                  </a:lnTo>
                  <a:lnTo>
                    <a:pt x="4445" y="4"/>
                  </a:lnTo>
                  <a:lnTo>
                    <a:pt x="4445" y="6"/>
                  </a:lnTo>
                  <a:lnTo>
                    <a:pt x="4445" y="8"/>
                  </a:lnTo>
                  <a:lnTo>
                    <a:pt x="4444" y="10"/>
                  </a:lnTo>
                  <a:lnTo>
                    <a:pt x="4443" y="12"/>
                  </a:lnTo>
                  <a:lnTo>
                    <a:pt x="4442" y="12"/>
                  </a:lnTo>
                  <a:lnTo>
                    <a:pt x="4423" y="12"/>
                  </a:lnTo>
                  <a:lnTo>
                    <a:pt x="4422" y="12"/>
                  </a:lnTo>
                  <a:lnTo>
                    <a:pt x="4421" y="10"/>
                  </a:lnTo>
                  <a:lnTo>
                    <a:pt x="4419" y="8"/>
                  </a:lnTo>
                  <a:lnTo>
                    <a:pt x="4419" y="6"/>
                  </a:lnTo>
                  <a:lnTo>
                    <a:pt x="4419" y="4"/>
                  </a:lnTo>
                  <a:lnTo>
                    <a:pt x="4421" y="2"/>
                  </a:lnTo>
                  <a:lnTo>
                    <a:pt x="4422" y="0"/>
                  </a:lnTo>
                  <a:lnTo>
                    <a:pt x="4423" y="0"/>
                  </a:lnTo>
                  <a:lnTo>
                    <a:pt x="4423" y="0"/>
                  </a:lnTo>
                  <a:close/>
                  <a:moveTo>
                    <a:pt x="4467" y="0"/>
                  </a:moveTo>
                  <a:lnTo>
                    <a:pt x="4486" y="0"/>
                  </a:lnTo>
                  <a:lnTo>
                    <a:pt x="4487" y="0"/>
                  </a:lnTo>
                  <a:lnTo>
                    <a:pt x="4489" y="2"/>
                  </a:lnTo>
                  <a:lnTo>
                    <a:pt x="4490" y="4"/>
                  </a:lnTo>
                  <a:lnTo>
                    <a:pt x="4490" y="6"/>
                  </a:lnTo>
                  <a:lnTo>
                    <a:pt x="4490" y="8"/>
                  </a:lnTo>
                  <a:lnTo>
                    <a:pt x="4489" y="10"/>
                  </a:lnTo>
                  <a:lnTo>
                    <a:pt x="4487" y="12"/>
                  </a:lnTo>
                  <a:lnTo>
                    <a:pt x="4486" y="12"/>
                  </a:lnTo>
                  <a:lnTo>
                    <a:pt x="4467" y="12"/>
                  </a:lnTo>
                  <a:lnTo>
                    <a:pt x="4466" y="12"/>
                  </a:lnTo>
                  <a:lnTo>
                    <a:pt x="4465" y="10"/>
                  </a:lnTo>
                  <a:lnTo>
                    <a:pt x="4464" y="8"/>
                  </a:lnTo>
                  <a:lnTo>
                    <a:pt x="4464" y="6"/>
                  </a:lnTo>
                  <a:lnTo>
                    <a:pt x="4464" y="4"/>
                  </a:lnTo>
                  <a:lnTo>
                    <a:pt x="4465" y="2"/>
                  </a:lnTo>
                  <a:lnTo>
                    <a:pt x="4466" y="0"/>
                  </a:lnTo>
                  <a:lnTo>
                    <a:pt x="4467" y="0"/>
                  </a:lnTo>
                  <a:lnTo>
                    <a:pt x="4467" y="0"/>
                  </a:lnTo>
                  <a:close/>
                  <a:moveTo>
                    <a:pt x="4511" y="0"/>
                  </a:moveTo>
                  <a:lnTo>
                    <a:pt x="4531" y="0"/>
                  </a:lnTo>
                  <a:lnTo>
                    <a:pt x="4532" y="0"/>
                  </a:lnTo>
                  <a:lnTo>
                    <a:pt x="4533" y="2"/>
                  </a:lnTo>
                  <a:lnTo>
                    <a:pt x="4534" y="4"/>
                  </a:lnTo>
                  <a:lnTo>
                    <a:pt x="4534" y="6"/>
                  </a:lnTo>
                  <a:lnTo>
                    <a:pt x="4534" y="8"/>
                  </a:lnTo>
                  <a:lnTo>
                    <a:pt x="4533" y="10"/>
                  </a:lnTo>
                  <a:lnTo>
                    <a:pt x="4532" y="12"/>
                  </a:lnTo>
                  <a:lnTo>
                    <a:pt x="4531" y="12"/>
                  </a:lnTo>
                  <a:lnTo>
                    <a:pt x="4511" y="12"/>
                  </a:lnTo>
                  <a:lnTo>
                    <a:pt x="4510" y="12"/>
                  </a:lnTo>
                  <a:lnTo>
                    <a:pt x="4509" y="10"/>
                  </a:lnTo>
                  <a:lnTo>
                    <a:pt x="4508" y="8"/>
                  </a:lnTo>
                  <a:lnTo>
                    <a:pt x="4508" y="6"/>
                  </a:lnTo>
                  <a:lnTo>
                    <a:pt x="4508" y="4"/>
                  </a:lnTo>
                  <a:lnTo>
                    <a:pt x="4509" y="2"/>
                  </a:lnTo>
                  <a:lnTo>
                    <a:pt x="4510" y="0"/>
                  </a:lnTo>
                  <a:lnTo>
                    <a:pt x="4511" y="0"/>
                  </a:lnTo>
                  <a:lnTo>
                    <a:pt x="4511" y="0"/>
                  </a:lnTo>
                  <a:close/>
                  <a:moveTo>
                    <a:pt x="4556" y="0"/>
                  </a:moveTo>
                  <a:lnTo>
                    <a:pt x="4576" y="0"/>
                  </a:lnTo>
                  <a:lnTo>
                    <a:pt x="4577" y="0"/>
                  </a:lnTo>
                  <a:lnTo>
                    <a:pt x="4578" y="2"/>
                  </a:lnTo>
                  <a:lnTo>
                    <a:pt x="4579" y="4"/>
                  </a:lnTo>
                  <a:lnTo>
                    <a:pt x="4579" y="6"/>
                  </a:lnTo>
                  <a:lnTo>
                    <a:pt x="4579" y="8"/>
                  </a:lnTo>
                  <a:lnTo>
                    <a:pt x="4578" y="10"/>
                  </a:lnTo>
                  <a:lnTo>
                    <a:pt x="4577" y="12"/>
                  </a:lnTo>
                  <a:lnTo>
                    <a:pt x="4576" y="12"/>
                  </a:lnTo>
                  <a:lnTo>
                    <a:pt x="4556" y="12"/>
                  </a:lnTo>
                  <a:lnTo>
                    <a:pt x="4555" y="12"/>
                  </a:lnTo>
                  <a:lnTo>
                    <a:pt x="4554" y="10"/>
                  </a:lnTo>
                  <a:lnTo>
                    <a:pt x="4553" y="8"/>
                  </a:lnTo>
                  <a:lnTo>
                    <a:pt x="4553" y="6"/>
                  </a:lnTo>
                  <a:lnTo>
                    <a:pt x="4553" y="4"/>
                  </a:lnTo>
                  <a:lnTo>
                    <a:pt x="4554" y="2"/>
                  </a:lnTo>
                  <a:lnTo>
                    <a:pt x="4555" y="0"/>
                  </a:lnTo>
                  <a:lnTo>
                    <a:pt x="4556" y="0"/>
                  </a:lnTo>
                  <a:lnTo>
                    <a:pt x="4556" y="0"/>
                  </a:lnTo>
                  <a:close/>
                  <a:moveTo>
                    <a:pt x="4601" y="0"/>
                  </a:moveTo>
                  <a:lnTo>
                    <a:pt x="4621" y="0"/>
                  </a:lnTo>
                  <a:lnTo>
                    <a:pt x="4622" y="0"/>
                  </a:lnTo>
                  <a:lnTo>
                    <a:pt x="4623" y="2"/>
                  </a:lnTo>
                  <a:lnTo>
                    <a:pt x="4624" y="4"/>
                  </a:lnTo>
                  <a:lnTo>
                    <a:pt x="4624" y="6"/>
                  </a:lnTo>
                  <a:lnTo>
                    <a:pt x="4624" y="8"/>
                  </a:lnTo>
                  <a:lnTo>
                    <a:pt x="4623" y="10"/>
                  </a:lnTo>
                  <a:lnTo>
                    <a:pt x="4622" y="12"/>
                  </a:lnTo>
                  <a:lnTo>
                    <a:pt x="4621" y="12"/>
                  </a:lnTo>
                  <a:lnTo>
                    <a:pt x="4601" y="12"/>
                  </a:lnTo>
                  <a:lnTo>
                    <a:pt x="4600" y="12"/>
                  </a:lnTo>
                  <a:lnTo>
                    <a:pt x="4599" y="10"/>
                  </a:lnTo>
                  <a:lnTo>
                    <a:pt x="4598" y="8"/>
                  </a:lnTo>
                  <a:lnTo>
                    <a:pt x="4598" y="6"/>
                  </a:lnTo>
                  <a:lnTo>
                    <a:pt x="4598" y="4"/>
                  </a:lnTo>
                  <a:lnTo>
                    <a:pt x="4599" y="2"/>
                  </a:lnTo>
                  <a:lnTo>
                    <a:pt x="4600" y="0"/>
                  </a:lnTo>
                  <a:lnTo>
                    <a:pt x="4601" y="0"/>
                  </a:lnTo>
                  <a:lnTo>
                    <a:pt x="4601" y="0"/>
                  </a:lnTo>
                  <a:close/>
                  <a:moveTo>
                    <a:pt x="4646" y="0"/>
                  </a:moveTo>
                  <a:lnTo>
                    <a:pt x="4664" y="0"/>
                  </a:lnTo>
                  <a:lnTo>
                    <a:pt x="4665" y="0"/>
                  </a:lnTo>
                  <a:lnTo>
                    <a:pt x="4667" y="2"/>
                  </a:lnTo>
                  <a:lnTo>
                    <a:pt x="4669" y="4"/>
                  </a:lnTo>
                  <a:lnTo>
                    <a:pt x="4669" y="6"/>
                  </a:lnTo>
                  <a:lnTo>
                    <a:pt x="4669" y="8"/>
                  </a:lnTo>
                  <a:lnTo>
                    <a:pt x="4667" y="10"/>
                  </a:lnTo>
                  <a:lnTo>
                    <a:pt x="4665" y="12"/>
                  </a:lnTo>
                  <a:lnTo>
                    <a:pt x="4664" y="12"/>
                  </a:lnTo>
                  <a:lnTo>
                    <a:pt x="4646" y="12"/>
                  </a:lnTo>
                  <a:lnTo>
                    <a:pt x="4645" y="12"/>
                  </a:lnTo>
                  <a:lnTo>
                    <a:pt x="4644" y="10"/>
                  </a:lnTo>
                  <a:lnTo>
                    <a:pt x="4643" y="8"/>
                  </a:lnTo>
                  <a:lnTo>
                    <a:pt x="4643" y="6"/>
                  </a:lnTo>
                  <a:lnTo>
                    <a:pt x="4643" y="4"/>
                  </a:lnTo>
                  <a:lnTo>
                    <a:pt x="4644" y="2"/>
                  </a:lnTo>
                  <a:lnTo>
                    <a:pt x="4645" y="0"/>
                  </a:lnTo>
                  <a:lnTo>
                    <a:pt x="4646" y="0"/>
                  </a:lnTo>
                  <a:lnTo>
                    <a:pt x="4646" y="0"/>
                  </a:lnTo>
                  <a:close/>
                  <a:moveTo>
                    <a:pt x="4690" y="0"/>
                  </a:moveTo>
                  <a:lnTo>
                    <a:pt x="4709" y="0"/>
                  </a:lnTo>
                  <a:lnTo>
                    <a:pt x="4710" y="0"/>
                  </a:lnTo>
                  <a:lnTo>
                    <a:pt x="4711" y="2"/>
                  </a:lnTo>
                  <a:lnTo>
                    <a:pt x="4712" y="4"/>
                  </a:lnTo>
                  <a:lnTo>
                    <a:pt x="4712" y="6"/>
                  </a:lnTo>
                  <a:lnTo>
                    <a:pt x="4712" y="8"/>
                  </a:lnTo>
                  <a:lnTo>
                    <a:pt x="4711" y="10"/>
                  </a:lnTo>
                  <a:lnTo>
                    <a:pt x="4710" y="12"/>
                  </a:lnTo>
                  <a:lnTo>
                    <a:pt x="4709" y="12"/>
                  </a:lnTo>
                  <a:lnTo>
                    <a:pt x="4690" y="12"/>
                  </a:lnTo>
                  <a:lnTo>
                    <a:pt x="4689" y="12"/>
                  </a:lnTo>
                  <a:lnTo>
                    <a:pt x="4688" y="10"/>
                  </a:lnTo>
                  <a:lnTo>
                    <a:pt x="4687" y="8"/>
                  </a:lnTo>
                  <a:lnTo>
                    <a:pt x="4687" y="6"/>
                  </a:lnTo>
                  <a:lnTo>
                    <a:pt x="4687" y="4"/>
                  </a:lnTo>
                  <a:lnTo>
                    <a:pt x="4688" y="2"/>
                  </a:lnTo>
                  <a:lnTo>
                    <a:pt x="4689" y="0"/>
                  </a:lnTo>
                  <a:lnTo>
                    <a:pt x="4690" y="0"/>
                  </a:lnTo>
                  <a:lnTo>
                    <a:pt x="4690" y="0"/>
                  </a:lnTo>
                  <a:close/>
                  <a:moveTo>
                    <a:pt x="4735" y="0"/>
                  </a:moveTo>
                  <a:lnTo>
                    <a:pt x="4754" y="0"/>
                  </a:lnTo>
                  <a:lnTo>
                    <a:pt x="4755" y="0"/>
                  </a:lnTo>
                  <a:lnTo>
                    <a:pt x="4756" y="2"/>
                  </a:lnTo>
                  <a:lnTo>
                    <a:pt x="4757" y="4"/>
                  </a:lnTo>
                  <a:lnTo>
                    <a:pt x="4757" y="6"/>
                  </a:lnTo>
                  <a:lnTo>
                    <a:pt x="4757" y="8"/>
                  </a:lnTo>
                  <a:lnTo>
                    <a:pt x="4756" y="10"/>
                  </a:lnTo>
                  <a:lnTo>
                    <a:pt x="4755" y="12"/>
                  </a:lnTo>
                  <a:lnTo>
                    <a:pt x="4754" y="12"/>
                  </a:lnTo>
                  <a:lnTo>
                    <a:pt x="4735" y="12"/>
                  </a:lnTo>
                  <a:lnTo>
                    <a:pt x="4734" y="12"/>
                  </a:lnTo>
                  <a:lnTo>
                    <a:pt x="4733" y="10"/>
                  </a:lnTo>
                  <a:lnTo>
                    <a:pt x="4732" y="8"/>
                  </a:lnTo>
                  <a:lnTo>
                    <a:pt x="4732" y="6"/>
                  </a:lnTo>
                  <a:lnTo>
                    <a:pt x="4732" y="4"/>
                  </a:lnTo>
                  <a:lnTo>
                    <a:pt x="4733" y="2"/>
                  </a:lnTo>
                  <a:lnTo>
                    <a:pt x="4734" y="0"/>
                  </a:lnTo>
                  <a:lnTo>
                    <a:pt x="4735" y="0"/>
                  </a:lnTo>
                  <a:lnTo>
                    <a:pt x="4735" y="0"/>
                  </a:lnTo>
                  <a:close/>
                  <a:moveTo>
                    <a:pt x="4780" y="0"/>
                  </a:moveTo>
                  <a:lnTo>
                    <a:pt x="4799" y="0"/>
                  </a:lnTo>
                  <a:lnTo>
                    <a:pt x="4800" y="0"/>
                  </a:lnTo>
                  <a:lnTo>
                    <a:pt x="4801" y="2"/>
                  </a:lnTo>
                  <a:lnTo>
                    <a:pt x="4802" y="4"/>
                  </a:lnTo>
                  <a:lnTo>
                    <a:pt x="4802" y="6"/>
                  </a:lnTo>
                  <a:lnTo>
                    <a:pt x="4802" y="8"/>
                  </a:lnTo>
                  <a:lnTo>
                    <a:pt x="4801" y="10"/>
                  </a:lnTo>
                  <a:lnTo>
                    <a:pt x="4800" y="12"/>
                  </a:lnTo>
                  <a:lnTo>
                    <a:pt x="4799" y="12"/>
                  </a:lnTo>
                  <a:lnTo>
                    <a:pt x="4780" y="12"/>
                  </a:lnTo>
                  <a:lnTo>
                    <a:pt x="4779" y="12"/>
                  </a:lnTo>
                  <a:lnTo>
                    <a:pt x="4778" y="10"/>
                  </a:lnTo>
                  <a:lnTo>
                    <a:pt x="4777" y="8"/>
                  </a:lnTo>
                  <a:lnTo>
                    <a:pt x="4777" y="6"/>
                  </a:lnTo>
                  <a:lnTo>
                    <a:pt x="4777" y="4"/>
                  </a:lnTo>
                  <a:lnTo>
                    <a:pt x="4778" y="2"/>
                  </a:lnTo>
                  <a:lnTo>
                    <a:pt x="4779" y="0"/>
                  </a:lnTo>
                  <a:lnTo>
                    <a:pt x="4780" y="0"/>
                  </a:lnTo>
                  <a:lnTo>
                    <a:pt x="4780" y="0"/>
                  </a:lnTo>
                  <a:close/>
                  <a:moveTo>
                    <a:pt x="4825" y="0"/>
                  </a:moveTo>
                  <a:lnTo>
                    <a:pt x="4843" y="0"/>
                  </a:lnTo>
                  <a:lnTo>
                    <a:pt x="4844" y="0"/>
                  </a:lnTo>
                  <a:lnTo>
                    <a:pt x="4846" y="2"/>
                  </a:lnTo>
                  <a:lnTo>
                    <a:pt x="4847" y="4"/>
                  </a:lnTo>
                  <a:lnTo>
                    <a:pt x="4847" y="6"/>
                  </a:lnTo>
                  <a:lnTo>
                    <a:pt x="4847" y="8"/>
                  </a:lnTo>
                  <a:lnTo>
                    <a:pt x="4846" y="10"/>
                  </a:lnTo>
                  <a:lnTo>
                    <a:pt x="4844" y="12"/>
                  </a:lnTo>
                  <a:lnTo>
                    <a:pt x="4843" y="12"/>
                  </a:lnTo>
                  <a:lnTo>
                    <a:pt x="4825" y="12"/>
                  </a:lnTo>
                  <a:lnTo>
                    <a:pt x="4824" y="12"/>
                  </a:lnTo>
                  <a:lnTo>
                    <a:pt x="4823" y="10"/>
                  </a:lnTo>
                  <a:lnTo>
                    <a:pt x="4822" y="8"/>
                  </a:lnTo>
                  <a:lnTo>
                    <a:pt x="4822" y="6"/>
                  </a:lnTo>
                  <a:lnTo>
                    <a:pt x="4822" y="4"/>
                  </a:lnTo>
                  <a:lnTo>
                    <a:pt x="4823" y="2"/>
                  </a:lnTo>
                  <a:lnTo>
                    <a:pt x="4824" y="0"/>
                  </a:lnTo>
                  <a:lnTo>
                    <a:pt x="4825" y="0"/>
                  </a:lnTo>
                  <a:lnTo>
                    <a:pt x="4825" y="0"/>
                  </a:lnTo>
                  <a:close/>
                  <a:moveTo>
                    <a:pt x="4869" y="0"/>
                  </a:moveTo>
                  <a:lnTo>
                    <a:pt x="4888" y="0"/>
                  </a:lnTo>
                  <a:lnTo>
                    <a:pt x="4889" y="0"/>
                  </a:lnTo>
                  <a:lnTo>
                    <a:pt x="4890" y="2"/>
                  </a:lnTo>
                  <a:lnTo>
                    <a:pt x="4891" y="4"/>
                  </a:lnTo>
                  <a:lnTo>
                    <a:pt x="4891" y="6"/>
                  </a:lnTo>
                  <a:lnTo>
                    <a:pt x="4891" y="8"/>
                  </a:lnTo>
                  <a:lnTo>
                    <a:pt x="4890" y="10"/>
                  </a:lnTo>
                  <a:lnTo>
                    <a:pt x="4889" y="12"/>
                  </a:lnTo>
                  <a:lnTo>
                    <a:pt x="4888" y="12"/>
                  </a:lnTo>
                  <a:lnTo>
                    <a:pt x="4869" y="12"/>
                  </a:lnTo>
                  <a:lnTo>
                    <a:pt x="4868" y="12"/>
                  </a:lnTo>
                  <a:lnTo>
                    <a:pt x="4866" y="10"/>
                  </a:lnTo>
                  <a:lnTo>
                    <a:pt x="4865" y="8"/>
                  </a:lnTo>
                  <a:lnTo>
                    <a:pt x="4865" y="6"/>
                  </a:lnTo>
                  <a:lnTo>
                    <a:pt x="4865" y="4"/>
                  </a:lnTo>
                  <a:lnTo>
                    <a:pt x="4866" y="2"/>
                  </a:lnTo>
                  <a:lnTo>
                    <a:pt x="4868" y="0"/>
                  </a:lnTo>
                  <a:lnTo>
                    <a:pt x="4869" y="0"/>
                  </a:lnTo>
                  <a:lnTo>
                    <a:pt x="4869" y="0"/>
                  </a:lnTo>
                  <a:close/>
                  <a:moveTo>
                    <a:pt x="4913" y="0"/>
                  </a:moveTo>
                  <a:lnTo>
                    <a:pt x="4933" y="0"/>
                  </a:lnTo>
                  <a:lnTo>
                    <a:pt x="4934" y="0"/>
                  </a:lnTo>
                  <a:lnTo>
                    <a:pt x="4935" y="2"/>
                  </a:lnTo>
                  <a:lnTo>
                    <a:pt x="4936" y="4"/>
                  </a:lnTo>
                  <a:lnTo>
                    <a:pt x="4936" y="6"/>
                  </a:lnTo>
                  <a:lnTo>
                    <a:pt x="4936" y="8"/>
                  </a:lnTo>
                  <a:lnTo>
                    <a:pt x="4935" y="10"/>
                  </a:lnTo>
                  <a:lnTo>
                    <a:pt x="4934" y="12"/>
                  </a:lnTo>
                  <a:lnTo>
                    <a:pt x="4933" y="12"/>
                  </a:lnTo>
                  <a:lnTo>
                    <a:pt x="4913" y="12"/>
                  </a:lnTo>
                  <a:lnTo>
                    <a:pt x="4912" y="12"/>
                  </a:lnTo>
                  <a:lnTo>
                    <a:pt x="4911" y="10"/>
                  </a:lnTo>
                  <a:lnTo>
                    <a:pt x="4910" y="8"/>
                  </a:lnTo>
                  <a:lnTo>
                    <a:pt x="4910" y="6"/>
                  </a:lnTo>
                  <a:lnTo>
                    <a:pt x="4910" y="4"/>
                  </a:lnTo>
                  <a:lnTo>
                    <a:pt x="4911" y="2"/>
                  </a:lnTo>
                  <a:lnTo>
                    <a:pt x="4912" y="0"/>
                  </a:lnTo>
                  <a:lnTo>
                    <a:pt x="4913" y="0"/>
                  </a:lnTo>
                  <a:lnTo>
                    <a:pt x="4913" y="0"/>
                  </a:lnTo>
                  <a:close/>
                  <a:moveTo>
                    <a:pt x="4958" y="0"/>
                  </a:moveTo>
                  <a:lnTo>
                    <a:pt x="4978" y="0"/>
                  </a:lnTo>
                  <a:lnTo>
                    <a:pt x="4979" y="0"/>
                  </a:lnTo>
                  <a:lnTo>
                    <a:pt x="4980" y="2"/>
                  </a:lnTo>
                  <a:lnTo>
                    <a:pt x="4981" y="4"/>
                  </a:lnTo>
                  <a:lnTo>
                    <a:pt x="4981" y="6"/>
                  </a:lnTo>
                  <a:lnTo>
                    <a:pt x="4981" y="8"/>
                  </a:lnTo>
                  <a:lnTo>
                    <a:pt x="4980" y="10"/>
                  </a:lnTo>
                  <a:lnTo>
                    <a:pt x="4979" y="12"/>
                  </a:lnTo>
                  <a:lnTo>
                    <a:pt x="4978" y="12"/>
                  </a:lnTo>
                  <a:lnTo>
                    <a:pt x="4958" y="12"/>
                  </a:lnTo>
                  <a:lnTo>
                    <a:pt x="4957" y="12"/>
                  </a:lnTo>
                  <a:lnTo>
                    <a:pt x="4956" y="10"/>
                  </a:lnTo>
                  <a:lnTo>
                    <a:pt x="4955" y="8"/>
                  </a:lnTo>
                  <a:lnTo>
                    <a:pt x="4955" y="6"/>
                  </a:lnTo>
                  <a:lnTo>
                    <a:pt x="4955" y="4"/>
                  </a:lnTo>
                  <a:lnTo>
                    <a:pt x="4956" y="2"/>
                  </a:lnTo>
                  <a:lnTo>
                    <a:pt x="4957" y="0"/>
                  </a:lnTo>
                  <a:lnTo>
                    <a:pt x="4958" y="0"/>
                  </a:lnTo>
                  <a:lnTo>
                    <a:pt x="4958" y="0"/>
                  </a:lnTo>
                  <a:close/>
                  <a:moveTo>
                    <a:pt x="5003" y="0"/>
                  </a:moveTo>
                  <a:lnTo>
                    <a:pt x="5022" y="0"/>
                  </a:lnTo>
                  <a:lnTo>
                    <a:pt x="5023" y="0"/>
                  </a:lnTo>
                  <a:lnTo>
                    <a:pt x="5025" y="2"/>
                  </a:lnTo>
                  <a:lnTo>
                    <a:pt x="5026" y="4"/>
                  </a:lnTo>
                  <a:lnTo>
                    <a:pt x="5026" y="6"/>
                  </a:lnTo>
                  <a:lnTo>
                    <a:pt x="5026" y="8"/>
                  </a:lnTo>
                  <a:lnTo>
                    <a:pt x="5025" y="10"/>
                  </a:lnTo>
                  <a:lnTo>
                    <a:pt x="5023" y="12"/>
                  </a:lnTo>
                  <a:lnTo>
                    <a:pt x="5022" y="12"/>
                  </a:lnTo>
                  <a:lnTo>
                    <a:pt x="5003" y="12"/>
                  </a:lnTo>
                  <a:lnTo>
                    <a:pt x="5002" y="12"/>
                  </a:lnTo>
                  <a:lnTo>
                    <a:pt x="5001" y="10"/>
                  </a:lnTo>
                  <a:lnTo>
                    <a:pt x="5000" y="8"/>
                  </a:lnTo>
                  <a:lnTo>
                    <a:pt x="5000" y="6"/>
                  </a:lnTo>
                  <a:lnTo>
                    <a:pt x="5000" y="4"/>
                  </a:lnTo>
                  <a:lnTo>
                    <a:pt x="5001" y="2"/>
                  </a:lnTo>
                  <a:lnTo>
                    <a:pt x="5002" y="0"/>
                  </a:lnTo>
                  <a:lnTo>
                    <a:pt x="5003" y="0"/>
                  </a:lnTo>
                  <a:lnTo>
                    <a:pt x="5003" y="0"/>
                  </a:lnTo>
                  <a:close/>
                  <a:moveTo>
                    <a:pt x="5047" y="0"/>
                  </a:moveTo>
                  <a:lnTo>
                    <a:pt x="5067" y="0"/>
                  </a:lnTo>
                  <a:lnTo>
                    <a:pt x="5068" y="0"/>
                  </a:lnTo>
                  <a:lnTo>
                    <a:pt x="5069" y="2"/>
                  </a:lnTo>
                  <a:lnTo>
                    <a:pt x="5070" y="4"/>
                  </a:lnTo>
                  <a:lnTo>
                    <a:pt x="5070" y="6"/>
                  </a:lnTo>
                  <a:lnTo>
                    <a:pt x="5070" y="8"/>
                  </a:lnTo>
                  <a:lnTo>
                    <a:pt x="5069" y="10"/>
                  </a:lnTo>
                  <a:lnTo>
                    <a:pt x="5068" y="12"/>
                  </a:lnTo>
                  <a:lnTo>
                    <a:pt x="5067" y="12"/>
                  </a:lnTo>
                  <a:lnTo>
                    <a:pt x="5047" y="12"/>
                  </a:lnTo>
                  <a:lnTo>
                    <a:pt x="5046" y="12"/>
                  </a:lnTo>
                  <a:lnTo>
                    <a:pt x="5045" y="10"/>
                  </a:lnTo>
                  <a:lnTo>
                    <a:pt x="5044" y="8"/>
                  </a:lnTo>
                  <a:lnTo>
                    <a:pt x="5044" y="6"/>
                  </a:lnTo>
                  <a:lnTo>
                    <a:pt x="5044" y="4"/>
                  </a:lnTo>
                  <a:lnTo>
                    <a:pt x="5045" y="2"/>
                  </a:lnTo>
                  <a:lnTo>
                    <a:pt x="5046" y="0"/>
                  </a:lnTo>
                  <a:lnTo>
                    <a:pt x="5047" y="0"/>
                  </a:lnTo>
                  <a:lnTo>
                    <a:pt x="5047" y="0"/>
                  </a:lnTo>
                  <a:close/>
                  <a:moveTo>
                    <a:pt x="5092" y="0"/>
                  </a:moveTo>
                  <a:lnTo>
                    <a:pt x="5111" y="0"/>
                  </a:lnTo>
                  <a:lnTo>
                    <a:pt x="5112" y="0"/>
                  </a:lnTo>
                  <a:lnTo>
                    <a:pt x="5113" y="2"/>
                  </a:lnTo>
                  <a:lnTo>
                    <a:pt x="5114" y="4"/>
                  </a:lnTo>
                  <a:lnTo>
                    <a:pt x="5114" y="6"/>
                  </a:lnTo>
                  <a:lnTo>
                    <a:pt x="5114" y="8"/>
                  </a:lnTo>
                  <a:lnTo>
                    <a:pt x="5113" y="10"/>
                  </a:lnTo>
                  <a:lnTo>
                    <a:pt x="5112" y="12"/>
                  </a:lnTo>
                  <a:lnTo>
                    <a:pt x="5111" y="12"/>
                  </a:lnTo>
                  <a:lnTo>
                    <a:pt x="5092" y="12"/>
                  </a:lnTo>
                  <a:lnTo>
                    <a:pt x="5091" y="12"/>
                  </a:lnTo>
                  <a:lnTo>
                    <a:pt x="5090" y="10"/>
                  </a:lnTo>
                  <a:lnTo>
                    <a:pt x="5089" y="8"/>
                  </a:lnTo>
                  <a:lnTo>
                    <a:pt x="5089" y="6"/>
                  </a:lnTo>
                  <a:lnTo>
                    <a:pt x="5089" y="4"/>
                  </a:lnTo>
                  <a:lnTo>
                    <a:pt x="5090" y="2"/>
                  </a:lnTo>
                  <a:lnTo>
                    <a:pt x="5091" y="0"/>
                  </a:lnTo>
                  <a:lnTo>
                    <a:pt x="5092" y="0"/>
                  </a:lnTo>
                  <a:lnTo>
                    <a:pt x="5092" y="0"/>
                  </a:lnTo>
                  <a:close/>
                  <a:moveTo>
                    <a:pt x="5137" y="0"/>
                  </a:moveTo>
                  <a:lnTo>
                    <a:pt x="5141" y="0"/>
                  </a:lnTo>
                  <a:lnTo>
                    <a:pt x="5142" y="0"/>
                  </a:lnTo>
                  <a:lnTo>
                    <a:pt x="5143" y="2"/>
                  </a:lnTo>
                  <a:lnTo>
                    <a:pt x="5144" y="4"/>
                  </a:lnTo>
                  <a:lnTo>
                    <a:pt x="5144" y="6"/>
                  </a:lnTo>
                  <a:lnTo>
                    <a:pt x="5144" y="8"/>
                  </a:lnTo>
                  <a:lnTo>
                    <a:pt x="5143" y="10"/>
                  </a:lnTo>
                  <a:lnTo>
                    <a:pt x="5142" y="12"/>
                  </a:lnTo>
                  <a:lnTo>
                    <a:pt x="5141" y="12"/>
                  </a:lnTo>
                  <a:lnTo>
                    <a:pt x="5137" y="12"/>
                  </a:lnTo>
                  <a:lnTo>
                    <a:pt x="5136" y="12"/>
                  </a:lnTo>
                  <a:lnTo>
                    <a:pt x="5135" y="10"/>
                  </a:lnTo>
                  <a:lnTo>
                    <a:pt x="5134" y="8"/>
                  </a:lnTo>
                  <a:lnTo>
                    <a:pt x="5134" y="6"/>
                  </a:lnTo>
                  <a:lnTo>
                    <a:pt x="5134" y="4"/>
                  </a:lnTo>
                  <a:lnTo>
                    <a:pt x="5135" y="2"/>
                  </a:lnTo>
                  <a:lnTo>
                    <a:pt x="5136" y="0"/>
                  </a:lnTo>
                  <a:lnTo>
                    <a:pt x="5137" y="0"/>
                  </a:lnTo>
                  <a:lnTo>
                    <a:pt x="5137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87520" y="2868480"/>
              <a:ext cx="8167680" cy="9720"/>
            </a:xfrm>
            <a:custGeom>
              <a:avLst/>
              <a:gdLst/>
              <a:ahLst/>
              <a:rect l="l" t="t" r="r" b="b"/>
              <a:pathLst>
                <a:path w="5145" h="12">
                  <a:moveTo>
                    <a:pt x="3" y="0"/>
                  </a:moveTo>
                  <a:lnTo>
                    <a:pt x="22" y="0"/>
                  </a:lnTo>
                  <a:lnTo>
                    <a:pt x="24" y="0"/>
                  </a:lnTo>
                  <a:lnTo>
                    <a:pt x="25" y="2"/>
                  </a:lnTo>
                  <a:lnTo>
                    <a:pt x="26" y="4"/>
                  </a:lnTo>
                  <a:lnTo>
                    <a:pt x="26" y="6"/>
                  </a:lnTo>
                  <a:lnTo>
                    <a:pt x="26" y="8"/>
                  </a:lnTo>
                  <a:lnTo>
                    <a:pt x="25" y="10"/>
                  </a:lnTo>
                  <a:lnTo>
                    <a:pt x="24" y="12"/>
                  </a:lnTo>
                  <a:lnTo>
                    <a:pt x="22" y="12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2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close/>
                  <a:moveTo>
                    <a:pt x="48" y="0"/>
                  </a:moveTo>
                  <a:lnTo>
                    <a:pt x="66" y="0"/>
                  </a:lnTo>
                  <a:lnTo>
                    <a:pt x="67" y="0"/>
                  </a:lnTo>
                  <a:lnTo>
                    <a:pt x="69" y="2"/>
                  </a:lnTo>
                  <a:lnTo>
                    <a:pt x="70" y="4"/>
                  </a:lnTo>
                  <a:lnTo>
                    <a:pt x="70" y="6"/>
                  </a:lnTo>
                  <a:lnTo>
                    <a:pt x="70" y="8"/>
                  </a:lnTo>
                  <a:lnTo>
                    <a:pt x="69" y="10"/>
                  </a:lnTo>
                  <a:lnTo>
                    <a:pt x="67" y="12"/>
                  </a:lnTo>
                  <a:lnTo>
                    <a:pt x="66" y="12"/>
                  </a:lnTo>
                  <a:lnTo>
                    <a:pt x="48" y="12"/>
                  </a:lnTo>
                  <a:lnTo>
                    <a:pt x="47" y="12"/>
                  </a:lnTo>
                  <a:lnTo>
                    <a:pt x="46" y="10"/>
                  </a:lnTo>
                  <a:lnTo>
                    <a:pt x="45" y="8"/>
                  </a:lnTo>
                  <a:lnTo>
                    <a:pt x="45" y="6"/>
                  </a:lnTo>
                  <a:lnTo>
                    <a:pt x="45" y="4"/>
                  </a:lnTo>
                  <a:lnTo>
                    <a:pt x="46" y="2"/>
                  </a:lnTo>
                  <a:lnTo>
                    <a:pt x="47" y="0"/>
                  </a:lnTo>
                  <a:lnTo>
                    <a:pt x="48" y="0"/>
                  </a:lnTo>
                  <a:lnTo>
                    <a:pt x="48" y="0"/>
                  </a:lnTo>
                  <a:close/>
                  <a:moveTo>
                    <a:pt x="92" y="0"/>
                  </a:moveTo>
                  <a:lnTo>
                    <a:pt x="111" y="0"/>
                  </a:lnTo>
                  <a:lnTo>
                    <a:pt x="112" y="0"/>
                  </a:lnTo>
                  <a:lnTo>
                    <a:pt x="113" y="2"/>
                  </a:lnTo>
                  <a:lnTo>
                    <a:pt x="114" y="4"/>
                  </a:lnTo>
                  <a:lnTo>
                    <a:pt x="114" y="6"/>
                  </a:lnTo>
                  <a:lnTo>
                    <a:pt x="114" y="8"/>
                  </a:lnTo>
                  <a:lnTo>
                    <a:pt x="113" y="10"/>
                  </a:lnTo>
                  <a:lnTo>
                    <a:pt x="112" y="12"/>
                  </a:lnTo>
                  <a:lnTo>
                    <a:pt x="111" y="12"/>
                  </a:lnTo>
                  <a:lnTo>
                    <a:pt x="92" y="12"/>
                  </a:lnTo>
                  <a:lnTo>
                    <a:pt x="91" y="12"/>
                  </a:lnTo>
                  <a:lnTo>
                    <a:pt x="90" y="10"/>
                  </a:lnTo>
                  <a:lnTo>
                    <a:pt x="89" y="8"/>
                  </a:lnTo>
                  <a:lnTo>
                    <a:pt x="89" y="6"/>
                  </a:lnTo>
                  <a:lnTo>
                    <a:pt x="89" y="4"/>
                  </a:lnTo>
                  <a:lnTo>
                    <a:pt x="90" y="2"/>
                  </a:lnTo>
                  <a:lnTo>
                    <a:pt x="91" y="0"/>
                  </a:lnTo>
                  <a:lnTo>
                    <a:pt x="92" y="0"/>
                  </a:lnTo>
                  <a:lnTo>
                    <a:pt x="92" y="0"/>
                  </a:lnTo>
                  <a:close/>
                  <a:moveTo>
                    <a:pt x="137" y="0"/>
                  </a:moveTo>
                  <a:lnTo>
                    <a:pt x="156" y="0"/>
                  </a:lnTo>
                  <a:lnTo>
                    <a:pt x="157" y="0"/>
                  </a:lnTo>
                  <a:lnTo>
                    <a:pt x="158" y="2"/>
                  </a:lnTo>
                  <a:lnTo>
                    <a:pt x="159" y="4"/>
                  </a:lnTo>
                  <a:lnTo>
                    <a:pt x="159" y="6"/>
                  </a:lnTo>
                  <a:lnTo>
                    <a:pt x="159" y="8"/>
                  </a:lnTo>
                  <a:lnTo>
                    <a:pt x="158" y="10"/>
                  </a:lnTo>
                  <a:lnTo>
                    <a:pt x="157" y="12"/>
                  </a:lnTo>
                  <a:lnTo>
                    <a:pt x="156" y="12"/>
                  </a:lnTo>
                  <a:lnTo>
                    <a:pt x="137" y="12"/>
                  </a:lnTo>
                  <a:lnTo>
                    <a:pt x="136" y="12"/>
                  </a:lnTo>
                  <a:lnTo>
                    <a:pt x="135" y="10"/>
                  </a:lnTo>
                  <a:lnTo>
                    <a:pt x="134" y="8"/>
                  </a:lnTo>
                  <a:lnTo>
                    <a:pt x="134" y="6"/>
                  </a:lnTo>
                  <a:lnTo>
                    <a:pt x="134" y="4"/>
                  </a:lnTo>
                  <a:lnTo>
                    <a:pt x="135" y="2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37" y="0"/>
                  </a:lnTo>
                  <a:close/>
                  <a:moveTo>
                    <a:pt x="182" y="0"/>
                  </a:moveTo>
                  <a:lnTo>
                    <a:pt x="201" y="0"/>
                  </a:lnTo>
                  <a:lnTo>
                    <a:pt x="202" y="0"/>
                  </a:lnTo>
                  <a:lnTo>
                    <a:pt x="203" y="2"/>
                  </a:lnTo>
                  <a:lnTo>
                    <a:pt x="204" y="4"/>
                  </a:lnTo>
                  <a:lnTo>
                    <a:pt x="204" y="6"/>
                  </a:lnTo>
                  <a:lnTo>
                    <a:pt x="204" y="8"/>
                  </a:lnTo>
                  <a:lnTo>
                    <a:pt x="203" y="10"/>
                  </a:lnTo>
                  <a:lnTo>
                    <a:pt x="202" y="12"/>
                  </a:lnTo>
                  <a:lnTo>
                    <a:pt x="201" y="12"/>
                  </a:lnTo>
                  <a:lnTo>
                    <a:pt x="182" y="12"/>
                  </a:lnTo>
                  <a:lnTo>
                    <a:pt x="181" y="12"/>
                  </a:lnTo>
                  <a:lnTo>
                    <a:pt x="180" y="10"/>
                  </a:lnTo>
                  <a:lnTo>
                    <a:pt x="179" y="8"/>
                  </a:lnTo>
                  <a:lnTo>
                    <a:pt x="179" y="6"/>
                  </a:lnTo>
                  <a:lnTo>
                    <a:pt x="179" y="4"/>
                  </a:lnTo>
                  <a:lnTo>
                    <a:pt x="180" y="2"/>
                  </a:lnTo>
                  <a:lnTo>
                    <a:pt x="181" y="0"/>
                  </a:lnTo>
                  <a:lnTo>
                    <a:pt x="182" y="0"/>
                  </a:lnTo>
                  <a:lnTo>
                    <a:pt x="182" y="0"/>
                  </a:lnTo>
                  <a:close/>
                  <a:moveTo>
                    <a:pt x="227" y="0"/>
                  </a:moveTo>
                  <a:lnTo>
                    <a:pt x="245" y="0"/>
                  </a:lnTo>
                  <a:lnTo>
                    <a:pt x="246" y="0"/>
                  </a:lnTo>
                  <a:lnTo>
                    <a:pt x="248" y="2"/>
                  </a:lnTo>
                  <a:lnTo>
                    <a:pt x="249" y="4"/>
                  </a:lnTo>
                  <a:lnTo>
                    <a:pt x="249" y="6"/>
                  </a:lnTo>
                  <a:lnTo>
                    <a:pt x="249" y="8"/>
                  </a:lnTo>
                  <a:lnTo>
                    <a:pt x="248" y="10"/>
                  </a:lnTo>
                  <a:lnTo>
                    <a:pt x="246" y="12"/>
                  </a:lnTo>
                  <a:lnTo>
                    <a:pt x="245" y="12"/>
                  </a:lnTo>
                  <a:lnTo>
                    <a:pt x="227" y="12"/>
                  </a:lnTo>
                  <a:lnTo>
                    <a:pt x="226" y="12"/>
                  </a:lnTo>
                  <a:lnTo>
                    <a:pt x="225" y="10"/>
                  </a:lnTo>
                  <a:lnTo>
                    <a:pt x="224" y="8"/>
                  </a:lnTo>
                  <a:lnTo>
                    <a:pt x="224" y="6"/>
                  </a:lnTo>
                  <a:lnTo>
                    <a:pt x="224" y="4"/>
                  </a:lnTo>
                  <a:lnTo>
                    <a:pt x="225" y="2"/>
                  </a:lnTo>
                  <a:lnTo>
                    <a:pt x="226" y="0"/>
                  </a:lnTo>
                  <a:lnTo>
                    <a:pt x="227" y="0"/>
                  </a:lnTo>
                  <a:lnTo>
                    <a:pt x="227" y="0"/>
                  </a:lnTo>
                  <a:close/>
                  <a:moveTo>
                    <a:pt x="270" y="0"/>
                  </a:moveTo>
                  <a:lnTo>
                    <a:pt x="290" y="0"/>
                  </a:lnTo>
                  <a:lnTo>
                    <a:pt x="291" y="0"/>
                  </a:lnTo>
                  <a:lnTo>
                    <a:pt x="292" y="2"/>
                  </a:lnTo>
                  <a:lnTo>
                    <a:pt x="293" y="4"/>
                  </a:lnTo>
                  <a:lnTo>
                    <a:pt x="293" y="6"/>
                  </a:lnTo>
                  <a:lnTo>
                    <a:pt x="293" y="8"/>
                  </a:lnTo>
                  <a:lnTo>
                    <a:pt x="292" y="10"/>
                  </a:lnTo>
                  <a:lnTo>
                    <a:pt x="291" y="12"/>
                  </a:lnTo>
                  <a:lnTo>
                    <a:pt x="290" y="12"/>
                  </a:lnTo>
                  <a:lnTo>
                    <a:pt x="270" y="12"/>
                  </a:lnTo>
                  <a:lnTo>
                    <a:pt x="269" y="12"/>
                  </a:lnTo>
                  <a:lnTo>
                    <a:pt x="268" y="10"/>
                  </a:lnTo>
                  <a:lnTo>
                    <a:pt x="267" y="8"/>
                  </a:lnTo>
                  <a:lnTo>
                    <a:pt x="267" y="6"/>
                  </a:lnTo>
                  <a:lnTo>
                    <a:pt x="267" y="4"/>
                  </a:lnTo>
                  <a:lnTo>
                    <a:pt x="268" y="2"/>
                  </a:lnTo>
                  <a:lnTo>
                    <a:pt x="269" y="0"/>
                  </a:lnTo>
                  <a:lnTo>
                    <a:pt x="270" y="0"/>
                  </a:lnTo>
                  <a:lnTo>
                    <a:pt x="270" y="0"/>
                  </a:lnTo>
                  <a:close/>
                  <a:moveTo>
                    <a:pt x="315" y="0"/>
                  </a:moveTo>
                  <a:lnTo>
                    <a:pt x="335" y="0"/>
                  </a:lnTo>
                  <a:lnTo>
                    <a:pt x="336" y="0"/>
                  </a:lnTo>
                  <a:lnTo>
                    <a:pt x="337" y="2"/>
                  </a:lnTo>
                  <a:lnTo>
                    <a:pt x="338" y="4"/>
                  </a:lnTo>
                  <a:lnTo>
                    <a:pt x="338" y="6"/>
                  </a:lnTo>
                  <a:lnTo>
                    <a:pt x="338" y="8"/>
                  </a:lnTo>
                  <a:lnTo>
                    <a:pt x="337" y="10"/>
                  </a:lnTo>
                  <a:lnTo>
                    <a:pt x="336" y="12"/>
                  </a:lnTo>
                  <a:lnTo>
                    <a:pt x="335" y="12"/>
                  </a:lnTo>
                  <a:lnTo>
                    <a:pt x="315" y="12"/>
                  </a:lnTo>
                  <a:lnTo>
                    <a:pt x="314" y="12"/>
                  </a:lnTo>
                  <a:lnTo>
                    <a:pt x="313" y="10"/>
                  </a:lnTo>
                  <a:lnTo>
                    <a:pt x="312" y="8"/>
                  </a:lnTo>
                  <a:lnTo>
                    <a:pt x="312" y="6"/>
                  </a:lnTo>
                  <a:lnTo>
                    <a:pt x="312" y="4"/>
                  </a:lnTo>
                  <a:lnTo>
                    <a:pt x="313" y="2"/>
                  </a:lnTo>
                  <a:lnTo>
                    <a:pt x="314" y="0"/>
                  </a:lnTo>
                  <a:lnTo>
                    <a:pt x="315" y="0"/>
                  </a:lnTo>
                  <a:lnTo>
                    <a:pt x="315" y="0"/>
                  </a:lnTo>
                  <a:close/>
                  <a:moveTo>
                    <a:pt x="360" y="0"/>
                  </a:moveTo>
                  <a:lnTo>
                    <a:pt x="380" y="0"/>
                  </a:lnTo>
                  <a:lnTo>
                    <a:pt x="381" y="0"/>
                  </a:lnTo>
                  <a:lnTo>
                    <a:pt x="382" y="2"/>
                  </a:lnTo>
                  <a:lnTo>
                    <a:pt x="383" y="4"/>
                  </a:lnTo>
                  <a:lnTo>
                    <a:pt x="383" y="6"/>
                  </a:lnTo>
                  <a:lnTo>
                    <a:pt x="383" y="8"/>
                  </a:lnTo>
                  <a:lnTo>
                    <a:pt x="382" y="10"/>
                  </a:lnTo>
                  <a:lnTo>
                    <a:pt x="381" y="12"/>
                  </a:lnTo>
                  <a:lnTo>
                    <a:pt x="380" y="12"/>
                  </a:lnTo>
                  <a:lnTo>
                    <a:pt x="360" y="12"/>
                  </a:lnTo>
                  <a:lnTo>
                    <a:pt x="359" y="12"/>
                  </a:lnTo>
                  <a:lnTo>
                    <a:pt x="358" y="10"/>
                  </a:lnTo>
                  <a:lnTo>
                    <a:pt x="357" y="8"/>
                  </a:lnTo>
                  <a:lnTo>
                    <a:pt x="357" y="6"/>
                  </a:lnTo>
                  <a:lnTo>
                    <a:pt x="357" y="4"/>
                  </a:lnTo>
                  <a:lnTo>
                    <a:pt x="358" y="2"/>
                  </a:lnTo>
                  <a:lnTo>
                    <a:pt x="359" y="0"/>
                  </a:lnTo>
                  <a:lnTo>
                    <a:pt x="360" y="0"/>
                  </a:lnTo>
                  <a:lnTo>
                    <a:pt x="360" y="0"/>
                  </a:lnTo>
                  <a:close/>
                  <a:moveTo>
                    <a:pt x="405" y="0"/>
                  </a:moveTo>
                  <a:lnTo>
                    <a:pt x="424" y="0"/>
                  </a:lnTo>
                  <a:lnTo>
                    <a:pt x="425" y="0"/>
                  </a:lnTo>
                  <a:lnTo>
                    <a:pt x="427" y="2"/>
                  </a:lnTo>
                  <a:lnTo>
                    <a:pt x="428" y="4"/>
                  </a:lnTo>
                  <a:lnTo>
                    <a:pt x="428" y="6"/>
                  </a:lnTo>
                  <a:lnTo>
                    <a:pt x="428" y="8"/>
                  </a:lnTo>
                  <a:lnTo>
                    <a:pt x="427" y="10"/>
                  </a:lnTo>
                  <a:lnTo>
                    <a:pt x="425" y="12"/>
                  </a:lnTo>
                  <a:lnTo>
                    <a:pt x="424" y="12"/>
                  </a:lnTo>
                  <a:lnTo>
                    <a:pt x="405" y="12"/>
                  </a:lnTo>
                  <a:lnTo>
                    <a:pt x="404" y="12"/>
                  </a:lnTo>
                  <a:lnTo>
                    <a:pt x="403" y="10"/>
                  </a:lnTo>
                  <a:lnTo>
                    <a:pt x="402" y="8"/>
                  </a:lnTo>
                  <a:lnTo>
                    <a:pt x="402" y="6"/>
                  </a:lnTo>
                  <a:lnTo>
                    <a:pt x="402" y="4"/>
                  </a:lnTo>
                  <a:lnTo>
                    <a:pt x="403" y="2"/>
                  </a:lnTo>
                  <a:lnTo>
                    <a:pt x="404" y="0"/>
                  </a:lnTo>
                  <a:lnTo>
                    <a:pt x="405" y="0"/>
                  </a:lnTo>
                  <a:lnTo>
                    <a:pt x="405" y="0"/>
                  </a:lnTo>
                  <a:close/>
                  <a:moveTo>
                    <a:pt x="449" y="0"/>
                  </a:moveTo>
                  <a:lnTo>
                    <a:pt x="468" y="0"/>
                  </a:lnTo>
                  <a:lnTo>
                    <a:pt x="469" y="0"/>
                  </a:lnTo>
                  <a:lnTo>
                    <a:pt x="471" y="2"/>
                  </a:lnTo>
                  <a:lnTo>
                    <a:pt x="472" y="4"/>
                  </a:lnTo>
                  <a:lnTo>
                    <a:pt x="472" y="6"/>
                  </a:lnTo>
                  <a:lnTo>
                    <a:pt x="472" y="8"/>
                  </a:lnTo>
                  <a:lnTo>
                    <a:pt x="471" y="10"/>
                  </a:lnTo>
                  <a:lnTo>
                    <a:pt x="469" y="12"/>
                  </a:lnTo>
                  <a:lnTo>
                    <a:pt x="468" y="12"/>
                  </a:lnTo>
                  <a:lnTo>
                    <a:pt x="449" y="12"/>
                  </a:lnTo>
                  <a:lnTo>
                    <a:pt x="448" y="12"/>
                  </a:lnTo>
                  <a:lnTo>
                    <a:pt x="447" y="10"/>
                  </a:lnTo>
                  <a:lnTo>
                    <a:pt x="446" y="8"/>
                  </a:lnTo>
                  <a:lnTo>
                    <a:pt x="446" y="6"/>
                  </a:lnTo>
                  <a:lnTo>
                    <a:pt x="446" y="4"/>
                  </a:lnTo>
                  <a:lnTo>
                    <a:pt x="447" y="2"/>
                  </a:lnTo>
                  <a:lnTo>
                    <a:pt x="448" y="0"/>
                  </a:lnTo>
                  <a:lnTo>
                    <a:pt x="449" y="0"/>
                  </a:lnTo>
                  <a:lnTo>
                    <a:pt x="449" y="0"/>
                  </a:lnTo>
                  <a:close/>
                  <a:moveTo>
                    <a:pt x="494" y="0"/>
                  </a:moveTo>
                  <a:lnTo>
                    <a:pt x="513" y="0"/>
                  </a:lnTo>
                  <a:lnTo>
                    <a:pt x="514" y="0"/>
                  </a:lnTo>
                  <a:lnTo>
                    <a:pt x="515" y="2"/>
                  </a:lnTo>
                  <a:lnTo>
                    <a:pt x="516" y="4"/>
                  </a:lnTo>
                  <a:lnTo>
                    <a:pt x="516" y="6"/>
                  </a:lnTo>
                  <a:lnTo>
                    <a:pt x="516" y="8"/>
                  </a:lnTo>
                  <a:lnTo>
                    <a:pt x="515" y="10"/>
                  </a:lnTo>
                  <a:lnTo>
                    <a:pt x="514" y="12"/>
                  </a:lnTo>
                  <a:lnTo>
                    <a:pt x="513" y="12"/>
                  </a:lnTo>
                  <a:lnTo>
                    <a:pt x="494" y="12"/>
                  </a:lnTo>
                  <a:lnTo>
                    <a:pt x="493" y="12"/>
                  </a:lnTo>
                  <a:lnTo>
                    <a:pt x="492" y="10"/>
                  </a:lnTo>
                  <a:lnTo>
                    <a:pt x="491" y="8"/>
                  </a:lnTo>
                  <a:lnTo>
                    <a:pt x="491" y="6"/>
                  </a:lnTo>
                  <a:lnTo>
                    <a:pt x="491" y="4"/>
                  </a:lnTo>
                  <a:lnTo>
                    <a:pt x="492" y="2"/>
                  </a:lnTo>
                  <a:lnTo>
                    <a:pt x="493" y="0"/>
                  </a:lnTo>
                  <a:lnTo>
                    <a:pt x="494" y="0"/>
                  </a:lnTo>
                  <a:lnTo>
                    <a:pt x="494" y="0"/>
                  </a:lnTo>
                  <a:close/>
                  <a:moveTo>
                    <a:pt x="539" y="0"/>
                  </a:moveTo>
                  <a:lnTo>
                    <a:pt x="558" y="0"/>
                  </a:lnTo>
                  <a:lnTo>
                    <a:pt x="559" y="0"/>
                  </a:lnTo>
                  <a:lnTo>
                    <a:pt x="560" y="2"/>
                  </a:lnTo>
                  <a:lnTo>
                    <a:pt x="561" y="4"/>
                  </a:lnTo>
                  <a:lnTo>
                    <a:pt x="561" y="6"/>
                  </a:lnTo>
                  <a:lnTo>
                    <a:pt x="561" y="8"/>
                  </a:lnTo>
                  <a:lnTo>
                    <a:pt x="560" y="10"/>
                  </a:lnTo>
                  <a:lnTo>
                    <a:pt x="559" y="12"/>
                  </a:lnTo>
                  <a:lnTo>
                    <a:pt x="558" y="12"/>
                  </a:lnTo>
                  <a:lnTo>
                    <a:pt x="539" y="12"/>
                  </a:lnTo>
                  <a:lnTo>
                    <a:pt x="538" y="12"/>
                  </a:lnTo>
                  <a:lnTo>
                    <a:pt x="537" y="10"/>
                  </a:lnTo>
                  <a:lnTo>
                    <a:pt x="536" y="8"/>
                  </a:lnTo>
                  <a:lnTo>
                    <a:pt x="536" y="6"/>
                  </a:lnTo>
                  <a:lnTo>
                    <a:pt x="536" y="4"/>
                  </a:lnTo>
                  <a:lnTo>
                    <a:pt x="537" y="2"/>
                  </a:lnTo>
                  <a:lnTo>
                    <a:pt x="538" y="0"/>
                  </a:lnTo>
                  <a:lnTo>
                    <a:pt x="539" y="0"/>
                  </a:lnTo>
                  <a:lnTo>
                    <a:pt x="539" y="0"/>
                  </a:lnTo>
                  <a:close/>
                  <a:moveTo>
                    <a:pt x="584" y="0"/>
                  </a:moveTo>
                  <a:lnTo>
                    <a:pt x="602" y="0"/>
                  </a:lnTo>
                  <a:lnTo>
                    <a:pt x="603" y="0"/>
                  </a:lnTo>
                  <a:lnTo>
                    <a:pt x="605" y="2"/>
                  </a:lnTo>
                  <a:lnTo>
                    <a:pt x="606" y="4"/>
                  </a:lnTo>
                  <a:lnTo>
                    <a:pt x="606" y="6"/>
                  </a:lnTo>
                  <a:lnTo>
                    <a:pt x="606" y="8"/>
                  </a:lnTo>
                  <a:lnTo>
                    <a:pt x="605" y="10"/>
                  </a:lnTo>
                  <a:lnTo>
                    <a:pt x="603" y="12"/>
                  </a:lnTo>
                  <a:lnTo>
                    <a:pt x="602" y="12"/>
                  </a:lnTo>
                  <a:lnTo>
                    <a:pt x="584" y="12"/>
                  </a:lnTo>
                  <a:lnTo>
                    <a:pt x="583" y="12"/>
                  </a:lnTo>
                  <a:lnTo>
                    <a:pt x="582" y="10"/>
                  </a:lnTo>
                  <a:lnTo>
                    <a:pt x="581" y="8"/>
                  </a:lnTo>
                  <a:lnTo>
                    <a:pt x="581" y="6"/>
                  </a:lnTo>
                  <a:lnTo>
                    <a:pt x="581" y="4"/>
                  </a:lnTo>
                  <a:lnTo>
                    <a:pt x="582" y="2"/>
                  </a:lnTo>
                  <a:lnTo>
                    <a:pt x="583" y="0"/>
                  </a:lnTo>
                  <a:lnTo>
                    <a:pt x="584" y="0"/>
                  </a:lnTo>
                  <a:lnTo>
                    <a:pt x="584" y="0"/>
                  </a:lnTo>
                  <a:close/>
                  <a:moveTo>
                    <a:pt x="628" y="0"/>
                  </a:moveTo>
                  <a:lnTo>
                    <a:pt x="647" y="0"/>
                  </a:lnTo>
                  <a:lnTo>
                    <a:pt x="648" y="0"/>
                  </a:lnTo>
                  <a:lnTo>
                    <a:pt x="649" y="2"/>
                  </a:lnTo>
                  <a:lnTo>
                    <a:pt x="650" y="4"/>
                  </a:lnTo>
                  <a:lnTo>
                    <a:pt x="650" y="6"/>
                  </a:lnTo>
                  <a:lnTo>
                    <a:pt x="650" y="8"/>
                  </a:lnTo>
                  <a:lnTo>
                    <a:pt x="649" y="10"/>
                  </a:lnTo>
                  <a:lnTo>
                    <a:pt x="648" y="12"/>
                  </a:lnTo>
                  <a:lnTo>
                    <a:pt x="647" y="12"/>
                  </a:lnTo>
                  <a:lnTo>
                    <a:pt x="628" y="12"/>
                  </a:lnTo>
                  <a:lnTo>
                    <a:pt x="627" y="12"/>
                  </a:lnTo>
                  <a:lnTo>
                    <a:pt x="626" y="10"/>
                  </a:lnTo>
                  <a:lnTo>
                    <a:pt x="625" y="8"/>
                  </a:lnTo>
                  <a:lnTo>
                    <a:pt x="625" y="6"/>
                  </a:lnTo>
                  <a:lnTo>
                    <a:pt x="625" y="4"/>
                  </a:lnTo>
                  <a:lnTo>
                    <a:pt x="626" y="2"/>
                  </a:lnTo>
                  <a:lnTo>
                    <a:pt x="627" y="0"/>
                  </a:lnTo>
                  <a:lnTo>
                    <a:pt x="628" y="0"/>
                  </a:lnTo>
                  <a:lnTo>
                    <a:pt x="628" y="0"/>
                  </a:lnTo>
                  <a:close/>
                  <a:moveTo>
                    <a:pt x="673" y="0"/>
                  </a:moveTo>
                  <a:lnTo>
                    <a:pt x="692" y="0"/>
                  </a:lnTo>
                  <a:lnTo>
                    <a:pt x="693" y="0"/>
                  </a:lnTo>
                  <a:lnTo>
                    <a:pt x="694" y="2"/>
                  </a:lnTo>
                  <a:lnTo>
                    <a:pt x="695" y="4"/>
                  </a:lnTo>
                  <a:lnTo>
                    <a:pt x="695" y="6"/>
                  </a:lnTo>
                  <a:lnTo>
                    <a:pt x="695" y="8"/>
                  </a:lnTo>
                  <a:lnTo>
                    <a:pt x="694" y="10"/>
                  </a:lnTo>
                  <a:lnTo>
                    <a:pt x="693" y="12"/>
                  </a:lnTo>
                  <a:lnTo>
                    <a:pt x="692" y="12"/>
                  </a:lnTo>
                  <a:lnTo>
                    <a:pt x="673" y="12"/>
                  </a:lnTo>
                  <a:lnTo>
                    <a:pt x="672" y="12"/>
                  </a:lnTo>
                  <a:lnTo>
                    <a:pt x="671" y="10"/>
                  </a:lnTo>
                  <a:lnTo>
                    <a:pt x="670" y="8"/>
                  </a:lnTo>
                  <a:lnTo>
                    <a:pt x="670" y="6"/>
                  </a:lnTo>
                  <a:lnTo>
                    <a:pt x="670" y="4"/>
                  </a:lnTo>
                  <a:lnTo>
                    <a:pt x="671" y="2"/>
                  </a:lnTo>
                  <a:lnTo>
                    <a:pt x="672" y="0"/>
                  </a:lnTo>
                  <a:lnTo>
                    <a:pt x="673" y="0"/>
                  </a:lnTo>
                  <a:lnTo>
                    <a:pt x="673" y="0"/>
                  </a:lnTo>
                  <a:close/>
                  <a:moveTo>
                    <a:pt x="717" y="0"/>
                  </a:moveTo>
                  <a:lnTo>
                    <a:pt x="737" y="0"/>
                  </a:lnTo>
                  <a:lnTo>
                    <a:pt x="738" y="0"/>
                  </a:lnTo>
                  <a:lnTo>
                    <a:pt x="739" y="2"/>
                  </a:lnTo>
                  <a:lnTo>
                    <a:pt x="740" y="4"/>
                  </a:lnTo>
                  <a:lnTo>
                    <a:pt x="740" y="6"/>
                  </a:lnTo>
                  <a:lnTo>
                    <a:pt x="740" y="8"/>
                  </a:lnTo>
                  <a:lnTo>
                    <a:pt x="739" y="10"/>
                  </a:lnTo>
                  <a:lnTo>
                    <a:pt x="738" y="12"/>
                  </a:lnTo>
                  <a:lnTo>
                    <a:pt x="737" y="12"/>
                  </a:lnTo>
                  <a:lnTo>
                    <a:pt x="717" y="12"/>
                  </a:lnTo>
                  <a:lnTo>
                    <a:pt x="716" y="12"/>
                  </a:lnTo>
                  <a:lnTo>
                    <a:pt x="715" y="10"/>
                  </a:lnTo>
                  <a:lnTo>
                    <a:pt x="714" y="8"/>
                  </a:lnTo>
                  <a:lnTo>
                    <a:pt x="714" y="6"/>
                  </a:lnTo>
                  <a:lnTo>
                    <a:pt x="714" y="4"/>
                  </a:lnTo>
                  <a:lnTo>
                    <a:pt x="715" y="2"/>
                  </a:lnTo>
                  <a:lnTo>
                    <a:pt x="716" y="0"/>
                  </a:lnTo>
                  <a:lnTo>
                    <a:pt x="717" y="0"/>
                  </a:lnTo>
                  <a:lnTo>
                    <a:pt x="717" y="0"/>
                  </a:lnTo>
                  <a:close/>
                  <a:moveTo>
                    <a:pt x="762" y="0"/>
                  </a:moveTo>
                  <a:lnTo>
                    <a:pt x="781" y="0"/>
                  </a:lnTo>
                  <a:lnTo>
                    <a:pt x="782" y="0"/>
                  </a:lnTo>
                  <a:lnTo>
                    <a:pt x="784" y="2"/>
                  </a:lnTo>
                  <a:lnTo>
                    <a:pt x="785" y="4"/>
                  </a:lnTo>
                  <a:lnTo>
                    <a:pt x="785" y="6"/>
                  </a:lnTo>
                  <a:lnTo>
                    <a:pt x="785" y="8"/>
                  </a:lnTo>
                  <a:lnTo>
                    <a:pt x="784" y="10"/>
                  </a:lnTo>
                  <a:lnTo>
                    <a:pt x="782" y="12"/>
                  </a:lnTo>
                  <a:lnTo>
                    <a:pt x="781" y="12"/>
                  </a:lnTo>
                  <a:lnTo>
                    <a:pt x="762" y="12"/>
                  </a:lnTo>
                  <a:lnTo>
                    <a:pt x="761" y="12"/>
                  </a:lnTo>
                  <a:lnTo>
                    <a:pt x="760" y="10"/>
                  </a:lnTo>
                  <a:lnTo>
                    <a:pt x="759" y="8"/>
                  </a:lnTo>
                  <a:lnTo>
                    <a:pt x="759" y="6"/>
                  </a:lnTo>
                  <a:lnTo>
                    <a:pt x="759" y="4"/>
                  </a:lnTo>
                  <a:lnTo>
                    <a:pt x="760" y="2"/>
                  </a:lnTo>
                  <a:lnTo>
                    <a:pt x="761" y="0"/>
                  </a:lnTo>
                  <a:lnTo>
                    <a:pt x="762" y="0"/>
                  </a:lnTo>
                  <a:lnTo>
                    <a:pt x="762" y="0"/>
                  </a:lnTo>
                  <a:close/>
                  <a:moveTo>
                    <a:pt x="806" y="0"/>
                  </a:moveTo>
                  <a:lnTo>
                    <a:pt x="826" y="0"/>
                  </a:lnTo>
                  <a:lnTo>
                    <a:pt x="827" y="0"/>
                  </a:lnTo>
                  <a:lnTo>
                    <a:pt x="828" y="2"/>
                  </a:lnTo>
                  <a:lnTo>
                    <a:pt x="829" y="4"/>
                  </a:lnTo>
                  <a:lnTo>
                    <a:pt x="829" y="6"/>
                  </a:lnTo>
                  <a:lnTo>
                    <a:pt x="829" y="8"/>
                  </a:lnTo>
                  <a:lnTo>
                    <a:pt x="828" y="10"/>
                  </a:lnTo>
                  <a:lnTo>
                    <a:pt x="827" y="12"/>
                  </a:lnTo>
                  <a:lnTo>
                    <a:pt x="826" y="12"/>
                  </a:lnTo>
                  <a:lnTo>
                    <a:pt x="806" y="12"/>
                  </a:lnTo>
                  <a:lnTo>
                    <a:pt x="805" y="12"/>
                  </a:lnTo>
                  <a:lnTo>
                    <a:pt x="804" y="10"/>
                  </a:lnTo>
                  <a:lnTo>
                    <a:pt x="803" y="8"/>
                  </a:lnTo>
                  <a:lnTo>
                    <a:pt x="803" y="6"/>
                  </a:lnTo>
                  <a:lnTo>
                    <a:pt x="803" y="4"/>
                  </a:lnTo>
                  <a:lnTo>
                    <a:pt x="804" y="2"/>
                  </a:lnTo>
                  <a:lnTo>
                    <a:pt x="805" y="0"/>
                  </a:lnTo>
                  <a:lnTo>
                    <a:pt x="806" y="0"/>
                  </a:lnTo>
                  <a:lnTo>
                    <a:pt x="806" y="0"/>
                  </a:lnTo>
                  <a:close/>
                  <a:moveTo>
                    <a:pt x="851" y="0"/>
                  </a:moveTo>
                  <a:lnTo>
                    <a:pt x="871" y="0"/>
                  </a:lnTo>
                  <a:lnTo>
                    <a:pt x="872" y="0"/>
                  </a:lnTo>
                  <a:lnTo>
                    <a:pt x="873" y="2"/>
                  </a:lnTo>
                  <a:lnTo>
                    <a:pt x="874" y="4"/>
                  </a:lnTo>
                  <a:lnTo>
                    <a:pt x="874" y="6"/>
                  </a:lnTo>
                  <a:lnTo>
                    <a:pt x="874" y="8"/>
                  </a:lnTo>
                  <a:lnTo>
                    <a:pt x="873" y="10"/>
                  </a:lnTo>
                  <a:lnTo>
                    <a:pt x="872" y="12"/>
                  </a:lnTo>
                  <a:lnTo>
                    <a:pt x="871" y="12"/>
                  </a:lnTo>
                  <a:lnTo>
                    <a:pt x="851" y="12"/>
                  </a:lnTo>
                  <a:lnTo>
                    <a:pt x="850" y="12"/>
                  </a:lnTo>
                  <a:lnTo>
                    <a:pt x="849" y="10"/>
                  </a:lnTo>
                  <a:lnTo>
                    <a:pt x="848" y="8"/>
                  </a:lnTo>
                  <a:lnTo>
                    <a:pt x="848" y="6"/>
                  </a:lnTo>
                  <a:lnTo>
                    <a:pt x="848" y="4"/>
                  </a:lnTo>
                  <a:lnTo>
                    <a:pt x="849" y="2"/>
                  </a:lnTo>
                  <a:lnTo>
                    <a:pt x="850" y="0"/>
                  </a:lnTo>
                  <a:lnTo>
                    <a:pt x="851" y="0"/>
                  </a:lnTo>
                  <a:lnTo>
                    <a:pt x="851" y="0"/>
                  </a:lnTo>
                  <a:close/>
                  <a:moveTo>
                    <a:pt x="896" y="0"/>
                  </a:moveTo>
                  <a:lnTo>
                    <a:pt x="915" y="0"/>
                  </a:lnTo>
                  <a:lnTo>
                    <a:pt x="916" y="0"/>
                  </a:lnTo>
                  <a:lnTo>
                    <a:pt x="918" y="2"/>
                  </a:lnTo>
                  <a:lnTo>
                    <a:pt x="919" y="4"/>
                  </a:lnTo>
                  <a:lnTo>
                    <a:pt x="919" y="6"/>
                  </a:lnTo>
                  <a:lnTo>
                    <a:pt x="919" y="8"/>
                  </a:lnTo>
                  <a:lnTo>
                    <a:pt x="918" y="10"/>
                  </a:lnTo>
                  <a:lnTo>
                    <a:pt x="916" y="12"/>
                  </a:lnTo>
                  <a:lnTo>
                    <a:pt x="915" y="12"/>
                  </a:lnTo>
                  <a:lnTo>
                    <a:pt x="896" y="12"/>
                  </a:lnTo>
                  <a:lnTo>
                    <a:pt x="895" y="12"/>
                  </a:lnTo>
                  <a:lnTo>
                    <a:pt x="894" y="10"/>
                  </a:lnTo>
                  <a:lnTo>
                    <a:pt x="893" y="8"/>
                  </a:lnTo>
                  <a:lnTo>
                    <a:pt x="893" y="6"/>
                  </a:lnTo>
                  <a:lnTo>
                    <a:pt x="893" y="4"/>
                  </a:lnTo>
                  <a:lnTo>
                    <a:pt x="894" y="2"/>
                  </a:lnTo>
                  <a:lnTo>
                    <a:pt x="895" y="0"/>
                  </a:lnTo>
                  <a:lnTo>
                    <a:pt x="896" y="0"/>
                  </a:lnTo>
                  <a:lnTo>
                    <a:pt x="896" y="0"/>
                  </a:lnTo>
                  <a:close/>
                  <a:moveTo>
                    <a:pt x="941" y="0"/>
                  </a:moveTo>
                  <a:lnTo>
                    <a:pt x="959" y="0"/>
                  </a:lnTo>
                  <a:lnTo>
                    <a:pt x="960" y="0"/>
                  </a:lnTo>
                  <a:lnTo>
                    <a:pt x="962" y="2"/>
                  </a:lnTo>
                  <a:lnTo>
                    <a:pt x="963" y="4"/>
                  </a:lnTo>
                  <a:lnTo>
                    <a:pt x="963" y="6"/>
                  </a:lnTo>
                  <a:lnTo>
                    <a:pt x="963" y="8"/>
                  </a:lnTo>
                  <a:lnTo>
                    <a:pt x="962" y="10"/>
                  </a:lnTo>
                  <a:lnTo>
                    <a:pt x="960" y="12"/>
                  </a:lnTo>
                  <a:lnTo>
                    <a:pt x="959" y="12"/>
                  </a:lnTo>
                  <a:lnTo>
                    <a:pt x="941" y="12"/>
                  </a:lnTo>
                  <a:lnTo>
                    <a:pt x="940" y="12"/>
                  </a:lnTo>
                  <a:lnTo>
                    <a:pt x="939" y="10"/>
                  </a:lnTo>
                  <a:lnTo>
                    <a:pt x="938" y="8"/>
                  </a:lnTo>
                  <a:lnTo>
                    <a:pt x="938" y="6"/>
                  </a:lnTo>
                  <a:lnTo>
                    <a:pt x="938" y="4"/>
                  </a:lnTo>
                  <a:lnTo>
                    <a:pt x="939" y="2"/>
                  </a:lnTo>
                  <a:lnTo>
                    <a:pt x="940" y="0"/>
                  </a:lnTo>
                  <a:lnTo>
                    <a:pt x="941" y="0"/>
                  </a:lnTo>
                  <a:lnTo>
                    <a:pt x="941" y="0"/>
                  </a:lnTo>
                  <a:close/>
                  <a:moveTo>
                    <a:pt x="985" y="0"/>
                  </a:moveTo>
                  <a:lnTo>
                    <a:pt x="1004" y="0"/>
                  </a:lnTo>
                  <a:lnTo>
                    <a:pt x="1005" y="0"/>
                  </a:lnTo>
                  <a:lnTo>
                    <a:pt x="1006" y="2"/>
                  </a:lnTo>
                  <a:lnTo>
                    <a:pt x="1007" y="4"/>
                  </a:lnTo>
                  <a:lnTo>
                    <a:pt x="1007" y="6"/>
                  </a:lnTo>
                  <a:lnTo>
                    <a:pt x="1007" y="8"/>
                  </a:lnTo>
                  <a:lnTo>
                    <a:pt x="1006" y="10"/>
                  </a:lnTo>
                  <a:lnTo>
                    <a:pt x="1005" y="12"/>
                  </a:lnTo>
                  <a:lnTo>
                    <a:pt x="1004" y="12"/>
                  </a:lnTo>
                  <a:lnTo>
                    <a:pt x="985" y="12"/>
                  </a:lnTo>
                  <a:lnTo>
                    <a:pt x="984" y="12"/>
                  </a:lnTo>
                  <a:lnTo>
                    <a:pt x="983" y="10"/>
                  </a:lnTo>
                  <a:lnTo>
                    <a:pt x="982" y="8"/>
                  </a:lnTo>
                  <a:lnTo>
                    <a:pt x="982" y="6"/>
                  </a:lnTo>
                  <a:lnTo>
                    <a:pt x="982" y="4"/>
                  </a:lnTo>
                  <a:lnTo>
                    <a:pt x="983" y="2"/>
                  </a:lnTo>
                  <a:lnTo>
                    <a:pt x="984" y="0"/>
                  </a:lnTo>
                  <a:lnTo>
                    <a:pt x="985" y="0"/>
                  </a:lnTo>
                  <a:lnTo>
                    <a:pt x="985" y="0"/>
                  </a:lnTo>
                  <a:close/>
                  <a:moveTo>
                    <a:pt x="1030" y="0"/>
                  </a:moveTo>
                  <a:lnTo>
                    <a:pt x="1049" y="0"/>
                  </a:lnTo>
                  <a:lnTo>
                    <a:pt x="1050" y="0"/>
                  </a:lnTo>
                  <a:lnTo>
                    <a:pt x="1051" y="2"/>
                  </a:lnTo>
                  <a:lnTo>
                    <a:pt x="1052" y="4"/>
                  </a:lnTo>
                  <a:lnTo>
                    <a:pt x="1052" y="6"/>
                  </a:lnTo>
                  <a:lnTo>
                    <a:pt x="1052" y="8"/>
                  </a:lnTo>
                  <a:lnTo>
                    <a:pt x="1051" y="10"/>
                  </a:lnTo>
                  <a:lnTo>
                    <a:pt x="1050" y="12"/>
                  </a:lnTo>
                  <a:lnTo>
                    <a:pt x="1049" y="12"/>
                  </a:lnTo>
                  <a:lnTo>
                    <a:pt x="1030" y="12"/>
                  </a:lnTo>
                  <a:lnTo>
                    <a:pt x="1029" y="12"/>
                  </a:lnTo>
                  <a:lnTo>
                    <a:pt x="1028" y="10"/>
                  </a:lnTo>
                  <a:lnTo>
                    <a:pt x="1027" y="8"/>
                  </a:lnTo>
                  <a:lnTo>
                    <a:pt x="1027" y="6"/>
                  </a:lnTo>
                  <a:lnTo>
                    <a:pt x="1027" y="4"/>
                  </a:lnTo>
                  <a:lnTo>
                    <a:pt x="1028" y="2"/>
                  </a:lnTo>
                  <a:lnTo>
                    <a:pt x="1029" y="0"/>
                  </a:lnTo>
                  <a:lnTo>
                    <a:pt x="1030" y="0"/>
                  </a:lnTo>
                  <a:lnTo>
                    <a:pt x="1030" y="0"/>
                  </a:lnTo>
                  <a:close/>
                  <a:moveTo>
                    <a:pt x="1075" y="0"/>
                  </a:moveTo>
                  <a:lnTo>
                    <a:pt x="1094" y="0"/>
                  </a:lnTo>
                  <a:lnTo>
                    <a:pt x="1095" y="0"/>
                  </a:lnTo>
                  <a:lnTo>
                    <a:pt x="1096" y="2"/>
                  </a:lnTo>
                  <a:lnTo>
                    <a:pt x="1097" y="4"/>
                  </a:lnTo>
                  <a:lnTo>
                    <a:pt x="1097" y="6"/>
                  </a:lnTo>
                  <a:lnTo>
                    <a:pt x="1097" y="8"/>
                  </a:lnTo>
                  <a:lnTo>
                    <a:pt x="1096" y="10"/>
                  </a:lnTo>
                  <a:lnTo>
                    <a:pt x="1095" y="12"/>
                  </a:lnTo>
                  <a:lnTo>
                    <a:pt x="1094" y="12"/>
                  </a:lnTo>
                  <a:lnTo>
                    <a:pt x="1075" y="12"/>
                  </a:lnTo>
                  <a:lnTo>
                    <a:pt x="1074" y="12"/>
                  </a:lnTo>
                  <a:lnTo>
                    <a:pt x="1073" y="10"/>
                  </a:lnTo>
                  <a:lnTo>
                    <a:pt x="1072" y="8"/>
                  </a:lnTo>
                  <a:lnTo>
                    <a:pt x="1072" y="6"/>
                  </a:lnTo>
                  <a:lnTo>
                    <a:pt x="1072" y="4"/>
                  </a:lnTo>
                  <a:lnTo>
                    <a:pt x="1073" y="2"/>
                  </a:lnTo>
                  <a:lnTo>
                    <a:pt x="1074" y="0"/>
                  </a:lnTo>
                  <a:lnTo>
                    <a:pt x="1075" y="0"/>
                  </a:lnTo>
                  <a:lnTo>
                    <a:pt x="1075" y="0"/>
                  </a:lnTo>
                  <a:close/>
                  <a:moveTo>
                    <a:pt x="1120" y="0"/>
                  </a:moveTo>
                  <a:lnTo>
                    <a:pt x="1138" y="0"/>
                  </a:lnTo>
                  <a:lnTo>
                    <a:pt x="1139" y="0"/>
                  </a:lnTo>
                  <a:lnTo>
                    <a:pt x="1141" y="2"/>
                  </a:lnTo>
                  <a:lnTo>
                    <a:pt x="1142" y="4"/>
                  </a:lnTo>
                  <a:lnTo>
                    <a:pt x="1142" y="6"/>
                  </a:lnTo>
                  <a:lnTo>
                    <a:pt x="1142" y="8"/>
                  </a:lnTo>
                  <a:lnTo>
                    <a:pt x="1141" y="10"/>
                  </a:lnTo>
                  <a:lnTo>
                    <a:pt x="1139" y="12"/>
                  </a:lnTo>
                  <a:lnTo>
                    <a:pt x="1138" y="12"/>
                  </a:lnTo>
                  <a:lnTo>
                    <a:pt x="1120" y="12"/>
                  </a:lnTo>
                  <a:lnTo>
                    <a:pt x="1119" y="12"/>
                  </a:lnTo>
                  <a:lnTo>
                    <a:pt x="1118" y="10"/>
                  </a:lnTo>
                  <a:lnTo>
                    <a:pt x="1117" y="8"/>
                  </a:lnTo>
                  <a:lnTo>
                    <a:pt x="1117" y="6"/>
                  </a:lnTo>
                  <a:lnTo>
                    <a:pt x="1117" y="4"/>
                  </a:lnTo>
                  <a:lnTo>
                    <a:pt x="1118" y="2"/>
                  </a:lnTo>
                  <a:lnTo>
                    <a:pt x="1119" y="0"/>
                  </a:lnTo>
                  <a:lnTo>
                    <a:pt x="1120" y="0"/>
                  </a:lnTo>
                  <a:lnTo>
                    <a:pt x="1120" y="0"/>
                  </a:lnTo>
                  <a:close/>
                  <a:moveTo>
                    <a:pt x="1163" y="0"/>
                  </a:moveTo>
                  <a:lnTo>
                    <a:pt x="1183" y="0"/>
                  </a:lnTo>
                  <a:lnTo>
                    <a:pt x="1184" y="0"/>
                  </a:lnTo>
                  <a:lnTo>
                    <a:pt x="1185" y="2"/>
                  </a:lnTo>
                  <a:lnTo>
                    <a:pt x="1186" y="4"/>
                  </a:lnTo>
                  <a:lnTo>
                    <a:pt x="1186" y="6"/>
                  </a:lnTo>
                  <a:lnTo>
                    <a:pt x="1186" y="8"/>
                  </a:lnTo>
                  <a:lnTo>
                    <a:pt x="1185" y="10"/>
                  </a:lnTo>
                  <a:lnTo>
                    <a:pt x="1184" y="12"/>
                  </a:lnTo>
                  <a:lnTo>
                    <a:pt x="1183" y="12"/>
                  </a:lnTo>
                  <a:lnTo>
                    <a:pt x="1163" y="12"/>
                  </a:lnTo>
                  <a:lnTo>
                    <a:pt x="1162" y="12"/>
                  </a:lnTo>
                  <a:lnTo>
                    <a:pt x="1161" y="10"/>
                  </a:lnTo>
                  <a:lnTo>
                    <a:pt x="1160" y="8"/>
                  </a:lnTo>
                  <a:lnTo>
                    <a:pt x="1160" y="6"/>
                  </a:lnTo>
                  <a:lnTo>
                    <a:pt x="1160" y="4"/>
                  </a:lnTo>
                  <a:lnTo>
                    <a:pt x="1161" y="2"/>
                  </a:lnTo>
                  <a:lnTo>
                    <a:pt x="1162" y="0"/>
                  </a:lnTo>
                  <a:lnTo>
                    <a:pt x="1163" y="0"/>
                  </a:lnTo>
                  <a:lnTo>
                    <a:pt x="1163" y="0"/>
                  </a:lnTo>
                  <a:close/>
                  <a:moveTo>
                    <a:pt x="1208" y="0"/>
                  </a:moveTo>
                  <a:lnTo>
                    <a:pt x="1228" y="0"/>
                  </a:lnTo>
                  <a:lnTo>
                    <a:pt x="1229" y="0"/>
                  </a:lnTo>
                  <a:lnTo>
                    <a:pt x="1230" y="2"/>
                  </a:lnTo>
                  <a:lnTo>
                    <a:pt x="1231" y="4"/>
                  </a:lnTo>
                  <a:lnTo>
                    <a:pt x="1231" y="6"/>
                  </a:lnTo>
                  <a:lnTo>
                    <a:pt x="1231" y="8"/>
                  </a:lnTo>
                  <a:lnTo>
                    <a:pt x="1230" y="10"/>
                  </a:lnTo>
                  <a:lnTo>
                    <a:pt x="1229" y="12"/>
                  </a:lnTo>
                  <a:lnTo>
                    <a:pt x="1228" y="12"/>
                  </a:lnTo>
                  <a:lnTo>
                    <a:pt x="1208" y="12"/>
                  </a:lnTo>
                  <a:lnTo>
                    <a:pt x="1207" y="12"/>
                  </a:lnTo>
                  <a:lnTo>
                    <a:pt x="1206" y="10"/>
                  </a:lnTo>
                  <a:lnTo>
                    <a:pt x="1205" y="8"/>
                  </a:lnTo>
                  <a:lnTo>
                    <a:pt x="1205" y="6"/>
                  </a:lnTo>
                  <a:lnTo>
                    <a:pt x="1205" y="4"/>
                  </a:lnTo>
                  <a:lnTo>
                    <a:pt x="1206" y="2"/>
                  </a:lnTo>
                  <a:lnTo>
                    <a:pt x="1207" y="0"/>
                  </a:lnTo>
                  <a:lnTo>
                    <a:pt x="1208" y="0"/>
                  </a:lnTo>
                  <a:lnTo>
                    <a:pt x="1208" y="0"/>
                  </a:lnTo>
                  <a:close/>
                  <a:moveTo>
                    <a:pt x="1253" y="0"/>
                  </a:moveTo>
                  <a:lnTo>
                    <a:pt x="1273" y="0"/>
                  </a:lnTo>
                  <a:lnTo>
                    <a:pt x="1274" y="0"/>
                  </a:lnTo>
                  <a:lnTo>
                    <a:pt x="1275" y="2"/>
                  </a:lnTo>
                  <a:lnTo>
                    <a:pt x="1276" y="4"/>
                  </a:lnTo>
                  <a:lnTo>
                    <a:pt x="1276" y="6"/>
                  </a:lnTo>
                  <a:lnTo>
                    <a:pt x="1276" y="8"/>
                  </a:lnTo>
                  <a:lnTo>
                    <a:pt x="1275" y="10"/>
                  </a:lnTo>
                  <a:lnTo>
                    <a:pt x="1274" y="12"/>
                  </a:lnTo>
                  <a:lnTo>
                    <a:pt x="1273" y="12"/>
                  </a:lnTo>
                  <a:lnTo>
                    <a:pt x="1253" y="12"/>
                  </a:lnTo>
                  <a:lnTo>
                    <a:pt x="1252" y="12"/>
                  </a:lnTo>
                  <a:lnTo>
                    <a:pt x="1251" y="10"/>
                  </a:lnTo>
                  <a:lnTo>
                    <a:pt x="1250" y="8"/>
                  </a:lnTo>
                  <a:lnTo>
                    <a:pt x="1250" y="6"/>
                  </a:lnTo>
                  <a:lnTo>
                    <a:pt x="1250" y="4"/>
                  </a:lnTo>
                  <a:lnTo>
                    <a:pt x="1251" y="2"/>
                  </a:lnTo>
                  <a:lnTo>
                    <a:pt x="1252" y="0"/>
                  </a:lnTo>
                  <a:lnTo>
                    <a:pt x="1253" y="0"/>
                  </a:lnTo>
                  <a:lnTo>
                    <a:pt x="1253" y="0"/>
                  </a:lnTo>
                  <a:close/>
                  <a:moveTo>
                    <a:pt x="1298" y="0"/>
                  </a:moveTo>
                  <a:lnTo>
                    <a:pt x="1317" y="0"/>
                  </a:lnTo>
                  <a:lnTo>
                    <a:pt x="1318" y="0"/>
                  </a:lnTo>
                  <a:lnTo>
                    <a:pt x="1320" y="2"/>
                  </a:lnTo>
                  <a:lnTo>
                    <a:pt x="1321" y="4"/>
                  </a:lnTo>
                  <a:lnTo>
                    <a:pt x="1321" y="6"/>
                  </a:lnTo>
                  <a:lnTo>
                    <a:pt x="1321" y="8"/>
                  </a:lnTo>
                  <a:lnTo>
                    <a:pt x="1320" y="10"/>
                  </a:lnTo>
                  <a:lnTo>
                    <a:pt x="1318" y="12"/>
                  </a:lnTo>
                  <a:lnTo>
                    <a:pt x="1317" y="12"/>
                  </a:lnTo>
                  <a:lnTo>
                    <a:pt x="1298" y="12"/>
                  </a:lnTo>
                  <a:lnTo>
                    <a:pt x="1297" y="12"/>
                  </a:lnTo>
                  <a:lnTo>
                    <a:pt x="1296" y="10"/>
                  </a:lnTo>
                  <a:lnTo>
                    <a:pt x="1295" y="8"/>
                  </a:lnTo>
                  <a:lnTo>
                    <a:pt x="1295" y="6"/>
                  </a:lnTo>
                  <a:lnTo>
                    <a:pt x="1295" y="4"/>
                  </a:lnTo>
                  <a:lnTo>
                    <a:pt x="1296" y="2"/>
                  </a:lnTo>
                  <a:lnTo>
                    <a:pt x="1297" y="0"/>
                  </a:lnTo>
                  <a:lnTo>
                    <a:pt x="1298" y="0"/>
                  </a:lnTo>
                  <a:lnTo>
                    <a:pt x="1298" y="0"/>
                  </a:lnTo>
                  <a:close/>
                  <a:moveTo>
                    <a:pt x="1342" y="0"/>
                  </a:moveTo>
                  <a:lnTo>
                    <a:pt x="1361" y="0"/>
                  </a:lnTo>
                  <a:lnTo>
                    <a:pt x="1362" y="0"/>
                  </a:lnTo>
                  <a:lnTo>
                    <a:pt x="1363" y="2"/>
                  </a:lnTo>
                  <a:lnTo>
                    <a:pt x="1365" y="4"/>
                  </a:lnTo>
                  <a:lnTo>
                    <a:pt x="1365" y="6"/>
                  </a:lnTo>
                  <a:lnTo>
                    <a:pt x="1365" y="8"/>
                  </a:lnTo>
                  <a:lnTo>
                    <a:pt x="1363" y="10"/>
                  </a:lnTo>
                  <a:lnTo>
                    <a:pt x="1362" y="12"/>
                  </a:lnTo>
                  <a:lnTo>
                    <a:pt x="1361" y="12"/>
                  </a:lnTo>
                  <a:lnTo>
                    <a:pt x="1342" y="12"/>
                  </a:lnTo>
                  <a:lnTo>
                    <a:pt x="1341" y="12"/>
                  </a:lnTo>
                  <a:lnTo>
                    <a:pt x="1340" y="10"/>
                  </a:lnTo>
                  <a:lnTo>
                    <a:pt x="1339" y="8"/>
                  </a:lnTo>
                  <a:lnTo>
                    <a:pt x="1339" y="6"/>
                  </a:lnTo>
                  <a:lnTo>
                    <a:pt x="1339" y="4"/>
                  </a:lnTo>
                  <a:lnTo>
                    <a:pt x="1340" y="2"/>
                  </a:lnTo>
                  <a:lnTo>
                    <a:pt x="1341" y="0"/>
                  </a:lnTo>
                  <a:lnTo>
                    <a:pt x="1342" y="0"/>
                  </a:lnTo>
                  <a:lnTo>
                    <a:pt x="1342" y="0"/>
                  </a:lnTo>
                  <a:close/>
                  <a:moveTo>
                    <a:pt x="1387" y="0"/>
                  </a:moveTo>
                  <a:lnTo>
                    <a:pt x="1406" y="0"/>
                  </a:lnTo>
                  <a:lnTo>
                    <a:pt x="1407" y="0"/>
                  </a:lnTo>
                  <a:lnTo>
                    <a:pt x="1408" y="2"/>
                  </a:lnTo>
                  <a:lnTo>
                    <a:pt x="1409" y="4"/>
                  </a:lnTo>
                  <a:lnTo>
                    <a:pt x="1409" y="6"/>
                  </a:lnTo>
                  <a:lnTo>
                    <a:pt x="1409" y="8"/>
                  </a:lnTo>
                  <a:lnTo>
                    <a:pt x="1408" y="10"/>
                  </a:lnTo>
                  <a:lnTo>
                    <a:pt x="1407" y="12"/>
                  </a:lnTo>
                  <a:lnTo>
                    <a:pt x="1406" y="12"/>
                  </a:lnTo>
                  <a:lnTo>
                    <a:pt x="1387" y="12"/>
                  </a:lnTo>
                  <a:lnTo>
                    <a:pt x="1386" y="12"/>
                  </a:lnTo>
                  <a:lnTo>
                    <a:pt x="1385" y="10"/>
                  </a:lnTo>
                  <a:lnTo>
                    <a:pt x="1384" y="8"/>
                  </a:lnTo>
                  <a:lnTo>
                    <a:pt x="1384" y="6"/>
                  </a:lnTo>
                  <a:lnTo>
                    <a:pt x="1384" y="4"/>
                  </a:lnTo>
                  <a:lnTo>
                    <a:pt x="1385" y="2"/>
                  </a:lnTo>
                  <a:lnTo>
                    <a:pt x="1386" y="0"/>
                  </a:lnTo>
                  <a:lnTo>
                    <a:pt x="1387" y="0"/>
                  </a:lnTo>
                  <a:lnTo>
                    <a:pt x="1387" y="0"/>
                  </a:lnTo>
                  <a:close/>
                  <a:moveTo>
                    <a:pt x="1432" y="0"/>
                  </a:moveTo>
                  <a:lnTo>
                    <a:pt x="1451" y="0"/>
                  </a:lnTo>
                  <a:lnTo>
                    <a:pt x="1452" y="0"/>
                  </a:lnTo>
                  <a:lnTo>
                    <a:pt x="1453" y="2"/>
                  </a:lnTo>
                  <a:lnTo>
                    <a:pt x="1454" y="4"/>
                  </a:lnTo>
                  <a:lnTo>
                    <a:pt x="1454" y="6"/>
                  </a:lnTo>
                  <a:lnTo>
                    <a:pt x="1454" y="8"/>
                  </a:lnTo>
                  <a:lnTo>
                    <a:pt x="1453" y="10"/>
                  </a:lnTo>
                  <a:lnTo>
                    <a:pt x="1452" y="12"/>
                  </a:lnTo>
                  <a:lnTo>
                    <a:pt x="1451" y="12"/>
                  </a:lnTo>
                  <a:lnTo>
                    <a:pt x="1432" y="12"/>
                  </a:lnTo>
                  <a:lnTo>
                    <a:pt x="1431" y="12"/>
                  </a:lnTo>
                  <a:lnTo>
                    <a:pt x="1430" y="10"/>
                  </a:lnTo>
                  <a:lnTo>
                    <a:pt x="1429" y="8"/>
                  </a:lnTo>
                  <a:lnTo>
                    <a:pt x="1429" y="6"/>
                  </a:lnTo>
                  <a:lnTo>
                    <a:pt x="1429" y="4"/>
                  </a:lnTo>
                  <a:lnTo>
                    <a:pt x="1430" y="2"/>
                  </a:lnTo>
                  <a:lnTo>
                    <a:pt x="1431" y="0"/>
                  </a:lnTo>
                  <a:lnTo>
                    <a:pt x="1432" y="0"/>
                  </a:lnTo>
                  <a:lnTo>
                    <a:pt x="1432" y="0"/>
                  </a:lnTo>
                  <a:close/>
                  <a:moveTo>
                    <a:pt x="1477" y="0"/>
                  </a:moveTo>
                  <a:lnTo>
                    <a:pt x="1495" y="0"/>
                  </a:lnTo>
                  <a:lnTo>
                    <a:pt x="1496" y="0"/>
                  </a:lnTo>
                  <a:lnTo>
                    <a:pt x="1498" y="2"/>
                  </a:lnTo>
                  <a:lnTo>
                    <a:pt x="1499" y="4"/>
                  </a:lnTo>
                  <a:lnTo>
                    <a:pt x="1499" y="6"/>
                  </a:lnTo>
                  <a:lnTo>
                    <a:pt x="1499" y="8"/>
                  </a:lnTo>
                  <a:lnTo>
                    <a:pt x="1498" y="10"/>
                  </a:lnTo>
                  <a:lnTo>
                    <a:pt x="1496" y="12"/>
                  </a:lnTo>
                  <a:lnTo>
                    <a:pt x="1495" y="12"/>
                  </a:lnTo>
                  <a:lnTo>
                    <a:pt x="1477" y="12"/>
                  </a:lnTo>
                  <a:lnTo>
                    <a:pt x="1476" y="12"/>
                  </a:lnTo>
                  <a:lnTo>
                    <a:pt x="1475" y="10"/>
                  </a:lnTo>
                  <a:lnTo>
                    <a:pt x="1474" y="8"/>
                  </a:lnTo>
                  <a:lnTo>
                    <a:pt x="1474" y="6"/>
                  </a:lnTo>
                  <a:lnTo>
                    <a:pt x="1474" y="4"/>
                  </a:lnTo>
                  <a:lnTo>
                    <a:pt x="1475" y="2"/>
                  </a:lnTo>
                  <a:lnTo>
                    <a:pt x="1476" y="0"/>
                  </a:lnTo>
                  <a:lnTo>
                    <a:pt x="1477" y="0"/>
                  </a:lnTo>
                  <a:lnTo>
                    <a:pt x="1477" y="0"/>
                  </a:lnTo>
                  <a:close/>
                  <a:moveTo>
                    <a:pt x="1521" y="0"/>
                  </a:moveTo>
                  <a:lnTo>
                    <a:pt x="1540" y="0"/>
                  </a:lnTo>
                  <a:lnTo>
                    <a:pt x="1541" y="0"/>
                  </a:lnTo>
                  <a:lnTo>
                    <a:pt x="1542" y="2"/>
                  </a:lnTo>
                  <a:lnTo>
                    <a:pt x="1543" y="4"/>
                  </a:lnTo>
                  <a:lnTo>
                    <a:pt x="1543" y="6"/>
                  </a:lnTo>
                  <a:lnTo>
                    <a:pt x="1543" y="8"/>
                  </a:lnTo>
                  <a:lnTo>
                    <a:pt x="1542" y="10"/>
                  </a:lnTo>
                  <a:lnTo>
                    <a:pt x="1541" y="12"/>
                  </a:lnTo>
                  <a:lnTo>
                    <a:pt x="1540" y="12"/>
                  </a:lnTo>
                  <a:lnTo>
                    <a:pt x="1521" y="12"/>
                  </a:lnTo>
                  <a:lnTo>
                    <a:pt x="1520" y="12"/>
                  </a:lnTo>
                  <a:lnTo>
                    <a:pt x="1519" y="10"/>
                  </a:lnTo>
                  <a:lnTo>
                    <a:pt x="1518" y="8"/>
                  </a:lnTo>
                  <a:lnTo>
                    <a:pt x="1518" y="6"/>
                  </a:lnTo>
                  <a:lnTo>
                    <a:pt x="1518" y="4"/>
                  </a:lnTo>
                  <a:lnTo>
                    <a:pt x="1519" y="2"/>
                  </a:lnTo>
                  <a:lnTo>
                    <a:pt x="1520" y="0"/>
                  </a:lnTo>
                  <a:lnTo>
                    <a:pt x="1521" y="0"/>
                  </a:lnTo>
                  <a:lnTo>
                    <a:pt x="1521" y="0"/>
                  </a:lnTo>
                  <a:close/>
                  <a:moveTo>
                    <a:pt x="1566" y="0"/>
                  </a:moveTo>
                  <a:lnTo>
                    <a:pt x="1585" y="0"/>
                  </a:lnTo>
                  <a:lnTo>
                    <a:pt x="1586" y="0"/>
                  </a:lnTo>
                  <a:lnTo>
                    <a:pt x="1587" y="2"/>
                  </a:lnTo>
                  <a:lnTo>
                    <a:pt x="1588" y="4"/>
                  </a:lnTo>
                  <a:lnTo>
                    <a:pt x="1588" y="6"/>
                  </a:lnTo>
                  <a:lnTo>
                    <a:pt x="1588" y="8"/>
                  </a:lnTo>
                  <a:lnTo>
                    <a:pt x="1587" y="10"/>
                  </a:lnTo>
                  <a:lnTo>
                    <a:pt x="1586" y="12"/>
                  </a:lnTo>
                  <a:lnTo>
                    <a:pt x="1585" y="12"/>
                  </a:lnTo>
                  <a:lnTo>
                    <a:pt x="1566" y="12"/>
                  </a:lnTo>
                  <a:lnTo>
                    <a:pt x="1565" y="12"/>
                  </a:lnTo>
                  <a:lnTo>
                    <a:pt x="1564" y="10"/>
                  </a:lnTo>
                  <a:lnTo>
                    <a:pt x="1562" y="8"/>
                  </a:lnTo>
                  <a:lnTo>
                    <a:pt x="1562" y="6"/>
                  </a:lnTo>
                  <a:lnTo>
                    <a:pt x="1562" y="4"/>
                  </a:lnTo>
                  <a:lnTo>
                    <a:pt x="1564" y="2"/>
                  </a:lnTo>
                  <a:lnTo>
                    <a:pt x="1565" y="0"/>
                  </a:lnTo>
                  <a:lnTo>
                    <a:pt x="1566" y="0"/>
                  </a:lnTo>
                  <a:lnTo>
                    <a:pt x="1566" y="0"/>
                  </a:lnTo>
                  <a:close/>
                  <a:moveTo>
                    <a:pt x="1610" y="0"/>
                  </a:moveTo>
                  <a:lnTo>
                    <a:pt x="1630" y="0"/>
                  </a:lnTo>
                  <a:lnTo>
                    <a:pt x="1631" y="0"/>
                  </a:lnTo>
                  <a:lnTo>
                    <a:pt x="1632" y="2"/>
                  </a:lnTo>
                  <a:lnTo>
                    <a:pt x="1633" y="4"/>
                  </a:lnTo>
                  <a:lnTo>
                    <a:pt x="1633" y="6"/>
                  </a:lnTo>
                  <a:lnTo>
                    <a:pt x="1633" y="8"/>
                  </a:lnTo>
                  <a:lnTo>
                    <a:pt x="1632" y="10"/>
                  </a:lnTo>
                  <a:lnTo>
                    <a:pt x="1631" y="12"/>
                  </a:lnTo>
                  <a:lnTo>
                    <a:pt x="1630" y="12"/>
                  </a:lnTo>
                  <a:lnTo>
                    <a:pt x="1610" y="12"/>
                  </a:lnTo>
                  <a:lnTo>
                    <a:pt x="1609" y="12"/>
                  </a:lnTo>
                  <a:lnTo>
                    <a:pt x="1608" y="10"/>
                  </a:lnTo>
                  <a:lnTo>
                    <a:pt x="1607" y="8"/>
                  </a:lnTo>
                  <a:lnTo>
                    <a:pt x="1607" y="6"/>
                  </a:lnTo>
                  <a:lnTo>
                    <a:pt x="1607" y="4"/>
                  </a:lnTo>
                  <a:lnTo>
                    <a:pt x="1608" y="2"/>
                  </a:lnTo>
                  <a:lnTo>
                    <a:pt x="1609" y="0"/>
                  </a:lnTo>
                  <a:lnTo>
                    <a:pt x="1610" y="0"/>
                  </a:lnTo>
                  <a:lnTo>
                    <a:pt x="1610" y="0"/>
                  </a:lnTo>
                  <a:close/>
                  <a:moveTo>
                    <a:pt x="1655" y="0"/>
                  </a:moveTo>
                  <a:lnTo>
                    <a:pt x="1674" y="0"/>
                  </a:lnTo>
                  <a:lnTo>
                    <a:pt x="1675" y="0"/>
                  </a:lnTo>
                  <a:lnTo>
                    <a:pt x="1677" y="2"/>
                  </a:lnTo>
                  <a:lnTo>
                    <a:pt x="1678" y="4"/>
                  </a:lnTo>
                  <a:lnTo>
                    <a:pt x="1678" y="6"/>
                  </a:lnTo>
                  <a:lnTo>
                    <a:pt x="1678" y="8"/>
                  </a:lnTo>
                  <a:lnTo>
                    <a:pt x="1677" y="10"/>
                  </a:lnTo>
                  <a:lnTo>
                    <a:pt x="1675" y="12"/>
                  </a:lnTo>
                  <a:lnTo>
                    <a:pt x="1674" y="12"/>
                  </a:lnTo>
                  <a:lnTo>
                    <a:pt x="1655" y="12"/>
                  </a:lnTo>
                  <a:lnTo>
                    <a:pt x="1654" y="12"/>
                  </a:lnTo>
                  <a:lnTo>
                    <a:pt x="1653" y="10"/>
                  </a:lnTo>
                  <a:lnTo>
                    <a:pt x="1652" y="8"/>
                  </a:lnTo>
                  <a:lnTo>
                    <a:pt x="1652" y="6"/>
                  </a:lnTo>
                  <a:lnTo>
                    <a:pt x="1652" y="4"/>
                  </a:lnTo>
                  <a:lnTo>
                    <a:pt x="1653" y="2"/>
                  </a:lnTo>
                  <a:lnTo>
                    <a:pt x="1654" y="0"/>
                  </a:lnTo>
                  <a:lnTo>
                    <a:pt x="1655" y="0"/>
                  </a:lnTo>
                  <a:lnTo>
                    <a:pt x="1655" y="0"/>
                  </a:lnTo>
                  <a:close/>
                  <a:moveTo>
                    <a:pt x="1699" y="0"/>
                  </a:moveTo>
                  <a:lnTo>
                    <a:pt x="1719" y="0"/>
                  </a:lnTo>
                  <a:lnTo>
                    <a:pt x="1720" y="0"/>
                  </a:lnTo>
                  <a:lnTo>
                    <a:pt x="1721" y="2"/>
                  </a:lnTo>
                  <a:lnTo>
                    <a:pt x="1722" y="4"/>
                  </a:lnTo>
                  <a:lnTo>
                    <a:pt x="1722" y="6"/>
                  </a:lnTo>
                  <a:lnTo>
                    <a:pt x="1722" y="8"/>
                  </a:lnTo>
                  <a:lnTo>
                    <a:pt x="1721" y="10"/>
                  </a:lnTo>
                  <a:lnTo>
                    <a:pt x="1720" y="12"/>
                  </a:lnTo>
                  <a:lnTo>
                    <a:pt x="1719" y="12"/>
                  </a:lnTo>
                  <a:lnTo>
                    <a:pt x="1699" y="12"/>
                  </a:lnTo>
                  <a:lnTo>
                    <a:pt x="1698" y="12"/>
                  </a:lnTo>
                  <a:lnTo>
                    <a:pt x="1697" y="10"/>
                  </a:lnTo>
                  <a:lnTo>
                    <a:pt x="1696" y="8"/>
                  </a:lnTo>
                  <a:lnTo>
                    <a:pt x="1696" y="6"/>
                  </a:lnTo>
                  <a:lnTo>
                    <a:pt x="1696" y="4"/>
                  </a:lnTo>
                  <a:lnTo>
                    <a:pt x="1697" y="2"/>
                  </a:lnTo>
                  <a:lnTo>
                    <a:pt x="1698" y="0"/>
                  </a:lnTo>
                  <a:lnTo>
                    <a:pt x="1699" y="0"/>
                  </a:lnTo>
                  <a:lnTo>
                    <a:pt x="1699" y="0"/>
                  </a:lnTo>
                  <a:close/>
                  <a:moveTo>
                    <a:pt x="1744" y="0"/>
                  </a:moveTo>
                  <a:lnTo>
                    <a:pt x="1764" y="0"/>
                  </a:lnTo>
                  <a:lnTo>
                    <a:pt x="1765" y="0"/>
                  </a:lnTo>
                  <a:lnTo>
                    <a:pt x="1766" y="2"/>
                  </a:lnTo>
                  <a:lnTo>
                    <a:pt x="1767" y="4"/>
                  </a:lnTo>
                  <a:lnTo>
                    <a:pt x="1767" y="6"/>
                  </a:lnTo>
                  <a:lnTo>
                    <a:pt x="1767" y="8"/>
                  </a:lnTo>
                  <a:lnTo>
                    <a:pt x="1766" y="10"/>
                  </a:lnTo>
                  <a:lnTo>
                    <a:pt x="1765" y="12"/>
                  </a:lnTo>
                  <a:lnTo>
                    <a:pt x="1764" y="12"/>
                  </a:lnTo>
                  <a:lnTo>
                    <a:pt x="1744" y="12"/>
                  </a:lnTo>
                  <a:lnTo>
                    <a:pt x="1743" y="12"/>
                  </a:lnTo>
                  <a:lnTo>
                    <a:pt x="1742" y="10"/>
                  </a:lnTo>
                  <a:lnTo>
                    <a:pt x="1741" y="8"/>
                  </a:lnTo>
                  <a:lnTo>
                    <a:pt x="1741" y="6"/>
                  </a:lnTo>
                  <a:lnTo>
                    <a:pt x="1741" y="4"/>
                  </a:lnTo>
                  <a:lnTo>
                    <a:pt x="1742" y="2"/>
                  </a:lnTo>
                  <a:lnTo>
                    <a:pt x="1743" y="0"/>
                  </a:lnTo>
                  <a:lnTo>
                    <a:pt x="1744" y="0"/>
                  </a:lnTo>
                  <a:lnTo>
                    <a:pt x="1744" y="0"/>
                  </a:lnTo>
                  <a:close/>
                  <a:moveTo>
                    <a:pt x="1789" y="0"/>
                  </a:moveTo>
                  <a:lnTo>
                    <a:pt x="1808" y="0"/>
                  </a:lnTo>
                  <a:lnTo>
                    <a:pt x="1809" y="0"/>
                  </a:lnTo>
                  <a:lnTo>
                    <a:pt x="1810" y="2"/>
                  </a:lnTo>
                  <a:lnTo>
                    <a:pt x="1812" y="4"/>
                  </a:lnTo>
                  <a:lnTo>
                    <a:pt x="1812" y="6"/>
                  </a:lnTo>
                  <a:lnTo>
                    <a:pt x="1812" y="8"/>
                  </a:lnTo>
                  <a:lnTo>
                    <a:pt x="1810" y="10"/>
                  </a:lnTo>
                  <a:lnTo>
                    <a:pt x="1809" y="12"/>
                  </a:lnTo>
                  <a:lnTo>
                    <a:pt x="1808" y="12"/>
                  </a:lnTo>
                  <a:lnTo>
                    <a:pt x="1789" y="12"/>
                  </a:lnTo>
                  <a:lnTo>
                    <a:pt x="1788" y="12"/>
                  </a:lnTo>
                  <a:lnTo>
                    <a:pt x="1787" y="10"/>
                  </a:lnTo>
                  <a:lnTo>
                    <a:pt x="1786" y="8"/>
                  </a:lnTo>
                  <a:lnTo>
                    <a:pt x="1786" y="6"/>
                  </a:lnTo>
                  <a:lnTo>
                    <a:pt x="1786" y="4"/>
                  </a:lnTo>
                  <a:lnTo>
                    <a:pt x="1787" y="2"/>
                  </a:lnTo>
                  <a:lnTo>
                    <a:pt x="1788" y="0"/>
                  </a:lnTo>
                  <a:lnTo>
                    <a:pt x="1789" y="0"/>
                  </a:lnTo>
                  <a:lnTo>
                    <a:pt x="1789" y="0"/>
                  </a:lnTo>
                  <a:close/>
                  <a:moveTo>
                    <a:pt x="1834" y="0"/>
                  </a:moveTo>
                  <a:lnTo>
                    <a:pt x="1852" y="0"/>
                  </a:lnTo>
                  <a:lnTo>
                    <a:pt x="1853" y="0"/>
                  </a:lnTo>
                  <a:lnTo>
                    <a:pt x="1855" y="2"/>
                  </a:lnTo>
                  <a:lnTo>
                    <a:pt x="1856" y="4"/>
                  </a:lnTo>
                  <a:lnTo>
                    <a:pt x="1856" y="6"/>
                  </a:lnTo>
                  <a:lnTo>
                    <a:pt x="1856" y="8"/>
                  </a:lnTo>
                  <a:lnTo>
                    <a:pt x="1855" y="10"/>
                  </a:lnTo>
                  <a:lnTo>
                    <a:pt x="1853" y="12"/>
                  </a:lnTo>
                  <a:lnTo>
                    <a:pt x="1852" y="12"/>
                  </a:lnTo>
                  <a:lnTo>
                    <a:pt x="1834" y="12"/>
                  </a:lnTo>
                  <a:lnTo>
                    <a:pt x="1833" y="12"/>
                  </a:lnTo>
                  <a:lnTo>
                    <a:pt x="1832" y="10"/>
                  </a:lnTo>
                  <a:lnTo>
                    <a:pt x="1831" y="8"/>
                  </a:lnTo>
                  <a:lnTo>
                    <a:pt x="1831" y="6"/>
                  </a:lnTo>
                  <a:lnTo>
                    <a:pt x="1831" y="4"/>
                  </a:lnTo>
                  <a:lnTo>
                    <a:pt x="1832" y="2"/>
                  </a:lnTo>
                  <a:lnTo>
                    <a:pt x="1833" y="0"/>
                  </a:lnTo>
                  <a:lnTo>
                    <a:pt x="1834" y="0"/>
                  </a:lnTo>
                  <a:lnTo>
                    <a:pt x="1834" y="0"/>
                  </a:lnTo>
                  <a:close/>
                  <a:moveTo>
                    <a:pt x="1878" y="0"/>
                  </a:moveTo>
                  <a:lnTo>
                    <a:pt x="1897" y="0"/>
                  </a:lnTo>
                  <a:lnTo>
                    <a:pt x="1898" y="0"/>
                  </a:lnTo>
                  <a:lnTo>
                    <a:pt x="1899" y="2"/>
                  </a:lnTo>
                  <a:lnTo>
                    <a:pt x="1900" y="4"/>
                  </a:lnTo>
                  <a:lnTo>
                    <a:pt x="1900" y="6"/>
                  </a:lnTo>
                  <a:lnTo>
                    <a:pt x="1900" y="8"/>
                  </a:lnTo>
                  <a:lnTo>
                    <a:pt x="1899" y="10"/>
                  </a:lnTo>
                  <a:lnTo>
                    <a:pt x="1898" y="12"/>
                  </a:lnTo>
                  <a:lnTo>
                    <a:pt x="1897" y="12"/>
                  </a:lnTo>
                  <a:lnTo>
                    <a:pt x="1878" y="12"/>
                  </a:lnTo>
                  <a:lnTo>
                    <a:pt x="1877" y="12"/>
                  </a:lnTo>
                  <a:lnTo>
                    <a:pt x="1876" y="10"/>
                  </a:lnTo>
                  <a:lnTo>
                    <a:pt x="1875" y="8"/>
                  </a:lnTo>
                  <a:lnTo>
                    <a:pt x="1875" y="6"/>
                  </a:lnTo>
                  <a:lnTo>
                    <a:pt x="1875" y="4"/>
                  </a:lnTo>
                  <a:lnTo>
                    <a:pt x="1876" y="2"/>
                  </a:lnTo>
                  <a:lnTo>
                    <a:pt x="1877" y="0"/>
                  </a:lnTo>
                  <a:lnTo>
                    <a:pt x="1878" y="0"/>
                  </a:lnTo>
                  <a:lnTo>
                    <a:pt x="1878" y="0"/>
                  </a:lnTo>
                  <a:close/>
                  <a:moveTo>
                    <a:pt x="1923" y="0"/>
                  </a:moveTo>
                  <a:lnTo>
                    <a:pt x="1942" y="0"/>
                  </a:lnTo>
                  <a:lnTo>
                    <a:pt x="1943" y="0"/>
                  </a:lnTo>
                  <a:lnTo>
                    <a:pt x="1944" y="2"/>
                  </a:lnTo>
                  <a:lnTo>
                    <a:pt x="1945" y="4"/>
                  </a:lnTo>
                  <a:lnTo>
                    <a:pt x="1945" y="6"/>
                  </a:lnTo>
                  <a:lnTo>
                    <a:pt x="1945" y="8"/>
                  </a:lnTo>
                  <a:lnTo>
                    <a:pt x="1944" y="10"/>
                  </a:lnTo>
                  <a:lnTo>
                    <a:pt x="1943" y="12"/>
                  </a:lnTo>
                  <a:lnTo>
                    <a:pt x="1942" y="12"/>
                  </a:lnTo>
                  <a:lnTo>
                    <a:pt x="1923" y="12"/>
                  </a:lnTo>
                  <a:lnTo>
                    <a:pt x="1922" y="12"/>
                  </a:lnTo>
                  <a:lnTo>
                    <a:pt x="1921" y="10"/>
                  </a:lnTo>
                  <a:lnTo>
                    <a:pt x="1920" y="8"/>
                  </a:lnTo>
                  <a:lnTo>
                    <a:pt x="1920" y="6"/>
                  </a:lnTo>
                  <a:lnTo>
                    <a:pt x="1920" y="4"/>
                  </a:lnTo>
                  <a:lnTo>
                    <a:pt x="1921" y="2"/>
                  </a:lnTo>
                  <a:lnTo>
                    <a:pt x="1922" y="0"/>
                  </a:lnTo>
                  <a:lnTo>
                    <a:pt x="1923" y="0"/>
                  </a:lnTo>
                  <a:lnTo>
                    <a:pt x="1923" y="0"/>
                  </a:lnTo>
                  <a:close/>
                  <a:moveTo>
                    <a:pt x="1968" y="0"/>
                  </a:moveTo>
                  <a:lnTo>
                    <a:pt x="1987" y="0"/>
                  </a:lnTo>
                  <a:lnTo>
                    <a:pt x="1988" y="0"/>
                  </a:lnTo>
                  <a:lnTo>
                    <a:pt x="1989" y="2"/>
                  </a:lnTo>
                  <a:lnTo>
                    <a:pt x="1990" y="4"/>
                  </a:lnTo>
                  <a:lnTo>
                    <a:pt x="1990" y="6"/>
                  </a:lnTo>
                  <a:lnTo>
                    <a:pt x="1990" y="8"/>
                  </a:lnTo>
                  <a:lnTo>
                    <a:pt x="1989" y="10"/>
                  </a:lnTo>
                  <a:lnTo>
                    <a:pt x="1988" y="12"/>
                  </a:lnTo>
                  <a:lnTo>
                    <a:pt x="1987" y="12"/>
                  </a:lnTo>
                  <a:lnTo>
                    <a:pt x="1968" y="12"/>
                  </a:lnTo>
                  <a:lnTo>
                    <a:pt x="1967" y="12"/>
                  </a:lnTo>
                  <a:lnTo>
                    <a:pt x="1966" y="10"/>
                  </a:lnTo>
                  <a:lnTo>
                    <a:pt x="1965" y="8"/>
                  </a:lnTo>
                  <a:lnTo>
                    <a:pt x="1965" y="6"/>
                  </a:lnTo>
                  <a:lnTo>
                    <a:pt x="1965" y="4"/>
                  </a:lnTo>
                  <a:lnTo>
                    <a:pt x="1966" y="2"/>
                  </a:lnTo>
                  <a:lnTo>
                    <a:pt x="1967" y="0"/>
                  </a:lnTo>
                  <a:lnTo>
                    <a:pt x="1968" y="0"/>
                  </a:lnTo>
                  <a:lnTo>
                    <a:pt x="1968" y="0"/>
                  </a:lnTo>
                  <a:close/>
                  <a:moveTo>
                    <a:pt x="2013" y="0"/>
                  </a:moveTo>
                  <a:lnTo>
                    <a:pt x="2031" y="0"/>
                  </a:lnTo>
                  <a:lnTo>
                    <a:pt x="2032" y="0"/>
                  </a:lnTo>
                  <a:lnTo>
                    <a:pt x="2034" y="2"/>
                  </a:lnTo>
                  <a:lnTo>
                    <a:pt x="2035" y="4"/>
                  </a:lnTo>
                  <a:lnTo>
                    <a:pt x="2035" y="6"/>
                  </a:lnTo>
                  <a:lnTo>
                    <a:pt x="2035" y="8"/>
                  </a:lnTo>
                  <a:lnTo>
                    <a:pt x="2034" y="10"/>
                  </a:lnTo>
                  <a:lnTo>
                    <a:pt x="2032" y="12"/>
                  </a:lnTo>
                  <a:lnTo>
                    <a:pt x="2031" y="12"/>
                  </a:lnTo>
                  <a:lnTo>
                    <a:pt x="2013" y="12"/>
                  </a:lnTo>
                  <a:lnTo>
                    <a:pt x="2012" y="12"/>
                  </a:lnTo>
                  <a:lnTo>
                    <a:pt x="2011" y="10"/>
                  </a:lnTo>
                  <a:lnTo>
                    <a:pt x="2009" y="8"/>
                  </a:lnTo>
                  <a:lnTo>
                    <a:pt x="2009" y="6"/>
                  </a:lnTo>
                  <a:lnTo>
                    <a:pt x="2009" y="4"/>
                  </a:lnTo>
                  <a:lnTo>
                    <a:pt x="2011" y="2"/>
                  </a:lnTo>
                  <a:lnTo>
                    <a:pt x="2012" y="0"/>
                  </a:lnTo>
                  <a:lnTo>
                    <a:pt x="2013" y="0"/>
                  </a:lnTo>
                  <a:lnTo>
                    <a:pt x="2013" y="0"/>
                  </a:lnTo>
                  <a:close/>
                  <a:moveTo>
                    <a:pt x="2056" y="0"/>
                  </a:moveTo>
                  <a:lnTo>
                    <a:pt x="2076" y="0"/>
                  </a:lnTo>
                  <a:lnTo>
                    <a:pt x="2077" y="0"/>
                  </a:lnTo>
                  <a:lnTo>
                    <a:pt x="2078" y="2"/>
                  </a:lnTo>
                  <a:lnTo>
                    <a:pt x="2079" y="4"/>
                  </a:lnTo>
                  <a:lnTo>
                    <a:pt x="2079" y="6"/>
                  </a:lnTo>
                  <a:lnTo>
                    <a:pt x="2079" y="8"/>
                  </a:lnTo>
                  <a:lnTo>
                    <a:pt x="2078" y="10"/>
                  </a:lnTo>
                  <a:lnTo>
                    <a:pt x="2077" y="12"/>
                  </a:lnTo>
                  <a:lnTo>
                    <a:pt x="2076" y="12"/>
                  </a:lnTo>
                  <a:lnTo>
                    <a:pt x="2056" y="12"/>
                  </a:lnTo>
                  <a:lnTo>
                    <a:pt x="2055" y="12"/>
                  </a:lnTo>
                  <a:lnTo>
                    <a:pt x="2054" y="10"/>
                  </a:lnTo>
                  <a:lnTo>
                    <a:pt x="2053" y="8"/>
                  </a:lnTo>
                  <a:lnTo>
                    <a:pt x="2053" y="6"/>
                  </a:lnTo>
                  <a:lnTo>
                    <a:pt x="2053" y="4"/>
                  </a:lnTo>
                  <a:lnTo>
                    <a:pt x="2054" y="2"/>
                  </a:lnTo>
                  <a:lnTo>
                    <a:pt x="2055" y="0"/>
                  </a:lnTo>
                  <a:lnTo>
                    <a:pt x="2056" y="0"/>
                  </a:lnTo>
                  <a:lnTo>
                    <a:pt x="2056" y="0"/>
                  </a:lnTo>
                  <a:close/>
                  <a:moveTo>
                    <a:pt x="2101" y="0"/>
                  </a:moveTo>
                  <a:lnTo>
                    <a:pt x="2121" y="0"/>
                  </a:lnTo>
                  <a:lnTo>
                    <a:pt x="2122" y="0"/>
                  </a:lnTo>
                  <a:lnTo>
                    <a:pt x="2123" y="2"/>
                  </a:lnTo>
                  <a:lnTo>
                    <a:pt x="2124" y="4"/>
                  </a:lnTo>
                  <a:lnTo>
                    <a:pt x="2124" y="6"/>
                  </a:lnTo>
                  <a:lnTo>
                    <a:pt x="2124" y="8"/>
                  </a:lnTo>
                  <a:lnTo>
                    <a:pt x="2123" y="10"/>
                  </a:lnTo>
                  <a:lnTo>
                    <a:pt x="2122" y="12"/>
                  </a:lnTo>
                  <a:lnTo>
                    <a:pt x="2121" y="12"/>
                  </a:lnTo>
                  <a:lnTo>
                    <a:pt x="2101" y="12"/>
                  </a:lnTo>
                  <a:lnTo>
                    <a:pt x="2100" y="12"/>
                  </a:lnTo>
                  <a:lnTo>
                    <a:pt x="2099" y="10"/>
                  </a:lnTo>
                  <a:lnTo>
                    <a:pt x="2098" y="8"/>
                  </a:lnTo>
                  <a:lnTo>
                    <a:pt x="2098" y="6"/>
                  </a:lnTo>
                  <a:lnTo>
                    <a:pt x="2098" y="4"/>
                  </a:lnTo>
                  <a:lnTo>
                    <a:pt x="2099" y="2"/>
                  </a:lnTo>
                  <a:lnTo>
                    <a:pt x="2100" y="0"/>
                  </a:lnTo>
                  <a:lnTo>
                    <a:pt x="2101" y="0"/>
                  </a:lnTo>
                  <a:lnTo>
                    <a:pt x="2101" y="0"/>
                  </a:lnTo>
                  <a:close/>
                  <a:moveTo>
                    <a:pt x="2146" y="0"/>
                  </a:moveTo>
                  <a:lnTo>
                    <a:pt x="2166" y="0"/>
                  </a:lnTo>
                  <a:lnTo>
                    <a:pt x="2167" y="0"/>
                  </a:lnTo>
                  <a:lnTo>
                    <a:pt x="2168" y="2"/>
                  </a:lnTo>
                  <a:lnTo>
                    <a:pt x="2169" y="4"/>
                  </a:lnTo>
                  <a:lnTo>
                    <a:pt x="2169" y="6"/>
                  </a:lnTo>
                  <a:lnTo>
                    <a:pt x="2169" y="8"/>
                  </a:lnTo>
                  <a:lnTo>
                    <a:pt x="2168" y="10"/>
                  </a:lnTo>
                  <a:lnTo>
                    <a:pt x="2167" y="12"/>
                  </a:lnTo>
                  <a:lnTo>
                    <a:pt x="2166" y="12"/>
                  </a:lnTo>
                  <a:lnTo>
                    <a:pt x="2146" y="12"/>
                  </a:lnTo>
                  <a:lnTo>
                    <a:pt x="2145" y="12"/>
                  </a:lnTo>
                  <a:lnTo>
                    <a:pt x="2144" y="10"/>
                  </a:lnTo>
                  <a:lnTo>
                    <a:pt x="2143" y="8"/>
                  </a:lnTo>
                  <a:lnTo>
                    <a:pt x="2143" y="6"/>
                  </a:lnTo>
                  <a:lnTo>
                    <a:pt x="2143" y="4"/>
                  </a:lnTo>
                  <a:lnTo>
                    <a:pt x="2144" y="2"/>
                  </a:lnTo>
                  <a:lnTo>
                    <a:pt x="2145" y="0"/>
                  </a:lnTo>
                  <a:lnTo>
                    <a:pt x="2146" y="0"/>
                  </a:lnTo>
                  <a:lnTo>
                    <a:pt x="2146" y="0"/>
                  </a:lnTo>
                  <a:close/>
                  <a:moveTo>
                    <a:pt x="2191" y="0"/>
                  </a:moveTo>
                  <a:lnTo>
                    <a:pt x="2210" y="0"/>
                  </a:lnTo>
                  <a:lnTo>
                    <a:pt x="2211" y="0"/>
                  </a:lnTo>
                  <a:lnTo>
                    <a:pt x="2213" y="2"/>
                  </a:lnTo>
                  <a:lnTo>
                    <a:pt x="2214" y="4"/>
                  </a:lnTo>
                  <a:lnTo>
                    <a:pt x="2214" y="6"/>
                  </a:lnTo>
                  <a:lnTo>
                    <a:pt x="2214" y="8"/>
                  </a:lnTo>
                  <a:lnTo>
                    <a:pt x="2213" y="10"/>
                  </a:lnTo>
                  <a:lnTo>
                    <a:pt x="2211" y="12"/>
                  </a:lnTo>
                  <a:lnTo>
                    <a:pt x="2210" y="12"/>
                  </a:lnTo>
                  <a:lnTo>
                    <a:pt x="2191" y="12"/>
                  </a:lnTo>
                  <a:lnTo>
                    <a:pt x="2190" y="12"/>
                  </a:lnTo>
                  <a:lnTo>
                    <a:pt x="2189" y="10"/>
                  </a:lnTo>
                  <a:lnTo>
                    <a:pt x="2188" y="8"/>
                  </a:lnTo>
                  <a:lnTo>
                    <a:pt x="2188" y="6"/>
                  </a:lnTo>
                  <a:lnTo>
                    <a:pt x="2188" y="4"/>
                  </a:lnTo>
                  <a:lnTo>
                    <a:pt x="2189" y="2"/>
                  </a:lnTo>
                  <a:lnTo>
                    <a:pt x="2190" y="0"/>
                  </a:lnTo>
                  <a:lnTo>
                    <a:pt x="2191" y="0"/>
                  </a:lnTo>
                  <a:lnTo>
                    <a:pt x="2191" y="0"/>
                  </a:lnTo>
                  <a:close/>
                  <a:moveTo>
                    <a:pt x="2235" y="0"/>
                  </a:moveTo>
                  <a:lnTo>
                    <a:pt x="2254" y="0"/>
                  </a:lnTo>
                  <a:lnTo>
                    <a:pt x="2255" y="0"/>
                  </a:lnTo>
                  <a:lnTo>
                    <a:pt x="2256" y="2"/>
                  </a:lnTo>
                  <a:lnTo>
                    <a:pt x="2257" y="4"/>
                  </a:lnTo>
                  <a:lnTo>
                    <a:pt x="2257" y="6"/>
                  </a:lnTo>
                  <a:lnTo>
                    <a:pt x="2257" y="8"/>
                  </a:lnTo>
                  <a:lnTo>
                    <a:pt x="2256" y="10"/>
                  </a:lnTo>
                  <a:lnTo>
                    <a:pt x="2255" y="12"/>
                  </a:lnTo>
                  <a:lnTo>
                    <a:pt x="2254" y="12"/>
                  </a:lnTo>
                  <a:lnTo>
                    <a:pt x="2235" y="12"/>
                  </a:lnTo>
                  <a:lnTo>
                    <a:pt x="2234" y="12"/>
                  </a:lnTo>
                  <a:lnTo>
                    <a:pt x="2233" y="10"/>
                  </a:lnTo>
                  <a:lnTo>
                    <a:pt x="2232" y="8"/>
                  </a:lnTo>
                  <a:lnTo>
                    <a:pt x="2232" y="6"/>
                  </a:lnTo>
                  <a:lnTo>
                    <a:pt x="2232" y="4"/>
                  </a:lnTo>
                  <a:lnTo>
                    <a:pt x="2233" y="2"/>
                  </a:lnTo>
                  <a:lnTo>
                    <a:pt x="2234" y="0"/>
                  </a:lnTo>
                  <a:lnTo>
                    <a:pt x="2235" y="0"/>
                  </a:lnTo>
                  <a:lnTo>
                    <a:pt x="2235" y="0"/>
                  </a:lnTo>
                  <a:close/>
                  <a:moveTo>
                    <a:pt x="2280" y="0"/>
                  </a:moveTo>
                  <a:lnTo>
                    <a:pt x="2299" y="0"/>
                  </a:lnTo>
                  <a:lnTo>
                    <a:pt x="2300" y="0"/>
                  </a:lnTo>
                  <a:lnTo>
                    <a:pt x="2301" y="2"/>
                  </a:lnTo>
                  <a:lnTo>
                    <a:pt x="2302" y="4"/>
                  </a:lnTo>
                  <a:lnTo>
                    <a:pt x="2302" y="6"/>
                  </a:lnTo>
                  <a:lnTo>
                    <a:pt x="2302" y="8"/>
                  </a:lnTo>
                  <a:lnTo>
                    <a:pt x="2301" y="10"/>
                  </a:lnTo>
                  <a:lnTo>
                    <a:pt x="2300" y="12"/>
                  </a:lnTo>
                  <a:lnTo>
                    <a:pt x="2299" y="12"/>
                  </a:lnTo>
                  <a:lnTo>
                    <a:pt x="2280" y="12"/>
                  </a:lnTo>
                  <a:lnTo>
                    <a:pt x="2279" y="12"/>
                  </a:lnTo>
                  <a:lnTo>
                    <a:pt x="2278" y="10"/>
                  </a:lnTo>
                  <a:lnTo>
                    <a:pt x="2277" y="8"/>
                  </a:lnTo>
                  <a:lnTo>
                    <a:pt x="2277" y="6"/>
                  </a:lnTo>
                  <a:lnTo>
                    <a:pt x="2277" y="4"/>
                  </a:lnTo>
                  <a:lnTo>
                    <a:pt x="2278" y="2"/>
                  </a:lnTo>
                  <a:lnTo>
                    <a:pt x="2279" y="0"/>
                  </a:lnTo>
                  <a:lnTo>
                    <a:pt x="2280" y="0"/>
                  </a:lnTo>
                  <a:lnTo>
                    <a:pt x="2280" y="0"/>
                  </a:lnTo>
                  <a:close/>
                  <a:moveTo>
                    <a:pt x="2325" y="0"/>
                  </a:moveTo>
                  <a:lnTo>
                    <a:pt x="2344" y="0"/>
                  </a:lnTo>
                  <a:lnTo>
                    <a:pt x="2345" y="0"/>
                  </a:lnTo>
                  <a:lnTo>
                    <a:pt x="2346" y="2"/>
                  </a:lnTo>
                  <a:lnTo>
                    <a:pt x="2347" y="4"/>
                  </a:lnTo>
                  <a:lnTo>
                    <a:pt x="2347" y="6"/>
                  </a:lnTo>
                  <a:lnTo>
                    <a:pt x="2347" y="8"/>
                  </a:lnTo>
                  <a:lnTo>
                    <a:pt x="2346" y="10"/>
                  </a:lnTo>
                  <a:lnTo>
                    <a:pt x="2345" y="12"/>
                  </a:lnTo>
                  <a:lnTo>
                    <a:pt x="2344" y="12"/>
                  </a:lnTo>
                  <a:lnTo>
                    <a:pt x="2325" y="12"/>
                  </a:lnTo>
                  <a:lnTo>
                    <a:pt x="2324" y="12"/>
                  </a:lnTo>
                  <a:lnTo>
                    <a:pt x="2323" y="10"/>
                  </a:lnTo>
                  <a:lnTo>
                    <a:pt x="2322" y="8"/>
                  </a:lnTo>
                  <a:lnTo>
                    <a:pt x="2322" y="6"/>
                  </a:lnTo>
                  <a:lnTo>
                    <a:pt x="2322" y="4"/>
                  </a:lnTo>
                  <a:lnTo>
                    <a:pt x="2323" y="2"/>
                  </a:lnTo>
                  <a:lnTo>
                    <a:pt x="2324" y="0"/>
                  </a:lnTo>
                  <a:lnTo>
                    <a:pt x="2325" y="0"/>
                  </a:lnTo>
                  <a:lnTo>
                    <a:pt x="2325" y="0"/>
                  </a:lnTo>
                  <a:close/>
                  <a:moveTo>
                    <a:pt x="2370" y="0"/>
                  </a:moveTo>
                  <a:lnTo>
                    <a:pt x="2388" y="0"/>
                  </a:lnTo>
                  <a:lnTo>
                    <a:pt x="2389" y="0"/>
                  </a:lnTo>
                  <a:lnTo>
                    <a:pt x="2391" y="2"/>
                  </a:lnTo>
                  <a:lnTo>
                    <a:pt x="2392" y="4"/>
                  </a:lnTo>
                  <a:lnTo>
                    <a:pt x="2392" y="6"/>
                  </a:lnTo>
                  <a:lnTo>
                    <a:pt x="2392" y="8"/>
                  </a:lnTo>
                  <a:lnTo>
                    <a:pt x="2391" y="10"/>
                  </a:lnTo>
                  <a:lnTo>
                    <a:pt x="2389" y="12"/>
                  </a:lnTo>
                  <a:lnTo>
                    <a:pt x="2388" y="12"/>
                  </a:lnTo>
                  <a:lnTo>
                    <a:pt x="2370" y="12"/>
                  </a:lnTo>
                  <a:lnTo>
                    <a:pt x="2369" y="12"/>
                  </a:lnTo>
                  <a:lnTo>
                    <a:pt x="2368" y="10"/>
                  </a:lnTo>
                  <a:lnTo>
                    <a:pt x="2367" y="8"/>
                  </a:lnTo>
                  <a:lnTo>
                    <a:pt x="2367" y="6"/>
                  </a:lnTo>
                  <a:lnTo>
                    <a:pt x="2367" y="4"/>
                  </a:lnTo>
                  <a:lnTo>
                    <a:pt x="2368" y="2"/>
                  </a:lnTo>
                  <a:lnTo>
                    <a:pt x="2369" y="0"/>
                  </a:lnTo>
                  <a:lnTo>
                    <a:pt x="2370" y="0"/>
                  </a:lnTo>
                  <a:lnTo>
                    <a:pt x="2370" y="0"/>
                  </a:lnTo>
                  <a:close/>
                  <a:moveTo>
                    <a:pt x="2414" y="0"/>
                  </a:moveTo>
                  <a:lnTo>
                    <a:pt x="2433" y="0"/>
                  </a:lnTo>
                  <a:lnTo>
                    <a:pt x="2434" y="0"/>
                  </a:lnTo>
                  <a:lnTo>
                    <a:pt x="2435" y="2"/>
                  </a:lnTo>
                  <a:lnTo>
                    <a:pt x="2436" y="4"/>
                  </a:lnTo>
                  <a:lnTo>
                    <a:pt x="2436" y="6"/>
                  </a:lnTo>
                  <a:lnTo>
                    <a:pt x="2436" y="8"/>
                  </a:lnTo>
                  <a:lnTo>
                    <a:pt x="2435" y="10"/>
                  </a:lnTo>
                  <a:lnTo>
                    <a:pt x="2434" y="12"/>
                  </a:lnTo>
                  <a:lnTo>
                    <a:pt x="2433" y="12"/>
                  </a:lnTo>
                  <a:lnTo>
                    <a:pt x="2414" y="12"/>
                  </a:lnTo>
                  <a:lnTo>
                    <a:pt x="2413" y="12"/>
                  </a:lnTo>
                  <a:lnTo>
                    <a:pt x="2412" y="10"/>
                  </a:lnTo>
                  <a:lnTo>
                    <a:pt x="2411" y="8"/>
                  </a:lnTo>
                  <a:lnTo>
                    <a:pt x="2411" y="6"/>
                  </a:lnTo>
                  <a:lnTo>
                    <a:pt x="2411" y="4"/>
                  </a:lnTo>
                  <a:lnTo>
                    <a:pt x="2412" y="2"/>
                  </a:lnTo>
                  <a:lnTo>
                    <a:pt x="2413" y="0"/>
                  </a:lnTo>
                  <a:lnTo>
                    <a:pt x="2414" y="0"/>
                  </a:lnTo>
                  <a:lnTo>
                    <a:pt x="2414" y="0"/>
                  </a:lnTo>
                  <a:close/>
                  <a:moveTo>
                    <a:pt x="2459" y="0"/>
                  </a:moveTo>
                  <a:lnTo>
                    <a:pt x="2478" y="0"/>
                  </a:lnTo>
                  <a:lnTo>
                    <a:pt x="2479" y="0"/>
                  </a:lnTo>
                  <a:lnTo>
                    <a:pt x="2480" y="2"/>
                  </a:lnTo>
                  <a:lnTo>
                    <a:pt x="2481" y="4"/>
                  </a:lnTo>
                  <a:lnTo>
                    <a:pt x="2481" y="6"/>
                  </a:lnTo>
                  <a:lnTo>
                    <a:pt x="2481" y="8"/>
                  </a:lnTo>
                  <a:lnTo>
                    <a:pt x="2480" y="10"/>
                  </a:lnTo>
                  <a:lnTo>
                    <a:pt x="2479" y="12"/>
                  </a:lnTo>
                  <a:lnTo>
                    <a:pt x="2478" y="12"/>
                  </a:lnTo>
                  <a:lnTo>
                    <a:pt x="2459" y="12"/>
                  </a:lnTo>
                  <a:lnTo>
                    <a:pt x="2458" y="12"/>
                  </a:lnTo>
                  <a:lnTo>
                    <a:pt x="2456" y="10"/>
                  </a:lnTo>
                  <a:lnTo>
                    <a:pt x="2455" y="8"/>
                  </a:lnTo>
                  <a:lnTo>
                    <a:pt x="2455" y="6"/>
                  </a:lnTo>
                  <a:lnTo>
                    <a:pt x="2455" y="4"/>
                  </a:lnTo>
                  <a:lnTo>
                    <a:pt x="2456" y="2"/>
                  </a:lnTo>
                  <a:lnTo>
                    <a:pt x="2458" y="0"/>
                  </a:lnTo>
                  <a:lnTo>
                    <a:pt x="2459" y="0"/>
                  </a:lnTo>
                  <a:lnTo>
                    <a:pt x="2459" y="0"/>
                  </a:lnTo>
                  <a:close/>
                  <a:moveTo>
                    <a:pt x="2503" y="0"/>
                  </a:moveTo>
                  <a:lnTo>
                    <a:pt x="2523" y="0"/>
                  </a:lnTo>
                  <a:lnTo>
                    <a:pt x="2524" y="0"/>
                  </a:lnTo>
                  <a:lnTo>
                    <a:pt x="2525" y="2"/>
                  </a:lnTo>
                  <a:lnTo>
                    <a:pt x="2526" y="4"/>
                  </a:lnTo>
                  <a:lnTo>
                    <a:pt x="2526" y="6"/>
                  </a:lnTo>
                  <a:lnTo>
                    <a:pt x="2526" y="8"/>
                  </a:lnTo>
                  <a:lnTo>
                    <a:pt x="2525" y="10"/>
                  </a:lnTo>
                  <a:lnTo>
                    <a:pt x="2524" y="12"/>
                  </a:lnTo>
                  <a:lnTo>
                    <a:pt x="2523" y="12"/>
                  </a:lnTo>
                  <a:lnTo>
                    <a:pt x="2503" y="12"/>
                  </a:lnTo>
                  <a:lnTo>
                    <a:pt x="2502" y="12"/>
                  </a:lnTo>
                  <a:lnTo>
                    <a:pt x="2501" y="10"/>
                  </a:lnTo>
                  <a:lnTo>
                    <a:pt x="2500" y="8"/>
                  </a:lnTo>
                  <a:lnTo>
                    <a:pt x="2500" y="6"/>
                  </a:lnTo>
                  <a:lnTo>
                    <a:pt x="2500" y="4"/>
                  </a:lnTo>
                  <a:lnTo>
                    <a:pt x="2501" y="2"/>
                  </a:lnTo>
                  <a:lnTo>
                    <a:pt x="2502" y="0"/>
                  </a:lnTo>
                  <a:lnTo>
                    <a:pt x="2503" y="0"/>
                  </a:lnTo>
                  <a:lnTo>
                    <a:pt x="2503" y="0"/>
                  </a:lnTo>
                  <a:close/>
                  <a:moveTo>
                    <a:pt x="2548" y="0"/>
                  </a:moveTo>
                  <a:lnTo>
                    <a:pt x="2567" y="0"/>
                  </a:lnTo>
                  <a:lnTo>
                    <a:pt x="2568" y="0"/>
                  </a:lnTo>
                  <a:lnTo>
                    <a:pt x="2570" y="2"/>
                  </a:lnTo>
                  <a:lnTo>
                    <a:pt x="2571" y="4"/>
                  </a:lnTo>
                  <a:lnTo>
                    <a:pt x="2571" y="6"/>
                  </a:lnTo>
                  <a:lnTo>
                    <a:pt x="2571" y="8"/>
                  </a:lnTo>
                  <a:lnTo>
                    <a:pt x="2570" y="10"/>
                  </a:lnTo>
                  <a:lnTo>
                    <a:pt x="2568" y="12"/>
                  </a:lnTo>
                  <a:lnTo>
                    <a:pt x="2567" y="12"/>
                  </a:lnTo>
                  <a:lnTo>
                    <a:pt x="2548" y="12"/>
                  </a:lnTo>
                  <a:lnTo>
                    <a:pt x="2547" y="12"/>
                  </a:lnTo>
                  <a:lnTo>
                    <a:pt x="2546" y="10"/>
                  </a:lnTo>
                  <a:lnTo>
                    <a:pt x="2545" y="8"/>
                  </a:lnTo>
                  <a:lnTo>
                    <a:pt x="2545" y="6"/>
                  </a:lnTo>
                  <a:lnTo>
                    <a:pt x="2545" y="4"/>
                  </a:lnTo>
                  <a:lnTo>
                    <a:pt x="2546" y="2"/>
                  </a:lnTo>
                  <a:lnTo>
                    <a:pt x="2547" y="0"/>
                  </a:lnTo>
                  <a:lnTo>
                    <a:pt x="2548" y="0"/>
                  </a:lnTo>
                  <a:lnTo>
                    <a:pt x="2548" y="0"/>
                  </a:lnTo>
                  <a:close/>
                  <a:moveTo>
                    <a:pt x="2592" y="0"/>
                  </a:moveTo>
                  <a:lnTo>
                    <a:pt x="2612" y="0"/>
                  </a:lnTo>
                  <a:lnTo>
                    <a:pt x="2613" y="0"/>
                  </a:lnTo>
                  <a:lnTo>
                    <a:pt x="2614" y="2"/>
                  </a:lnTo>
                  <a:lnTo>
                    <a:pt x="2615" y="4"/>
                  </a:lnTo>
                  <a:lnTo>
                    <a:pt x="2615" y="6"/>
                  </a:lnTo>
                  <a:lnTo>
                    <a:pt x="2615" y="8"/>
                  </a:lnTo>
                  <a:lnTo>
                    <a:pt x="2614" y="10"/>
                  </a:lnTo>
                  <a:lnTo>
                    <a:pt x="2613" y="12"/>
                  </a:lnTo>
                  <a:lnTo>
                    <a:pt x="2612" y="12"/>
                  </a:lnTo>
                  <a:lnTo>
                    <a:pt x="2592" y="12"/>
                  </a:lnTo>
                  <a:lnTo>
                    <a:pt x="2591" y="12"/>
                  </a:lnTo>
                  <a:lnTo>
                    <a:pt x="2590" y="10"/>
                  </a:lnTo>
                  <a:lnTo>
                    <a:pt x="2589" y="8"/>
                  </a:lnTo>
                  <a:lnTo>
                    <a:pt x="2589" y="6"/>
                  </a:lnTo>
                  <a:lnTo>
                    <a:pt x="2589" y="4"/>
                  </a:lnTo>
                  <a:lnTo>
                    <a:pt x="2590" y="2"/>
                  </a:lnTo>
                  <a:lnTo>
                    <a:pt x="2591" y="0"/>
                  </a:lnTo>
                  <a:lnTo>
                    <a:pt x="2592" y="0"/>
                  </a:lnTo>
                  <a:lnTo>
                    <a:pt x="2592" y="0"/>
                  </a:lnTo>
                  <a:close/>
                  <a:moveTo>
                    <a:pt x="2637" y="0"/>
                  </a:moveTo>
                  <a:lnTo>
                    <a:pt x="2657" y="0"/>
                  </a:lnTo>
                  <a:lnTo>
                    <a:pt x="2658" y="0"/>
                  </a:lnTo>
                  <a:lnTo>
                    <a:pt x="2659" y="2"/>
                  </a:lnTo>
                  <a:lnTo>
                    <a:pt x="2660" y="4"/>
                  </a:lnTo>
                  <a:lnTo>
                    <a:pt x="2660" y="6"/>
                  </a:lnTo>
                  <a:lnTo>
                    <a:pt x="2660" y="8"/>
                  </a:lnTo>
                  <a:lnTo>
                    <a:pt x="2659" y="10"/>
                  </a:lnTo>
                  <a:lnTo>
                    <a:pt x="2658" y="12"/>
                  </a:lnTo>
                  <a:lnTo>
                    <a:pt x="2657" y="12"/>
                  </a:lnTo>
                  <a:lnTo>
                    <a:pt x="2637" y="12"/>
                  </a:lnTo>
                  <a:lnTo>
                    <a:pt x="2636" y="12"/>
                  </a:lnTo>
                  <a:lnTo>
                    <a:pt x="2635" y="10"/>
                  </a:lnTo>
                  <a:lnTo>
                    <a:pt x="2634" y="8"/>
                  </a:lnTo>
                  <a:lnTo>
                    <a:pt x="2634" y="6"/>
                  </a:lnTo>
                  <a:lnTo>
                    <a:pt x="2634" y="4"/>
                  </a:lnTo>
                  <a:lnTo>
                    <a:pt x="2635" y="2"/>
                  </a:lnTo>
                  <a:lnTo>
                    <a:pt x="2636" y="0"/>
                  </a:lnTo>
                  <a:lnTo>
                    <a:pt x="2637" y="0"/>
                  </a:lnTo>
                  <a:lnTo>
                    <a:pt x="2637" y="0"/>
                  </a:lnTo>
                  <a:close/>
                  <a:moveTo>
                    <a:pt x="2682" y="0"/>
                  </a:moveTo>
                  <a:lnTo>
                    <a:pt x="2701" y="0"/>
                  </a:lnTo>
                  <a:lnTo>
                    <a:pt x="2702" y="0"/>
                  </a:lnTo>
                  <a:lnTo>
                    <a:pt x="2703" y="2"/>
                  </a:lnTo>
                  <a:lnTo>
                    <a:pt x="2704" y="4"/>
                  </a:lnTo>
                  <a:lnTo>
                    <a:pt x="2704" y="6"/>
                  </a:lnTo>
                  <a:lnTo>
                    <a:pt x="2704" y="8"/>
                  </a:lnTo>
                  <a:lnTo>
                    <a:pt x="2703" y="10"/>
                  </a:lnTo>
                  <a:lnTo>
                    <a:pt x="2702" y="12"/>
                  </a:lnTo>
                  <a:lnTo>
                    <a:pt x="2701" y="12"/>
                  </a:lnTo>
                  <a:lnTo>
                    <a:pt x="2682" y="12"/>
                  </a:lnTo>
                  <a:lnTo>
                    <a:pt x="2681" y="12"/>
                  </a:lnTo>
                  <a:lnTo>
                    <a:pt x="2680" y="10"/>
                  </a:lnTo>
                  <a:lnTo>
                    <a:pt x="2679" y="8"/>
                  </a:lnTo>
                  <a:lnTo>
                    <a:pt x="2679" y="6"/>
                  </a:lnTo>
                  <a:lnTo>
                    <a:pt x="2679" y="4"/>
                  </a:lnTo>
                  <a:lnTo>
                    <a:pt x="2680" y="2"/>
                  </a:lnTo>
                  <a:lnTo>
                    <a:pt x="2681" y="0"/>
                  </a:lnTo>
                  <a:lnTo>
                    <a:pt x="2682" y="0"/>
                  </a:lnTo>
                  <a:lnTo>
                    <a:pt x="2682" y="0"/>
                  </a:lnTo>
                  <a:close/>
                  <a:moveTo>
                    <a:pt x="2727" y="0"/>
                  </a:moveTo>
                  <a:lnTo>
                    <a:pt x="2745" y="0"/>
                  </a:lnTo>
                  <a:lnTo>
                    <a:pt x="2746" y="0"/>
                  </a:lnTo>
                  <a:lnTo>
                    <a:pt x="2748" y="2"/>
                  </a:lnTo>
                  <a:lnTo>
                    <a:pt x="2749" y="4"/>
                  </a:lnTo>
                  <a:lnTo>
                    <a:pt x="2749" y="6"/>
                  </a:lnTo>
                  <a:lnTo>
                    <a:pt x="2749" y="8"/>
                  </a:lnTo>
                  <a:lnTo>
                    <a:pt x="2748" y="10"/>
                  </a:lnTo>
                  <a:lnTo>
                    <a:pt x="2746" y="12"/>
                  </a:lnTo>
                  <a:lnTo>
                    <a:pt x="2745" y="12"/>
                  </a:lnTo>
                  <a:lnTo>
                    <a:pt x="2727" y="12"/>
                  </a:lnTo>
                  <a:lnTo>
                    <a:pt x="2726" y="12"/>
                  </a:lnTo>
                  <a:lnTo>
                    <a:pt x="2725" y="10"/>
                  </a:lnTo>
                  <a:lnTo>
                    <a:pt x="2724" y="8"/>
                  </a:lnTo>
                  <a:lnTo>
                    <a:pt x="2724" y="6"/>
                  </a:lnTo>
                  <a:lnTo>
                    <a:pt x="2724" y="4"/>
                  </a:lnTo>
                  <a:lnTo>
                    <a:pt x="2725" y="2"/>
                  </a:lnTo>
                  <a:lnTo>
                    <a:pt x="2726" y="0"/>
                  </a:lnTo>
                  <a:lnTo>
                    <a:pt x="2727" y="0"/>
                  </a:lnTo>
                  <a:lnTo>
                    <a:pt x="2727" y="0"/>
                  </a:lnTo>
                  <a:close/>
                  <a:moveTo>
                    <a:pt x="2771" y="0"/>
                  </a:moveTo>
                  <a:lnTo>
                    <a:pt x="2790" y="0"/>
                  </a:lnTo>
                  <a:lnTo>
                    <a:pt x="2791" y="0"/>
                  </a:lnTo>
                  <a:lnTo>
                    <a:pt x="2792" y="2"/>
                  </a:lnTo>
                  <a:lnTo>
                    <a:pt x="2793" y="4"/>
                  </a:lnTo>
                  <a:lnTo>
                    <a:pt x="2793" y="6"/>
                  </a:lnTo>
                  <a:lnTo>
                    <a:pt x="2793" y="8"/>
                  </a:lnTo>
                  <a:lnTo>
                    <a:pt x="2792" y="10"/>
                  </a:lnTo>
                  <a:lnTo>
                    <a:pt x="2791" y="12"/>
                  </a:lnTo>
                  <a:lnTo>
                    <a:pt x="2790" y="12"/>
                  </a:lnTo>
                  <a:lnTo>
                    <a:pt x="2771" y="12"/>
                  </a:lnTo>
                  <a:lnTo>
                    <a:pt x="2770" y="12"/>
                  </a:lnTo>
                  <a:lnTo>
                    <a:pt x="2769" y="10"/>
                  </a:lnTo>
                  <a:lnTo>
                    <a:pt x="2768" y="8"/>
                  </a:lnTo>
                  <a:lnTo>
                    <a:pt x="2768" y="6"/>
                  </a:lnTo>
                  <a:lnTo>
                    <a:pt x="2768" y="4"/>
                  </a:lnTo>
                  <a:lnTo>
                    <a:pt x="2769" y="2"/>
                  </a:lnTo>
                  <a:lnTo>
                    <a:pt x="2770" y="0"/>
                  </a:lnTo>
                  <a:lnTo>
                    <a:pt x="2771" y="0"/>
                  </a:lnTo>
                  <a:lnTo>
                    <a:pt x="2771" y="0"/>
                  </a:lnTo>
                  <a:close/>
                  <a:moveTo>
                    <a:pt x="2816" y="0"/>
                  </a:moveTo>
                  <a:lnTo>
                    <a:pt x="2835" y="0"/>
                  </a:lnTo>
                  <a:lnTo>
                    <a:pt x="2836" y="0"/>
                  </a:lnTo>
                  <a:lnTo>
                    <a:pt x="2837" y="2"/>
                  </a:lnTo>
                  <a:lnTo>
                    <a:pt x="2838" y="4"/>
                  </a:lnTo>
                  <a:lnTo>
                    <a:pt x="2838" y="6"/>
                  </a:lnTo>
                  <a:lnTo>
                    <a:pt x="2838" y="8"/>
                  </a:lnTo>
                  <a:lnTo>
                    <a:pt x="2837" y="10"/>
                  </a:lnTo>
                  <a:lnTo>
                    <a:pt x="2836" y="12"/>
                  </a:lnTo>
                  <a:lnTo>
                    <a:pt x="2835" y="12"/>
                  </a:lnTo>
                  <a:lnTo>
                    <a:pt x="2816" y="12"/>
                  </a:lnTo>
                  <a:lnTo>
                    <a:pt x="2815" y="12"/>
                  </a:lnTo>
                  <a:lnTo>
                    <a:pt x="2814" y="10"/>
                  </a:lnTo>
                  <a:lnTo>
                    <a:pt x="2813" y="8"/>
                  </a:lnTo>
                  <a:lnTo>
                    <a:pt x="2813" y="6"/>
                  </a:lnTo>
                  <a:lnTo>
                    <a:pt x="2813" y="4"/>
                  </a:lnTo>
                  <a:lnTo>
                    <a:pt x="2814" y="2"/>
                  </a:lnTo>
                  <a:lnTo>
                    <a:pt x="2815" y="0"/>
                  </a:lnTo>
                  <a:lnTo>
                    <a:pt x="2816" y="0"/>
                  </a:lnTo>
                  <a:lnTo>
                    <a:pt x="2816" y="0"/>
                  </a:lnTo>
                  <a:close/>
                  <a:moveTo>
                    <a:pt x="2861" y="0"/>
                  </a:moveTo>
                  <a:lnTo>
                    <a:pt x="2880" y="0"/>
                  </a:lnTo>
                  <a:lnTo>
                    <a:pt x="2881" y="0"/>
                  </a:lnTo>
                  <a:lnTo>
                    <a:pt x="2882" y="2"/>
                  </a:lnTo>
                  <a:lnTo>
                    <a:pt x="2883" y="4"/>
                  </a:lnTo>
                  <a:lnTo>
                    <a:pt x="2883" y="6"/>
                  </a:lnTo>
                  <a:lnTo>
                    <a:pt x="2883" y="8"/>
                  </a:lnTo>
                  <a:lnTo>
                    <a:pt x="2882" y="10"/>
                  </a:lnTo>
                  <a:lnTo>
                    <a:pt x="2881" y="12"/>
                  </a:lnTo>
                  <a:lnTo>
                    <a:pt x="2880" y="12"/>
                  </a:lnTo>
                  <a:lnTo>
                    <a:pt x="2861" y="12"/>
                  </a:lnTo>
                  <a:lnTo>
                    <a:pt x="2860" y="12"/>
                  </a:lnTo>
                  <a:lnTo>
                    <a:pt x="2859" y="10"/>
                  </a:lnTo>
                  <a:lnTo>
                    <a:pt x="2858" y="8"/>
                  </a:lnTo>
                  <a:lnTo>
                    <a:pt x="2858" y="6"/>
                  </a:lnTo>
                  <a:lnTo>
                    <a:pt x="2858" y="4"/>
                  </a:lnTo>
                  <a:lnTo>
                    <a:pt x="2859" y="2"/>
                  </a:lnTo>
                  <a:lnTo>
                    <a:pt x="2860" y="0"/>
                  </a:lnTo>
                  <a:lnTo>
                    <a:pt x="2861" y="0"/>
                  </a:lnTo>
                  <a:lnTo>
                    <a:pt x="2861" y="0"/>
                  </a:lnTo>
                  <a:close/>
                  <a:moveTo>
                    <a:pt x="2906" y="0"/>
                  </a:moveTo>
                  <a:lnTo>
                    <a:pt x="2924" y="0"/>
                  </a:lnTo>
                  <a:lnTo>
                    <a:pt x="2925" y="0"/>
                  </a:lnTo>
                  <a:lnTo>
                    <a:pt x="2927" y="2"/>
                  </a:lnTo>
                  <a:lnTo>
                    <a:pt x="2928" y="4"/>
                  </a:lnTo>
                  <a:lnTo>
                    <a:pt x="2928" y="6"/>
                  </a:lnTo>
                  <a:lnTo>
                    <a:pt x="2928" y="8"/>
                  </a:lnTo>
                  <a:lnTo>
                    <a:pt x="2927" y="10"/>
                  </a:lnTo>
                  <a:lnTo>
                    <a:pt x="2925" y="12"/>
                  </a:lnTo>
                  <a:lnTo>
                    <a:pt x="2924" y="12"/>
                  </a:lnTo>
                  <a:lnTo>
                    <a:pt x="2906" y="12"/>
                  </a:lnTo>
                  <a:lnTo>
                    <a:pt x="2905" y="12"/>
                  </a:lnTo>
                  <a:lnTo>
                    <a:pt x="2903" y="10"/>
                  </a:lnTo>
                  <a:lnTo>
                    <a:pt x="2902" y="8"/>
                  </a:lnTo>
                  <a:lnTo>
                    <a:pt x="2902" y="6"/>
                  </a:lnTo>
                  <a:lnTo>
                    <a:pt x="2902" y="4"/>
                  </a:lnTo>
                  <a:lnTo>
                    <a:pt x="2903" y="2"/>
                  </a:lnTo>
                  <a:lnTo>
                    <a:pt x="2905" y="0"/>
                  </a:lnTo>
                  <a:lnTo>
                    <a:pt x="2906" y="0"/>
                  </a:lnTo>
                  <a:lnTo>
                    <a:pt x="2906" y="0"/>
                  </a:lnTo>
                  <a:close/>
                  <a:moveTo>
                    <a:pt x="2949" y="0"/>
                  </a:moveTo>
                  <a:lnTo>
                    <a:pt x="2969" y="0"/>
                  </a:lnTo>
                  <a:lnTo>
                    <a:pt x="2970" y="0"/>
                  </a:lnTo>
                  <a:lnTo>
                    <a:pt x="2971" y="2"/>
                  </a:lnTo>
                  <a:lnTo>
                    <a:pt x="2972" y="4"/>
                  </a:lnTo>
                  <a:lnTo>
                    <a:pt x="2972" y="6"/>
                  </a:lnTo>
                  <a:lnTo>
                    <a:pt x="2972" y="8"/>
                  </a:lnTo>
                  <a:lnTo>
                    <a:pt x="2971" y="10"/>
                  </a:lnTo>
                  <a:lnTo>
                    <a:pt x="2970" y="12"/>
                  </a:lnTo>
                  <a:lnTo>
                    <a:pt x="2969" y="12"/>
                  </a:lnTo>
                  <a:lnTo>
                    <a:pt x="2949" y="12"/>
                  </a:lnTo>
                  <a:lnTo>
                    <a:pt x="2948" y="12"/>
                  </a:lnTo>
                  <a:lnTo>
                    <a:pt x="2947" y="10"/>
                  </a:lnTo>
                  <a:lnTo>
                    <a:pt x="2946" y="8"/>
                  </a:lnTo>
                  <a:lnTo>
                    <a:pt x="2946" y="6"/>
                  </a:lnTo>
                  <a:lnTo>
                    <a:pt x="2946" y="4"/>
                  </a:lnTo>
                  <a:lnTo>
                    <a:pt x="2947" y="2"/>
                  </a:lnTo>
                  <a:lnTo>
                    <a:pt x="2948" y="0"/>
                  </a:lnTo>
                  <a:lnTo>
                    <a:pt x="2949" y="0"/>
                  </a:lnTo>
                  <a:lnTo>
                    <a:pt x="2949" y="0"/>
                  </a:lnTo>
                  <a:close/>
                  <a:moveTo>
                    <a:pt x="2994" y="0"/>
                  </a:moveTo>
                  <a:lnTo>
                    <a:pt x="3014" y="0"/>
                  </a:lnTo>
                  <a:lnTo>
                    <a:pt x="3015" y="0"/>
                  </a:lnTo>
                  <a:lnTo>
                    <a:pt x="3016" y="2"/>
                  </a:lnTo>
                  <a:lnTo>
                    <a:pt x="3017" y="4"/>
                  </a:lnTo>
                  <a:lnTo>
                    <a:pt x="3017" y="6"/>
                  </a:lnTo>
                  <a:lnTo>
                    <a:pt x="3017" y="8"/>
                  </a:lnTo>
                  <a:lnTo>
                    <a:pt x="3016" y="10"/>
                  </a:lnTo>
                  <a:lnTo>
                    <a:pt x="3015" y="12"/>
                  </a:lnTo>
                  <a:lnTo>
                    <a:pt x="3014" y="12"/>
                  </a:lnTo>
                  <a:lnTo>
                    <a:pt x="2994" y="12"/>
                  </a:lnTo>
                  <a:lnTo>
                    <a:pt x="2993" y="12"/>
                  </a:lnTo>
                  <a:lnTo>
                    <a:pt x="2992" y="10"/>
                  </a:lnTo>
                  <a:lnTo>
                    <a:pt x="2991" y="8"/>
                  </a:lnTo>
                  <a:lnTo>
                    <a:pt x="2991" y="6"/>
                  </a:lnTo>
                  <a:lnTo>
                    <a:pt x="2991" y="4"/>
                  </a:lnTo>
                  <a:lnTo>
                    <a:pt x="2992" y="2"/>
                  </a:lnTo>
                  <a:lnTo>
                    <a:pt x="2993" y="0"/>
                  </a:lnTo>
                  <a:lnTo>
                    <a:pt x="2994" y="0"/>
                  </a:lnTo>
                  <a:lnTo>
                    <a:pt x="2994" y="0"/>
                  </a:lnTo>
                  <a:close/>
                  <a:moveTo>
                    <a:pt x="3039" y="0"/>
                  </a:moveTo>
                  <a:lnTo>
                    <a:pt x="3059" y="0"/>
                  </a:lnTo>
                  <a:lnTo>
                    <a:pt x="3060" y="0"/>
                  </a:lnTo>
                  <a:lnTo>
                    <a:pt x="3061" y="2"/>
                  </a:lnTo>
                  <a:lnTo>
                    <a:pt x="3062" y="4"/>
                  </a:lnTo>
                  <a:lnTo>
                    <a:pt x="3062" y="6"/>
                  </a:lnTo>
                  <a:lnTo>
                    <a:pt x="3062" y="8"/>
                  </a:lnTo>
                  <a:lnTo>
                    <a:pt x="3061" y="10"/>
                  </a:lnTo>
                  <a:lnTo>
                    <a:pt x="3060" y="12"/>
                  </a:lnTo>
                  <a:lnTo>
                    <a:pt x="3059" y="12"/>
                  </a:lnTo>
                  <a:lnTo>
                    <a:pt x="3039" y="12"/>
                  </a:lnTo>
                  <a:lnTo>
                    <a:pt x="3038" y="12"/>
                  </a:lnTo>
                  <a:lnTo>
                    <a:pt x="3037" y="10"/>
                  </a:lnTo>
                  <a:lnTo>
                    <a:pt x="3036" y="8"/>
                  </a:lnTo>
                  <a:lnTo>
                    <a:pt x="3036" y="6"/>
                  </a:lnTo>
                  <a:lnTo>
                    <a:pt x="3036" y="4"/>
                  </a:lnTo>
                  <a:lnTo>
                    <a:pt x="3037" y="2"/>
                  </a:lnTo>
                  <a:lnTo>
                    <a:pt x="3038" y="0"/>
                  </a:lnTo>
                  <a:lnTo>
                    <a:pt x="3039" y="0"/>
                  </a:lnTo>
                  <a:lnTo>
                    <a:pt x="3039" y="0"/>
                  </a:lnTo>
                  <a:close/>
                  <a:moveTo>
                    <a:pt x="3084" y="0"/>
                  </a:moveTo>
                  <a:lnTo>
                    <a:pt x="3102" y="0"/>
                  </a:lnTo>
                  <a:lnTo>
                    <a:pt x="3104" y="0"/>
                  </a:lnTo>
                  <a:lnTo>
                    <a:pt x="3106" y="2"/>
                  </a:lnTo>
                  <a:lnTo>
                    <a:pt x="3107" y="4"/>
                  </a:lnTo>
                  <a:lnTo>
                    <a:pt x="3107" y="6"/>
                  </a:lnTo>
                  <a:lnTo>
                    <a:pt x="3107" y="8"/>
                  </a:lnTo>
                  <a:lnTo>
                    <a:pt x="3106" y="10"/>
                  </a:lnTo>
                  <a:lnTo>
                    <a:pt x="3104" y="12"/>
                  </a:lnTo>
                  <a:lnTo>
                    <a:pt x="3102" y="12"/>
                  </a:lnTo>
                  <a:lnTo>
                    <a:pt x="3084" y="12"/>
                  </a:lnTo>
                  <a:lnTo>
                    <a:pt x="3083" y="12"/>
                  </a:lnTo>
                  <a:lnTo>
                    <a:pt x="3082" y="10"/>
                  </a:lnTo>
                  <a:lnTo>
                    <a:pt x="3081" y="8"/>
                  </a:lnTo>
                  <a:lnTo>
                    <a:pt x="3081" y="6"/>
                  </a:lnTo>
                  <a:lnTo>
                    <a:pt x="3081" y="4"/>
                  </a:lnTo>
                  <a:lnTo>
                    <a:pt x="3082" y="2"/>
                  </a:lnTo>
                  <a:lnTo>
                    <a:pt x="3083" y="0"/>
                  </a:lnTo>
                  <a:lnTo>
                    <a:pt x="3084" y="0"/>
                  </a:lnTo>
                  <a:lnTo>
                    <a:pt x="3084" y="0"/>
                  </a:lnTo>
                  <a:close/>
                  <a:moveTo>
                    <a:pt x="3128" y="0"/>
                  </a:moveTo>
                  <a:lnTo>
                    <a:pt x="3147" y="0"/>
                  </a:lnTo>
                  <a:lnTo>
                    <a:pt x="3148" y="0"/>
                  </a:lnTo>
                  <a:lnTo>
                    <a:pt x="3149" y="2"/>
                  </a:lnTo>
                  <a:lnTo>
                    <a:pt x="3150" y="4"/>
                  </a:lnTo>
                  <a:lnTo>
                    <a:pt x="3150" y="6"/>
                  </a:lnTo>
                  <a:lnTo>
                    <a:pt x="3150" y="8"/>
                  </a:lnTo>
                  <a:lnTo>
                    <a:pt x="3149" y="10"/>
                  </a:lnTo>
                  <a:lnTo>
                    <a:pt x="3148" y="12"/>
                  </a:lnTo>
                  <a:lnTo>
                    <a:pt x="3147" y="12"/>
                  </a:lnTo>
                  <a:lnTo>
                    <a:pt x="3128" y="12"/>
                  </a:lnTo>
                  <a:lnTo>
                    <a:pt x="3127" y="12"/>
                  </a:lnTo>
                  <a:lnTo>
                    <a:pt x="3126" y="10"/>
                  </a:lnTo>
                  <a:lnTo>
                    <a:pt x="3125" y="8"/>
                  </a:lnTo>
                  <a:lnTo>
                    <a:pt x="3125" y="6"/>
                  </a:lnTo>
                  <a:lnTo>
                    <a:pt x="3125" y="4"/>
                  </a:lnTo>
                  <a:lnTo>
                    <a:pt x="3126" y="2"/>
                  </a:lnTo>
                  <a:lnTo>
                    <a:pt x="3127" y="0"/>
                  </a:lnTo>
                  <a:lnTo>
                    <a:pt x="3128" y="0"/>
                  </a:lnTo>
                  <a:lnTo>
                    <a:pt x="3128" y="0"/>
                  </a:lnTo>
                  <a:close/>
                  <a:moveTo>
                    <a:pt x="3173" y="0"/>
                  </a:moveTo>
                  <a:lnTo>
                    <a:pt x="3192" y="0"/>
                  </a:lnTo>
                  <a:lnTo>
                    <a:pt x="3193" y="0"/>
                  </a:lnTo>
                  <a:lnTo>
                    <a:pt x="3194" y="2"/>
                  </a:lnTo>
                  <a:lnTo>
                    <a:pt x="3195" y="4"/>
                  </a:lnTo>
                  <a:lnTo>
                    <a:pt x="3195" y="6"/>
                  </a:lnTo>
                  <a:lnTo>
                    <a:pt x="3195" y="8"/>
                  </a:lnTo>
                  <a:lnTo>
                    <a:pt x="3194" y="10"/>
                  </a:lnTo>
                  <a:lnTo>
                    <a:pt x="3193" y="12"/>
                  </a:lnTo>
                  <a:lnTo>
                    <a:pt x="3192" y="12"/>
                  </a:lnTo>
                  <a:lnTo>
                    <a:pt x="3173" y="12"/>
                  </a:lnTo>
                  <a:lnTo>
                    <a:pt x="3172" y="12"/>
                  </a:lnTo>
                  <a:lnTo>
                    <a:pt x="3171" y="10"/>
                  </a:lnTo>
                  <a:lnTo>
                    <a:pt x="3170" y="8"/>
                  </a:lnTo>
                  <a:lnTo>
                    <a:pt x="3170" y="6"/>
                  </a:lnTo>
                  <a:lnTo>
                    <a:pt x="3170" y="4"/>
                  </a:lnTo>
                  <a:lnTo>
                    <a:pt x="3171" y="2"/>
                  </a:lnTo>
                  <a:lnTo>
                    <a:pt x="3172" y="0"/>
                  </a:lnTo>
                  <a:lnTo>
                    <a:pt x="3173" y="0"/>
                  </a:lnTo>
                  <a:lnTo>
                    <a:pt x="3173" y="0"/>
                  </a:lnTo>
                  <a:close/>
                  <a:moveTo>
                    <a:pt x="3218" y="0"/>
                  </a:moveTo>
                  <a:lnTo>
                    <a:pt x="3237" y="0"/>
                  </a:lnTo>
                  <a:lnTo>
                    <a:pt x="3238" y="0"/>
                  </a:lnTo>
                  <a:lnTo>
                    <a:pt x="3239" y="2"/>
                  </a:lnTo>
                  <a:lnTo>
                    <a:pt x="3240" y="4"/>
                  </a:lnTo>
                  <a:lnTo>
                    <a:pt x="3240" y="6"/>
                  </a:lnTo>
                  <a:lnTo>
                    <a:pt x="3240" y="8"/>
                  </a:lnTo>
                  <a:lnTo>
                    <a:pt x="3239" y="10"/>
                  </a:lnTo>
                  <a:lnTo>
                    <a:pt x="3238" y="12"/>
                  </a:lnTo>
                  <a:lnTo>
                    <a:pt x="3237" y="12"/>
                  </a:lnTo>
                  <a:lnTo>
                    <a:pt x="3218" y="12"/>
                  </a:lnTo>
                  <a:lnTo>
                    <a:pt x="3217" y="12"/>
                  </a:lnTo>
                  <a:lnTo>
                    <a:pt x="3216" y="10"/>
                  </a:lnTo>
                  <a:lnTo>
                    <a:pt x="3215" y="8"/>
                  </a:lnTo>
                  <a:lnTo>
                    <a:pt x="3215" y="6"/>
                  </a:lnTo>
                  <a:lnTo>
                    <a:pt x="3215" y="4"/>
                  </a:lnTo>
                  <a:lnTo>
                    <a:pt x="3216" y="2"/>
                  </a:lnTo>
                  <a:lnTo>
                    <a:pt x="3217" y="0"/>
                  </a:lnTo>
                  <a:lnTo>
                    <a:pt x="3218" y="0"/>
                  </a:lnTo>
                  <a:lnTo>
                    <a:pt x="3218" y="0"/>
                  </a:lnTo>
                  <a:close/>
                  <a:moveTo>
                    <a:pt x="3263" y="0"/>
                  </a:moveTo>
                  <a:lnTo>
                    <a:pt x="3281" y="0"/>
                  </a:lnTo>
                  <a:lnTo>
                    <a:pt x="3282" y="0"/>
                  </a:lnTo>
                  <a:lnTo>
                    <a:pt x="3284" y="2"/>
                  </a:lnTo>
                  <a:lnTo>
                    <a:pt x="3285" y="4"/>
                  </a:lnTo>
                  <a:lnTo>
                    <a:pt x="3285" y="6"/>
                  </a:lnTo>
                  <a:lnTo>
                    <a:pt x="3285" y="8"/>
                  </a:lnTo>
                  <a:lnTo>
                    <a:pt x="3284" y="10"/>
                  </a:lnTo>
                  <a:lnTo>
                    <a:pt x="3282" y="12"/>
                  </a:lnTo>
                  <a:lnTo>
                    <a:pt x="3281" y="12"/>
                  </a:lnTo>
                  <a:lnTo>
                    <a:pt x="3263" y="12"/>
                  </a:lnTo>
                  <a:lnTo>
                    <a:pt x="3262" y="12"/>
                  </a:lnTo>
                  <a:lnTo>
                    <a:pt x="3261" y="10"/>
                  </a:lnTo>
                  <a:lnTo>
                    <a:pt x="3260" y="8"/>
                  </a:lnTo>
                  <a:lnTo>
                    <a:pt x="3260" y="6"/>
                  </a:lnTo>
                  <a:lnTo>
                    <a:pt x="3260" y="4"/>
                  </a:lnTo>
                  <a:lnTo>
                    <a:pt x="3261" y="2"/>
                  </a:lnTo>
                  <a:lnTo>
                    <a:pt x="3262" y="0"/>
                  </a:lnTo>
                  <a:lnTo>
                    <a:pt x="3263" y="0"/>
                  </a:lnTo>
                  <a:lnTo>
                    <a:pt x="3263" y="0"/>
                  </a:lnTo>
                  <a:close/>
                  <a:moveTo>
                    <a:pt x="3307" y="0"/>
                  </a:moveTo>
                  <a:lnTo>
                    <a:pt x="3326" y="0"/>
                  </a:lnTo>
                  <a:lnTo>
                    <a:pt x="3327" y="0"/>
                  </a:lnTo>
                  <a:lnTo>
                    <a:pt x="3328" y="2"/>
                  </a:lnTo>
                  <a:lnTo>
                    <a:pt x="3329" y="4"/>
                  </a:lnTo>
                  <a:lnTo>
                    <a:pt x="3329" y="6"/>
                  </a:lnTo>
                  <a:lnTo>
                    <a:pt x="3329" y="8"/>
                  </a:lnTo>
                  <a:lnTo>
                    <a:pt x="3328" y="10"/>
                  </a:lnTo>
                  <a:lnTo>
                    <a:pt x="3327" y="12"/>
                  </a:lnTo>
                  <a:lnTo>
                    <a:pt x="3326" y="12"/>
                  </a:lnTo>
                  <a:lnTo>
                    <a:pt x="3307" y="12"/>
                  </a:lnTo>
                  <a:lnTo>
                    <a:pt x="3306" y="12"/>
                  </a:lnTo>
                  <a:lnTo>
                    <a:pt x="3305" y="10"/>
                  </a:lnTo>
                  <a:lnTo>
                    <a:pt x="3304" y="8"/>
                  </a:lnTo>
                  <a:lnTo>
                    <a:pt x="3304" y="6"/>
                  </a:lnTo>
                  <a:lnTo>
                    <a:pt x="3304" y="4"/>
                  </a:lnTo>
                  <a:lnTo>
                    <a:pt x="3305" y="2"/>
                  </a:lnTo>
                  <a:lnTo>
                    <a:pt x="3306" y="0"/>
                  </a:lnTo>
                  <a:lnTo>
                    <a:pt x="3307" y="0"/>
                  </a:lnTo>
                  <a:lnTo>
                    <a:pt x="3307" y="0"/>
                  </a:lnTo>
                  <a:close/>
                  <a:moveTo>
                    <a:pt x="3351" y="0"/>
                  </a:moveTo>
                  <a:lnTo>
                    <a:pt x="3371" y="0"/>
                  </a:lnTo>
                  <a:lnTo>
                    <a:pt x="3372" y="0"/>
                  </a:lnTo>
                  <a:lnTo>
                    <a:pt x="3373" y="2"/>
                  </a:lnTo>
                  <a:lnTo>
                    <a:pt x="3374" y="4"/>
                  </a:lnTo>
                  <a:lnTo>
                    <a:pt x="3374" y="6"/>
                  </a:lnTo>
                  <a:lnTo>
                    <a:pt x="3374" y="8"/>
                  </a:lnTo>
                  <a:lnTo>
                    <a:pt x="3373" y="10"/>
                  </a:lnTo>
                  <a:lnTo>
                    <a:pt x="3372" y="12"/>
                  </a:lnTo>
                  <a:lnTo>
                    <a:pt x="3371" y="12"/>
                  </a:lnTo>
                  <a:lnTo>
                    <a:pt x="3351" y="12"/>
                  </a:lnTo>
                  <a:lnTo>
                    <a:pt x="3350" y="12"/>
                  </a:lnTo>
                  <a:lnTo>
                    <a:pt x="3349" y="10"/>
                  </a:lnTo>
                  <a:lnTo>
                    <a:pt x="3348" y="8"/>
                  </a:lnTo>
                  <a:lnTo>
                    <a:pt x="3348" y="6"/>
                  </a:lnTo>
                  <a:lnTo>
                    <a:pt x="3348" y="4"/>
                  </a:lnTo>
                  <a:lnTo>
                    <a:pt x="3349" y="2"/>
                  </a:lnTo>
                  <a:lnTo>
                    <a:pt x="3350" y="0"/>
                  </a:lnTo>
                  <a:lnTo>
                    <a:pt x="3351" y="0"/>
                  </a:lnTo>
                  <a:lnTo>
                    <a:pt x="3351" y="0"/>
                  </a:lnTo>
                  <a:close/>
                  <a:moveTo>
                    <a:pt x="3396" y="0"/>
                  </a:moveTo>
                  <a:lnTo>
                    <a:pt x="3416" y="0"/>
                  </a:lnTo>
                  <a:lnTo>
                    <a:pt x="3417" y="0"/>
                  </a:lnTo>
                  <a:lnTo>
                    <a:pt x="3418" y="2"/>
                  </a:lnTo>
                  <a:lnTo>
                    <a:pt x="3419" y="4"/>
                  </a:lnTo>
                  <a:lnTo>
                    <a:pt x="3419" y="6"/>
                  </a:lnTo>
                  <a:lnTo>
                    <a:pt x="3419" y="8"/>
                  </a:lnTo>
                  <a:lnTo>
                    <a:pt x="3418" y="10"/>
                  </a:lnTo>
                  <a:lnTo>
                    <a:pt x="3417" y="12"/>
                  </a:lnTo>
                  <a:lnTo>
                    <a:pt x="3416" y="12"/>
                  </a:lnTo>
                  <a:lnTo>
                    <a:pt x="3396" y="12"/>
                  </a:lnTo>
                  <a:lnTo>
                    <a:pt x="3395" y="12"/>
                  </a:lnTo>
                  <a:lnTo>
                    <a:pt x="3394" y="10"/>
                  </a:lnTo>
                  <a:lnTo>
                    <a:pt x="3393" y="8"/>
                  </a:lnTo>
                  <a:lnTo>
                    <a:pt x="3393" y="6"/>
                  </a:lnTo>
                  <a:lnTo>
                    <a:pt x="3393" y="4"/>
                  </a:lnTo>
                  <a:lnTo>
                    <a:pt x="3394" y="2"/>
                  </a:lnTo>
                  <a:lnTo>
                    <a:pt x="3395" y="0"/>
                  </a:lnTo>
                  <a:lnTo>
                    <a:pt x="3396" y="0"/>
                  </a:lnTo>
                  <a:lnTo>
                    <a:pt x="3396" y="0"/>
                  </a:lnTo>
                  <a:close/>
                  <a:moveTo>
                    <a:pt x="3441" y="0"/>
                  </a:moveTo>
                  <a:lnTo>
                    <a:pt x="3460" y="0"/>
                  </a:lnTo>
                  <a:lnTo>
                    <a:pt x="3461" y="0"/>
                  </a:lnTo>
                  <a:lnTo>
                    <a:pt x="3463" y="2"/>
                  </a:lnTo>
                  <a:lnTo>
                    <a:pt x="3464" y="4"/>
                  </a:lnTo>
                  <a:lnTo>
                    <a:pt x="3464" y="6"/>
                  </a:lnTo>
                  <a:lnTo>
                    <a:pt x="3464" y="8"/>
                  </a:lnTo>
                  <a:lnTo>
                    <a:pt x="3463" y="10"/>
                  </a:lnTo>
                  <a:lnTo>
                    <a:pt x="3461" y="12"/>
                  </a:lnTo>
                  <a:lnTo>
                    <a:pt x="3460" y="12"/>
                  </a:lnTo>
                  <a:lnTo>
                    <a:pt x="3441" y="12"/>
                  </a:lnTo>
                  <a:lnTo>
                    <a:pt x="3440" y="12"/>
                  </a:lnTo>
                  <a:lnTo>
                    <a:pt x="3439" y="10"/>
                  </a:lnTo>
                  <a:lnTo>
                    <a:pt x="3438" y="8"/>
                  </a:lnTo>
                  <a:lnTo>
                    <a:pt x="3438" y="6"/>
                  </a:lnTo>
                  <a:lnTo>
                    <a:pt x="3438" y="4"/>
                  </a:lnTo>
                  <a:lnTo>
                    <a:pt x="3439" y="2"/>
                  </a:lnTo>
                  <a:lnTo>
                    <a:pt x="3440" y="0"/>
                  </a:lnTo>
                  <a:lnTo>
                    <a:pt x="3441" y="0"/>
                  </a:lnTo>
                  <a:lnTo>
                    <a:pt x="3441" y="0"/>
                  </a:lnTo>
                  <a:close/>
                  <a:moveTo>
                    <a:pt x="3485" y="0"/>
                  </a:moveTo>
                  <a:lnTo>
                    <a:pt x="3505" y="0"/>
                  </a:lnTo>
                  <a:lnTo>
                    <a:pt x="3506" y="0"/>
                  </a:lnTo>
                  <a:lnTo>
                    <a:pt x="3507" y="2"/>
                  </a:lnTo>
                  <a:lnTo>
                    <a:pt x="3508" y="4"/>
                  </a:lnTo>
                  <a:lnTo>
                    <a:pt x="3508" y="6"/>
                  </a:lnTo>
                  <a:lnTo>
                    <a:pt x="3508" y="8"/>
                  </a:lnTo>
                  <a:lnTo>
                    <a:pt x="3507" y="10"/>
                  </a:lnTo>
                  <a:lnTo>
                    <a:pt x="3506" y="12"/>
                  </a:lnTo>
                  <a:lnTo>
                    <a:pt x="3505" y="12"/>
                  </a:lnTo>
                  <a:lnTo>
                    <a:pt x="3485" y="12"/>
                  </a:lnTo>
                  <a:lnTo>
                    <a:pt x="3484" y="12"/>
                  </a:lnTo>
                  <a:lnTo>
                    <a:pt x="3483" y="10"/>
                  </a:lnTo>
                  <a:lnTo>
                    <a:pt x="3482" y="8"/>
                  </a:lnTo>
                  <a:lnTo>
                    <a:pt x="3482" y="6"/>
                  </a:lnTo>
                  <a:lnTo>
                    <a:pt x="3482" y="4"/>
                  </a:lnTo>
                  <a:lnTo>
                    <a:pt x="3483" y="2"/>
                  </a:lnTo>
                  <a:lnTo>
                    <a:pt x="3484" y="0"/>
                  </a:lnTo>
                  <a:lnTo>
                    <a:pt x="3485" y="0"/>
                  </a:lnTo>
                  <a:lnTo>
                    <a:pt x="3485" y="0"/>
                  </a:lnTo>
                  <a:close/>
                  <a:moveTo>
                    <a:pt x="3530" y="0"/>
                  </a:moveTo>
                  <a:lnTo>
                    <a:pt x="3549" y="0"/>
                  </a:lnTo>
                  <a:lnTo>
                    <a:pt x="3551" y="0"/>
                  </a:lnTo>
                  <a:lnTo>
                    <a:pt x="3552" y="2"/>
                  </a:lnTo>
                  <a:lnTo>
                    <a:pt x="3553" y="4"/>
                  </a:lnTo>
                  <a:lnTo>
                    <a:pt x="3553" y="6"/>
                  </a:lnTo>
                  <a:lnTo>
                    <a:pt x="3553" y="8"/>
                  </a:lnTo>
                  <a:lnTo>
                    <a:pt x="3552" y="10"/>
                  </a:lnTo>
                  <a:lnTo>
                    <a:pt x="3551" y="12"/>
                  </a:lnTo>
                  <a:lnTo>
                    <a:pt x="3549" y="12"/>
                  </a:lnTo>
                  <a:lnTo>
                    <a:pt x="3530" y="12"/>
                  </a:lnTo>
                  <a:lnTo>
                    <a:pt x="3529" y="12"/>
                  </a:lnTo>
                  <a:lnTo>
                    <a:pt x="3528" y="10"/>
                  </a:lnTo>
                  <a:lnTo>
                    <a:pt x="3527" y="8"/>
                  </a:lnTo>
                  <a:lnTo>
                    <a:pt x="3527" y="6"/>
                  </a:lnTo>
                  <a:lnTo>
                    <a:pt x="3527" y="4"/>
                  </a:lnTo>
                  <a:lnTo>
                    <a:pt x="3528" y="2"/>
                  </a:lnTo>
                  <a:lnTo>
                    <a:pt x="3529" y="0"/>
                  </a:lnTo>
                  <a:lnTo>
                    <a:pt x="3530" y="0"/>
                  </a:lnTo>
                  <a:lnTo>
                    <a:pt x="3530" y="0"/>
                  </a:lnTo>
                  <a:close/>
                  <a:moveTo>
                    <a:pt x="3575" y="0"/>
                  </a:moveTo>
                  <a:lnTo>
                    <a:pt x="3594" y="0"/>
                  </a:lnTo>
                  <a:lnTo>
                    <a:pt x="3595" y="0"/>
                  </a:lnTo>
                  <a:lnTo>
                    <a:pt x="3596" y="2"/>
                  </a:lnTo>
                  <a:lnTo>
                    <a:pt x="3597" y="4"/>
                  </a:lnTo>
                  <a:lnTo>
                    <a:pt x="3597" y="6"/>
                  </a:lnTo>
                  <a:lnTo>
                    <a:pt x="3597" y="8"/>
                  </a:lnTo>
                  <a:lnTo>
                    <a:pt x="3596" y="10"/>
                  </a:lnTo>
                  <a:lnTo>
                    <a:pt x="3595" y="12"/>
                  </a:lnTo>
                  <a:lnTo>
                    <a:pt x="3594" y="12"/>
                  </a:lnTo>
                  <a:lnTo>
                    <a:pt x="3575" y="12"/>
                  </a:lnTo>
                  <a:lnTo>
                    <a:pt x="3574" y="12"/>
                  </a:lnTo>
                  <a:lnTo>
                    <a:pt x="3573" y="10"/>
                  </a:lnTo>
                  <a:lnTo>
                    <a:pt x="3572" y="8"/>
                  </a:lnTo>
                  <a:lnTo>
                    <a:pt x="3572" y="6"/>
                  </a:lnTo>
                  <a:lnTo>
                    <a:pt x="3572" y="4"/>
                  </a:lnTo>
                  <a:lnTo>
                    <a:pt x="3573" y="2"/>
                  </a:lnTo>
                  <a:lnTo>
                    <a:pt x="3574" y="0"/>
                  </a:lnTo>
                  <a:lnTo>
                    <a:pt x="3575" y="0"/>
                  </a:lnTo>
                  <a:lnTo>
                    <a:pt x="3575" y="0"/>
                  </a:lnTo>
                  <a:close/>
                  <a:moveTo>
                    <a:pt x="3620" y="0"/>
                  </a:moveTo>
                  <a:lnTo>
                    <a:pt x="3638" y="0"/>
                  </a:lnTo>
                  <a:lnTo>
                    <a:pt x="3639" y="0"/>
                  </a:lnTo>
                  <a:lnTo>
                    <a:pt x="3641" y="2"/>
                  </a:lnTo>
                  <a:lnTo>
                    <a:pt x="3642" y="4"/>
                  </a:lnTo>
                  <a:lnTo>
                    <a:pt x="3642" y="6"/>
                  </a:lnTo>
                  <a:lnTo>
                    <a:pt x="3642" y="8"/>
                  </a:lnTo>
                  <a:lnTo>
                    <a:pt x="3641" y="10"/>
                  </a:lnTo>
                  <a:lnTo>
                    <a:pt x="3639" y="12"/>
                  </a:lnTo>
                  <a:lnTo>
                    <a:pt x="3638" y="12"/>
                  </a:lnTo>
                  <a:lnTo>
                    <a:pt x="3620" y="12"/>
                  </a:lnTo>
                  <a:lnTo>
                    <a:pt x="3619" y="12"/>
                  </a:lnTo>
                  <a:lnTo>
                    <a:pt x="3618" y="10"/>
                  </a:lnTo>
                  <a:lnTo>
                    <a:pt x="3617" y="8"/>
                  </a:lnTo>
                  <a:lnTo>
                    <a:pt x="3617" y="6"/>
                  </a:lnTo>
                  <a:lnTo>
                    <a:pt x="3617" y="4"/>
                  </a:lnTo>
                  <a:lnTo>
                    <a:pt x="3618" y="2"/>
                  </a:lnTo>
                  <a:lnTo>
                    <a:pt x="3619" y="0"/>
                  </a:lnTo>
                  <a:lnTo>
                    <a:pt x="3620" y="0"/>
                  </a:lnTo>
                  <a:lnTo>
                    <a:pt x="3620" y="0"/>
                  </a:lnTo>
                  <a:close/>
                  <a:moveTo>
                    <a:pt x="3664" y="0"/>
                  </a:moveTo>
                  <a:lnTo>
                    <a:pt x="3683" y="0"/>
                  </a:lnTo>
                  <a:lnTo>
                    <a:pt x="3684" y="0"/>
                  </a:lnTo>
                  <a:lnTo>
                    <a:pt x="3685" y="2"/>
                  </a:lnTo>
                  <a:lnTo>
                    <a:pt x="3686" y="4"/>
                  </a:lnTo>
                  <a:lnTo>
                    <a:pt x="3686" y="6"/>
                  </a:lnTo>
                  <a:lnTo>
                    <a:pt x="3686" y="8"/>
                  </a:lnTo>
                  <a:lnTo>
                    <a:pt x="3685" y="10"/>
                  </a:lnTo>
                  <a:lnTo>
                    <a:pt x="3684" y="12"/>
                  </a:lnTo>
                  <a:lnTo>
                    <a:pt x="3683" y="12"/>
                  </a:lnTo>
                  <a:lnTo>
                    <a:pt x="3664" y="12"/>
                  </a:lnTo>
                  <a:lnTo>
                    <a:pt x="3663" y="12"/>
                  </a:lnTo>
                  <a:lnTo>
                    <a:pt x="3662" y="10"/>
                  </a:lnTo>
                  <a:lnTo>
                    <a:pt x="3661" y="8"/>
                  </a:lnTo>
                  <a:lnTo>
                    <a:pt x="3661" y="6"/>
                  </a:lnTo>
                  <a:lnTo>
                    <a:pt x="3661" y="4"/>
                  </a:lnTo>
                  <a:lnTo>
                    <a:pt x="3662" y="2"/>
                  </a:lnTo>
                  <a:lnTo>
                    <a:pt x="3663" y="0"/>
                  </a:lnTo>
                  <a:lnTo>
                    <a:pt x="3664" y="0"/>
                  </a:lnTo>
                  <a:lnTo>
                    <a:pt x="3664" y="0"/>
                  </a:lnTo>
                  <a:close/>
                  <a:moveTo>
                    <a:pt x="3709" y="0"/>
                  </a:moveTo>
                  <a:lnTo>
                    <a:pt x="3728" y="0"/>
                  </a:lnTo>
                  <a:lnTo>
                    <a:pt x="3729" y="0"/>
                  </a:lnTo>
                  <a:lnTo>
                    <a:pt x="3730" y="2"/>
                  </a:lnTo>
                  <a:lnTo>
                    <a:pt x="3731" y="4"/>
                  </a:lnTo>
                  <a:lnTo>
                    <a:pt x="3731" y="6"/>
                  </a:lnTo>
                  <a:lnTo>
                    <a:pt x="3731" y="8"/>
                  </a:lnTo>
                  <a:lnTo>
                    <a:pt x="3730" y="10"/>
                  </a:lnTo>
                  <a:lnTo>
                    <a:pt x="3729" y="12"/>
                  </a:lnTo>
                  <a:lnTo>
                    <a:pt x="3728" y="12"/>
                  </a:lnTo>
                  <a:lnTo>
                    <a:pt x="3709" y="12"/>
                  </a:lnTo>
                  <a:lnTo>
                    <a:pt x="3708" y="12"/>
                  </a:lnTo>
                  <a:lnTo>
                    <a:pt x="3707" y="10"/>
                  </a:lnTo>
                  <a:lnTo>
                    <a:pt x="3706" y="8"/>
                  </a:lnTo>
                  <a:lnTo>
                    <a:pt x="3706" y="6"/>
                  </a:lnTo>
                  <a:lnTo>
                    <a:pt x="3706" y="4"/>
                  </a:lnTo>
                  <a:lnTo>
                    <a:pt x="3707" y="2"/>
                  </a:lnTo>
                  <a:lnTo>
                    <a:pt x="3708" y="0"/>
                  </a:lnTo>
                  <a:lnTo>
                    <a:pt x="3709" y="0"/>
                  </a:lnTo>
                  <a:lnTo>
                    <a:pt x="3709" y="0"/>
                  </a:lnTo>
                  <a:close/>
                  <a:moveTo>
                    <a:pt x="3754" y="0"/>
                  </a:moveTo>
                  <a:lnTo>
                    <a:pt x="3773" y="0"/>
                  </a:lnTo>
                  <a:lnTo>
                    <a:pt x="3774" y="0"/>
                  </a:lnTo>
                  <a:lnTo>
                    <a:pt x="3775" y="2"/>
                  </a:lnTo>
                  <a:lnTo>
                    <a:pt x="3776" y="4"/>
                  </a:lnTo>
                  <a:lnTo>
                    <a:pt x="3776" y="6"/>
                  </a:lnTo>
                  <a:lnTo>
                    <a:pt x="3776" y="8"/>
                  </a:lnTo>
                  <a:lnTo>
                    <a:pt x="3775" y="10"/>
                  </a:lnTo>
                  <a:lnTo>
                    <a:pt x="3774" y="12"/>
                  </a:lnTo>
                  <a:lnTo>
                    <a:pt x="3773" y="12"/>
                  </a:lnTo>
                  <a:lnTo>
                    <a:pt x="3754" y="12"/>
                  </a:lnTo>
                  <a:lnTo>
                    <a:pt x="3753" y="12"/>
                  </a:lnTo>
                  <a:lnTo>
                    <a:pt x="3752" y="10"/>
                  </a:lnTo>
                  <a:lnTo>
                    <a:pt x="3751" y="8"/>
                  </a:lnTo>
                  <a:lnTo>
                    <a:pt x="3751" y="6"/>
                  </a:lnTo>
                  <a:lnTo>
                    <a:pt x="3751" y="4"/>
                  </a:lnTo>
                  <a:lnTo>
                    <a:pt x="3752" y="2"/>
                  </a:lnTo>
                  <a:lnTo>
                    <a:pt x="3753" y="0"/>
                  </a:lnTo>
                  <a:lnTo>
                    <a:pt x="3754" y="0"/>
                  </a:lnTo>
                  <a:lnTo>
                    <a:pt x="3754" y="0"/>
                  </a:lnTo>
                  <a:close/>
                  <a:moveTo>
                    <a:pt x="3798" y="0"/>
                  </a:moveTo>
                  <a:lnTo>
                    <a:pt x="3817" y="0"/>
                  </a:lnTo>
                  <a:lnTo>
                    <a:pt x="3818" y="0"/>
                  </a:lnTo>
                  <a:lnTo>
                    <a:pt x="3820" y="2"/>
                  </a:lnTo>
                  <a:lnTo>
                    <a:pt x="3821" y="4"/>
                  </a:lnTo>
                  <a:lnTo>
                    <a:pt x="3821" y="6"/>
                  </a:lnTo>
                  <a:lnTo>
                    <a:pt x="3821" y="8"/>
                  </a:lnTo>
                  <a:lnTo>
                    <a:pt x="3820" y="10"/>
                  </a:lnTo>
                  <a:lnTo>
                    <a:pt x="3818" y="12"/>
                  </a:lnTo>
                  <a:lnTo>
                    <a:pt x="3817" y="12"/>
                  </a:lnTo>
                  <a:lnTo>
                    <a:pt x="3798" y="12"/>
                  </a:lnTo>
                  <a:lnTo>
                    <a:pt x="3797" y="12"/>
                  </a:lnTo>
                  <a:lnTo>
                    <a:pt x="3796" y="10"/>
                  </a:lnTo>
                  <a:lnTo>
                    <a:pt x="3795" y="8"/>
                  </a:lnTo>
                  <a:lnTo>
                    <a:pt x="3795" y="6"/>
                  </a:lnTo>
                  <a:lnTo>
                    <a:pt x="3795" y="4"/>
                  </a:lnTo>
                  <a:lnTo>
                    <a:pt x="3796" y="2"/>
                  </a:lnTo>
                  <a:lnTo>
                    <a:pt x="3797" y="0"/>
                  </a:lnTo>
                  <a:lnTo>
                    <a:pt x="3798" y="0"/>
                  </a:lnTo>
                  <a:lnTo>
                    <a:pt x="3798" y="0"/>
                  </a:lnTo>
                  <a:close/>
                  <a:moveTo>
                    <a:pt x="3842" y="0"/>
                  </a:moveTo>
                  <a:lnTo>
                    <a:pt x="3862" y="0"/>
                  </a:lnTo>
                  <a:lnTo>
                    <a:pt x="3863" y="0"/>
                  </a:lnTo>
                  <a:lnTo>
                    <a:pt x="3864" y="2"/>
                  </a:lnTo>
                  <a:lnTo>
                    <a:pt x="3865" y="4"/>
                  </a:lnTo>
                  <a:lnTo>
                    <a:pt x="3865" y="6"/>
                  </a:lnTo>
                  <a:lnTo>
                    <a:pt x="3865" y="8"/>
                  </a:lnTo>
                  <a:lnTo>
                    <a:pt x="3864" y="10"/>
                  </a:lnTo>
                  <a:lnTo>
                    <a:pt x="3863" y="12"/>
                  </a:lnTo>
                  <a:lnTo>
                    <a:pt x="3862" y="12"/>
                  </a:lnTo>
                  <a:lnTo>
                    <a:pt x="3842" y="12"/>
                  </a:lnTo>
                  <a:lnTo>
                    <a:pt x="3841" y="12"/>
                  </a:lnTo>
                  <a:lnTo>
                    <a:pt x="3840" y="10"/>
                  </a:lnTo>
                  <a:lnTo>
                    <a:pt x="3839" y="8"/>
                  </a:lnTo>
                  <a:lnTo>
                    <a:pt x="3839" y="6"/>
                  </a:lnTo>
                  <a:lnTo>
                    <a:pt x="3839" y="4"/>
                  </a:lnTo>
                  <a:lnTo>
                    <a:pt x="3840" y="2"/>
                  </a:lnTo>
                  <a:lnTo>
                    <a:pt x="3841" y="0"/>
                  </a:lnTo>
                  <a:lnTo>
                    <a:pt x="3842" y="0"/>
                  </a:lnTo>
                  <a:lnTo>
                    <a:pt x="3842" y="0"/>
                  </a:lnTo>
                  <a:close/>
                  <a:moveTo>
                    <a:pt x="3887" y="0"/>
                  </a:moveTo>
                  <a:lnTo>
                    <a:pt x="3907" y="0"/>
                  </a:lnTo>
                  <a:lnTo>
                    <a:pt x="3908" y="0"/>
                  </a:lnTo>
                  <a:lnTo>
                    <a:pt x="3909" y="2"/>
                  </a:lnTo>
                  <a:lnTo>
                    <a:pt x="3910" y="4"/>
                  </a:lnTo>
                  <a:lnTo>
                    <a:pt x="3910" y="6"/>
                  </a:lnTo>
                  <a:lnTo>
                    <a:pt x="3910" y="8"/>
                  </a:lnTo>
                  <a:lnTo>
                    <a:pt x="3909" y="10"/>
                  </a:lnTo>
                  <a:lnTo>
                    <a:pt x="3908" y="12"/>
                  </a:lnTo>
                  <a:lnTo>
                    <a:pt x="3907" y="12"/>
                  </a:lnTo>
                  <a:lnTo>
                    <a:pt x="3887" y="12"/>
                  </a:lnTo>
                  <a:lnTo>
                    <a:pt x="3886" y="12"/>
                  </a:lnTo>
                  <a:lnTo>
                    <a:pt x="3885" y="10"/>
                  </a:lnTo>
                  <a:lnTo>
                    <a:pt x="3884" y="8"/>
                  </a:lnTo>
                  <a:lnTo>
                    <a:pt x="3884" y="6"/>
                  </a:lnTo>
                  <a:lnTo>
                    <a:pt x="3884" y="4"/>
                  </a:lnTo>
                  <a:lnTo>
                    <a:pt x="3885" y="2"/>
                  </a:lnTo>
                  <a:lnTo>
                    <a:pt x="3886" y="0"/>
                  </a:lnTo>
                  <a:lnTo>
                    <a:pt x="3887" y="0"/>
                  </a:lnTo>
                  <a:lnTo>
                    <a:pt x="3887" y="0"/>
                  </a:lnTo>
                  <a:close/>
                  <a:moveTo>
                    <a:pt x="3932" y="0"/>
                  </a:moveTo>
                  <a:lnTo>
                    <a:pt x="3952" y="0"/>
                  </a:lnTo>
                  <a:lnTo>
                    <a:pt x="3953" y="0"/>
                  </a:lnTo>
                  <a:lnTo>
                    <a:pt x="3954" y="2"/>
                  </a:lnTo>
                  <a:lnTo>
                    <a:pt x="3955" y="4"/>
                  </a:lnTo>
                  <a:lnTo>
                    <a:pt x="3955" y="6"/>
                  </a:lnTo>
                  <a:lnTo>
                    <a:pt x="3955" y="8"/>
                  </a:lnTo>
                  <a:lnTo>
                    <a:pt x="3954" y="10"/>
                  </a:lnTo>
                  <a:lnTo>
                    <a:pt x="3953" y="12"/>
                  </a:lnTo>
                  <a:lnTo>
                    <a:pt x="3952" y="12"/>
                  </a:lnTo>
                  <a:lnTo>
                    <a:pt x="3932" y="12"/>
                  </a:lnTo>
                  <a:lnTo>
                    <a:pt x="3931" y="12"/>
                  </a:lnTo>
                  <a:lnTo>
                    <a:pt x="3930" y="10"/>
                  </a:lnTo>
                  <a:lnTo>
                    <a:pt x="3929" y="8"/>
                  </a:lnTo>
                  <a:lnTo>
                    <a:pt x="3929" y="6"/>
                  </a:lnTo>
                  <a:lnTo>
                    <a:pt x="3929" y="4"/>
                  </a:lnTo>
                  <a:lnTo>
                    <a:pt x="3930" y="2"/>
                  </a:lnTo>
                  <a:lnTo>
                    <a:pt x="3931" y="0"/>
                  </a:lnTo>
                  <a:lnTo>
                    <a:pt x="3932" y="0"/>
                  </a:lnTo>
                  <a:lnTo>
                    <a:pt x="3932" y="0"/>
                  </a:lnTo>
                  <a:close/>
                  <a:moveTo>
                    <a:pt x="3977" y="0"/>
                  </a:moveTo>
                  <a:lnTo>
                    <a:pt x="3995" y="0"/>
                  </a:lnTo>
                  <a:lnTo>
                    <a:pt x="3996" y="0"/>
                  </a:lnTo>
                  <a:lnTo>
                    <a:pt x="3999" y="2"/>
                  </a:lnTo>
                  <a:lnTo>
                    <a:pt x="4000" y="4"/>
                  </a:lnTo>
                  <a:lnTo>
                    <a:pt x="4000" y="6"/>
                  </a:lnTo>
                  <a:lnTo>
                    <a:pt x="4000" y="8"/>
                  </a:lnTo>
                  <a:lnTo>
                    <a:pt x="3999" y="10"/>
                  </a:lnTo>
                  <a:lnTo>
                    <a:pt x="3996" y="12"/>
                  </a:lnTo>
                  <a:lnTo>
                    <a:pt x="3995" y="12"/>
                  </a:lnTo>
                  <a:lnTo>
                    <a:pt x="3977" y="12"/>
                  </a:lnTo>
                  <a:lnTo>
                    <a:pt x="3976" y="12"/>
                  </a:lnTo>
                  <a:lnTo>
                    <a:pt x="3975" y="10"/>
                  </a:lnTo>
                  <a:lnTo>
                    <a:pt x="3974" y="8"/>
                  </a:lnTo>
                  <a:lnTo>
                    <a:pt x="3974" y="6"/>
                  </a:lnTo>
                  <a:lnTo>
                    <a:pt x="3974" y="4"/>
                  </a:lnTo>
                  <a:lnTo>
                    <a:pt x="3975" y="2"/>
                  </a:lnTo>
                  <a:lnTo>
                    <a:pt x="3976" y="0"/>
                  </a:lnTo>
                  <a:lnTo>
                    <a:pt x="3977" y="0"/>
                  </a:lnTo>
                  <a:lnTo>
                    <a:pt x="3977" y="0"/>
                  </a:lnTo>
                  <a:close/>
                  <a:moveTo>
                    <a:pt x="4021" y="0"/>
                  </a:moveTo>
                  <a:lnTo>
                    <a:pt x="4040" y="0"/>
                  </a:lnTo>
                  <a:lnTo>
                    <a:pt x="4041" y="0"/>
                  </a:lnTo>
                  <a:lnTo>
                    <a:pt x="4042" y="2"/>
                  </a:lnTo>
                  <a:lnTo>
                    <a:pt x="4043" y="4"/>
                  </a:lnTo>
                  <a:lnTo>
                    <a:pt x="4043" y="6"/>
                  </a:lnTo>
                  <a:lnTo>
                    <a:pt x="4043" y="8"/>
                  </a:lnTo>
                  <a:lnTo>
                    <a:pt x="4042" y="10"/>
                  </a:lnTo>
                  <a:lnTo>
                    <a:pt x="4041" y="12"/>
                  </a:lnTo>
                  <a:lnTo>
                    <a:pt x="4040" y="12"/>
                  </a:lnTo>
                  <a:lnTo>
                    <a:pt x="4021" y="12"/>
                  </a:lnTo>
                  <a:lnTo>
                    <a:pt x="4020" y="12"/>
                  </a:lnTo>
                  <a:lnTo>
                    <a:pt x="4019" y="10"/>
                  </a:lnTo>
                  <a:lnTo>
                    <a:pt x="4018" y="8"/>
                  </a:lnTo>
                  <a:lnTo>
                    <a:pt x="4018" y="6"/>
                  </a:lnTo>
                  <a:lnTo>
                    <a:pt x="4018" y="4"/>
                  </a:lnTo>
                  <a:lnTo>
                    <a:pt x="4019" y="2"/>
                  </a:lnTo>
                  <a:lnTo>
                    <a:pt x="4020" y="0"/>
                  </a:lnTo>
                  <a:lnTo>
                    <a:pt x="4021" y="0"/>
                  </a:lnTo>
                  <a:lnTo>
                    <a:pt x="4021" y="0"/>
                  </a:lnTo>
                  <a:close/>
                  <a:moveTo>
                    <a:pt x="4066" y="0"/>
                  </a:moveTo>
                  <a:lnTo>
                    <a:pt x="4085" y="0"/>
                  </a:lnTo>
                  <a:lnTo>
                    <a:pt x="4086" y="0"/>
                  </a:lnTo>
                  <a:lnTo>
                    <a:pt x="4087" y="2"/>
                  </a:lnTo>
                  <a:lnTo>
                    <a:pt x="4088" y="4"/>
                  </a:lnTo>
                  <a:lnTo>
                    <a:pt x="4088" y="6"/>
                  </a:lnTo>
                  <a:lnTo>
                    <a:pt x="4088" y="8"/>
                  </a:lnTo>
                  <a:lnTo>
                    <a:pt x="4087" y="10"/>
                  </a:lnTo>
                  <a:lnTo>
                    <a:pt x="4086" y="12"/>
                  </a:lnTo>
                  <a:lnTo>
                    <a:pt x="4085" y="12"/>
                  </a:lnTo>
                  <a:lnTo>
                    <a:pt x="4066" y="12"/>
                  </a:lnTo>
                  <a:lnTo>
                    <a:pt x="4065" y="12"/>
                  </a:lnTo>
                  <a:lnTo>
                    <a:pt x="4064" y="10"/>
                  </a:lnTo>
                  <a:lnTo>
                    <a:pt x="4063" y="8"/>
                  </a:lnTo>
                  <a:lnTo>
                    <a:pt x="4063" y="6"/>
                  </a:lnTo>
                  <a:lnTo>
                    <a:pt x="4063" y="4"/>
                  </a:lnTo>
                  <a:lnTo>
                    <a:pt x="4064" y="2"/>
                  </a:lnTo>
                  <a:lnTo>
                    <a:pt x="4065" y="0"/>
                  </a:lnTo>
                  <a:lnTo>
                    <a:pt x="4066" y="0"/>
                  </a:lnTo>
                  <a:lnTo>
                    <a:pt x="4066" y="0"/>
                  </a:lnTo>
                  <a:close/>
                  <a:moveTo>
                    <a:pt x="4111" y="0"/>
                  </a:moveTo>
                  <a:lnTo>
                    <a:pt x="4130" y="0"/>
                  </a:lnTo>
                  <a:lnTo>
                    <a:pt x="4131" y="0"/>
                  </a:lnTo>
                  <a:lnTo>
                    <a:pt x="4132" y="2"/>
                  </a:lnTo>
                  <a:lnTo>
                    <a:pt x="4133" y="4"/>
                  </a:lnTo>
                  <a:lnTo>
                    <a:pt x="4133" y="6"/>
                  </a:lnTo>
                  <a:lnTo>
                    <a:pt x="4133" y="8"/>
                  </a:lnTo>
                  <a:lnTo>
                    <a:pt x="4132" y="10"/>
                  </a:lnTo>
                  <a:lnTo>
                    <a:pt x="4131" y="12"/>
                  </a:lnTo>
                  <a:lnTo>
                    <a:pt x="4130" y="12"/>
                  </a:lnTo>
                  <a:lnTo>
                    <a:pt x="4111" y="12"/>
                  </a:lnTo>
                  <a:lnTo>
                    <a:pt x="4110" y="12"/>
                  </a:lnTo>
                  <a:lnTo>
                    <a:pt x="4109" y="10"/>
                  </a:lnTo>
                  <a:lnTo>
                    <a:pt x="4108" y="8"/>
                  </a:lnTo>
                  <a:lnTo>
                    <a:pt x="4108" y="6"/>
                  </a:lnTo>
                  <a:lnTo>
                    <a:pt x="4108" y="4"/>
                  </a:lnTo>
                  <a:lnTo>
                    <a:pt x="4109" y="2"/>
                  </a:lnTo>
                  <a:lnTo>
                    <a:pt x="4110" y="0"/>
                  </a:lnTo>
                  <a:lnTo>
                    <a:pt x="4111" y="0"/>
                  </a:lnTo>
                  <a:lnTo>
                    <a:pt x="4111" y="0"/>
                  </a:lnTo>
                  <a:close/>
                  <a:moveTo>
                    <a:pt x="4156" y="0"/>
                  </a:moveTo>
                  <a:lnTo>
                    <a:pt x="4174" y="0"/>
                  </a:lnTo>
                  <a:lnTo>
                    <a:pt x="4175" y="0"/>
                  </a:lnTo>
                  <a:lnTo>
                    <a:pt x="4177" y="2"/>
                  </a:lnTo>
                  <a:lnTo>
                    <a:pt x="4178" y="4"/>
                  </a:lnTo>
                  <a:lnTo>
                    <a:pt x="4178" y="6"/>
                  </a:lnTo>
                  <a:lnTo>
                    <a:pt x="4178" y="8"/>
                  </a:lnTo>
                  <a:lnTo>
                    <a:pt x="4177" y="10"/>
                  </a:lnTo>
                  <a:lnTo>
                    <a:pt x="4175" y="12"/>
                  </a:lnTo>
                  <a:lnTo>
                    <a:pt x="4174" y="12"/>
                  </a:lnTo>
                  <a:lnTo>
                    <a:pt x="4156" y="12"/>
                  </a:lnTo>
                  <a:lnTo>
                    <a:pt x="4155" y="12"/>
                  </a:lnTo>
                  <a:lnTo>
                    <a:pt x="4154" y="10"/>
                  </a:lnTo>
                  <a:lnTo>
                    <a:pt x="4153" y="8"/>
                  </a:lnTo>
                  <a:lnTo>
                    <a:pt x="4153" y="6"/>
                  </a:lnTo>
                  <a:lnTo>
                    <a:pt x="4153" y="4"/>
                  </a:lnTo>
                  <a:lnTo>
                    <a:pt x="4154" y="2"/>
                  </a:lnTo>
                  <a:lnTo>
                    <a:pt x="4155" y="0"/>
                  </a:lnTo>
                  <a:lnTo>
                    <a:pt x="4156" y="0"/>
                  </a:lnTo>
                  <a:lnTo>
                    <a:pt x="4156" y="0"/>
                  </a:lnTo>
                  <a:close/>
                  <a:moveTo>
                    <a:pt x="4200" y="0"/>
                  </a:moveTo>
                  <a:lnTo>
                    <a:pt x="4219" y="0"/>
                  </a:lnTo>
                  <a:lnTo>
                    <a:pt x="4220" y="0"/>
                  </a:lnTo>
                  <a:lnTo>
                    <a:pt x="4221" y="2"/>
                  </a:lnTo>
                  <a:lnTo>
                    <a:pt x="4222" y="4"/>
                  </a:lnTo>
                  <a:lnTo>
                    <a:pt x="4222" y="6"/>
                  </a:lnTo>
                  <a:lnTo>
                    <a:pt x="4222" y="8"/>
                  </a:lnTo>
                  <a:lnTo>
                    <a:pt x="4221" y="10"/>
                  </a:lnTo>
                  <a:lnTo>
                    <a:pt x="4220" y="12"/>
                  </a:lnTo>
                  <a:lnTo>
                    <a:pt x="4219" y="12"/>
                  </a:lnTo>
                  <a:lnTo>
                    <a:pt x="4200" y="12"/>
                  </a:lnTo>
                  <a:lnTo>
                    <a:pt x="4199" y="12"/>
                  </a:lnTo>
                  <a:lnTo>
                    <a:pt x="4198" y="10"/>
                  </a:lnTo>
                  <a:lnTo>
                    <a:pt x="4197" y="8"/>
                  </a:lnTo>
                  <a:lnTo>
                    <a:pt x="4197" y="6"/>
                  </a:lnTo>
                  <a:lnTo>
                    <a:pt x="4197" y="4"/>
                  </a:lnTo>
                  <a:lnTo>
                    <a:pt x="4198" y="2"/>
                  </a:lnTo>
                  <a:lnTo>
                    <a:pt x="4199" y="0"/>
                  </a:lnTo>
                  <a:lnTo>
                    <a:pt x="4200" y="0"/>
                  </a:lnTo>
                  <a:lnTo>
                    <a:pt x="4200" y="0"/>
                  </a:lnTo>
                  <a:close/>
                  <a:moveTo>
                    <a:pt x="4244" y="0"/>
                  </a:moveTo>
                  <a:lnTo>
                    <a:pt x="4264" y="0"/>
                  </a:lnTo>
                  <a:lnTo>
                    <a:pt x="4265" y="0"/>
                  </a:lnTo>
                  <a:lnTo>
                    <a:pt x="4266" y="2"/>
                  </a:lnTo>
                  <a:lnTo>
                    <a:pt x="4267" y="4"/>
                  </a:lnTo>
                  <a:lnTo>
                    <a:pt x="4267" y="6"/>
                  </a:lnTo>
                  <a:lnTo>
                    <a:pt x="4267" y="8"/>
                  </a:lnTo>
                  <a:lnTo>
                    <a:pt x="4266" y="10"/>
                  </a:lnTo>
                  <a:lnTo>
                    <a:pt x="4265" y="12"/>
                  </a:lnTo>
                  <a:lnTo>
                    <a:pt x="4264" y="12"/>
                  </a:lnTo>
                  <a:lnTo>
                    <a:pt x="4244" y="12"/>
                  </a:lnTo>
                  <a:lnTo>
                    <a:pt x="4243" y="12"/>
                  </a:lnTo>
                  <a:lnTo>
                    <a:pt x="4242" y="10"/>
                  </a:lnTo>
                  <a:lnTo>
                    <a:pt x="4241" y="8"/>
                  </a:lnTo>
                  <a:lnTo>
                    <a:pt x="4241" y="6"/>
                  </a:lnTo>
                  <a:lnTo>
                    <a:pt x="4241" y="4"/>
                  </a:lnTo>
                  <a:lnTo>
                    <a:pt x="4242" y="2"/>
                  </a:lnTo>
                  <a:lnTo>
                    <a:pt x="4243" y="0"/>
                  </a:lnTo>
                  <a:lnTo>
                    <a:pt x="4244" y="0"/>
                  </a:lnTo>
                  <a:lnTo>
                    <a:pt x="4244" y="0"/>
                  </a:lnTo>
                  <a:close/>
                  <a:moveTo>
                    <a:pt x="4289" y="0"/>
                  </a:moveTo>
                  <a:lnTo>
                    <a:pt x="4309" y="0"/>
                  </a:lnTo>
                  <a:lnTo>
                    <a:pt x="4310" y="0"/>
                  </a:lnTo>
                  <a:lnTo>
                    <a:pt x="4311" y="2"/>
                  </a:lnTo>
                  <a:lnTo>
                    <a:pt x="4312" y="4"/>
                  </a:lnTo>
                  <a:lnTo>
                    <a:pt x="4312" y="6"/>
                  </a:lnTo>
                  <a:lnTo>
                    <a:pt x="4312" y="8"/>
                  </a:lnTo>
                  <a:lnTo>
                    <a:pt x="4311" y="10"/>
                  </a:lnTo>
                  <a:lnTo>
                    <a:pt x="4310" y="12"/>
                  </a:lnTo>
                  <a:lnTo>
                    <a:pt x="4309" y="12"/>
                  </a:lnTo>
                  <a:lnTo>
                    <a:pt x="4289" y="12"/>
                  </a:lnTo>
                  <a:lnTo>
                    <a:pt x="4288" y="12"/>
                  </a:lnTo>
                  <a:lnTo>
                    <a:pt x="4287" y="10"/>
                  </a:lnTo>
                  <a:lnTo>
                    <a:pt x="4286" y="8"/>
                  </a:lnTo>
                  <a:lnTo>
                    <a:pt x="4286" y="6"/>
                  </a:lnTo>
                  <a:lnTo>
                    <a:pt x="4286" y="4"/>
                  </a:lnTo>
                  <a:lnTo>
                    <a:pt x="4287" y="2"/>
                  </a:lnTo>
                  <a:lnTo>
                    <a:pt x="4288" y="0"/>
                  </a:lnTo>
                  <a:lnTo>
                    <a:pt x="4289" y="0"/>
                  </a:lnTo>
                  <a:lnTo>
                    <a:pt x="4289" y="0"/>
                  </a:lnTo>
                  <a:close/>
                  <a:moveTo>
                    <a:pt x="4334" y="0"/>
                  </a:moveTo>
                  <a:lnTo>
                    <a:pt x="4353" y="0"/>
                  </a:lnTo>
                  <a:lnTo>
                    <a:pt x="4354" y="0"/>
                  </a:lnTo>
                  <a:lnTo>
                    <a:pt x="4356" y="2"/>
                  </a:lnTo>
                  <a:lnTo>
                    <a:pt x="4357" y="4"/>
                  </a:lnTo>
                  <a:lnTo>
                    <a:pt x="4357" y="6"/>
                  </a:lnTo>
                  <a:lnTo>
                    <a:pt x="4357" y="8"/>
                  </a:lnTo>
                  <a:lnTo>
                    <a:pt x="4356" y="10"/>
                  </a:lnTo>
                  <a:lnTo>
                    <a:pt x="4354" y="12"/>
                  </a:lnTo>
                  <a:lnTo>
                    <a:pt x="4353" y="12"/>
                  </a:lnTo>
                  <a:lnTo>
                    <a:pt x="4334" y="12"/>
                  </a:lnTo>
                  <a:lnTo>
                    <a:pt x="4333" y="12"/>
                  </a:lnTo>
                  <a:lnTo>
                    <a:pt x="4332" y="10"/>
                  </a:lnTo>
                  <a:lnTo>
                    <a:pt x="4331" y="8"/>
                  </a:lnTo>
                  <a:lnTo>
                    <a:pt x="4331" y="6"/>
                  </a:lnTo>
                  <a:lnTo>
                    <a:pt x="4331" y="4"/>
                  </a:lnTo>
                  <a:lnTo>
                    <a:pt x="4332" y="2"/>
                  </a:lnTo>
                  <a:lnTo>
                    <a:pt x="4333" y="0"/>
                  </a:lnTo>
                  <a:lnTo>
                    <a:pt x="4334" y="0"/>
                  </a:lnTo>
                  <a:lnTo>
                    <a:pt x="4334" y="0"/>
                  </a:lnTo>
                  <a:close/>
                  <a:moveTo>
                    <a:pt x="4378" y="0"/>
                  </a:moveTo>
                  <a:lnTo>
                    <a:pt x="4398" y="0"/>
                  </a:lnTo>
                  <a:lnTo>
                    <a:pt x="4399" y="0"/>
                  </a:lnTo>
                  <a:lnTo>
                    <a:pt x="4400" y="2"/>
                  </a:lnTo>
                  <a:lnTo>
                    <a:pt x="4401" y="4"/>
                  </a:lnTo>
                  <a:lnTo>
                    <a:pt x="4401" y="6"/>
                  </a:lnTo>
                  <a:lnTo>
                    <a:pt x="4401" y="8"/>
                  </a:lnTo>
                  <a:lnTo>
                    <a:pt x="4400" y="10"/>
                  </a:lnTo>
                  <a:lnTo>
                    <a:pt x="4399" y="12"/>
                  </a:lnTo>
                  <a:lnTo>
                    <a:pt x="4398" y="12"/>
                  </a:lnTo>
                  <a:lnTo>
                    <a:pt x="4378" y="12"/>
                  </a:lnTo>
                  <a:lnTo>
                    <a:pt x="4377" y="12"/>
                  </a:lnTo>
                  <a:lnTo>
                    <a:pt x="4376" y="10"/>
                  </a:lnTo>
                  <a:lnTo>
                    <a:pt x="4375" y="8"/>
                  </a:lnTo>
                  <a:lnTo>
                    <a:pt x="4375" y="6"/>
                  </a:lnTo>
                  <a:lnTo>
                    <a:pt x="4375" y="4"/>
                  </a:lnTo>
                  <a:lnTo>
                    <a:pt x="4376" y="2"/>
                  </a:lnTo>
                  <a:lnTo>
                    <a:pt x="4377" y="0"/>
                  </a:lnTo>
                  <a:lnTo>
                    <a:pt x="4378" y="0"/>
                  </a:lnTo>
                  <a:lnTo>
                    <a:pt x="4378" y="0"/>
                  </a:lnTo>
                  <a:close/>
                  <a:moveTo>
                    <a:pt x="4423" y="0"/>
                  </a:moveTo>
                  <a:lnTo>
                    <a:pt x="4442" y="0"/>
                  </a:lnTo>
                  <a:lnTo>
                    <a:pt x="4443" y="0"/>
                  </a:lnTo>
                  <a:lnTo>
                    <a:pt x="4444" y="2"/>
                  </a:lnTo>
                  <a:lnTo>
                    <a:pt x="4446" y="4"/>
                  </a:lnTo>
                  <a:lnTo>
                    <a:pt x="4446" y="6"/>
                  </a:lnTo>
                  <a:lnTo>
                    <a:pt x="4446" y="8"/>
                  </a:lnTo>
                  <a:lnTo>
                    <a:pt x="4444" y="10"/>
                  </a:lnTo>
                  <a:lnTo>
                    <a:pt x="4443" y="12"/>
                  </a:lnTo>
                  <a:lnTo>
                    <a:pt x="4442" y="12"/>
                  </a:lnTo>
                  <a:lnTo>
                    <a:pt x="4423" y="12"/>
                  </a:lnTo>
                  <a:lnTo>
                    <a:pt x="4422" y="12"/>
                  </a:lnTo>
                  <a:lnTo>
                    <a:pt x="4421" y="10"/>
                  </a:lnTo>
                  <a:lnTo>
                    <a:pt x="4420" y="8"/>
                  </a:lnTo>
                  <a:lnTo>
                    <a:pt x="4420" y="6"/>
                  </a:lnTo>
                  <a:lnTo>
                    <a:pt x="4420" y="4"/>
                  </a:lnTo>
                  <a:lnTo>
                    <a:pt x="4421" y="2"/>
                  </a:lnTo>
                  <a:lnTo>
                    <a:pt x="4422" y="0"/>
                  </a:lnTo>
                  <a:lnTo>
                    <a:pt x="4423" y="0"/>
                  </a:lnTo>
                  <a:lnTo>
                    <a:pt x="4423" y="0"/>
                  </a:lnTo>
                  <a:close/>
                  <a:moveTo>
                    <a:pt x="4468" y="0"/>
                  </a:moveTo>
                  <a:lnTo>
                    <a:pt x="4487" y="0"/>
                  </a:lnTo>
                  <a:lnTo>
                    <a:pt x="4488" y="0"/>
                  </a:lnTo>
                  <a:lnTo>
                    <a:pt x="4489" y="2"/>
                  </a:lnTo>
                  <a:lnTo>
                    <a:pt x="4490" y="4"/>
                  </a:lnTo>
                  <a:lnTo>
                    <a:pt x="4490" y="6"/>
                  </a:lnTo>
                  <a:lnTo>
                    <a:pt x="4490" y="8"/>
                  </a:lnTo>
                  <a:lnTo>
                    <a:pt x="4489" y="10"/>
                  </a:lnTo>
                  <a:lnTo>
                    <a:pt x="4488" y="12"/>
                  </a:lnTo>
                  <a:lnTo>
                    <a:pt x="4487" y="12"/>
                  </a:lnTo>
                  <a:lnTo>
                    <a:pt x="4468" y="12"/>
                  </a:lnTo>
                  <a:lnTo>
                    <a:pt x="4467" y="12"/>
                  </a:lnTo>
                  <a:lnTo>
                    <a:pt x="4466" y="10"/>
                  </a:lnTo>
                  <a:lnTo>
                    <a:pt x="4465" y="8"/>
                  </a:lnTo>
                  <a:lnTo>
                    <a:pt x="4465" y="6"/>
                  </a:lnTo>
                  <a:lnTo>
                    <a:pt x="4465" y="4"/>
                  </a:lnTo>
                  <a:lnTo>
                    <a:pt x="4466" y="2"/>
                  </a:lnTo>
                  <a:lnTo>
                    <a:pt x="4467" y="0"/>
                  </a:lnTo>
                  <a:lnTo>
                    <a:pt x="4468" y="0"/>
                  </a:lnTo>
                  <a:lnTo>
                    <a:pt x="4468" y="0"/>
                  </a:lnTo>
                  <a:close/>
                  <a:moveTo>
                    <a:pt x="4513" y="0"/>
                  </a:moveTo>
                  <a:lnTo>
                    <a:pt x="4531" y="0"/>
                  </a:lnTo>
                  <a:lnTo>
                    <a:pt x="4532" y="0"/>
                  </a:lnTo>
                  <a:lnTo>
                    <a:pt x="4534" y="2"/>
                  </a:lnTo>
                  <a:lnTo>
                    <a:pt x="4535" y="4"/>
                  </a:lnTo>
                  <a:lnTo>
                    <a:pt x="4535" y="6"/>
                  </a:lnTo>
                  <a:lnTo>
                    <a:pt x="4535" y="8"/>
                  </a:lnTo>
                  <a:lnTo>
                    <a:pt x="4534" y="10"/>
                  </a:lnTo>
                  <a:lnTo>
                    <a:pt x="4532" y="12"/>
                  </a:lnTo>
                  <a:lnTo>
                    <a:pt x="4531" y="12"/>
                  </a:lnTo>
                  <a:lnTo>
                    <a:pt x="4513" y="12"/>
                  </a:lnTo>
                  <a:lnTo>
                    <a:pt x="4512" y="12"/>
                  </a:lnTo>
                  <a:lnTo>
                    <a:pt x="4511" y="10"/>
                  </a:lnTo>
                  <a:lnTo>
                    <a:pt x="4510" y="8"/>
                  </a:lnTo>
                  <a:lnTo>
                    <a:pt x="4510" y="6"/>
                  </a:lnTo>
                  <a:lnTo>
                    <a:pt x="4510" y="4"/>
                  </a:lnTo>
                  <a:lnTo>
                    <a:pt x="4511" y="2"/>
                  </a:lnTo>
                  <a:lnTo>
                    <a:pt x="4512" y="0"/>
                  </a:lnTo>
                  <a:lnTo>
                    <a:pt x="4513" y="0"/>
                  </a:lnTo>
                  <a:lnTo>
                    <a:pt x="4513" y="0"/>
                  </a:lnTo>
                  <a:close/>
                  <a:moveTo>
                    <a:pt x="4557" y="0"/>
                  </a:moveTo>
                  <a:lnTo>
                    <a:pt x="4576" y="0"/>
                  </a:lnTo>
                  <a:lnTo>
                    <a:pt x="4577" y="0"/>
                  </a:lnTo>
                  <a:lnTo>
                    <a:pt x="4578" y="2"/>
                  </a:lnTo>
                  <a:lnTo>
                    <a:pt x="4579" y="4"/>
                  </a:lnTo>
                  <a:lnTo>
                    <a:pt x="4579" y="6"/>
                  </a:lnTo>
                  <a:lnTo>
                    <a:pt x="4579" y="8"/>
                  </a:lnTo>
                  <a:lnTo>
                    <a:pt x="4578" y="10"/>
                  </a:lnTo>
                  <a:lnTo>
                    <a:pt x="4577" y="12"/>
                  </a:lnTo>
                  <a:lnTo>
                    <a:pt x="4576" y="12"/>
                  </a:lnTo>
                  <a:lnTo>
                    <a:pt x="4557" y="12"/>
                  </a:lnTo>
                  <a:lnTo>
                    <a:pt x="4556" y="12"/>
                  </a:lnTo>
                  <a:lnTo>
                    <a:pt x="4555" y="10"/>
                  </a:lnTo>
                  <a:lnTo>
                    <a:pt x="4554" y="8"/>
                  </a:lnTo>
                  <a:lnTo>
                    <a:pt x="4554" y="6"/>
                  </a:lnTo>
                  <a:lnTo>
                    <a:pt x="4554" y="4"/>
                  </a:lnTo>
                  <a:lnTo>
                    <a:pt x="4555" y="2"/>
                  </a:lnTo>
                  <a:lnTo>
                    <a:pt x="4556" y="0"/>
                  </a:lnTo>
                  <a:lnTo>
                    <a:pt x="4557" y="0"/>
                  </a:lnTo>
                  <a:lnTo>
                    <a:pt x="4557" y="0"/>
                  </a:lnTo>
                  <a:close/>
                  <a:moveTo>
                    <a:pt x="4602" y="0"/>
                  </a:moveTo>
                  <a:lnTo>
                    <a:pt x="4621" y="0"/>
                  </a:lnTo>
                  <a:lnTo>
                    <a:pt x="4622" y="0"/>
                  </a:lnTo>
                  <a:lnTo>
                    <a:pt x="4623" y="2"/>
                  </a:lnTo>
                  <a:lnTo>
                    <a:pt x="4624" y="4"/>
                  </a:lnTo>
                  <a:lnTo>
                    <a:pt x="4624" y="6"/>
                  </a:lnTo>
                  <a:lnTo>
                    <a:pt x="4624" y="8"/>
                  </a:lnTo>
                  <a:lnTo>
                    <a:pt x="4623" y="10"/>
                  </a:lnTo>
                  <a:lnTo>
                    <a:pt x="4622" y="12"/>
                  </a:lnTo>
                  <a:lnTo>
                    <a:pt x="4621" y="12"/>
                  </a:lnTo>
                  <a:lnTo>
                    <a:pt x="4602" y="12"/>
                  </a:lnTo>
                  <a:lnTo>
                    <a:pt x="4601" y="12"/>
                  </a:lnTo>
                  <a:lnTo>
                    <a:pt x="4600" y="10"/>
                  </a:lnTo>
                  <a:lnTo>
                    <a:pt x="4599" y="8"/>
                  </a:lnTo>
                  <a:lnTo>
                    <a:pt x="4599" y="6"/>
                  </a:lnTo>
                  <a:lnTo>
                    <a:pt x="4599" y="4"/>
                  </a:lnTo>
                  <a:lnTo>
                    <a:pt x="4600" y="2"/>
                  </a:lnTo>
                  <a:lnTo>
                    <a:pt x="4601" y="0"/>
                  </a:lnTo>
                  <a:lnTo>
                    <a:pt x="4602" y="0"/>
                  </a:lnTo>
                  <a:lnTo>
                    <a:pt x="4602" y="0"/>
                  </a:lnTo>
                  <a:close/>
                  <a:moveTo>
                    <a:pt x="4647" y="0"/>
                  </a:moveTo>
                  <a:lnTo>
                    <a:pt x="4666" y="0"/>
                  </a:lnTo>
                  <a:lnTo>
                    <a:pt x="4667" y="0"/>
                  </a:lnTo>
                  <a:lnTo>
                    <a:pt x="4668" y="2"/>
                  </a:lnTo>
                  <a:lnTo>
                    <a:pt x="4669" y="4"/>
                  </a:lnTo>
                  <a:lnTo>
                    <a:pt x="4669" y="6"/>
                  </a:lnTo>
                  <a:lnTo>
                    <a:pt x="4669" y="8"/>
                  </a:lnTo>
                  <a:lnTo>
                    <a:pt x="4668" y="10"/>
                  </a:lnTo>
                  <a:lnTo>
                    <a:pt x="4667" y="12"/>
                  </a:lnTo>
                  <a:lnTo>
                    <a:pt x="4666" y="12"/>
                  </a:lnTo>
                  <a:lnTo>
                    <a:pt x="4647" y="12"/>
                  </a:lnTo>
                  <a:lnTo>
                    <a:pt x="4646" y="12"/>
                  </a:lnTo>
                  <a:lnTo>
                    <a:pt x="4645" y="10"/>
                  </a:lnTo>
                  <a:lnTo>
                    <a:pt x="4644" y="8"/>
                  </a:lnTo>
                  <a:lnTo>
                    <a:pt x="4644" y="6"/>
                  </a:lnTo>
                  <a:lnTo>
                    <a:pt x="4644" y="4"/>
                  </a:lnTo>
                  <a:lnTo>
                    <a:pt x="4645" y="2"/>
                  </a:lnTo>
                  <a:lnTo>
                    <a:pt x="4646" y="0"/>
                  </a:lnTo>
                  <a:lnTo>
                    <a:pt x="4647" y="0"/>
                  </a:lnTo>
                  <a:lnTo>
                    <a:pt x="4647" y="0"/>
                  </a:lnTo>
                  <a:close/>
                  <a:moveTo>
                    <a:pt x="4691" y="0"/>
                  </a:moveTo>
                  <a:lnTo>
                    <a:pt x="4710" y="0"/>
                  </a:lnTo>
                  <a:lnTo>
                    <a:pt x="4711" y="0"/>
                  </a:lnTo>
                  <a:lnTo>
                    <a:pt x="4713" y="2"/>
                  </a:lnTo>
                  <a:lnTo>
                    <a:pt x="4714" y="4"/>
                  </a:lnTo>
                  <a:lnTo>
                    <a:pt x="4714" y="6"/>
                  </a:lnTo>
                  <a:lnTo>
                    <a:pt x="4714" y="8"/>
                  </a:lnTo>
                  <a:lnTo>
                    <a:pt x="4713" y="10"/>
                  </a:lnTo>
                  <a:lnTo>
                    <a:pt x="4711" y="12"/>
                  </a:lnTo>
                  <a:lnTo>
                    <a:pt x="4710" y="12"/>
                  </a:lnTo>
                  <a:lnTo>
                    <a:pt x="4691" y="12"/>
                  </a:lnTo>
                  <a:lnTo>
                    <a:pt x="4690" y="12"/>
                  </a:lnTo>
                  <a:lnTo>
                    <a:pt x="4689" y="10"/>
                  </a:lnTo>
                  <a:lnTo>
                    <a:pt x="4688" y="8"/>
                  </a:lnTo>
                  <a:lnTo>
                    <a:pt x="4688" y="6"/>
                  </a:lnTo>
                  <a:lnTo>
                    <a:pt x="4688" y="4"/>
                  </a:lnTo>
                  <a:lnTo>
                    <a:pt x="4689" y="2"/>
                  </a:lnTo>
                  <a:lnTo>
                    <a:pt x="4690" y="0"/>
                  </a:lnTo>
                  <a:lnTo>
                    <a:pt x="4691" y="0"/>
                  </a:lnTo>
                  <a:lnTo>
                    <a:pt x="4691" y="0"/>
                  </a:lnTo>
                  <a:close/>
                  <a:moveTo>
                    <a:pt x="4735" y="0"/>
                  </a:moveTo>
                  <a:lnTo>
                    <a:pt x="4755" y="0"/>
                  </a:lnTo>
                  <a:lnTo>
                    <a:pt x="4756" y="0"/>
                  </a:lnTo>
                  <a:lnTo>
                    <a:pt x="4757" y="2"/>
                  </a:lnTo>
                  <a:lnTo>
                    <a:pt x="4758" y="4"/>
                  </a:lnTo>
                  <a:lnTo>
                    <a:pt x="4758" y="6"/>
                  </a:lnTo>
                  <a:lnTo>
                    <a:pt x="4758" y="8"/>
                  </a:lnTo>
                  <a:lnTo>
                    <a:pt x="4757" y="10"/>
                  </a:lnTo>
                  <a:lnTo>
                    <a:pt x="4756" y="12"/>
                  </a:lnTo>
                  <a:lnTo>
                    <a:pt x="4755" y="12"/>
                  </a:lnTo>
                  <a:lnTo>
                    <a:pt x="4735" y="12"/>
                  </a:lnTo>
                  <a:lnTo>
                    <a:pt x="4734" y="12"/>
                  </a:lnTo>
                  <a:lnTo>
                    <a:pt x="4733" y="10"/>
                  </a:lnTo>
                  <a:lnTo>
                    <a:pt x="4732" y="8"/>
                  </a:lnTo>
                  <a:lnTo>
                    <a:pt x="4732" y="6"/>
                  </a:lnTo>
                  <a:lnTo>
                    <a:pt x="4732" y="4"/>
                  </a:lnTo>
                  <a:lnTo>
                    <a:pt x="4733" y="2"/>
                  </a:lnTo>
                  <a:lnTo>
                    <a:pt x="4734" y="0"/>
                  </a:lnTo>
                  <a:lnTo>
                    <a:pt x="4735" y="0"/>
                  </a:lnTo>
                  <a:lnTo>
                    <a:pt x="4735" y="0"/>
                  </a:lnTo>
                  <a:close/>
                  <a:moveTo>
                    <a:pt x="4780" y="0"/>
                  </a:moveTo>
                  <a:lnTo>
                    <a:pt x="4800" y="0"/>
                  </a:lnTo>
                  <a:lnTo>
                    <a:pt x="4801" y="0"/>
                  </a:lnTo>
                  <a:lnTo>
                    <a:pt x="4802" y="2"/>
                  </a:lnTo>
                  <a:lnTo>
                    <a:pt x="4803" y="4"/>
                  </a:lnTo>
                  <a:lnTo>
                    <a:pt x="4803" y="6"/>
                  </a:lnTo>
                  <a:lnTo>
                    <a:pt x="4803" y="8"/>
                  </a:lnTo>
                  <a:lnTo>
                    <a:pt x="4802" y="10"/>
                  </a:lnTo>
                  <a:lnTo>
                    <a:pt x="4801" y="12"/>
                  </a:lnTo>
                  <a:lnTo>
                    <a:pt x="4800" y="12"/>
                  </a:lnTo>
                  <a:lnTo>
                    <a:pt x="4780" y="12"/>
                  </a:lnTo>
                  <a:lnTo>
                    <a:pt x="4779" y="12"/>
                  </a:lnTo>
                  <a:lnTo>
                    <a:pt x="4778" y="10"/>
                  </a:lnTo>
                  <a:lnTo>
                    <a:pt x="4777" y="8"/>
                  </a:lnTo>
                  <a:lnTo>
                    <a:pt x="4777" y="6"/>
                  </a:lnTo>
                  <a:lnTo>
                    <a:pt x="4777" y="4"/>
                  </a:lnTo>
                  <a:lnTo>
                    <a:pt x="4778" y="2"/>
                  </a:lnTo>
                  <a:lnTo>
                    <a:pt x="4779" y="0"/>
                  </a:lnTo>
                  <a:lnTo>
                    <a:pt x="4780" y="0"/>
                  </a:lnTo>
                  <a:lnTo>
                    <a:pt x="4780" y="0"/>
                  </a:lnTo>
                  <a:close/>
                  <a:moveTo>
                    <a:pt x="4825" y="0"/>
                  </a:moveTo>
                  <a:lnTo>
                    <a:pt x="4845" y="0"/>
                  </a:lnTo>
                  <a:lnTo>
                    <a:pt x="4846" y="0"/>
                  </a:lnTo>
                  <a:lnTo>
                    <a:pt x="4847" y="2"/>
                  </a:lnTo>
                  <a:lnTo>
                    <a:pt x="4848" y="4"/>
                  </a:lnTo>
                  <a:lnTo>
                    <a:pt x="4848" y="6"/>
                  </a:lnTo>
                  <a:lnTo>
                    <a:pt x="4848" y="8"/>
                  </a:lnTo>
                  <a:lnTo>
                    <a:pt x="4847" y="10"/>
                  </a:lnTo>
                  <a:lnTo>
                    <a:pt x="4846" y="12"/>
                  </a:lnTo>
                  <a:lnTo>
                    <a:pt x="4845" y="12"/>
                  </a:lnTo>
                  <a:lnTo>
                    <a:pt x="4825" y="12"/>
                  </a:lnTo>
                  <a:lnTo>
                    <a:pt x="4824" y="12"/>
                  </a:lnTo>
                  <a:lnTo>
                    <a:pt x="4823" y="10"/>
                  </a:lnTo>
                  <a:lnTo>
                    <a:pt x="4822" y="8"/>
                  </a:lnTo>
                  <a:lnTo>
                    <a:pt x="4822" y="6"/>
                  </a:lnTo>
                  <a:lnTo>
                    <a:pt x="4822" y="4"/>
                  </a:lnTo>
                  <a:lnTo>
                    <a:pt x="4823" y="2"/>
                  </a:lnTo>
                  <a:lnTo>
                    <a:pt x="4824" y="0"/>
                  </a:lnTo>
                  <a:lnTo>
                    <a:pt x="4825" y="0"/>
                  </a:lnTo>
                  <a:lnTo>
                    <a:pt x="4825" y="0"/>
                  </a:lnTo>
                  <a:close/>
                  <a:moveTo>
                    <a:pt x="4870" y="0"/>
                  </a:moveTo>
                  <a:lnTo>
                    <a:pt x="4888" y="0"/>
                  </a:lnTo>
                  <a:lnTo>
                    <a:pt x="4889" y="0"/>
                  </a:lnTo>
                  <a:lnTo>
                    <a:pt x="4891" y="2"/>
                  </a:lnTo>
                  <a:lnTo>
                    <a:pt x="4893" y="4"/>
                  </a:lnTo>
                  <a:lnTo>
                    <a:pt x="4893" y="6"/>
                  </a:lnTo>
                  <a:lnTo>
                    <a:pt x="4893" y="8"/>
                  </a:lnTo>
                  <a:lnTo>
                    <a:pt x="4891" y="10"/>
                  </a:lnTo>
                  <a:lnTo>
                    <a:pt x="4889" y="12"/>
                  </a:lnTo>
                  <a:lnTo>
                    <a:pt x="4888" y="12"/>
                  </a:lnTo>
                  <a:lnTo>
                    <a:pt x="4870" y="12"/>
                  </a:lnTo>
                  <a:lnTo>
                    <a:pt x="4869" y="12"/>
                  </a:lnTo>
                  <a:lnTo>
                    <a:pt x="4868" y="10"/>
                  </a:lnTo>
                  <a:lnTo>
                    <a:pt x="4867" y="8"/>
                  </a:lnTo>
                  <a:lnTo>
                    <a:pt x="4867" y="6"/>
                  </a:lnTo>
                  <a:lnTo>
                    <a:pt x="4867" y="4"/>
                  </a:lnTo>
                  <a:lnTo>
                    <a:pt x="4868" y="2"/>
                  </a:lnTo>
                  <a:lnTo>
                    <a:pt x="4869" y="0"/>
                  </a:lnTo>
                  <a:lnTo>
                    <a:pt x="4870" y="0"/>
                  </a:lnTo>
                  <a:lnTo>
                    <a:pt x="4870" y="0"/>
                  </a:lnTo>
                  <a:close/>
                  <a:moveTo>
                    <a:pt x="4914" y="0"/>
                  </a:moveTo>
                  <a:lnTo>
                    <a:pt x="4933" y="0"/>
                  </a:lnTo>
                  <a:lnTo>
                    <a:pt x="4934" y="0"/>
                  </a:lnTo>
                  <a:lnTo>
                    <a:pt x="4935" y="2"/>
                  </a:lnTo>
                  <a:lnTo>
                    <a:pt x="4936" y="4"/>
                  </a:lnTo>
                  <a:lnTo>
                    <a:pt x="4936" y="6"/>
                  </a:lnTo>
                  <a:lnTo>
                    <a:pt x="4936" y="8"/>
                  </a:lnTo>
                  <a:lnTo>
                    <a:pt x="4935" y="10"/>
                  </a:lnTo>
                  <a:lnTo>
                    <a:pt x="4934" y="12"/>
                  </a:lnTo>
                  <a:lnTo>
                    <a:pt x="4933" y="12"/>
                  </a:lnTo>
                  <a:lnTo>
                    <a:pt x="4914" y="12"/>
                  </a:lnTo>
                  <a:lnTo>
                    <a:pt x="4913" y="12"/>
                  </a:lnTo>
                  <a:lnTo>
                    <a:pt x="4912" y="10"/>
                  </a:lnTo>
                  <a:lnTo>
                    <a:pt x="4911" y="8"/>
                  </a:lnTo>
                  <a:lnTo>
                    <a:pt x="4911" y="6"/>
                  </a:lnTo>
                  <a:lnTo>
                    <a:pt x="4911" y="4"/>
                  </a:lnTo>
                  <a:lnTo>
                    <a:pt x="4912" y="2"/>
                  </a:lnTo>
                  <a:lnTo>
                    <a:pt x="4913" y="0"/>
                  </a:lnTo>
                  <a:lnTo>
                    <a:pt x="4914" y="0"/>
                  </a:lnTo>
                  <a:lnTo>
                    <a:pt x="4914" y="0"/>
                  </a:lnTo>
                  <a:close/>
                  <a:moveTo>
                    <a:pt x="4959" y="0"/>
                  </a:moveTo>
                  <a:lnTo>
                    <a:pt x="4978" y="0"/>
                  </a:lnTo>
                  <a:lnTo>
                    <a:pt x="4979" y="0"/>
                  </a:lnTo>
                  <a:lnTo>
                    <a:pt x="4980" y="2"/>
                  </a:lnTo>
                  <a:lnTo>
                    <a:pt x="4981" y="4"/>
                  </a:lnTo>
                  <a:lnTo>
                    <a:pt x="4981" y="6"/>
                  </a:lnTo>
                  <a:lnTo>
                    <a:pt x="4981" y="8"/>
                  </a:lnTo>
                  <a:lnTo>
                    <a:pt x="4980" y="10"/>
                  </a:lnTo>
                  <a:lnTo>
                    <a:pt x="4979" y="12"/>
                  </a:lnTo>
                  <a:lnTo>
                    <a:pt x="4978" y="12"/>
                  </a:lnTo>
                  <a:lnTo>
                    <a:pt x="4959" y="12"/>
                  </a:lnTo>
                  <a:lnTo>
                    <a:pt x="4958" y="12"/>
                  </a:lnTo>
                  <a:lnTo>
                    <a:pt x="4957" y="10"/>
                  </a:lnTo>
                  <a:lnTo>
                    <a:pt x="4956" y="8"/>
                  </a:lnTo>
                  <a:lnTo>
                    <a:pt x="4956" y="6"/>
                  </a:lnTo>
                  <a:lnTo>
                    <a:pt x="4956" y="4"/>
                  </a:lnTo>
                  <a:lnTo>
                    <a:pt x="4957" y="2"/>
                  </a:lnTo>
                  <a:lnTo>
                    <a:pt x="4958" y="0"/>
                  </a:lnTo>
                  <a:lnTo>
                    <a:pt x="4959" y="0"/>
                  </a:lnTo>
                  <a:lnTo>
                    <a:pt x="4959" y="0"/>
                  </a:lnTo>
                  <a:close/>
                  <a:moveTo>
                    <a:pt x="5004" y="0"/>
                  </a:moveTo>
                  <a:lnTo>
                    <a:pt x="5023" y="0"/>
                  </a:lnTo>
                  <a:lnTo>
                    <a:pt x="5024" y="0"/>
                  </a:lnTo>
                  <a:lnTo>
                    <a:pt x="5025" y="2"/>
                  </a:lnTo>
                  <a:lnTo>
                    <a:pt x="5026" y="4"/>
                  </a:lnTo>
                  <a:lnTo>
                    <a:pt x="5026" y="6"/>
                  </a:lnTo>
                  <a:lnTo>
                    <a:pt x="5026" y="8"/>
                  </a:lnTo>
                  <a:lnTo>
                    <a:pt x="5025" y="10"/>
                  </a:lnTo>
                  <a:lnTo>
                    <a:pt x="5024" y="12"/>
                  </a:lnTo>
                  <a:lnTo>
                    <a:pt x="5023" y="12"/>
                  </a:lnTo>
                  <a:lnTo>
                    <a:pt x="5004" y="12"/>
                  </a:lnTo>
                  <a:lnTo>
                    <a:pt x="5003" y="12"/>
                  </a:lnTo>
                  <a:lnTo>
                    <a:pt x="5002" y="10"/>
                  </a:lnTo>
                  <a:lnTo>
                    <a:pt x="5001" y="8"/>
                  </a:lnTo>
                  <a:lnTo>
                    <a:pt x="5001" y="6"/>
                  </a:lnTo>
                  <a:lnTo>
                    <a:pt x="5001" y="4"/>
                  </a:lnTo>
                  <a:lnTo>
                    <a:pt x="5002" y="2"/>
                  </a:lnTo>
                  <a:lnTo>
                    <a:pt x="5003" y="0"/>
                  </a:lnTo>
                  <a:lnTo>
                    <a:pt x="5004" y="0"/>
                  </a:lnTo>
                  <a:lnTo>
                    <a:pt x="5004" y="0"/>
                  </a:lnTo>
                  <a:close/>
                  <a:moveTo>
                    <a:pt x="5049" y="0"/>
                  </a:moveTo>
                  <a:lnTo>
                    <a:pt x="5067" y="0"/>
                  </a:lnTo>
                  <a:lnTo>
                    <a:pt x="5068" y="0"/>
                  </a:lnTo>
                  <a:lnTo>
                    <a:pt x="5070" y="2"/>
                  </a:lnTo>
                  <a:lnTo>
                    <a:pt x="5071" y="4"/>
                  </a:lnTo>
                  <a:lnTo>
                    <a:pt x="5071" y="6"/>
                  </a:lnTo>
                  <a:lnTo>
                    <a:pt x="5071" y="8"/>
                  </a:lnTo>
                  <a:lnTo>
                    <a:pt x="5070" y="10"/>
                  </a:lnTo>
                  <a:lnTo>
                    <a:pt x="5068" y="12"/>
                  </a:lnTo>
                  <a:lnTo>
                    <a:pt x="5067" y="12"/>
                  </a:lnTo>
                  <a:lnTo>
                    <a:pt x="5049" y="12"/>
                  </a:lnTo>
                  <a:lnTo>
                    <a:pt x="5048" y="12"/>
                  </a:lnTo>
                  <a:lnTo>
                    <a:pt x="5047" y="10"/>
                  </a:lnTo>
                  <a:lnTo>
                    <a:pt x="5046" y="8"/>
                  </a:lnTo>
                  <a:lnTo>
                    <a:pt x="5046" y="6"/>
                  </a:lnTo>
                  <a:lnTo>
                    <a:pt x="5046" y="4"/>
                  </a:lnTo>
                  <a:lnTo>
                    <a:pt x="5047" y="2"/>
                  </a:lnTo>
                  <a:lnTo>
                    <a:pt x="5048" y="0"/>
                  </a:lnTo>
                  <a:lnTo>
                    <a:pt x="5049" y="0"/>
                  </a:lnTo>
                  <a:lnTo>
                    <a:pt x="5049" y="0"/>
                  </a:lnTo>
                  <a:close/>
                  <a:moveTo>
                    <a:pt x="5093" y="0"/>
                  </a:moveTo>
                  <a:lnTo>
                    <a:pt x="5112" y="0"/>
                  </a:lnTo>
                  <a:lnTo>
                    <a:pt x="5113" y="0"/>
                  </a:lnTo>
                  <a:lnTo>
                    <a:pt x="5114" y="2"/>
                  </a:lnTo>
                  <a:lnTo>
                    <a:pt x="5115" y="4"/>
                  </a:lnTo>
                  <a:lnTo>
                    <a:pt x="5115" y="6"/>
                  </a:lnTo>
                  <a:lnTo>
                    <a:pt x="5115" y="8"/>
                  </a:lnTo>
                  <a:lnTo>
                    <a:pt x="5114" y="10"/>
                  </a:lnTo>
                  <a:lnTo>
                    <a:pt x="5113" y="12"/>
                  </a:lnTo>
                  <a:lnTo>
                    <a:pt x="5112" y="12"/>
                  </a:lnTo>
                  <a:lnTo>
                    <a:pt x="5093" y="12"/>
                  </a:lnTo>
                  <a:lnTo>
                    <a:pt x="5092" y="12"/>
                  </a:lnTo>
                  <a:lnTo>
                    <a:pt x="5090" y="10"/>
                  </a:lnTo>
                  <a:lnTo>
                    <a:pt x="5089" y="8"/>
                  </a:lnTo>
                  <a:lnTo>
                    <a:pt x="5089" y="6"/>
                  </a:lnTo>
                  <a:lnTo>
                    <a:pt x="5089" y="4"/>
                  </a:lnTo>
                  <a:lnTo>
                    <a:pt x="5090" y="2"/>
                  </a:lnTo>
                  <a:lnTo>
                    <a:pt x="5092" y="0"/>
                  </a:lnTo>
                  <a:lnTo>
                    <a:pt x="5093" y="0"/>
                  </a:lnTo>
                  <a:lnTo>
                    <a:pt x="5093" y="0"/>
                  </a:lnTo>
                  <a:close/>
                  <a:moveTo>
                    <a:pt x="5137" y="0"/>
                  </a:moveTo>
                  <a:lnTo>
                    <a:pt x="5142" y="0"/>
                  </a:lnTo>
                  <a:lnTo>
                    <a:pt x="5143" y="0"/>
                  </a:lnTo>
                  <a:lnTo>
                    <a:pt x="5144" y="2"/>
                  </a:lnTo>
                  <a:lnTo>
                    <a:pt x="5145" y="4"/>
                  </a:lnTo>
                  <a:lnTo>
                    <a:pt x="5145" y="6"/>
                  </a:lnTo>
                  <a:lnTo>
                    <a:pt x="5145" y="8"/>
                  </a:lnTo>
                  <a:lnTo>
                    <a:pt x="5144" y="10"/>
                  </a:lnTo>
                  <a:lnTo>
                    <a:pt x="5143" y="12"/>
                  </a:lnTo>
                  <a:lnTo>
                    <a:pt x="5142" y="12"/>
                  </a:lnTo>
                  <a:lnTo>
                    <a:pt x="5137" y="12"/>
                  </a:lnTo>
                  <a:lnTo>
                    <a:pt x="5136" y="12"/>
                  </a:lnTo>
                  <a:lnTo>
                    <a:pt x="5135" y="10"/>
                  </a:lnTo>
                  <a:lnTo>
                    <a:pt x="5134" y="8"/>
                  </a:lnTo>
                  <a:lnTo>
                    <a:pt x="5134" y="6"/>
                  </a:lnTo>
                  <a:lnTo>
                    <a:pt x="5134" y="4"/>
                  </a:lnTo>
                  <a:lnTo>
                    <a:pt x="5135" y="2"/>
                  </a:lnTo>
                  <a:lnTo>
                    <a:pt x="5136" y="0"/>
                  </a:lnTo>
                  <a:lnTo>
                    <a:pt x="5137" y="0"/>
                  </a:lnTo>
                  <a:lnTo>
                    <a:pt x="5137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900520" y="2981160"/>
              <a:ext cx="1191960" cy="470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128760" y="3027240"/>
              <a:ext cx="31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Evalua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458520" y="3027240"/>
              <a:ext cx="410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ción  del 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53320" y="3144960"/>
              <a:ext cx="459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ptación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739680" y="31003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68160" y="2944800"/>
              <a:ext cx="962280" cy="5065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68160" y="2944800"/>
              <a:ext cx="962280" cy="50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966960" y="2997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025640" y="2997360"/>
              <a:ext cx="29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º Nivel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336320" y="29973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67960" y="3112920"/>
              <a:ext cx="534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agnóstico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433160" y="31129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478480" y="2998800"/>
              <a:ext cx="923760" cy="43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675040" y="3046320"/>
              <a:ext cx="529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valuación 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26160" y="3162240"/>
              <a:ext cx="40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nitaria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154560" y="3117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170240" y="2998800"/>
              <a:ext cx="924120" cy="43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292640" y="3046320"/>
              <a:ext cx="671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valuación de 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504320" y="3162240"/>
              <a:ext cx="24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a PT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758840" y="3117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746360" y="2998800"/>
              <a:ext cx="1076040" cy="43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887480" y="3046320"/>
              <a:ext cx="779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valuación de la 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115000" y="3162240"/>
              <a:ext cx="317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uente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452320" y="3117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748640" y="2998800"/>
              <a:ext cx="923760" cy="43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923600" y="3046320"/>
              <a:ext cx="569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tención de 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8050680" y="3162240"/>
              <a:ext cx="300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quejas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368920" y="3117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68160" y="2220840"/>
              <a:ext cx="962280" cy="50796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68160" y="2220840"/>
              <a:ext cx="962280" cy="507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966960" y="22748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025640" y="2274840"/>
              <a:ext cx="29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º Nivel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336320" y="22748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946800" y="2389320"/>
              <a:ext cx="38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 Narrow"/>
                </a:rPr>
                <a:t>Desarrollo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353960" y="2341440"/>
              <a:ext cx="3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440320" y="2257560"/>
              <a:ext cx="1616040" cy="47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553000" y="2305080"/>
              <a:ext cx="1340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ejoras y ordenamientos del 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057720" y="2422440"/>
              <a:ext cx="354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istema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433920" y="23781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132440" y="2276640"/>
              <a:ext cx="1000080" cy="43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379760" y="2322360"/>
              <a:ext cx="505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ejora del 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343400" y="2438280"/>
              <a:ext cx="544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tamiento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920840" y="2394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362320" y="2276640"/>
              <a:ext cx="922320" cy="43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570760" y="2322360"/>
              <a:ext cx="505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nejo de 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637360" y="2440080"/>
              <a:ext cx="351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uenca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009600" y="2395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68160" y="1461960"/>
              <a:ext cx="962280" cy="57816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68160" y="1461960"/>
              <a:ext cx="962280" cy="57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966960" y="1514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025640" y="1514520"/>
              <a:ext cx="29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º Nivel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336320" y="15145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81640" y="1631880"/>
              <a:ext cx="509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gulación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422000" y="16318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880200" y="1747800"/>
              <a:ext cx="512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stratégica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422000" y="17478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421240" y="1498680"/>
              <a:ext cx="924120" cy="43344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619960" y="1544760"/>
              <a:ext cx="645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delo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el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695920" y="1662120"/>
              <a:ext cx="436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istem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070320" y="16178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170240" y="1498680"/>
              <a:ext cx="924120" cy="43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383360" y="1544760"/>
              <a:ext cx="192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00" spc="-1" strike="noStrike">
                  <a:solidFill>
                    <a:srgbClr val="000000"/>
                  </a:solidFill>
                  <a:latin typeface="Arial"/>
                </a:rPr>
                <a:t>Ope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587480" y="1544760"/>
              <a:ext cx="307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ación 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430520" y="16621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ficiente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833720" y="16178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305080" y="1498680"/>
              <a:ext cx="923760" cy="43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599200" y="1544760"/>
              <a:ext cx="346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uente 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535840" y="1662120"/>
              <a:ext cx="436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otegida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998440" y="16178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054080" y="6234120"/>
              <a:ext cx="215424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259640" y="6283440"/>
              <a:ext cx="2039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cc00"/>
                  </a:solidFill>
                  <a:latin typeface="Arial"/>
                </a:rPr>
                <a:t>MCA: monitoreo de calidad del agu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004920" y="62834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cc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77720" y="4354560"/>
              <a:ext cx="123048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40520" y="4398840"/>
              <a:ext cx="698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Arial Narrow"/>
                </a:rPr>
                <a:t>Sistema de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96160" y="4573440"/>
              <a:ext cx="933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Arial Narrow"/>
                </a:rPr>
                <a:t>Abastecimient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587240" y="4573440"/>
              <a:ext cx="3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779560" y="5800680"/>
              <a:ext cx="92880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999880" y="5848200"/>
              <a:ext cx="569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cc00"/>
                  </a:solidFill>
                  <a:latin typeface="Arial"/>
                </a:rPr>
                <a:t>Captació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487320" y="58039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cc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786800" y="5800680"/>
              <a:ext cx="92844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018280" y="5846760"/>
              <a:ext cx="54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cc00"/>
                  </a:solidFill>
                  <a:latin typeface="Arial"/>
                </a:rPr>
                <a:t>Consum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481600" y="58024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cc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586560" y="5800680"/>
              <a:ext cx="103176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820560" y="5848200"/>
              <a:ext cx="660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cc00"/>
                  </a:solidFill>
                  <a:latin typeface="Arial"/>
                </a:rPr>
                <a:t>Distribució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384680" y="58039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cc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072040" y="5800680"/>
              <a:ext cx="134784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342760" y="5848200"/>
              <a:ext cx="939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cc00"/>
                  </a:solidFill>
                  <a:latin typeface="Arial"/>
                </a:rPr>
                <a:t>Almacenamient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149520" y="58039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cc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876840" y="5800680"/>
              <a:ext cx="102852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102200" y="5848200"/>
              <a:ext cx="674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cc00"/>
                  </a:solidFill>
                  <a:latin typeface="Arial"/>
                </a:rPr>
                <a:t>Tratamient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679640" y="58039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cc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682640" y="5800680"/>
              <a:ext cx="93024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977480" y="5848200"/>
              <a:ext cx="393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cc00"/>
                  </a:solidFill>
                  <a:latin typeface="Arial"/>
                </a:rPr>
                <a:t>Fuent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314080" y="58039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cc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24000" y="5819760"/>
              <a:ext cx="11919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07680" y="5865840"/>
              <a:ext cx="724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cc00"/>
                  </a:solidFill>
                  <a:latin typeface="Arial"/>
                </a:rPr>
                <a:t>Subsistema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228320" y="58212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cc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Modelo de Vigilancia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nstrumentos de vigilanci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Evaluación ambiental de la fuen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timación de la vulnerabilidad de los sistem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Monitoreo de calidad del agu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spección sanitar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Evaluación del consum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sarrollo de modelos de calidad del agu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Evaluación ambiental de fuentes de abastecimiento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9" name=""/>
          <p:cNvSpPr/>
          <p:nvPr/>
        </p:nvSpPr>
        <p:spPr>
          <a:xfrm>
            <a:off x="3773520" y="5504040"/>
            <a:ext cx="1962000" cy="622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 Narrow"/>
              </a:rPr>
              <a:t>Vulnerabilidad 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 Narrow"/>
              </a:rPr>
              <a:t>Susceptibilida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003400" y="1963800"/>
            <a:ext cx="1770120" cy="334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 Narrow"/>
              </a:rPr>
              <a:t>Fuente Contaminan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476360" y="2825640"/>
            <a:ext cx="1195560" cy="621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 Narrow"/>
              </a:rPr>
              <a:t>Clasificac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 Narrow"/>
              </a:rPr>
              <a:t>(A, B o 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146320" y="4308480"/>
            <a:ext cx="1722240" cy="57312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 Narrow"/>
              </a:rPr>
              <a:t>Amenaz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 Narrow"/>
              </a:rPr>
              <a:t>(baja, moderada, alta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005280" y="2825640"/>
            <a:ext cx="1533240" cy="621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 Narrow"/>
              </a:rPr>
              <a:t>Posibilidad de emis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0" idx="2"/>
            <a:endCxn id="501" idx="0"/>
          </p:cNvCxnSpPr>
          <p:nvPr/>
        </p:nvCxnSpPr>
        <p:spPr>
          <a:xfrm rot="5400000">
            <a:off x="2216880" y="2155680"/>
            <a:ext cx="527760" cy="813240"/>
          </a:xfrm>
          <a:prstGeom prst="bentConnector3">
            <a:avLst>
              <a:gd name="adj1" fmla="val 499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5" name=""/>
          <p:cNvCxnSpPr>
            <a:stCxn id="500" idx="2"/>
            <a:endCxn id="503" idx="0"/>
          </p:cNvCxnSpPr>
          <p:nvPr/>
        </p:nvCxnSpPr>
        <p:spPr>
          <a:xfrm flipH="1" rot="16200000">
            <a:off x="3065400" y="2119680"/>
            <a:ext cx="527760" cy="885240"/>
          </a:xfrm>
          <a:prstGeom prst="bentConnector3">
            <a:avLst>
              <a:gd name="adj1" fmla="val 499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6" name=""/>
          <p:cNvCxnSpPr>
            <a:stCxn id="501" idx="2"/>
            <a:endCxn id="502" idx="0"/>
          </p:cNvCxnSpPr>
          <p:nvPr/>
        </p:nvCxnSpPr>
        <p:spPr>
          <a:xfrm flipH="1" rot="16200000">
            <a:off x="2110680" y="3410640"/>
            <a:ext cx="862560" cy="933840"/>
          </a:xfrm>
          <a:prstGeom prst="bentConnector3">
            <a:avLst>
              <a:gd name="adj1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7" name=""/>
          <p:cNvCxnSpPr>
            <a:stCxn id="503" idx="2"/>
            <a:endCxn id="502" idx="0"/>
          </p:cNvCxnSpPr>
          <p:nvPr/>
        </p:nvCxnSpPr>
        <p:spPr>
          <a:xfrm rot="5400000">
            <a:off x="2958480" y="3495600"/>
            <a:ext cx="862560" cy="764640"/>
          </a:xfrm>
          <a:prstGeom prst="bentConnector3">
            <a:avLst>
              <a:gd name="adj1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8" name=""/>
          <p:cNvCxnSpPr>
            <a:stCxn id="502" idx="2"/>
            <a:endCxn id="499" idx="0"/>
          </p:cNvCxnSpPr>
          <p:nvPr/>
        </p:nvCxnSpPr>
        <p:spPr>
          <a:xfrm flipH="1" rot="16200000">
            <a:off x="3569040" y="4319280"/>
            <a:ext cx="623160" cy="1747080"/>
          </a:xfrm>
          <a:prstGeom prst="bentConnector3">
            <a:avLst>
              <a:gd name="adj1" fmla="val 498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9" name=""/>
          <p:cNvCxnSpPr>
            <a:stCxn id="510" idx="2"/>
            <a:endCxn id="499" idx="0"/>
          </p:cNvCxnSpPr>
          <p:nvPr/>
        </p:nvCxnSpPr>
        <p:spPr>
          <a:xfrm rot="5400000">
            <a:off x="5292000" y="4343040"/>
            <a:ext cx="623160" cy="1699560"/>
          </a:xfrm>
          <a:prstGeom prst="bentConnector3">
            <a:avLst>
              <a:gd name="adj1" fmla="val 498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1" name=""/>
          <p:cNvSpPr/>
          <p:nvPr/>
        </p:nvSpPr>
        <p:spPr>
          <a:xfrm>
            <a:off x="5256360" y="1916280"/>
            <a:ext cx="2104920" cy="4302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 Narrow"/>
              </a:rPr>
              <a:t>Sistema de Abastecimien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826160" y="2825640"/>
            <a:ext cx="1573200" cy="621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 Narrow"/>
              </a:rPr>
              <a:t>Sensibilida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 Narrow"/>
              </a:rPr>
              <a:t>(Zonas sensible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591160" y="4356000"/>
            <a:ext cx="1722600" cy="5256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 Narrow"/>
              </a:rPr>
              <a:t>Riesg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 Narrow"/>
              </a:rPr>
              <a:t>(bajo, moderado, alto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6405480" y="2825640"/>
            <a:ext cx="1484280" cy="621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 Narrow"/>
              </a:rPr>
              <a:t>Integridad del Sistem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4" name=""/>
          <p:cNvCxnSpPr>
            <a:stCxn id="511" idx="2"/>
            <a:endCxn id="512" idx="0"/>
          </p:cNvCxnSpPr>
          <p:nvPr/>
        </p:nvCxnSpPr>
        <p:spPr>
          <a:xfrm rot="5400000">
            <a:off x="5720760" y="2238480"/>
            <a:ext cx="479880" cy="695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5" name=""/>
          <p:cNvCxnSpPr>
            <a:stCxn id="511" idx="2"/>
            <a:endCxn id="513" idx="0"/>
          </p:cNvCxnSpPr>
          <p:nvPr/>
        </p:nvCxnSpPr>
        <p:spPr>
          <a:xfrm flipH="1" rot="16200000">
            <a:off x="6487920" y="2165760"/>
            <a:ext cx="479880" cy="840600"/>
          </a:xfrm>
          <a:prstGeom prst="bentConnector3">
            <a:avLst>
              <a:gd name="adj1" fmla="val 4984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6" name=""/>
          <p:cNvCxnSpPr>
            <a:stCxn id="512" idx="2"/>
            <a:endCxn id="510" idx="0"/>
          </p:cNvCxnSpPr>
          <p:nvPr/>
        </p:nvCxnSpPr>
        <p:spPr>
          <a:xfrm flipH="1" rot="16200000">
            <a:off x="5577840" y="3481200"/>
            <a:ext cx="910080" cy="840600"/>
          </a:xfrm>
          <a:prstGeom prst="bentConnector3">
            <a:avLst>
              <a:gd name="adj1" fmla="val 4990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7" name=""/>
          <p:cNvCxnSpPr>
            <a:stCxn id="513" idx="2"/>
            <a:endCxn id="510" idx="0"/>
          </p:cNvCxnSpPr>
          <p:nvPr/>
        </p:nvCxnSpPr>
        <p:spPr>
          <a:xfrm rot="5400000">
            <a:off x="6345360" y="3553920"/>
            <a:ext cx="910080" cy="695520"/>
          </a:xfrm>
          <a:prstGeom prst="bentConnector3">
            <a:avLst>
              <a:gd name="adj1" fmla="val 4994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8" name=""/>
          <p:cNvCxnSpPr>
            <a:stCxn id="503" idx="3"/>
            <a:endCxn id="512" idx="1"/>
          </p:cNvCxnSpPr>
          <p:nvPr/>
        </p:nvCxnSpPr>
        <p:spPr>
          <a:xfrm>
            <a:off x="4538160" y="3136680"/>
            <a:ext cx="28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valuación de la vulnerabilida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0" name=""/>
          <p:cNvSpPr/>
          <p:nvPr/>
        </p:nvSpPr>
        <p:spPr>
          <a:xfrm>
            <a:off x="1448280" y="2708280"/>
            <a:ext cx="606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ahoma"/>
              </a:rPr>
              <a:t>Amenaza + Riesgo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Vulnerabilidad de los sistema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2" name=""/>
          <p:cNvSpPr/>
          <p:nvPr/>
        </p:nvSpPr>
        <p:spPr>
          <a:xfrm>
            <a:off x="7915320" y="584820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258920" y="1628640"/>
            <a:ext cx="6499080" cy="4295880"/>
          </a:xfrm>
          <a:prstGeom prst="rect">
            <a:avLst/>
          </a:prstGeom>
          <a:noFill/>
          <a:ln w="22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1820880" y="2227320"/>
            <a:ext cx="6008040" cy="3384360"/>
            <a:chOff x="1820880" y="2227320"/>
            <a:chExt cx="6008040" cy="3384360"/>
          </a:xfrm>
        </p:grpSpPr>
        <p:sp>
          <p:nvSpPr>
            <p:cNvPr id="525" name=""/>
            <p:cNvSpPr/>
            <p:nvPr/>
          </p:nvSpPr>
          <p:spPr>
            <a:xfrm>
              <a:off x="6980400" y="4968720"/>
              <a:ext cx="458640" cy="37944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980400" y="4968720"/>
              <a:ext cx="458640" cy="37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948360" y="4619520"/>
              <a:ext cx="519120" cy="349200"/>
            </a:xfrm>
            <a:custGeom>
              <a:avLst/>
              <a:gdLst/>
              <a:ahLst/>
              <a:rect l="l" t="t" r="r" b="b"/>
              <a:pathLst>
                <a:path w="327" h="220">
                  <a:moveTo>
                    <a:pt x="164" y="0"/>
                  </a:moveTo>
                  <a:lnTo>
                    <a:pt x="327" y="220"/>
                  </a:lnTo>
                  <a:lnTo>
                    <a:pt x="0" y="220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48360" y="4619520"/>
              <a:ext cx="519120" cy="349200"/>
            </a:xfrm>
            <a:custGeom>
              <a:avLst/>
              <a:gdLst/>
              <a:ahLst/>
              <a:rect l="l" t="t" r="r" b="b"/>
              <a:pathLst>
                <a:path w="327" h="220">
                  <a:moveTo>
                    <a:pt x="164" y="0"/>
                  </a:moveTo>
                  <a:lnTo>
                    <a:pt x="327" y="220"/>
                  </a:lnTo>
                  <a:lnTo>
                    <a:pt x="0" y="220"/>
                  </a:lnTo>
                  <a:lnTo>
                    <a:pt x="164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495760" y="4705200"/>
              <a:ext cx="1051200" cy="906480"/>
            </a:xfrm>
            <a:custGeom>
              <a:avLst/>
              <a:gdLst/>
              <a:ahLst/>
              <a:rect l="l" t="t" r="r" b="b"/>
              <a:pathLst>
                <a:path w="662" h="571">
                  <a:moveTo>
                    <a:pt x="514" y="0"/>
                  </a:moveTo>
                  <a:lnTo>
                    <a:pt x="662" y="357"/>
                  </a:lnTo>
                  <a:lnTo>
                    <a:pt x="147" y="571"/>
                  </a:lnTo>
                  <a:lnTo>
                    <a:pt x="0" y="215"/>
                  </a:lnTo>
                  <a:lnTo>
                    <a:pt x="514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495760" y="4705200"/>
              <a:ext cx="1051200" cy="906480"/>
            </a:xfrm>
            <a:custGeom>
              <a:avLst/>
              <a:gdLst/>
              <a:ahLst/>
              <a:rect l="l" t="t" r="r" b="b"/>
              <a:pathLst>
                <a:path w="662" h="571">
                  <a:moveTo>
                    <a:pt x="514" y="0"/>
                  </a:moveTo>
                  <a:lnTo>
                    <a:pt x="662" y="357"/>
                  </a:lnTo>
                  <a:lnTo>
                    <a:pt x="147" y="571"/>
                  </a:lnTo>
                  <a:lnTo>
                    <a:pt x="0" y="215"/>
                  </a:lnTo>
                  <a:lnTo>
                    <a:pt x="514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 flipH="1">
              <a:off x="5571720" y="4894200"/>
              <a:ext cx="816120" cy="34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>
              <a:off x="5651640" y="5081760"/>
              <a:ext cx="814320" cy="33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781440" y="4940280"/>
              <a:ext cx="700200" cy="31896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781440" y="4940280"/>
              <a:ext cx="700200" cy="318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886200" y="500076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757760" y="4094280"/>
              <a:ext cx="638280" cy="495360"/>
            </a:xfrm>
            <a:custGeom>
              <a:avLst/>
              <a:gdLst/>
              <a:ahLst/>
              <a:rect l="l" t="t" r="r" b="b"/>
              <a:pathLst>
                <a:path w="402" h="312">
                  <a:moveTo>
                    <a:pt x="201" y="0"/>
                  </a:moveTo>
                  <a:lnTo>
                    <a:pt x="222" y="0"/>
                  </a:lnTo>
                  <a:lnTo>
                    <a:pt x="242" y="1"/>
                  </a:lnTo>
                  <a:lnTo>
                    <a:pt x="261" y="2"/>
                  </a:lnTo>
                  <a:lnTo>
                    <a:pt x="279" y="3"/>
                  </a:lnTo>
                  <a:lnTo>
                    <a:pt x="297" y="5"/>
                  </a:lnTo>
                  <a:lnTo>
                    <a:pt x="306" y="6"/>
                  </a:lnTo>
                  <a:lnTo>
                    <a:pt x="313" y="7"/>
                  </a:lnTo>
                  <a:lnTo>
                    <a:pt x="321" y="8"/>
                  </a:lnTo>
                  <a:lnTo>
                    <a:pt x="329" y="9"/>
                  </a:lnTo>
                  <a:lnTo>
                    <a:pt x="336" y="10"/>
                  </a:lnTo>
                  <a:lnTo>
                    <a:pt x="343" y="11"/>
                  </a:lnTo>
                  <a:lnTo>
                    <a:pt x="350" y="12"/>
                  </a:lnTo>
                  <a:lnTo>
                    <a:pt x="356" y="14"/>
                  </a:lnTo>
                  <a:lnTo>
                    <a:pt x="362" y="15"/>
                  </a:lnTo>
                  <a:lnTo>
                    <a:pt x="367" y="17"/>
                  </a:lnTo>
                  <a:lnTo>
                    <a:pt x="373" y="18"/>
                  </a:lnTo>
                  <a:lnTo>
                    <a:pt x="378" y="21"/>
                  </a:lnTo>
                  <a:lnTo>
                    <a:pt x="382" y="23"/>
                  </a:lnTo>
                  <a:lnTo>
                    <a:pt x="386" y="24"/>
                  </a:lnTo>
                  <a:lnTo>
                    <a:pt x="389" y="26"/>
                  </a:lnTo>
                  <a:lnTo>
                    <a:pt x="393" y="28"/>
                  </a:lnTo>
                  <a:lnTo>
                    <a:pt x="396" y="30"/>
                  </a:lnTo>
                  <a:lnTo>
                    <a:pt x="398" y="31"/>
                  </a:lnTo>
                  <a:lnTo>
                    <a:pt x="400" y="33"/>
                  </a:lnTo>
                  <a:lnTo>
                    <a:pt x="401" y="35"/>
                  </a:lnTo>
                  <a:lnTo>
                    <a:pt x="402" y="37"/>
                  </a:lnTo>
                  <a:lnTo>
                    <a:pt x="402" y="39"/>
                  </a:lnTo>
                  <a:lnTo>
                    <a:pt x="402" y="272"/>
                  </a:lnTo>
                  <a:lnTo>
                    <a:pt x="402" y="275"/>
                  </a:lnTo>
                  <a:lnTo>
                    <a:pt x="401" y="277"/>
                  </a:lnTo>
                  <a:lnTo>
                    <a:pt x="400" y="279"/>
                  </a:lnTo>
                  <a:lnTo>
                    <a:pt x="398" y="281"/>
                  </a:lnTo>
                  <a:lnTo>
                    <a:pt x="396" y="283"/>
                  </a:lnTo>
                  <a:lnTo>
                    <a:pt x="393" y="284"/>
                  </a:lnTo>
                  <a:lnTo>
                    <a:pt x="389" y="286"/>
                  </a:lnTo>
                  <a:lnTo>
                    <a:pt x="386" y="288"/>
                  </a:lnTo>
                  <a:lnTo>
                    <a:pt x="382" y="290"/>
                  </a:lnTo>
                  <a:lnTo>
                    <a:pt x="378" y="291"/>
                  </a:lnTo>
                  <a:lnTo>
                    <a:pt x="373" y="293"/>
                  </a:lnTo>
                  <a:lnTo>
                    <a:pt x="367" y="295"/>
                  </a:lnTo>
                  <a:lnTo>
                    <a:pt x="362" y="297"/>
                  </a:lnTo>
                  <a:lnTo>
                    <a:pt x="356" y="298"/>
                  </a:lnTo>
                  <a:lnTo>
                    <a:pt x="350" y="300"/>
                  </a:lnTo>
                  <a:lnTo>
                    <a:pt x="343" y="301"/>
                  </a:lnTo>
                  <a:lnTo>
                    <a:pt x="336" y="302"/>
                  </a:lnTo>
                  <a:lnTo>
                    <a:pt x="329" y="303"/>
                  </a:lnTo>
                  <a:lnTo>
                    <a:pt x="321" y="304"/>
                  </a:lnTo>
                  <a:lnTo>
                    <a:pt x="313" y="306"/>
                  </a:lnTo>
                  <a:lnTo>
                    <a:pt x="306" y="307"/>
                  </a:lnTo>
                  <a:lnTo>
                    <a:pt x="297" y="307"/>
                  </a:lnTo>
                  <a:lnTo>
                    <a:pt x="279" y="309"/>
                  </a:lnTo>
                  <a:lnTo>
                    <a:pt x="261" y="310"/>
                  </a:lnTo>
                  <a:lnTo>
                    <a:pt x="242" y="311"/>
                  </a:lnTo>
                  <a:lnTo>
                    <a:pt x="222" y="312"/>
                  </a:lnTo>
                  <a:lnTo>
                    <a:pt x="201" y="312"/>
                  </a:lnTo>
                  <a:lnTo>
                    <a:pt x="180" y="312"/>
                  </a:lnTo>
                  <a:lnTo>
                    <a:pt x="160" y="311"/>
                  </a:lnTo>
                  <a:lnTo>
                    <a:pt x="141" y="310"/>
                  </a:lnTo>
                  <a:lnTo>
                    <a:pt x="122" y="309"/>
                  </a:lnTo>
                  <a:lnTo>
                    <a:pt x="105" y="307"/>
                  </a:lnTo>
                  <a:lnTo>
                    <a:pt x="96" y="307"/>
                  </a:lnTo>
                  <a:lnTo>
                    <a:pt x="89" y="306"/>
                  </a:lnTo>
                  <a:lnTo>
                    <a:pt x="80" y="304"/>
                  </a:lnTo>
                  <a:lnTo>
                    <a:pt x="73" y="303"/>
                  </a:lnTo>
                  <a:lnTo>
                    <a:pt x="66" y="302"/>
                  </a:lnTo>
                  <a:lnTo>
                    <a:pt x="58" y="301"/>
                  </a:lnTo>
                  <a:lnTo>
                    <a:pt x="52" y="300"/>
                  </a:lnTo>
                  <a:lnTo>
                    <a:pt x="46" y="298"/>
                  </a:lnTo>
                  <a:lnTo>
                    <a:pt x="40" y="297"/>
                  </a:lnTo>
                  <a:lnTo>
                    <a:pt x="34" y="295"/>
                  </a:lnTo>
                  <a:lnTo>
                    <a:pt x="29" y="293"/>
                  </a:lnTo>
                  <a:lnTo>
                    <a:pt x="24" y="291"/>
                  </a:lnTo>
                  <a:lnTo>
                    <a:pt x="20" y="290"/>
                  </a:lnTo>
                  <a:lnTo>
                    <a:pt x="15" y="288"/>
                  </a:lnTo>
                  <a:lnTo>
                    <a:pt x="12" y="286"/>
                  </a:lnTo>
                  <a:lnTo>
                    <a:pt x="9" y="284"/>
                  </a:lnTo>
                  <a:lnTo>
                    <a:pt x="6" y="283"/>
                  </a:lnTo>
                  <a:lnTo>
                    <a:pt x="4" y="281"/>
                  </a:lnTo>
                  <a:lnTo>
                    <a:pt x="2" y="279"/>
                  </a:lnTo>
                  <a:lnTo>
                    <a:pt x="1" y="277"/>
                  </a:lnTo>
                  <a:lnTo>
                    <a:pt x="0" y="275"/>
                  </a:lnTo>
                  <a:lnTo>
                    <a:pt x="0" y="272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1" y="35"/>
                  </a:lnTo>
                  <a:lnTo>
                    <a:pt x="2" y="33"/>
                  </a:lnTo>
                  <a:lnTo>
                    <a:pt x="4" y="31"/>
                  </a:lnTo>
                  <a:lnTo>
                    <a:pt x="6" y="30"/>
                  </a:lnTo>
                  <a:lnTo>
                    <a:pt x="9" y="28"/>
                  </a:lnTo>
                  <a:lnTo>
                    <a:pt x="12" y="26"/>
                  </a:lnTo>
                  <a:lnTo>
                    <a:pt x="15" y="24"/>
                  </a:lnTo>
                  <a:lnTo>
                    <a:pt x="20" y="23"/>
                  </a:lnTo>
                  <a:lnTo>
                    <a:pt x="24" y="21"/>
                  </a:lnTo>
                  <a:lnTo>
                    <a:pt x="29" y="18"/>
                  </a:lnTo>
                  <a:lnTo>
                    <a:pt x="34" y="17"/>
                  </a:lnTo>
                  <a:lnTo>
                    <a:pt x="40" y="15"/>
                  </a:lnTo>
                  <a:lnTo>
                    <a:pt x="46" y="14"/>
                  </a:lnTo>
                  <a:lnTo>
                    <a:pt x="52" y="12"/>
                  </a:lnTo>
                  <a:lnTo>
                    <a:pt x="58" y="11"/>
                  </a:lnTo>
                  <a:lnTo>
                    <a:pt x="66" y="10"/>
                  </a:lnTo>
                  <a:lnTo>
                    <a:pt x="73" y="9"/>
                  </a:lnTo>
                  <a:lnTo>
                    <a:pt x="80" y="8"/>
                  </a:lnTo>
                  <a:lnTo>
                    <a:pt x="89" y="7"/>
                  </a:lnTo>
                  <a:lnTo>
                    <a:pt x="96" y="6"/>
                  </a:lnTo>
                  <a:lnTo>
                    <a:pt x="105" y="5"/>
                  </a:lnTo>
                  <a:lnTo>
                    <a:pt x="122" y="3"/>
                  </a:lnTo>
                  <a:lnTo>
                    <a:pt x="141" y="2"/>
                  </a:lnTo>
                  <a:lnTo>
                    <a:pt x="160" y="1"/>
                  </a:lnTo>
                  <a:lnTo>
                    <a:pt x="180" y="0"/>
                  </a:lnTo>
                  <a:lnTo>
                    <a:pt x="201" y="0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757760" y="4094280"/>
              <a:ext cx="638280" cy="123840"/>
            </a:xfrm>
            <a:custGeom>
              <a:avLst/>
              <a:gdLst/>
              <a:ahLst/>
              <a:rect l="l" t="t" r="r" b="b"/>
              <a:pathLst>
                <a:path w="402" h="78">
                  <a:moveTo>
                    <a:pt x="402" y="39"/>
                  </a:moveTo>
                  <a:lnTo>
                    <a:pt x="402" y="42"/>
                  </a:lnTo>
                  <a:lnTo>
                    <a:pt x="401" y="44"/>
                  </a:lnTo>
                  <a:lnTo>
                    <a:pt x="400" y="46"/>
                  </a:lnTo>
                  <a:lnTo>
                    <a:pt x="398" y="47"/>
                  </a:lnTo>
                  <a:lnTo>
                    <a:pt x="396" y="49"/>
                  </a:lnTo>
                  <a:lnTo>
                    <a:pt x="393" y="51"/>
                  </a:lnTo>
                  <a:lnTo>
                    <a:pt x="389" y="53"/>
                  </a:lnTo>
                  <a:lnTo>
                    <a:pt x="386" y="54"/>
                  </a:lnTo>
                  <a:lnTo>
                    <a:pt x="382" y="56"/>
                  </a:lnTo>
                  <a:lnTo>
                    <a:pt x="378" y="57"/>
                  </a:lnTo>
                  <a:lnTo>
                    <a:pt x="373" y="59"/>
                  </a:lnTo>
                  <a:lnTo>
                    <a:pt x="367" y="62"/>
                  </a:lnTo>
                  <a:lnTo>
                    <a:pt x="362" y="63"/>
                  </a:lnTo>
                  <a:lnTo>
                    <a:pt x="356" y="64"/>
                  </a:lnTo>
                  <a:lnTo>
                    <a:pt x="350" y="66"/>
                  </a:lnTo>
                  <a:lnTo>
                    <a:pt x="343" y="67"/>
                  </a:lnTo>
                  <a:lnTo>
                    <a:pt x="336" y="68"/>
                  </a:lnTo>
                  <a:lnTo>
                    <a:pt x="329" y="69"/>
                  </a:lnTo>
                  <a:lnTo>
                    <a:pt x="321" y="71"/>
                  </a:lnTo>
                  <a:lnTo>
                    <a:pt x="313" y="72"/>
                  </a:lnTo>
                  <a:lnTo>
                    <a:pt x="306" y="73"/>
                  </a:lnTo>
                  <a:lnTo>
                    <a:pt x="297" y="73"/>
                  </a:lnTo>
                  <a:lnTo>
                    <a:pt x="279" y="75"/>
                  </a:lnTo>
                  <a:lnTo>
                    <a:pt x="261" y="76"/>
                  </a:lnTo>
                  <a:lnTo>
                    <a:pt x="242" y="77"/>
                  </a:lnTo>
                  <a:lnTo>
                    <a:pt x="222" y="78"/>
                  </a:lnTo>
                  <a:lnTo>
                    <a:pt x="201" y="78"/>
                  </a:lnTo>
                  <a:lnTo>
                    <a:pt x="180" y="78"/>
                  </a:lnTo>
                  <a:lnTo>
                    <a:pt x="160" y="77"/>
                  </a:lnTo>
                  <a:lnTo>
                    <a:pt x="141" y="76"/>
                  </a:lnTo>
                  <a:lnTo>
                    <a:pt x="122" y="75"/>
                  </a:lnTo>
                  <a:lnTo>
                    <a:pt x="105" y="73"/>
                  </a:lnTo>
                  <a:lnTo>
                    <a:pt x="96" y="73"/>
                  </a:lnTo>
                  <a:lnTo>
                    <a:pt x="89" y="72"/>
                  </a:lnTo>
                  <a:lnTo>
                    <a:pt x="80" y="71"/>
                  </a:lnTo>
                  <a:lnTo>
                    <a:pt x="73" y="69"/>
                  </a:lnTo>
                  <a:lnTo>
                    <a:pt x="66" y="68"/>
                  </a:lnTo>
                  <a:lnTo>
                    <a:pt x="58" y="67"/>
                  </a:lnTo>
                  <a:lnTo>
                    <a:pt x="52" y="66"/>
                  </a:lnTo>
                  <a:lnTo>
                    <a:pt x="46" y="64"/>
                  </a:lnTo>
                  <a:lnTo>
                    <a:pt x="40" y="63"/>
                  </a:lnTo>
                  <a:lnTo>
                    <a:pt x="34" y="62"/>
                  </a:lnTo>
                  <a:lnTo>
                    <a:pt x="29" y="59"/>
                  </a:lnTo>
                  <a:lnTo>
                    <a:pt x="24" y="57"/>
                  </a:lnTo>
                  <a:lnTo>
                    <a:pt x="20" y="56"/>
                  </a:lnTo>
                  <a:lnTo>
                    <a:pt x="15" y="54"/>
                  </a:lnTo>
                  <a:lnTo>
                    <a:pt x="12" y="53"/>
                  </a:lnTo>
                  <a:lnTo>
                    <a:pt x="9" y="51"/>
                  </a:lnTo>
                  <a:lnTo>
                    <a:pt x="6" y="49"/>
                  </a:lnTo>
                  <a:lnTo>
                    <a:pt x="4" y="47"/>
                  </a:lnTo>
                  <a:lnTo>
                    <a:pt x="2" y="46"/>
                  </a:lnTo>
                  <a:lnTo>
                    <a:pt x="1" y="44"/>
                  </a:lnTo>
                  <a:lnTo>
                    <a:pt x="0" y="42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1" y="35"/>
                  </a:lnTo>
                  <a:lnTo>
                    <a:pt x="2" y="33"/>
                  </a:lnTo>
                  <a:lnTo>
                    <a:pt x="4" y="31"/>
                  </a:lnTo>
                  <a:lnTo>
                    <a:pt x="6" y="30"/>
                  </a:lnTo>
                  <a:lnTo>
                    <a:pt x="9" y="28"/>
                  </a:lnTo>
                  <a:lnTo>
                    <a:pt x="12" y="26"/>
                  </a:lnTo>
                  <a:lnTo>
                    <a:pt x="15" y="24"/>
                  </a:lnTo>
                  <a:lnTo>
                    <a:pt x="20" y="23"/>
                  </a:lnTo>
                  <a:lnTo>
                    <a:pt x="24" y="21"/>
                  </a:lnTo>
                  <a:lnTo>
                    <a:pt x="29" y="18"/>
                  </a:lnTo>
                  <a:lnTo>
                    <a:pt x="34" y="17"/>
                  </a:lnTo>
                  <a:lnTo>
                    <a:pt x="40" y="15"/>
                  </a:lnTo>
                  <a:lnTo>
                    <a:pt x="46" y="14"/>
                  </a:lnTo>
                  <a:lnTo>
                    <a:pt x="52" y="12"/>
                  </a:lnTo>
                  <a:lnTo>
                    <a:pt x="58" y="11"/>
                  </a:lnTo>
                  <a:lnTo>
                    <a:pt x="66" y="10"/>
                  </a:lnTo>
                  <a:lnTo>
                    <a:pt x="73" y="9"/>
                  </a:lnTo>
                  <a:lnTo>
                    <a:pt x="80" y="8"/>
                  </a:lnTo>
                  <a:lnTo>
                    <a:pt x="89" y="7"/>
                  </a:lnTo>
                  <a:lnTo>
                    <a:pt x="96" y="6"/>
                  </a:lnTo>
                  <a:lnTo>
                    <a:pt x="105" y="5"/>
                  </a:lnTo>
                  <a:lnTo>
                    <a:pt x="122" y="3"/>
                  </a:lnTo>
                  <a:lnTo>
                    <a:pt x="141" y="2"/>
                  </a:lnTo>
                  <a:lnTo>
                    <a:pt x="160" y="1"/>
                  </a:lnTo>
                  <a:lnTo>
                    <a:pt x="180" y="0"/>
                  </a:lnTo>
                  <a:lnTo>
                    <a:pt x="201" y="0"/>
                  </a:lnTo>
                  <a:lnTo>
                    <a:pt x="222" y="0"/>
                  </a:lnTo>
                  <a:lnTo>
                    <a:pt x="242" y="1"/>
                  </a:lnTo>
                  <a:lnTo>
                    <a:pt x="261" y="2"/>
                  </a:lnTo>
                  <a:lnTo>
                    <a:pt x="279" y="3"/>
                  </a:lnTo>
                  <a:lnTo>
                    <a:pt x="297" y="5"/>
                  </a:lnTo>
                  <a:lnTo>
                    <a:pt x="306" y="6"/>
                  </a:lnTo>
                  <a:lnTo>
                    <a:pt x="313" y="7"/>
                  </a:lnTo>
                  <a:lnTo>
                    <a:pt x="321" y="8"/>
                  </a:lnTo>
                  <a:lnTo>
                    <a:pt x="329" y="9"/>
                  </a:lnTo>
                  <a:lnTo>
                    <a:pt x="336" y="10"/>
                  </a:lnTo>
                  <a:lnTo>
                    <a:pt x="343" y="11"/>
                  </a:lnTo>
                  <a:lnTo>
                    <a:pt x="350" y="12"/>
                  </a:lnTo>
                  <a:lnTo>
                    <a:pt x="356" y="14"/>
                  </a:lnTo>
                  <a:lnTo>
                    <a:pt x="362" y="15"/>
                  </a:lnTo>
                  <a:lnTo>
                    <a:pt x="367" y="17"/>
                  </a:lnTo>
                  <a:lnTo>
                    <a:pt x="373" y="18"/>
                  </a:lnTo>
                  <a:lnTo>
                    <a:pt x="378" y="21"/>
                  </a:lnTo>
                  <a:lnTo>
                    <a:pt x="382" y="23"/>
                  </a:lnTo>
                  <a:lnTo>
                    <a:pt x="386" y="24"/>
                  </a:lnTo>
                  <a:lnTo>
                    <a:pt x="389" y="26"/>
                  </a:lnTo>
                  <a:lnTo>
                    <a:pt x="393" y="28"/>
                  </a:lnTo>
                  <a:lnTo>
                    <a:pt x="396" y="30"/>
                  </a:lnTo>
                  <a:lnTo>
                    <a:pt x="398" y="31"/>
                  </a:lnTo>
                  <a:lnTo>
                    <a:pt x="400" y="33"/>
                  </a:lnTo>
                  <a:lnTo>
                    <a:pt x="401" y="35"/>
                  </a:lnTo>
                  <a:lnTo>
                    <a:pt x="402" y="37"/>
                  </a:lnTo>
                  <a:lnTo>
                    <a:pt x="402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757760" y="4094280"/>
              <a:ext cx="638280" cy="495360"/>
            </a:xfrm>
            <a:custGeom>
              <a:avLst/>
              <a:gdLst/>
              <a:ahLst/>
              <a:rect l="l" t="t" r="r" b="b"/>
              <a:pathLst>
                <a:path w="402" h="312">
                  <a:moveTo>
                    <a:pt x="201" y="0"/>
                  </a:moveTo>
                  <a:lnTo>
                    <a:pt x="222" y="0"/>
                  </a:lnTo>
                  <a:lnTo>
                    <a:pt x="242" y="1"/>
                  </a:lnTo>
                  <a:lnTo>
                    <a:pt x="261" y="2"/>
                  </a:lnTo>
                  <a:lnTo>
                    <a:pt x="279" y="3"/>
                  </a:lnTo>
                  <a:lnTo>
                    <a:pt x="297" y="5"/>
                  </a:lnTo>
                  <a:lnTo>
                    <a:pt x="306" y="6"/>
                  </a:lnTo>
                  <a:lnTo>
                    <a:pt x="313" y="7"/>
                  </a:lnTo>
                  <a:lnTo>
                    <a:pt x="321" y="8"/>
                  </a:lnTo>
                  <a:lnTo>
                    <a:pt x="329" y="9"/>
                  </a:lnTo>
                  <a:lnTo>
                    <a:pt x="336" y="10"/>
                  </a:lnTo>
                  <a:lnTo>
                    <a:pt x="343" y="11"/>
                  </a:lnTo>
                  <a:lnTo>
                    <a:pt x="350" y="12"/>
                  </a:lnTo>
                  <a:lnTo>
                    <a:pt x="356" y="14"/>
                  </a:lnTo>
                  <a:lnTo>
                    <a:pt x="362" y="15"/>
                  </a:lnTo>
                  <a:lnTo>
                    <a:pt x="367" y="17"/>
                  </a:lnTo>
                  <a:lnTo>
                    <a:pt x="373" y="18"/>
                  </a:lnTo>
                  <a:lnTo>
                    <a:pt x="378" y="21"/>
                  </a:lnTo>
                  <a:lnTo>
                    <a:pt x="382" y="23"/>
                  </a:lnTo>
                  <a:lnTo>
                    <a:pt x="386" y="24"/>
                  </a:lnTo>
                  <a:lnTo>
                    <a:pt x="389" y="26"/>
                  </a:lnTo>
                  <a:lnTo>
                    <a:pt x="393" y="28"/>
                  </a:lnTo>
                  <a:lnTo>
                    <a:pt x="396" y="30"/>
                  </a:lnTo>
                  <a:lnTo>
                    <a:pt x="398" y="31"/>
                  </a:lnTo>
                  <a:lnTo>
                    <a:pt x="400" y="33"/>
                  </a:lnTo>
                  <a:lnTo>
                    <a:pt x="401" y="35"/>
                  </a:lnTo>
                  <a:lnTo>
                    <a:pt x="402" y="37"/>
                  </a:lnTo>
                  <a:lnTo>
                    <a:pt x="402" y="39"/>
                  </a:lnTo>
                  <a:lnTo>
                    <a:pt x="402" y="272"/>
                  </a:lnTo>
                  <a:lnTo>
                    <a:pt x="402" y="275"/>
                  </a:lnTo>
                  <a:lnTo>
                    <a:pt x="401" y="277"/>
                  </a:lnTo>
                  <a:lnTo>
                    <a:pt x="400" y="279"/>
                  </a:lnTo>
                  <a:lnTo>
                    <a:pt x="398" y="281"/>
                  </a:lnTo>
                  <a:lnTo>
                    <a:pt x="396" y="283"/>
                  </a:lnTo>
                  <a:lnTo>
                    <a:pt x="393" y="284"/>
                  </a:lnTo>
                  <a:lnTo>
                    <a:pt x="389" y="286"/>
                  </a:lnTo>
                  <a:lnTo>
                    <a:pt x="386" y="288"/>
                  </a:lnTo>
                  <a:lnTo>
                    <a:pt x="382" y="290"/>
                  </a:lnTo>
                  <a:lnTo>
                    <a:pt x="378" y="291"/>
                  </a:lnTo>
                  <a:lnTo>
                    <a:pt x="373" y="293"/>
                  </a:lnTo>
                  <a:lnTo>
                    <a:pt x="367" y="295"/>
                  </a:lnTo>
                  <a:lnTo>
                    <a:pt x="362" y="297"/>
                  </a:lnTo>
                  <a:lnTo>
                    <a:pt x="356" y="298"/>
                  </a:lnTo>
                  <a:lnTo>
                    <a:pt x="350" y="300"/>
                  </a:lnTo>
                  <a:lnTo>
                    <a:pt x="343" y="301"/>
                  </a:lnTo>
                  <a:lnTo>
                    <a:pt x="336" y="302"/>
                  </a:lnTo>
                  <a:lnTo>
                    <a:pt x="329" y="303"/>
                  </a:lnTo>
                  <a:lnTo>
                    <a:pt x="321" y="304"/>
                  </a:lnTo>
                  <a:lnTo>
                    <a:pt x="313" y="306"/>
                  </a:lnTo>
                  <a:lnTo>
                    <a:pt x="306" y="307"/>
                  </a:lnTo>
                  <a:lnTo>
                    <a:pt x="297" y="307"/>
                  </a:lnTo>
                  <a:lnTo>
                    <a:pt x="279" y="309"/>
                  </a:lnTo>
                  <a:lnTo>
                    <a:pt x="261" y="310"/>
                  </a:lnTo>
                  <a:lnTo>
                    <a:pt x="242" y="311"/>
                  </a:lnTo>
                  <a:lnTo>
                    <a:pt x="222" y="312"/>
                  </a:lnTo>
                  <a:lnTo>
                    <a:pt x="201" y="312"/>
                  </a:lnTo>
                  <a:lnTo>
                    <a:pt x="180" y="312"/>
                  </a:lnTo>
                  <a:lnTo>
                    <a:pt x="160" y="311"/>
                  </a:lnTo>
                  <a:lnTo>
                    <a:pt x="141" y="310"/>
                  </a:lnTo>
                  <a:lnTo>
                    <a:pt x="122" y="309"/>
                  </a:lnTo>
                  <a:lnTo>
                    <a:pt x="105" y="307"/>
                  </a:lnTo>
                  <a:lnTo>
                    <a:pt x="96" y="307"/>
                  </a:lnTo>
                  <a:lnTo>
                    <a:pt x="89" y="306"/>
                  </a:lnTo>
                  <a:lnTo>
                    <a:pt x="80" y="304"/>
                  </a:lnTo>
                  <a:lnTo>
                    <a:pt x="73" y="303"/>
                  </a:lnTo>
                  <a:lnTo>
                    <a:pt x="66" y="302"/>
                  </a:lnTo>
                  <a:lnTo>
                    <a:pt x="58" y="301"/>
                  </a:lnTo>
                  <a:lnTo>
                    <a:pt x="52" y="300"/>
                  </a:lnTo>
                  <a:lnTo>
                    <a:pt x="46" y="298"/>
                  </a:lnTo>
                  <a:lnTo>
                    <a:pt x="40" y="297"/>
                  </a:lnTo>
                  <a:lnTo>
                    <a:pt x="34" y="295"/>
                  </a:lnTo>
                  <a:lnTo>
                    <a:pt x="29" y="293"/>
                  </a:lnTo>
                  <a:lnTo>
                    <a:pt x="24" y="291"/>
                  </a:lnTo>
                  <a:lnTo>
                    <a:pt x="20" y="290"/>
                  </a:lnTo>
                  <a:lnTo>
                    <a:pt x="15" y="288"/>
                  </a:lnTo>
                  <a:lnTo>
                    <a:pt x="12" y="286"/>
                  </a:lnTo>
                  <a:lnTo>
                    <a:pt x="9" y="284"/>
                  </a:lnTo>
                  <a:lnTo>
                    <a:pt x="6" y="283"/>
                  </a:lnTo>
                  <a:lnTo>
                    <a:pt x="4" y="281"/>
                  </a:lnTo>
                  <a:lnTo>
                    <a:pt x="2" y="279"/>
                  </a:lnTo>
                  <a:lnTo>
                    <a:pt x="1" y="277"/>
                  </a:lnTo>
                  <a:lnTo>
                    <a:pt x="0" y="275"/>
                  </a:lnTo>
                  <a:lnTo>
                    <a:pt x="0" y="272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1" y="35"/>
                  </a:lnTo>
                  <a:lnTo>
                    <a:pt x="2" y="33"/>
                  </a:lnTo>
                  <a:lnTo>
                    <a:pt x="4" y="31"/>
                  </a:lnTo>
                  <a:lnTo>
                    <a:pt x="6" y="30"/>
                  </a:lnTo>
                  <a:lnTo>
                    <a:pt x="9" y="28"/>
                  </a:lnTo>
                  <a:lnTo>
                    <a:pt x="12" y="26"/>
                  </a:lnTo>
                  <a:lnTo>
                    <a:pt x="15" y="24"/>
                  </a:lnTo>
                  <a:lnTo>
                    <a:pt x="20" y="23"/>
                  </a:lnTo>
                  <a:lnTo>
                    <a:pt x="24" y="21"/>
                  </a:lnTo>
                  <a:lnTo>
                    <a:pt x="29" y="18"/>
                  </a:lnTo>
                  <a:lnTo>
                    <a:pt x="34" y="17"/>
                  </a:lnTo>
                  <a:lnTo>
                    <a:pt x="40" y="15"/>
                  </a:lnTo>
                  <a:lnTo>
                    <a:pt x="46" y="14"/>
                  </a:lnTo>
                  <a:lnTo>
                    <a:pt x="52" y="12"/>
                  </a:lnTo>
                  <a:lnTo>
                    <a:pt x="58" y="11"/>
                  </a:lnTo>
                  <a:lnTo>
                    <a:pt x="66" y="10"/>
                  </a:lnTo>
                  <a:lnTo>
                    <a:pt x="73" y="9"/>
                  </a:lnTo>
                  <a:lnTo>
                    <a:pt x="80" y="8"/>
                  </a:lnTo>
                  <a:lnTo>
                    <a:pt x="89" y="7"/>
                  </a:lnTo>
                  <a:lnTo>
                    <a:pt x="96" y="6"/>
                  </a:lnTo>
                  <a:lnTo>
                    <a:pt x="105" y="5"/>
                  </a:lnTo>
                  <a:lnTo>
                    <a:pt x="122" y="3"/>
                  </a:lnTo>
                  <a:lnTo>
                    <a:pt x="141" y="2"/>
                  </a:lnTo>
                  <a:lnTo>
                    <a:pt x="160" y="1"/>
                  </a:lnTo>
                  <a:lnTo>
                    <a:pt x="180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757760" y="4156200"/>
              <a:ext cx="638280" cy="61920"/>
            </a:xfrm>
            <a:custGeom>
              <a:avLst/>
              <a:gdLst/>
              <a:ahLst/>
              <a:rect l="l" t="t" r="r" b="b"/>
              <a:pathLst>
                <a:path w="402" h="39">
                  <a:moveTo>
                    <a:pt x="402" y="0"/>
                  </a:moveTo>
                  <a:lnTo>
                    <a:pt x="402" y="3"/>
                  </a:lnTo>
                  <a:lnTo>
                    <a:pt x="401" y="5"/>
                  </a:lnTo>
                  <a:lnTo>
                    <a:pt x="400" y="7"/>
                  </a:lnTo>
                  <a:lnTo>
                    <a:pt x="398" y="8"/>
                  </a:lnTo>
                  <a:lnTo>
                    <a:pt x="396" y="10"/>
                  </a:lnTo>
                  <a:lnTo>
                    <a:pt x="393" y="12"/>
                  </a:lnTo>
                  <a:lnTo>
                    <a:pt x="389" y="14"/>
                  </a:lnTo>
                  <a:lnTo>
                    <a:pt x="386" y="15"/>
                  </a:lnTo>
                  <a:lnTo>
                    <a:pt x="382" y="17"/>
                  </a:lnTo>
                  <a:lnTo>
                    <a:pt x="378" y="18"/>
                  </a:lnTo>
                  <a:lnTo>
                    <a:pt x="373" y="20"/>
                  </a:lnTo>
                  <a:lnTo>
                    <a:pt x="367" y="23"/>
                  </a:lnTo>
                  <a:lnTo>
                    <a:pt x="362" y="24"/>
                  </a:lnTo>
                  <a:lnTo>
                    <a:pt x="356" y="25"/>
                  </a:lnTo>
                  <a:lnTo>
                    <a:pt x="350" y="27"/>
                  </a:lnTo>
                  <a:lnTo>
                    <a:pt x="343" y="28"/>
                  </a:lnTo>
                  <a:lnTo>
                    <a:pt x="336" y="29"/>
                  </a:lnTo>
                  <a:lnTo>
                    <a:pt x="329" y="30"/>
                  </a:lnTo>
                  <a:lnTo>
                    <a:pt x="321" y="32"/>
                  </a:lnTo>
                  <a:lnTo>
                    <a:pt x="313" y="33"/>
                  </a:lnTo>
                  <a:lnTo>
                    <a:pt x="306" y="34"/>
                  </a:lnTo>
                  <a:lnTo>
                    <a:pt x="297" y="34"/>
                  </a:lnTo>
                  <a:lnTo>
                    <a:pt x="279" y="36"/>
                  </a:lnTo>
                  <a:lnTo>
                    <a:pt x="261" y="37"/>
                  </a:lnTo>
                  <a:lnTo>
                    <a:pt x="242" y="38"/>
                  </a:lnTo>
                  <a:lnTo>
                    <a:pt x="222" y="39"/>
                  </a:lnTo>
                  <a:lnTo>
                    <a:pt x="201" y="39"/>
                  </a:lnTo>
                  <a:lnTo>
                    <a:pt x="180" y="39"/>
                  </a:lnTo>
                  <a:lnTo>
                    <a:pt x="160" y="38"/>
                  </a:lnTo>
                  <a:lnTo>
                    <a:pt x="141" y="37"/>
                  </a:lnTo>
                  <a:lnTo>
                    <a:pt x="122" y="36"/>
                  </a:lnTo>
                  <a:lnTo>
                    <a:pt x="105" y="34"/>
                  </a:lnTo>
                  <a:lnTo>
                    <a:pt x="96" y="34"/>
                  </a:lnTo>
                  <a:lnTo>
                    <a:pt x="89" y="33"/>
                  </a:lnTo>
                  <a:lnTo>
                    <a:pt x="80" y="32"/>
                  </a:lnTo>
                  <a:lnTo>
                    <a:pt x="73" y="30"/>
                  </a:lnTo>
                  <a:lnTo>
                    <a:pt x="66" y="29"/>
                  </a:lnTo>
                  <a:lnTo>
                    <a:pt x="58" y="28"/>
                  </a:lnTo>
                  <a:lnTo>
                    <a:pt x="52" y="27"/>
                  </a:lnTo>
                  <a:lnTo>
                    <a:pt x="46" y="25"/>
                  </a:lnTo>
                  <a:lnTo>
                    <a:pt x="40" y="24"/>
                  </a:lnTo>
                  <a:lnTo>
                    <a:pt x="34" y="23"/>
                  </a:lnTo>
                  <a:lnTo>
                    <a:pt x="29" y="20"/>
                  </a:lnTo>
                  <a:lnTo>
                    <a:pt x="24" y="18"/>
                  </a:lnTo>
                  <a:lnTo>
                    <a:pt x="20" y="17"/>
                  </a:lnTo>
                  <a:lnTo>
                    <a:pt x="15" y="15"/>
                  </a:lnTo>
                  <a:lnTo>
                    <a:pt x="12" y="14"/>
                  </a:lnTo>
                  <a:lnTo>
                    <a:pt x="9" y="12"/>
                  </a:lnTo>
                  <a:lnTo>
                    <a:pt x="6" y="10"/>
                  </a:lnTo>
                  <a:lnTo>
                    <a:pt x="4" y="8"/>
                  </a:lnTo>
                  <a:lnTo>
                    <a:pt x="2" y="7"/>
                  </a:lnTo>
                  <a:lnTo>
                    <a:pt x="1" y="5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860480" y="5084640"/>
              <a:ext cx="1524240" cy="466920"/>
            </a:xfrm>
            <a:custGeom>
              <a:avLst/>
              <a:gdLst/>
              <a:ahLst/>
              <a:rect l="l" t="t" r="r" b="b"/>
              <a:pathLst>
                <a:path w="960" h="294">
                  <a:moveTo>
                    <a:pt x="480" y="0"/>
                  </a:moveTo>
                  <a:lnTo>
                    <a:pt x="505" y="0"/>
                  </a:lnTo>
                  <a:lnTo>
                    <a:pt x="529" y="1"/>
                  </a:lnTo>
                  <a:lnTo>
                    <a:pt x="553" y="2"/>
                  </a:lnTo>
                  <a:lnTo>
                    <a:pt x="576" y="3"/>
                  </a:lnTo>
                  <a:lnTo>
                    <a:pt x="600" y="4"/>
                  </a:lnTo>
                  <a:lnTo>
                    <a:pt x="622" y="6"/>
                  </a:lnTo>
                  <a:lnTo>
                    <a:pt x="645" y="10"/>
                  </a:lnTo>
                  <a:lnTo>
                    <a:pt x="666" y="12"/>
                  </a:lnTo>
                  <a:lnTo>
                    <a:pt x="688" y="15"/>
                  </a:lnTo>
                  <a:lnTo>
                    <a:pt x="708" y="18"/>
                  </a:lnTo>
                  <a:lnTo>
                    <a:pt x="729" y="21"/>
                  </a:lnTo>
                  <a:lnTo>
                    <a:pt x="748" y="25"/>
                  </a:lnTo>
                  <a:lnTo>
                    <a:pt x="767" y="29"/>
                  </a:lnTo>
                  <a:lnTo>
                    <a:pt x="785" y="34"/>
                  </a:lnTo>
                  <a:lnTo>
                    <a:pt x="802" y="39"/>
                  </a:lnTo>
                  <a:lnTo>
                    <a:pt x="819" y="43"/>
                  </a:lnTo>
                  <a:lnTo>
                    <a:pt x="835" y="48"/>
                  </a:lnTo>
                  <a:lnTo>
                    <a:pt x="850" y="54"/>
                  </a:lnTo>
                  <a:lnTo>
                    <a:pt x="864" y="59"/>
                  </a:lnTo>
                  <a:lnTo>
                    <a:pt x="878" y="65"/>
                  </a:lnTo>
                  <a:lnTo>
                    <a:pt x="890" y="71"/>
                  </a:lnTo>
                  <a:lnTo>
                    <a:pt x="902" y="77"/>
                  </a:lnTo>
                  <a:lnTo>
                    <a:pt x="912" y="83"/>
                  </a:lnTo>
                  <a:lnTo>
                    <a:pt x="922" y="90"/>
                  </a:lnTo>
                  <a:lnTo>
                    <a:pt x="930" y="97"/>
                  </a:lnTo>
                  <a:lnTo>
                    <a:pt x="934" y="100"/>
                  </a:lnTo>
                  <a:lnTo>
                    <a:pt x="938" y="104"/>
                  </a:lnTo>
                  <a:lnTo>
                    <a:pt x="942" y="107"/>
                  </a:lnTo>
                  <a:lnTo>
                    <a:pt x="945" y="110"/>
                  </a:lnTo>
                  <a:lnTo>
                    <a:pt x="947" y="115"/>
                  </a:lnTo>
                  <a:lnTo>
                    <a:pt x="950" y="118"/>
                  </a:lnTo>
                  <a:lnTo>
                    <a:pt x="952" y="121"/>
                  </a:lnTo>
                  <a:lnTo>
                    <a:pt x="954" y="125"/>
                  </a:lnTo>
                  <a:lnTo>
                    <a:pt x="955" y="128"/>
                  </a:lnTo>
                  <a:lnTo>
                    <a:pt x="957" y="132"/>
                  </a:lnTo>
                  <a:lnTo>
                    <a:pt x="958" y="136"/>
                  </a:lnTo>
                  <a:lnTo>
                    <a:pt x="958" y="140"/>
                  </a:lnTo>
                  <a:lnTo>
                    <a:pt x="960" y="143"/>
                  </a:lnTo>
                  <a:lnTo>
                    <a:pt x="960" y="147"/>
                  </a:lnTo>
                  <a:lnTo>
                    <a:pt x="960" y="151"/>
                  </a:lnTo>
                  <a:lnTo>
                    <a:pt x="958" y="154"/>
                  </a:lnTo>
                  <a:lnTo>
                    <a:pt x="958" y="159"/>
                  </a:lnTo>
                  <a:lnTo>
                    <a:pt x="957" y="162"/>
                  </a:lnTo>
                  <a:lnTo>
                    <a:pt x="955" y="166"/>
                  </a:lnTo>
                  <a:lnTo>
                    <a:pt x="954" y="169"/>
                  </a:lnTo>
                  <a:lnTo>
                    <a:pt x="952" y="173"/>
                  </a:lnTo>
                  <a:lnTo>
                    <a:pt x="950" y="176"/>
                  </a:lnTo>
                  <a:lnTo>
                    <a:pt x="947" y="181"/>
                  </a:lnTo>
                  <a:lnTo>
                    <a:pt x="945" y="184"/>
                  </a:lnTo>
                  <a:lnTo>
                    <a:pt x="942" y="187"/>
                  </a:lnTo>
                  <a:lnTo>
                    <a:pt x="938" y="191"/>
                  </a:lnTo>
                  <a:lnTo>
                    <a:pt x="934" y="194"/>
                  </a:lnTo>
                  <a:lnTo>
                    <a:pt x="930" y="197"/>
                  </a:lnTo>
                  <a:lnTo>
                    <a:pt x="926" y="201"/>
                  </a:lnTo>
                  <a:lnTo>
                    <a:pt x="922" y="204"/>
                  </a:lnTo>
                  <a:lnTo>
                    <a:pt x="912" y="211"/>
                  </a:lnTo>
                  <a:lnTo>
                    <a:pt x="902" y="217"/>
                  </a:lnTo>
                  <a:lnTo>
                    <a:pt x="890" y="223"/>
                  </a:lnTo>
                  <a:lnTo>
                    <a:pt x="878" y="229"/>
                  </a:lnTo>
                  <a:lnTo>
                    <a:pt x="864" y="235"/>
                  </a:lnTo>
                  <a:lnTo>
                    <a:pt x="850" y="240"/>
                  </a:lnTo>
                  <a:lnTo>
                    <a:pt x="835" y="246"/>
                  </a:lnTo>
                  <a:lnTo>
                    <a:pt x="819" y="251"/>
                  </a:lnTo>
                  <a:lnTo>
                    <a:pt x="802" y="256"/>
                  </a:lnTo>
                  <a:lnTo>
                    <a:pt x="785" y="260"/>
                  </a:lnTo>
                  <a:lnTo>
                    <a:pt x="767" y="265"/>
                  </a:lnTo>
                  <a:lnTo>
                    <a:pt x="748" y="269"/>
                  </a:lnTo>
                  <a:lnTo>
                    <a:pt x="729" y="273"/>
                  </a:lnTo>
                  <a:lnTo>
                    <a:pt x="708" y="276"/>
                  </a:lnTo>
                  <a:lnTo>
                    <a:pt x="688" y="279"/>
                  </a:lnTo>
                  <a:lnTo>
                    <a:pt x="666" y="282"/>
                  </a:lnTo>
                  <a:lnTo>
                    <a:pt x="644" y="285"/>
                  </a:lnTo>
                  <a:lnTo>
                    <a:pt x="622" y="288"/>
                  </a:lnTo>
                  <a:lnTo>
                    <a:pt x="599" y="290"/>
                  </a:lnTo>
                  <a:lnTo>
                    <a:pt x="576" y="291"/>
                  </a:lnTo>
                  <a:lnTo>
                    <a:pt x="553" y="292"/>
                  </a:lnTo>
                  <a:lnTo>
                    <a:pt x="529" y="293"/>
                  </a:lnTo>
                  <a:lnTo>
                    <a:pt x="504" y="294"/>
                  </a:lnTo>
                  <a:lnTo>
                    <a:pt x="480" y="294"/>
                  </a:lnTo>
                  <a:lnTo>
                    <a:pt x="455" y="294"/>
                  </a:lnTo>
                  <a:lnTo>
                    <a:pt x="431" y="293"/>
                  </a:lnTo>
                  <a:lnTo>
                    <a:pt x="406" y="292"/>
                  </a:lnTo>
                  <a:lnTo>
                    <a:pt x="383" y="291"/>
                  </a:lnTo>
                  <a:lnTo>
                    <a:pt x="360" y="290"/>
                  </a:lnTo>
                  <a:lnTo>
                    <a:pt x="337" y="288"/>
                  </a:lnTo>
                  <a:lnTo>
                    <a:pt x="315" y="285"/>
                  </a:lnTo>
                  <a:lnTo>
                    <a:pt x="293" y="282"/>
                  </a:lnTo>
                  <a:lnTo>
                    <a:pt x="271" y="279"/>
                  </a:lnTo>
                  <a:lnTo>
                    <a:pt x="251" y="276"/>
                  </a:lnTo>
                  <a:lnTo>
                    <a:pt x="232" y="273"/>
                  </a:lnTo>
                  <a:lnTo>
                    <a:pt x="212" y="269"/>
                  </a:lnTo>
                  <a:lnTo>
                    <a:pt x="193" y="265"/>
                  </a:lnTo>
                  <a:lnTo>
                    <a:pt x="175" y="260"/>
                  </a:lnTo>
                  <a:lnTo>
                    <a:pt x="157" y="256"/>
                  </a:lnTo>
                  <a:lnTo>
                    <a:pt x="140" y="251"/>
                  </a:lnTo>
                  <a:lnTo>
                    <a:pt x="125" y="246"/>
                  </a:lnTo>
                  <a:lnTo>
                    <a:pt x="110" y="240"/>
                  </a:lnTo>
                  <a:lnTo>
                    <a:pt x="95" y="235"/>
                  </a:lnTo>
                  <a:lnTo>
                    <a:pt x="82" y="229"/>
                  </a:lnTo>
                  <a:lnTo>
                    <a:pt x="69" y="223"/>
                  </a:lnTo>
                  <a:lnTo>
                    <a:pt x="58" y="217"/>
                  </a:lnTo>
                  <a:lnTo>
                    <a:pt x="47" y="211"/>
                  </a:lnTo>
                  <a:lnTo>
                    <a:pt x="38" y="204"/>
                  </a:lnTo>
                  <a:lnTo>
                    <a:pt x="29" y="197"/>
                  </a:lnTo>
                  <a:lnTo>
                    <a:pt x="25" y="194"/>
                  </a:lnTo>
                  <a:lnTo>
                    <a:pt x="22" y="191"/>
                  </a:lnTo>
                  <a:lnTo>
                    <a:pt x="18" y="187"/>
                  </a:lnTo>
                  <a:lnTo>
                    <a:pt x="15" y="184"/>
                  </a:lnTo>
                  <a:lnTo>
                    <a:pt x="13" y="181"/>
                  </a:lnTo>
                  <a:lnTo>
                    <a:pt x="9" y="176"/>
                  </a:lnTo>
                  <a:lnTo>
                    <a:pt x="7" y="173"/>
                  </a:lnTo>
                  <a:lnTo>
                    <a:pt x="5" y="169"/>
                  </a:lnTo>
                  <a:lnTo>
                    <a:pt x="4" y="166"/>
                  </a:lnTo>
                  <a:lnTo>
                    <a:pt x="2" y="162"/>
                  </a:lnTo>
                  <a:lnTo>
                    <a:pt x="1" y="159"/>
                  </a:lnTo>
                  <a:lnTo>
                    <a:pt x="1" y="154"/>
                  </a:lnTo>
                  <a:lnTo>
                    <a:pt x="0" y="151"/>
                  </a:lnTo>
                  <a:lnTo>
                    <a:pt x="0" y="147"/>
                  </a:lnTo>
                  <a:lnTo>
                    <a:pt x="0" y="143"/>
                  </a:lnTo>
                  <a:lnTo>
                    <a:pt x="1" y="140"/>
                  </a:lnTo>
                  <a:lnTo>
                    <a:pt x="1" y="136"/>
                  </a:lnTo>
                  <a:lnTo>
                    <a:pt x="2" y="132"/>
                  </a:lnTo>
                  <a:lnTo>
                    <a:pt x="4" y="128"/>
                  </a:lnTo>
                  <a:lnTo>
                    <a:pt x="5" y="125"/>
                  </a:lnTo>
                  <a:lnTo>
                    <a:pt x="7" y="121"/>
                  </a:lnTo>
                  <a:lnTo>
                    <a:pt x="9" y="118"/>
                  </a:lnTo>
                  <a:lnTo>
                    <a:pt x="13" y="115"/>
                  </a:lnTo>
                  <a:lnTo>
                    <a:pt x="15" y="110"/>
                  </a:lnTo>
                  <a:lnTo>
                    <a:pt x="18" y="107"/>
                  </a:lnTo>
                  <a:lnTo>
                    <a:pt x="22" y="104"/>
                  </a:lnTo>
                  <a:lnTo>
                    <a:pt x="25" y="100"/>
                  </a:lnTo>
                  <a:lnTo>
                    <a:pt x="29" y="97"/>
                  </a:lnTo>
                  <a:lnTo>
                    <a:pt x="38" y="90"/>
                  </a:lnTo>
                  <a:lnTo>
                    <a:pt x="47" y="83"/>
                  </a:lnTo>
                  <a:lnTo>
                    <a:pt x="58" y="77"/>
                  </a:lnTo>
                  <a:lnTo>
                    <a:pt x="69" y="71"/>
                  </a:lnTo>
                  <a:lnTo>
                    <a:pt x="82" y="65"/>
                  </a:lnTo>
                  <a:lnTo>
                    <a:pt x="95" y="59"/>
                  </a:lnTo>
                  <a:lnTo>
                    <a:pt x="110" y="54"/>
                  </a:lnTo>
                  <a:lnTo>
                    <a:pt x="125" y="48"/>
                  </a:lnTo>
                  <a:lnTo>
                    <a:pt x="140" y="43"/>
                  </a:lnTo>
                  <a:lnTo>
                    <a:pt x="157" y="38"/>
                  </a:lnTo>
                  <a:lnTo>
                    <a:pt x="175" y="34"/>
                  </a:lnTo>
                  <a:lnTo>
                    <a:pt x="193" y="29"/>
                  </a:lnTo>
                  <a:lnTo>
                    <a:pt x="212" y="25"/>
                  </a:lnTo>
                  <a:lnTo>
                    <a:pt x="230" y="21"/>
                  </a:lnTo>
                  <a:lnTo>
                    <a:pt x="251" y="18"/>
                  </a:lnTo>
                  <a:lnTo>
                    <a:pt x="271" y="15"/>
                  </a:lnTo>
                  <a:lnTo>
                    <a:pt x="293" y="12"/>
                  </a:lnTo>
                  <a:lnTo>
                    <a:pt x="314" y="9"/>
                  </a:lnTo>
                  <a:lnTo>
                    <a:pt x="337" y="6"/>
                  </a:lnTo>
                  <a:lnTo>
                    <a:pt x="359" y="4"/>
                  </a:lnTo>
                  <a:lnTo>
                    <a:pt x="383" y="3"/>
                  </a:lnTo>
                  <a:lnTo>
                    <a:pt x="406" y="2"/>
                  </a:lnTo>
                  <a:lnTo>
                    <a:pt x="431" y="1"/>
                  </a:lnTo>
                  <a:lnTo>
                    <a:pt x="455" y="0"/>
                  </a:lnTo>
                  <a:lnTo>
                    <a:pt x="48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860480" y="5084640"/>
              <a:ext cx="1524240" cy="466920"/>
            </a:xfrm>
            <a:custGeom>
              <a:avLst/>
              <a:gdLst/>
              <a:ahLst/>
              <a:rect l="l" t="t" r="r" b="b"/>
              <a:pathLst>
                <a:path w="960" h="294">
                  <a:moveTo>
                    <a:pt x="480" y="0"/>
                  </a:moveTo>
                  <a:lnTo>
                    <a:pt x="505" y="0"/>
                  </a:lnTo>
                  <a:lnTo>
                    <a:pt x="529" y="1"/>
                  </a:lnTo>
                  <a:lnTo>
                    <a:pt x="553" y="2"/>
                  </a:lnTo>
                  <a:lnTo>
                    <a:pt x="576" y="3"/>
                  </a:lnTo>
                  <a:lnTo>
                    <a:pt x="600" y="4"/>
                  </a:lnTo>
                  <a:lnTo>
                    <a:pt x="622" y="6"/>
                  </a:lnTo>
                  <a:lnTo>
                    <a:pt x="645" y="10"/>
                  </a:lnTo>
                  <a:lnTo>
                    <a:pt x="666" y="12"/>
                  </a:lnTo>
                  <a:lnTo>
                    <a:pt x="688" y="15"/>
                  </a:lnTo>
                  <a:lnTo>
                    <a:pt x="708" y="18"/>
                  </a:lnTo>
                  <a:lnTo>
                    <a:pt x="729" y="21"/>
                  </a:lnTo>
                  <a:lnTo>
                    <a:pt x="748" y="25"/>
                  </a:lnTo>
                  <a:lnTo>
                    <a:pt x="767" y="29"/>
                  </a:lnTo>
                  <a:lnTo>
                    <a:pt x="785" y="34"/>
                  </a:lnTo>
                  <a:lnTo>
                    <a:pt x="802" y="39"/>
                  </a:lnTo>
                  <a:lnTo>
                    <a:pt x="819" y="43"/>
                  </a:lnTo>
                  <a:lnTo>
                    <a:pt x="835" y="48"/>
                  </a:lnTo>
                  <a:lnTo>
                    <a:pt x="850" y="54"/>
                  </a:lnTo>
                  <a:lnTo>
                    <a:pt x="864" y="59"/>
                  </a:lnTo>
                  <a:lnTo>
                    <a:pt x="878" y="65"/>
                  </a:lnTo>
                  <a:lnTo>
                    <a:pt x="890" y="71"/>
                  </a:lnTo>
                  <a:lnTo>
                    <a:pt x="902" y="77"/>
                  </a:lnTo>
                  <a:lnTo>
                    <a:pt x="912" y="83"/>
                  </a:lnTo>
                  <a:lnTo>
                    <a:pt x="922" y="90"/>
                  </a:lnTo>
                  <a:lnTo>
                    <a:pt x="930" y="97"/>
                  </a:lnTo>
                  <a:lnTo>
                    <a:pt x="934" y="100"/>
                  </a:lnTo>
                  <a:lnTo>
                    <a:pt x="938" y="104"/>
                  </a:lnTo>
                  <a:lnTo>
                    <a:pt x="942" y="107"/>
                  </a:lnTo>
                  <a:lnTo>
                    <a:pt x="945" y="110"/>
                  </a:lnTo>
                  <a:lnTo>
                    <a:pt x="947" y="115"/>
                  </a:lnTo>
                  <a:lnTo>
                    <a:pt x="950" y="118"/>
                  </a:lnTo>
                  <a:lnTo>
                    <a:pt x="952" y="121"/>
                  </a:lnTo>
                  <a:lnTo>
                    <a:pt x="954" y="125"/>
                  </a:lnTo>
                  <a:lnTo>
                    <a:pt x="955" y="128"/>
                  </a:lnTo>
                  <a:lnTo>
                    <a:pt x="957" y="132"/>
                  </a:lnTo>
                  <a:lnTo>
                    <a:pt x="958" y="136"/>
                  </a:lnTo>
                  <a:lnTo>
                    <a:pt x="958" y="140"/>
                  </a:lnTo>
                  <a:lnTo>
                    <a:pt x="960" y="143"/>
                  </a:lnTo>
                  <a:lnTo>
                    <a:pt x="960" y="147"/>
                  </a:lnTo>
                  <a:lnTo>
                    <a:pt x="960" y="151"/>
                  </a:lnTo>
                  <a:lnTo>
                    <a:pt x="958" y="154"/>
                  </a:lnTo>
                  <a:lnTo>
                    <a:pt x="958" y="159"/>
                  </a:lnTo>
                  <a:lnTo>
                    <a:pt x="957" y="162"/>
                  </a:lnTo>
                  <a:lnTo>
                    <a:pt x="955" y="166"/>
                  </a:lnTo>
                  <a:lnTo>
                    <a:pt x="954" y="169"/>
                  </a:lnTo>
                  <a:lnTo>
                    <a:pt x="952" y="173"/>
                  </a:lnTo>
                  <a:lnTo>
                    <a:pt x="950" y="176"/>
                  </a:lnTo>
                  <a:lnTo>
                    <a:pt x="947" y="181"/>
                  </a:lnTo>
                  <a:lnTo>
                    <a:pt x="945" y="184"/>
                  </a:lnTo>
                  <a:lnTo>
                    <a:pt x="942" y="187"/>
                  </a:lnTo>
                  <a:lnTo>
                    <a:pt x="938" y="191"/>
                  </a:lnTo>
                  <a:lnTo>
                    <a:pt x="934" y="194"/>
                  </a:lnTo>
                  <a:lnTo>
                    <a:pt x="930" y="197"/>
                  </a:lnTo>
                  <a:lnTo>
                    <a:pt x="926" y="201"/>
                  </a:lnTo>
                  <a:lnTo>
                    <a:pt x="922" y="204"/>
                  </a:lnTo>
                  <a:lnTo>
                    <a:pt x="912" y="211"/>
                  </a:lnTo>
                  <a:lnTo>
                    <a:pt x="902" y="217"/>
                  </a:lnTo>
                  <a:lnTo>
                    <a:pt x="890" y="223"/>
                  </a:lnTo>
                  <a:lnTo>
                    <a:pt x="878" y="229"/>
                  </a:lnTo>
                  <a:lnTo>
                    <a:pt x="864" y="235"/>
                  </a:lnTo>
                  <a:lnTo>
                    <a:pt x="850" y="240"/>
                  </a:lnTo>
                  <a:lnTo>
                    <a:pt x="835" y="246"/>
                  </a:lnTo>
                  <a:lnTo>
                    <a:pt x="819" y="251"/>
                  </a:lnTo>
                  <a:lnTo>
                    <a:pt x="802" y="256"/>
                  </a:lnTo>
                  <a:lnTo>
                    <a:pt x="785" y="260"/>
                  </a:lnTo>
                  <a:lnTo>
                    <a:pt x="767" y="265"/>
                  </a:lnTo>
                  <a:lnTo>
                    <a:pt x="748" y="269"/>
                  </a:lnTo>
                  <a:lnTo>
                    <a:pt x="729" y="273"/>
                  </a:lnTo>
                  <a:lnTo>
                    <a:pt x="708" y="276"/>
                  </a:lnTo>
                  <a:lnTo>
                    <a:pt x="688" y="279"/>
                  </a:lnTo>
                  <a:lnTo>
                    <a:pt x="666" y="282"/>
                  </a:lnTo>
                  <a:lnTo>
                    <a:pt x="644" y="285"/>
                  </a:lnTo>
                  <a:lnTo>
                    <a:pt x="622" y="288"/>
                  </a:lnTo>
                  <a:lnTo>
                    <a:pt x="599" y="290"/>
                  </a:lnTo>
                  <a:lnTo>
                    <a:pt x="576" y="291"/>
                  </a:lnTo>
                  <a:lnTo>
                    <a:pt x="553" y="292"/>
                  </a:lnTo>
                  <a:lnTo>
                    <a:pt x="529" y="293"/>
                  </a:lnTo>
                  <a:lnTo>
                    <a:pt x="504" y="294"/>
                  </a:lnTo>
                  <a:lnTo>
                    <a:pt x="480" y="294"/>
                  </a:lnTo>
                  <a:lnTo>
                    <a:pt x="455" y="294"/>
                  </a:lnTo>
                  <a:lnTo>
                    <a:pt x="431" y="293"/>
                  </a:lnTo>
                  <a:lnTo>
                    <a:pt x="406" y="292"/>
                  </a:lnTo>
                  <a:lnTo>
                    <a:pt x="383" y="291"/>
                  </a:lnTo>
                  <a:lnTo>
                    <a:pt x="360" y="290"/>
                  </a:lnTo>
                  <a:lnTo>
                    <a:pt x="337" y="288"/>
                  </a:lnTo>
                  <a:lnTo>
                    <a:pt x="315" y="285"/>
                  </a:lnTo>
                  <a:lnTo>
                    <a:pt x="293" y="282"/>
                  </a:lnTo>
                  <a:lnTo>
                    <a:pt x="271" y="279"/>
                  </a:lnTo>
                  <a:lnTo>
                    <a:pt x="251" y="276"/>
                  </a:lnTo>
                  <a:lnTo>
                    <a:pt x="232" y="273"/>
                  </a:lnTo>
                  <a:lnTo>
                    <a:pt x="212" y="269"/>
                  </a:lnTo>
                  <a:lnTo>
                    <a:pt x="193" y="265"/>
                  </a:lnTo>
                  <a:lnTo>
                    <a:pt x="175" y="260"/>
                  </a:lnTo>
                  <a:lnTo>
                    <a:pt x="157" y="256"/>
                  </a:lnTo>
                  <a:lnTo>
                    <a:pt x="140" y="251"/>
                  </a:lnTo>
                  <a:lnTo>
                    <a:pt x="125" y="246"/>
                  </a:lnTo>
                  <a:lnTo>
                    <a:pt x="110" y="240"/>
                  </a:lnTo>
                  <a:lnTo>
                    <a:pt x="95" y="235"/>
                  </a:lnTo>
                  <a:lnTo>
                    <a:pt x="82" y="229"/>
                  </a:lnTo>
                  <a:lnTo>
                    <a:pt x="69" y="223"/>
                  </a:lnTo>
                  <a:lnTo>
                    <a:pt x="58" y="217"/>
                  </a:lnTo>
                  <a:lnTo>
                    <a:pt x="47" y="211"/>
                  </a:lnTo>
                  <a:lnTo>
                    <a:pt x="38" y="204"/>
                  </a:lnTo>
                  <a:lnTo>
                    <a:pt x="29" y="197"/>
                  </a:lnTo>
                  <a:lnTo>
                    <a:pt x="25" y="194"/>
                  </a:lnTo>
                  <a:lnTo>
                    <a:pt x="22" y="191"/>
                  </a:lnTo>
                  <a:lnTo>
                    <a:pt x="18" y="187"/>
                  </a:lnTo>
                  <a:lnTo>
                    <a:pt x="15" y="184"/>
                  </a:lnTo>
                  <a:lnTo>
                    <a:pt x="13" y="181"/>
                  </a:lnTo>
                  <a:lnTo>
                    <a:pt x="9" y="176"/>
                  </a:lnTo>
                  <a:lnTo>
                    <a:pt x="7" y="173"/>
                  </a:lnTo>
                  <a:lnTo>
                    <a:pt x="5" y="169"/>
                  </a:lnTo>
                  <a:lnTo>
                    <a:pt x="4" y="166"/>
                  </a:lnTo>
                  <a:lnTo>
                    <a:pt x="2" y="162"/>
                  </a:lnTo>
                  <a:lnTo>
                    <a:pt x="1" y="159"/>
                  </a:lnTo>
                  <a:lnTo>
                    <a:pt x="1" y="154"/>
                  </a:lnTo>
                  <a:lnTo>
                    <a:pt x="0" y="151"/>
                  </a:lnTo>
                  <a:lnTo>
                    <a:pt x="0" y="147"/>
                  </a:lnTo>
                  <a:lnTo>
                    <a:pt x="0" y="143"/>
                  </a:lnTo>
                  <a:lnTo>
                    <a:pt x="1" y="140"/>
                  </a:lnTo>
                  <a:lnTo>
                    <a:pt x="1" y="136"/>
                  </a:lnTo>
                  <a:lnTo>
                    <a:pt x="2" y="132"/>
                  </a:lnTo>
                  <a:lnTo>
                    <a:pt x="4" y="128"/>
                  </a:lnTo>
                  <a:lnTo>
                    <a:pt x="5" y="125"/>
                  </a:lnTo>
                  <a:lnTo>
                    <a:pt x="7" y="121"/>
                  </a:lnTo>
                  <a:lnTo>
                    <a:pt x="9" y="118"/>
                  </a:lnTo>
                  <a:lnTo>
                    <a:pt x="13" y="115"/>
                  </a:lnTo>
                  <a:lnTo>
                    <a:pt x="15" y="110"/>
                  </a:lnTo>
                  <a:lnTo>
                    <a:pt x="18" y="107"/>
                  </a:lnTo>
                  <a:lnTo>
                    <a:pt x="22" y="104"/>
                  </a:lnTo>
                  <a:lnTo>
                    <a:pt x="25" y="100"/>
                  </a:lnTo>
                  <a:lnTo>
                    <a:pt x="29" y="97"/>
                  </a:lnTo>
                  <a:lnTo>
                    <a:pt x="38" y="90"/>
                  </a:lnTo>
                  <a:lnTo>
                    <a:pt x="47" y="83"/>
                  </a:lnTo>
                  <a:lnTo>
                    <a:pt x="58" y="77"/>
                  </a:lnTo>
                  <a:lnTo>
                    <a:pt x="69" y="71"/>
                  </a:lnTo>
                  <a:lnTo>
                    <a:pt x="82" y="65"/>
                  </a:lnTo>
                  <a:lnTo>
                    <a:pt x="95" y="59"/>
                  </a:lnTo>
                  <a:lnTo>
                    <a:pt x="110" y="54"/>
                  </a:lnTo>
                  <a:lnTo>
                    <a:pt x="125" y="48"/>
                  </a:lnTo>
                  <a:lnTo>
                    <a:pt x="140" y="43"/>
                  </a:lnTo>
                  <a:lnTo>
                    <a:pt x="157" y="38"/>
                  </a:lnTo>
                  <a:lnTo>
                    <a:pt x="175" y="34"/>
                  </a:lnTo>
                  <a:lnTo>
                    <a:pt x="193" y="29"/>
                  </a:lnTo>
                  <a:lnTo>
                    <a:pt x="212" y="25"/>
                  </a:lnTo>
                  <a:lnTo>
                    <a:pt x="230" y="21"/>
                  </a:lnTo>
                  <a:lnTo>
                    <a:pt x="251" y="18"/>
                  </a:lnTo>
                  <a:lnTo>
                    <a:pt x="271" y="15"/>
                  </a:lnTo>
                  <a:lnTo>
                    <a:pt x="293" y="12"/>
                  </a:lnTo>
                  <a:lnTo>
                    <a:pt x="314" y="9"/>
                  </a:lnTo>
                  <a:lnTo>
                    <a:pt x="337" y="6"/>
                  </a:lnTo>
                  <a:lnTo>
                    <a:pt x="359" y="4"/>
                  </a:lnTo>
                  <a:lnTo>
                    <a:pt x="383" y="3"/>
                  </a:lnTo>
                  <a:lnTo>
                    <a:pt x="406" y="2"/>
                  </a:lnTo>
                  <a:lnTo>
                    <a:pt x="431" y="1"/>
                  </a:lnTo>
                  <a:lnTo>
                    <a:pt x="455" y="0"/>
                  </a:lnTo>
                  <a:lnTo>
                    <a:pt x="480" y="0"/>
                  </a:lnTo>
                </a:path>
              </a:pathLst>
            </a:custGeom>
            <a:solidFill>
              <a:srgbClr val="0099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897280" y="4998960"/>
              <a:ext cx="122040" cy="144720"/>
            </a:xfrm>
            <a:custGeom>
              <a:avLst/>
              <a:gdLst/>
              <a:ahLst/>
              <a:rect l="l" t="t" r="r" b="b"/>
              <a:pathLst>
                <a:path w="77" h="91">
                  <a:moveTo>
                    <a:pt x="38" y="0"/>
                  </a:moveTo>
                  <a:lnTo>
                    <a:pt x="77" y="91"/>
                  </a:lnTo>
                  <a:lnTo>
                    <a:pt x="0" y="91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897280" y="4998960"/>
              <a:ext cx="122040" cy="144720"/>
            </a:xfrm>
            <a:custGeom>
              <a:avLst/>
              <a:gdLst/>
              <a:ahLst/>
              <a:rect l="l" t="t" r="r" b="b"/>
              <a:pathLst>
                <a:path w="77" h="91">
                  <a:moveTo>
                    <a:pt x="38" y="0"/>
                  </a:moveTo>
                  <a:lnTo>
                    <a:pt x="77" y="91"/>
                  </a:lnTo>
                  <a:lnTo>
                    <a:pt x="0" y="91"/>
                  </a:lnTo>
                  <a:lnTo>
                    <a:pt x="38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897280" y="4940280"/>
              <a:ext cx="122040" cy="115920"/>
            </a:xfrm>
            <a:custGeom>
              <a:avLst/>
              <a:gdLst/>
              <a:ahLst/>
              <a:rect l="l" t="t" r="r" b="b"/>
              <a:pathLst>
                <a:path w="77" h="73">
                  <a:moveTo>
                    <a:pt x="38" y="0"/>
                  </a:moveTo>
                  <a:lnTo>
                    <a:pt x="43" y="0"/>
                  </a:lnTo>
                  <a:lnTo>
                    <a:pt x="46" y="1"/>
                  </a:lnTo>
                  <a:lnTo>
                    <a:pt x="50" y="2"/>
                  </a:lnTo>
                  <a:lnTo>
                    <a:pt x="53" y="3"/>
                  </a:lnTo>
                  <a:lnTo>
                    <a:pt x="56" y="4"/>
                  </a:lnTo>
                  <a:lnTo>
                    <a:pt x="60" y="6"/>
                  </a:lnTo>
                  <a:lnTo>
                    <a:pt x="62" y="8"/>
                  </a:lnTo>
                  <a:lnTo>
                    <a:pt x="66" y="10"/>
                  </a:lnTo>
                  <a:lnTo>
                    <a:pt x="68" y="12"/>
                  </a:lnTo>
                  <a:lnTo>
                    <a:pt x="71" y="16"/>
                  </a:lnTo>
                  <a:lnTo>
                    <a:pt x="72" y="19"/>
                  </a:lnTo>
                  <a:lnTo>
                    <a:pt x="74" y="22"/>
                  </a:lnTo>
                  <a:lnTo>
                    <a:pt x="75" y="25"/>
                  </a:lnTo>
                  <a:lnTo>
                    <a:pt x="76" y="29"/>
                  </a:lnTo>
                  <a:lnTo>
                    <a:pt x="77" y="32"/>
                  </a:lnTo>
                  <a:lnTo>
                    <a:pt x="77" y="37"/>
                  </a:lnTo>
                  <a:lnTo>
                    <a:pt x="77" y="41"/>
                  </a:lnTo>
                  <a:lnTo>
                    <a:pt x="76" y="44"/>
                  </a:lnTo>
                  <a:lnTo>
                    <a:pt x="75" y="47"/>
                  </a:lnTo>
                  <a:lnTo>
                    <a:pt x="74" y="51"/>
                  </a:lnTo>
                  <a:lnTo>
                    <a:pt x="72" y="54"/>
                  </a:lnTo>
                  <a:lnTo>
                    <a:pt x="71" y="56"/>
                  </a:lnTo>
                  <a:lnTo>
                    <a:pt x="68" y="60"/>
                  </a:lnTo>
                  <a:lnTo>
                    <a:pt x="66" y="63"/>
                  </a:lnTo>
                  <a:lnTo>
                    <a:pt x="62" y="65"/>
                  </a:lnTo>
                  <a:lnTo>
                    <a:pt x="60" y="67"/>
                  </a:lnTo>
                  <a:lnTo>
                    <a:pt x="56" y="69"/>
                  </a:lnTo>
                  <a:lnTo>
                    <a:pt x="53" y="70"/>
                  </a:lnTo>
                  <a:lnTo>
                    <a:pt x="50" y="71"/>
                  </a:lnTo>
                  <a:lnTo>
                    <a:pt x="46" y="72"/>
                  </a:lnTo>
                  <a:lnTo>
                    <a:pt x="43" y="73"/>
                  </a:lnTo>
                  <a:lnTo>
                    <a:pt x="38" y="73"/>
                  </a:lnTo>
                  <a:lnTo>
                    <a:pt x="34" y="73"/>
                  </a:lnTo>
                  <a:lnTo>
                    <a:pt x="31" y="72"/>
                  </a:lnTo>
                  <a:lnTo>
                    <a:pt x="27" y="71"/>
                  </a:lnTo>
                  <a:lnTo>
                    <a:pt x="24" y="70"/>
                  </a:lnTo>
                  <a:lnTo>
                    <a:pt x="21" y="69"/>
                  </a:lnTo>
                  <a:lnTo>
                    <a:pt x="17" y="67"/>
                  </a:lnTo>
                  <a:lnTo>
                    <a:pt x="14" y="65"/>
                  </a:lnTo>
                  <a:lnTo>
                    <a:pt x="11" y="63"/>
                  </a:lnTo>
                  <a:lnTo>
                    <a:pt x="9" y="60"/>
                  </a:lnTo>
                  <a:lnTo>
                    <a:pt x="6" y="56"/>
                  </a:lnTo>
                  <a:lnTo>
                    <a:pt x="5" y="54"/>
                  </a:lnTo>
                  <a:lnTo>
                    <a:pt x="3" y="51"/>
                  </a:lnTo>
                  <a:lnTo>
                    <a:pt x="2" y="47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0" y="37"/>
                  </a:lnTo>
                  <a:lnTo>
                    <a:pt x="0" y="32"/>
                  </a:lnTo>
                  <a:lnTo>
                    <a:pt x="1" y="29"/>
                  </a:lnTo>
                  <a:lnTo>
                    <a:pt x="2" y="25"/>
                  </a:lnTo>
                  <a:lnTo>
                    <a:pt x="3" y="22"/>
                  </a:lnTo>
                  <a:lnTo>
                    <a:pt x="5" y="19"/>
                  </a:lnTo>
                  <a:lnTo>
                    <a:pt x="6" y="16"/>
                  </a:lnTo>
                  <a:lnTo>
                    <a:pt x="9" y="12"/>
                  </a:lnTo>
                  <a:lnTo>
                    <a:pt x="11" y="10"/>
                  </a:lnTo>
                  <a:lnTo>
                    <a:pt x="14" y="8"/>
                  </a:lnTo>
                  <a:lnTo>
                    <a:pt x="17" y="6"/>
                  </a:lnTo>
                  <a:lnTo>
                    <a:pt x="21" y="4"/>
                  </a:lnTo>
                  <a:lnTo>
                    <a:pt x="24" y="3"/>
                  </a:lnTo>
                  <a:lnTo>
                    <a:pt x="27" y="2"/>
                  </a:lnTo>
                  <a:lnTo>
                    <a:pt x="31" y="1"/>
                  </a:lnTo>
                  <a:lnTo>
                    <a:pt x="34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97280" y="4940280"/>
              <a:ext cx="122040" cy="115920"/>
            </a:xfrm>
            <a:custGeom>
              <a:avLst/>
              <a:gdLst/>
              <a:ahLst/>
              <a:rect l="l" t="t" r="r" b="b"/>
              <a:pathLst>
                <a:path w="77" h="73">
                  <a:moveTo>
                    <a:pt x="38" y="0"/>
                  </a:moveTo>
                  <a:lnTo>
                    <a:pt x="43" y="0"/>
                  </a:lnTo>
                  <a:lnTo>
                    <a:pt x="46" y="1"/>
                  </a:lnTo>
                  <a:lnTo>
                    <a:pt x="50" y="2"/>
                  </a:lnTo>
                  <a:lnTo>
                    <a:pt x="53" y="3"/>
                  </a:lnTo>
                  <a:lnTo>
                    <a:pt x="56" y="4"/>
                  </a:lnTo>
                  <a:lnTo>
                    <a:pt x="60" y="6"/>
                  </a:lnTo>
                  <a:lnTo>
                    <a:pt x="62" y="8"/>
                  </a:lnTo>
                  <a:lnTo>
                    <a:pt x="66" y="10"/>
                  </a:lnTo>
                  <a:lnTo>
                    <a:pt x="68" y="12"/>
                  </a:lnTo>
                  <a:lnTo>
                    <a:pt x="71" y="16"/>
                  </a:lnTo>
                  <a:lnTo>
                    <a:pt x="72" y="19"/>
                  </a:lnTo>
                  <a:lnTo>
                    <a:pt x="74" y="22"/>
                  </a:lnTo>
                  <a:lnTo>
                    <a:pt x="75" y="25"/>
                  </a:lnTo>
                  <a:lnTo>
                    <a:pt x="76" y="29"/>
                  </a:lnTo>
                  <a:lnTo>
                    <a:pt x="77" y="32"/>
                  </a:lnTo>
                  <a:lnTo>
                    <a:pt x="77" y="37"/>
                  </a:lnTo>
                  <a:lnTo>
                    <a:pt x="77" y="41"/>
                  </a:lnTo>
                  <a:lnTo>
                    <a:pt x="76" y="44"/>
                  </a:lnTo>
                  <a:lnTo>
                    <a:pt x="75" y="47"/>
                  </a:lnTo>
                  <a:lnTo>
                    <a:pt x="74" y="51"/>
                  </a:lnTo>
                  <a:lnTo>
                    <a:pt x="72" y="54"/>
                  </a:lnTo>
                  <a:lnTo>
                    <a:pt x="71" y="56"/>
                  </a:lnTo>
                  <a:lnTo>
                    <a:pt x="68" y="60"/>
                  </a:lnTo>
                  <a:lnTo>
                    <a:pt x="66" y="63"/>
                  </a:lnTo>
                  <a:lnTo>
                    <a:pt x="62" y="65"/>
                  </a:lnTo>
                  <a:lnTo>
                    <a:pt x="60" y="67"/>
                  </a:lnTo>
                  <a:lnTo>
                    <a:pt x="56" y="69"/>
                  </a:lnTo>
                  <a:lnTo>
                    <a:pt x="53" y="70"/>
                  </a:lnTo>
                  <a:lnTo>
                    <a:pt x="50" y="71"/>
                  </a:lnTo>
                  <a:lnTo>
                    <a:pt x="46" y="72"/>
                  </a:lnTo>
                  <a:lnTo>
                    <a:pt x="43" y="73"/>
                  </a:lnTo>
                  <a:lnTo>
                    <a:pt x="38" y="73"/>
                  </a:lnTo>
                  <a:lnTo>
                    <a:pt x="34" y="73"/>
                  </a:lnTo>
                  <a:lnTo>
                    <a:pt x="31" y="72"/>
                  </a:lnTo>
                  <a:lnTo>
                    <a:pt x="27" y="71"/>
                  </a:lnTo>
                  <a:lnTo>
                    <a:pt x="24" y="70"/>
                  </a:lnTo>
                  <a:lnTo>
                    <a:pt x="21" y="69"/>
                  </a:lnTo>
                  <a:lnTo>
                    <a:pt x="17" y="67"/>
                  </a:lnTo>
                  <a:lnTo>
                    <a:pt x="14" y="65"/>
                  </a:lnTo>
                  <a:lnTo>
                    <a:pt x="11" y="63"/>
                  </a:lnTo>
                  <a:lnTo>
                    <a:pt x="9" y="60"/>
                  </a:lnTo>
                  <a:lnTo>
                    <a:pt x="6" y="56"/>
                  </a:lnTo>
                  <a:lnTo>
                    <a:pt x="5" y="54"/>
                  </a:lnTo>
                  <a:lnTo>
                    <a:pt x="3" y="51"/>
                  </a:lnTo>
                  <a:lnTo>
                    <a:pt x="2" y="47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0" y="37"/>
                  </a:lnTo>
                  <a:lnTo>
                    <a:pt x="0" y="32"/>
                  </a:lnTo>
                  <a:lnTo>
                    <a:pt x="1" y="29"/>
                  </a:lnTo>
                  <a:lnTo>
                    <a:pt x="2" y="25"/>
                  </a:lnTo>
                  <a:lnTo>
                    <a:pt x="3" y="22"/>
                  </a:lnTo>
                  <a:lnTo>
                    <a:pt x="5" y="19"/>
                  </a:lnTo>
                  <a:lnTo>
                    <a:pt x="6" y="16"/>
                  </a:lnTo>
                  <a:lnTo>
                    <a:pt x="9" y="12"/>
                  </a:lnTo>
                  <a:lnTo>
                    <a:pt x="11" y="10"/>
                  </a:lnTo>
                  <a:lnTo>
                    <a:pt x="14" y="8"/>
                  </a:lnTo>
                  <a:lnTo>
                    <a:pt x="17" y="6"/>
                  </a:lnTo>
                  <a:lnTo>
                    <a:pt x="21" y="4"/>
                  </a:lnTo>
                  <a:lnTo>
                    <a:pt x="24" y="3"/>
                  </a:lnTo>
                  <a:lnTo>
                    <a:pt x="27" y="2"/>
                  </a:lnTo>
                  <a:lnTo>
                    <a:pt x="31" y="1"/>
                  </a:lnTo>
                  <a:lnTo>
                    <a:pt x="34" y="0"/>
                  </a:lnTo>
                  <a:lnTo>
                    <a:pt x="3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712960" y="5056200"/>
              <a:ext cx="216000" cy="262080"/>
            </a:xfrm>
            <a:custGeom>
              <a:avLst/>
              <a:gdLst/>
              <a:ahLst/>
              <a:rect l="l" t="t" r="r" b="b"/>
              <a:pathLst>
                <a:path w="136" h="165">
                  <a:moveTo>
                    <a:pt x="136" y="0"/>
                  </a:moveTo>
                  <a:lnTo>
                    <a:pt x="0" y="0"/>
                  </a:lnTo>
                  <a:lnTo>
                    <a:pt x="0" y="165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019320" y="4998960"/>
              <a:ext cx="76212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513320" y="3976560"/>
              <a:ext cx="577800" cy="1197000"/>
            </a:xfrm>
            <a:custGeom>
              <a:avLst/>
              <a:gdLst/>
              <a:ahLst/>
              <a:rect l="l" t="t" r="r" b="b"/>
              <a:pathLst>
                <a:path w="364" h="754">
                  <a:moveTo>
                    <a:pt x="0" y="754"/>
                  </a:moveTo>
                  <a:lnTo>
                    <a:pt x="134" y="754"/>
                  </a:lnTo>
                  <a:lnTo>
                    <a:pt x="134" y="0"/>
                  </a:lnTo>
                  <a:lnTo>
                    <a:pt x="364" y="0"/>
                  </a:lnTo>
                  <a:lnTo>
                    <a:pt x="364" y="92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523200" y="5126040"/>
              <a:ext cx="487080" cy="93600"/>
            </a:xfrm>
            <a:custGeom>
              <a:avLst/>
              <a:gdLst/>
              <a:ahLst/>
              <a:rect l="l" t="t" r="r" b="b"/>
              <a:pathLst>
                <a:path w="307" h="59">
                  <a:moveTo>
                    <a:pt x="0" y="19"/>
                  </a:moveTo>
                  <a:lnTo>
                    <a:pt x="259" y="20"/>
                  </a:lnTo>
                  <a:lnTo>
                    <a:pt x="259" y="40"/>
                  </a:lnTo>
                  <a:lnTo>
                    <a:pt x="0" y="39"/>
                  </a:lnTo>
                  <a:lnTo>
                    <a:pt x="0" y="19"/>
                  </a:lnTo>
                  <a:close/>
                  <a:moveTo>
                    <a:pt x="248" y="0"/>
                  </a:moveTo>
                  <a:lnTo>
                    <a:pt x="307" y="30"/>
                  </a:lnTo>
                  <a:lnTo>
                    <a:pt x="248" y="59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091120" y="4589640"/>
              <a:ext cx="425520" cy="554040"/>
            </a:xfrm>
            <a:custGeom>
              <a:avLst/>
              <a:gdLst/>
              <a:ahLst/>
              <a:rect l="l" t="t" r="r" b="b"/>
              <a:pathLst>
                <a:path w="268" h="349">
                  <a:moveTo>
                    <a:pt x="0" y="0"/>
                  </a:moveTo>
                  <a:lnTo>
                    <a:pt x="0" y="349"/>
                  </a:lnTo>
                  <a:lnTo>
                    <a:pt x="268" y="349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505320" y="3165480"/>
              <a:ext cx="476280" cy="29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 flipV="1">
              <a:off x="4063680" y="3290400"/>
              <a:ext cx="73080" cy="172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505320" y="3165480"/>
              <a:ext cx="476280" cy="297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652560" y="3222720"/>
              <a:ext cx="18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RT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831840" y="32227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219640" y="3162240"/>
              <a:ext cx="473040" cy="30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776920" y="3287880"/>
              <a:ext cx="436680" cy="1557000"/>
            </a:xfrm>
            <a:custGeom>
              <a:avLst/>
              <a:gdLst/>
              <a:ahLst/>
              <a:rect l="l" t="t" r="r" b="b"/>
              <a:pathLst>
                <a:path w="275" h="981">
                  <a:moveTo>
                    <a:pt x="275" y="981"/>
                  </a:moveTo>
                  <a:lnTo>
                    <a:pt x="59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219640" y="3162240"/>
              <a:ext cx="473040" cy="301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360760" y="3220920"/>
              <a:ext cx="197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RD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551200" y="32209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860480" y="3157560"/>
              <a:ext cx="453960" cy="30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397240" y="3281400"/>
              <a:ext cx="47520" cy="1996920"/>
            </a:xfrm>
            <a:custGeom>
              <a:avLst/>
              <a:gdLst/>
              <a:ahLst/>
              <a:rect l="l" t="t" r="r" b="b"/>
              <a:pathLst>
                <a:path w="30" h="1258">
                  <a:moveTo>
                    <a:pt x="30" y="1258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860480" y="3157560"/>
              <a:ext cx="453960" cy="309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028600" y="3216240"/>
              <a:ext cx="11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145960" y="32162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59240" y="3164040"/>
              <a:ext cx="476280" cy="29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917960" y="3289320"/>
              <a:ext cx="198720" cy="904680"/>
            </a:xfrm>
            <a:custGeom>
              <a:avLst/>
              <a:gdLst/>
              <a:ahLst/>
              <a:rect l="l" t="t" r="r" b="b"/>
              <a:pathLst>
                <a:path w="125" h="570">
                  <a:moveTo>
                    <a:pt x="125" y="570"/>
                  </a:moveTo>
                  <a:lnTo>
                    <a:pt x="28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359240" y="3164040"/>
              <a:ext cx="476280" cy="299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492800" y="32209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R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700160" y="32209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781440" y="5259240"/>
              <a:ext cx="700200" cy="233640"/>
            </a:xfrm>
            <a:custGeom>
              <a:avLst/>
              <a:gdLst/>
              <a:ahLst/>
              <a:rect l="l" t="t" r="r" b="b"/>
              <a:pathLst>
                <a:path w="441" h="147">
                  <a:moveTo>
                    <a:pt x="441" y="0"/>
                  </a:moveTo>
                  <a:lnTo>
                    <a:pt x="331" y="147"/>
                  </a:lnTo>
                  <a:lnTo>
                    <a:pt x="110" y="147"/>
                  </a:lnTo>
                  <a:lnTo>
                    <a:pt x="0" y="0"/>
                  </a:lnTo>
                  <a:lnTo>
                    <a:pt x="441" y="0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781440" y="5259240"/>
              <a:ext cx="700200" cy="233640"/>
            </a:xfrm>
            <a:custGeom>
              <a:avLst/>
              <a:gdLst/>
              <a:ahLst/>
              <a:rect l="l" t="t" r="r" b="b"/>
              <a:pathLst>
                <a:path w="441" h="147">
                  <a:moveTo>
                    <a:pt x="441" y="0"/>
                  </a:moveTo>
                  <a:lnTo>
                    <a:pt x="331" y="147"/>
                  </a:lnTo>
                  <a:lnTo>
                    <a:pt x="110" y="147"/>
                  </a:lnTo>
                  <a:lnTo>
                    <a:pt x="0" y="0"/>
                  </a:lnTo>
                  <a:lnTo>
                    <a:pt x="44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698920" y="3157560"/>
              <a:ext cx="426960" cy="31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 flipV="1">
              <a:off x="3209400" y="3281040"/>
              <a:ext cx="39960" cy="169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698920" y="3157560"/>
              <a:ext cx="426960" cy="314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814480" y="3213000"/>
              <a:ext cx="197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RC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006360" y="32130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886120" y="2701800"/>
              <a:ext cx="2568600" cy="319320"/>
            </a:xfrm>
            <a:custGeom>
              <a:avLst/>
              <a:gdLst/>
              <a:ahLst/>
              <a:rect l="l" t="t" r="r" b="b"/>
              <a:pathLst>
                <a:path w="1618" h="201">
                  <a:moveTo>
                    <a:pt x="0" y="201"/>
                  </a:moveTo>
                  <a:lnTo>
                    <a:pt x="0" y="190"/>
                  </a:lnTo>
                  <a:lnTo>
                    <a:pt x="1" y="181"/>
                  </a:lnTo>
                  <a:lnTo>
                    <a:pt x="2" y="170"/>
                  </a:lnTo>
                  <a:lnTo>
                    <a:pt x="5" y="162"/>
                  </a:lnTo>
                  <a:lnTo>
                    <a:pt x="7" y="152"/>
                  </a:lnTo>
                  <a:lnTo>
                    <a:pt x="10" y="144"/>
                  </a:lnTo>
                  <a:lnTo>
                    <a:pt x="13" y="137"/>
                  </a:lnTo>
                  <a:lnTo>
                    <a:pt x="17" y="129"/>
                  </a:lnTo>
                  <a:lnTo>
                    <a:pt x="20" y="123"/>
                  </a:lnTo>
                  <a:lnTo>
                    <a:pt x="25" y="117"/>
                  </a:lnTo>
                  <a:lnTo>
                    <a:pt x="30" y="112"/>
                  </a:lnTo>
                  <a:lnTo>
                    <a:pt x="35" y="108"/>
                  </a:lnTo>
                  <a:lnTo>
                    <a:pt x="39" y="104"/>
                  </a:lnTo>
                  <a:lnTo>
                    <a:pt x="44" y="102"/>
                  </a:lnTo>
                  <a:lnTo>
                    <a:pt x="51" y="101"/>
                  </a:lnTo>
                  <a:lnTo>
                    <a:pt x="53" y="100"/>
                  </a:lnTo>
                  <a:lnTo>
                    <a:pt x="56" y="100"/>
                  </a:lnTo>
                  <a:lnTo>
                    <a:pt x="731" y="100"/>
                  </a:lnTo>
                  <a:lnTo>
                    <a:pt x="737" y="100"/>
                  </a:lnTo>
                  <a:lnTo>
                    <a:pt x="743" y="98"/>
                  </a:lnTo>
                  <a:lnTo>
                    <a:pt x="748" y="96"/>
                  </a:lnTo>
                  <a:lnTo>
                    <a:pt x="752" y="92"/>
                  </a:lnTo>
                  <a:lnTo>
                    <a:pt x="758" y="88"/>
                  </a:lnTo>
                  <a:lnTo>
                    <a:pt x="762" y="83"/>
                  </a:lnTo>
                  <a:lnTo>
                    <a:pt x="766" y="77"/>
                  </a:lnTo>
                  <a:lnTo>
                    <a:pt x="770" y="70"/>
                  </a:lnTo>
                  <a:lnTo>
                    <a:pt x="773" y="64"/>
                  </a:lnTo>
                  <a:lnTo>
                    <a:pt x="776" y="56"/>
                  </a:lnTo>
                  <a:lnTo>
                    <a:pt x="780" y="48"/>
                  </a:lnTo>
                  <a:lnTo>
                    <a:pt x="782" y="39"/>
                  </a:lnTo>
                  <a:lnTo>
                    <a:pt x="784" y="30"/>
                  </a:lnTo>
                  <a:lnTo>
                    <a:pt x="785" y="20"/>
                  </a:lnTo>
                  <a:lnTo>
                    <a:pt x="786" y="11"/>
                  </a:lnTo>
                  <a:lnTo>
                    <a:pt x="786" y="0"/>
                  </a:lnTo>
                  <a:lnTo>
                    <a:pt x="786" y="11"/>
                  </a:lnTo>
                  <a:lnTo>
                    <a:pt x="787" y="20"/>
                  </a:lnTo>
                  <a:lnTo>
                    <a:pt x="788" y="30"/>
                  </a:lnTo>
                  <a:lnTo>
                    <a:pt x="790" y="39"/>
                  </a:lnTo>
                  <a:lnTo>
                    <a:pt x="792" y="48"/>
                  </a:lnTo>
                  <a:lnTo>
                    <a:pt x="795" y="56"/>
                  </a:lnTo>
                  <a:lnTo>
                    <a:pt x="798" y="64"/>
                  </a:lnTo>
                  <a:lnTo>
                    <a:pt x="803" y="70"/>
                  </a:lnTo>
                  <a:lnTo>
                    <a:pt x="806" y="77"/>
                  </a:lnTo>
                  <a:lnTo>
                    <a:pt x="811" y="83"/>
                  </a:lnTo>
                  <a:lnTo>
                    <a:pt x="815" y="88"/>
                  </a:lnTo>
                  <a:lnTo>
                    <a:pt x="820" y="92"/>
                  </a:lnTo>
                  <a:lnTo>
                    <a:pt x="825" y="96"/>
                  </a:lnTo>
                  <a:lnTo>
                    <a:pt x="830" y="98"/>
                  </a:lnTo>
                  <a:lnTo>
                    <a:pt x="836" y="100"/>
                  </a:lnTo>
                  <a:lnTo>
                    <a:pt x="841" y="100"/>
                  </a:lnTo>
                  <a:lnTo>
                    <a:pt x="1563" y="100"/>
                  </a:lnTo>
                  <a:lnTo>
                    <a:pt x="1566" y="100"/>
                  </a:lnTo>
                  <a:lnTo>
                    <a:pt x="1568" y="101"/>
                  </a:lnTo>
                  <a:lnTo>
                    <a:pt x="1575" y="102"/>
                  </a:lnTo>
                  <a:lnTo>
                    <a:pt x="1580" y="104"/>
                  </a:lnTo>
                  <a:lnTo>
                    <a:pt x="1584" y="108"/>
                  </a:lnTo>
                  <a:lnTo>
                    <a:pt x="1589" y="112"/>
                  </a:lnTo>
                  <a:lnTo>
                    <a:pt x="1593" y="117"/>
                  </a:lnTo>
                  <a:lnTo>
                    <a:pt x="1598" y="123"/>
                  </a:lnTo>
                  <a:lnTo>
                    <a:pt x="1602" y="129"/>
                  </a:lnTo>
                  <a:lnTo>
                    <a:pt x="1605" y="137"/>
                  </a:lnTo>
                  <a:lnTo>
                    <a:pt x="1608" y="144"/>
                  </a:lnTo>
                  <a:lnTo>
                    <a:pt x="1611" y="152"/>
                  </a:lnTo>
                  <a:lnTo>
                    <a:pt x="1613" y="162"/>
                  </a:lnTo>
                  <a:lnTo>
                    <a:pt x="1615" y="170"/>
                  </a:lnTo>
                  <a:lnTo>
                    <a:pt x="1617" y="181"/>
                  </a:lnTo>
                  <a:lnTo>
                    <a:pt x="1618" y="190"/>
                  </a:lnTo>
                  <a:lnTo>
                    <a:pt x="1618" y="20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94040" y="2227320"/>
              <a:ext cx="671760" cy="357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794040" y="2227320"/>
              <a:ext cx="671760" cy="3571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953520" y="2287440"/>
              <a:ext cx="35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RS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309560" y="2287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454720" y="2266920"/>
              <a:ext cx="512640" cy="317520"/>
            </a:xfrm>
            <a:custGeom>
              <a:avLst/>
              <a:gdLst/>
              <a:ahLst/>
              <a:rect l="l" t="t" r="r" b="b"/>
              <a:pathLst>
                <a:path w="323" h="200">
                  <a:moveTo>
                    <a:pt x="243" y="0"/>
                  </a:moveTo>
                  <a:lnTo>
                    <a:pt x="243" y="51"/>
                  </a:lnTo>
                  <a:lnTo>
                    <a:pt x="0" y="51"/>
                  </a:lnTo>
                  <a:lnTo>
                    <a:pt x="0" y="150"/>
                  </a:lnTo>
                  <a:lnTo>
                    <a:pt x="243" y="150"/>
                  </a:lnTo>
                  <a:lnTo>
                    <a:pt x="243" y="200"/>
                  </a:lnTo>
                  <a:lnTo>
                    <a:pt x="323" y="100"/>
                  </a:lnTo>
                  <a:lnTo>
                    <a:pt x="243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454720" y="2266920"/>
              <a:ext cx="512640" cy="317520"/>
            </a:xfrm>
            <a:custGeom>
              <a:avLst/>
              <a:gdLst/>
              <a:ahLst/>
              <a:rect l="l" t="t" r="r" b="b"/>
              <a:pathLst>
                <a:path w="323" h="200">
                  <a:moveTo>
                    <a:pt x="243" y="0"/>
                  </a:moveTo>
                  <a:lnTo>
                    <a:pt x="243" y="51"/>
                  </a:lnTo>
                  <a:lnTo>
                    <a:pt x="0" y="51"/>
                  </a:lnTo>
                  <a:lnTo>
                    <a:pt x="0" y="150"/>
                  </a:lnTo>
                  <a:lnTo>
                    <a:pt x="243" y="150"/>
                  </a:lnTo>
                  <a:lnTo>
                    <a:pt x="243" y="200"/>
                  </a:lnTo>
                  <a:lnTo>
                    <a:pt x="323" y="100"/>
                  </a:lnTo>
                  <a:lnTo>
                    <a:pt x="243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820880" y="2227320"/>
              <a:ext cx="671400" cy="3571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820880" y="2227320"/>
              <a:ext cx="671400" cy="35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084040" y="2287440"/>
              <a:ext cx="145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230200" y="2287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323040" y="2227320"/>
              <a:ext cx="1184400" cy="39672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323040" y="2227320"/>
              <a:ext cx="1344600" cy="48096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431400" y="2287440"/>
              <a:ext cx="1130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ulnerabilida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397280" y="2287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301440" y="3070080"/>
              <a:ext cx="1189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IA: Indicador Ambienta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453080" y="30700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300360" y="3198960"/>
              <a:ext cx="143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IRC: Indicador de riesgo de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302160" y="3325680"/>
              <a:ext cx="616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la captació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899040" y="33256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299640" y="3452760"/>
              <a:ext cx="1446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IRT: Indicador de riesgo del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303600" y="3581280"/>
              <a:ext cx="575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tratamient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860880" y="35812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300000" y="3708360"/>
              <a:ext cx="142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IRA: Indicador de riesgo de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301440" y="3836880"/>
              <a:ext cx="1081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los almacenamient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348320" y="38368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300000" y="3965400"/>
              <a:ext cx="1459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IRD: Indicador de riesgo del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300360" y="4092480"/>
              <a:ext cx="1172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sistema de distribució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434000" y="40924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299640" y="4219560"/>
              <a:ext cx="1529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IRSA: Indicador de riesgo del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300360" y="4348080"/>
              <a:ext cx="1363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sistema de abastecimient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617960" y="43480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0" name=""/>
          <p:cNvGraphicFramePr/>
          <p:nvPr/>
        </p:nvGraphicFramePr>
        <p:xfrm>
          <a:off x="1766880" y="1062000"/>
          <a:ext cx="6261120" cy="4481640"/>
        </p:xfrm>
        <a:graphic>
          <a:graphicData uri="http://schemas.openxmlformats.org/drawingml/2006/table">
            <a:tbl>
              <a:tblPr/>
              <a:tblGrid>
                <a:gridCol w="4849920"/>
                <a:gridCol w="691920"/>
                <a:gridCol w="71928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egunt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1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0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Sistema de captación (IRC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¿Falta un reservorio (lago, represa) previo a la bocatoma que permita la sedimentación de sólidos suspendidos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¿Se presenta obstrucción de la bocatoma, ya sea por basura o por crecimiento de maleza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¿La toma se encuentra libre, sin rejillas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¿Se han observado fracturas en la línea de aducción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¿Se observa un desgaste evidente de las flechas u otros componentes del sistema de bombeo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um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IRC = suma/número de pregunt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ntecedent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Deterioro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de las fuentes de abastecimien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ave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impacto a la salu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de la pobl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Limitado éxito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de los programas de agua potable y saneamien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cursos limitad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puestas de manejo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omplejas y costos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1" name=""/>
          <p:cNvGraphicFramePr/>
          <p:nvPr/>
        </p:nvGraphicFramePr>
        <p:xfrm>
          <a:off x="1766880" y="1359000"/>
          <a:ext cx="5610240" cy="4635360"/>
        </p:xfrm>
        <a:graphic>
          <a:graphicData uri="http://schemas.openxmlformats.org/drawingml/2006/table">
            <a:tbl>
              <a:tblPr/>
              <a:tblGrid>
                <a:gridCol w="4849920"/>
                <a:gridCol w="398520"/>
                <a:gridCol w="36180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Sistema de tratamiento (IR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¿Han faltado químicos para el tratamiento en los pasados seis meses de operación de la planta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¿El nivel de turbiedad a la salida de la filtración o antes de la desinfección ha sido mayor que 0.5 UNT, en los últimos seis meses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¿Se aplica una dosis promedio de cloro menor a 1.0 mg/L al efluente de la planta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¿Se han obtenido mediciones positivas de análisis de coliformes totales o fecales en el efluente de la planta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¿Se tiene un tiempo de contacto menor a 30 minutos desde la aplicación de cloro hasta la primera toma del sistema de distribución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um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IRT = suma/número de pregunt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2" name=""/>
          <p:cNvGraphicFramePr/>
          <p:nvPr/>
        </p:nvGraphicFramePr>
        <p:xfrm>
          <a:off x="1766880" y="1359000"/>
          <a:ext cx="5610240" cy="3902040"/>
        </p:xfrm>
        <a:graphic>
          <a:graphicData uri="http://schemas.openxmlformats.org/drawingml/2006/table">
            <a:tbl>
              <a:tblPr/>
              <a:tblGrid>
                <a:gridCol w="4849920"/>
                <a:gridCol w="398520"/>
                <a:gridCol w="36180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Sistema de almacenamiento (IRA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¿La última inspección de los tanques se realizó hace un año o más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¿Es necesario limpiar los tanques y darles mantenimiento más de una vez al año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¿Los tanques se encuentran destapados o sin protecciones en los respiraderos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¿Se ha observado acumulación de material en el fondo de los tanques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¿Se vacían y llenan los tanques menos de una vez cada tres días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um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IRA = suma/número de pregunt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3" name=""/>
          <p:cNvGraphicFramePr/>
          <p:nvPr/>
        </p:nvGraphicFramePr>
        <p:xfrm>
          <a:off x="1766880" y="841320"/>
          <a:ext cx="5610240" cy="5488200"/>
        </p:xfrm>
        <a:graphic>
          <a:graphicData uri="http://schemas.openxmlformats.org/drawingml/2006/table">
            <a:tbl>
              <a:tblPr/>
              <a:tblGrid>
                <a:gridCol w="4849920"/>
                <a:gridCol w="398520"/>
                <a:gridCol w="3618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Sistema de distribución (IRD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¿Dentro del sector, se ha dejado de cumplir la Meta No. 3 en alguna ocasión en el último año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¿Dentro del sector, se ha dejado de cumplir la Meta No. 4 ó 5 en alguna ocasión en el último año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¿En las partes más alejadas de la entrada de agua al sector el nivel de cloro residual es inferior a 0.2 mg/L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¿Los operadores accionan válvulas de seccionamiento para controlar la presión en el sector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¿La tubería y válvulas del sector son viejas y requieren sustitución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¿Se han detectado conexiones cruzadas o fugas en el sector que contaminan el agua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um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IRD = suma/número de pregunt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IRSA = bIRC + cIRT + dIRA + eIR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onitoreo de calidad del agu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615" name=""/>
          <p:cNvGrpSpPr/>
          <p:nvPr/>
        </p:nvGrpSpPr>
        <p:grpSpPr>
          <a:xfrm>
            <a:off x="1549440" y="1916280"/>
            <a:ext cx="6335640" cy="3760560"/>
            <a:chOff x="1549440" y="1916280"/>
            <a:chExt cx="6335640" cy="3760560"/>
          </a:xfrm>
        </p:grpSpPr>
        <p:sp>
          <p:nvSpPr>
            <p:cNvPr id="616" name=""/>
            <p:cNvSpPr txBox="1"/>
            <p:nvPr/>
          </p:nvSpPr>
          <p:spPr>
            <a:xfrm>
              <a:off x="1549440" y="1916280"/>
              <a:ext cx="6335640" cy="3760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6494760" y="3739680"/>
              <a:ext cx="572040" cy="4651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 flipH="1">
              <a:off x="6536160" y="4198680"/>
              <a:ext cx="490320" cy="4546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3366"/>
                  </a:solidFill>
                  <a:latin typeface="Arial"/>
                </a:rPr>
                <a:t>PU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9" name=""/>
            <p:cNvGrpSpPr/>
            <p:nvPr/>
          </p:nvGrpSpPr>
          <p:grpSpPr>
            <a:xfrm>
              <a:off x="5029920" y="3943800"/>
              <a:ext cx="972000" cy="965880"/>
              <a:chOff x="5029920" y="3943800"/>
              <a:chExt cx="972000" cy="965880"/>
            </a:xfrm>
          </p:grpSpPr>
          <p:sp>
            <p:nvSpPr>
              <p:cNvPr id="620" name=""/>
              <p:cNvSpPr/>
              <p:nvPr/>
            </p:nvSpPr>
            <p:spPr>
              <a:xfrm flipH="1" rot="20245800">
                <a:off x="5142240" y="4058640"/>
                <a:ext cx="747000" cy="73548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H="1">
                <a:off x="5123880" y="4170600"/>
                <a:ext cx="689760" cy="28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H="1">
                <a:off x="5217840" y="4395960"/>
                <a:ext cx="689760" cy="28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23" name=""/>
            <p:cNvSpPr/>
            <p:nvPr/>
          </p:nvSpPr>
          <p:spPr>
            <a:xfrm flipH="1">
              <a:off x="3622320" y="4164480"/>
              <a:ext cx="591480" cy="38556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T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4447080" y="3150360"/>
              <a:ext cx="540720" cy="59292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1998360" y="4340160"/>
              <a:ext cx="1288440" cy="5598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3366"/>
                  </a:solidFill>
                  <a:latin typeface="Arial"/>
                </a:rPr>
                <a:t>F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6" name=""/>
            <p:cNvGrpSpPr/>
            <p:nvPr/>
          </p:nvGrpSpPr>
          <p:grpSpPr>
            <a:xfrm>
              <a:off x="2875320" y="4164480"/>
              <a:ext cx="102960" cy="244800"/>
              <a:chOff x="2875320" y="4164480"/>
              <a:chExt cx="102960" cy="244800"/>
            </a:xfrm>
          </p:grpSpPr>
          <p:sp>
            <p:nvSpPr>
              <p:cNvPr id="627" name=""/>
              <p:cNvSpPr/>
              <p:nvPr/>
            </p:nvSpPr>
            <p:spPr>
              <a:xfrm flipH="1">
                <a:off x="2875320" y="4234320"/>
                <a:ext cx="102960" cy="1749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flipH="1">
                <a:off x="2875320" y="4164480"/>
                <a:ext cx="102960" cy="140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29" name=""/>
            <p:cNvSpPr/>
            <p:nvPr/>
          </p:nvSpPr>
          <p:spPr>
            <a:xfrm flipH="1">
              <a:off x="2720880" y="4304880"/>
              <a:ext cx="180000" cy="313920"/>
            </a:xfrm>
            <a:custGeom>
              <a:avLst/>
              <a:gdLst/>
              <a:ahLst/>
              <a:rect l="l" t="t" r="r" b="b"/>
              <a:pathLst>
                <a:path w="399" h="513">
                  <a:moveTo>
                    <a:pt x="0" y="0"/>
                  </a:moveTo>
                  <a:lnTo>
                    <a:pt x="399" y="0"/>
                  </a:lnTo>
                  <a:lnTo>
                    <a:pt x="399" y="513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978640" y="4234680"/>
              <a:ext cx="644400" cy="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 flipH="1">
              <a:off x="4241520" y="3009240"/>
              <a:ext cx="488880" cy="1435320"/>
            </a:xfrm>
            <a:custGeom>
              <a:avLst/>
              <a:gdLst/>
              <a:ahLst/>
              <a:rect l="l" t="t" r="r" b="b"/>
              <a:pathLst>
                <a:path w="1083" h="2337">
                  <a:moveTo>
                    <a:pt x="1083" y="2337"/>
                  </a:moveTo>
                  <a:lnTo>
                    <a:pt x="684" y="2337"/>
                  </a:lnTo>
                  <a:lnTo>
                    <a:pt x="684" y="0"/>
                  </a:lnTo>
                  <a:lnTo>
                    <a:pt x="0" y="0"/>
                  </a:lnTo>
                  <a:lnTo>
                    <a:pt x="0" y="28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941080" y="4444920"/>
              <a:ext cx="636120" cy="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>
              <a:off x="4730400" y="3744720"/>
              <a:ext cx="360000" cy="664560"/>
            </a:xfrm>
            <a:custGeom>
              <a:avLst/>
              <a:gdLst/>
              <a:ahLst/>
              <a:rect l="l" t="t" r="r" b="b"/>
              <a:pathLst>
                <a:path w="1140" h="1083">
                  <a:moveTo>
                    <a:pt x="1140" y="0"/>
                  </a:moveTo>
                  <a:lnTo>
                    <a:pt x="1140" y="1083"/>
                  </a:lnTo>
                  <a:lnTo>
                    <a:pt x="0" y="1083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3622320" y="4550040"/>
              <a:ext cx="591480" cy="280080"/>
            </a:xfrm>
            <a:custGeom>
              <a:avLst/>
              <a:gdLst>
                <a:gd name="textAreaLeft" fmla="*/ 129960 w 591480"/>
                <a:gd name="textAreaRight" fmla="*/ 461520 w 591480"/>
                <a:gd name="textAreaTop" fmla="*/ 61560 h 280080"/>
                <a:gd name="textAreaBottom" fmla="*/ 218520 h 280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044760" y="2202480"/>
              <a:ext cx="720" cy="32698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470400" y="2202480"/>
              <a:ext cx="360" cy="32698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920040" y="2202480"/>
              <a:ext cx="1594080" cy="59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3366"/>
                  </a:solidFill>
                  <a:latin typeface="Arial"/>
                </a:rPr>
                <a:t>Criterios, estándares operativo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086520" y="2202480"/>
              <a:ext cx="1553040" cy="91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3366"/>
                  </a:solidFill>
                  <a:latin typeface="Arial"/>
                </a:rPr>
                <a:t>Norma obligatori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3366"/>
                  </a:solidFill>
                  <a:latin typeface="Arial"/>
                </a:rPr>
                <a:t>(reglamento técnico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3366"/>
                  </a:solidFill>
                  <a:latin typeface="Arial"/>
                </a:rPr>
                <a:t>Metas de calidad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794600" y="2244600"/>
              <a:ext cx="1388880" cy="722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3366"/>
                  </a:solidFill>
                  <a:latin typeface="Arial"/>
                </a:rPr>
                <a:t>Criterios para la conservación de los uso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961080" y="5047920"/>
              <a:ext cx="1512360" cy="42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3366"/>
                  </a:solidFill>
                  <a:latin typeface="Arial"/>
                </a:rPr>
                <a:t>Sistema de abastecimient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331680" y="5005440"/>
              <a:ext cx="118548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3366"/>
                  </a:solidFill>
                  <a:latin typeface="Arial"/>
                </a:rPr>
                <a:t>Consum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753560" y="5090400"/>
              <a:ext cx="1512360" cy="29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3366"/>
                  </a:solidFill>
                  <a:latin typeface="Arial"/>
                </a:rPr>
                <a:t>Fuentes de agu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693880" y="3837240"/>
              <a:ext cx="4903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3366"/>
                  </a:solidFill>
                  <a:latin typeface="Arial"/>
                </a:rPr>
                <a:t>C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492440" y="3346920"/>
              <a:ext cx="4903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3366"/>
                  </a:solidFill>
                  <a:latin typeface="Arial"/>
                </a:rPr>
                <a:t>SAl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268960" y="4327920"/>
              <a:ext cx="49032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3366"/>
                  </a:solidFill>
                  <a:latin typeface="Arial"/>
                </a:rPr>
                <a:t>S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onitoreo de calidad del agu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ncipales factores que afectan la calidad en los sistemas de distribu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Calidad del agua que entra al siste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17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Material y condiciones de la infraestructu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17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Tiempo que el agua permanece en el siste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onitoreo de calidad del agu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Procesos de mayor preocupación para el control de la calidad en los sistemas de distribu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cc00"/>
                </a:solidFill>
                <a:latin typeface="Tahoma"/>
              </a:rPr>
              <a:t>Pérdida de la concentración residual de desinfectan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cc00"/>
                </a:solidFill>
                <a:latin typeface="Tahoma"/>
              </a:rPr>
              <a:t>Generación de subproductos de la desinfec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cc00"/>
                </a:solidFill>
                <a:latin typeface="Tahoma"/>
              </a:rPr>
              <a:t>Corrosión inter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cc00"/>
                </a:solidFill>
                <a:latin typeface="Tahoma"/>
              </a:rPr>
              <a:t>Desarrollo de biopelícul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onitoreo de calidad del agu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Frecuenc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2"/>
          <a:stretch/>
        </p:blipFill>
        <p:spPr>
          <a:xfrm>
            <a:off x="971640" y="2511360"/>
            <a:ext cx="7559640" cy="3797280"/>
          </a:xfrm>
          <a:prstGeom prst="rect">
            <a:avLst/>
          </a:prstGeom>
          <a:ln w="0">
            <a:noFill/>
          </a:ln>
        </p:spPr>
      </p:pic>
      <p:grpSp>
        <p:nvGrpSpPr>
          <p:cNvPr id="653" name=""/>
          <p:cNvGrpSpPr/>
          <p:nvPr/>
        </p:nvGrpSpPr>
        <p:grpSpPr>
          <a:xfrm>
            <a:off x="1692360" y="2709720"/>
            <a:ext cx="5687640" cy="3240360"/>
            <a:chOff x="1692360" y="2709720"/>
            <a:chExt cx="5687640" cy="3240360"/>
          </a:xfrm>
        </p:grpSpPr>
        <p:sp>
          <p:nvSpPr>
            <p:cNvPr id="654" name=""/>
            <p:cNvSpPr/>
            <p:nvPr/>
          </p:nvSpPr>
          <p:spPr>
            <a:xfrm>
              <a:off x="1692360" y="2709720"/>
              <a:ext cx="395280" cy="3240360"/>
            </a:xfrm>
            <a:prstGeom prst="rect">
              <a:avLst/>
            </a:prstGeom>
            <a:solidFill>
              <a:srgbClr val="00336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692360" y="4155480"/>
              <a:ext cx="5589360" cy="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1741320" y="4504320"/>
              <a:ext cx="5638680" cy="0"/>
            </a:xfrm>
            <a:prstGeom prst="line">
              <a:avLst/>
            </a:prstGeom>
            <a:ln w="19080">
              <a:solidFill>
                <a:srgbClr val="ff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066560" y="2709720"/>
              <a:ext cx="1434240" cy="3240360"/>
            </a:xfrm>
            <a:prstGeom prst="rect">
              <a:avLst/>
            </a:prstGeom>
            <a:solidFill>
              <a:srgbClr val="00336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539400" y="2709720"/>
              <a:ext cx="840600" cy="3240360"/>
            </a:xfrm>
            <a:prstGeom prst="rect">
              <a:avLst/>
            </a:prstGeom>
            <a:solidFill>
              <a:srgbClr val="00336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692360" y="2859120"/>
              <a:ext cx="692280" cy="299160"/>
            </a:xfrm>
            <a:prstGeom prst="rect">
              <a:avLst/>
            </a:prstGeom>
            <a:solidFill>
              <a:srgbClr val="003366">
                <a:alpha val="1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LT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412520" y="2909160"/>
              <a:ext cx="692280" cy="298800"/>
            </a:xfrm>
            <a:prstGeom prst="rect">
              <a:avLst/>
            </a:prstGeom>
            <a:solidFill>
              <a:srgbClr val="003366">
                <a:alpha val="1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LT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638400" y="2958840"/>
              <a:ext cx="692280" cy="298800"/>
            </a:xfrm>
            <a:prstGeom prst="rect">
              <a:avLst/>
            </a:prstGeom>
            <a:solidFill>
              <a:srgbClr val="003366">
                <a:alpha val="1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LT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532960" y="4753800"/>
              <a:ext cx="692280" cy="298800"/>
            </a:xfrm>
            <a:prstGeom prst="rect">
              <a:avLst/>
            </a:prstGeom>
            <a:solidFill>
              <a:srgbClr val="003366">
                <a:alpha val="1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BAJ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649120" y="4803480"/>
              <a:ext cx="692280" cy="298800"/>
            </a:xfrm>
            <a:prstGeom prst="rect">
              <a:avLst/>
            </a:prstGeom>
            <a:solidFill>
              <a:srgbClr val="003366">
                <a:alpha val="1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BAJ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0" y="487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onitoreo de calidad del agu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Selección de variab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cc00"/>
                </a:solidFill>
                <a:latin typeface="Tahoma"/>
              </a:rPr>
              <a:t>Operativas: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 Cl, pH, Turb, CF, Alc, S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cc00"/>
                </a:solidFill>
                <a:latin typeface="Tahoma"/>
              </a:rPr>
              <a:t>Seguimiento: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 Fluor, nitratos, Con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cc00"/>
                </a:solidFill>
                <a:latin typeface="Tahoma"/>
              </a:rPr>
              <a:t>Especiales: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 Metales, Comp. Orgánicos, Patógen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onitoreo de calidad del agu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elección de siti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1187280" y="2924280"/>
            <a:ext cx="6839640" cy="2614320"/>
            <a:chOff x="1187280" y="2924280"/>
            <a:chExt cx="6839640" cy="2614320"/>
          </a:xfrm>
        </p:grpSpPr>
        <p:sp>
          <p:nvSpPr>
            <p:cNvPr id="670" name=""/>
            <p:cNvSpPr/>
            <p:nvPr/>
          </p:nvSpPr>
          <p:spPr>
            <a:xfrm>
              <a:off x="7240320" y="4710600"/>
              <a:ext cx="542160" cy="48852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240320" y="4710600"/>
              <a:ext cx="542160" cy="48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202160" y="4260960"/>
              <a:ext cx="613440" cy="449640"/>
            </a:xfrm>
            <a:custGeom>
              <a:avLst/>
              <a:gdLst/>
              <a:ahLst/>
              <a:rect l="l" t="t" r="r" b="b"/>
              <a:pathLst>
                <a:path w="327" h="220">
                  <a:moveTo>
                    <a:pt x="164" y="0"/>
                  </a:moveTo>
                  <a:lnTo>
                    <a:pt x="327" y="220"/>
                  </a:lnTo>
                  <a:lnTo>
                    <a:pt x="0" y="220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202160" y="4260960"/>
              <a:ext cx="613440" cy="449640"/>
            </a:xfrm>
            <a:custGeom>
              <a:avLst/>
              <a:gdLst/>
              <a:ahLst/>
              <a:rect l="l" t="t" r="r" b="b"/>
              <a:pathLst>
                <a:path w="327" h="220">
                  <a:moveTo>
                    <a:pt x="164" y="0"/>
                  </a:moveTo>
                  <a:lnTo>
                    <a:pt x="327" y="220"/>
                  </a:lnTo>
                  <a:lnTo>
                    <a:pt x="0" y="220"/>
                  </a:lnTo>
                  <a:lnTo>
                    <a:pt x="164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484960" y="4371480"/>
              <a:ext cx="1242720" cy="1167120"/>
            </a:xfrm>
            <a:custGeom>
              <a:avLst/>
              <a:gdLst/>
              <a:ahLst/>
              <a:rect l="l" t="t" r="r" b="b"/>
              <a:pathLst>
                <a:path w="662" h="571">
                  <a:moveTo>
                    <a:pt x="514" y="0"/>
                  </a:moveTo>
                  <a:lnTo>
                    <a:pt x="662" y="357"/>
                  </a:lnTo>
                  <a:lnTo>
                    <a:pt x="147" y="571"/>
                  </a:lnTo>
                  <a:lnTo>
                    <a:pt x="0" y="215"/>
                  </a:lnTo>
                  <a:lnTo>
                    <a:pt x="514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484960" y="4371480"/>
              <a:ext cx="1242720" cy="1167120"/>
            </a:xfrm>
            <a:custGeom>
              <a:avLst/>
              <a:gdLst/>
              <a:ahLst/>
              <a:rect l="l" t="t" r="r" b="b"/>
              <a:pathLst>
                <a:path w="662" h="571">
                  <a:moveTo>
                    <a:pt x="514" y="0"/>
                  </a:moveTo>
                  <a:lnTo>
                    <a:pt x="662" y="357"/>
                  </a:lnTo>
                  <a:lnTo>
                    <a:pt x="147" y="571"/>
                  </a:lnTo>
                  <a:lnTo>
                    <a:pt x="0" y="215"/>
                  </a:lnTo>
                  <a:lnTo>
                    <a:pt x="514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>
              <a:off x="5575320" y="4614840"/>
              <a:ext cx="964800" cy="43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>
              <a:off x="5669280" y="4856400"/>
              <a:ext cx="962640" cy="43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458160" y="4674240"/>
              <a:ext cx="827640" cy="41040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458160" y="4674240"/>
              <a:ext cx="827640" cy="41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581640" y="475200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612320" y="3584520"/>
              <a:ext cx="754560" cy="637560"/>
            </a:xfrm>
            <a:custGeom>
              <a:avLst/>
              <a:gdLst/>
              <a:ahLst/>
              <a:rect l="l" t="t" r="r" b="b"/>
              <a:pathLst>
                <a:path w="402" h="312">
                  <a:moveTo>
                    <a:pt x="201" y="0"/>
                  </a:moveTo>
                  <a:lnTo>
                    <a:pt x="222" y="0"/>
                  </a:lnTo>
                  <a:lnTo>
                    <a:pt x="242" y="1"/>
                  </a:lnTo>
                  <a:lnTo>
                    <a:pt x="261" y="2"/>
                  </a:lnTo>
                  <a:lnTo>
                    <a:pt x="279" y="3"/>
                  </a:lnTo>
                  <a:lnTo>
                    <a:pt x="297" y="5"/>
                  </a:lnTo>
                  <a:lnTo>
                    <a:pt x="306" y="6"/>
                  </a:lnTo>
                  <a:lnTo>
                    <a:pt x="313" y="7"/>
                  </a:lnTo>
                  <a:lnTo>
                    <a:pt x="321" y="8"/>
                  </a:lnTo>
                  <a:lnTo>
                    <a:pt x="329" y="9"/>
                  </a:lnTo>
                  <a:lnTo>
                    <a:pt x="336" y="10"/>
                  </a:lnTo>
                  <a:lnTo>
                    <a:pt x="343" y="11"/>
                  </a:lnTo>
                  <a:lnTo>
                    <a:pt x="350" y="12"/>
                  </a:lnTo>
                  <a:lnTo>
                    <a:pt x="356" y="14"/>
                  </a:lnTo>
                  <a:lnTo>
                    <a:pt x="362" y="15"/>
                  </a:lnTo>
                  <a:lnTo>
                    <a:pt x="367" y="17"/>
                  </a:lnTo>
                  <a:lnTo>
                    <a:pt x="373" y="18"/>
                  </a:lnTo>
                  <a:lnTo>
                    <a:pt x="378" y="21"/>
                  </a:lnTo>
                  <a:lnTo>
                    <a:pt x="382" y="23"/>
                  </a:lnTo>
                  <a:lnTo>
                    <a:pt x="386" y="24"/>
                  </a:lnTo>
                  <a:lnTo>
                    <a:pt x="389" y="26"/>
                  </a:lnTo>
                  <a:lnTo>
                    <a:pt x="393" y="28"/>
                  </a:lnTo>
                  <a:lnTo>
                    <a:pt x="396" y="30"/>
                  </a:lnTo>
                  <a:lnTo>
                    <a:pt x="398" y="31"/>
                  </a:lnTo>
                  <a:lnTo>
                    <a:pt x="400" y="33"/>
                  </a:lnTo>
                  <a:lnTo>
                    <a:pt x="401" y="35"/>
                  </a:lnTo>
                  <a:lnTo>
                    <a:pt x="402" y="37"/>
                  </a:lnTo>
                  <a:lnTo>
                    <a:pt x="402" y="39"/>
                  </a:lnTo>
                  <a:lnTo>
                    <a:pt x="402" y="272"/>
                  </a:lnTo>
                  <a:lnTo>
                    <a:pt x="402" y="275"/>
                  </a:lnTo>
                  <a:lnTo>
                    <a:pt x="401" y="277"/>
                  </a:lnTo>
                  <a:lnTo>
                    <a:pt x="400" y="279"/>
                  </a:lnTo>
                  <a:lnTo>
                    <a:pt x="398" y="281"/>
                  </a:lnTo>
                  <a:lnTo>
                    <a:pt x="396" y="283"/>
                  </a:lnTo>
                  <a:lnTo>
                    <a:pt x="393" y="284"/>
                  </a:lnTo>
                  <a:lnTo>
                    <a:pt x="389" y="286"/>
                  </a:lnTo>
                  <a:lnTo>
                    <a:pt x="386" y="288"/>
                  </a:lnTo>
                  <a:lnTo>
                    <a:pt x="382" y="290"/>
                  </a:lnTo>
                  <a:lnTo>
                    <a:pt x="378" y="291"/>
                  </a:lnTo>
                  <a:lnTo>
                    <a:pt x="373" y="293"/>
                  </a:lnTo>
                  <a:lnTo>
                    <a:pt x="367" y="295"/>
                  </a:lnTo>
                  <a:lnTo>
                    <a:pt x="362" y="297"/>
                  </a:lnTo>
                  <a:lnTo>
                    <a:pt x="356" y="298"/>
                  </a:lnTo>
                  <a:lnTo>
                    <a:pt x="350" y="300"/>
                  </a:lnTo>
                  <a:lnTo>
                    <a:pt x="343" y="301"/>
                  </a:lnTo>
                  <a:lnTo>
                    <a:pt x="336" y="302"/>
                  </a:lnTo>
                  <a:lnTo>
                    <a:pt x="329" y="303"/>
                  </a:lnTo>
                  <a:lnTo>
                    <a:pt x="321" y="304"/>
                  </a:lnTo>
                  <a:lnTo>
                    <a:pt x="313" y="306"/>
                  </a:lnTo>
                  <a:lnTo>
                    <a:pt x="306" y="307"/>
                  </a:lnTo>
                  <a:lnTo>
                    <a:pt x="297" y="307"/>
                  </a:lnTo>
                  <a:lnTo>
                    <a:pt x="279" y="309"/>
                  </a:lnTo>
                  <a:lnTo>
                    <a:pt x="261" y="310"/>
                  </a:lnTo>
                  <a:lnTo>
                    <a:pt x="242" y="311"/>
                  </a:lnTo>
                  <a:lnTo>
                    <a:pt x="222" y="312"/>
                  </a:lnTo>
                  <a:lnTo>
                    <a:pt x="201" y="312"/>
                  </a:lnTo>
                  <a:lnTo>
                    <a:pt x="180" y="312"/>
                  </a:lnTo>
                  <a:lnTo>
                    <a:pt x="160" y="311"/>
                  </a:lnTo>
                  <a:lnTo>
                    <a:pt x="141" y="310"/>
                  </a:lnTo>
                  <a:lnTo>
                    <a:pt x="122" y="309"/>
                  </a:lnTo>
                  <a:lnTo>
                    <a:pt x="105" y="307"/>
                  </a:lnTo>
                  <a:lnTo>
                    <a:pt x="96" y="307"/>
                  </a:lnTo>
                  <a:lnTo>
                    <a:pt x="89" y="306"/>
                  </a:lnTo>
                  <a:lnTo>
                    <a:pt x="80" y="304"/>
                  </a:lnTo>
                  <a:lnTo>
                    <a:pt x="73" y="303"/>
                  </a:lnTo>
                  <a:lnTo>
                    <a:pt x="66" y="302"/>
                  </a:lnTo>
                  <a:lnTo>
                    <a:pt x="58" y="301"/>
                  </a:lnTo>
                  <a:lnTo>
                    <a:pt x="52" y="300"/>
                  </a:lnTo>
                  <a:lnTo>
                    <a:pt x="46" y="298"/>
                  </a:lnTo>
                  <a:lnTo>
                    <a:pt x="40" y="297"/>
                  </a:lnTo>
                  <a:lnTo>
                    <a:pt x="34" y="295"/>
                  </a:lnTo>
                  <a:lnTo>
                    <a:pt x="29" y="293"/>
                  </a:lnTo>
                  <a:lnTo>
                    <a:pt x="24" y="291"/>
                  </a:lnTo>
                  <a:lnTo>
                    <a:pt x="20" y="290"/>
                  </a:lnTo>
                  <a:lnTo>
                    <a:pt x="15" y="288"/>
                  </a:lnTo>
                  <a:lnTo>
                    <a:pt x="12" y="286"/>
                  </a:lnTo>
                  <a:lnTo>
                    <a:pt x="9" y="284"/>
                  </a:lnTo>
                  <a:lnTo>
                    <a:pt x="6" y="283"/>
                  </a:lnTo>
                  <a:lnTo>
                    <a:pt x="4" y="281"/>
                  </a:lnTo>
                  <a:lnTo>
                    <a:pt x="2" y="279"/>
                  </a:lnTo>
                  <a:lnTo>
                    <a:pt x="1" y="277"/>
                  </a:lnTo>
                  <a:lnTo>
                    <a:pt x="0" y="275"/>
                  </a:lnTo>
                  <a:lnTo>
                    <a:pt x="0" y="272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1" y="35"/>
                  </a:lnTo>
                  <a:lnTo>
                    <a:pt x="2" y="33"/>
                  </a:lnTo>
                  <a:lnTo>
                    <a:pt x="4" y="31"/>
                  </a:lnTo>
                  <a:lnTo>
                    <a:pt x="6" y="30"/>
                  </a:lnTo>
                  <a:lnTo>
                    <a:pt x="9" y="28"/>
                  </a:lnTo>
                  <a:lnTo>
                    <a:pt x="12" y="26"/>
                  </a:lnTo>
                  <a:lnTo>
                    <a:pt x="15" y="24"/>
                  </a:lnTo>
                  <a:lnTo>
                    <a:pt x="20" y="23"/>
                  </a:lnTo>
                  <a:lnTo>
                    <a:pt x="24" y="21"/>
                  </a:lnTo>
                  <a:lnTo>
                    <a:pt x="29" y="18"/>
                  </a:lnTo>
                  <a:lnTo>
                    <a:pt x="34" y="17"/>
                  </a:lnTo>
                  <a:lnTo>
                    <a:pt x="40" y="15"/>
                  </a:lnTo>
                  <a:lnTo>
                    <a:pt x="46" y="14"/>
                  </a:lnTo>
                  <a:lnTo>
                    <a:pt x="52" y="12"/>
                  </a:lnTo>
                  <a:lnTo>
                    <a:pt x="58" y="11"/>
                  </a:lnTo>
                  <a:lnTo>
                    <a:pt x="66" y="10"/>
                  </a:lnTo>
                  <a:lnTo>
                    <a:pt x="73" y="9"/>
                  </a:lnTo>
                  <a:lnTo>
                    <a:pt x="80" y="8"/>
                  </a:lnTo>
                  <a:lnTo>
                    <a:pt x="89" y="7"/>
                  </a:lnTo>
                  <a:lnTo>
                    <a:pt x="96" y="6"/>
                  </a:lnTo>
                  <a:lnTo>
                    <a:pt x="105" y="5"/>
                  </a:lnTo>
                  <a:lnTo>
                    <a:pt x="122" y="3"/>
                  </a:lnTo>
                  <a:lnTo>
                    <a:pt x="141" y="2"/>
                  </a:lnTo>
                  <a:lnTo>
                    <a:pt x="160" y="1"/>
                  </a:lnTo>
                  <a:lnTo>
                    <a:pt x="180" y="0"/>
                  </a:lnTo>
                  <a:lnTo>
                    <a:pt x="201" y="0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612320" y="3584520"/>
              <a:ext cx="754560" cy="159120"/>
            </a:xfrm>
            <a:custGeom>
              <a:avLst/>
              <a:gdLst/>
              <a:ahLst/>
              <a:rect l="l" t="t" r="r" b="b"/>
              <a:pathLst>
                <a:path w="402" h="78">
                  <a:moveTo>
                    <a:pt x="402" y="39"/>
                  </a:moveTo>
                  <a:lnTo>
                    <a:pt x="402" y="42"/>
                  </a:lnTo>
                  <a:lnTo>
                    <a:pt x="401" y="44"/>
                  </a:lnTo>
                  <a:lnTo>
                    <a:pt x="400" y="46"/>
                  </a:lnTo>
                  <a:lnTo>
                    <a:pt x="398" y="47"/>
                  </a:lnTo>
                  <a:lnTo>
                    <a:pt x="396" y="49"/>
                  </a:lnTo>
                  <a:lnTo>
                    <a:pt x="393" y="51"/>
                  </a:lnTo>
                  <a:lnTo>
                    <a:pt x="389" y="53"/>
                  </a:lnTo>
                  <a:lnTo>
                    <a:pt x="386" y="54"/>
                  </a:lnTo>
                  <a:lnTo>
                    <a:pt x="382" y="56"/>
                  </a:lnTo>
                  <a:lnTo>
                    <a:pt x="378" y="57"/>
                  </a:lnTo>
                  <a:lnTo>
                    <a:pt x="373" y="59"/>
                  </a:lnTo>
                  <a:lnTo>
                    <a:pt x="367" y="62"/>
                  </a:lnTo>
                  <a:lnTo>
                    <a:pt x="362" y="63"/>
                  </a:lnTo>
                  <a:lnTo>
                    <a:pt x="356" y="64"/>
                  </a:lnTo>
                  <a:lnTo>
                    <a:pt x="350" y="66"/>
                  </a:lnTo>
                  <a:lnTo>
                    <a:pt x="343" y="67"/>
                  </a:lnTo>
                  <a:lnTo>
                    <a:pt x="336" y="68"/>
                  </a:lnTo>
                  <a:lnTo>
                    <a:pt x="329" y="69"/>
                  </a:lnTo>
                  <a:lnTo>
                    <a:pt x="321" y="71"/>
                  </a:lnTo>
                  <a:lnTo>
                    <a:pt x="313" y="72"/>
                  </a:lnTo>
                  <a:lnTo>
                    <a:pt x="306" y="73"/>
                  </a:lnTo>
                  <a:lnTo>
                    <a:pt x="297" y="73"/>
                  </a:lnTo>
                  <a:lnTo>
                    <a:pt x="279" y="75"/>
                  </a:lnTo>
                  <a:lnTo>
                    <a:pt x="261" y="76"/>
                  </a:lnTo>
                  <a:lnTo>
                    <a:pt x="242" y="77"/>
                  </a:lnTo>
                  <a:lnTo>
                    <a:pt x="222" y="78"/>
                  </a:lnTo>
                  <a:lnTo>
                    <a:pt x="201" y="78"/>
                  </a:lnTo>
                  <a:lnTo>
                    <a:pt x="180" y="78"/>
                  </a:lnTo>
                  <a:lnTo>
                    <a:pt x="160" y="77"/>
                  </a:lnTo>
                  <a:lnTo>
                    <a:pt x="141" y="76"/>
                  </a:lnTo>
                  <a:lnTo>
                    <a:pt x="122" y="75"/>
                  </a:lnTo>
                  <a:lnTo>
                    <a:pt x="105" y="73"/>
                  </a:lnTo>
                  <a:lnTo>
                    <a:pt x="96" y="73"/>
                  </a:lnTo>
                  <a:lnTo>
                    <a:pt x="89" y="72"/>
                  </a:lnTo>
                  <a:lnTo>
                    <a:pt x="80" y="71"/>
                  </a:lnTo>
                  <a:lnTo>
                    <a:pt x="73" y="69"/>
                  </a:lnTo>
                  <a:lnTo>
                    <a:pt x="66" y="68"/>
                  </a:lnTo>
                  <a:lnTo>
                    <a:pt x="58" y="67"/>
                  </a:lnTo>
                  <a:lnTo>
                    <a:pt x="52" y="66"/>
                  </a:lnTo>
                  <a:lnTo>
                    <a:pt x="46" y="64"/>
                  </a:lnTo>
                  <a:lnTo>
                    <a:pt x="40" y="63"/>
                  </a:lnTo>
                  <a:lnTo>
                    <a:pt x="34" y="62"/>
                  </a:lnTo>
                  <a:lnTo>
                    <a:pt x="29" y="59"/>
                  </a:lnTo>
                  <a:lnTo>
                    <a:pt x="24" y="57"/>
                  </a:lnTo>
                  <a:lnTo>
                    <a:pt x="20" y="56"/>
                  </a:lnTo>
                  <a:lnTo>
                    <a:pt x="15" y="54"/>
                  </a:lnTo>
                  <a:lnTo>
                    <a:pt x="12" y="53"/>
                  </a:lnTo>
                  <a:lnTo>
                    <a:pt x="9" y="51"/>
                  </a:lnTo>
                  <a:lnTo>
                    <a:pt x="6" y="49"/>
                  </a:lnTo>
                  <a:lnTo>
                    <a:pt x="4" y="47"/>
                  </a:lnTo>
                  <a:lnTo>
                    <a:pt x="2" y="46"/>
                  </a:lnTo>
                  <a:lnTo>
                    <a:pt x="1" y="44"/>
                  </a:lnTo>
                  <a:lnTo>
                    <a:pt x="0" y="42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1" y="35"/>
                  </a:lnTo>
                  <a:lnTo>
                    <a:pt x="2" y="33"/>
                  </a:lnTo>
                  <a:lnTo>
                    <a:pt x="4" y="31"/>
                  </a:lnTo>
                  <a:lnTo>
                    <a:pt x="6" y="30"/>
                  </a:lnTo>
                  <a:lnTo>
                    <a:pt x="9" y="28"/>
                  </a:lnTo>
                  <a:lnTo>
                    <a:pt x="12" y="26"/>
                  </a:lnTo>
                  <a:lnTo>
                    <a:pt x="15" y="24"/>
                  </a:lnTo>
                  <a:lnTo>
                    <a:pt x="20" y="23"/>
                  </a:lnTo>
                  <a:lnTo>
                    <a:pt x="24" y="21"/>
                  </a:lnTo>
                  <a:lnTo>
                    <a:pt x="29" y="18"/>
                  </a:lnTo>
                  <a:lnTo>
                    <a:pt x="34" y="17"/>
                  </a:lnTo>
                  <a:lnTo>
                    <a:pt x="40" y="15"/>
                  </a:lnTo>
                  <a:lnTo>
                    <a:pt x="46" y="14"/>
                  </a:lnTo>
                  <a:lnTo>
                    <a:pt x="52" y="12"/>
                  </a:lnTo>
                  <a:lnTo>
                    <a:pt x="58" y="11"/>
                  </a:lnTo>
                  <a:lnTo>
                    <a:pt x="66" y="10"/>
                  </a:lnTo>
                  <a:lnTo>
                    <a:pt x="73" y="9"/>
                  </a:lnTo>
                  <a:lnTo>
                    <a:pt x="80" y="8"/>
                  </a:lnTo>
                  <a:lnTo>
                    <a:pt x="89" y="7"/>
                  </a:lnTo>
                  <a:lnTo>
                    <a:pt x="96" y="6"/>
                  </a:lnTo>
                  <a:lnTo>
                    <a:pt x="105" y="5"/>
                  </a:lnTo>
                  <a:lnTo>
                    <a:pt x="122" y="3"/>
                  </a:lnTo>
                  <a:lnTo>
                    <a:pt x="141" y="2"/>
                  </a:lnTo>
                  <a:lnTo>
                    <a:pt x="160" y="1"/>
                  </a:lnTo>
                  <a:lnTo>
                    <a:pt x="180" y="0"/>
                  </a:lnTo>
                  <a:lnTo>
                    <a:pt x="201" y="0"/>
                  </a:lnTo>
                  <a:lnTo>
                    <a:pt x="222" y="0"/>
                  </a:lnTo>
                  <a:lnTo>
                    <a:pt x="242" y="1"/>
                  </a:lnTo>
                  <a:lnTo>
                    <a:pt x="261" y="2"/>
                  </a:lnTo>
                  <a:lnTo>
                    <a:pt x="279" y="3"/>
                  </a:lnTo>
                  <a:lnTo>
                    <a:pt x="297" y="5"/>
                  </a:lnTo>
                  <a:lnTo>
                    <a:pt x="306" y="6"/>
                  </a:lnTo>
                  <a:lnTo>
                    <a:pt x="313" y="7"/>
                  </a:lnTo>
                  <a:lnTo>
                    <a:pt x="321" y="8"/>
                  </a:lnTo>
                  <a:lnTo>
                    <a:pt x="329" y="9"/>
                  </a:lnTo>
                  <a:lnTo>
                    <a:pt x="336" y="10"/>
                  </a:lnTo>
                  <a:lnTo>
                    <a:pt x="343" y="11"/>
                  </a:lnTo>
                  <a:lnTo>
                    <a:pt x="350" y="12"/>
                  </a:lnTo>
                  <a:lnTo>
                    <a:pt x="356" y="14"/>
                  </a:lnTo>
                  <a:lnTo>
                    <a:pt x="362" y="15"/>
                  </a:lnTo>
                  <a:lnTo>
                    <a:pt x="367" y="17"/>
                  </a:lnTo>
                  <a:lnTo>
                    <a:pt x="373" y="18"/>
                  </a:lnTo>
                  <a:lnTo>
                    <a:pt x="378" y="21"/>
                  </a:lnTo>
                  <a:lnTo>
                    <a:pt x="382" y="23"/>
                  </a:lnTo>
                  <a:lnTo>
                    <a:pt x="386" y="24"/>
                  </a:lnTo>
                  <a:lnTo>
                    <a:pt x="389" y="26"/>
                  </a:lnTo>
                  <a:lnTo>
                    <a:pt x="393" y="28"/>
                  </a:lnTo>
                  <a:lnTo>
                    <a:pt x="396" y="30"/>
                  </a:lnTo>
                  <a:lnTo>
                    <a:pt x="398" y="31"/>
                  </a:lnTo>
                  <a:lnTo>
                    <a:pt x="400" y="33"/>
                  </a:lnTo>
                  <a:lnTo>
                    <a:pt x="401" y="35"/>
                  </a:lnTo>
                  <a:lnTo>
                    <a:pt x="402" y="37"/>
                  </a:lnTo>
                  <a:lnTo>
                    <a:pt x="402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612320" y="3584520"/>
              <a:ext cx="754560" cy="637560"/>
            </a:xfrm>
            <a:custGeom>
              <a:avLst/>
              <a:gdLst/>
              <a:ahLst/>
              <a:rect l="l" t="t" r="r" b="b"/>
              <a:pathLst>
                <a:path w="402" h="312">
                  <a:moveTo>
                    <a:pt x="201" y="0"/>
                  </a:moveTo>
                  <a:lnTo>
                    <a:pt x="222" y="0"/>
                  </a:lnTo>
                  <a:lnTo>
                    <a:pt x="242" y="1"/>
                  </a:lnTo>
                  <a:lnTo>
                    <a:pt x="261" y="2"/>
                  </a:lnTo>
                  <a:lnTo>
                    <a:pt x="279" y="3"/>
                  </a:lnTo>
                  <a:lnTo>
                    <a:pt x="297" y="5"/>
                  </a:lnTo>
                  <a:lnTo>
                    <a:pt x="306" y="6"/>
                  </a:lnTo>
                  <a:lnTo>
                    <a:pt x="313" y="7"/>
                  </a:lnTo>
                  <a:lnTo>
                    <a:pt x="321" y="8"/>
                  </a:lnTo>
                  <a:lnTo>
                    <a:pt x="329" y="9"/>
                  </a:lnTo>
                  <a:lnTo>
                    <a:pt x="336" y="10"/>
                  </a:lnTo>
                  <a:lnTo>
                    <a:pt x="343" y="11"/>
                  </a:lnTo>
                  <a:lnTo>
                    <a:pt x="350" y="12"/>
                  </a:lnTo>
                  <a:lnTo>
                    <a:pt x="356" y="14"/>
                  </a:lnTo>
                  <a:lnTo>
                    <a:pt x="362" y="15"/>
                  </a:lnTo>
                  <a:lnTo>
                    <a:pt x="367" y="17"/>
                  </a:lnTo>
                  <a:lnTo>
                    <a:pt x="373" y="18"/>
                  </a:lnTo>
                  <a:lnTo>
                    <a:pt x="378" y="21"/>
                  </a:lnTo>
                  <a:lnTo>
                    <a:pt x="382" y="23"/>
                  </a:lnTo>
                  <a:lnTo>
                    <a:pt x="386" y="24"/>
                  </a:lnTo>
                  <a:lnTo>
                    <a:pt x="389" y="26"/>
                  </a:lnTo>
                  <a:lnTo>
                    <a:pt x="393" y="28"/>
                  </a:lnTo>
                  <a:lnTo>
                    <a:pt x="396" y="30"/>
                  </a:lnTo>
                  <a:lnTo>
                    <a:pt x="398" y="31"/>
                  </a:lnTo>
                  <a:lnTo>
                    <a:pt x="400" y="33"/>
                  </a:lnTo>
                  <a:lnTo>
                    <a:pt x="401" y="35"/>
                  </a:lnTo>
                  <a:lnTo>
                    <a:pt x="402" y="37"/>
                  </a:lnTo>
                  <a:lnTo>
                    <a:pt x="402" y="39"/>
                  </a:lnTo>
                  <a:lnTo>
                    <a:pt x="402" y="272"/>
                  </a:lnTo>
                  <a:lnTo>
                    <a:pt x="402" y="275"/>
                  </a:lnTo>
                  <a:lnTo>
                    <a:pt x="401" y="277"/>
                  </a:lnTo>
                  <a:lnTo>
                    <a:pt x="400" y="279"/>
                  </a:lnTo>
                  <a:lnTo>
                    <a:pt x="398" y="281"/>
                  </a:lnTo>
                  <a:lnTo>
                    <a:pt x="396" y="283"/>
                  </a:lnTo>
                  <a:lnTo>
                    <a:pt x="393" y="284"/>
                  </a:lnTo>
                  <a:lnTo>
                    <a:pt x="389" y="286"/>
                  </a:lnTo>
                  <a:lnTo>
                    <a:pt x="386" y="288"/>
                  </a:lnTo>
                  <a:lnTo>
                    <a:pt x="382" y="290"/>
                  </a:lnTo>
                  <a:lnTo>
                    <a:pt x="378" y="291"/>
                  </a:lnTo>
                  <a:lnTo>
                    <a:pt x="373" y="293"/>
                  </a:lnTo>
                  <a:lnTo>
                    <a:pt x="367" y="295"/>
                  </a:lnTo>
                  <a:lnTo>
                    <a:pt x="362" y="297"/>
                  </a:lnTo>
                  <a:lnTo>
                    <a:pt x="356" y="298"/>
                  </a:lnTo>
                  <a:lnTo>
                    <a:pt x="350" y="300"/>
                  </a:lnTo>
                  <a:lnTo>
                    <a:pt x="343" y="301"/>
                  </a:lnTo>
                  <a:lnTo>
                    <a:pt x="336" y="302"/>
                  </a:lnTo>
                  <a:lnTo>
                    <a:pt x="329" y="303"/>
                  </a:lnTo>
                  <a:lnTo>
                    <a:pt x="321" y="304"/>
                  </a:lnTo>
                  <a:lnTo>
                    <a:pt x="313" y="306"/>
                  </a:lnTo>
                  <a:lnTo>
                    <a:pt x="306" y="307"/>
                  </a:lnTo>
                  <a:lnTo>
                    <a:pt x="297" y="307"/>
                  </a:lnTo>
                  <a:lnTo>
                    <a:pt x="279" y="309"/>
                  </a:lnTo>
                  <a:lnTo>
                    <a:pt x="261" y="310"/>
                  </a:lnTo>
                  <a:lnTo>
                    <a:pt x="242" y="311"/>
                  </a:lnTo>
                  <a:lnTo>
                    <a:pt x="222" y="312"/>
                  </a:lnTo>
                  <a:lnTo>
                    <a:pt x="201" y="312"/>
                  </a:lnTo>
                  <a:lnTo>
                    <a:pt x="180" y="312"/>
                  </a:lnTo>
                  <a:lnTo>
                    <a:pt x="160" y="311"/>
                  </a:lnTo>
                  <a:lnTo>
                    <a:pt x="141" y="310"/>
                  </a:lnTo>
                  <a:lnTo>
                    <a:pt x="122" y="309"/>
                  </a:lnTo>
                  <a:lnTo>
                    <a:pt x="105" y="307"/>
                  </a:lnTo>
                  <a:lnTo>
                    <a:pt x="96" y="307"/>
                  </a:lnTo>
                  <a:lnTo>
                    <a:pt x="89" y="306"/>
                  </a:lnTo>
                  <a:lnTo>
                    <a:pt x="80" y="304"/>
                  </a:lnTo>
                  <a:lnTo>
                    <a:pt x="73" y="303"/>
                  </a:lnTo>
                  <a:lnTo>
                    <a:pt x="66" y="302"/>
                  </a:lnTo>
                  <a:lnTo>
                    <a:pt x="58" y="301"/>
                  </a:lnTo>
                  <a:lnTo>
                    <a:pt x="52" y="300"/>
                  </a:lnTo>
                  <a:lnTo>
                    <a:pt x="46" y="298"/>
                  </a:lnTo>
                  <a:lnTo>
                    <a:pt x="40" y="297"/>
                  </a:lnTo>
                  <a:lnTo>
                    <a:pt x="34" y="295"/>
                  </a:lnTo>
                  <a:lnTo>
                    <a:pt x="29" y="293"/>
                  </a:lnTo>
                  <a:lnTo>
                    <a:pt x="24" y="291"/>
                  </a:lnTo>
                  <a:lnTo>
                    <a:pt x="20" y="290"/>
                  </a:lnTo>
                  <a:lnTo>
                    <a:pt x="15" y="288"/>
                  </a:lnTo>
                  <a:lnTo>
                    <a:pt x="12" y="286"/>
                  </a:lnTo>
                  <a:lnTo>
                    <a:pt x="9" y="284"/>
                  </a:lnTo>
                  <a:lnTo>
                    <a:pt x="6" y="283"/>
                  </a:lnTo>
                  <a:lnTo>
                    <a:pt x="4" y="281"/>
                  </a:lnTo>
                  <a:lnTo>
                    <a:pt x="2" y="279"/>
                  </a:lnTo>
                  <a:lnTo>
                    <a:pt x="1" y="277"/>
                  </a:lnTo>
                  <a:lnTo>
                    <a:pt x="0" y="275"/>
                  </a:lnTo>
                  <a:lnTo>
                    <a:pt x="0" y="272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1" y="35"/>
                  </a:lnTo>
                  <a:lnTo>
                    <a:pt x="2" y="33"/>
                  </a:lnTo>
                  <a:lnTo>
                    <a:pt x="4" y="31"/>
                  </a:lnTo>
                  <a:lnTo>
                    <a:pt x="6" y="30"/>
                  </a:lnTo>
                  <a:lnTo>
                    <a:pt x="9" y="28"/>
                  </a:lnTo>
                  <a:lnTo>
                    <a:pt x="12" y="26"/>
                  </a:lnTo>
                  <a:lnTo>
                    <a:pt x="15" y="24"/>
                  </a:lnTo>
                  <a:lnTo>
                    <a:pt x="20" y="23"/>
                  </a:lnTo>
                  <a:lnTo>
                    <a:pt x="24" y="21"/>
                  </a:lnTo>
                  <a:lnTo>
                    <a:pt x="29" y="18"/>
                  </a:lnTo>
                  <a:lnTo>
                    <a:pt x="34" y="17"/>
                  </a:lnTo>
                  <a:lnTo>
                    <a:pt x="40" y="15"/>
                  </a:lnTo>
                  <a:lnTo>
                    <a:pt x="46" y="14"/>
                  </a:lnTo>
                  <a:lnTo>
                    <a:pt x="52" y="12"/>
                  </a:lnTo>
                  <a:lnTo>
                    <a:pt x="58" y="11"/>
                  </a:lnTo>
                  <a:lnTo>
                    <a:pt x="66" y="10"/>
                  </a:lnTo>
                  <a:lnTo>
                    <a:pt x="73" y="9"/>
                  </a:lnTo>
                  <a:lnTo>
                    <a:pt x="80" y="8"/>
                  </a:lnTo>
                  <a:lnTo>
                    <a:pt x="89" y="7"/>
                  </a:lnTo>
                  <a:lnTo>
                    <a:pt x="96" y="6"/>
                  </a:lnTo>
                  <a:lnTo>
                    <a:pt x="105" y="5"/>
                  </a:lnTo>
                  <a:lnTo>
                    <a:pt x="122" y="3"/>
                  </a:lnTo>
                  <a:lnTo>
                    <a:pt x="141" y="2"/>
                  </a:lnTo>
                  <a:lnTo>
                    <a:pt x="160" y="1"/>
                  </a:lnTo>
                  <a:lnTo>
                    <a:pt x="180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612320" y="3664440"/>
              <a:ext cx="754560" cy="79560"/>
            </a:xfrm>
            <a:custGeom>
              <a:avLst/>
              <a:gdLst/>
              <a:ahLst/>
              <a:rect l="l" t="t" r="r" b="b"/>
              <a:pathLst>
                <a:path w="402" h="39">
                  <a:moveTo>
                    <a:pt x="402" y="0"/>
                  </a:moveTo>
                  <a:lnTo>
                    <a:pt x="402" y="3"/>
                  </a:lnTo>
                  <a:lnTo>
                    <a:pt x="401" y="5"/>
                  </a:lnTo>
                  <a:lnTo>
                    <a:pt x="400" y="7"/>
                  </a:lnTo>
                  <a:lnTo>
                    <a:pt x="398" y="8"/>
                  </a:lnTo>
                  <a:lnTo>
                    <a:pt x="396" y="10"/>
                  </a:lnTo>
                  <a:lnTo>
                    <a:pt x="393" y="12"/>
                  </a:lnTo>
                  <a:lnTo>
                    <a:pt x="389" y="14"/>
                  </a:lnTo>
                  <a:lnTo>
                    <a:pt x="386" y="15"/>
                  </a:lnTo>
                  <a:lnTo>
                    <a:pt x="382" y="17"/>
                  </a:lnTo>
                  <a:lnTo>
                    <a:pt x="378" y="18"/>
                  </a:lnTo>
                  <a:lnTo>
                    <a:pt x="373" y="20"/>
                  </a:lnTo>
                  <a:lnTo>
                    <a:pt x="367" y="23"/>
                  </a:lnTo>
                  <a:lnTo>
                    <a:pt x="362" y="24"/>
                  </a:lnTo>
                  <a:lnTo>
                    <a:pt x="356" y="25"/>
                  </a:lnTo>
                  <a:lnTo>
                    <a:pt x="350" y="27"/>
                  </a:lnTo>
                  <a:lnTo>
                    <a:pt x="343" y="28"/>
                  </a:lnTo>
                  <a:lnTo>
                    <a:pt x="336" y="29"/>
                  </a:lnTo>
                  <a:lnTo>
                    <a:pt x="329" y="30"/>
                  </a:lnTo>
                  <a:lnTo>
                    <a:pt x="321" y="32"/>
                  </a:lnTo>
                  <a:lnTo>
                    <a:pt x="313" y="33"/>
                  </a:lnTo>
                  <a:lnTo>
                    <a:pt x="306" y="34"/>
                  </a:lnTo>
                  <a:lnTo>
                    <a:pt x="297" y="34"/>
                  </a:lnTo>
                  <a:lnTo>
                    <a:pt x="279" y="36"/>
                  </a:lnTo>
                  <a:lnTo>
                    <a:pt x="261" y="37"/>
                  </a:lnTo>
                  <a:lnTo>
                    <a:pt x="242" y="38"/>
                  </a:lnTo>
                  <a:lnTo>
                    <a:pt x="222" y="39"/>
                  </a:lnTo>
                  <a:lnTo>
                    <a:pt x="201" y="39"/>
                  </a:lnTo>
                  <a:lnTo>
                    <a:pt x="180" y="39"/>
                  </a:lnTo>
                  <a:lnTo>
                    <a:pt x="160" y="38"/>
                  </a:lnTo>
                  <a:lnTo>
                    <a:pt x="141" y="37"/>
                  </a:lnTo>
                  <a:lnTo>
                    <a:pt x="122" y="36"/>
                  </a:lnTo>
                  <a:lnTo>
                    <a:pt x="105" y="34"/>
                  </a:lnTo>
                  <a:lnTo>
                    <a:pt x="96" y="34"/>
                  </a:lnTo>
                  <a:lnTo>
                    <a:pt x="89" y="33"/>
                  </a:lnTo>
                  <a:lnTo>
                    <a:pt x="80" y="32"/>
                  </a:lnTo>
                  <a:lnTo>
                    <a:pt x="73" y="30"/>
                  </a:lnTo>
                  <a:lnTo>
                    <a:pt x="66" y="29"/>
                  </a:lnTo>
                  <a:lnTo>
                    <a:pt x="58" y="28"/>
                  </a:lnTo>
                  <a:lnTo>
                    <a:pt x="52" y="27"/>
                  </a:lnTo>
                  <a:lnTo>
                    <a:pt x="46" y="25"/>
                  </a:lnTo>
                  <a:lnTo>
                    <a:pt x="40" y="24"/>
                  </a:lnTo>
                  <a:lnTo>
                    <a:pt x="34" y="23"/>
                  </a:lnTo>
                  <a:lnTo>
                    <a:pt x="29" y="20"/>
                  </a:lnTo>
                  <a:lnTo>
                    <a:pt x="24" y="18"/>
                  </a:lnTo>
                  <a:lnTo>
                    <a:pt x="20" y="17"/>
                  </a:lnTo>
                  <a:lnTo>
                    <a:pt x="15" y="15"/>
                  </a:lnTo>
                  <a:lnTo>
                    <a:pt x="12" y="14"/>
                  </a:lnTo>
                  <a:lnTo>
                    <a:pt x="9" y="12"/>
                  </a:lnTo>
                  <a:lnTo>
                    <a:pt x="6" y="10"/>
                  </a:lnTo>
                  <a:lnTo>
                    <a:pt x="4" y="8"/>
                  </a:lnTo>
                  <a:lnTo>
                    <a:pt x="2" y="7"/>
                  </a:lnTo>
                  <a:lnTo>
                    <a:pt x="1" y="5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187280" y="4860000"/>
              <a:ext cx="1801800" cy="601200"/>
            </a:xfrm>
            <a:custGeom>
              <a:avLst/>
              <a:gdLst/>
              <a:ahLst/>
              <a:rect l="l" t="t" r="r" b="b"/>
              <a:pathLst>
                <a:path w="960" h="294">
                  <a:moveTo>
                    <a:pt x="480" y="0"/>
                  </a:moveTo>
                  <a:lnTo>
                    <a:pt x="505" y="0"/>
                  </a:lnTo>
                  <a:lnTo>
                    <a:pt x="529" y="1"/>
                  </a:lnTo>
                  <a:lnTo>
                    <a:pt x="553" y="2"/>
                  </a:lnTo>
                  <a:lnTo>
                    <a:pt x="576" y="3"/>
                  </a:lnTo>
                  <a:lnTo>
                    <a:pt x="600" y="4"/>
                  </a:lnTo>
                  <a:lnTo>
                    <a:pt x="622" y="6"/>
                  </a:lnTo>
                  <a:lnTo>
                    <a:pt x="645" y="10"/>
                  </a:lnTo>
                  <a:lnTo>
                    <a:pt x="666" y="12"/>
                  </a:lnTo>
                  <a:lnTo>
                    <a:pt x="688" y="15"/>
                  </a:lnTo>
                  <a:lnTo>
                    <a:pt x="708" y="18"/>
                  </a:lnTo>
                  <a:lnTo>
                    <a:pt x="729" y="21"/>
                  </a:lnTo>
                  <a:lnTo>
                    <a:pt x="748" y="25"/>
                  </a:lnTo>
                  <a:lnTo>
                    <a:pt x="767" y="29"/>
                  </a:lnTo>
                  <a:lnTo>
                    <a:pt x="785" y="34"/>
                  </a:lnTo>
                  <a:lnTo>
                    <a:pt x="802" y="39"/>
                  </a:lnTo>
                  <a:lnTo>
                    <a:pt x="819" y="43"/>
                  </a:lnTo>
                  <a:lnTo>
                    <a:pt x="835" y="48"/>
                  </a:lnTo>
                  <a:lnTo>
                    <a:pt x="850" y="54"/>
                  </a:lnTo>
                  <a:lnTo>
                    <a:pt x="864" y="59"/>
                  </a:lnTo>
                  <a:lnTo>
                    <a:pt x="878" y="65"/>
                  </a:lnTo>
                  <a:lnTo>
                    <a:pt x="890" y="71"/>
                  </a:lnTo>
                  <a:lnTo>
                    <a:pt x="902" y="77"/>
                  </a:lnTo>
                  <a:lnTo>
                    <a:pt x="912" y="83"/>
                  </a:lnTo>
                  <a:lnTo>
                    <a:pt x="922" y="90"/>
                  </a:lnTo>
                  <a:lnTo>
                    <a:pt x="930" y="97"/>
                  </a:lnTo>
                  <a:lnTo>
                    <a:pt x="934" y="100"/>
                  </a:lnTo>
                  <a:lnTo>
                    <a:pt x="938" y="104"/>
                  </a:lnTo>
                  <a:lnTo>
                    <a:pt x="942" y="107"/>
                  </a:lnTo>
                  <a:lnTo>
                    <a:pt x="945" y="110"/>
                  </a:lnTo>
                  <a:lnTo>
                    <a:pt x="947" y="115"/>
                  </a:lnTo>
                  <a:lnTo>
                    <a:pt x="950" y="118"/>
                  </a:lnTo>
                  <a:lnTo>
                    <a:pt x="952" y="121"/>
                  </a:lnTo>
                  <a:lnTo>
                    <a:pt x="954" y="125"/>
                  </a:lnTo>
                  <a:lnTo>
                    <a:pt x="955" y="128"/>
                  </a:lnTo>
                  <a:lnTo>
                    <a:pt x="957" y="132"/>
                  </a:lnTo>
                  <a:lnTo>
                    <a:pt x="958" y="136"/>
                  </a:lnTo>
                  <a:lnTo>
                    <a:pt x="958" y="140"/>
                  </a:lnTo>
                  <a:lnTo>
                    <a:pt x="960" y="143"/>
                  </a:lnTo>
                  <a:lnTo>
                    <a:pt x="960" y="147"/>
                  </a:lnTo>
                  <a:lnTo>
                    <a:pt x="960" y="151"/>
                  </a:lnTo>
                  <a:lnTo>
                    <a:pt x="958" y="154"/>
                  </a:lnTo>
                  <a:lnTo>
                    <a:pt x="958" y="159"/>
                  </a:lnTo>
                  <a:lnTo>
                    <a:pt x="957" y="162"/>
                  </a:lnTo>
                  <a:lnTo>
                    <a:pt x="955" y="166"/>
                  </a:lnTo>
                  <a:lnTo>
                    <a:pt x="954" y="169"/>
                  </a:lnTo>
                  <a:lnTo>
                    <a:pt x="952" y="173"/>
                  </a:lnTo>
                  <a:lnTo>
                    <a:pt x="950" y="176"/>
                  </a:lnTo>
                  <a:lnTo>
                    <a:pt x="947" y="181"/>
                  </a:lnTo>
                  <a:lnTo>
                    <a:pt x="945" y="184"/>
                  </a:lnTo>
                  <a:lnTo>
                    <a:pt x="942" y="187"/>
                  </a:lnTo>
                  <a:lnTo>
                    <a:pt x="938" y="191"/>
                  </a:lnTo>
                  <a:lnTo>
                    <a:pt x="934" y="194"/>
                  </a:lnTo>
                  <a:lnTo>
                    <a:pt x="930" y="197"/>
                  </a:lnTo>
                  <a:lnTo>
                    <a:pt x="926" y="201"/>
                  </a:lnTo>
                  <a:lnTo>
                    <a:pt x="922" y="204"/>
                  </a:lnTo>
                  <a:lnTo>
                    <a:pt x="912" y="211"/>
                  </a:lnTo>
                  <a:lnTo>
                    <a:pt x="902" y="217"/>
                  </a:lnTo>
                  <a:lnTo>
                    <a:pt x="890" y="223"/>
                  </a:lnTo>
                  <a:lnTo>
                    <a:pt x="878" y="229"/>
                  </a:lnTo>
                  <a:lnTo>
                    <a:pt x="864" y="235"/>
                  </a:lnTo>
                  <a:lnTo>
                    <a:pt x="850" y="240"/>
                  </a:lnTo>
                  <a:lnTo>
                    <a:pt x="835" y="246"/>
                  </a:lnTo>
                  <a:lnTo>
                    <a:pt x="819" y="251"/>
                  </a:lnTo>
                  <a:lnTo>
                    <a:pt x="802" y="256"/>
                  </a:lnTo>
                  <a:lnTo>
                    <a:pt x="785" y="260"/>
                  </a:lnTo>
                  <a:lnTo>
                    <a:pt x="767" y="265"/>
                  </a:lnTo>
                  <a:lnTo>
                    <a:pt x="748" y="269"/>
                  </a:lnTo>
                  <a:lnTo>
                    <a:pt x="729" y="273"/>
                  </a:lnTo>
                  <a:lnTo>
                    <a:pt x="708" y="276"/>
                  </a:lnTo>
                  <a:lnTo>
                    <a:pt x="688" y="279"/>
                  </a:lnTo>
                  <a:lnTo>
                    <a:pt x="666" y="282"/>
                  </a:lnTo>
                  <a:lnTo>
                    <a:pt x="644" y="285"/>
                  </a:lnTo>
                  <a:lnTo>
                    <a:pt x="622" y="288"/>
                  </a:lnTo>
                  <a:lnTo>
                    <a:pt x="599" y="290"/>
                  </a:lnTo>
                  <a:lnTo>
                    <a:pt x="576" y="291"/>
                  </a:lnTo>
                  <a:lnTo>
                    <a:pt x="553" y="292"/>
                  </a:lnTo>
                  <a:lnTo>
                    <a:pt x="529" y="293"/>
                  </a:lnTo>
                  <a:lnTo>
                    <a:pt x="504" y="294"/>
                  </a:lnTo>
                  <a:lnTo>
                    <a:pt x="480" y="294"/>
                  </a:lnTo>
                  <a:lnTo>
                    <a:pt x="455" y="294"/>
                  </a:lnTo>
                  <a:lnTo>
                    <a:pt x="431" y="293"/>
                  </a:lnTo>
                  <a:lnTo>
                    <a:pt x="406" y="292"/>
                  </a:lnTo>
                  <a:lnTo>
                    <a:pt x="383" y="291"/>
                  </a:lnTo>
                  <a:lnTo>
                    <a:pt x="360" y="290"/>
                  </a:lnTo>
                  <a:lnTo>
                    <a:pt x="337" y="288"/>
                  </a:lnTo>
                  <a:lnTo>
                    <a:pt x="315" y="285"/>
                  </a:lnTo>
                  <a:lnTo>
                    <a:pt x="293" y="282"/>
                  </a:lnTo>
                  <a:lnTo>
                    <a:pt x="271" y="279"/>
                  </a:lnTo>
                  <a:lnTo>
                    <a:pt x="251" y="276"/>
                  </a:lnTo>
                  <a:lnTo>
                    <a:pt x="232" y="273"/>
                  </a:lnTo>
                  <a:lnTo>
                    <a:pt x="212" y="269"/>
                  </a:lnTo>
                  <a:lnTo>
                    <a:pt x="193" y="265"/>
                  </a:lnTo>
                  <a:lnTo>
                    <a:pt x="175" y="260"/>
                  </a:lnTo>
                  <a:lnTo>
                    <a:pt x="157" y="256"/>
                  </a:lnTo>
                  <a:lnTo>
                    <a:pt x="140" y="251"/>
                  </a:lnTo>
                  <a:lnTo>
                    <a:pt x="125" y="246"/>
                  </a:lnTo>
                  <a:lnTo>
                    <a:pt x="110" y="240"/>
                  </a:lnTo>
                  <a:lnTo>
                    <a:pt x="95" y="235"/>
                  </a:lnTo>
                  <a:lnTo>
                    <a:pt x="82" y="229"/>
                  </a:lnTo>
                  <a:lnTo>
                    <a:pt x="69" y="223"/>
                  </a:lnTo>
                  <a:lnTo>
                    <a:pt x="58" y="217"/>
                  </a:lnTo>
                  <a:lnTo>
                    <a:pt x="47" y="211"/>
                  </a:lnTo>
                  <a:lnTo>
                    <a:pt x="38" y="204"/>
                  </a:lnTo>
                  <a:lnTo>
                    <a:pt x="29" y="197"/>
                  </a:lnTo>
                  <a:lnTo>
                    <a:pt x="25" y="194"/>
                  </a:lnTo>
                  <a:lnTo>
                    <a:pt x="22" y="191"/>
                  </a:lnTo>
                  <a:lnTo>
                    <a:pt x="18" y="187"/>
                  </a:lnTo>
                  <a:lnTo>
                    <a:pt x="15" y="184"/>
                  </a:lnTo>
                  <a:lnTo>
                    <a:pt x="13" y="181"/>
                  </a:lnTo>
                  <a:lnTo>
                    <a:pt x="9" y="176"/>
                  </a:lnTo>
                  <a:lnTo>
                    <a:pt x="7" y="173"/>
                  </a:lnTo>
                  <a:lnTo>
                    <a:pt x="5" y="169"/>
                  </a:lnTo>
                  <a:lnTo>
                    <a:pt x="4" y="166"/>
                  </a:lnTo>
                  <a:lnTo>
                    <a:pt x="2" y="162"/>
                  </a:lnTo>
                  <a:lnTo>
                    <a:pt x="1" y="159"/>
                  </a:lnTo>
                  <a:lnTo>
                    <a:pt x="1" y="154"/>
                  </a:lnTo>
                  <a:lnTo>
                    <a:pt x="0" y="151"/>
                  </a:lnTo>
                  <a:lnTo>
                    <a:pt x="0" y="147"/>
                  </a:lnTo>
                  <a:lnTo>
                    <a:pt x="0" y="143"/>
                  </a:lnTo>
                  <a:lnTo>
                    <a:pt x="1" y="140"/>
                  </a:lnTo>
                  <a:lnTo>
                    <a:pt x="1" y="136"/>
                  </a:lnTo>
                  <a:lnTo>
                    <a:pt x="2" y="132"/>
                  </a:lnTo>
                  <a:lnTo>
                    <a:pt x="4" y="128"/>
                  </a:lnTo>
                  <a:lnTo>
                    <a:pt x="5" y="125"/>
                  </a:lnTo>
                  <a:lnTo>
                    <a:pt x="7" y="121"/>
                  </a:lnTo>
                  <a:lnTo>
                    <a:pt x="9" y="118"/>
                  </a:lnTo>
                  <a:lnTo>
                    <a:pt x="13" y="115"/>
                  </a:lnTo>
                  <a:lnTo>
                    <a:pt x="15" y="110"/>
                  </a:lnTo>
                  <a:lnTo>
                    <a:pt x="18" y="107"/>
                  </a:lnTo>
                  <a:lnTo>
                    <a:pt x="22" y="104"/>
                  </a:lnTo>
                  <a:lnTo>
                    <a:pt x="25" y="100"/>
                  </a:lnTo>
                  <a:lnTo>
                    <a:pt x="29" y="97"/>
                  </a:lnTo>
                  <a:lnTo>
                    <a:pt x="38" y="90"/>
                  </a:lnTo>
                  <a:lnTo>
                    <a:pt x="47" y="83"/>
                  </a:lnTo>
                  <a:lnTo>
                    <a:pt x="58" y="77"/>
                  </a:lnTo>
                  <a:lnTo>
                    <a:pt x="69" y="71"/>
                  </a:lnTo>
                  <a:lnTo>
                    <a:pt x="82" y="65"/>
                  </a:lnTo>
                  <a:lnTo>
                    <a:pt x="95" y="59"/>
                  </a:lnTo>
                  <a:lnTo>
                    <a:pt x="110" y="54"/>
                  </a:lnTo>
                  <a:lnTo>
                    <a:pt x="125" y="48"/>
                  </a:lnTo>
                  <a:lnTo>
                    <a:pt x="140" y="43"/>
                  </a:lnTo>
                  <a:lnTo>
                    <a:pt x="157" y="38"/>
                  </a:lnTo>
                  <a:lnTo>
                    <a:pt x="175" y="34"/>
                  </a:lnTo>
                  <a:lnTo>
                    <a:pt x="193" y="29"/>
                  </a:lnTo>
                  <a:lnTo>
                    <a:pt x="212" y="25"/>
                  </a:lnTo>
                  <a:lnTo>
                    <a:pt x="230" y="21"/>
                  </a:lnTo>
                  <a:lnTo>
                    <a:pt x="251" y="18"/>
                  </a:lnTo>
                  <a:lnTo>
                    <a:pt x="271" y="15"/>
                  </a:lnTo>
                  <a:lnTo>
                    <a:pt x="293" y="12"/>
                  </a:lnTo>
                  <a:lnTo>
                    <a:pt x="314" y="9"/>
                  </a:lnTo>
                  <a:lnTo>
                    <a:pt x="337" y="6"/>
                  </a:lnTo>
                  <a:lnTo>
                    <a:pt x="359" y="4"/>
                  </a:lnTo>
                  <a:lnTo>
                    <a:pt x="383" y="3"/>
                  </a:lnTo>
                  <a:lnTo>
                    <a:pt x="406" y="2"/>
                  </a:lnTo>
                  <a:lnTo>
                    <a:pt x="431" y="1"/>
                  </a:lnTo>
                  <a:lnTo>
                    <a:pt x="455" y="0"/>
                  </a:lnTo>
                  <a:lnTo>
                    <a:pt x="48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187280" y="4860000"/>
              <a:ext cx="1801800" cy="601200"/>
            </a:xfrm>
            <a:custGeom>
              <a:avLst/>
              <a:gdLst/>
              <a:ahLst/>
              <a:rect l="l" t="t" r="r" b="b"/>
              <a:pathLst>
                <a:path w="960" h="294">
                  <a:moveTo>
                    <a:pt x="480" y="0"/>
                  </a:moveTo>
                  <a:lnTo>
                    <a:pt x="505" y="0"/>
                  </a:lnTo>
                  <a:lnTo>
                    <a:pt x="529" y="1"/>
                  </a:lnTo>
                  <a:lnTo>
                    <a:pt x="553" y="2"/>
                  </a:lnTo>
                  <a:lnTo>
                    <a:pt x="576" y="3"/>
                  </a:lnTo>
                  <a:lnTo>
                    <a:pt x="600" y="4"/>
                  </a:lnTo>
                  <a:lnTo>
                    <a:pt x="622" y="6"/>
                  </a:lnTo>
                  <a:lnTo>
                    <a:pt x="645" y="10"/>
                  </a:lnTo>
                  <a:lnTo>
                    <a:pt x="666" y="12"/>
                  </a:lnTo>
                  <a:lnTo>
                    <a:pt x="688" y="15"/>
                  </a:lnTo>
                  <a:lnTo>
                    <a:pt x="708" y="18"/>
                  </a:lnTo>
                  <a:lnTo>
                    <a:pt x="729" y="21"/>
                  </a:lnTo>
                  <a:lnTo>
                    <a:pt x="748" y="25"/>
                  </a:lnTo>
                  <a:lnTo>
                    <a:pt x="767" y="29"/>
                  </a:lnTo>
                  <a:lnTo>
                    <a:pt x="785" y="34"/>
                  </a:lnTo>
                  <a:lnTo>
                    <a:pt x="802" y="39"/>
                  </a:lnTo>
                  <a:lnTo>
                    <a:pt x="819" y="43"/>
                  </a:lnTo>
                  <a:lnTo>
                    <a:pt x="835" y="48"/>
                  </a:lnTo>
                  <a:lnTo>
                    <a:pt x="850" y="54"/>
                  </a:lnTo>
                  <a:lnTo>
                    <a:pt x="864" y="59"/>
                  </a:lnTo>
                  <a:lnTo>
                    <a:pt x="878" y="65"/>
                  </a:lnTo>
                  <a:lnTo>
                    <a:pt x="890" y="71"/>
                  </a:lnTo>
                  <a:lnTo>
                    <a:pt x="902" y="77"/>
                  </a:lnTo>
                  <a:lnTo>
                    <a:pt x="912" y="83"/>
                  </a:lnTo>
                  <a:lnTo>
                    <a:pt x="922" y="90"/>
                  </a:lnTo>
                  <a:lnTo>
                    <a:pt x="930" y="97"/>
                  </a:lnTo>
                  <a:lnTo>
                    <a:pt x="934" y="100"/>
                  </a:lnTo>
                  <a:lnTo>
                    <a:pt x="938" y="104"/>
                  </a:lnTo>
                  <a:lnTo>
                    <a:pt x="942" y="107"/>
                  </a:lnTo>
                  <a:lnTo>
                    <a:pt x="945" y="110"/>
                  </a:lnTo>
                  <a:lnTo>
                    <a:pt x="947" y="115"/>
                  </a:lnTo>
                  <a:lnTo>
                    <a:pt x="950" y="118"/>
                  </a:lnTo>
                  <a:lnTo>
                    <a:pt x="952" y="121"/>
                  </a:lnTo>
                  <a:lnTo>
                    <a:pt x="954" y="125"/>
                  </a:lnTo>
                  <a:lnTo>
                    <a:pt x="955" y="128"/>
                  </a:lnTo>
                  <a:lnTo>
                    <a:pt x="957" y="132"/>
                  </a:lnTo>
                  <a:lnTo>
                    <a:pt x="958" y="136"/>
                  </a:lnTo>
                  <a:lnTo>
                    <a:pt x="958" y="140"/>
                  </a:lnTo>
                  <a:lnTo>
                    <a:pt x="960" y="143"/>
                  </a:lnTo>
                  <a:lnTo>
                    <a:pt x="960" y="147"/>
                  </a:lnTo>
                  <a:lnTo>
                    <a:pt x="960" y="151"/>
                  </a:lnTo>
                  <a:lnTo>
                    <a:pt x="958" y="154"/>
                  </a:lnTo>
                  <a:lnTo>
                    <a:pt x="958" y="159"/>
                  </a:lnTo>
                  <a:lnTo>
                    <a:pt x="957" y="162"/>
                  </a:lnTo>
                  <a:lnTo>
                    <a:pt x="955" y="166"/>
                  </a:lnTo>
                  <a:lnTo>
                    <a:pt x="954" y="169"/>
                  </a:lnTo>
                  <a:lnTo>
                    <a:pt x="952" y="173"/>
                  </a:lnTo>
                  <a:lnTo>
                    <a:pt x="950" y="176"/>
                  </a:lnTo>
                  <a:lnTo>
                    <a:pt x="947" y="181"/>
                  </a:lnTo>
                  <a:lnTo>
                    <a:pt x="945" y="184"/>
                  </a:lnTo>
                  <a:lnTo>
                    <a:pt x="942" y="187"/>
                  </a:lnTo>
                  <a:lnTo>
                    <a:pt x="938" y="191"/>
                  </a:lnTo>
                  <a:lnTo>
                    <a:pt x="934" y="194"/>
                  </a:lnTo>
                  <a:lnTo>
                    <a:pt x="930" y="197"/>
                  </a:lnTo>
                  <a:lnTo>
                    <a:pt x="926" y="201"/>
                  </a:lnTo>
                  <a:lnTo>
                    <a:pt x="922" y="204"/>
                  </a:lnTo>
                  <a:lnTo>
                    <a:pt x="912" y="211"/>
                  </a:lnTo>
                  <a:lnTo>
                    <a:pt x="902" y="217"/>
                  </a:lnTo>
                  <a:lnTo>
                    <a:pt x="890" y="223"/>
                  </a:lnTo>
                  <a:lnTo>
                    <a:pt x="878" y="229"/>
                  </a:lnTo>
                  <a:lnTo>
                    <a:pt x="864" y="235"/>
                  </a:lnTo>
                  <a:lnTo>
                    <a:pt x="850" y="240"/>
                  </a:lnTo>
                  <a:lnTo>
                    <a:pt x="835" y="246"/>
                  </a:lnTo>
                  <a:lnTo>
                    <a:pt x="819" y="251"/>
                  </a:lnTo>
                  <a:lnTo>
                    <a:pt x="802" y="256"/>
                  </a:lnTo>
                  <a:lnTo>
                    <a:pt x="785" y="260"/>
                  </a:lnTo>
                  <a:lnTo>
                    <a:pt x="767" y="265"/>
                  </a:lnTo>
                  <a:lnTo>
                    <a:pt x="748" y="269"/>
                  </a:lnTo>
                  <a:lnTo>
                    <a:pt x="729" y="273"/>
                  </a:lnTo>
                  <a:lnTo>
                    <a:pt x="708" y="276"/>
                  </a:lnTo>
                  <a:lnTo>
                    <a:pt x="688" y="279"/>
                  </a:lnTo>
                  <a:lnTo>
                    <a:pt x="666" y="282"/>
                  </a:lnTo>
                  <a:lnTo>
                    <a:pt x="644" y="285"/>
                  </a:lnTo>
                  <a:lnTo>
                    <a:pt x="622" y="288"/>
                  </a:lnTo>
                  <a:lnTo>
                    <a:pt x="599" y="290"/>
                  </a:lnTo>
                  <a:lnTo>
                    <a:pt x="576" y="291"/>
                  </a:lnTo>
                  <a:lnTo>
                    <a:pt x="553" y="292"/>
                  </a:lnTo>
                  <a:lnTo>
                    <a:pt x="529" y="293"/>
                  </a:lnTo>
                  <a:lnTo>
                    <a:pt x="504" y="294"/>
                  </a:lnTo>
                  <a:lnTo>
                    <a:pt x="480" y="294"/>
                  </a:lnTo>
                  <a:lnTo>
                    <a:pt x="455" y="294"/>
                  </a:lnTo>
                  <a:lnTo>
                    <a:pt x="431" y="293"/>
                  </a:lnTo>
                  <a:lnTo>
                    <a:pt x="406" y="292"/>
                  </a:lnTo>
                  <a:lnTo>
                    <a:pt x="383" y="291"/>
                  </a:lnTo>
                  <a:lnTo>
                    <a:pt x="360" y="290"/>
                  </a:lnTo>
                  <a:lnTo>
                    <a:pt x="337" y="288"/>
                  </a:lnTo>
                  <a:lnTo>
                    <a:pt x="315" y="285"/>
                  </a:lnTo>
                  <a:lnTo>
                    <a:pt x="293" y="282"/>
                  </a:lnTo>
                  <a:lnTo>
                    <a:pt x="271" y="279"/>
                  </a:lnTo>
                  <a:lnTo>
                    <a:pt x="251" y="276"/>
                  </a:lnTo>
                  <a:lnTo>
                    <a:pt x="232" y="273"/>
                  </a:lnTo>
                  <a:lnTo>
                    <a:pt x="212" y="269"/>
                  </a:lnTo>
                  <a:lnTo>
                    <a:pt x="193" y="265"/>
                  </a:lnTo>
                  <a:lnTo>
                    <a:pt x="175" y="260"/>
                  </a:lnTo>
                  <a:lnTo>
                    <a:pt x="157" y="256"/>
                  </a:lnTo>
                  <a:lnTo>
                    <a:pt x="140" y="251"/>
                  </a:lnTo>
                  <a:lnTo>
                    <a:pt x="125" y="246"/>
                  </a:lnTo>
                  <a:lnTo>
                    <a:pt x="110" y="240"/>
                  </a:lnTo>
                  <a:lnTo>
                    <a:pt x="95" y="235"/>
                  </a:lnTo>
                  <a:lnTo>
                    <a:pt x="82" y="229"/>
                  </a:lnTo>
                  <a:lnTo>
                    <a:pt x="69" y="223"/>
                  </a:lnTo>
                  <a:lnTo>
                    <a:pt x="58" y="217"/>
                  </a:lnTo>
                  <a:lnTo>
                    <a:pt x="47" y="211"/>
                  </a:lnTo>
                  <a:lnTo>
                    <a:pt x="38" y="204"/>
                  </a:lnTo>
                  <a:lnTo>
                    <a:pt x="29" y="197"/>
                  </a:lnTo>
                  <a:lnTo>
                    <a:pt x="25" y="194"/>
                  </a:lnTo>
                  <a:lnTo>
                    <a:pt x="22" y="191"/>
                  </a:lnTo>
                  <a:lnTo>
                    <a:pt x="18" y="187"/>
                  </a:lnTo>
                  <a:lnTo>
                    <a:pt x="15" y="184"/>
                  </a:lnTo>
                  <a:lnTo>
                    <a:pt x="13" y="181"/>
                  </a:lnTo>
                  <a:lnTo>
                    <a:pt x="9" y="176"/>
                  </a:lnTo>
                  <a:lnTo>
                    <a:pt x="7" y="173"/>
                  </a:lnTo>
                  <a:lnTo>
                    <a:pt x="5" y="169"/>
                  </a:lnTo>
                  <a:lnTo>
                    <a:pt x="4" y="166"/>
                  </a:lnTo>
                  <a:lnTo>
                    <a:pt x="2" y="162"/>
                  </a:lnTo>
                  <a:lnTo>
                    <a:pt x="1" y="159"/>
                  </a:lnTo>
                  <a:lnTo>
                    <a:pt x="1" y="154"/>
                  </a:lnTo>
                  <a:lnTo>
                    <a:pt x="0" y="151"/>
                  </a:lnTo>
                  <a:lnTo>
                    <a:pt x="0" y="147"/>
                  </a:lnTo>
                  <a:lnTo>
                    <a:pt x="0" y="143"/>
                  </a:lnTo>
                  <a:lnTo>
                    <a:pt x="1" y="140"/>
                  </a:lnTo>
                  <a:lnTo>
                    <a:pt x="1" y="136"/>
                  </a:lnTo>
                  <a:lnTo>
                    <a:pt x="2" y="132"/>
                  </a:lnTo>
                  <a:lnTo>
                    <a:pt x="4" y="128"/>
                  </a:lnTo>
                  <a:lnTo>
                    <a:pt x="5" y="125"/>
                  </a:lnTo>
                  <a:lnTo>
                    <a:pt x="7" y="121"/>
                  </a:lnTo>
                  <a:lnTo>
                    <a:pt x="9" y="118"/>
                  </a:lnTo>
                  <a:lnTo>
                    <a:pt x="13" y="115"/>
                  </a:lnTo>
                  <a:lnTo>
                    <a:pt x="15" y="110"/>
                  </a:lnTo>
                  <a:lnTo>
                    <a:pt x="18" y="107"/>
                  </a:lnTo>
                  <a:lnTo>
                    <a:pt x="22" y="104"/>
                  </a:lnTo>
                  <a:lnTo>
                    <a:pt x="25" y="100"/>
                  </a:lnTo>
                  <a:lnTo>
                    <a:pt x="29" y="97"/>
                  </a:lnTo>
                  <a:lnTo>
                    <a:pt x="38" y="90"/>
                  </a:lnTo>
                  <a:lnTo>
                    <a:pt x="47" y="83"/>
                  </a:lnTo>
                  <a:lnTo>
                    <a:pt x="58" y="77"/>
                  </a:lnTo>
                  <a:lnTo>
                    <a:pt x="69" y="71"/>
                  </a:lnTo>
                  <a:lnTo>
                    <a:pt x="82" y="65"/>
                  </a:lnTo>
                  <a:lnTo>
                    <a:pt x="95" y="59"/>
                  </a:lnTo>
                  <a:lnTo>
                    <a:pt x="110" y="54"/>
                  </a:lnTo>
                  <a:lnTo>
                    <a:pt x="125" y="48"/>
                  </a:lnTo>
                  <a:lnTo>
                    <a:pt x="140" y="43"/>
                  </a:lnTo>
                  <a:lnTo>
                    <a:pt x="157" y="38"/>
                  </a:lnTo>
                  <a:lnTo>
                    <a:pt x="175" y="34"/>
                  </a:lnTo>
                  <a:lnTo>
                    <a:pt x="193" y="29"/>
                  </a:lnTo>
                  <a:lnTo>
                    <a:pt x="212" y="25"/>
                  </a:lnTo>
                  <a:lnTo>
                    <a:pt x="230" y="21"/>
                  </a:lnTo>
                  <a:lnTo>
                    <a:pt x="251" y="18"/>
                  </a:lnTo>
                  <a:lnTo>
                    <a:pt x="271" y="15"/>
                  </a:lnTo>
                  <a:lnTo>
                    <a:pt x="293" y="12"/>
                  </a:lnTo>
                  <a:lnTo>
                    <a:pt x="314" y="9"/>
                  </a:lnTo>
                  <a:lnTo>
                    <a:pt x="337" y="6"/>
                  </a:lnTo>
                  <a:lnTo>
                    <a:pt x="359" y="4"/>
                  </a:lnTo>
                  <a:lnTo>
                    <a:pt x="383" y="3"/>
                  </a:lnTo>
                  <a:lnTo>
                    <a:pt x="406" y="2"/>
                  </a:lnTo>
                  <a:lnTo>
                    <a:pt x="431" y="1"/>
                  </a:lnTo>
                  <a:lnTo>
                    <a:pt x="455" y="0"/>
                  </a:lnTo>
                  <a:lnTo>
                    <a:pt x="480" y="0"/>
                  </a:lnTo>
                </a:path>
              </a:pathLst>
            </a:custGeom>
            <a:solidFill>
              <a:srgbClr val="0099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412720" y="4749840"/>
              <a:ext cx="144000" cy="186120"/>
            </a:xfrm>
            <a:custGeom>
              <a:avLst/>
              <a:gdLst/>
              <a:ahLst/>
              <a:rect l="l" t="t" r="r" b="b"/>
              <a:pathLst>
                <a:path w="77" h="91">
                  <a:moveTo>
                    <a:pt x="38" y="0"/>
                  </a:moveTo>
                  <a:lnTo>
                    <a:pt x="77" y="91"/>
                  </a:lnTo>
                  <a:lnTo>
                    <a:pt x="0" y="91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412720" y="4749840"/>
              <a:ext cx="144000" cy="186120"/>
            </a:xfrm>
            <a:custGeom>
              <a:avLst/>
              <a:gdLst/>
              <a:ahLst/>
              <a:rect l="l" t="t" r="r" b="b"/>
              <a:pathLst>
                <a:path w="77" h="91">
                  <a:moveTo>
                    <a:pt x="38" y="0"/>
                  </a:moveTo>
                  <a:lnTo>
                    <a:pt x="77" y="91"/>
                  </a:lnTo>
                  <a:lnTo>
                    <a:pt x="0" y="91"/>
                  </a:lnTo>
                  <a:lnTo>
                    <a:pt x="38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412720" y="4674240"/>
              <a:ext cx="144000" cy="149040"/>
            </a:xfrm>
            <a:custGeom>
              <a:avLst/>
              <a:gdLst/>
              <a:ahLst/>
              <a:rect l="l" t="t" r="r" b="b"/>
              <a:pathLst>
                <a:path w="77" h="73">
                  <a:moveTo>
                    <a:pt x="38" y="0"/>
                  </a:moveTo>
                  <a:lnTo>
                    <a:pt x="43" y="0"/>
                  </a:lnTo>
                  <a:lnTo>
                    <a:pt x="46" y="1"/>
                  </a:lnTo>
                  <a:lnTo>
                    <a:pt x="50" y="2"/>
                  </a:lnTo>
                  <a:lnTo>
                    <a:pt x="53" y="3"/>
                  </a:lnTo>
                  <a:lnTo>
                    <a:pt x="56" y="4"/>
                  </a:lnTo>
                  <a:lnTo>
                    <a:pt x="60" y="6"/>
                  </a:lnTo>
                  <a:lnTo>
                    <a:pt x="62" y="8"/>
                  </a:lnTo>
                  <a:lnTo>
                    <a:pt x="66" y="10"/>
                  </a:lnTo>
                  <a:lnTo>
                    <a:pt x="68" y="12"/>
                  </a:lnTo>
                  <a:lnTo>
                    <a:pt x="71" y="16"/>
                  </a:lnTo>
                  <a:lnTo>
                    <a:pt x="72" y="19"/>
                  </a:lnTo>
                  <a:lnTo>
                    <a:pt x="74" y="22"/>
                  </a:lnTo>
                  <a:lnTo>
                    <a:pt x="75" y="25"/>
                  </a:lnTo>
                  <a:lnTo>
                    <a:pt x="76" y="29"/>
                  </a:lnTo>
                  <a:lnTo>
                    <a:pt x="77" y="32"/>
                  </a:lnTo>
                  <a:lnTo>
                    <a:pt x="77" y="37"/>
                  </a:lnTo>
                  <a:lnTo>
                    <a:pt x="77" y="41"/>
                  </a:lnTo>
                  <a:lnTo>
                    <a:pt x="76" y="44"/>
                  </a:lnTo>
                  <a:lnTo>
                    <a:pt x="75" y="47"/>
                  </a:lnTo>
                  <a:lnTo>
                    <a:pt x="74" y="51"/>
                  </a:lnTo>
                  <a:lnTo>
                    <a:pt x="72" y="54"/>
                  </a:lnTo>
                  <a:lnTo>
                    <a:pt x="71" y="56"/>
                  </a:lnTo>
                  <a:lnTo>
                    <a:pt x="68" y="60"/>
                  </a:lnTo>
                  <a:lnTo>
                    <a:pt x="66" y="63"/>
                  </a:lnTo>
                  <a:lnTo>
                    <a:pt x="62" y="65"/>
                  </a:lnTo>
                  <a:lnTo>
                    <a:pt x="60" y="67"/>
                  </a:lnTo>
                  <a:lnTo>
                    <a:pt x="56" y="69"/>
                  </a:lnTo>
                  <a:lnTo>
                    <a:pt x="53" y="70"/>
                  </a:lnTo>
                  <a:lnTo>
                    <a:pt x="50" y="71"/>
                  </a:lnTo>
                  <a:lnTo>
                    <a:pt x="46" y="72"/>
                  </a:lnTo>
                  <a:lnTo>
                    <a:pt x="43" y="73"/>
                  </a:lnTo>
                  <a:lnTo>
                    <a:pt x="38" y="73"/>
                  </a:lnTo>
                  <a:lnTo>
                    <a:pt x="34" y="73"/>
                  </a:lnTo>
                  <a:lnTo>
                    <a:pt x="31" y="72"/>
                  </a:lnTo>
                  <a:lnTo>
                    <a:pt x="27" y="71"/>
                  </a:lnTo>
                  <a:lnTo>
                    <a:pt x="24" y="70"/>
                  </a:lnTo>
                  <a:lnTo>
                    <a:pt x="21" y="69"/>
                  </a:lnTo>
                  <a:lnTo>
                    <a:pt x="17" y="67"/>
                  </a:lnTo>
                  <a:lnTo>
                    <a:pt x="14" y="65"/>
                  </a:lnTo>
                  <a:lnTo>
                    <a:pt x="11" y="63"/>
                  </a:lnTo>
                  <a:lnTo>
                    <a:pt x="9" y="60"/>
                  </a:lnTo>
                  <a:lnTo>
                    <a:pt x="6" y="56"/>
                  </a:lnTo>
                  <a:lnTo>
                    <a:pt x="5" y="54"/>
                  </a:lnTo>
                  <a:lnTo>
                    <a:pt x="3" y="51"/>
                  </a:lnTo>
                  <a:lnTo>
                    <a:pt x="2" y="47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0" y="37"/>
                  </a:lnTo>
                  <a:lnTo>
                    <a:pt x="0" y="32"/>
                  </a:lnTo>
                  <a:lnTo>
                    <a:pt x="1" y="29"/>
                  </a:lnTo>
                  <a:lnTo>
                    <a:pt x="2" y="25"/>
                  </a:lnTo>
                  <a:lnTo>
                    <a:pt x="3" y="22"/>
                  </a:lnTo>
                  <a:lnTo>
                    <a:pt x="5" y="19"/>
                  </a:lnTo>
                  <a:lnTo>
                    <a:pt x="6" y="16"/>
                  </a:lnTo>
                  <a:lnTo>
                    <a:pt x="9" y="12"/>
                  </a:lnTo>
                  <a:lnTo>
                    <a:pt x="11" y="10"/>
                  </a:lnTo>
                  <a:lnTo>
                    <a:pt x="14" y="8"/>
                  </a:lnTo>
                  <a:lnTo>
                    <a:pt x="17" y="6"/>
                  </a:lnTo>
                  <a:lnTo>
                    <a:pt x="21" y="4"/>
                  </a:lnTo>
                  <a:lnTo>
                    <a:pt x="24" y="3"/>
                  </a:lnTo>
                  <a:lnTo>
                    <a:pt x="27" y="2"/>
                  </a:lnTo>
                  <a:lnTo>
                    <a:pt x="31" y="1"/>
                  </a:lnTo>
                  <a:lnTo>
                    <a:pt x="34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412720" y="4674240"/>
              <a:ext cx="144000" cy="149040"/>
            </a:xfrm>
            <a:custGeom>
              <a:avLst/>
              <a:gdLst/>
              <a:ahLst/>
              <a:rect l="l" t="t" r="r" b="b"/>
              <a:pathLst>
                <a:path w="77" h="73">
                  <a:moveTo>
                    <a:pt x="38" y="0"/>
                  </a:moveTo>
                  <a:lnTo>
                    <a:pt x="43" y="0"/>
                  </a:lnTo>
                  <a:lnTo>
                    <a:pt x="46" y="1"/>
                  </a:lnTo>
                  <a:lnTo>
                    <a:pt x="50" y="2"/>
                  </a:lnTo>
                  <a:lnTo>
                    <a:pt x="53" y="3"/>
                  </a:lnTo>
                  <a:lnTo>
                    <a:pt x="56" y="4"/>
                  </a:lnTo>
                  <a:lnTo>
                    <a:pt x="60" y="6"/>
                  </a:lnTo>
                  <a:lnTo>
                    <a:pt x="62" y="8"/>
                  </a:lnTo>
                  <a:lnTo>
                    <a:pt x="66" y="10"/>
                  </a:lnTo>
                  <a:lnTo>
                    <a:pt x="68" y="12"/>
                  </a:lnTo>
                  <a:lnTo>
                    <a:pt x="71" y="16"/>
                  </a:lnTo>
                  <a:lnTo>
                    <a:pt x="72" y="19"/>
                  </a:lnTo>
                  <a:lnTo>
                    <a:pt x="74" y="22"/>
                  </a:lnTo>
                  <a:lnTo>
                    <a:pt x="75" y="25"/>
                  </a:lnTo>
                  <a:lnTo>
                    <a:pt x="76" y="29"/>
                  </a:lnTo>
                  <a:lnTo>
                    <a:pt x="77" y="32"/>
                  </a:lnTo>
                  <a:lnTo>
                    <a:pt x="77" y="37"/>
                  </a:lnTo>
                  <a:lnTo>
                    <a:pt x="77" y="41"/>
                  </a:lnTo>
                  <a:lnTo>
                    <a:pt x="76" y="44"/>
                  </a:lnTo>
                  <a:lnTo>
                    <a:pt x="75" y="47"/>
                  </a:lnTo>
                  <a:lnTo>
                    <a:pt x="74" y="51"/>
                  </a:lnTo>
                  <a:lnTo>
                    <a:pt x="72" y="54"/>
                  </a:lnTo>
                  <a:lnTo>
                    <a:pt x="71" y="56"/>
                  </a:lnTo>
                  <a:lnTo>
                    <a:pt x="68" y="60"/>
                  </a:lnTo>
                  <a:lnTo>
                    <a:pt x="66" y="63"/>
                  </a:lnTo>
                  <a:lnTo>
                    <a:pt x="62" y="65"/>
                  </a:lnTo>
                  <a:lnTo>
                    <a:pt x="60" y="67"/>
                  </a:lnTo>
                  <a:lnTo>
                    <a:pt x="56" y="69"/>
                  </a:lnTo>
                  <a:lnTo>
                    <a:pt x="53" y="70"/>
                  </a:lnTo>
                  <a:lnTo>
                    <a:pt x="50" y="71"/>
                  </a:lnTo>
                  <a:lnTo>
                    <a:pt x="46" y="72"/>
                  </a:lnTo>
                  <a:lnTo>
                    <a:pt x="43" y="73"/>
                  </a:lnTo>
                  <a:lnTo>
                    <a:pt x="38" y="73"/>
                  </a:lnTo>
                  <a:lnTo>
                    <a:pt x="34" y="73"/>
                  </a:lnTo>
                  <a:lnTo>
                    <a:pt x="31" y="72"/>
                  </a:lnTo>
                  <a:lnTo>
                    <a:pt x="27" y="71"/>
                  </a:lnTo>
                  <a:lnTo>
                    <a:pt x="24" y="70"/>
                  </a:lnTo>
                  <a:lnTo>
                    <a:pt x="21" y="69"/>
                  </a:lnTo>
                  <a:lnTo>
                    <a:pt x="17" y="67"/>
                  </a:lnTo>
                  <a:lnTo>
                    <a:pt x="14" y="65"/>
                  </a:lnTo>
                  <a:lnTo>
                    <a:pt x="11" y="63"/>
                  </a:lnTo>
                  <a:lnTo>
                    <a:pt x="9" y="60"/>
                  </a:lnTo>
                  <a:lnTo>
                    <a:pt x="6" y="56"/>
                  </a:lnTo>
                  <a:lnTo>
                    <a:pt x="5" y="54"/>
                  </a:lnTo>
                  <a:lnTo>
                    <a:pt x="3" y="51"/>
                  </a:lnTo>
                  <a:lnTo>
                    <a:pt x="2" y="47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0" y="37"/>
                  </a:lnTo>
                  <a:lnTo>
                    <a:pt x="0" y="32"/>
                  </a:lnTo>
                  <a:lnTo>
                    <a:pt x="1" y="29"/>
                  </a:lnTo>
                  <a:lnTo>
                    <a:pt x="2" y="25"/>
                  </a:lnTo>
                  <a:lnTo>
                    <a:pt x="3" y="22"/>
                  </a:lnTo>
                  <a:lnTo>
                    <a:pt x="5" y="19"/>
                  </a:lnTo>
                  <a:lnTo>
                    <a:pt x="6" y="16"/>
                  </a:lnTo>
                  <a:lnTo>
                    <a:pt x="9" y="12"/>
                  </a:lnTo>
                  <a:lnTo>
                    <a:pt x="11" y="10"/>
                  </a:lnTo>
                  <a:lnTo>
                    <a:pt x="14" y="8"/>
                  </a:lnTo>
                  <a:lnTo>
                    <a:pt x="17" y="6"/>
                  </a:lnTo>
                  <a:lnTo>
                    <a:pt x="21" y="4"/>
                  </a:lnTo>
                  <a:lnTo>
                    <a:pt x="24" y="3"/>
                  </a:lnTo>
                  <a:lnTo>
                    <a:pt x="27" y="2"/>
                  </a:lnTo>
                  <a:lnTo>
                    <a:pt x="31" y="1"/>
                  </a:lnTo>
                  <a:lnTo>
                    <a:pt x="34" y="0"/>
                  </a:lnTo>
                  <a:lnTo>
                    <a:pt x="3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194920" y="4823280"/>
              <a:ext cx="255240" cy="337320"/>
            </a:xfrm>
            <a:custGeom>
              <a:avLst/>
              <a:gdLst/>
              <a:ahLst/>
              <a:rect l="l" t="t" r="r" b="b"/>
              <a:pathLst>
                <a:path w="136" h="165">
                  <a:moveTo>
                    <a:pt x="136" y="0"/>
                  </a:moveTo>
                  <a:lnTo>
                    <a:pt x="0" y="0"/>
                  </a:lnTo>
                  <a:lnTo>
                    <a:pt x="0" y="165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557080" y="4749840"/>
              <a:ext cx="900720" cy="21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323600" y="3432960"/>
              <a:ext cx="682920" cy="1541160"/>
            </a:xfrm>
            <a:custGeom>
              <a:avLst/>
              <a:gdLst/>
              <a:ahLst/>
              <a:rect l="l" t="t" r="r" b="b"/>
              <a:pathLst>
                <a:path w="364" h="754">
                  <a:moveTo>
                    <a:pt x="0" y="754"/>
                  </a:moveTo>
                  <a:lnTo>
                    <a:pt x="134" y="754"/>
                  </a:lnTo>
                  <a:lnTo>
                    <a:pt x="134" y="0"/>
                  </a:lnTo>
                  <a:lnTo>
                    <a:pt x="364" y="0"/>
                  </a:lnTo>
                  <a:lnTo>
                    <a:pt x="364" y="92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699600" y="4913280"/>
              <a:ext cx="575640" cy="120240"/>
            </a:xfrm>
            <a:custGeom>
              <a:avLst/>
              <a:gdLst/>
              <a:ahLst/>
              <a:rect l="l" t="t" r="r" b="b"/>
              <a:pathLst>
                <a:path w="307" h="59">
                  <a:moveTo>
                    <a:pt x="0" y="19"/>
                  </a:moveTo>
                  <a:lnTo>
                    <a:pt x="259" y="20"/>
                  </a:lnTo>
                  <a:lnTo>
                    <a:pt x="259" y="40"/>
                  </a:lnTo>
                  <a:lnTo>
                    <a:pt x="0" y="39"/>
                  </a:lnTo>
                  <a:lnTo>
                    <a:pt x="0" y="19"/>
                  </a:lnTo>
                  <a:close/>
                  <a:moveTo>
                    <a:pt x="248" y="0"/>
                  </a:moveTo>
                  <a:lnTo>
                    <a:pt x="307" y="30"/>
                  </a:lnTo>
                  <a:lnTo>
                    <a:pt x="248" y="59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006520" y="4222440"/>
              <a:ext cx="502920" cy="713160"/>
            </a:xfrm>
            <a:custGeom>
              <a:avLst/>
              <a:gdLst/>
              <a:ahLst/>
              <a:rect l="l" t="t" r="r" b="b"/>
              <a:pathLst>
                <a:path w="268" h="349">
                  <a:moveTo>
                    <a:pt x="0" y="0"/>
                  </a:moveTo>
                  <a:lnTo>
                    <a:pt x="0" y="349"/>
                  </a:lnTo>
                  <a:lnTo>
                    <a:pt x="268" y="349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458160" y="5085000"/>
              <a:ext cx="827640" cy="300600"/>
            </a:xfrm>
            <a:custGeom>
              <a:avLst/>
              <a:gdLst/>
              <a:ahLst/>
              <a:rect l="l" t="t" r="r" b="b"/>
              <a:pathLst>
                <a:path w="441" h="147">
                  <a:moveTo>
                    <a:pt x="441" y="0"/>
                  </a:moveTo>
                  <a:lnTo>
                    <a:pt x="331" y="147"/>
                  </a:lnTo>
                  <a:lnTo>
                    <a:pt x="110" y="147"/>
                  </a:lnTo>
                  <a:lnTo>
                    <a:pt x="0" y="0"/>
                  </a:lnTo>
                  <a:lnTo>
                    <a:pt x="441" y="0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458160" y="5085000"/>
              <a:ext cx="827640" cy="300600"/>
            </a:xfrm>
            <a:custGeom>
              <a:avLst/>
              <a:gdLst/>
              <a:ahLst/>
              <a:rect l="l" t="t" r="r" b="b"/>
              <a:pathLst>
                <a:path w="441" h="147">
                  <a:moveTo>
                    <a:pt x="441" y="0"/>
                  </a:moveTo>
                  <a:lnTo>
                    <a:pt x="331" y="147"/>
                  </a:lnTo>
                  <a:lnTo>
                    <a:pt x="110" y="147"/>
                  </a:lnTo>
                  <a:lnTo>
                    <a:pt x="0" y="0"/>
                  </a:lnTo>
                  <a:lnTo>
                    <a:pt x="44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098840" y="29242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675200" y="32533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777440" y="35823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994160" y="39114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2" name=""/>
          <p:cNvSpPr/>
          <p:nvPr/>
        </p:nvSpPr>
        <p:spPr>
          <a:xfrm>
            <a:off x="1042920" y="450864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050920" y="4508640"/>
            <a:ext cx="0" cy="649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1042920" y="4508640"/>
            <a:ext cx="1008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3348000" y="4221000"/>
            <a:ext cx="0" cy="503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5435640" y="4437000"/>
            <a:ext cx="0" cy="503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4427640" y="4437000"/>
            <a:ext cx="0" cy="503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 flipH="1">
            <a:off x="5003280" y="4365720"/>
            <a:ext cx="576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851280" y="4437000"/>
            <a:ext cx="0" cy="503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6732720" y="4437000"/>
            <a:ext cx="0" cy="503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 flipH="1">
            <a:off x="7524360" y="4941720"/>
            <a:ext cx="576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tros instrument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c00"/>
                </a:solidFill>
                <a:latin typeface="Tahoma"/>
              </a:rPr>
              <a:t>Inspección sanitar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Procedimiento para pequeñas comunidades (&lt;3,000 hab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c00"/>
                </a:solidFill>
                <a:latin typeface="Tahoma"/>
              </a:rPr>
              <a:t>Evaluación del consum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ntecedent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alidad del agu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2386080" y="4896000"/>
            <a:ext cx="1374840" cy="795240"/>
          </a:xfrm>
          <a:custGeom>
            <a:avLst/>
            <a:gdLst>
              <a:gd name="textAreaLeft" fmla="*/ 302400 w 1374840"/>
              <a:gd name="textAreaRight" fmla="*/ 1072440 w 1374840"/>
              <a:gd name="textAreaTop" fmla="*/ 174600 h 795240"/>
              <a:gd name="textAreaBottom" fmla="*/ 620640 h 79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 Narrow"/>
              </a:rPr>
              <a:t>Tratamiento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01800" y="3736800"/>
            <a:ext cx="1954080" cy="687600"/>
          </a:xfrm>
          <a:prstGeom prst="can">
            <a:avLst>
              <a:gd name="adj" fmla="val 25000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Narrow"/>
              </a:rPr>
              <a:t>Fuente de abastecimien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4774680" y="3446640"/>
            <a:ext cx="1086120" cy="2063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6910560" y="3411360"/>
            <a:ext cx="976320" cy="2135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76880" y="3411360"/>
            <a:ext cx="390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76880" y="3157560"/>
            <a:ext cx="361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64120" y="3157560"/>
            <a:ext cx="1411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64400" y="3157560"/>
            <a:ext cx="723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69080" y="3157560"/>
            <a:ext cx="579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5425920" y="3040200"/>
            <a:ext cx="615960" cy="117360"/>
            <a:chOff x="5425920" y="3040200"/>
            <a:chExt cx="615960" cy="117360"/>
          </a:xfrm>
        </p:grpSpPr>
        <p:sp>
          <p:nvSpPr>
            <p:cNvPr id="94" name=""/>
            <p:cNvSpPr/>
            <p:nvPr/>
          </p:nvSpPr>
          <p:spPr>
            <a:xfrm>
              <a:off x="5425920" y="3085200"/>
              <a:ext cx="360" cy="7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041160" y="3085200"/>
              <a:ext cx="720" cy="7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425920" y="3040200"/>
              <a:ext cx="610200" cy="81360"/>
            </a:xfrm>
            <a:custGeom>
              <a:avLst/>
              <a:gdLst/>
              <a:ahLst/>
              <a:rect l="l" t="t" r="r" b="b"/>
              <a:pathLst>
                <a:path w="960" h="128">
                  <a:moveTo>
                    <a:pt x="0" y="59"/>
                  </a:moveTo>
                  <a:cubicBezTo>
                    <a:pt x="153" y="8"/>
                    <a:pt x="87" y="0"/>
                    <a:pt x="197" y="37"/>
                  </a:cubicBezTo>
                  <a:cubicBezTo>
                    <a:pt x="256" y="128"/>
                    <a:pt x="220" y="117"/>
                    <a:pt x="349" y="81"/>
                  </a:cubicBezTo>
                  <a:cubicBezTo>
                    <a:pt x="393" y="69"/>
                    <a:pt x="480" y="37"/>
                    <a:pt x="480" y="37"/>
                  </a:cubicBezTo>
                  <a:cubicBezTo>
                    <a:pt x="609" y="123"/>
                    <a:pt x="478" y="59"/>
                    <a:pt x="633" y="59"/>
                  </a:cubicBezTo>
                  <a:cubicBezTo>
                    <a:pt x="678" y="59"/>
                    <a:pt x="731" y="102"/>
                    <a:pt x="764" y="124"/>
                  </a:cubicBezTo>
                  <a:cubicBezTo>
                    <a:pt x="808" y="110"/>
                    <a:pt x="851" y="95"/>
                    <a:pt x="895" y="81"/>
                  </a:cubicBezTo>
                  <a:cubicBezTo>
                    <a:pt x="917" y="74"/>
                    <a:pt x="960" y="59"/>
                    <a:pt x="960" y="5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6402240" y="3076560"/>
            <a:ext cx="435240" cy="81000"/>
            <a:chOff x="6402240" y="3076560"/>
            <a:chExt cx="435240" cy="81000"/>
          </a:xfrm>
        </p:grpSpPr>
        <p:sp>
          <p:nvSpPr>
            <p:cNvPr id="98" name=""/>
            <p:cNvSpPr/>
            <p:nvPr/>
          </p:nvSpPr>
          <p:spPr>
            <a:xfrm>
              <a:off x="6402240" y="3107520"/>
              <a:ext cx="36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837120" y="3107520"/>
              <a:ext cx="36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402240" y="3076560"/>
              <a:ext cx="431280" cy="56160"/>
            </a:xfrm>
            <a:custGeom>
              <a:avLst/>
              <a:gdLst/>
              <a:ahLst/>
              <a:rect l="l" t="t" r="r" b="b"/>
              <a:pathLst>
                <a:path w="960" h="128">
                  <a:moveTo>
                    <a:pt x="0" y="59"/>
                  </a:moveTo>
                  <a:cubicBezTo>
                    <a:pt x="153" y="8"/>
                    <a:pt x="87" y="0"/>
                    <a:pt x="197" y="37"/>
                  </a:cubicBezTo>
                  <a:cubicBezTo>
                    <a:pt x="256" y="128"/>
                    <a:pt x="220" y="117"/>
                    <a:pt x="349" y="81"/>
                  </a:cubicBezTo>
                  <a:cubicBezTo>
                    <a:pt x="393" y="69"/>
                    <a:pt x="480" y="37"/>
                    <a:pt x="480" y="37"/>
                  </a:cubicBezTo>
                  <a:cubicBezTo>
                    <a:pt x="609" y="123"/>
                    <a:pt x="478" y="59"/>
                    <a:pt x="633" y="59"/>
                  </a:cubicBezTo>
                  <a:cubicBezTo>
                    <a:pt x="678" y="59"/>
                    <a:pt x="731" y="102"/>
                    <a:pt x="764" y="124"/>
                  </a:cubicBezTo>
                  <a:cubicBezTo>
                    <a:pt x="808" y="110"/>
                    <a:pt x="851" y="95"/>
                    <a:pt x="895" y="81"/>
                  </a:cubicBezTo>
                  <a:cubicBezTo>
                    <a:pt x="917" y="74"/>
                    <a:pt x="960" y="59"/>
                    <a:pt x="960" y="5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6483240" y="3164040"/>
            <a:ext cx="285840" cy="56880"/>
          </a:xfrm>
          <a:custGeom>
            <a:avLst/>
            <a:gdLst/>
            <a:ahLst/>
            <a:rect l="l" t="t" r="r" b="b"/>
            <a:pathLst>
              <a:path w="450" h="91">
                <a:moveTo>
                  <a:pt x="0" y="0"/>
                </a:moveTo>
                <a:cubicBezTo>
                  <a:pt x="15" y="46"/>
                  <a:pt x="1" y="64"/>
                  <a:pt x="50" y="80"/>
                </a:cubicBezTo>
                <a:cubicBezTo>
                  <a:pt x="96" y="49"/>
                  <a:pt x="137" y="47"/>
                  <a:pt x="190" y="60"/>
                </a:cubicBezTo>
                <a:cubicBezTo>
                  <a:pt x="236" y="91"/>
                  <a:pt x="236" y="79"/>
                  <a:pt x="280" y="50"/>
                </a:cubicBezTo>
                <a:cubicBezTo>
                  <a:pt x="328" y="66"/>
                  <a:pt x="373" y="56"/>
                  <a:pt x="420" y="40"/>
                </a:cubicBezTo>
                <a:cubicBezTo>
                  <a:pt x="443" y="6"/>
                  <a:pt x="432" y="18"/>
                  <a:pt x="45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37240" y="3157560"/>
            <a:ext cx="326880" cy="36360"/>
          </a:xfrm>
          <a:custGeom>
            <a:avLst/>
            <a:gdLst/>
            <a:ahLst/>
            <a:rect l="l" t="t" r="r" b="b"/>
            <a:pathLst>
              <a:path w="500" h="100">
                <a:moveTo>
                  <a:pt x="0" y="0"/>
                </a:moveTo>
                <a:cubicBezTo>
                  <a:pt x="3" y="13"/>
                  <a:pt x="0" y="30"/>
                  <a:pt x="10" y="40"/>
                </a:cubicBezTo>
                <a:cubicBezTo>
                  <a:pt x="27" y="57"/>
                  <a:pt x="59" y="48"/>
                  <a:pt x="80" y="60"/>
                </a:cubicBezTo>
                <a:cubicBezTo>
                  <a:pt x="101" y="72"/>
                  <a:pt x="140" y="100"/>
                  <a:pt x="140" y="100"/>
                </a:cubicBezTo>
                <a:cubicBezTo>
                  <a:pt x="206" y="87"/>
                  <a:pt x="219" y="80"/>
                  <a:pt x="290" y="90"/>
                </a:cubicBezTo>
                <a:cubicBezTo>
                  <a:pt x="300" y="87"/>
                  <a:pt x="311" y="85"/>
                  <a:pt x="320" y="80"/>
                </a:cubicBezTo>
                <a:cubicBezTo>
                  <a:pt x="331" y="75"/>
                  <a:pt x="339" y="65"/>
                  <a:pt x="350" y="60"/>
                </a:cubicBezTo>
                <a:cubicBezTo>
                  <a:pt x="379" y="47"/>
                  <a:pt x="410" y="40"/>
                  <a:pt x="440" y="30"/>
                </a:cubicBezTo>
                <a:cubicBezTo>
                  <a:pt x="450" y="27"/>
                  <a:pt x="460" y="23"/>
                  <a:pt x="470" y="20"/>
                </a:cubicBezTo>
                <a:cubicBezTo>
                  <a:pt x="480" y="17"/>
                  <a:pt x="500" y="10"/>
                  <a:pt x="500" y="1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486560" y="3157560"/>
            <a:ext cx="177840" cy="38160"/>
          </a:xfrm>
          <a:custGeom>
            <a:avLst/>
            <a:gdLst/>
            <a:ahLst/>
            <a:rect l="l" t="t" r="r" b="b"/>
            <a:pathLst>
              <a:path w="280" h="60">
                <a:moveTo>
                  <a:pt x="0" y="0"/>
                </a:moveTo>
                <a:cubicBezTo>
                  <a:pt x="45" y="45"/>
                  <a:pt x="17" y="26"/>
                  <a:pt x="90" y="50"/>
                </a:cubicBezTo>
                <a:cubicBezTo>
                  <a:pt x="100" y="53"/>
                  <a:pt x="120" y="60"/>
                  <a:pt x="120" y="60"/>
                </a:cubicBezTo>
                <a:cubicBezTo>
                  <a:pt x="169" y="48"/>
                  <a:pt x="250" y="40"/>
                  <a:pt x="280" y="1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91520" y="3041640"/>
            <a:ext cx="336600" cy="122400"/>
          </a:xfrm>
          <a:custGeom>
            <a:avLst/>
            <a:gdLst/>
            <a:ahLst/>
            <a:rect l="l" t="t" r="r" b="b"/>
            <a:pathLst>
              <a:path w="530" h="190">
                <a:moveTo>
                  <a:pt x="0" y="180"/>
                </a:moveTo>
                <a:cubicBezTo>
                  <a:pt x="17" y="128"/>
                  <a:pt x="0" y="103"/>
                  <a:pt x="50" y="70"/>
                </a:cubicBezTo>
                <a:cubicBezTo>
                  <a:pt x="60" y="77"/>
                  <a:pt x="71" y="82"/>
                  <a:pt x="80" y="90"/>
                </a:cubicBezTo>
                <a:cubicBezTo>
                  <a:pt x="91" y="99"/>
                  <a:pt x="96" y="118"/>
                  <a:pt x="110" y="120"/>
                </a:cubicBezTo>
                <a:cubicBezTo>
                  <a:pt x="122" y="122"/>
                  <a:pt x="130" y="107"/>
                  <a:pt x="140" y="100"/>
                </a:cubicBezTo>
                <a:cubicBezTo>
                  <a:pt x="149" y="45"/>
                  <a:pt x="146" y="18"/>
                  <a:pt x="200" y="0"/>
                </a:cubicBezTo>
                <a:cubicBezTo>
                  <a:pt x="218" y="53"/>
                  <a:pt x="204" y="21"/>
                  <a:pt x="250" y="90"/>
                </a:cubicBezTo>
                <a:cubicBezTo>
                  <a:pt x="262" y="108"/>
                  <a:pt x="310" y="110"/>
                  <a:pt x="310" y="110"/>
                </a:cubicBezTo>
                <a:cubicBezTo>
                  <a:pt x="325" y="65"/>
                  <a:pt x="318" y="43"/>
                  <a:pt x="370" y="60"/>
                </a:cubicBezTo>
                <a:cubicBezTo>
                  <a:pt x="399" y="103"/>
                  <a:pt x="410" y="102"/>
                  <a:pt x="460" y="90"/>
                </a:cubicBezTo>
                <a:cubicBezTo>
                  <a:pt x="470" y="83"/>
                  <a:pt x="478" y="67"/>
                  <a:pt x="490" y="70"/>
                </a:cubicBezTo>
                <a:cubicBezTo>
                  <a:pt x="500" y="73"/>
                  <a:pt x="495" y="91"/>
                  <a:pt x="500" y="100"/>
                </a:cubicBezTo>
                <a:cubicBezTo>
                  <a:pt x="518" y="136"/>
                  <a:pt x="530" y="148"/>
                  <a:pt x="530" y="19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29240" y="3193920"/>
            <a:ext cx="6523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Arial"/>
              </a:rPr>
              <a:t>Corrosión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89560" y="3193920"/>
            <a:ext cx="9050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Arial"/>
              </a:rPr>
              <a:t>Incrustacione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07280" y="3193920"/>
            <a:ext cx="6523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Arial"/>
              </a:rPr>
              <a:t>Corrosión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330960" y="3193920"/>
            <a:ext cx="7239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Arial"/>
              </a:rPr>
              <a:t>Biopelícula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78360" y="2403360"/>
            <a:ext cx="76032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Arial"/>
              </a:rPr>
              <a:t>Compuesto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Arial"/>
              </a:rPr>
              <a:t>Inorgánico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738680" y="2360520"/>
            <a:ext cx="723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Arial"/>
              </a:rPr>
              <a:t>Productos inorgánicos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57600" y="2687760"/>
            <a:ext cx="217440" cy="434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83040" y="2687400"/>
            <a:ext cx="7308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651640" y="2421000"/>
            <a:ext cx="6793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Arial"/>
              </a:rPr>
              <a:t>Arrastre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37200" y="2651040"/>
            <a:ext cx="6508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 Narrow"/>
              </a:rPr>
              <a:t>Compuesto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 Narrow"/>
              </a:rPr>
              <a:t>Inorgánico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80080" y="2868480"/>
            <a:ext cx="71280" cy="1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824440" y="2650680"/>
            <a:ext cx="144720" cy="39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257880" y="2360520"/>
            <a:ext cx="8683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 Narrow"/>
              </a:rPr>
              <a:t>Microorganismo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51360" y="2071800"/>
            <a:ext cx="6508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ffffff"/>
                </a:solidFill>
                <a:latin typeface="Arial Narrow"/>
              </a:rPr>
              <a:t>Compuesto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Arial"/>
              </a:rPr>
              <a:t>Orgánico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656400" y="2543040"/>
            <a:ext cx="68724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 Narrow"/>
              </a:rPr>
              <a:t>Productos microbiano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37480" y="2832120"/>
            <a:ext cx="68724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Arial"/>
              </a:rPr>
              <a:t>Arrastre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149880" y="2360520"/>
            <a:ext cx="289080" cy="68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438960" y="2506680"/>
            <a:ext cx="109440" cy="579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620040" y="2687400"/>
            <a:ext cx="72720" cy="39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729480" y="2976480"/>
            <a:ext cx="181080" cy="14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561440" y="2724120"/>
            <a:ext cx="6825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Arial"/>
              </a:rPr>
              <a:t>Arrastre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054920" y="2252520"/>
            <a:ext cx="7603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 Narrow"/>
              </a:rPr>
              <a:t>Sedimentación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380360" y="2433600"/>
            <a:ext cx="108000" cy="579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7634160" y="2904840"/>
            <a:ext cx="144720" cy="1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886880" y="2397240"/>
            <a:ext cx="7603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 Narrow"/>
              </a:rPr>
              <a:t>Arrastres de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 Narrow"/>
              </a:rPr>
              <a:t>recubrimiento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59600" y="2758680"/>
            <a:ext cx="252360" cy="39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5400000">
            <a:off x="1552320" y="4641840"/>
            <a:ext cx="833400" cy="760320"/>
          </a:xfrm>
          <a:custGeom>
            <a:avLst/>
            <a:gdLst>
              <a:gd name="textAreaLeft" fmla="*/ 243360 w 833400"/>
              <a:gd name="textAreaRight" fmla="*/ 741960 w 833400"/>
              <a:gd name="textAreaTop" fmla="*/ 410040 h 760320"/>
              <a:gd name="textAreaBottom" fmla="*/ 676800 h 760320"/>
            </a:gdLst>
            <a:ahLst/>
            <a:rect l="textAreaLeft" t="textAreaTop" r="textAreaRight" b="textAreaBottom"/>
            <a:pathLst>
              <a:path w="21600" h="21600">
                <a:moveTo>
                  <a:pt x="0" y="14022"/>
                </a:moveTo>
                <a:lnTo>
                  <a:pt x="11648" y="14022"/>
                </a:lnTo>
                <a:lnTo>
                  <a:pt x="11648" y="6311"/>
                </a:lnTo>
                <a:lnTo>
                  <a:pt x="9274" y="6311"/>
                </a:lnTo>
                <a:lnTo>
                  <a:pt x="15437" y="0"/>
                </a:lnTo>
                <a:lnTo>
                  <a:pt x="21600" y="6311"/>
                </a:lnTo>
                <a:lnTo>
                  <a:pt x="19226" y="6311"/>
                </a:lnTo>
                <a:lnTo>
                  <a:pt x="1922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46160" y="2795760"/>
            <a:ext cx="108576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Descargas puntual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98480" y="2470320"/>
            <a:ext cx="151956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Descargas no puntual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o  Difusa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81040" y="3230640"/>
            <a:ext cx="144720" cy="396720"/>
          </a:xfrm>
          <a:prstGeom prst="downArrow">
            <a:avLst>
              <a:gd name="adj1" fmla="val 50000"/>
              <a:gd name="adj2" fmla="val 6853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5400000">
            <a:off x="2059200" y="3193200"/>
            <a:ext cx="687600" cy="253800"/>
          </a:xfrm>
          <a:custGeom>
            <a:avLst/>
            <a:gdLst>
              <a:gd name="textAreaLeft" fmla="*/ 107280 w 687600"/>
              <a:gd name="textAreaRight" fmla="*/ 549000 w 687600"/>
              <a:gd name="textAreaTop" fmla="*/ 37440 h 253800"/>
              <a:gd name="textAreaBottom" fmla="*/ 216360 h 253800"/>
            </a:gdLst>
            <a:ahLst/>
            <a:rect l="textAreaLeft" t="textAreaTop" r="textAreaRight" b="textAreaBottom"/>
            <a:pathLst>
              <a:path w="21600" h="21600">
                <a:moveTo>
                  <a:pt x="3375" y="3193"/>
                </a:moveTo>
                <a:lnTo>
                  <a:pt x="15417" y="3193"/>
                </a:lnTo>
                <a:lnTo>
                  <a:pt x="15417" y="0"/>
                </a:lnTo>
                <a:lnTo>
                  <a:pt x="21600" y="10800"/>
                </a:lnTo>
                <a:lnTo>
                  <a:pt x="15417" y="21600"/>
                </a:lnTo>
                <a:lnTo>
                  <a:pt x="15417" y="18407"/>
                </a:lnTo>
                <a:lnTo>
                  <a:pt x="3375" y="18407"/>
                </a:lnTo>
                <a:close/>
              </a:path>
              <a:path w="21600" h="21600">
                <a:moveTo>
                  <a:pt x="0" y="3193"/>
                </a:moveTo>
                <a:lnTo>
                  <a:pt x="675" y="3193"/>
                </a:lnTo>
                <a:lnTo>
                  <a:pt x="675" y="18407"/>
                </a:lnTo>
                <a:lnTo>
                  <a:pt x="0" y="18407"/>
                </a:lnTo>
                <a:close/>
              </a:path>
              <a:path w="21600" h="21600">
                <a:moveTo>
                  <a:pt x="1350" y="3193"/>
                </a:moveTo>
                <a:lnTo>
                  <a:pt x="2700" y="3193"/>
                </a:lnTo>
                <a:lnTo>
                  <a:pt x="2700" y="18407"/>
                </a:lnTo>
                <a:lnTo>
                  <a:pt x="1350" y="18407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4322520" y="4727520"/>
            <a:ext cx="3257640" cy="471600"/>
            <a:chOff x="4322520" y="4727520"/>
            <a:chExt cx="3257640" cy="471600"/>
          </a:xfrm>
        </p:grpSpPr>
        <p:sp>
          <p:nvSpPr>
            <p:cNvPr id="137" name=""/>
            <p:cNvSpPr/>
            <p:nvPr/>
          </p:nvSpPr>
          <p:spPr>
            <a:xfrm>
              <a:off x="5082840" y="4727520"/>
              <a:ext cx="360" cy="47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55200" y="4727520"/>
              <a:ext cx="360" cy="39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082840" y="5198400"/>
              <a:ext cx="24973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155200" y="5125320"/>
              <a:ext cx="23886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01760" y="4727520"/>
              <a:ext cx="360" cy="47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4322880" y="5198400"/>
              <a:ext cx="57888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829400" y="4727520"/>
              <a:ext cx="360" cy="39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4322520" y="5126040"/>
              <a:ext cx="5065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322520" y="5740560"/>
            <a:ext cx="3257640" cy="469800"/>
            <a:chOff x="4322520" y="5740560"/>
            <a:chExt cx="3257640" cy="469800"/>
          </a:xfrm>
        </p:grpSpPr>
        <p:sp>
          <p:nvSpPr>
            <p:cNvPr id="146" name=""/>
            <p:cNvSpPr/>
            <p:nvPr/>
          </p:nvSpPr>
          <p:spPr>
            <a:xfrm>
              <a:off x="5082840" y="5740920"/>
              <a:ext cx="360" cy="46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55200" y="5813280"/>
              <a:ext cx="360" cy="3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082840" y="5740560"/>
              <a:ext cx="24973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155200" y="5812560"/>
              <a:ext cx="23886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901760" y="5740920"/>
              <a:ext cx="360" cy="46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4322880" y="5740920"/>
              <a:ext cx="57888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829400" y="5813280"/>
              <a:ext cx="360" cy="3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4322520" y="5813280"/>
              <a:ext cx="5065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5227560" y="5234040"/>
            <a:ext cx="579600" cy="485640"/>
          </a:xfrm>
          <a:prstGeom prst="rightArrow">
            <a:avLst>
              <a:gd name="adj1" fmla="val 50000"/>
              <a:gd name="adj2" fmla="val 29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326360" y="5234040"/>
            <a:ext cx="542880" cy="485640"/>
          </a:xfrm>
          <a:prstGeom prst="rightArrow">
            <a:avLst>
              <a:gd name="adj1" fmla="val 50000"/>
              <a:gd name="adj2" fmla="val 2794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780000" y="5164200"/>
            <a:ext cx="525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Arial"/>
              </a:rPr>
              <a:t>Agua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Arial"/>
              </a:rPr>
              <a:t>tratada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49800" y="5197320"/>
            <a:ext cx="8143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Arial"/>
              </a:rPr>
              <a:t>Compuesto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Arial"/>
              </a:rPr>
              <a:t>soluble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286160" y="5522760"/>
            <a:ext cx="723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Arial"/>
              </a:rPr>
              <a:t>Partícula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08720" y="5378400"/>
            <a:ext cx="64800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Arial"/>
              </a:rPr>
              <a:t>SALIDA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40320" y="4365720"/>
            <a:ext cx="9414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Arial"/>
              </a:rPr>
              <a:t>Tanques de almacenamient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76680" y="6283440"/>
            <a:ext cx="9399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Arial"/>
              </a:rPr>
              <a:t>Interconexione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91200" y="5378400"/>
            <a:ext cx="6523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 Narrow"/>
              </a:rPr>
              <a:t>ENTRADA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5154480" y="5016240"/>
            <a:ext cx="254160" cy="25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5154480" y="5016240"/>
            <a:ext cx="290520" cy="29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264280" y="4835520"/>
            <a:ext cx="8920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Arial"/>
              </a:rPr>
              <a:t>Infiltracione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21405000">
            <a:off x="4973400" y="5092200"/>
            <a:ext cx="145800" cy="252720"/>
          </a:xfrm>
          <a:custGeom>
            <a:avLst/>
            <a:gdLst/>
            <a:ahLst/>
            <a:rect l="l" t="t" r="r" b="b"/>
            <a:pathLst>
              <a:path w="408" h="399">
                <a:moveTo>
                  <a:pt x="9" y="0"/>
                </a:moveTo>
                <a:cubicBezTo>
                  <a:pt x="4" y="109"/>
                  <a:pt x="0" y="219"/>
                  <a:pt x="66" y="285"/>
                </a:cubicBezTo>
                <a:cubicBezTo>
                  <a:pt x="132" y="351"/>
                  <a:pt x="351" y="380"/>
                  <a:pt x="408" y="39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973760" y="5595840"/>
            <a:ext cx="163440" cy="289080"/>
          </a:xfrm>
          <a:custGeom>
            <a:avLst/>
            <a:gdLst/>
            <a:ahLst/>
            <a:rect l="l" t="t" r="r" b="b"/>
            <a:pathLst>
              <a:path w="199" h="570">
                <a:moveTo>
                  <a:pt x="28" y="570"/>
                </a:moveTo>
                <a:cubicBezTo>
                  <a:pt x="14" y="446"/>
                  <a:pt x="0" y="323"/>
                  <a:pt x="28" y="228"/>
                </a:cubicBezTo>
                <a:cubicBezTo>
                  <a:pt x="56" y="133"/>
                  <a:pt x="127" y="66"/>
                  <a:pt x="199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940360" y="5589720"/>
            <a:ext cx="1049400" cy="433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Arial"/>
              </a:rPr>
              <a:t>Transformaciones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Arial"/>
              </a:rPr>
              <a:t>en la par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956720" y="5373720"/>
            <a:ext cx="7966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Consum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770440" y="5197320"/>
            <a:ext cx="170028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ffffff"/>
                </a:solidFill>
                <a:latin typeface="Arial"/>
              </a:rPr>
              <a:t>Cloro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ffffff"/>
                </a:solidFill>
                <a:latin typeface="Arial"/>
              </a:rPr>
              <a:t>Microorganismos viables/no viables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ffffff"/>
                </a:solidFill>
                <a:latin typeface="Arial"/>
              </a:rPr>
              <a:t>Compuestos orgánicos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943440" y="5526000"/>
            <a:ext cx="112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244000" y="5734080"/>
            <a:ext cx="325440" cy="361800"/>
          </a:xfrm>
          <a:custGeom>
            <a:avLst/>
            <a:gdLst>
              <a:gd name="textAreaLeft" fmla="*/ 71640 w 325440"/>
              <a:gd name="textAreaRight" fmla="*/ 253800 w 325440"/>
              <a:gd name="textAreaTop" fmla="*/ 79560 h 361800"/>
              <a:gd name="textAreaBottom" fmla="*/ 282240 h 36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278920" y="5848200"/>
            <a:ext cx="253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87880" y="4546440"/>
            <a:ext cx="10130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Distribució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0" y="6219720"/>
            <a:ext cx="367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Fuente: adaptado de Grayman et al., 2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8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Modelo calidad del agua (EPANET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2"/>
          <a:stretch/>
        </p:blipFill>
        <p:spPr>
          <a:xfrm>
            <a:off x="4356000" y="1557360"/>
            <a:ext cx="3961080" cy="2690640"/>
          </a:xfrm>
          <a:prstGeom prst="rect">
            <a:avLst/>
          </a:prstGeom>
          <a:ln w="0">
            <a:noFill/>
          </a:ln>
        </p:spPr>
      </p:pic>
      <p:pic>
        <p:nvPicPr>
          <p:cNvPr id="716" name="" descr=""/>
          <p:cNvPicPr/>
          <p:nvPr/>
        </p:nvPicPr>
        <p:blipFill>
          <a:blip r:embed="rId3"/>
          <a:stretch/>
        </p:blipFill>
        <p:spPr>
          <a:xfrm>
            <a:off x="1042920" y="1628640"/>
            <a:ext cx="2735280" cy="2403720"/>
          </a:xfrm>
          <a:prstGeom prst="rect">
            <a:avLst/>
          </a:prstGeom>
          <a:ln w="0">
            <a:noFill/>
          </a:ln>
        </p:spPr>
      </p:pic>
      <p:pic>
        <p:nvPicPr>
          <p:cNvPr id="717" name="" descr=""/>
          <p:cNvPicPr/>
          <p:nvPr/>
        </p:nvPicPr>
        <p:blipFill>
          <a:blip r:embed="rId4"/>
          <a:stretch/>
        </p:blipFill>
        <p:spPr>
          <a:xfrm>
            <a:off x="2916360" y="3284640"/>
            <a:ext cx="2412720" cy="2636640"/>
          </a:xfrm>
          <a:prstGeom prst="rect">
            <a:avLst/>
          </a:prstGeom>
          <a:ln w="0">
            <a:noFill/>
          </a:ln>
        </p:spPr>
      </p:pic>
      <p:pic>
        <p:nvPicPr>
          <p:cNvPr id="718" name="" descr=""/>
          <p:cNvPicPr/>
          <p:nvPr/>
        </p:nvPicPr>
        <p:blipFill>
          <a:blip r:embed="rId5"/>
          <a:stretch/>
        </p:blipFill>
        <p:spPr>
          <a:xfrm>
            <a:off x="5408640" y="4321080"/>
            <a:ext cx="2187720" cy="220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5ffff"/>
                </a:solidFill>
                <a:latin typeface="Tahoma"/>
              </a:rPr>
              <a:t>Concepto Multibarrera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1362240" y="5148360"/>
            <a:ext cx="69228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 Narrow"/>
              </a:rPr>
              <a:t>MANEJO INTEGRAL DE LA CALIDAD DEL AGUA PO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044720" y="2808360"/>
            <a:ext cx="14396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</a:rPr>
              <a:t>Riesgo  a la Salu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104240" y="4156200"/>
            <a:ext cx="1376280" cy="6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 Narrow"/>
              </a:rPr>
              <a:t>Consumo Segur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49600" y="2378160"/>
            <a:ext cx="1309680" cy="2398680"/>
          </a:xfrm>
          <a:prstGeom prst="cube">
            <a:avLst>
              <a:gd name="adj" fmla="val 5888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368960" y="2378160"/>
            <a:ext cx="1198440" cy="2398680"/>
          </a:xfrm>
          <a:prstGeom prst="cube">
            <a:avLst>
              <a:gd name="adj" fmla="val 58884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186520" y="2378160"/>
            <a:ext cx="1198440" cy="2398680"/>
          </a:xfrm>
          <a:prstGeom prst="cube">
            <a:avLst>
              <a:gd name="adj" fmla="val 588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776680" y="3444840"/>
            <a:ext cx="763560" cy="733320"/>
          </a:xfrm>
          <a:prstGeom prst="rightArrow">
            <a:avLst>
              <a:gd name="adj1" fmla="val 50000"/>
              <a:gd name="adj2" fmla="val 26031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16200000">
            <a:off x="3113280" y="3735360"/>
            <a:ext cx="1420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 Narrow"/>
              </a:rPr>
              <a:t>Protección de la Fu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rot="16200000">
            <a:off x="3886920" y="3608640"/>
            <a:ext cx="1584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 Narrow"/>
              </a:rPr>
              <a:t>Potabiliz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16200000">
            <a:off x="4632480" y="3657600"/>
            <a:ext cx="1527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 Narrow"/>
              </a:rPr>
              <a:t>Sistema de Distribu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948280" y="3305160"/>
            <a:ext cx="982800" cy="817560"/>
          </a:xfrm>
          <a:prstGeom prst="rightArrow">
            <a:avLst>
              <a:gd name="adj1" fmla="val 50000"/>
              <a:gd name="adj2" fmla="val 30053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7277040" y="2770200"/>
            <a:ext cx="1211400" cy="12128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871560" y="3402000"/>
            <a:ext cx="1738440" cy="144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e5ffff"/>
                </a:solidFill>
                <a:latin typeface="Tahoma"/>
              </a:rPr>
              <a:t>Esquema de manejo bajo el concepto de multibarrera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474840" y="2071800"/>
            <a:ext cx="8070840" cy="4254120"/>
            <a:chOff x="474840" y="2071800"/>
            <a:chExt cx="8070840" cy="4254120"/>
          </a:xfrm>
        </p:grpSpPr>
        <p:sp>
          <p:nvSpPr>
            <p:cNvPr id="192" name=""/>
            <p:cNvSpPr/>
            <p:nvPr/>
          </p:nvSpPr>
          <p:spPr>
            <a:xfrm>
              <a:off x="509760" y="20718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74840" y="2082600"/>
              <a:ext cx="8070840" cy="4243320"/>
            </a:xfrm>
            <a:custGeom>
              <a:avLst/>
              <a:gdLst/>
              <a:ahLst/>
              <a:rect l="l" t="t" r="r" b="b"/>
              <a:pathLst>
                <a:path w="5084" h="2675">
                  <a:moveTo>
                    <a:pt x="2542" y="0"/>
                  </a:moveTo>
                  <a:lnTo>
                    <a:pt x="2411" y="2"/>
                  </a:lnTo>
                  <a:lnTo>
                    <a:pt x="2282" y="7"/>
                  </a:lnTo>
                  <a:lnTo>
                    <a:pt x="2155" y="15"/>
                  </a:lnTo>
                  <a:lnTo>
                    <a:pt x="2029" y="27"/>
                  </a:lnTo>
                  <a:lnTo>
                    <a:pt x="1906" y="42"/>
                  </a:lnTo>
                  <a:lnTo>
                    <a:pt x="1786" y="61"/>
                  </a:lnTo>
                  <a:lnTo>
                    <a:pt x="1668" y="81"/>
                  </a:lnTo>
                  <a:lnTo>
                    <a:pt x="1553" y="105"/>
                  </a:lnTo>
                  <a:lnTo>
                    <a:pt x="1439" y="132"/>
                  </a:lnTo>
                  <a:lnTo>
                    <a:pt x="1331" y="161"/>
                  </a:lnTo>
                  <a:lnTo>
                    <a:pt x="1224" y="193"/>
                  </a:lnTo>
                  <a:lnTo>
                    <a:pt x="1121" y="228"/>
                  </a:lnTo>
                  <a:lnTo>
                    <a:pt x="1070" y="247"/>
                  </a:lnTo>
                  <a:lnTo>
                    <a:pt x="1021" y="266"/>
                  </a:lnTo>
                  <a:lnTo>
                    <a:pt x="973" y="286"/>
                  </a:lnTo>
                  <a:lnTo>
                    <a:pt x="926" y="306"/>
                  </a:lnTo>
                  <a:lnTo>
                    <a:pt x="879" y="326"/>
                  </a:lnTo>
                  <a:lnTo>
                    <a:pt x="833" y="348"/>
                  </a:lnTo>
                  <a:lnTo>
                    <a:pt x="788" y="369"/>
                  </a:lnTo>
                  <a:lnTo>
                    <a:pt x="745" y="392"/>
                  </a:lnTo>
                  <a:lnTo>
                    <a:pt x="702" y="415"/>
                  </a:lnTo>
                  <a:lnTo>
                    <a:pt x="661" y="439"/>
                  </a:lnTo>
                  <a:lnTo>
                    <a:pt x="619" y="462"/>
                  </a:lnTo>
                  <a:lnTo>
                    <a:pt x="581" y="487"/>
                  </a:lnTo>
                  <a:lnTo>
                    <a:pt x="542" y="511"/>
                  </a:lnTo>
                  <a:lnTo>
                    <a:pt x="506" y="537"/>
                  </a:lnTo>
                  <a:lnTo>
                    <a:pt x="470" y="563"/>
                  </a:lnTo>
                  <a:lnTo>
                    <a:pt x="435" y="589"/>
                  </a:lnTo>
                  <a:lnTo>
                    <a:pt x="400" y="616"/>
                  </a:lnTo>
                  <a:lnTo>
                    <a:pt x="368" y="644"/>
                  </a:lnTo>
                  <a:lnTo>
                    <a:pt x="337" y="672"/>
                  </a:lnTo>
                  <a:lnTo>
                    <a:pt x="306" y="700"/>
                  </a:lnTo>
                  <a:lnTo>
                    <a:pt x="278" y="728"/>
                  </a:lnTo>
                  <a:lnTo>
                    <a:pt x="250" y="758"/>
                  </a:lnTo>
                  <a:lnTo>
                    <a:pt x="225" y="787"/>
                  </a:lnTo>
                  <a:lnTo>
                    <a:pt x="199" y="817"/>
                  </a:lnTo>
                  <a:lnTo>
                    <a:pt x="177" y="846"/>
                  </a:lnTo>
                  <a:lnTo>
                    <a:pt x="154" y="877"/>
                  </a:lnTo>
                  <a:lnTo>
                    <a:pt x="134" y="908"/>
                  </a:lnTo>
                  <a:lnTo>
                    <a:pt x="114" y="939"/>
                  </a:lnTo>
                  <a:lnTo>
                    <a:pt x="96" y="971"/>
                  </a:lnTo>
                  <a:lnTo>
                    <a:pt x="80" y="1003"/>
                  </a:lnTo>
                  <a:lnTo>
                    <a:pt x="66" y="1035"/>
                  </a:lnTo>
                  <a:lnTo>
                    <a:pt x="52" y="1068"/>
                  </a:lnTo>
                  <a:lnTo>
                    <a:pt x="40" y="1100"/>
                  </a:lnTo>
                  <a:lnTo>
                    <a:pt x="29" y="1133"/>
                  </a:lnTo>
                  <a:lnTo>
                    <a:pt x="20" y="1167"/>
                  </a:lnTo>
                  <a:lnTo>
                    <a:pt x="13" y="1200"/>
                  </a:lnTo>
                  <a:lnTo>
                    <a:pt x="8" y="1234"/>
                  </a:lnTo>
                  <a:lnTo>
                    <a:pt x="3" y="1269"/>
                  </a:lnTo>
                  <a:lnTo>
                    <a:pt x="1" y="1302"/>
                  </a:lnTo>
                  <a:lnTo>
                    <a:pt x="0" y="1337"/>
                  </a:lnTo>
                  <a:lnTo>
                    <a:pt x="1" y="1372"/>
                  </a:lnTo>
                  <a:lnTo>
                    <a:pt x="3" y="1405"/>
                  </a:lnTo>
                  <a:lnTo>
                    <a:pt x="8" y="1440"/>
                  </a:lnTo>
                  <a:lnTo>
                    <a:pt x="13" y="1474"/>
                  </a:lnTo>
                  <a:lnTo>
                    <a:pt x="20" y="1507"/>
                  </a:lnTo>
                  <a:lnTo>
                    <a:pt x="29" y="1541"/>
                  </a:lnTo>
                  <a:lnTo>
                    <a:pt x="40" y="1574"/>
                  </a:lnTo>
                  <a:lnTo>
                    <a:pt x="52" y="1607"/>
                  </a:lnTo>
                  <a:lnTo>
                    <a:pt x="66" y="1639"/>
                  </a:lnTo>
                  <a:lnTo>
                    <a:pt x="80" y="1671"/>
                  </a:lnTo>
                  <a:lnTo>
                    <a:pt x="96" y="1703"/>
                  </a:lnTo>
                  <a:lnTo>
                    <a:pt x="114" y="1735"/>
                  </a:lnTo>
                  <a:lnTo>
                    <a:pt x="134" y="1766"/>
                  </a:lnTo>
                  <a:lnTo>
                    <a:pt x="154" y="1797"/>
                  </a:lnTo>
                  <a:lnTo>
                    <a:pt x="177" y="1828"/>
                  </a:lnTo>
                  <a:lnTo>
                    <a:pt x="199" y="1857"/>
                  </a:lnTo>
                  <a:lnTo>
                    <a:pt x="225" y="1888"/>
                  </a:lnTo>
                  <a:lnTo>
                    <a:pt x="250" y="1918"/>
                  </a:lnTo>
                  <a:lnTo>
                    <a:pt x="278" y="1946"/>
                  </a:lnTo>
                  <a:lnTo>
                    <a:pt x="306" y="1975"/>
                  </a:lnTo>
                  <a:lnTo>
                    <a:pt x="337" y="2003"/>
                  </a:lnTo>
                  <a:lnTo>
                    <a:pt x="368" y="2030"/>
                  </a:lnTo>
                  <a:lnTo>
                    <a:pt x="400" y="2058"/>
                  </a:lnTo>
                  <a:lnTo>
                    <a:pt x="435" y="2085"/>
                  </a:lnTo>
                  <a:lnTo>
                    <a:pt x="470" y="2112"/>
                  </a:lnTo>
                  <a:lnTo>
                    <a:pt x="506" y="2138"/>
                  </a:lnTo>
                  <a:lnTo>
                    <a:pt x="542" y="2163"/>
                  </a:lnTo>
                  <a:lnTo>
                    <a:pt x="581" y="2188"/>
                  </a:lnTo>
                  <a:lnTo>
                    <a:pt x="619" y="2213"/>
                  </a:lnTo>
                  <a:lnTo>
                    <a:pt x="661" y="2237"/>
                  </a:lnTo>
                  <a:lnTo>
                    <a:pt x="702" y="2261"/>
                  </a:lnTo>
                  <a:lnTo>
                    <a:pt x="745" y="2284"/>
                  </a:lnTo>
                  <a:lnTo>
                    <a:pt x="788" y="2305"/>
                  </a:lnTo>
                  <a:lnTo>
                    <a:pt x="833" y="2328"/>
                  </a:lnTo>
                  <a:lnTo>
                    <a:pt x="879" y="2349"/>
                  </a:lnTo>
                  <a:lnTo>
                    <a:pt x="926" y="2369"/>
                  </a:lnTo>
                  <a:lnTo>
                    <a:pt x="973" y="2390"/>
                  </a:lnTo>
                  <a:lnTo>
                    <a:pt x="1021" y="2410"/>
                  </a:lnTo>
                  <a:lnTo>
                    <a:pt x="1070" y="2428"/>
                  </a:lnTo>
                  <a:lnTo>
                    <a:pt x="1121" y="2447"/>
                  </a:lnTo>
                  <a:lnTo>
                    <a:pt x="1224" y="2481"/>
                  </a:lnTo>
                  <a:lnTo>
                    <a:pt x="1331" y="2514"/>
                  </a:lnTo>
                  <a:lnTo>
                    <a:pt x="1439" y="2544"/>
                  </a:lnTo>
                  <a:lnTo>
                    <a:pt x="1553" y="2571"/>
                  </a:lnTo>
                  <a:lnTo>
                    <a:pt x="1668" y="2593"/>
                  </a:lnTo>
                  <a:lnTo>
                    <a:pt x="1786" y="2615"/>
                  </a:lnTo>
                  <a:lnTo>
                    <a:pt x="1906" y="2634"/>
                  </a:lnTo>
                  <a:lnTo>
                    <a:pt x="2029" y="2648"/>
                  </a:lnTo>
                  <a:lnTo>
                    <a:pt x="2155" y="2660"/>
                  </a:lnTo>
                  <a:lnTo>
                    <a:pt x="2282" y="2668"/>
                  </a:lnTo>
                  <a:lnTo>
                    <a:pt x="2411" y="2674"/>
                  </a:lnTo>
                  <a:lnTo>
                    <a:pt x="2542" y="2675"/>
                  </a:lnTo>
                  <a:lnTo>
                    <a:pt x="2673" y="2674"/>
                  </a:lnTo>
                  <a:lnTo>
                    <a:pt x="2801" y="2668"/>
                  </a:lnTo>
                  <a:lnTo>
                    <a:pt x="2930" y="2660"/>
                  </a:lnTo>
                  <a:lnTo>
                    <a:pt x="3054" y="2648"/>
                  </a:lnTo>
                  <a:lnTo>
                    <a:pt x="3177" y="2634"/>
                  </a:lnTo>
                  <a:lnTo>
                    <a:pt x="3298" y="2615"/>
                  </a:lnTo>
                  <a:lnTo>
                    <a:pt x="3417" y="2593"/>
                  </a:lnTo>
                  <a:lnTo>
                    <a:pt x="3532" y="2571"/>
                  </a:lnTo>
                  <a:lnTo>
                    <a:pt x="3644" y="2544"/>
                  </a:lnTo>
                  <a:lnTo>
                    <a:pt x="3754" y="2514"/>
                  </a:lnTo>
                  <a:lnTo>
                    <a:pt x="3861" y="2481"/>
                  </a:lnTo>
                  <a:lnTo>
                    <a:pt x="3964" y="2447"/>
                  </a:lnTo>
                  <a:lnTo>
                    <a:pt x="4013" y="2428"/>
                  </a:lnTo>
                  <a:lnTo>
                    <a:pt x="4063" y="2410"/>
                  </a:lnTo>
                  <a:lnTo>
                    <a:pt x="4111" y="2390"/>
                  </a:lnTo>
                  <a:lnTo>
                    <a:pt x="4159" y="2369"/>
                  </a:lnTo>
                  <a:lnTo>
                    <a:pt x="4206" y="2349"/>
                  </a:lnTo>
                  <a:lnTo>
                    <a:pt x="4251" y="2328"/>
                  </a:lnTo>
                  <a:lnTo>
                    <a:pt x="4296" y="2305"/>
                  </a:lnTo>
                  <a:lnTo>
                    <a:pt x="4340" y="2284"/>
                  </a:lnTo>
                  <a:lnTo>
                    <a:pt x="4383" y="2261"/>
                  </a:lnTo>
                  <a:lnTo>
                    <a:pt x="4424" y="2237"/>
                  </a:lnTo>
                  <a:lnTo>
                    <a:pt x="4464" y="2213"/>
                  </a:lnTo>
                  <a:lnTo>
                    <a:pt x="4503" y="2188"/>
                  </a:lnTo>
                  <a:lnTo>
                    <a:pt x="4542" y="2163"/>
                  </a:lnTo>
                  <a:lnTo>
                    <a:pt x="4579" y="2138"/>
                  </a:lnTo>
                  <a:lnTo>
                    <a:pt x="4615" y="2112"/>
                  </a:lnTo>
                  <a:lnTo>
                    <a:pt x="4650" y="2085"/>
                  </a:lnTo>
                  <a:lnTo>
                    <a:pt x="4684" y="2058"/>
                  </a:lnTo>
                  <a:lnTo>
                    <a:pt x="4716" y="2030"/>
                  </a:lnTo>
                  <a:lnTo>
                    <a:pt x="4746" y="2003"/>
                  </a:lnTo>
                  <a:lnTo>
                    <a:pt x="4777" y="1975"/>
                  </a:lnTo>
                  <a:lnTo>
                    <a:pt x="4805" y="1946"/>
                  </a:lnTo>
                  <a:lnTo>
                    <a:pt x="4833" y="1918"/>
                  </a:lnTo>
                  <a:lnTo>
                    <a:pt x="4859" y="1888"/>
                  </a:lnTo>
                  <a:lnTo>
                    <a:pt x="4884" y="1857"/>
                  </a:lnTo>
                  <a:lnTo>
                    <a:pt x="4907" y="1828"/>
                  </a:lnTo>
                  <a:lnTo>
                    <a:pt x="4930" y="1797"/>
                  </a:lnTo>
                  <a:lnTo>
                    <a:pt x="4950" y="1766"/>
                  </a:lnTo>
                  <a:lnTo>
                    <a:pt x="4970" y="1735"/>
                  </a:lnTo>
                  <a:lnTo>
                    <a:pt x="4987" y="1703"/>
                  </a:lnTo>
                  <a:lnTo>
                    <a:pt x="5003" y="1671"/>
                  </a:lnTo>
                  <a:lnTo>
                    <a:pt x="5018" y="1639"/>
                  </a:lnTo>
                  <a:lnTo>
                    <a:pt x="5031" y="1607"/>
                  </a:lnTo>
                  <a:lnTo>
                    <a:pt x="5043" y="1574"/>
                  </a:lnTo>
                  <a:lnTo>
                    <a:pt x="5054" y="1541"/>
                  </a:lnTo>
                  <a:lnTo>
                    <a:pt x="5063" y="1507"/>
                  </a:lnTo>
                  <a:lnTo>
                    <a:pt x="5070" y="1474"/>
                  </a:lnTo>
                  <a:lnTo>
                    <a:pt x="5076" y="1440"/>
                  </a:lnTo>
                  <a:lnTo>
                    <a:pt x="5081" y="1405"/>
                  </a:lnTo>
                  <a:lnTo>
                    <a:pt x="5082" y="1372"/>
                  </a:lnTo>
                  <a:lnTo>
                    <a:pt x="5084" y="1337"/>
                  </a:lnTo>
                  <a:lnTo>
                    <a:pt x="5082" y="1302"/>
                  </a:lnTo>
                  <a:lnTo>
                    <a:pt x="5081" y="1269"/>
                  </a:lnTo>
                  <a:lnTo>
                    <a:pt x="5076" y="1234"/>
                  </a:lnTo>
                  <a:lnTo>
                    <a:pt x="5070" y="1200"/>
                  </a:lnTo>
                  <a:lnTo>
                    <a:pt x="5063" y="1167"/>
                  </a:lnTo>
                  <a:lnTo>
                    <a:pt x="5054" y="1133"/>
                  </a:lnTo>
                  <a:lnTo>
                    <a:pt x="5043" y="1100"/>
                  </a:lnTo>
                  <a:lnTo>
                    <a:pt x="5031" y="1068"/>
                  </a:lnTo>
                  <a:lnTo>
                    <a:pt x="5018" y="1035"/>
                  </a:lnTo>
                  <a:lnTo>
                    <a:pt x="5003" y="1003"/>
                  </a:lnTo>
                  <a:lnTo>
                    <a:pt x="4987" y="971"/>
                  </a:lnTo>
                  <a:lnTo>
                    <a:pt x="4970" y="939"/>
                  </a:lnTo>
                  <a:lnTo>
                    <a:pt x="4950" y="908"/>
                  </a:lnTo>
                  <a:lnTo>
                    <a:pt x="4930" y="877"/>
                  </a:lnTo>
                  <a:lnTo>
                    <a:pt x="4907" y="846"/>
                  </a:lnTo>
                  <a:lnTo>
                    <a:pt x="4884" y="817"/>
                  </a:lnTo>
                  <a:lnTo>
                    <a:pt x="4859" y="787"/>
                  </a:lnTo>
                  <a:lnTo>
                    <a:pt x="4833" y="758"/>
                  </a:lnTo>
                  <a:lnTo>
                    <a:pt x="4805" y="728"/>
                  </a:lnTo>
                  <a:lnTo>
                    <a:pt x="4777" y="700"/>
                  </a:lnTo>
                  <a:lnTo>
                    <a:pt x="4746" y="672"/>
                  </a:lnTo>
                  <a:lnTo>
                    <a:pt x="4716" y="644"/>
                  </a:lnTo>
                  <a:lnTo>
                    <a:pt x="4684" y="616"/>
                  </a:lnTo>
                  <a:lnTo>
                    <a:pt x="4650" y="589"/>
                  </a:lnTo>
                  <a:lnTo>
                    <a:pt x="4615" y="563"/>
                  </a:lnTo>
                  <a:lnTo>
                    <a:pt x="4579" y="537"/>
                  </a:lnTo>
                  <a:lnTo>
                    <a:pt x="4542" y="511"/>
                  </a:lnTo>
                  <a:lnTo>
                    <a:pt x="4503" y="487"/>
                  </a:lnTo>
                  <a:lnTo>
                    <a:pt x="4464" y="462"/>
                  </a:lnTo>
                  <a:lnTo>
                    <a:pt x="4424" y="439"/>
                  </a:lnTo>
                  <a:lnTo>
                    <a:pt x="4383" y="415"/>
                  </a:lnTo>
                  <a:lnTo>
                    <a:pt x="4340" y="392"/>
                  </a:lnTo>
                  <a:lnTo>
                    <a:pt x="4296" y="369"/>
                  </a:lnTo>
                  <a:lnTo>
                    <a:pt x="4251" y="348"/>
                  </a:lnTo>
                  <a:lnTo>
                    <a:pt x="4206" y="326"/>
                  </a:lnTo>
                  <a:lnTo>
                    <a:pt x="4159" y="306"/>
                  </a:lnTo>
                  <a:lnTo>
                    <a:pt x="4111" y="286"/>
                  </a:lnTo>
                  <a:lnTo>
                    <a:pt x="4063" y="266"/>
                  </a:lnTo>
                  <a:lnTo>
                    <a:pt x="4013" y="247"/>
                  </a:lnTo>
                  <a:lnTo>
                    <a:pt x="3964" y="228"/>
                  </a:lnTo>
                  <a:lnTo>
                    <a:pt x="3861" y="193"/>
                  </a:lnTo>
                  <a:lnTo>
                    <a:pt x="3754" y="161"/>
                  </a:lnTo>
                  <a:lnTo>
                    <a:pt x="3644" y="132"/>
                  </a:lnTo>
                  <a:lnTo>
                    <a:pt x="3532" y="105"/>
                  </a:lnTo>
                  <a:lnTo>
                    <a:pt x="3417" y="81"/>
                  </a:lnTo>
                  <a:lnTo>
                    <a:pt x="3298" y="61"/>
                  </a:lnTo>
                  <a:lnTo>
                    <a:pt x="3177" y="42"/>
                  </a:lnTo>
                  <a:lnTo>
                    <a:pt x="3054" y="27"/>
                  </a:lnTo>
                  <a:lnTo>
                    <a:pt x="2930" y="15"/>
                  </a:lnTo>
                  <a:lnTo>
                    <a:pt x="2801" y="7"/>
                  </a:lnTo>
                  <a:lnTo>
                    <a:pt x="2673" y="2"/>
                  </a:lnTo>
                  <a:lnTo>
                    <a:pt x="2542" y="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74840" y="2082600"/>
              <a:ext cx="8070840" cy="4243320"/>
            </a:xfrm>
            <a:custGeom>
              <a:avLst/>
              <a:gdLst/>
              <a:ahLst/>
              <a:rect l="l" t="t" r="r" b="b"/>
              <a:pathLst>
                <a:path w="5084" h="2675">
                  <a:moveTo>
                    <a:pt x="2542" y="0"/>
                  </a:moveTo>
                  <a:lnTo>
                    <a:pt x="2411" y="2"/>
                  </a:lnTo>
                  <a:lnTo>
                    <a:pt x="2282" y="7"/>
                  </a:lnTo>
                  <a:lnTo>
                    <a:pt x="2155" y="15"/>
                  </a:lnTo>
                  <a:lnTo>
                    <a:pt x="2029" y="27"/>
                  </a:lnTo>
                  <a:lnTo>
                    <a:pt x="1906" y="42"/>
                  </a:lnTo>
                  <a:lnTo>
                    <a:pt x="1786" y="61"/>
                  </a:lnTo>
                  <a:lnTo>
                    <a:pt x="1668" y="81"/>
                  </a:lnTo>
                  <a:lnTo>
                    <a:pt x="1553" y="105"/>
                  </a:lnTo>
                  <a:lnTo>
                    <a:pt x="1439" y="132"/>
                  </a:lnTo>
                  <a:lnTo>
                    <a:pt x="1331" y="161"/>
                  </a:lnTo>
                  <a:lnTo>
                    <a:pt x="1224" y="193"/>
                  </a:lnTo>
                  <a:lnTo>
                    <a:pt x="1121" y="228"/>
                  </a:lnTo>
                  <a:lnTo>
                    <a:pt x="1070" y="247"/>
                  </a:lnTo>
                  <a:lnTo>
                    <a:pt x="1021" y="266"/>
                  </a:lnTo>
                  <a:lnTo>
                    <a:pt x="973" y="286"/>
                  </a:lnTo>
                  <a:lnTo>
                    <a:pt x="926" y="306"/>
                  </a:lnTo>
                  <a:lnTo>
                    <a:pt x="879" y="326"/>
                  </a:lnTo>
                  <a:lnTo>
                    <a:pt x="833" y="348"/>
                  </a:lnTo>
                  <a:lnTo>
                    <a:pt x="788" y="369"/>
                  </a:lnTo>
                  <a:lnTo>
                    <a:pt x="745" y="392"/>
                  </a:lnTo>
                  <a:lnTo>
                    <a:pt x="702" y="415"/>
                  </a:lnTo>
                  <a:lnTo>
                    <a:pt x="661" y="439"/>
                  </a:lnTo>
                  <a:lnTo>
                    <a:pt x="619" y="462"/>
                  </a:lnTo>
                  <a:lnTo>
                    <a:pt x="581" y="487"/>
                  </a:lnTo>
                  <a:lnTo>
                    <a:pt x="542" y="511"/>
                  </a:lnTo>
                  <a:lnTo>
                    <a:pt x="506" y="537"/>
                  </a:lnTo>
                  <a:lnTo>
                    <a:pt x="470" y="563"/>
                  </a:lnTo>
                  <a:lnTo>
                    <a:pt x="435" y="589"/>
                  </a:lnTo>
                  <a:lnTo>
                    <a:pt x="400" y="616"/>
                  </a:lnTo>
                  <a:lnTo>
                    <a:pt x="368" y="644"/>
                  </a:lnTo>
                  <a:lnTo>
                    <a:pt x="337" y="672"/>
                  </a:lnTo>
                  <a:lnTo>
                    <a:pt x="306" y="700"/>
                  </a:lnTo>
                  <a:lnTo>
                    <a:pt x="278" y="728"/>
                  </a:lnTo>
                  <a:lnTo>
                    <a:pt x="250" y="758"/>
                  </a:lnTo>
                  <a:lnTo>
                    <a:pt x="225" y="787"/>
                  </a:lnTo>
                  <a:lnTo>
                    <a:pt x="199" y="817"/>
                  </a:lnTo>
                  <a:lnTo>
                    <a:pt x="177" y="846"/>
                  </a:lnTo>
                  <a:lnTo>
                    <a:pt x="154" y="877"/>
                  </a:lnTo>
                  <a:lnTo>
                    <a:pt x="134" y="908"/>
                  </a:lnTo>
                  <a:lnTo>
                    <a:pt x="114" y="939"/>
                  </a:lnTo>
                  <a:lnTo>
                    <a:pt x="96" y="971"/>
                  </a:lnTo>
                  <a:lnTo>
                    <a:pt x="80" y="1003"/>
                  </a:lnTo>
                  <a:lnTo>
                    <a:pt x="66" y="1035"/>
                  </a:lnTo>
                  <a:lnTo>
                    <a:pt x="52" y="1068"/>
                  </a:lnTo>
                  <a:lnTo>
                    <a:pt x="40" y="1100"/>
                  </a:lnTo>
                  <a:lnTo>
                    <a:pt x="29" y="1133"/>
                  </a:lnTo>
                  <a:lnTo>
                    <a:pt x="20" y="1167"/>
                  </a:lnTo>
                  <a:lnTo>
                    <a:pt x="13" y="1200"/>
                  </a:lnTo>
                  <a:lnTo>
                    <a:pt x="8" y="1234"/>
                  </a:lnTo>
                  <a:lnTo>
                    <a:pt x="3" y="1269"/>
                  </a:lnTo>
                  <a:lnTo>
                    <a:pt x="1" y="1302"/>
                  </a:lnTo>
                  <a:lnTo>
                    <a:pt x="0" y="1337"/>
                  </a:lnTo>
                  <a:lnTo>
                    <a:pt x="1" y="1372"/>
                  </a:lnTo>
                  <a:lnTo>
                    <a:pt x="3" y="1405"/>
                  </a:lnTo>
                  <a:lnTo>
                    <a:pt x="8" y="1440"/>
                  </a:lnTo>
                  <a:lnTo>
                    <a:pt x="13" y="1474"/>
                  </a:lnTo>
                  <a:lnTo>
                    <a:pt x="20" y="1507"/>
                  </a:lnTo>
                  <a:lnTo>
                    <a:pt x="29" y="1541"/>
                  </a:lnTo>
                  <a:lnTo>
                    <a:pt x="40" y="1574"/>
                  </a:lnTo>
                  <a:lnTo>
                    <a:pt x="52" y="1607"/>
                  </a:lnTo>
                  <a:lnTo>
                    <a:pt x="66" y="1639"/>
                  </a:lnTo>
                  <a:lnTo>
                    <a:pt x="80" y="1671"/>
                  </a:lnTo>
                  <a:lnTo>
                    <a:pt x="96" y="1703"/>
                  </a:lnTo>
                  <a:lnTo>
                    <a:pt x="114" y="1735"/>
                  </a:lnTo>
                  <a:lnTo>
                    <a:pt x="134" y="1766"/>
                  </a:lnTo>
                  <a:lnTo>
                    <a:pt x="154" y="1797"/>
                  </a:lnTo>
                  <a:lnTo>
                    <a:pt x="177" y="1828"/>
                  </a:lnTo>
                  <a:lnTo>
                    <a:pt x="199" y="1857"/>
                  </a:lnTo>
                  <a:lnTo>
                    <a:pt x="225" y="1888"/>
                  </a:lnTo>
                  <a:lnTo>
                    <a:pt x="250" y="1918"/>
                  </a:lnTo>
                  <a:lnTo>
                    <a:pt x="278" y="1946"/>
                  </a:lnTo>
                  <a:lnTo>
                    <a:pt x="306" y="1975"/>
                  </a:lnTo>
                  <a:lnTo>
                    <a:pt x="337" y="2003"/>
                  </a:lnTo>
                  <a:lnTo>
                    <a:pt x="368" y="2030"/>
                  </a:lnTo>
                  <a:lnTo>
                    <a:pt x="400" y="2058"/>
                  </a:lnTo>
                  <a:lnTo>
                    <a:pt x="435" y="2085"/>
                  </a:lnTo>
                  <a:lnTo>
                    <a:pt x="470" y="2112"/>
                  </a:lnTo>
                  <a:lnTo>
                    <a:pt x="506" y="2138"/>
                  </a:lnTo>
                  <a:lnTo>
                    <a:pt x="542" y="2163"/>
                  </a:lnTo>
                  <a:lnTo>
                    <a:pt x="581" y="2188"/>
                  </a:lnTo>
                  <a:lnTo>
                    <a:pt x="619" y="2213"/>
                  </a:lnTo>
                  <a:lnTo>
                    <a:pt x="661" y="2237"/>
                  </a:lnTo>
                  <a:lnTo>
                    <a:pt x="702" y="2261"/>
                  </a:lnTo>
                  <a:lnTo>
                    <a:pt x="745" y="2284"/>
                  </a:lnTo>
                  <a:lnTo>
                    <a:pt x="788" y="2305"/>
                  </a:lnTo>
                  <a:lnTo>
                    <a:pt x="833" y="2328"/>
                  </a:lnTo>
                  <a:lnTo>
                    <a:pt x="879" y="2349"/>
                  </a:lnTo>
                  <a:lnTo>
                    <a:pt x="926" y="2369"/>
                  </a:lnTo>
                  <a:lnTo>
                    <a:pt x="973" y="2390"/>
                  </a:lnTo>
                  <a:lnTo>
                    <a:pt x="1021" y="2410"/>
                  </a:lnTo>
                  <a:lnTo>
                    <a:pt x="1070" y="2428"/>
                  </a:lnTo>
                  <a:lnTo>
                    <a:pt x="1121" y="2447"/>
                  </a:lnTo>
                  <a:lnTo>
                    <a:pt x="1224" y="2481"/>
                  </a:lnTo>
                  <a:lnTo>
                    <a:pt x="1331" y="2514"/>
                  </a:lnTo>
                  <a:lnTo>
                    <a:pt x="1439" y="2544"/>
                  </a:lnTo>
                  <a:lnTo>
                    <a:pt x="1553" y="2571"/>
                  </a:lnTo>
                  <a:lnTo>
                    <a:pt x="1668" y="2593"/>
                  </a:lnTo>
                  <a:lnTo>
                    <a:pt x="1786" y="2615"/>
                  </a:lnTo>
                  <a:lnTo>
                    <a:pt x="1906" y="2634"/>
                  </a:lnTo>
                  <a:lnTo>
                    <a:pt x="2029" y="2648"/>
                  </a:lnTo>
                  <a:lnTo>
                    <a:pt x="2155" y="2660"/>
                  </a:lnTo>
                  <a:lnTo>
                    <a:pt x="2282" y="2668"/>
                  </a:lnTo>
                  <a:lnTo>
                    <a:pt x="2411" y="2674"/>
                  </a:lnTo>
                  <a:lnTo>
                    <a:pt x="2542" y="2675"/>
                  </a:lnTo>
                  <a:lnTo>
                    <a:pt x="2673" y="2674"/>
                  </a:lnTo>
                  <a:lnTo>
                    <a:pt x="2801" y="2668"/>
                  </a:lnTo>
                  <a:lnTo>
                    <a:pt x="2930" y="2660"/>
                  </a:lnTo>
                  <a:lnTo>
                    <a:pt x="3054" y="2648"/>
                  </a:lnTo>
                  <a:lnTo>
                    <a:pt x="3177" y="2634"/>
                  </a:lnTo>
                  <a:lnTo>
                    <a:pt x="3298" y="2615"/>
                  </a:lnTo>
                  <a:lnTo>
                    <a:pt x="3417" y="2593"/>
                  </a:lnTo>
                  <a:lnTo>
                    <a:pt x="3532" y="2571"/>
                  </a:lnTo>
                  <a:lnTo>
                    <a:pt x="3644" y="2544"/>
                  </a:lnTo>
                  <a:lnTo>
                    <a:pt x="3754" y="2514"/>
                  </a:lnTo>
                  <a:lnTo>
                    <a:pt x="3861" y="2481"/>
                  </a:lnTo>
                  <a:lnTo>
                    <a:pt x="3964" y="2447"/>
                  </a:lnTo>
                  <a:lnTo>
                    <a:pt x="4013" y="2428"/>
                  </a:lnTo>
                  <a:lnTo>
                    <a:pt x="4063" y="2410"/>
                  </a:lnTo>
                  <a:lnTo>
                    <a:pt x="4111" y="2390"/>
                  </a:lnTo>
                  <a:lnTo>
                    <a:pt x="4159" y="2369"/>
                  </a:lnTo>
                  <a:lnTo>
                    <a:pt x="4206" y="2349"/>
                  </a:lnTo>
                  <a:lnTo>
                    <a:pt x="4251" y="2328"/>
                  </a:lnTo>
                  <a:lnTo>
                    <a:pt x="4296" y="2305"/>
                  </a:lnTo>
                  <a:lnTo>
                    <a:pt x="4340" y="2284"/>
                  </a:lnTo>
                  <a:lnTo>
                    <a:pt x="4383" y="2261"/>
                  </a:lnTo>
                  <a:lnTo>
                    <a:pt x="4424" y="2237"/>
                  </a:lnTo>
                  <a:lnTo>
                    <a:pt x="4464" y="2213"/>
                  </a:lnTo>
                  <a:lnTo>
                    <a:pt x="4503" y="2188"/>
                  </a:lnTo>
                  <a:lnTo>
                    <a:pt x="4542" y="2163"/>
                  </a:lnTo>
                  <a:lnTo>
                    <a:pt x="4579" y="2138"/>
                  </a:lnTo>
                  <a:lnTo>
                    <a:pt x="4615" y="2112"/>
                  </a:lnTo>
                  <a:lnTo>
                    <a:pt x="4650" y="2085"/>
                  </a:lnTo>
                  <a:lnTo>
                    <a:pt x="4684" y="2058"/>
                  </a:lnTo>
                  <a:lnTo>
                    <a:pt x="4716" y="2030"/>
                  </a:lnTo>
                  <a:lnTo>
                    <a:pt x="4746" y="2003"/>
                  </a:lnTo>
                  <a:lnTo>
                    <a:pt x="4777" y="1975"/>
                  </a:lnTo>
                  <a:lnTo>
                    <a:pt x="4805" y="1946"/>
                  </a:lnTo>
                  <a:lnTo>
                    <a:pt x="4833" y="1918"/>
                  </a:lnTo>
                  <a:lnTo>
                    <a:pt x="4859" y="1888"/>
                  </a:lnTo>
                  <a:lnTo>
                    <a:pt x="4884" y="1857"/>
                  </a:lnTo>
                  <a:lnTo>
                    <a:pt x="4907" y="1828"/>
                  </a:lnTo>
                  <a:lnTo>
                    <a:pt x="4930" y="1797"/>
                  </a:lnTo>
                  <a:lnTo>
                    <a:pt x="4950" y="1766"/>
                  </a:lnTo>
                  <a:lnTo>
                    <a:pt x="4970" y="1735"/>
                  </a:lnTo>
                  <a:lnTo>
                    <a:pt x="4987" y="1703"/>
                  </a:lnTo>
                  <a:lnTo>
                    <a:pt x="5003" y="1671"/>
                  </a:lnTo>
                  <a:lnTo>
                    <a:pt x="5018" y="1639"/>
                  </a:lnTo>
                  <a:lnTo>
                    <a:pt x="5031" y="1607"/>
                  </a:lnTo>
                  <a:lnTo>
                    <a:pt x="5043" y="1574"/>
                  </a:lnTo>
                  <a:lnTo>
                    <a:pt x="5054" y="1541"/>
                  </a:lnTo>
                  <a:lnTo>
                    <a:pt x="5063" y="1507"/>
                  </a:lnTo>
                  <a:lnTo>
                    <a:pt x="5070" y="1474"/>
                  </a:lnTo>
                  <a:lnTo>
                    <a:pt x="5076" y="1440"/>
                  </a:lnTo>
                  <a:lnTo>
                    <a:pt x="5081" y="1405"/>
                  </a:lnTo>
                  <a:lnTo>
                    <a:pt x="5082" y="1372"/>
                  </a:lnTo>
                  <a:lnTo>
                    <a:pt x="5084" y="1337"/>
                  </a:lnTo>
                  <a:lnTo>
                    <a:pt x="5082" y="1302"/>
                  </a:lnTo>
                  <a:lnTo>
                    <a:pt x="5081" y="1269"/>
                  </a:lnTo>
                  <a:lnTo>
                    <a:pt x="5076" y="1234"/>
                  </a:lnTo>
                  <a:lnTo>
                    <a:pt x="5070" y="1200"/>
                  </a:lnTo>
                  <a:lnTo>
                    <a:pt x="5063" y="1167"/>
                  </a:lnTo>
                  <a:lnTo>
                    <a:pt x="5054" y="1133"/>
                  </a:lnTo>
                  <a:lnTo>
                    <a:pt x="5043" y="1100"/>
                  </a:lnTo>
                  <a:lnTo>
                    <a:pt x="5031" y="1068"/>
                  </a:lnTo>
                  <a:lnTo>
                    <a:pt x="5018" y="1035"/>
                  </a:lnTo>
                  <a:lnTo>
                    <a:pt x="5003" y="1003"/>
                  </a:lnTo>
                  <a:lnTo>
                    <a:pt x="4987" y="971"/>
                  </a:lnTo>
                  <a:lnTo>
                    <a:pt x="4970" y="939"/>
                  </a:lnTo>
                  <a:lnTo>
                    <a:pt x="4950" y="908"/>
                  </a:lnTo>
                  <a:lnTo>
                    <a:pt x="4930" y="877"/>
                  </a:lnTo>
                  <a:lnTo>
                    <a:pt x="4907" y="846"/>
                  </a:lnTo>
                  <a:lnTo>
                    <a:pt x="4884" y="817"/>
                  </a:lnTo>
                  <a:lnTo>
                    <a:pt x="4859" y="787"/>
                  </a:lnTo>
                  <a:lnTo>
                    <a:pt x="4833" y="758"/>
                  </a:lnTo>
                  <a:lnTo>
                    <a:pt x="4805" y="728"/>
                  </a:lnTo>
                  <a:lnTo>
                    <a:pt x="4777" y="700"/>
                  </a:lnTo>
                  <a:lnTo>
                    <a:pt x="4746" y="672"/>
                  </a:lnTo>
                  <a:lnTo>
                    <a:pt x="4716" y="644"/>
                  </a:lnTo>
                  <a:lnTo>
                    <a:pt x="4684" y="616"/>
                  </a:lnTo>
                  <a:lnTo>
                    <a:pt x="4650" y="589"/>
                  </a:lnTo>
                  <a:lnTo>
                    <a:pt x="4615" y="563"/>
                  </a:lnTo>
                  <a:lnTo>
                    <a:pt x="4579" y="537"/>
                  </a:lnTo>
                  <a:lnTo>
                    <a:pt x="4542" y="511"/>
                  </a:lnTo>
                  <a:lnTo>
                    <a:pt x="4503" y="487"/>
                  </a:lnTo>
                  <a:lnTo>
                    <a:pt x="4464" y="462"/>
                  </a:lnTo>
                  <a:lnTo>
                    <a:pt x="4424" y="439"/>
                  </a:lnTo>
                  <a:lnTo>
                    <a:pt x="4383" y="415"/>
                  </a:lnTo>
                  <a:lnTo>
                    <a:pt x="4340" y="392"/>
                  </a:lnTo>
                  <a:lnTo>
                    <a:pt x="4296" y="369"/>
                  </a:lnTo>
                  <a:lnTo>
                    <a:pt x="4251" y="348"/>
                  </a:lnTo>
                  <a:lnTo>
                    <a:pt x="4206" y="326"/>
                  </a:lnTo>
                  <a:lnTo>
                    <a:pt x="4159" y="306"/>
                  </a:lnTo>
                  <a:lnTo>
                    <a:pt x="4111" y="286"/>
                  </a:lnTo>
                  <a:lnTo>
                    <a:pt x="4063" y="266"/>
                  </a:lnTo>
                  <a:lnTo>
                    <a:pt x="4013" y="247"/>
                  </a:lnTo>
                  <a:lnTo>
                    <a:pt x="3964" y="228"/>
                  </a:lnTo>
                  <a:lnTo>
                    <a:pt x="3861" y="193"/>
                  </a:lnTo>
                  <a:lnTo>
                    <a:pt x="3754" y="161"/>
                  </a:lnTo>
                  <a:lnTo>
                    <a:pt x="3644" y="132"/>
                  </a:lnTo>
                  <a:lnTo>
                    <a:pt x="3532" y="105"/>
                  </a:lnTo>
                  <a:lnTo>
                    <a:pt x="3417" y="81"/>
                  </a:lnTo>
                  <a:lnTo>
                    <a:pt x="3298" y="61"/>
                  </a:lnTo>
                  <a:lnTo>
                    <a:pt x="3177" y="42"/>
                  </a:lnTo>
                  <a:lnTo>
                    <a:pt x="3054" y="27"/>
                  </a:lnTo>
                  <a:lnTo>
                    <a:pt x="2930" y="15"/>
                  </a:lnTo>
                  <a:lnTo>
                    <a:pt x="2801" y="7"/>
                  </a:lnTo>
                  <a:lnTo>
                    <a:pt x="2673" y="2"/>
                  </a:lnTo>
                  <a:lnTo>
                    <a:pt x="254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62480" y="3910320"/>
              <a:ext cx="57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arco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05240" y="4114800"/>
              <a:ext cx="685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olítico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45200" y="4325760"/>
              <a:ext cx="556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 leg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295280" y="43257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384200" y="2637720"/>
              <a:ext cx="6303960" cy="3081960"/>
            </a:xfrm>
            <a:custGeom>
              <a:avLst/>
              <a:gdLst/>
              <a:ahLst/>
              <a:rect l="l" t="t" r="r" b="b"/>
              <a:pathLst>
                <a:path w="3971" h="1943">
                  <a:moveTo>
                    <a:pt x="1985" y="0"/>
                  </a:moveTo>
                  <a:lnTo>
                    <a:pt x="1883" y="2"/>
                  </a:lnTo>
                  <a:lnTo>
                    <a:pt x="1781" y="6"/>
                  </a:lnTo>
                  <a:lnTo>
                    <a:pt x="1683" y="11"/>
                  </a:lnTo>
                  <a:lnTo>
                    <a:pt x="1585" y="20"/>
                  </a:lnTo>
                  <a:lnTo>
                    <a:pt x="1489" y="31"/>
                  </a:lnTo>
                  <a:lnTo>
                    <a:pt x="1395" y="45"/>
                  </a:lnTo>
                  <a:lnTo>
                    <a:pt x="1303" y="59"/>
                  </a:lnTo>
                  <a:lnTo>
                    <a:pt x="1212" y="77"/>
                  </a:lnTo>
                  <a:lnTo>
                    <a:pt x="1123" y="95"/>
                  </a:lnTo>
                  <a:lnTo>
                    <a:pt x="1038" y="117"/>
                  </a:lnTo>
                  <a:lnTo>
                    <a:pt x="955" y="141"/>
                  </a:lnTo>
                  <a:lnTo>
                    <a:pt x="874" y="167"/>
                  </a:lnTo>
                  <a:lnTo>
                    <a:pt x="797" y="193"/>
                  </a:lnTo>
                  <a:lnTo>
                    <a:pt x="722" y="222"/>
                  </a:lnTo>
                  <a:lnTo>
                    <a:pt x="650" y="252"/>
                  </a:lnTo>
                  <a:lnTo>
                    <a:pt x="582" y="285"/>
                  </a:lnTo>
                  <a:lnTo>
                    <a:pt x="515" y="318"/>
                  </a:lnTo>
                  <a:lnTo>
                    <a:pt x="453" y="353"/>
                  </a:lnTo>
                  <a:lnTo>
                    <a:pt x="422" y="372"/>
                  </a:lnTo>
                  <a:lnTo>
                    <a:pt x="394" y="390"/>
                  </a:lnTo>
                  <a:lnTo>
                    <a:pt x="366" y="409"/>
                  </a:lnTo>
                  <a:lnTo>
                    <a:pt x="338" y="428"/>
                  </a:lnTo>
                  <a:lnTo>
                    <a:pt x="313" y="448"/>
                  </a:lnTo>
                  <a:lnTo>
                    <a:pt x="287" y="468"/>
                  </a:lnTo>
                  <a:lnTo>
                    <a:pt x="263" y="488"/>
                  </a:lnTo>
                  <a:lnTo>
                    <a:pt x="239" y="508"/>
                  </a:lnTo>
                  <a:lnTo>
                    <a:pt x="216" y="529"/>
                  </a:lnTo>
                  <a:lnTo>
                    <a:pt x="195" y="550"/>
                  </a:lnTo>
                  <a:lnTo>
                    <a:pt x="175" y="571"/>
                  </a:lnTo>
                  <a:lnTo>
                    <a:pt x="156" y="593"/>
                  </a:lnTo>
                  <a:lnTo>
                    <a:pt x="137" y="614"/>
                  </a:lnTo>
                  <a:lnTo>
                    <a:pt x="120" y="637"/>
                  </a:lnTo>
                  <a:lnTo>
                    <a:pt x="104" y="660"/>
                  </a:lnTo>
                  <a:lnTo>
                    <a:pt x="89" y="683"/>
                  </a:lnTo>
                  <a:lnTo>
                    <a:pt x="74" y="706"/>
                  </a:lnTo>
                  <a:lnTo>
                    <a:pt x="62" y="728"/>
                  </a:lnTo>
                  <a:lnTo>
                    <a:pt x="50" y="751"/>
                  </a:lnTo>
                  <a:lnTo>
                    <a:pt x="40" y="775"/>
                  </a:lnTo>
                  <a:lnTo>
                    <a:pt x="30" y="799"/>
                  </a:lnTo>
                  <a:lnTo>
                    <a:pt x="22" y="824"/>
                  </a:lnTo>
                  <a:lnTo>
                    <a:pt x="16" y="848"/>
                  </a:lnTo>
                  <a:lnTo>
                    <a:pt x="10" y="872"/>
                  </a:lnTo>
                  <a:lnTo>
                    <a:pt x="5" y="896"/>
                  </a:lnTo>
                  <a:lnTo>
                    <a:pt x="2" y="921"/>
                  </a:lnTo>
                  <a:lnTo>
                    <a:pt x="1" y="946"/>
                  </a:lnTo>
                  <a:lnTo>
                    <a:pt x="0" y="971"/>
                  </a:lnTo>
                  <a:lnTo>
                    <a:pt x="1" y="996"/>
                  </a:lnTo>
                  <a:lnTo>
                    <a:pt x="2" y="1021"/>
                  </a:lnTo>
                  <a:lnTo>
                    <a:pt x="5" y="1046"/>
                  </a:lnTo>
                  <a:lnTo>
                    <a:pt x="10" y="1070"/>
                  </a:lnTo>
                  <a:lnTo>
                    <a:pt x="16" y="1094"/>
                  </a:lnTo>
                  <a:lnTo>
                    <a:pt x="22" y="1118"/>
                  </a:lnTo>
                  <a:lnTo>
                    <a:pt x="30" y="1143"/>
                  </a:lnTo>
                  <a:lnTo>
                    <a:pt x="40" y="1167"/>
                  </a:lnTo>
                  <a:lnTo>
                    <a:pt x="50" y="1191"/>
                  </a:lnTo>
                  <a:lnTo>
                    <a:pt x="62" y="1214"/>
                  </a:lnTo>
                  <a:lnTo>
                    <a:pt x="74" y="1236"/>
                  </a:lnTo>
                  <a:lnTo>
                    <a:pt x="89" y="1259"/>
                  </a:lnTo>
                  <a:lnTo>
                    <a:pt x="104" y="1282"/>
                  </a:lnTo>
                  <a:lnTo>
                    <a:pt x="120" y="1305"/>
                  </a:lnTo>
                  <a:lnTo>
                    <a:pt x="137" y="1328"/>
                  </a:lnTo>
                  <a:lnTo>
                    <a:pt x="156" y="1349"/>
                  </a:lnTo>
                  <a:lnTo>
                    <a:pt x="175" y="1371"/>
                  </a:lnTo>
                  <a:lnTo>
                    <a:pt x="195" y="1392"/>
                  </a:lnTo>
                  <a:lnTo>
                    <a:pt x="216" y="1413"/>
                  </a:lnTo>
                  <a:lnTo>
                    <a:pt x="239" y="1434"/>
                  </a:lnTo>
                  <a:lnTo>
                    <a:pt x="263" y="1455"/>
                  </a:lnTo>
                  <a:lnTo>
                    <a:pt x="287" y="1475"/>
                  </a:lnTo>
                  <a:lnTo>
                    <a:pt x="313" y="1495"/>
                  </a:lnTo>
                  <a:lnTo>
                    <a:pt x="338" y="1514"/>
                  </a:lnTo>
                  <a:lnTo>
                    <a:pt x="366" y="1534"/>
                  </a:lnTo>
                  <a:lnTo>
                    <a:pt x="394" y="1553"/>
                  </a:lnTo>
                  <a:lnTo>
                    <a:pt x="422" y="1570"/>
                  </a:lnTo>
                  <a:lnTo>
                    <a:pt x="453" y="1589"/>
                  </a:lnTo>
                  <a:lnTo>
                    <a:pt x="515" y="1624"/>
                  </a:lnTo>
                  <a:lnTo>
                    <a:pt x="582" y="1659"/>
                  </a:lnTo>
                  <a:lnTo>
                    <a:pt x="650" y="1691"/>
                  </a:lnTo>
                  <a:lnTo>
                    <a:pt x="722" y="1720"/>
                  </a:lnTo>
                  <a:lnTo>
                    <a:pt x="797" y="1750"/>
                  </a:lnTo>
                  <a:lnTo>
                    <a:pt x="874" y="1777"/>
                  </a:lnTo>
                  <a:lnTo>
                    <a:pt x="955" y="1802"/>
                  </a:lnTo>
                  <a:lnTo>
                    <a:pt x="1038" y="1825"/>
                  </a:lnTo>
                  <a:lnTo>
                    <a:pt x="1123" y="1846"/>
                  </a:lnTo>
                  <a:lnTo>
                    <a:pt x="1212" y="1867"/>
                  </a:lnTo>
                  <a:lnTo>
                    <a:pt x="1303" y="1884"/>
                  </a:lnTo>
                  <a:lnTo>
                    <a:pt x="1395" y="1899"/>
                  </a:lnTo>
                  <a:lnTo>
                    <a:pt x="1489" y="1912"/>
                  </a:lnTo>
                  <a:lnTo>
                    <a:pt x="1585" y="1923"/>
                  </a:lnTo>
                  <a:lnTo>
                    <a:pt x="1683" y="1932"/>
                  </a:lnTo>
                  <a:lnTo>
                    <a:pt x="1781" y="1938"/>
                  </a:lnTo>
                  <a:lnTo>
                    <a:pt x="1883" y="1942"/>
                  </a:lnTo>
                  <a:lnTo>
                    <a:pt x="1985" y="1943"/>
                  </a:lnTo>
                  <a:lnTo>
                    <a:pt x="2087" y="1942"/>
                  </a:lnTo>
                  <a:lnTo>
                    <a:pt x="2188" y="1938"/>
                  </a:lnTo>
                  <a:lnTo>
                    <a:pt x="2287" y="1932"/>
                  </a:lnTo>
                  <a:lnTo>
                    <a:pt x="2385" y="1923"/>
                  </a:lnTo>
                  <a:lnTo>
                    <a:pt x="2481" y="1912"/>
                  </a:lnTo>
                  <a:lnTo>
                    <a:pt x="2576" y="1899"/>
                  </a:lnTo>
                  <a:lnTo>
                    <a:pt x="2668" y="1884"/>
                  </a:lnTo>
                  <a:lnTo>
                    <a:pt x="2758" y="1867"/>
                  </a:lnTo>
                  <a:lnTo>
                    <a:pt x="2846" y="1846"/>
                  </a:lnTo>
                  <a:lnTo>
                    <a:pt x="2932" y="1825"/>
                  </a:lnTo>
                  <a:lnTo>
                    <a:pt x="3015" y="1802"/>
                  </a:lnTo>
                  <a:lnTo>
                    <a:pt x="3095" y="1777"/>
                  </a:lnTo>
                  <a:lnTo>
                    <a:pt x="3173" y="1750"/>
                  </a:lnTo>
                  <a:lnTo>
                    <a:pt x="3249" y="1720"/>
                  </a:lnTo>
                  <a:lnTo>
                    <a:pt x="3320" y="1691"/>
                  </a:lnTo>
                  <a:lnTo>
                    <a:pt x="3390" y="1659"/>
                  </a:lnTo>
                  <a:lnTo>
                    <a:pt x="3455" y="1624"/>
                  </a:lnTo>
                  <a:lnTo>
                    <a:pt x="3518" y="1589"/>
                  </a:lnTo>
                  <a:lnTo>
                    <a:pt x="3547" y="1570"/>
                  </a:lnTo>
                  <a:lnTo>
                    <a:pt x="3577" y="1553"/>
                  </a:lnTo>
                  <a:lnTo>
                    <a:pt x="3605" y="1534"/>
                  </a:lnTo>
                  <a:lnTo>
                    <a:pt x="3632" y="1514"/>
                  </a:lnTo>
                  <a:lnTo>
                    <a:pt x="3658" y="1495"/>
                  </a:lnTo>
                  <a:lnTo>
                    <a:pt x="3684" y="1475"/>
                  </a:lnTo>
                  <a:lnTo>
                    <a:pt x="3708" y="1455"/>
                  </a:lnTo>
                  <a:lnTo>
                    <a:pt x="3732" y="1434"/>
                  </a:lnTo>
                  <a:lnTo>
                    <a:pt x="3755" y="1413"/>
                  </a:lnTo>
                  <a:lnTo>
                    <a:pt x="3776" y="1392"/>
                  </a:lnTo>
                  <a:lnTo>
                    <a:pt x="3796" y="1371"/>
                  </a:lnTo>
                  <a:lnTo>
                    <a:pt x="3815" y="1349"/>
                  </a:lnTo>
                  <a:lnTo>
                    <a:pt x="3834" y="1328"/>
                  </a:lnTo>
                  <a:lnTo>
                    <a:pt x="3851" y="1305"/>
                  </a:lnTo>
                  <a:lnTo>
                    <a:pt x="3867" y="1282"/>
                  </a:lnTo>
                  <a:lnTo>
                    <a:pt x="3882" y="1259"/>
                  </a:lnTo>
                  <a:lnTo>
                    <a:pt x="3897" y="1236"/>
                  </a:lnTo>
                  <a:lnTo>
                    <a:pt x="3909" y="1214"/>
                  </a:lnTo>
                  <a:lnTo>
                    <a:pt x="3921" y="1191"/>
                  </a:lnTo>
                  <a:lnTo>
                    <a:pt x="3931" y="1167"/>
                  </a:lnTo>
                  <a:lnTo>
                    <a:pt x="3941" y="1143"/>
                  </a:lnTo>
                  <a:lnTo>
                    <a:pt x="3949" y="1118"/>
                  </a:lnTo>
                  <a:lnTo>
                    <a:pt x="3955" y="1094"/>
                  </a:lnTo>
                  <a:lnTo>
                    <a:pt x="3961" y="1070"/>
                  </a:lnTo>
                  <a:lnTo>
                    <a:pt x="3966" y="1046"/>
                  </a:lnTo>
                  <a:lnTo>
                    <a:pt x="3969" y="1021"/>
                  </a:lnTo>
                  <a:lnTo>
                    <a:pt x="3971" y="996"/>
                  </a:lnTo>
                  <a:lnTo>
                    <a:pt x="3971" y="971"/>
                  </a:lnTo>
                  <a:lnTo>
                    <a:pt x="3971" y="946"/>
                  </a:lnTo>
                  <a:lnTo>
                    <a:pt x="3969" y="921"/>
                  </a:lnTo>
                  <a:lnTo>
                    <a:pt x="3966" y="896"/>
                  </a:lnTo>
                  <a:lnTo>
                    <a:pt x="3961" y="872"/>
                  </a:lnTo>
                  <a:lnTo>
                    <a:pt x="3955" y="848"/>
                  </a:lnTo>
                  <a:lnTo>
                    <a:pt x="3949" y="824"/>
                  </a:lnTo>
                  <a:lnTo>
                    <a:pt x="3941" y="799"/>
                  </a:lnTo>
                  <a:lnTo>
                    <a:pt x="3931" y="775"/>
                  </a:lnTo>
                  <a:lnTo>
                    <a:pt x="3921" y="751"/>
                  </a:lnTo>
                  <a:lnTo>
                    <a:pt x="3909" y="728"/>
                  </a:lnTo>
                  <a:lnTo>
                    <a:pt x="3897" y="706"/>
                  </a:lnTo>
                  <a:lnTo>
                    <a:pt x="3882" y="683"/>
                  </a:lnTo>
                  <a:lnTo>
                    <a:pt x="3867" y="660"/>
                  </a:lnTo>
                  <a:lnTo>
                    <a:pt x="3851" y="637"/>
                  </a:lnTo>
                  <a:lnTo>
                    <a:pt x="3834" y="614"/>
                  </a:lnTo>
                  <a:lnTo>
                    <a:pt x="3815" y="593"/>
                  </a:lnTo>
                  <a:lnTo>
                    <a:pt x="3796" y="571"/>
                  </a:lnTo>
                  <a:lnTo>
                    <a:pt x="3776" y="550"/>
                  </a:lnTo>
                  <a:lnTo>
                    <a:pt x="3755" y="529"/>
                  </a:lnTo>
                  <a:lnTo>
                    <a:pt x="3732" y="508"/>
                  </a:lnTo>
                  <a:lnTo>
                    <a:pt x="3708" y="488"/>
                  </a:lnTo>
                  <a:lnTo>
                    <a:pt x="3684" y="468"/>
                  </a:lnTo>
                  <a:lnTo>
                    <a:pt x="3658" y="448"/>
                  </a:lnTo>
                  <a:lnTo>
                    <a:pt x="3632" y="428"/>
                  </a:lnTo>
                  <a:lnTo>
                    <a:pt x="3605" y="409"/>
                  </a:lnTo>
                  <a:lnTo>
                    <a:pt x="3577" y="390"/>
                  </a:lnTo>
                  <a:lnTo>
                    <a:pt x="3547" y="372"/>
                  </a:lnTo>
                  <a:lnTo>
                    <a:pt x="3518" y="353"/>
                  </a:lnTo>
                  <a:lnTo>
                    <a:pt x="3455" y="318"/>
                  </a:lnTo>
                  <a:lnTo>
                    <a:pt x="3390" y="285"/>
                  </a:lnTo>
                  <a:lnTo>
                    <a:pt x="3320" y="252"/>
                  </a:lnTo>
                  <a:lnTo>
                    <a:pt x="3249" y="222"/>
                  </a:lnTo>
                  <a:lnTo>
                    <a:pt x="3173" y="193"/>
                  </a:lnTo>
                  <a:lnTo>
                    <a:pt x="3095" y="167"/>
                  </a:lnTo>
                  <a:lnTo>
                    <a:pt x="3015" y="141"/>
                  </a:lnTo>
                  <a:lnTo>
                    <a:pt x="2932" y="117"/>
                  </a:lnTo>
                  <a:lnTo>
                    <a:pt x="2846" y="95"/>
                  </a:lnTo>
                  <a:lnTo>
                    <a:pt x="2758" y="77"/>
                  </a:lnTo>
                  <a:lnTo>
                    <a:pt x="2668" y="59"/>
                  </a:lnTo>
                  <a:lnTo>
                    <a:pt x="2576" y="45"/>
                  </a:lnTo>
                  <a:lnTo>
                    <a:pt x="2481" y="31"/>
                  </a:lnTo>
                  <a:lnTo>
                    <a:pt x="2385" y="20"/>
                  </a:lnTo>
                  <a:lnTo>
                    <a:pt x="2287" y="11"/>
                  </a:lnTo>
                  <a:lnTo>
                    <a:pt x="2188" y="6"/>
                  </a:lnTo>
                  <a:lnTo>
                    <a:pt x="2087" y="2"/>
                  </a:lnTo>
                  <a:lnTo>
                    <a:pt x="1985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384200" y="2637720"/>
              <a:ext cx="6303960" cy="3081960"/>
            </a:xfrm>
            <a:custGeom>
              <a:avLst/>
              <a:gdLst/>
              <a:ahLst/>
              <a:rect l="l" t="t" r="r" b="b"/>
              <a:pathLst>
                <a:path w="3971" h="1943">
                  <a:moveTo>
                    <a:pt x="1985" y="0"/>
                  </a:moveTo>
                  <a:lnTo>
                    <a:pt x="1883" y="2"/>
                  </a:lnTo>
                  <a:lnTo>
                    <a:pt x="1781" y="6"/>
                  </a:lnTo>
                  <a:lnTo>
                    <a:pt x="1683" y="11"/>
                  </a:lnTo>
                  <a:lnTo>
                    <a:pt x="1585" y="20"/>
                  </a:lnTo>
                  <a:lnTo>
                    <a:pt x="1489" y="31"/>
                  </a:lnTo>
                  <a:lnTo>
                    <a:pt x="1395" y="45"/>
                  </a:lnTo>
                  <a:lnTo>
                    <a:pt x="1303" y="59"/>
                  </a:lnTo>
                  <a:lnTo>
                    <a:pt x="1212" y="77"/>
                  </a:lnTo>
                  <a:lnTo>
                    <a:pt x="1123" y="95"/>
                  </a:lnTo>
                  <a:lnTo>
                    <a:pt x="1038" y="117"/>
                  </a:lnTo>
                  <a:lnTo>
                    <a:pt x="955" y="141"/>
                  </a:lnTo>
                  <a:lnTo>
                    <a:pt x="874" y="167"/>
                  </a:lnTo>
                  <a:lnTo>
                    <a:pt x="797" y="193"/>
                  </a:lnTo>
                  <a:lnTo>
                    <a:pt x="722" y="222"/>
                  </a:lnTo>
                  <a:lnTo>
                    <a:pt x="650" y="252"/>
                  </a:lnTo>
                  <a:lnTo>
                    <a:pt x="582" y="285"/>
                  </a:lnTo>
                  <a:lnTo>
                    <a:pt x="515" y="318"/>
                  </a:lnTo>
                  <a:lnTo>
                    <a:pt x="453" y="353"/>
                  </a:lnTo>
                  <a:lnTo>
                    <a:pt x="422" y="372"/>
                  </a:lnTo>
                  <a:lnTo>
                    <a:pt x="394" y="390"/>
                  </a:lnTo>
                  <a:lnTo>
                    <a:pt x="366" y="409"/>
                  </a:lnTo>
                  <a:lnTo>
                    <a:pt x="338" y="428"/>
                  </a:lnTo>
                  <a:lnTo>
                    <a:pt x="313" y="448"/>
                  </a:lnTo>
                  <a:lnTo>
                    <a:pt x="287" y="468"/>
                  </a:lnTo>
                  <a:lnTo>
                    <a:pt x="263" y="488"/>
                  </a:lnTo>
                  <a:lnTo>
                    <a:pt x="239" y="508"/>
                  </a:lnTo>
                  <a:lnTo>
                    <a:pt x="216" y="529"/>
                  </a:lnTo>
                  <a:lnTo>
                    <a:pt x="195" y="550"/>
                  </a:lnTo>
                  <a:lnTo>
                    <a:pt x="175" y="571"/>
                  </a:lnTo>
                  <a:lnTo>
                    <a:pt x="156" y="593"/>
                  </a:lnTo>
                  <a:lnTo>
                    <a:pt x="137" y="614"/>
                  </a:lnTo>
                  <a:lnTo>
                    <a:pt x="120" y="637"/>
                  </a:lnTo>
                  <a:lnTo>
                    <a:pt x="104" y="660"/>
                  </a:lnTo>
                  <a:lnTo>
                    <a:pt x="89" y="683"/>
                  </a:lnTo>
                  <a:lnTo>
                    <a:pt x="74" y="706"/>
                  </a:lnTo>
                  <a:lnTo>
                    <a:pt x="62" y="728"/>
                  </a:lnTo>
                  <a:lnTo>
                    <a:pt x="50" y="751"/>
                  </a:lnTo>
                  <a:lnTo>
                    <a:pt x="40" y="775"/>
                  </a:lnTo>
                  <a:lnTo>
                    <a:pt x="30" y="799"/>
                  </a:lnTo>
                  <a:lnTo>
                    <a:pt x="22" y="824"/>
                  </a:lnTo>
                  <a:lnTo>
                    <a:pt x="16" y="848"/>
                  </a:lnTo>
                  <a:lnTo>
                    <a:pt x="10" y="872"/>
                  </a:lnTo>
                  <a:lnTo>
                    <a:pt x="5" y="896"/>
                  </a:lnTo>
                  <a:lnTo>
                    <a:pt x="2" y="921"/>
                  </a:lnTo>
                  <a:lnTo>
                    <a:pt x="1" y="946"/>
                  </a:lnTo>
                  <a:lnTo>
                    <a:pt x="0" y="971"/>
                  </a:lnTo>
                  <a:lnTo>
                    <a:pt x="1" y="996"/>
                  </a:lnTo>
                  <a:lnTo>
                    <a:pt x="2" y="1021"/>
                  </a:lnTo>
                  <a:lnTo>
                    <a:pt x="5" y="1046"/>
                  </a:lnTo>
                  <a:lnTo>
                    <a:pt x="10" y="1070"/>
                  </a:lnTo>
                  <a:lnTo>
                    <a:pt x="16" y="1094"/>
                  </a:lnTo>
                  <a:lnTo>
                    <a:pt x="22" y="1118"/>
                  </a:lnTo>
                  <a:lnTo>
                    <a:pt x="30" y="1143"/>
                  </a:lnTo>
                  <a:lnTo>
                    <a:pt x="40" y="1167"/>
                  </a:lnTo>
                  <a:lnTo>
                    <a:pt x="50" y="1191"/>
                  </a:lnTo>
                  <a:lnTo>
                    <a:pt x="62" y="1214"/>
                  </a:lnTo>
                  <a:lnTo>
                    <a:pt x="74" y="1236"/>
                  </a:lnTo>
                  <a:lnTo>
                    <a:pt x="89" y="1259"/>
                  </a:lnTo>
                  <a:lnTo>
                    <a:pt x="104" y="1282"/>
                  </a:lnTo>
                  <a:lnTo>
                    <a:pt x="120" y="1305"/>
                  </a:lnTo>
                  <a:lnTo>
                    <a:pt x="137" y="1328"/>
                  </a:lnTo>
                  <a:lnTo>
                    <a:pt x="156" y="1349"/>
                  </a:lnTo>
                  <a:lnTo>
                    <a:pt x="175" y="1371"/>
                  </a:lnTo>
                  <a:lnTo>
                    <a:pt x="195" y="1392"/>
                  </a:lnTo>
                  <a:lnTo>
                    <a:pt x="216" y="1413"/>
                  </a:lnTo>
                  <a:lnTo>
                    <a:pt x="239" y="1434"/>
                  </a:lnTo>
                  <a:lnTo>
                    <a:pt x="263" y="1455"/>
                  </a:lnTo>
                  <a:lnTo>
                    <a:pt x="287" y="1475"/>
                  </a:lnTo>
                  <a:lnTo>
                    <a:pt x="313" y="1495"/>
                  </a:lnTo>
                  <a:lnTo>
                    <a:pt x="338" y="1514"/>
                  </a:lnTo>
                  <a:lnTo>
                    <a:pt x="366" y="1534"/>
                  </a:lnTo>
                  <a:lnTo>
                    <a:pt x="394" y="1553"/>
                  </a:lnTo>
                  <a:lnTo>
                    <a:pt x="422" y="1570"/>
                  </a:lnTo>
                  <a:lnTo>
                    <a:pt x="453" y="1589"/>
                  </a:lnTo>
                  <a:lnTo>
                    <a:pt x="515" y="1624"/>
                  </a:lnTo>
                  <a:lnTo>
                    <a:pt x="582" y="1659"/>
                  </a:lnTo>
                  <a:lnTo>
                    <a:pt x="650" y="1691"/>
                  </a:lnTo>
                  <a:lnTo>
                    <a:pt x="722" y="1720"/>
                  </a:lnTo>
                  <a:lnTo>
                    <a:pt x="797" y="1750"/>
                  </a:lnTo>
                  <a:lnTo>
                    <a:pt x="874" y="1777"/>
                  </a:lnTo>
                  <a:lnTo>
                    <a:pt x="955" y="1802"/>
                  </a:lnTo>
                  <a:lnTo>
                    <a:pt x="1038" y="1825"/>
                  </a:lnTo>
                  <a:lnTo>
                    <a:pt x="1123" y="1846"/>
                  </a:lnTo>
                  <a:lnTo>
                    <a:pt x="1212" y="1867"/>
                  </a:lnTo>
                  <a:lnTo>
                    <a:pt x="1303" y="1884"/>
                  </a:lnTo>
                  <a:lnTo>
                    <a:pt x="1395" y="1899"/>
                  </a:lnTo>
                  <a:lnTo>
                    <a:pt x="1489" y="1912"/>
                  </a:lnTo>
                  <a:lnTo>
                    <a:pt x="1585" y="1923"/>
                  </a:lnTo>
                  <a:lnTo>
                    <a:pt x="1683" y="1932"/>
                  </a:lnTo>
                  <a:lnTo>
                    <a:pt x="1781" y="1938"/>
                  </a:lnTo>
                  <a:lnTo>
                    <a:pt x="1883" y="1942"/>
                  </a:lnTo>
                  <a:lnTo>
                    <a:pt x="1985" y="1943"/>
                  </a:lnTo>
                  <a:lnTo>
                    <a:pt x="2087" y="1942"/>
                  </a:lnTo>
                  <a:lnTo>
                    <a:pt x="2188" y="1938"/>
                  </a:lnTo>
                  <a:lnTo>
                    <a:pt x="2287" y="1932"/>
                  </a:lnTo>
                  <a:lnTo>
                    <a:pt x="2385" y="1923"/>
                  </a:lnTo>
                  <a:lnTo>
                    <a:pt x="2481" y="1912"/>
                  </a:lnTo>
                  <a:lnTo>
                    <a:pt x="2576" y="1899"/>
                  </a:lnTo>
                  <a:lnTo>
                    <a:pt x="2668" y="1884"/>
                  </a:lnTo>
                  <a:lnTo>
                    <a:pt x="2758" y="1867"/>
                  </a:lnTo>
                  <a:lnTo>
                    <a:pt x="2846" y="1846"/>
                  </a:lnTo>
                  <a:lnTo>
                    <a:pt x="2932" y="1825"/>
                  </a:lnTo>
                  <a:lnTo>
                    <a:pt x="3015" y="1802"/>
                  </a:lnTo>
                  <a:lnTo>
                    <a:pt x="3095" y="1777"/>
                  </a:lnTo>
                  <a:lnTo>
                    <a:pt x="3173" y="1750"/>
                  </a:lnTo>
                  <a:lnTo>
                    <a:pt x="3249" y="1720"/>
                  </a:lnTo>
                  <a:lnTo>
                    <a:pt x="3320" y="1691"/>
                  </a:lnTo>
                  <a:lnTo>
                    <a:pt x="3390" y="1659"/>
                  </a:lnTo>
                  <a:lnTo>
                    <a:pt x="3455" y="1624"/>
                  </a:lnTo>
                  <a:lnTo>
                    <a:pt x="3518" y="1589"/>
                  </a:lnTo>
                  <a:lnTo>
                    <a:pt x="3547" y="1570"/>
                  </a:lnTo>
                  <a:lnTo>
                    <a:pt x="3577" y="1553"/>
                  </a:lnTo>
                  <a:lnTo>
                    <a:pt x="3605" y="1534"/>
                  </a:lnTo>
                  <a:lnTo>
                    <a:pt x="3632" y="1514"/>
                  </a:lnTo>
                  <a:lnTo>
                    <a:pt x="3658" y="1495"/>
                  </a:lnTo>
                  <a:lnTo>
                    <a:pt x="3684" y="1475"/>
                  </a:lnTo>
                  <a:lnTo>
                    <a:pt x="3708" y="1455"/>
                  </a:lnTo>
                  <a:lnTo>
                    <a:pt x="3732" y="1434"/>
                  </a:lnTo>
                  <a:lnTo>
                    <a:pt x="3755" y="1413"/>
                  </a:lnTo>
                  <a:lnTo>
                    <a:pt x="3776" y="1392"/>
                  </a:lnTo>
                  <a:lnTo>
                    <a:pt x="3796" y="1371"/>
                  </a:lnTo>
                  <a:lnTo>
                    <a:pt x="3815" y="1349"/>
                  </a:lnTo>
                  <a:lnTo>
                    <a:pt x="3834" y="1328"/>
                  </a:lnTo>
                  <a:lnTo>
                    <a:pt x="3851" y="1305"/>
                  </a:lnTo>
                  <a:lnTo>
                    <a:pt x="3867" y="1282"/>
                  </a:lnTo>
                  <a:lnTo>
                    <a:pt x="3882" y="1259"/>
                  </a:lnTo>
                  <a:lnTo>
                    <a:pt x="3897" y="1236"/>
                  </a:lnTo>
                  <a:lnTo>
                    <a:pt x="3909" y="1214"/>
                  </a:lnTo>
                  <a:lnTo>
                    <a:pt x="3921" y="1191"/>
                  </a:lnTo>
                  <a:lnTo>
                    <a:pt x="3931" y="1167"/>
                  </a:lnTo>
                  <a:lnTo>
                    <a:pt x="3941" y="1143"/>
                  </a:lnTo>
                  <a:lnTo>
                    <a:pt x="3949" y="1118"/>
                  </a:lnTo>
                  <a:lnTo>
                    <a:pt x="3955" y="1094"/>
                  </a:lnTo>
                  <a:lnTo>
                    <a:pt x="3961" y="1070"/>
                  </a:lnTo>
                  <a:lnTo>
                    <a:pt x="3966" y="1046"/>
                  </a:lnTo>
                  <a:lnTo>
                    <a:pt x="3969" y="1021"/>
                  </a:lnTo>
                  <a:lnTo>
                    <a:pt x="3971" y="996"/>
                  </a:lnTo>
                  <a:lnTo>
                    <a:pt x="3971" y="971"/>
                  </a:lnTo>
                  <a:lnTo>
                    <a:pt x="3971" y="946"/>
                  </a:lnTo>
                  <a:lnTo>
                    <a:pt x="3969" y="921"/>
                  </a:lnTo>
                  <a:lnTo>
                    <a:pt x="3966" y="896"/>
                  </a:lnTo>
                  <a:lnTo>
                    <a:pt x="3961" y="872"/>
                  </a:lnTo>
                  <a:lnTo>
                    <a:pt x="3955" y="848"/>
                  </a:lnTo>
                  <a:lnTo>
                    <a:pt x="3949" y="824"/>
                  </a:lnTo>
                  <a:lnTo>
                    <a:pt x="3941" y="799"/>
                  </a:lnTo>
                  <a:lnTo>
                    <a:pt x="3931" y="775"/>
                  </a:lnTo>
                  <a:lnTo>
                    <a:pt x="3921" y="751"/>
                  </a:lnTo>
                  <a:lnTo>
                    <a:pt x="3909" y="728"/>
                  </a:lnTo>
                  <a:lnTo>
                    <a:pt x="3897" y="706"/>
                  </a:lnTo>
                  <a:lnTo>
                    <a:pt x="3882" y="683"/>
                  </a:lnTo>
                  <a:lnTo>
                    <a:pt x="3867" y="660"/>
                  </a:lnTo>
                  <a:lnTo>
                    <a:pt x="3851" y="637"/>
                  </a:lnTo>
                  <a:lnTo>
                    <a:pt x="3834" y="614"/>
                  </a:lnTo>
                  <a:lnTo>
                    <a:pt x="3815" y="593"/>
                  </a:lnTo>
                  <a:lnTo>
                    <a:pt x="3796" y="571"/>
                  </a:lnTo>
                  <a:lnTo>
                    <a:pt x="3776" y="550"/>
                  </a:lnTo>
                  <a:lnTo>
                    <a:pt x="3755" y="529"/>
                  </a:lnTo>
                  <a:lnTo>
                    <a:pt x="3732" y="508"/>
                  </a:lnTo>
                  <a:lnTo>
                    <a:pt x="3708" y="488"/>
                  </a:lnTo>
                  <a:lnTo>
                    <a:pt x="3684" y="468"/>
                  </a:lnTo>
                  <a:lnTo>
                    <a:pt x="3658" y="448"/>
                  </a:lnTo>
                  <a:lnTo>
                    <a:pt x="3632" y="428"/>
                  </a:lnTo>
                  <a:lnTo>
                    <a:pt x="3605" y="409"/>
                  </a:lnTo>
                  <a:lnTo>
                    <a:pt x="3577" y="390"/>
                  </a:lnTo>
                  <a:lnTo>
                    <a:pt x="3547" y="372"/>
                  </a:lnTo>
                  <a:lnTo>
                    <a:pt x="3518" y="353"/>
                  </a:lnTo>
                  <a:lnTo>
                    <a:pt x="3455" y="318"/>
                  </a:lnTo>
                  <a:lnTo>
                    <a:pt x="3390" y="285"/>
                  </a:lnTo>
                  <a:lnTo>
                    <a:pt x="3320" y="252"/>
                  </a:lnTo>
                  <a:lnTo>
                    <a:pt x="3249" y="222"/>
                  </a:lnTo>
                  <a:lnTo>
                    <a:pt x="3173" y="193"/>
                  </a:lnTo>
                  <a:lnTo>
                    <a:pt x="3095" y="167"/>
                  </a:lnTo>
                  <a:lnTo>
                    <a:pt x="3015" y="141"/>
                  </a:lnTo>
                  <a:lnTo>
                    <a:pt x="2932" y="117"/>
                  </a:lnTo>
                  <a:lnTo>
                    <a:pt x="2846" y="95"/>
                  </a:lnTo>
                  <a:lnTo>
                    <a:pt x="2758" y="77"/>
                  </a:lnTo>
                  <a:lnTo>
                    <a:pt x="2668" y="59"/>
                  </a:lnTo>
                  <a:lnTo>
                    <a:pt x="2576" y="45"/>
                  </a:lnTo>
                  <a:lnTo>
                    <a:pt x="2481" y="31"/>
                  </a:lnTo>
                  <a:lnTo>
                    <a:pt x="2385" y="20"/>
                  </a:lnTo>
                  <a:lnTo>
                    <a:pt x="2287" y="11"/>
                  </a:lnTo>
                  <a:lnTo>
                    <a:pt x="2188" y="6"/>
                  </a:lnTo>
                  <a:lnTo>
                    <a:pt x="2087" y="2"/>
                  </a:lnTo>
                  <a:lnTo>
                    <a:pt x="1985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290680" y="3093120"/>
              <a:ext cx="4591080" cy="2120760"/>
            </a:xfrm>
            <a:custGeom>
              <a:avLst/>
              <a:gdLst/>
              <a:ahLst/>
              <a:rect l="l" t="t" r="r" b="b"/>
              <a:pathLst>
                <a:path w="2892" h="1337">
                  <a:moveTo>
                    <a:pt x="1446" y="0"/>
                  </a:moveTo>
                  <a:lnTo>
                    <a:pt x="1371" y="2"/>
                  </a:lnTo>
                  <a:lnTo>
                    <a:pt x="1297" y="4"/>
                  </a:lnTo>
                  <a:lnTo>
                    <a:pt x="1225" y="8"/>
                  </a:lnTo>
                  <a:lnTo>
                    <a:pt x="1154" y="14"/>
                  </a:lnTo>
                  <a:lnTo>
                    <a:pt x="1085" y="22"/>
                  </a:lnTo>
                  <a:lnTo>
                    <a:pt x="1017" y="30"/>
                  </a:lnTo>
                  <a:lnTo>
                    <a:pt x="948" y="40"/>
                  </a:lnTo>
                  <a:lnTo>
                    <a:pt x="883" y="53"/>
                  </a:lnTo>
                  <a:lnTo>
                    <a:pt x="819" y="66"/>
                  </a:lnTo>
                  <a:lnTo>
                    <a:pt x="757" y="81"/>
                  </a:lnTo>
                  <a:lnTo>
                    <a:pt x="695" y="97"/>
                  </a:lnTo>
                  <a:lnTo>
                    <a:pt x="638" y="114"/>
                  </a:lnTo>
                  <a:lnTo>
                    <a:pt x="580" y="133"/>
                  </a:lnTo>
                  <a:lnTo>
                    <a:pt x="526" y="153"/>
                  </a:lnTo>
                  <a:lnTo>
                    <a:pt x="473" y="173"/>
                  </a:lnTo>
                  <a:lnTo>
                    <a:pt x="424" y="196"/>
                  </a:lnTo>
                  <a:lnTo>
                    <a:pt x="376" y="219"/>
                  </a:lnTo>
                  <a:lnTo>
                    <a:pt x="330" y="243"/>
                  </a:lnTo>
                  <a:lnTo>
                    <a:pt x="287" y="268"/>
                  </a:lnTo>
                  <a:lnTo>
                    <a:pt x="247" y="295"/>
                  </a:lnTo>
                  <a:lnTo>
                    <a:pt x="210" y="322"/>
                  </a:lnTo>
                  <a:lnTo>
                    <a:pt x="174" y="350"/>
                  </a:lnTo>
                  <a:lnTo>
                    <a:pt x="143" y="378"/>
                  </a:lnTo>
                  <a:lnTo>
                    <a:pt x="114" y="408"/>
                  </a:lnTo>
                  <a:lnTo>
                    <a:pt x="88" y="439"/>
                  </a:lnTo>
                  <a:lnTo>
                    <a:pt x="65" y="469"/>
                  </a:lnTo>
                  <a:lnTo>
                    <a:pt x="45" y="502"/>
                  </a:lnTo>
                  <a:lnTo>
                    <a:pt x="29" y="534"/>
                  </a:lnTo>
                  <a:lnTo>
                    <a:pt x="16" y="566"/>
                  </a:lnTo>
                  <a:lnTo>
                    <a:pt x="12" y="583"/>
                  </a:lnTo>
                  <a:lnTo>
                    <a:pt x="8" y="600"/>
                  </a:lnTo>
                  <a:lnTo>
                    <a:pt x="4" y="617"/>
                  </a:lnTo>
                  <a:lnTo>
                    <a:pt x="1" y="633"/>
                  </a:lnTo>
                  <a:lnTo>
                    <a:pt x="0" y="650"/>
                  </a:lnTo>
                  <a:lnTo>
                    <a:pt x="0" y="668"/>
                  </a:lnTo>
                  <a:lnTo>
                    <a:pt x="0" y="685"/>
                  </a:lnTo>
                  <a:lnTo>
                    <a:pt x="1" y="703"/>
                  </a:lnTo>
                  <a:lnTo>
                    <a:pt x="4" y="719"/>
                  </a:lnTo>
                  <a:lnTo>
                    <a:pt x="8" y="736"/>
                  </a:lnTo>
                  <a:lnTo>
                    <a:pt x="12" y="754"/>
                  </a:lnTo>
                  <a:lnTo>
                    <a:pt x="16" y="770"/>
                  </a:lnTo>
                  <a:lnTo>
                    <a:pt x="29" y="803"/>
                  </a:lnTo>
                  <a:lnTo>
                    <a:pt x="45" y="835"/>
                  </a:lnTo>
                  <a:lnTo>
                    <a:pt x="65" y="868"/>
                  </a:lnTo>
                  <a:lnTo>
                    <a:pt x="88" y="899"/>
                  </a:lnTo>
                  <a:lnTo>
                    <a:pt x="114" y="928"/>
                  </a:lnTo>
                  <a:lnTo>
                    <a:pt x="143" y="959"/>
                  </a:lnTo>
                  <a:lnTo>
                    <a:pt x="174" y="987"/>
                  </a:lnTo>
                  <a:lnTo>
                    <a:pt x="210" y="1015"/>
                  </a:lnTo>
                  <a:lnTo>
                    <a:pt x="247" y="1042"/>
                  </a:lnTo>
                  <a:lnTo>
                    <a:pt x="287" y="1069"/>
                  </a:lnTo>
                  <a:lnTo>
                    <a:pt x="330" y="1094"/>
                  </a:lnTo>
                  <a:lnTo>
                    <a:pt x="376" y="1118"/>
                  </a:lnTo>
                  <a:lnTo>
                    <a:pt x="424" y="1141"/>
                  </a:lnTo>
                  <a:lnTo>
                    <a:pt x="473" y="1164"/>
                  </a:lnTo>
                  <a:lnTo>
                    <a:pt x="526" y="1184"/>
                  </a:lnTo>
                  <a:lnTo>
                    <a:pt x="580" y="1204"/>
                  </a:lnTo>
                  <a:lnTo>
                    <a:pt x="638" y="1223"/>
                  </a:lnTo>
                  <a:lnTo>
                    <a:pt x="695" y="1240"/>
                  </a:lnTo>
                  <a:lnTo>
                    <a:pt x="757" y="1256"/>
                  </a:lnTo>
                  <a:lnTo>
                    <a:pt x="819" y="1271"/>
                  </a:lnTo>
                  <a:lnTo>
                    <a:pt x="883" y="1285"/>
                  </a:lnTo>
                  <a:lnTo>
                    <a:pt x="948" y="1297"/>
                  </a:lnTo>
                  <a:lnTo>
                    <a:pt x="1017" y="1307"/>
                  </a:lnTo>
                  <a:lnTo>
                    <a:pt x="1085" y="1315"/>
                  </a:lnTo>
                  <a:lnTo>
                    <a:pt x="1154" y="1324"/>
                  </a:lnTo>
                  <a:lnTo>
                    <a:pt x="1225" y="1329"/>
                  </a:lnTo>
                  <a:lnTo>
                    <a:pt x="1297" y="1333"/>
                  </a:lnTo>
                  <a:lnTo>
                    <a:pt x="1371" y="1336"/>
                  </a:lnTo>
                  <a:lnTo>
                    <a:pt x="1446" y="1337"/>
                  </a:lnTo>
                  <a:lnTo>
                    <a:pt x="1521" y="1336"/>
                  </a:lnTo>
                  <a:lnTo>
                    <a:pt x="1594" y="1333"/>
                  </a:lnTo>
                  <a:lnTo>
                    <a:pt x="1667" y="1329"/>
                  </a:lnTo>
                  <a:lnTo>
                    <a:pt x="1738" y="1324"/>
                  </a:lnTo>
                  <a:lnTo>
                    <a:pt x="1807" y="1315"/>
                  </a:lnTo>
                  <a:lnTo>
                    <a:pt x="1875" y="1307"/>
                  </a:lnTo>
                  <a:lnTo>
                    <a:pt x="1944" y="1297"/>
                  </a:lnTo>
                  <a:lnTo>
                    <a:pt x="2009" y="1285"/>
                  </a:lnTo>
                  <a:lnTo>
                    <a:pt x="2073" y="1271"/>
                  </a:lnTo>
                  <a:lnTo>
                    <a:pt x="2135" y="1256"/>
                  </a:lnTo>
                  <a:lnTo>
                    <a:pt x="2196" y="1240"/>
                  </a:lnTo>
                  <a:lnTo>
                    <a:pt x="2254" y="1223"/>
                  </a:lnTo>
                  <a:lnTo>
                    <a:pt x="2311" y="1204"/>
                  </a:lnTo>
                  <a:lnTo>
                    <a:pt x="2366" y="1184"/>
                  </a:lnTo>
                  <a:lnTo>
                    <a:pt x="2419" y="1164"/>
                  </a:lnTo>
                  <a:lnTo>
                    <a:pt x="2468" y="1141"/>
                  </a:lnTo>
                  <a:lnTo>
                    <a:pt x="2516" y="1118"/>
                  </a:lnTo>
                  <a:lnTo>
                    <a:pt x="2562" y="1094"/>
                  </a:lnTo>
                  <a:lnTo>
                    <a:pt x="2604" y="1069"/>
                  </a:lnTo>
                  <a:lnTo>
                    <a:pt x="2645" y="1042"/>
                  </a:lnTo>
                  <a:lnTo>
                    <a:pt x="2683" y="1015"/>
                  </a:lnTo>
                  <a:lnTo>
                    <a:pt x="2718" y="987"/>
                  </a:lnTo>
                  <a:lnTo>
                    <a:pt x="2749" y="959"/>
                  </a:lnTo>
                  <a:lnTo>
                    <a:pt x="2778" y="928"/>
                  </a:lnTo>
                  <a:lnTo>
                    <a:pt x="2804" y="899"/>
                  </a:lnTo>
                  <a:lnTo>
                    <a:pt x="2827" y="868"/>
                  </a:lnTo>
                  <a:lnTo>
                    <a:pt x="2847" y="835"/>
                  </a:lnTo>
                  <a:lnTo>
                    <a:pt x="2863" y="803"/>
                  </a:lnTo>
                  <a:lnTo>
                    <a:pt x="2876" y="770"/>
                  </a:lnTo>
                  <a:lnTo>
                    <a:pt x="2880" y="754"/>
                  </a:lnTo>
                  <a:lnTo>
                    <a:pt x="2884" y="736"/>
                  </a:lnTo>
                  <a:lnTo>
                    <a:pt x="2888" y="719"/>
                  </a:lnTo>
                  <a:lnTo>
                    <a:pt x="2891" y="703"/>
                  </a:lnTo>
                  <a:lnTo>
                    <a:pt x="2892" y="685"/>
                  </a:lnTo>
                  <a:lnTo>
                    <a:pt x="2892" y="668"/>
                  </a:lnTo>
                  <a:lnTo>
                    <a:pt x="2892" y="650"/>
                  </a:lnTo>
                  <a:lnTo>
                    <a:pt x="2891" y="633"/>
                  </a:lnTo>
                  <a:lnTo>
                    <a:pt x="2888" y="617"/>
                  </a:lnTo>
                  <a:lnTo>
                    <a:pt x="2884" y="600"/>
                  </a:lnTo>
                  <a:lnTo>
                    <a:pt x="2880" y="583"/>
                  </a:lnTo>
                  <a:lnTo>
                    <a:pt x="2876" y="566"/>
                  </a:lnTo>
                  <a:lnTo>
                    <a:pt x="2863" y="534"/>
                  </a:lnTo>
                  <a:lnTo>
                    <a:pt x="2847" y="502"/>
                  </a:lnTo>
                  <a:lnTo>
                    <a:pt x="2827" y="469"/>
                  </a:lnTo>
                  <a:lnTo>
                    <a:pt x="2804" y="439"/>
                  </a:lnTo>
                  <a:lnTo>
                    <a:pt x="2778" y="408"/>
                  </a:lnTo>
                  <a:lnTo>
                    <a:pt x="2749" y="378"/>
                  </a:lnTo>
                  <a:lnTo>
                    <a:pt x="2718" y="350"/>
                  </a:lnTo>
                  <a:lnTo>
                    <a:pt x="2683" y="322"/>
                  </a:lnTo>
                  <a:lnTo>
                    <a:pt x="2645" y="295"/>
                  </a:lnTo>
                  <a:lnTo>
                    <a:pt x="2604" y="268"/>
                  </a:lnTo>
                  <a:lnTo>
                    <a:pt x="2562" y="243"/>
                  </a:lnTo>
                  <a:lnTo>
                    <a:pt x="2516" y="219"/>
                  </a:lnTo>
                  <a:lnTo>
                    <a:pt x="2468" y="196"/>
                  </a:lnTo>
                  <a:lnTo>
                    <a:pt x="2419" y="173"/>
                  </a:lnTo>
                  <a:lnTo>
                    <a:pt x="2366" y="153"/>
                  </a:lnTo>
                  <a:lnTo>
                    <a:pt x="2311" y="133"/>
                  </a:lnTo>
                  <a:lnTo>
                    <a:pt x="2254" y="114"/>
                  </a:lnTo>
                  <a:lnTo>
                    <a:pt x="2196" y="97"/>
                  </a:lnTo>
                  <a:lnTo>
                    <a:pt x="2135" y="81"/>
                  </a:lnTo>
                  <a:lnTo>
                    <a:pt x="2073" y="66"/>
                  </a:lnTo>
                  <a:lnTo>
                    <a:pt x="2009" y="53"/>
                  </a:lnTo>
                  <a:lnTo>
                    <a:pt x="1944" y="40"/>
                  </a:lnTo>
                  <a:lnTo>
                    <a:pt x="1875" y="30"/>
                  </a:lnTo>
                  <a:lnTo>
                    <a:pt x="1807" y="22"/>
                  </a:lnTo>
                  <a:lnTo>
                    <a:pt x="1738" y="14"/>
                  </a:lnTo>
                  <a:lnTo>
                    <a:pt x="1667" y="8"/>
                  </a:lnTo>
                  <a:lnTo>
                    <a:pt x="1594" y="4"/>
                  </a:lnTo>
                  <a:lnTo>
                    <a:pt x="1521" y="2"/>
                  </a:lnTo>
                  <a:lnTo>
                    <a:pt x="1446" y="0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290680" y="3093120"/>
              <a:ext cx="4591080" cy="2120760"/>
            </a:xfrm>
            <a:custGeom>
              <a:avLst/>
              <a:gdLst/>
              <a:ahLst/>
              <a:rect l="l" t="t" r="r" b="b"/>
              <a:pathLst>
                <a:path w="2892" h="1337">
                  <a:moveTo>
                    <a:pt x="1446" y="0"/>
                  </a:moveTo>
                  <a:lnTo>
                    <a:pt x="1371" y="2"/>
                  </a:lnTo>
                  <a:lnTo>
                    <a:pt x="1297" y="4"/>
                  </a:lnTo>
                  <a:lnTo>
                    <a:pt x="1225" y="8"/>
                  </a:lnTo>
                  <a:lnTo>
                    <a:pt x="1154" y="14"/>
                  </a:lnTo>
                  <a:lnTo>
                    <a:pt x="1085" y="22"/>
                  </a:lnTo>
                  <a:lnTo>
                    <a:pt x="1017" y="30"/>
                  </a:lnTo>
                  <a:lnTo>
                    <a:pt x="948" y="40"/>
                  </a:lnTo>
                  <a:lnTo>
                    <a:pt x="883" y="53"/>
                  </a:lnTo>
                  <a:lnTo>
                    <a:pt x="819" y="66"/>
                  </a:lnTo>
                  <a:lnTo>
                    <a:pt x="757" y="81"/>
                  </a:lnTo>
                  <a:lnTo>
                    <a:pt x="695" y="97"/>
                  </a:lnTo>
                  <a:lnTo>
                    <a:pt x="638" y="114"/>
                  </a:lnTo>
                  <a:lnTo>
                    <a:pt x="580" y="133"/>
                  </a:lnTo>
                  <a:lnTo>
                    <a:pt x="526" y="153"/>
                  </a:lnTo>
                  <a:lnTo>
                    <a:pt x="473" y="173"/>
                  </a:lnTo>
                  <a:lnTo>
                    <a:pt x="424" y="196"/>
                  </a:lnTo>
                  <a:lnTo>
                    <a:pt x="376" y="219"/>
                  </a:lnTo>
                  <a:lnTo>
                    <a:pt x="330" y="243"/>
                  </a:lnTo>
                  <a:lnTo>
                    <a:pt x="287" y="268"/>
                  </a:lnTo>
                  <a:lnTo>
                    <a:pt x="247" y="295"/>
                  </a:lnTo>
                  <a:lnTo>
                    <a:pt x="210" y="322"/>
                  </a:lnTo>
                  <a:lnTo>
                    <a:pt x="174" y="350"/>
                  </a:lnTo>
                  <a:lnTo>
                    <a:pt x="143" y="378"/>
                  </a:lnTo>
                  <a:lnTo>
                    <a:pt x="114" y="408"/>
                  </a:lnTo>
                  <a:lnTo>
                    <a:pt x="88" y="439"/>
                  </a:lnTo>
                  <a:lnTo>
                    <a:pt x="65" y="469"/>
                  </a:lnTo>
                  <a:lnTo>
                    <a:pt x="45" y="502"/>
                  </a:lnTo>
                  <a:lnTo>
                    <a:pt x="29" y="534"/>
                  </a:lnTo>
                  <a:lnTo>
                    <a:pt x="16" y="566"/>
                  </a:lnTo>
                  <a:lnTo>
                    <a:pt x="12" y="583"/>
                  </a:lnTo>
                  <a:lnTo>
                    <a:pt x="8" y="600"/>
                  </a:lnTo>
                  <a:lnTo>
                    <a:pt x="4" y="617"/>
                  </a:lnTo>
                  <a:lnTo>
                    <a:pt x="1" y="633"/>
                  </a:lnTo>
                  <a:lnTo>
                    <a:pt x="0" y="650"/>
                  </a:lnTo>
                  <a:lnTo>
                    <a:pt x="0" y="668"/>
                  </a:lnTo>
                  <a:lnTo>
                    <a:pt x="0" y="685"/>
                  </a:lnTo>
                  <a:lnTo>
                    <a:pt x="1" y="703"/>
                  </a:lnTo>
                  <a:lnTo>
                    <a:pt x="4" y="719"/>
                  </a:lnTo>
                  <a:lnTo>
                    <a:pt x="8" y="736"/>
                  </a:lnTo>
                  <a:lnTo>
                    <a:pt x="12" y="754"/>
                  </a:lnTo>
                  <a:lnTo>
                    <a:pt x="16" y="770"/>
                  </a:lnTo>
                  <a:lnTo>
                    <a:pt x="29" y="803"/>
                  </a:lnTo>
                  <a:lnTo>
                    <a:pt x="45" y="835"/>
                  </a:lnTo>
                  <a:lnTo>
                    <a:pt x="65" y="868"/>
                  </a:lnTo>
                  <a:lnTo>
                    <a:pt x="88" y="899"/>
                  </a:lnTo>
                  <a:lnTo>
                    <a:pt x="114" y="928"/>
                  </a:lnTo>
                  <a:lnTo>
                    <a:pt x="143" y="959"/>
                  </a:lnTo>
                  <a:lnTo>
                    <a:pt x="174" y="987"/>
                  </a:lnTo>
                  <a:lnTo>
                    <a:pt x="210" y="1015"/>
                  </a:lnTo>
                  <a:lnTo>
                    <a:pt x="247" y="1042"/>
                  </a:lnTo>
                  <a:lnTo>
                    <a:pt x="287" y="1069"/>
                  </a:lnTo>
                  <a:lnTo>
                    <a:pt x="330" y="1094"/>
                  </a:lnTo>
                  <a:lnTo>
                    <a:pt x="376" y="1118"/>
                  </a:lnTo>
                  <a:lnTo>
                    <a:pt x="424" y="1141"/>
                  </a:lnTo>
                  <a:lnTo>
                    <a:pt x="473" y="1164"/>
                  </a:lnTo>
                  <a:lnTo>
                    <a:pt x="526" y="1184"/>
                  </a:lnTo>
                  <a:lnTo>
                    <a:pt x="580" y="1204"/>
                  </a:lnTo>
                  <a:lnTo>
                    <a:pt x="638" y="1223"/>
                  </a:lnTo>
                  <a:lnTo>
                    <a:pt x="695" y="1240"/>
                  </a:lnTo>
                  <a:lnTo>
                    <a:pt x="757" y="1256"/>
                  </a:lnTo>
                  <a:lnTo>
                    <a:pt x="819" y="1271"/>
                  </a:lnTo>
                  <a:lnTo>
                    <a:pt x="883" y="1285"/>
                  </a:lnTo>
                  <a:lnTo>
                    <a:pt x="948" y="1297"/>
                  </a:lnTo>
                  <a:lnTo>
                    <a:pt x="1017" y="1307"/>
                  </a:lnTo>
                  <a:lnTo>
                    <a:pt x="1085" y="1315"/>
                  </a:lnTo>
                  <a:lnTo>
                    <a:pt x="1154" y="1324"/>
                  </a:lnTo>
                  <a:lnTo>
                    <a:pt x="1225" y="1329"/>
                  </a:lnTo>
                  <a:lnTo>
                    <a:pt x="1297" y="1333"/>
                  </a:lnTo>
                  <a:lnTo>
                    <a:pt x="1371" y="1336"/>
                  </a:lnTo>
                  <a:lnTo>
                    <a:pt x="1446" y="1337"/>
                  </a:lnTo>
                  <a:lnTo>
                    <a:pt x="1521" y="1336"/>
                  </a:lnTo>
                  <a:lnTo>
                    <a:pt x="1594" y="1333"/>
                  </a:lnTo>
                  <a:lnTo>
                    <a:pt x="1667" y="1329"/>
                  </a:lnTo>
                  <a:lnTo>
                    <a:pt x="1738" y="1324"/>
                  </a:lnTo>
                  <a:lnTo>
                    <a:pt x="1807" y="1315"/>
                  </a:lnTo>
                  <a:lnTo>
                    <a:pt x="1875" y="1307"/>
                  </a:lnTo>
                  <a:lnTo>
                    <a:pt x="1944" y="1297"/>
                  </a:lnTo>
                  <a:lnTo>
                    <a:pt x="2009" y="1285"/>
                  </a:lnTo>
                  <a:lnTo>
                    <a:pt x="2073" y="1271"/>
                  </a:lnTo>
                  <a:lnTo>
                    <a:pt x="2135" y="1256"/>
                  </a:lnTo>
                  <a:lnTo>
                    <a:pt x="2196" y="1240"/>
                  </a:lnTo>
                  <a:lnTo>
                    <a:pt x="2254" y="1223"/>
                  </a:lnTo>
                  <a:lnTo>
                    <a:pt x="2311" y="1204"/>
                  </a:lnTo>
                  <a:lnTo>
                    <a:pt x="2366" y="1184"/>
                  </a:lnTo>
                  <a:lnTo>
                    <a:pt x="2419" y="1164"/>
                  </a:lnTo>
                  <a:lnTo>
                    <a:pt x="2468" y="1141"/>
                  </a:lnTo>
                  <a:lnTo>
                    <a:pt x="2516" y="1118"/>
                  </a:lnTo>
                  <a:lnTo>
                    <a:pt x="2562" y="1094"/>
                  </a:lnTo>
                  <a:lnTo>
                    <a:pt x="2604" y="1069"/>
                  </a:lnTo>
                  <a:lnTo>
                    <a:pt x="2645" y="1042"/>
                  </a:lnTo>
                  <a:lnTo>
                    <a:pt x="2683" y="1015"/>
                  </a:lnTo>
                  <a:lnTo>
                    <a:pt x="2718" y="987"/>
                  </a:lnTo>
                  <a:lnTo>
                    <a:pt x="2749" y="959"/>
                  </a:lnTo>
                  <a:lnTo>
                    <a:pt x="2778" y="928"/>
                  </a:lnTo>
                  <a:lnTo>
                    <a:pt x="2804" y="899"/>
                  </a:lnTo>
                  <a:lnTo>
                    <a:pt x="2827" y="868"/>
                  </a:lnTo>
                  <a:lnTo>
                    <a:pt x="2847" y="835"/>
                  </a:lnTo>
                  <a:lnTo>
                    <a:pt x="2863" y="803"/>
                  </a:lnTo>
                  <a:lnTo>
                    <a:pt x="2876" y="770"/>
                  </a:lnTo>
                  <a:lnTo>
                    <a:pt x="2880" y="754"/>
                  </a:lnTo>
                  <a:lnTo>
                    <a:pt x="2884" y="736"/>
                  </a:lnTo>
                  <a:lnTo>
                    <a:pt x="2888" y="719"/>
                  </a:lnTo>
                  <a:lnTo>
                    <a:pt x="2891" y="703"/>
                  </a:lnTo>
                  <a:lnTo>
                    <a:pt x="2892" y="685"/>
                  </a:lnTo>
                  <a:lnTo>
                    <a:pt x="2892" y="668"/>
                  </a:lnTo>
                  <a:lnTo>
                    <a:pt x="2892" y="650"/>
                  </a:lnTo>
                  <a:lnTo>
                    <a:pt x="2891" y="633"/>
                  </a:lnTo>
                  <a:lnTo>
                    <a:pt x="2888" y="617"/>
                  </a:lnTo>
                  <a:lnTo>
                    <a:pt x="2884" y="600"/>
                  </a:lnTo>
                  <a:lnTo>
                    <a:pt x="2880" y="583"/>
                  </a:lnTo>
                  <a:lnTo>
                    <a:pt x="2876" y="566"/>
                  </a:lnTo>
                  <a:lnTo>
                    <a:pt x="2863" y="534"/>
                  </a:lnTo>
                  <a:lnTo>
                    <a:pt x="2847" y="502"/>
                  </a:lnTo>
                  <a:lnTo>
                    <a:pt x="2827" y="469"/>
                  </a:lnTo>
                  <a:lnTo>
                    <a:pt x="2804" y="439"/>
                  </a:lnTo>
                  <a:lnTo>
                    <a:pt x="2778" y="408"/>
                  </a:lnTo>
                  <a:lnTo>
                    <a:pt x="2749" y="378"/>
                  </a:lnTo>
                  <a:lnTo>
                    <a:pt x="2718" y="350"/>
                  </a:lnTo>
                  <a:lnTo>
                    <a:pt x="2683" y="322"/>
                  </a:lnTo>
                  <a:lnTo>
                    <a:pt x="2645" y="295"/>
                  </a:lnTo>
                  <a:lnTo>
                    <a:pt x="2604" y="268"/>
                  </a:lnTo>
                  <a:lnTo>
                    <a:pt x="2562" y="243"/>
                  </a:lnTo>
                  <a:lnTo>
                    <a:pt x="2516" y="219"/>
                  </a:lnTo>
                  <a:lnTo>
                    <a:pt x="2468" y="196"/>
                  </a:lnTo>
                  <a:lnTo>
                    <a:pt x="2419" y="173"/>
                  </a:lnTo>
                  <a:lnTo>
                    <a:pt x="2366" y="153"/>
                  </a:lnTo>
                  <a:lnTo>
                    <a:pt x="2311" y="133"/>
                  </a:lnTo>
                  <a:lnTo>
                    <a:pt x="2254" y="114"/>
                  </a:lnTo>
                  <a:lnTo>
                    <a:pt x="2196" y="97"/>
                  </a:lnTo>
                  <a:lnTo>
                    <a:pt x="2135" y="81"/>
                  </a:lnTo>
                  <a:lnTo>
                    <a:pt x="2073" y="66"/>
                  </a:lnTo>
                  <a:lnTo>
                    <a:pt x="2009" y="53"/>
                  </a:lnTo>
                  <a:lnTo>
                    <a:pt x="1944" y="40"/>
                  </a:lnTo>
                  <a:lnTo>
                    <a:pt x="1875" y="30"/>
                  </a:lnTo>
                  <a:lnTo>
                    <a:pt x="1807" y="22"/>
                  </a:lnTo>
                  <a:lnTo>
                    <a:pt x="1738" y="14"/>
                  </a:lnTo>
                  <a:lnTo>
                    <a:pt x="1667" y="8"/>
                  </a:lnTo>
                  <a:lnTo>
                    <a:pt x="1594" y="4"/>
                  </a:lnTo>
                  <a:lnTo>
                    <a:pt x="1521" y="2"/>
                  </a:lnTo>
                  <a:lnTo>
                    <a:pt x="1446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855960" y="3597480"/>
              <a:ext cx="1511280" cy="1262520"/>
            </a:xfrm>
            <a:custGeom>
              <a:avLst/>
              <a:gdLst/>
              <a:ahLst/>
              <a:rect l="l" t="t" r="r" b="b"/>
              <a:pathLst>
                <a:path w="952" h="796">
                  <a:moveTo>
                    <a:pt x="476" y="0"/>
                  </a:moveTo>
                  <a:lnTo>
                    <a:pt x="452" y="0"/>
                  </a:lnTo>
                  <a:lnTo>
                    <a:pt x="428" y="3"/>
                  </a:lnTo>
                  <a:lnTo>
                    <a:pt x="404" y="4"/>
                  </a:lnTo>
                  <a:lnTo>
                    <a:pt x="380" y="8"/>
                  </a:lnTo>
                  <a:lnTo>
                    <a:pt x="357" y="12"/>
                  </a:lnTo>
                  <a:lnTo>
                    <a:pt x="334" y="17"/>
                  </a:lnTo>
                  <a:lnTo>
                    <a:pt x="311" y="24"/>
                  </a:lnTo>
                  <a:lnTo>
                    <a:pt x="290" y="31"/>
                  </a:lnTo>
                  <a:lnTo>
                    <a:pt x="270" y="39"/>
                  </a:lnTo>
                  <a:lnTo>
                    <a:pt x="249" y="48"/>
                  </a:lnTo>
                  <a:lnTo>
                    <a:pt x="229" y="58"/>
                  </a:lnTo>
                  <a:lnTo>
                    <a:pt x="210" y="68"/>
                  </a:lnTo>
                  <a:lnTo>
                    <a:pt x="191" y="79"/>
                  </a:lnTo>
                  <a:lnTo>
                    <a:pt x="172" y="91"/>
                  </a:lnTo>
                  <a:lnTo>
                    <a:pt x="156" y="103"/>
                  </a:lnTo>
                  <a:lnTo>
                    <a:pt x="139" y="117"/>
                  </a:lnTo>
                  <a:lnTo>
                    <a:pt x="123" y="130"/>
                  </a:lnTo>
                  <a:lnTo>
                    <a:pt x="108" y="145"/>
                  </a:lnTo>
                  <a:lnTo>
                    <a:pt x="95" y="160"/>
                  </a:lnTo>
                  <a:lnTo>
                    <a:pt x="81" y="176"/>
                  </a:lnTo>
                  <a:lnTo>
                    <a:pt x="68" y="192"/>
                  </a:lnTo>
                  <a:lnTo>
                    <a:pt x="57" y="208"/>
                  </a:lnTo>
                  <a:lnTo>
                    <a:pt x="47" y="225"/>
                  </a:lnTo>
                  <a:lnTo>
                    <a:pt x="37" y="243"/>
                  </a:lnTo>
                  <a:lnTo>
                    <a:pt x="29" y="261"/>
                  </a:lnTo>
                  <a:lnTo>
                    <a:pt x="21" y="280"/>
                  </a:lnTo>
                  <a:lnTo>
                    <a:pt x="14" y="299"/>
                  </a:lnTo>
                  <a:lnTo>
                    <a:pt x="9" y="318"/>
                  </a:lnTo>
                  <a:lnTo>
                    <a:pt x="5" y="338"/>
                  </a:lnTo>
                  <a:lnTo>
                    <a:pt x="2" y="358"/>
                  </a:lnTo>
                  <a:lnTo>
                    <a:pt x="0" y="378"/>
                  </a:lnTo>
                  <a:lnTo>
                    <a:pt x="0" y="398"/>
                  </a:lnTo>
                  <a:lnTo>
                    <a:pt x="0" y="418"/>
                  </a:lnTo>
                  <a:lnTo>
                    <a:pt x="2" y="438"/>
                  </a:lnTo>
                  <a:lnTo>
                    <a:pt x="5" y="459"/>
                  </a:lnTo>
                  <a:lnTo>
                    <a:pt x="9" y="479"/>
                  </a:lnTo>
                  <a:lnTo>
                    <a:pt x="14" y="497"/>
                  </a:lnTo>
                  <a:lnTo>
                    <a:pt x="21" y="516"/>
                  </a:lnTo>
                  <a:lnTo>
                    <a:pt x="29" y="535"/>
                  </a:lnTo>
                  <a:lnTo>
                    <a:pt x="37" y="554"/>
                  </a:lnTo>
                  <a:lnTo>
                    <a:pt x="47" y="571"/>
                  </a:lnTo>
                  <a:lnTo>
                    <a:pt x="57" y="589"/>
                  </a:lnTo>
                  <a:lnTo>
                    <a:pt x="68" y="605"/>
                  </a:lnTo>
                  <a:lnTo>
                    <a:pt x="81" y="621"/>
                  </a:lnTo>
                  <a:lnTo>
                    <a:pt x="95" y="637"/>
                  </a:lnTo>
                  <a:lnTo>
                    <a:pt x="108" y="652"/>
                  </a:lnTo>
                  <a:lnTo>
                    <a:pt x="123" y="666"/>
                  </a:lnTo>
                  <a:lnTo>
                    <a:pt x="139" y="680"/>
                  </a:lnTo>
                  <a:lnTo>
                    <a:pt x="156" y="693"/>
                  </a:lnTo>
                  <a:lnTo>
                    <a:pt x="172" y="705"/>
                  </a:lnTo>
                  <a:lnTo>
                    <a:pt x="191" y="717"/>
                  </a:lnTo>
                  <a:lnTo>
                    <a:pt x="210" y="728"/>
                  </a:lnTo>
                  <a:lnTo>
                    <a:pt x="229" y="739"/>
                  </a:lnTo>
                  <a:lnTo>
                    <a:pt x="249" y="748"/>
                  </a:lnTo>
                  <a:lnTo>
                    <a:pt x="270" y="757"/>
                  </a:lnTo>
                  <a:lnTo>
                    <a:pt x="290" y="766"/>
                  </a:lnTo>
                  <a:lnTo>
                    <a:pt x="311" y="772"/>
                  </a:lnTo>
                  <a:lnTo>
                    <a:pt x="334" y="779"/>
                  </a:lnTo>
                  <a:lnTo>
                    <a:pt x="357" y="784"/>
                  </a:lnTo>
                  <a:lnTo>
                    <a:pt x="380" y="788"/>
                  </a:lnTo>
                  <a:lnTo>
                    <a:pt x="404" y="792"/>
                  </a:lnTo>
                  <a:lnTo>
                    <a:pt x="428" y="794"/>
                  </a:lnTo>
                  <a:lnTo>
                    <a:pt x="452" y="796"/>
                  </a:lnTo>
                  <a:lnTo>
                    <a:pt x="476" y="796"/>
                  </a:lnTo>
                  <a:lnTo>
                    <a:pt x="500" y="796"/>
                  </a:lnTo>
                  <a:lnTo>
                    <a:pt x="524" y="794"/>
                  </a:lnTo>
                  <a:lnTo>
                    <a:pt x="548" y="792"/>
                  </a:lnTo>
                  <a:lnTo>
                    <a:pt x="572" y="788"/>
                  </a:lnTo>
                  <a:lnTo>
                    <a:pt x="595" y="784"/>
                  </a:lnTo>
                  <a:lnTo>
                    <a:pt x="618" y="779"/>
                  </a:lnTo>
                  <a:lnTo>
                    <a:pt x="641" y="772"/>
                  </a:lnTo>
                  <a:lnTo>
                    <a:pt x="662" y="766"/>
                  </a:lnTo>
                  <a:lnTo>
                    <a:pt x="683" y="757"/>
                  </a:lnTo>
                  <a:lnTo>
                    <a:pt x="703" y="748"/>
                  </a:lnTo>
                  <a:lnTo>
                    <a:pt x="723" y="739"/>
                  </a:lnTo>
                  <a:lnTo>
                    <a:pt x="742" y="728"/>
                  </a:lnTo>
                  <a:lnTo>
                    <a:pt x="761" y="717"/>
                  </a:lnTo>
                  <a:lnTo>
                    <a:pt x="780" y="705"/>
                  </a:lnTo>
                  <a:lnTo>
                    <a:pt x="797" y="693"/>
                  </a:lnTo>
                  <a:lnTo>
                    <a:pt x="813" y="680"/>
                  </a:lnTo>
                  <a:lnTo>
                    <a:pt x="829" y="666"/>
                  </a:lnTo>
                  <a:lnTo>
                    <a:pt x="844" y="652"/>
                  </a:lnTo>
                  <a:lnTo>
                    <a:pt x="857" y="637"/>
                  </a:lnTo>
                  <a:lnTo>
                    <a:pt x="871" y="621"/>
                  </a:lnTo>
                  <a:lnTo>
                    <a:pt x="884" y="605"/>
                  </a:lnTo>
                  <a:lnTo>
                    <a:pt x="895" y="589"/>
                  </a:lnTo>
                  <a:lnTo>
                    <a:pt x="905" y="571"/>
                  </a:lnTo>
                  <a:lnTo>
                    <a:pt x="915" y="554"/>
                  </a:lnTo>
                  <a:lnTo>
                    <a:pt x="923" y="535"/>
                  </a:lnTo>
                  <a:lnTo>
                    <a:pt x="931" y="516"/>
                  </a:lnTo>
                  <a:lnTo>
                    <a:pt x="938" y="497"/>
                  </a:lnTo>
                  <a:lnTo>
                    <a:pt x="943" y="479"/>
                  </a:lnTo>
                  <a:lnTo>
                    <a:pt x="947" y="459"/>
                  </a:lnTo>
                  <a:lnTo>
                    <a:pt x="950" y="438"/>
                  </a:lnTo>
                  <a:lnTo>
                    <a:pt x="952" y="418"/>
                  </a:lnTo>
                  <a:lnTo>
                    <a:pt x="952" y="398"/>
                  </a:lnTo>
                  <a:lnTo>
                    <a:pt x="952" y="378"/>
                  </a:lnTo>
                  <a:lnTo>
                    <a:pt x="950" y="358"/>
                  </a:lnTo>
                  <a:lnTo>
                    <a:pt x="947" y="338"/>
                  </a:lnTo>
                  <a:lnTo>
                    <a:pt x="943" y="318"/>
                  </a:lnTo>
                  <a:lnTo>
                    <a:pt x="938" y="299"/>
                  </a:lnTo>
                  <a:lnTo>
                    <a:pt x="931" y="280"/>
                  </a:lnTo>
                  <a:lnTo>
                    <a:pt x="923" y="261"/>
                  </a:lnTo>
                  <a:lnTo>
                    <a:pt x="915" y="243"/>
                  </a:lnTo>
                  <a:lnTo>
                    <a:pt x="905" y="225"/>
                  </a:lnTo>
                  <a:lnTo>
                    <a:pt x="895" y="208"/>
                  </a:lnTo>
                  <a:lnTo>
                    <a:pt x="884" y="192"/>
                  </a:lnTo>
                  <a:lnTo>
                    <a:pt x="871" y="176"/>
                  </a:lnTo>
                  <a:lnTo>
                    <a:pt x="857" y="160"/>
                  </a:lnTo>
                  <a:lnTo>
                    <a:pt x="844" y="145"/>
                  </a:lnTo>
                  <a:lnTo>
                    <a:pt x="829" y="130"/>
                  </a:lnTo>
                  <a:lnTo>
                    <a:pt x="813" y="117"/>
                  </a:lnTo>
                  <a:lnTo>
                    <a:pt x="797" y="103"/>
                  </a:lnTo>
                  <a:lnTo>
                    <a:pt x="780" y="91"/>
                  </a:lnTo>
                  <a:lnTo>
                    <a:pt x="761" y="79"/>
                  </a:lnTo>
                  <a:lnTo>
                    <a:pt x="742" y="68"/>
                  </a:lnTo>
                  <a:lnTo>
                    <a:pt x="723" y="58"/>
                  </a:lnTo>
                  <a:lnTo>
                    <a:pt x="703" y="48"/>
                  </a:lnTo>
                  <a:lnTo>
                    <a:pt x="683" y="39"/>
                  </a:lnTo>
                  <a:lnTo>
                    <a:pt x="662" y="31"/>
                  </a:lnTo>
                  <a:lnTo>
                    <a:pt x="641" y="24"/>
                  </a:lnTo>
                  <a:lnTo>
                    <a:pt x="618" y="17"/>
                  </a:lnTo>
                  <a:lnTo>
                    <a:pt x="595" y="12"/>
                  </a:lnTo>
                  <a:lnTo>
                    <a:pt x="572" y="8"/>
                  </a:lnTo>
                  <a:lnTo>
                    <a:pt x="548" y="4"/>
                  </a:lnTo>
                  <a:lnTo>
                    <a:pt x="524" y="3"/>
                  </a:lnTo>
                  <a:lnTo>
                    <a:pt x="500" y="0"/>
                  </a:lnTo>
                  <a:lnTo>
                    <a:pt x="476" y="0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55960" y="3597480"/>
              <a:ext cx="1511280" cy="1262520"/>
            </a:xfrm>
            <a:custGeom>
              <a:avLst/>
              <a:gdLst/>
              <a:ahLst/>
              <a:rect l="l" t="t" r="r" b="b"/>
              <a:pathLst>
                <a:path w="952" h="796">
                  <a:moveTo>
                    <a:pt x="476" y="0"/>
                  </a:moveTo>
                  <a:lnTo>
                    <a:pt x="452" y="0"/>
                  </a:lnTo>
                  <a:lnTo>
                    <a:pt x="428" y="3"/>
                  </a:lnTo>
                  <a:lnTo>
                    <a:pt x="404" y="4"/>
                  </a:lnTo>
                  <a:lnTo>
                    <a:pt x="380" y="8"/>
                  </a:lnTo>
                  <a:lnTo>
                    <a:pt x="357" y="12"/>
                  </a:lnTo>
                  <a:lnTo>
                    <a:pt x="334" y="17"/>
                  </a:lnTo>
                  <a:lnTo>
                    <a:pt x="311" y="24"/>
                  </a:lnTo>
                  <a:lnTo>
                    <a:pt x="290" y="31"/>
                  </a:lnTo>
                  <a:lnTo>
                    <a:pt x="270" y="39"/>
                  </a:lnTo>
                  <a:lnTo>
                    <a:pt x="249" y="48"/>
                  </a:lnTo>
                  <a:lnTo>
                    <a:pt x="229" y="58"/>
                  </a:lnTo>
                  <a:lnTo>
                    <a:pt x="210" y="68"/>
                  </a:lnTo>
                  <a:lnTo>
                    <a:pt x="191" y="79"/>
                  </a:lnTo>
                  <a:lnTo>
                    <a:pt x="172" y="91"/>
                  </a:lnTo>
                  <a:lnTo>
                    <a:pt x="156" y="103"/>
                  </a:lnTo>
                  <a:lnTo>
                    <a:pt x="139" y="117"/>
                  </a:lnTo>
                  <a:lnTo>
                    <a:pt x="123" y="130"/>
                  </a:lnTo>
                  <a:lnTo>
                    <a:pt x="108" y="145"/>
                  </a:lnTo>
                  <a:lnTo>
                    <a:pt x="95" y="160"/>
                  </a:lnTo>
                  <a:lnTo>
                    <a:pt x="81" y="176"/>
                  </a:lnTo>
                  <a:lnTo>
                    <a:pt x="68" y="192"/>
                  </a:lnTo>
                  <a:lnTo>
                    <a:pt x="57" y="208"/>
                  </a:lnTo>
                  <a:lnTo>
                    <a:pt x="47" y="225"/>
                  </a:lnTo>
                  <a:lnTo>
                    <a:pt x="37" y="243"/>
                  </a:lnTo>
                  <a:lnTo>
                    <a:pt x="29" y="261"/>
                  </a:lnTo>
                  <a:lnTo>
                    <a:pt x="21" y="280"/>
                  </a:lnTo>
                  <a:lnTo>
                    <a:pt x="14" y="299"/>
                  </a:lnTo>
                  <a:lnTo>
                    <a:pt x="9" y="318"/>
                  </a:lnTo>
                  <a:lnTo>
                    <a:pt x="5" y="338"/>
                  </a:lnTo>
                  <a:lnTo>
                    <a:pt x="2" y="358"/>
                  </a:lnTo>
                  <a:lnTo>
                    <a:pt x="0" y="378"/>
                  </a:lnTo>
                  <a:lnTo>
                    <a:pt x="0" y="398"/>
                  </a:lnTo>
                  <a:lnTo>
                    <a:pt x="0" y="418"/>
                  </a:lnTo>
                  <a:lnTo>
                    <a:pt x="2" y="438"/>
                  </a:lnTo>
                  <a:lnTo>
                    <a:pt x="5" y="459"/>
                  </a:lnTo>
                  <a:lnTo>
                    <a:pt x="9" y="479"/>
                  </a:lnTo>
                  <a:lnTo>
                    <a:pt x="14" y="497"/>
                  </a:lnTo>
                  <a:lnTo>
                    <a:pt x="21" y="516"/>
                  </a:lnTo>
                  <a:lnTo>
                    <a:pt x="29" y="535"/>
                  </a:lnTo>
                  <a:lnTo>
                    <a:pt x="37" y="554"/>
                  </a:lnTo>
                  <a:lnTo>
                    <a:pt x="47" y="571"/>
                  </a:lnTo>
                  <a:lnTo>
                    <a:pt x="57" y="589"/>
                  </a:lnTo>
                  <a:lnTo>
                    <a:pt x="68" y="605"/>
                  </a:lnTo>
                  <a:lnTo>
                    <a:pt x="81" y="621"/>
                  </a:lnTo>
                  <a:lnTo>
                    <a:pt x="95" y="637"/>
                  </a:lnTo>
                  <a:lnTo>
                    <a:pt x="108" y="652"/>
                  </a:lnTo>
                  <a:lnTo>
                    <a:pt x="123" y="666"/>
                  </a:lnTo>
                  <a:lnTo>
                    <a:pt x="139" y="680"/>
                  </a:lnTo>
                  <a:lnTo>
                    <a:pt x="156" y="693"/>
                  </a:lnTo>
                  <a:lnTo>
                    <a:pt x="172" y="705"/>
                  </a:lnTo>
                  <a:lnTo>
                    <a:pt x="191" y="717"/>
                  </a:lnTo>
                  <a:lnTo>
                    <a:pt x="210" y="728"/>
                  </a:lnTo>
                  <a:lnTo>
                    <a:pt x="229" y="739"/>
                  </a:lnTo>
                  <a:lnTo>
                    <a:pt x="249" y="748"/>
                  </a:lnTo>
                  <a:lnTo>
                    <a:pt x="270" y="757"/>
                  </a:lnTo>
                  <a:lnTo>
                    <a:pt x="290" y="766"/>
                  </a:lnTo>
                  <a:lnTo>
                    <a:pt x="311" y="772"/>
                  </a:lnTo>
                  <a:lnTo>
                    <a:pt x="334" y="779"/>
                  </a:lnTo>
                  <a:lnTo>
                    <a:pt x="357" y="784"/>
                  </a:lnTo>
                  <a:lnTo>
                    <a:pt x="380" y="788"/>
                  </a:lnTo>
                  <a:lnTo>
                    <a:pt x="404" y="792"/>
                  </a:lnTo>
                  <a:lnTo>
                    <a:pt x="428" y="794"/>
                  </a:lnTo>
                  <a:lnTo>
                    <a:pt x="452" y="796"/>
                  </a:lnTo>
                  <a:lnTo>
                    <a:pt x="476" y="796"/>
                  </a:lnTo>
                  <a:lnTo>
                    <a:pt x="500" y="796"/>
                  </a:lnTo>
                  <a:lnTo>
                    <a:pt x="524" y="794"/>
                  </a:lnTo>
                  <a:lnTo>
                    <a:pt x="548" y="792"/>
                  </a:lnTo>
                  <a:lnTo>
                    <a:pt x="572" y="788"/>
                  </a:lnTo>
                  <a:lnTo>
                    <a:pt x="595" y="784"/>
                  </a:lnTo>
                  <a:lnTo>
                    <a:pt x="618" y="779"/>
                  </a:lnTo>
                  <a:lnTo>
                    <a:pt x="641" y="772"/>
                  </a:lnTo>
                  <a:lnTo>
                    <a:pt x="662" y="766"/>
                  </a:lnTo>
                  <a:lnTo>
                    <a:pt x="683" y="757"/>
                  </a:lnTo>
                  <a:lnTo>
                    <a:pt x="703" y="748"/>
                  </a:lnTo>
                  <a:lnTo>
                    <a:pt x="723" y="739"/>
                  </a:lnTo>
                  <a:lnTo>
                    <a:pt x="742" y="728"/>
                  </a:lnTo>
                  <a:lnTo>
                    <a:pt x="761" y="717"/>
                  </a:lnTo>
                  <a:lnTo>
                    <a:pt x="780" y="705"/>
                  </a:lnTo>
                  <a:lnTo>
                    <a:pt x="797" y="693"/>
                  </a:lnTo>
                  <a:lnTo>
                    <a:pt x="813" y="680"/>
                  </a:lnTo>
                  <a:lnTo>
                    <a:pt x="829" y="666"/>
                  </a:lnTo>
                  <a:lnTo>
                    <a:pt x="844" y="652"/>
                  </a:lnTo>
                  <a:lnTo>
                    <a:pt x="857" y="637"/>
                  </a:lnTo>
                  <a:lnTo>
                    <a:pt x="871" y="621"/>
                  </a:lnTo>
                  <a:lnTo>
                    <a:pt x="884" y="605"/>
                  </a:lnTo>
                  <a:lnTo>
                    <a:pt x="895" y="589"/>
                  </a:lnTo>
                  <a:lnTo>
                    <a:pt x="905" y="571"/>
                  </a:lnTo>
                  <a:lnTo>
                    <a:pt x="915" y="554"/>
                  </a:lnTo>
                  <a:lnTo>
                    <a:pt x="923" y="535"/>
                  </a:lnTo>
                  <a:lnTo>
                    <a:pt x="931" y="516"/>
                  </a:lnTo>
                  <a:lnTo>
                    <a:pt x="938" y="497"/>
                  </a:lnTo>
                  <a:lnTo>
                    <a:pt x="943" y="479"/>
                  </a:lnTo>
                  <a:lnTo>
                    <a:pt x="947" y="459"/>
                  </a:lnTo>
                  <a:lnTo>
                    <a:pt x="950" y="438"/>
                  </a:lnTo>
                  <a:lnTo>
                    <a:pt x="952" y="418"/>
                  </a:lnTo>
                  <a:lnTo>
                    <a:pt x="952" y="398"/>
                  </a:lnTo>
                  <a:lnTo>
                    <a:pt x="952" y="378"/>
                  </a:lnTo>
                  <a:lnTo>
                    <a:pt x="950" y="358"/>
                  </a:lnTo>
                  <a:lnTo>
                    <a:pt x="947" y="338"/>
                  </a:lnTo>
                  <a:lnTo>
                    <a:pt x="943" y="318"/>
                  </a:lnTo>
                  <a:lnTo>
                    <a:pt x="938" y="299"/>
                  </a:lnTo>
                  <a:lnTo>
                    <a:pt x="931" y="280"/>
                  </a:lnTo>
                  <a:lnTo>
                    <a:pt x="923" y="261"/>
                  </a:lnTo>
                  <a:lnTo>
                    <a:pt x="915" y="243"/>
                  </a:lnTo>
                  <a:lnTo>
                    <a:pt x="905" y="225"/>
                  </a:lnTo>
                  <a:lnTo>
                    <a:pt x="895" y="208"/>
                  </a:lnTo>
                  <a:lnTo>
                    <a:pt x="884" y="192"/>
                  </a:lnTo>
                  <a:lnTo>
                    <a:pt x="871" y="176"/>
                  </a:lnTo>
                  <a:lnTo>
                    <a:pt x="857" y="160"/>
                  </a:lnTo>
                  <a:lnTo>
                    <a:pt x="844" y="145"/>
                  </a:lnTo>
                  <a:lnTo>
                    <a:pt x="829" y="130"/>
                  </a:lnTo>
                  <a:lnTo>
                    <a:pt x="813" y="117"/>
                  </a:lnTo>
                  <a:lnTo>
                    <a:pt x="797" y="103"/>
                  </a:lnTo>
                  <a:lnTo>
                    <a:pt x="780" y="91"/>
                  </a:lnTo>
                  <a:lnTo>
                    <a:pt x="761" y="79"/>
                  </a:lnTo>
                  <a:lnTo>
                    <a:pt x="742" y="68"/>
                  </a:lnTo>
                  <a:lnTo>
                    <a:pt x="723" y="58"/>
                  </a:lnTo>
                  <a:lnTo>
                    <a:pt x="703" y="48"/>
                  </a:lnTo>
                  <a:lnTo>
                    <a:pt x="683" y="39"/>
                  </a:lnTo>
                  <a:lnTo>
                    <a:pt x="662" y="31"/>
                  </a:lnTo>
                  <a:lnTo>
                    <a:pt x="641" y="24"/>
                  </a:lnTo>
                  <a:lnTo>
                    <a:pt x="618" y="17"/>
                  </a:lnTo>
                  <a:lnTo>
                    <a:pt x="595" y="12"/>
                  </a:lnTo>
                  <a:lnTo>
                    <a:pt x="572" y="8"/>
                  </a:lnTo>
                  <a:lnTo>
                    <a:pt x="548" y="4"/>
                  </a:lnTo>
                  <a:lnTo>
                    <a:pt x="524" y="3"/>
                  </a:lnTo>
                  <a:lnTo>
                    <a:pt x="500" y="0"/>
                  </a:lnTo>
                  <a:lnTo>
                    <a:pt x="476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487400" y="3829320"/>
              <a:ext cx="38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Agua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421160" y="3990960"/>
              <a:ext cx="538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otable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45280" y="4154400"/>
              <a:ext cx="486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limpia,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384440" y="4319280"/>
              <a:ext cx="616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egura y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365360" y="4480920"/>
              <a:ext cx="616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onfiabl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962960" y="44809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588280" y="3664080"/>
              <a:ext cx="803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Tratamient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64800" y="36640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810520" y="3708720"/>
              <a:ext cx="971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tección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775240" y="3913560"/>
              <a:ext cx="991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 la fuent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755880" y="39135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20360" y="4887360"/>
              <a:ext cx="819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Distribució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113800" y="48873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905280" y="3243960"/>
              <a:ext cx="1417680" cy="353520"/>
            </a:xfrm>
            <a:custGeom>
              <a:avLst/>
              <a:gdLst/>
              <a:ahLst/>
              <a:rect l="l" t="t" r="r" b="b"/>
              <a:pathLst>
                <a:path w="893" h="223">
                  <a:moveTo>
                    <a:pt x="0" y="223"/>
                  </a:moveTo>
                  <a:lnTo>
                    <a:pt x="0" y="211"/>
                  </a:lnTo>
                  <a:lnTo>
                    <a:pt x="1" y="200"/>
                  </a:lnTo>
                  <a:lnTo>
                    <a:pt x="4" y="189"/>
                  </a:lnTo>
                  <a:lnTo>
                    <a:pt x="8" y="177"/>
                  </a:lnTo>
                  <a:lnTo>
                    <a:pt x="12" y="167"/>
                  </a:lnTo>
                  <a:lnTo>
                    <a:pt x="17" y="157"/>
                  </a:lnTo>
                  <a:lnTo>
                    <a:pt x="22" y="147"/>
                  </a:lnTo>
                  <a:lnTo>
                    <a:pt x="29" y="136"/>
                  </a:lnTo>
                  <a:lnTo>
                    <a:pt x="37" y="126"/>
                  </a:lnTo>
                  <a:lnTo>
                    <a:pt x="45" y="117"/>
                  </a:lnTo>
                  <a:lnTo>
                    <a:pt x="53" y="108"/>
                  </a:lnTo>
                  <a:lnTo>
                    <a:pt x="64" y="98"/>
                  </a:lnTo>
                  <a:lnTo>
                    <a:pt x="73" y="90"/>
                  </a:lnTo>
                  <a:lnTo>
                    <a:pt x="85" y="81"/>
                  </a:lnTo>
                  <a:lnTo>
                    <a:pt x="96" y="73"/>
                  </a:lnTo>
                  <a:lnTo>
                    <a:pt x="109" y="66"/>
                  </a:lnTo>
                  <a:lnTo>
                    <a:pt x="121" y="58"/>
                  </a:lnTo>
                  <a:lnTo>
                    <a:pt x="135" y="51"/>
                  </a:lnTo>
                  <a:lnTo>
                    <a:pt x="149" y="45"/>
                  </a:lnTo>
                  <a:lnTo>
                    <a:pt x="164" y="38"/>
                  </a:lnTo>
                  <a:lnTo>
                    <a:pt x="179" y="33"/>
                  </a:lnTo>
                  <a:lnTo>
                    <a:pt x="195" y="27"/>
                  </a:lnTo>
                  <a:lnTo>
                    <a:pt x="211" y="22"/>
                  </a:lnTo>
                  <a:lnTo>
                    <a:pt x="227" y="18"/>
                  </a:lnTo>
                  <a:lnTo>
                    <a:pt x="244" y="14"/>
                  </a:lnTo>
                  <a:lnTo>
                    <a:pt x="262" y="10"/>
                  </a:lnTo>
                  <a:lnTo>
                    <a:pt x="279" y="7"/>
                  </a:lnTo>
                  <a:lnTo>
                    <a:pt x="297" y="4"/>
                  </a:lnTo>
                  <a:lnTo>
                    <a:pt x="315" y="3"/>
                  </a:lnTo>
                  <a:lnTo>
                    <a:pt x="334" y="2"/>
                  </a:lnTo>
                  <a:lnTo>
                    <a:pt x="353" y="0"/>
                  </a:lnTo>
                  <a:lnTo>
                    <a:pt x="371" y="0"/>
                  </a:lnTo>
                  <a:lnTo>
                    <a:pt x="371" y="0"/>
                  </a:lnTo>
                  <a:lnTo>
                    <a:pt x="473" y="0"/>
                  </a:lnTo>
                  <a:lnTo>
                    <a:pt x="501" y="0"/>
                  </a:lnTo>
                  <a:lnTo>
                    <a:pt x="529" y="3"/>
                  </a:lnTo>
                  <a:lnTo>
                    <a:pt x="556" y="6"/>
                  </a:lnTo>
                  <a:lnTo>
                    <a:pt x="583" y="10"/>
                  </a:lnTo>
                  <a:lnTo>
                    <a:pt x="608" y="15"/>
                  </a:lnTo>
                  <a:lnTo>
                    <a:pt x="634" y="22"/>
                  </a:lnTo>
                  <a:lnTo>
                    <a:pt x="658" y="30"/>
                  </a:lnTo>
                  <a:lnTo>
                    <a:pt x="680" y="38"/>
                  </a:lnTo>
                  <a:lnTo>
                    <a:pt x="703" y="47"/>
                  </a:lnTo>
                  <a:lnTo>
                    <a:pt x="723" y="58"/>
                  </a:lnTo>
                  <a:lnTo>
                    <a:pt x="734" y="63"/>
                  </a:lnTo>
                  <a:lnTo>
                    <a:pt x="743" y="70"/>
                  </a:lnTo>
                  <a:lnTo>
                    <a:pt x="753" y="75"/>
                  </a:lnTo>
                  <a:lnTo>
                    <a:pt x="761" y="82"/>
                  </a:lnTo>
                  <a:lnTo>
                    <a:pt x="770" y="89"/>
                  </a:lnTo>
                  <a:lnTo>
                    <a:pt x="778" y="94"/>
                  </a:lnTo>
                  <a:lnTo>
                    <a:pt x="786" y="102"/>
                  </a:lnTo>
                  <a:lnTo>
                    <a:pt x="793" y="109"/>
                  </a:lnTo>
                  <a:lnTo>
                    <a:pt x="800" y="116"/>
                  </a:lnTo>
                  <a:lnTo>
                    <a:pt x="806" y="124"/>
                  </a:lnTo>
                  <a:lnTo>
                    <a:pt x="813" y="130"/>
                  </a:lnTo>
                  <a:lnTo>
                    <a:pt x="818" y="139"/>
                  </a:lnTo>
                  <a:lnTo>
                    <a:pt x="893" y="139"/>
                  </a:lnTo>
                  <a:lnTo>
                    <a:pt x="794" y="223"/>
                  </a:lnTo>
                  <a:lnTo>
                    <a:pt x="640" y="139"/>
                  </a:lnTo>
                  <a:lnTo>
                    <a:pt x="717" y="139"/>
                  </a:lnTo>
                  <a:lnTo>
                    <a:pt x="711" y="132"/>
                  </a:lnTo>
                  <a:lnTo>
                    <a:pt x="706" y="125"/>
                  </a:lnTo>
                  <a:lnTo>
                    <a:pt x="701" y="118"/>
                  </a:lnTo>
                  <a:lnTo>
                    <a:pt x="695" y="112"/>
                  </a:lnTo>
                  <a:lnTo>
                    <a:pt x="682" y="100"/>
                  </a:lnTo>
                  <a:lnTo>
                    <a:pt x="668" y="88"/>
                  </a:lnTo>
                  <a:lnTo>
                    <a:pt x="652" y="77"/>
                  </a:lnTo>
                  <a:lnTo>
                    <a:pt x="636" y="66"/>
                  </a:lnTo>
                  <a:lnTo>
                    <a:pt x="619" y="55"/>
                  </a:lnTo>
                  <a:lnTo>
                    <a:pt x="600" y="46"/>
                  </a:lnTo>
                  <a:lnTo>
                    <a:pt x="580" y="38"/>
                  </a:lnTo>
                  <a:lnTo>
                    <a:pt x="560" y="30"/>
                  </a:lnTo>
                  <a:lnTo>
                    <a:pt x="539" y="23"/>
                  </a:lnTo>
                  <a:lnTo>
                    <a:pt x="517" y="18"/>
                  </a:lnTo>
                  <a:lnTo>
                    <a:pt x="494" y="12"/>
                  </a:lnTo>
                  <a:lnTo>
                    <a:pt x="470" y="7"/>
                  </a:lnTo>
                  <a:lnTo>
                    <a:pt x="446" y="4"/>
                  </a:lnTo>
                  <a:lnTo>
                    <a:pt x="422" y="2"/>
                  </a:lnTo>
                  <a:lnTo>
                    <a:pt x="422" y="2"/>
                  </a:lnTo>
                  <a:lnTo>
                    <a:pt x="405" y="3"/>
                  </a:lnTo>
                  <a:lnTo>
                    <a:pt x="389" y="6"/>
                  </a:lnTo>
                  <a:lnTo>
                    <a:pt x="371" y="8"/>
                  </a:lnTo>
                  <a:lnTo>
                    <a:pt x="355" y="11"/>
                  </a:lnTo>
                  <a:lnTo>
                    <a:pt x="341" y="14"/>
                  </a:lnTo>
                  <a:lnTo>
                    <a:pt x="325" y="18"/>
                  </a:lnTo>
                  <a:lnTo>
                    <a:pt x="310" y="22"/>
                  </a:lnTo>
                  <a:lnTo>
                    <a:pt x="295" y="27"/>
                  </a:lnTo>
                  <a:lnTo>
                    <a:pt x="280" y="31"/>
                  </a:lnTo>
                  <a:lnTo>
                    <a:pt x="267" y="37"/>
                  </a:lnTo>
                  <a:lnTo>
                    <a:pt x="254" y="43"/>
                  </a:lnTo>
                  <a:lnTo>
                    <a:pt x="240" y="49"/>
                  </a:lnTo>
                  <a:lnTo>
                    <a:pt x="228" y="55"/>
                  </a:lnTo>
                  <a:lnTo>
                    <a:pt x="216" y="62"/>
                  </a:lnTo>
                  <a:lnTo>
                    <a:pt x="204" y="69"/>
                  </a:lnTo>
                  <a:lnTo>
                    <a:pt x="193" y="77"/>
                  </a:lnTo>
                  <a:lnTo>
                    <a:pt x="183" y="84"/>
                  </a:lnTo>
                  <a:lnTo>
                    <a:pt x="172" y="92"/>
                  </a:lnTo>
                  <a:lnTo>
                    <a:pt x="163" y="100"/>
                  </a:lnTo>
                  <a:lnTo>
                    <a:pt x="155" y="108"/>
                  </a:lnTo>
                  <a:lnTo>
                    <a:pt x="147" y="117"/>
                  </a:lnTo>
                  <a:lnTo>
                    <a:pt x="139" y="125"/>
                  </a:lnTo>
                  <a:lnTo>
                    <a:pt x="132" y="134"/>
                  </a:lnTo>
                  <a:lnTo>
                    <a:pt x="125" y="144"/>
                  </a:lnTo>
                  <a:lnTo>
                    <a:pt x="120" y="153"/>
                  </a:lnTo>
                  <a:lnTo>
                    <a:pt x="115" y="163"/>
                  </a:lnTo>
                  <a:lnTo>
                    <a:pt x="111" y="172"/>
                  </a:lnTo>
                  <a:lnTo>
                    <a:pt x="108" y="183"/>
                  </a:lnTo>
                  <a:lnTo>
                    <a:pt x="105" y="192"/>
                  </a:lnTo>
                  <a:lnTo>
                    <a:pt x="103" y="203"/>
                  </a:lnTo>
                  <a:lnTo>
                    <a:pt x="101" y="212"/>
                  </a:lnTo>
                  <a:lnTo>
                    <a:pt x="101" y="223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905280" y="3243960"/>
              <a:ext cx="669960" cy="353520"/>
            </a:xfrm>
            <a:custGeom>
              <a:avLst/>
              <a:gdLst/>
              <a:ahLst/>
              <a:rect l="l" t="t" r="r" b="b"/>
              <a:pathLst>
                <a:path w="422" h="223">
                  <a:moveTo>
                    <a:pt x="0" y="223"/>
                  </a:moveTo>
                  <a:lnTo>
                    <a:pt x="0" y="211"/>
                  </a:lnTo>
                  <a:lnTo>
                    <a:pt x="1" y="200"/>
                  </a:lnTo>
                  <a:lnTo>
                    <a:pt x="4" y="189"/>
                  </a:lnTo>
                  <a:lnTo>
                    <a:pt x="8" y="177"/>
                  </a:lnTo>
                  <a:lnTo>
                    <a:pt x="12" y="167"/>
                  </a:lnTo>
                  <a:lnTo>
                    <a:pt x="17" y="157"/>
                  </a:lnTo>
                  <a:lnTo>
                    <a:pt x="22" y="147"/>
                  </a:lnTo>
                  <a:lnTo>
                    <a:pt x="29" y="136"/>
                  </a:lnTo>
                  <a:lnTo>
                    <a:pt x="37" y="126"/>
                  </a:lnTo>
                  <a:lnTo>
                    <a:pt x="45" y="117"/>
                  </a:lnTo>
                  <a:lnTo>
                    <a:pt x="53" y="108"/>
                  </a:lnTo>
                  <a:lnTo>
                    <a:pt x="64" y="98"/>
                  </a:lnTo>
                  <a:lnTo>
                    <a:pt x="73" y="90"/>
                  </a:lnTo>
                  <a:lnTo>
                    <a:pt x="85" y="81"/>
                  </a:lnTo>
                  <a:lnTo>
                    <a:pt x="96" y="73"/>
                  </a:lnTo>
                  <a:lnTo>
                    <a:pt x="109" y="66"/>
                  </a:lnTo>
                  <a:lnTo>
                    <a:pt x="121" y="58"/>
                  </a:lnTo>
                  <a:lnTo>
                    <a:pt x="135" y="51"/>
                  </a:lnTo>
                  <a:lnTo>
                    <a:pt x="149" y="45"/>
                  </a:lnTo>
                  <a:lnTo>
                    <a:pt x="164" y="38"/>
                  </a:lnTo>
                  <a:lnTo>
                    <a:pt x="179" y="33"/>
                  </a:lnTo>
                  <a:lnTo>
                    <a:pt x="195" y="27"/>
                  </a:lnTo>
                  <a:lnTo>
                    <a:pt x="211" y="22"/>
                  </a:lnTo>
                  <a:lnTo>
                    <a:pt x="227" y="18"/>
                  </a:lnTo>
                  <a:lnTo>
                    <a:pt x="244" y="14"/>
                  </a:lnTo>
                  <a:lnTo>
                    <a:pt x="262" y="10"/>
                  </a:lnTo>
                  <a:lnTo>
                    <a:pt x="279" y="7"/>
                  </a:lnTo>
                  <a:lnTo>
                    <a:pt x="297" y="4"/>
                  </a:lnTo>
                  <a:lnTo>
                    <a:pt x="315" y="3"/>
                  </a:lnTo>
                  <a:lnTo>
                    <a:pt x="334" y="2"/>
                  </a:lnTo>
                  <a:lnTo>
                    <a:pt x="353" y="0"/>
                  </a:lnTo>
                  <a:lnTo>
                    <a:pt x="371" y="0"/>
                  </a:lnTo>
                  <a:lnTo>
                    <a:pt x="397" y="0"/>
                  </a:lnTo>
                  <a:lnTo>
                    <a:pt x="410" y="0"/>
                  </a:lnTo>
                  <a:lnTo>
                    <a:pt x="422" y="2"/>
                  </a:lnTo>
                  <a:lnTo>
                    <a:pt x="422" y="2"/>
                  </a:lnTo>
                  <a:lnTo>
                    <a:pt x="405" y="3"/>
                  </a:lnTo>
                  <a:lnTo>
                    <a:pt x="389" y="6"/>
                  </a:lnTo>
                  <a:lnTo>
                    <a:pt x="371" y="8"/>
                  </a:lnTo>
                  <a:lnTo>
                    <a:pt x="355" y="11"/>
                  </a:lnTo>
                  <a:lnTo>
                    <a:pt x="341" y="14"/>
                  </a:lnTo>
                  <a:lnTo>
                    <a:pt x="325" y="18"/>
                  </a:lnTo>
                  <a:lnTo>
                    <a:pt x="310" y="22"/>
                  </a:lnTo>
                  <a:lnTo>
                    <a:pt x="295" y="27"/>
                  </a:lnTo>
                  <a:lnTo>
                    <a:pt x="280" y="31"/>
                  </a:lnTo>
                  <a:lnTo>
                    <a:pt x="267" y="37"/>
                  </a:lnTo>
                  <a:lnTo>
                    <a:pt x="254" y="43"/>
                  </a:lnTo>
                  <a:lnTo>
                    <a:pt x="240" y="49"/>
                  </a:lnTo>
                  <a:lnTo>
                    <a:pt x="228" y="55"/>
                  </a:lnTo>
                  <a:lnTo>
                    <a:pt x="216" y="62"/>
                  </a:lnTo>
                  <a:lnTo>
                    <a:pt x="204" y="69"/>
                  </a:lnTo>
                  <a:lnTo>
                    <a:pt x="193" y="77"/>
                  </a:lnTo>
                  <a:lnTo>
                    <a:pt x="183" y="84"/>
                  </a:lnTo>
                  <a:lnTo>
                    <a:pt x="172" y="92"/>
                  </a:lnTo>
                  <a:lnTo>
                    <a:pt x="163" y="100"/>
                  </a:lnTo>
                  <a:lnTo>
                    <a:pt x="155" y="108"/>
                  </a:lnTo>
                  <a:lnTo>
                    <a:pt x="147" y="117"/>
                  </a:lnTo>
                  <a:lnTo>
                    <a:pt x="139" y="125"/>
                  </a:lnTo>
                  <a:lnTo>
                    <a:pt x="132" y="134"/>
                  </a:lnTo>
                  <a:lnTo>
                    <a:pt x="125" y="144"/>
                  </a:lnTo>
                  <a:lnTo>
                    <a:pt x="120" y="153"/>
                  </a:lnTo>
                  <a:lnTo>
                    <a:pt x="115" y="163"/>
                  </a:lnTo>
                  <a:lnTo>
                    <a:pt x="111" y="172"/>
                  </a:lnTo>
                  <a:lnTo>
                    <a:pt x="108" y="183"/>
                  </a:lnTo>
                  <a:lnTo>
                    <a:pt x="105" y="192"/>
                  </a:lnTo>
                  <a:lnTo>
                    <a:pt x="103" y="203"/>
                  </a:lnTo>
                  <a:lnTo>
                    <a:pt x="101" y="212"/>
                  </a:lnTo>
                  <a:lnTo>
                    <a:pt x="101" y="223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905280" y="3243960"/>
              <a:ext cx="1417680" cy="353520"/>
            </a:xfrm>
            <a:custGeom>
              <a:avLst/>
              <a:gdLst/>
              <a:ahLst/>
              <a:rect l="l" t="t" r="r" b="b"/>
              <a:pathLst>
                <a:path w="893" h="223">
                  <a:moveTo>
                    <a:pt x="0" y="223"/>
                  </a:moveTo>
                  <a:lnTo>
                    <a:pt x="0" y="211"/>
                  </a:lnTo>
                  <a:lnTo>
                    <a:pt x="1" y="200"/>
                  </a:lnTo>
                  <a:lnTo>
                    <a:pt x="4" y="189"/>
                  </a:lnTo>
                  <a:lnTo>
                    <a:pt x="8" y="177"/>
                  </a:lnTo>
                  <a:lnTo>
                    <a:pt x="12" y="167"/>
                  </a:lnTo>
                  <a:lnTo>
                    <a:pt x="17" y="157"/>
                  </a:lnTo>
                  <a:lnTo>
                    <a:pt x="22" y="147"/>
                  </a:lnTo>
                  <a:lnTo>
                    <a:pt x="29" y="136"/>
                  </a:lnTo>
                  <a:lnTo>
                    <a:pt x="37" y="126"/>
                  </a:lnTo>
                  <a:lnTo>
                    <a:pt x="45" y="117"/>
                  </a:lnTo>
                  <a:lnTo>
                    <a:pt x="53" y="108"/>
                  </a:lnTo>
                  <a:lnTo>
                    <a:pt x="64" y="98"/>
                  </a:lnTo>
                  <a:lnTo>
                    <a:pt x="73" y="90"/>
                  </a:lnTo>
                  <a:lnTo>
                    <a:pt x="85" y="81"/>
                  </a:lnTo>
                  <a:lnTo>
                    <a:pt x="96" y="73"/>
                  </a:lnTo>
                  <a:lnTo>
                    <a:pt x="109" y="66"/>
                  </a:lnTo>
                  <a:lnTo>
                    <a:pt x="121" y="58"/>
                  </a:lnTo>
                  <a:lnTo>
                    <a:pt x="135" y="51"/>
                  </a:lnTo>
                  <a:lnTo>
                    <a:pt x="149" y="45"/>
                  </a:lnTo>
                  <a:lnTo>
                    <a:pt x="164" y="38"/>
                  </a:lnTo>
                  <a:lnTo>
                    <a:pt x="179" y="33"/>
                  </a:lnTo>
                  <a:lnTo>
                    <a:pt x="195" y="27"/>
                  </a:lnTo>
                  <a:lnTo>
                    <a:pt x="211" y="22"/>
                  </a:lnTo>
                  <a:lnTo>
                    <a:pt x="227" y="18"/>
                  </a:lnTo>
                  <a:lnTo>
                    <a:pt x="244" y="14"/>
                  </a:lnTo>
                  <a:lnTo>
                    <a:pt x="262" y="10"/>
                  </a:lnTo>
                  <a:lnTo>
                    <a:pt x="279" y="7"/>
                  </a:lnTo>
                  <a:lnTo>
                    <a:pt x="297" y="4"/>
                  </a:lnTo>
                  <a:lnTo>
                    <a:pt x="315" y="3"/>
                  </a:lnTo>
                  <a:lnTo>
                    <a:pt x="334" y="2"/>
                  </a:lnTo>
                  <a:lnTo>
                    <a:pt x="353" y="0"/>
                  </a:lnTo>
                  <a:lnTo>
                    <a:pt x="371" y="0"/>
                  </a:lnTo>
                  <a:lnTo>
                    <a:pt x="371" y="0"/>
                  </a:lnTo>
                  <a:lnTo>
                    <a:pt x="473" y="0"/>
                  </a:lnTo>
                  <a:lnTo>
                    <a:pt x="501" y="0"/>
                  </a:lnTo>
                  <a:lnTo>
                    <a:pt x="529" y="3"/>
                  </a:lnTo>
                  <a:lnTo>
                    <a:pt x="556" y="6"/>
                  </a:lnTo>
                  <a:lnTo>
                    <a:pt x="583" y="10"/>
                  </a:lnTo>
                  <a:lnTo>
                    <a:pt x="608" y="15"/>
                  </a:lnTo>
                  <a:lnTo>
                    <a:pt x="634" y="22"/>
                  </a:lnTo>
                  <a:lnTo>
                    <a:pt x="658" y="30"/>
                  </a:lnTo>
                  <a:lnTo>
                    <a:pt x="680" y="38"/>
                  </a:lnTo>
                  <a:lnTo>
                    <a:pt x="703" y="47"/>
                  </a:lnTo>
                  <a:lnTo>
                    <a:pt x="723" y="58"/>
                  </a:lnTo>
                  <a:lnTo>
                    <a:pt x="734" y="63"/>
                  </a:lnTo>
                  <a:lnTo>
                    <a:pt x="743" y="70"/>
                  </a:lnTo>
                  <a:lnTo>
                    <a:pt x="753" y="75"/>
                  </a:lnTo>
                  <a:lnTo>
                    <a:pt x="761" y="82"/>
                  </a:lnTo>
                  <a:lnTo>
                    <a:pt x="770" y="89"/>
                  </a:lnTo>
                  <a:lnTo>
                    <a:pt x="778" y="94"/>
                  </a:lnTo>
                  <a:lnTo>
                    <a:pt x="786" y="102"/>
                  </a:lnTo>
                  <a:lnTo>
                    <a:pt x="793" y="109"/>
                  </a:lnTo>
                  <a:lnTo>
                    <a:pt x="800" y="116"/>
                  </a:lnTo>
                  <a:lnTo>
                    <a:pt x="806" y="124"/>
                  </a:lnTo>
                  <a:lnTo>
                    <a:pt x="813" y="130"/>
                  </a:lnTo>
                  <a:lnTo>
                    <a:pt x="818" y="139"/>
                  </a:lnTo>
                  <a:lnTo>
                    <a:pt x="893" y="139"/>
                  </a:lnTo>
                  <a:lnTo>
                    <a:pt x="794" y="223"/>
                  </a:lnTo>
                  <a:lnTo>
                    <a:pt x="640" y="139"/>
                  </a:lnTo>
                  <a:lnTo>
                    <a:pt x="717" y="139"/>
                  </a:lnTo>
                  <a:lnTo>
                    <a:pt x="711" y="132"/>
                  </a:lnTo>
                  <a:lnTo>
                    <a:pt x="706" y="125"/>
                  </a:lnTo>
                  <a:lnTo>
                    <a:pt x="701" y="118"/>
                  </a:lnTo>
                  <a:lnTo>
                    <a:pt x="695" y="112"/>
                  </a:lnTo>
                  <a:lnTo>
                    <a:pt x="682" y="100"/>
                  </a:lnTo>
                  <a:lnTo>
                    <a:pt x="668" y="88"/>
                  </a:lnTo>
                  <a:lnTo>
                    <a:pt x="652" y="77"/>
                  </a:lnTo>
                  <a:lnTo>
                    <a:pt x="636" y="66"/>
                  </a:lnTo>
                  <a:lnTo>
                    <a:pt x="619" y="55"/>
                  </a:lnTo>
                  <a:lnTo>
                    <a:pt x="600" y="46"/>
                  </a:lnTo>
                  <a:lnTo>
                    <a:pt x="580" y="38"/>
                  </a:lnTo>
                  <a:lnTo>
                    <a:pt x="560" y="30"/>
                  </a:lnTo>
                  <a:lnTo>
                    <a:pt x="539" y="23"/>
                  </a:lnTo>
                  <a:lnTo>
                    <a:pt x="517" y="18"/>
                  </a:lnTo>
                  <a:lnTo>
                    <a:pt x="494" y="12"/>
                  </a:lnTo>
                  <a:lnTo>
                    <a:pt x="470" y="7"/>
                  </a:lnTo>
                  <a:lnTo>
                    <a:pt x="446" y="4"/>
                  </a:lnTo>
                  <a:lnTo>
                    <a:pt x="422" y="2"/>
                  </a:lnTo>
                  <a:lnTo>
                    <a:pt x="422" y="2"/>
                  </a:lnTo>
                  <a:lnTo>
                    <a:pt x="405" y="3"/>
                  </a:lnTo>
                  <a:lnTo>
                    <a:pt x="389" y="6"/>
                  </a:lnTo>
                  <a:lnTo>
                    <a:pt x="371" y="8"/>
                  </a:lnTo>
                  <a:lnTo>
                    <a:pt x="355" y="11"/>
                  </a:lnTo>
                  <a:lnTo>
                    <a:pt x="341" y="14"/>
                  </a:lnTo>
                  <a:lnTo>
                    <a:pt x="325" y="18"/>
                  </a:lnTo>
                  <a:lnTo>
                    <a:pt x="310" y="22"/>
                  </a:lnTo>
                  <a:lnTo>
                    <a:pt x="295" y="27"/>
                  </a:lnTo>
                  <a:lnTo>
                    <a:pt x="280" y="31"/>
                  </a:lnTo>
                  <a:lnTo>
                    <a:pt x="267" y="37"/>
                  </a:lnTo>
                  <a:lnTo>
                    <a:pt x="254" y="43"/>
                  </a:lnTo>
                  <a:lnTo>
                    <a:pt x="240" y="49"/>
                  </a:lnTo>
                  <a:lnTo>
                    <a:pt x="228" y="55"/>
                  </a:lnTo>
                  <a:lnTo>
                    <a:pt x="216" y="62"/>
                  </a:lnTo>
                  <a:lnTo>
                    <a:pt x="204" y="69"/>
                  </a:lnTo>
                  <a:lnTo>
                    <a:pt x="193" y="77"/>
                  </a:lnTo>
                  <a:lnTo>
                    <a:pt x="183" y="84"/>
                  </a:lnTo>
                  <a:lnTo>
                    <a:pt x="172" y="92"/>
                  </a:lnTo>
                  <a:lnTo>
                    <a:pt x="163" y="100"/>
                  </a:lnTo>
                  <a:lnTo>
                    <a:pt x="155" y="108"/>
                  </a:lnTo>
                  <a:lnTo>
                    <a:pt x="147" y="117"/>
                  </a:lnTo>
                  <a:lnTo>
                    <a:pt x="139" y="125"/>
                  </a:lnTo>
                  <a:lnTo>
                    <a:pt x="132" y="134"/>
                  </a:lnTo>
                  <a:lnTo>
                    <a:pt x="125" y="144"/>
                  </a:lnTo>
                  <a:lnTo>
                    <a:pt x="120" y="153"/>
                  </a:lnTo>
                  <a:lnTo>
                    <a:pt x="115" y="163"/>
                  </a:lnTo>
                  <a:lnTo>
                    <a:pt x="111" y="172"/>
                  </a:lnTo>
                  <a:lnTo>
                    <a:pt x="108" y="183"/>
                  </a:lnTo>
                  <a:lnTo>
                    <a:pt x="105" y="192"/>
                  </a:lnTo>
                  <a:lnTo>
                    <a:pt x="103" y="203"/>
                  </a:lnTo>
                  <a:lnTo>
                    <a:pt x="101" y="212"/>
                  </a:lnTo>
                  <a:lnTo>
                    <a:pt x="101" y="223"/>
                  </a:lnTo>
                  <a:lnTo>
                    <a:pt x="0" y="223"/>
                  </a:lnTo>
                </a:path>
              </a:pathLst>
            </a:custGeom>
            <a:solidFill>
              <a:srgbClr val="008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4240" y="3243960"/>
              <a:ext cx="81000" cy="2520"/>
            </a:xfrm>
            <a:custGeom>
              <a:avLst/>
              <a:gdLst/>
              <a:ahLst/>
              <a:rect l="l" t="t" r="r" b="b"/>
              <a:pathLst>
                <a:path w="51" h="2">
                  <a:moveTo>
                    <a:pt x="0" y="0"/>
                  </a:moveTo>
                  <a:lnTo>
                    <a:pt x="26" y="0"/>
                  </a:lnTo>
                  <a:lnTo>
                    <a:pt x="39" y="0"/>
                  </a:lnTo>
                  <a:lnTo>
                    <a:pt x="51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359320" y="3908520"/>
              <a:ext cx="768600" cy="1176840"/>
            </a:xfrm>
            <a:custGeom>
              <a:avLst/>
              <a:gdLst/>
              <a:ahLst/>
              <a:rect l="l" t="t" r="r" b="b"/>
              <a:pathLst>
                <a:path w="484" h="742">
                  <a:moveTo>
                    <a:pt x="416" y="0"/>
                  </a:moveTo>
                  <a:lnTo>
                    <a:pt x="425" y="6"/>
                  </a:lnTo>
                  <a:lnTo>
                    <a:pt x="433" y="13"/>
                  </a:lnTo>
                  <a:lnTo>
                    <a:pt x="440" y="21"/>
                  </a:lnTo>
                  <a:lnTo>
                    <a:pt x="448" y="29"/>
                  </a:lnTo>
                  <a:lnTo>
                    <a:pt x="453" y="39"/>
                  </a:lnTo>
                  <a:lnTo>
                    <a:pt x="460" y="48"/>
                  </a:lnTo>
                  <a:lnTo>
                    <a:pt x="465" y="59"/>
                  </a:lnTo>
                  <a:lnTo>
                    <a:pt x="469" y="69"/>
                  </a:lnTo>
                  <a:lnTo>
                    <a:pt x="473" y="80"/>
                  </a:lnTo>
                  <a:lnTo>
                    <a:pt x="476" y="92"/>
                  </a:lnTo>
                  <a:lnTo>
                    <a:pt x="479" y="103"/>
                  </a:lnTo>
                  <a:lnTo>
                    <a:pt x="481" y="116"/>
                  </a:lnTo>
                  <a:lnTo>
                    <a:pt x="483" y="128"/>
                  </a:lnTo>
                  <a:lnTo>
                    <a:pt x="484" y="142"/>
                  </a:lnTo>
                  <a:lnTo>
                    <a:pt x="484" y="155"/>
                  </a:lnTo>
                  <a:lnTo>
                    <a:pt x="484" y="169"/>
                  </a:lnTo>
                  <a:lnTo>
                    <a:pt x="483" y="183"/>
                  </a:lnTo>
                  <a:lnTo>
                    <a:pt x="481" y="197"/>
                  </a:lnTo>
                  <a:lnTo>
                    <a:pt x="479" y="212"/>
                  </a:lnTo>
                  <a:lnTo>
                    <a:pt x="476" y="226"/>
                  </a:lnTo>
                  <a:lnTo>
                    <a:pt x="473" y="241"/>
                  </a:lnTo>
                  <a:lnTo>
                    <a:pt x="469" y="256"/>
                  </a:lnTo>
                  <a:lnTo>
                    <a:pt x="464" y="272"/>
                  </a:lnTo>
                  <a:lnTo>
                    <a:pt x="460" y="287"/>
                  </a:lnTo>
                  <a:lnTo>
                    <a:pt x="453" y="301"/>
                  </a:lnTo>
                  <a:lnTo>
                    <a:pt x="448" y="317"/>
                  </a:lnTo>
                  <a:lnTo>
                    <a:pt x="440" y="332"/>
                  </a:lnTo>
                  <a:lnTo>
                    <a:pt x="433" y="348"/>
                  </a:lnTo>
                  <a:lnTo>
                    <a:pt x="425" y="363"/>
                  </a:lnTo>
                  <a:lnTo>
                    <a:pt x="416" y="379"/>
                  </a:lnTo>
                  <a:lnTo>
                    <a:pt x="407" y="394"/>
                  </a:lnTo>
                  <a:lnTo>
                    <a:pt x="397" y="409"/>
                  </a:lnTo>
                  <a:lnTo>
                    <a:pt x="397" y="409"/>
                  </a:lnTo>
                  <a:lnTo>
                    <a:pt x="345" y="489"/>
                  </a:lnTo>
                  <a:lnTo>
                    <a:pt x="329" y="511"/>
                  </a:lnTo>
                  <a:lnTo>
                    <a:pt x="313" y="532"/>
                  </a:lnTo>
                  <a:lnTo>
                    <a:pt x="297" y="551"/>
                  </a:lnTo>
                  <a:lnTo>
                    <a:pt x="279" y="570"/>
                  </a:lnTo>
                  <a:lnTo>
                    <a:pt x="262" y="587"/>
                  </a:lnTo>
                  <a:lnTo>
                    <a:pt x="243" y="603"/>
                  </a:lnTo>
                  <a:lnTo>
                    <a:pt x="225" y="618"/>
                  </a:lnTo>
                  <a:lnTo>
                    <a:pt x="215" y="625"/>
                  </a:lnTo>
                  <a:lnTo>
                    <a:pt x="206" y="631"/>
                  </a:lnTo>
                  <a:lnTo>
                    <a:pt x="197" y="637"/>
                  </a:lnTo>
                  <a:lnTo>
                    <a:pt x="187" y="642"/>
                  </a:lnTo>
                  <a:lnTo>
                    <a:pt x="178" y="649"/>
                  </a:lnTo>
                  <a:lnTo>
                    <a:pt x="168" y="653"/>
                  </a:lnTo>
                  <a:lnTo>
                    <a:pt x="158" y="658"/>
                  </a:lnTo>
                  <a:lnTo>
                    <a:pt x="148" y="662"/>
                  </a:lnTo>
                  <a:lnTo>
                    <a:pt x="139" y="666"/>
                  </a:lnTo>
                  <a:lnTo>
                    <a:pt x="130" y="670"/>
                  </a:lnTo>
                  <a:lnTo>
                    <a:pt x="120" y="673"/>
                  </a:lnTo>
                  <a:lnTo>
                    <a:pt x="111" y="675"/>
                  </a:lnTo>
                  <a:lnTo>
                    <a:pt x="102" y="678"/>
                  </a:lnTo>
                  <a:lnTo>
                    <a:pt x="92" y="679"/>
                  </a:lnTo>
                  <a:lnTo>
                    <a:pt x="83" y="682"/>
                  </a:lnTo>
                  <a:lnTo>
                    <a:pt x="73" y="682"/>
                  </a:lnTo>
                  <a:lnTo>
                    <a:pt x="64" y="683"/>
                  </a:lnTo>
                  <a:lnTo>
                    <a:pt x="55" y="683"/>
                  </a:lnTo>
                  <a:lnTo>
                    <a:pt x="15" y="742"/>
                  </a:lnTo>
                  <a:lnTo>
                    <a:pt x="0" y="620"/>
                  </a:lnTo>
                  <a:lnTo>
                    <a:pt x="147" y="545"/>
                  </a:lnTo>
                  <a:lnTo>
                    <a:pt x="107" y="604"/>
                  </a:lnTo>
                  <a:lnTo>
                    <a:pt x="115" y="604"/>
                  </a:lnTo>
                  <a:lnTo>
                    <a:pt x="123" y="603"/>
                  </a:lnTo>
                  <a:lnTo>
                    <a:pt x="131" y="603"/>
                  </a:lnTo>
                  <a:lnTo>
                    <a:pt x="139" y="602"/>
                  </a:lnTo>
                  <a:lnTo>
                    <a:pt x="148" y="600"/>
                  </a:lnTo>
                  <a:lnTo>
                    <a:pt x="156" y="598"/>
                  </a:lnTo>
                  <a:lnTo>
                    <a:pt x="172" y="594"/>
                  </a:lnTo>
                  <a:lnTo>
                    <a:pt x="190" y="587"/>
                  </a:lnTo>
                  <a:lnTo>
                    <a:pt x="207" y="580"/>
                  </a:lnTo>
                  <a:lnTo>
                    <a:pt x="225" y="572"/>
                  </a:lnTo>
                  <a:lnTo>
                    <a:pt x="241" y="563"/>
                  </a:lnTo>
                  <a:lnTo>
                    <a:pt x="258" y="552"/>
                  </a:lnTo>
                  <a:lnTo>
                    <a:pt x="274" y="540"/>
                  </a:lnTo>
                  <a:lnTo>
                    <a:pt x="292" y="527"/>
                  </a:lnTo>
                  <a:lnTo>
                    <a:pt x="308" y="513"/>
                  </a:lnTo>
                  <a:lnTo>
                    <a:pt x="324" y="498"/>
                  </a:lnTo>
                  <a:lnTo>
                    <a:pt x="340" y="482"/>
                  </a:lnTo>
                  <a:lnTo>
                    <a:pt x="354" y="465"/>
                  </a:lnTo>
                  <a:lnTo>
                    <a:pt x="369" y="448"/>
                  </a:lnTo>
                  <a:lnTo>
                    <a:pt x="369" y="448"/>
                  </a:lnTo>
                  <a:lnTo>
                    <a:pt x="377" y="433"/>
                  </a:lnTo>
                  <a:lnTo>
                    <a:pt x="384" y="419"/>
                  </a:lnTo>
                  <a:lnTo>
                    <a:pt x="391" y="405"/>
                  </a:lnTo>
                  <a:lnTo>
                    <a:pt x="397" y="391"/>
                  </a:lnTo>
                  <a:lnTo>
                    <a:pt x="403" y="376"/>
                  </a:lnTo>
                  <a:lnTo>
                    <a:pt x="408" y="363"/>
                  </a:lnTo>
                  <a:lnTo>
                    <a:pt x="412" y="348"/>
                  </a:lnTo>
                  <a:lnTo>
                    <a:pt x="416" y="335"/>
                  </a:lnTo>
                  <a:lnTo>
                    <a:pt x="420" y="320"/>
                  </a:lnTo>
                  <a:lnTo>
                    <a:pt x="423" y="307"/>
                  </a:lnTo>
                  <a:lnTo>
                    <a:pt x="425" y="293"/>
                  </a:lnTo>
                  <a:lnTo>
                    <a:pt x="428" y="280"/>
                  </a:lnTo>
                  <a:lnTo>
                    <a:pt x="429" y="267"/>
                  </a:lnTo>
                  <a:lnTo>
                    <a:pt x="429" y="254"/>
                  </a:lnTo>
                  <a:lnTo>
                    <a:pt x="431" y="241"/>
                  </a:lnTo>
                  <a:lnTo>
                    <a:pt x="431" y="229"/>
                  </a:lnTo>
                  <a:lnTo>
                    <a:pt x="431" y="217"/>
                  </a:lnTo>
                  <a:lnTo>
                    <a:pt x="429" y="205"/>
                  </a:lnTo>
                  <a:lnTo>
                    <a:pt x="428" y="193"/>
                  </a:lnTo>
                  <a:lnTo>
                    <a:pt x="425" y="182"/>
                  </a:lnTo>
                  <a:lnTo>
                    <a:pt x="423" y="171"/>
                  </a:lnTo>
                  <a:lnTo>
                    <a:pt x="420" y="161"/>
                  </a:lnTo>
                  <a:lnTo>
                    <a:pt x="416" y="150"/>
                  </a:lnTo>
                  <a:lnTo>
                    <a:pt x="413" y="140"/>
                  </a:lnTo>
                  <a:lnTo>
                    <a:pt x="408" y="131"/>
                  </a:lnTo>
                  <a:lnTo>
                    <a:pt x="403" y="122"/>
                  </a:lnTo>
                  <a:lnTo>
                    <a:pt x="397" y="114"/>
                  </a:lnTo>
                  <a:lnTo>
                    <a:pt x="392" y="106"/>
                  </a:lnTo>
                  <a:lnTo>
                    <a:pt x="385" y="99"/>
                  </a:lnTo>
                  <a:lnTo>
                    <a:pt x="378" y="91"/>
                  </a:lnTo>
                  <a:lnTo>
                    <a:pt x="370" y="84"/>
                  </a:lnTo>
                  <a:lnTo>
                    <a:pt x="362" y="79"/>
                  </a:lnTo>
                  <a:lnTo>
                    <a:pt x="4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934240" y="3908520"/>
              <a:ext cx="193680" cy="710640"/>
            </a:xfrm>
            <a:custGeom>
              <a:avLst/>
              <a:gdLst/>
              <a:ahLst/>
              <a:rect l="l" t="t" r="r" b="b"/>
              <a:pathLst>
                <a:path w="122" h="448">
                  <a:moveTo>
                    <a:pt x="54" y="0"/>
                  </a:moveTo>
                  <a:lnTo>
                    <a:pt x="63" y="6"/>
                  </a:lnTo>
                  <a:lnTo>
                    <a:pt x="71" y="13"/>
                  </a:lnTo>
                  <a:lnTo>
                    <a:pt x="78" y="21"/>
                  </a:lnTo>
                  <a:lnTo>
                    <a:pt x="86" y="29"/>
                  </a:lnTo>
                  <a:lnTo>
                    <a:pt x="91" y="39"/>
                  </a:lnTo>
                  <a:lnTo>
                    <a:pt x="98" y="48"/>
                  </a:lnTo>
                  <a:lnTo>
                    <a:pt x="103" y="59"/>
                  </a:lnTo>
                  <a:lnTo>
                    <a:pt x="107" y="69"/>
                  </a:lnTo>
                  <a:lnTo>
                    <a:pt x="111" y="80"/>
                  </a:lnTo>
                  <a:lnTo>
                    <a:pt x="114" y="92"/>
                  </a:lnTo>
                  <a:lnTo>
                    <a:pt x="117" y="103"/>
                  </a:lnTo>
                  <a:lnTo>
                    <a:pt x="119" y="116"/>
                  </a:lnTo>
                  <a:lnTo>
                    <a:pt x="121" y="128"/>
                  </a:lnTo>
                  <a:lnTo>
                    <a:pt x="122" y="142"/>
                  </a:lnTo>
                  <a:lnTo>
                    <a:pt x="122" y="155"/>
                  </a:lnTo>
                  <a:lnTo>
                    <a:pt x="122" y="169"/>
                  </a:lnTo>
                  <a:lnTo>
                    <a:pt x="121" y="183"/>
                  </a:lnTo>
                  <a:lnTo>
                    <a:pt x="119" y="197"/>
                  </a:lnTo>
                  <a:lnTo>
                    <a:pt x="117" y="212"/>
                  </a:lnTo>
                  <a:lnTo>
                    <a:pt x="114" y="226"/>
                  </a:lnTo>
                  <a:lnTo>
                    <a:pt x="111" y="241"/>
                  </a:lnTo>
                  <a:lnTo>
                    <a:pt x="107" y="256"/>
                  </a:lnTo>
                  <a:lnTo>
                    <a:pt x="102" y="272"/>
                  </a:lnTo>
                  <a:lnTo>
                    <a:pt x="98" y="287"/>
                  </a:lnTo>
                  <a:lnTo>
                    <a:pt x="91" y="301"/>
                  </a:lnTo>
                  <a:lnTo>
                    <a:pt x="86" y="317"/>
                  </a:lnTo>
                  <a:lnTo>
                    <a:pt x="78" y="332"/>
                  </a:lnTo>
                  <a:lnTo>
                    <a:pt x="71" y="348"/>
                  </a:lnTo>
                  <a:lnTo>
                    <a:pt x="63" y="363"/>
                  </a:lnTo>
                  <a:lnTo>
                    <a:pt x="54" y="379"/>
                  </a:lnTo>
                  <a:lnTo>
                    <a:pt x="45" y="394"/>
                  </a:lnTo>
                  <a:lnTo>
                    <a:pt x="35" y="409"/>
                  </a:lnTo>
                  <a:lnTo>
                    <a:pt x="29" y="419"/>
                  </a:lnTo>
                  <a:lnTo>
                    <a:pt x="22" y="429"/>
                  </a:lnTo>
                  <a:lnTo>
                    <a:pt x="15" y="438"/>
                  </a:lnTo>
                  <a:lnTo>
                    <a:pt x="7" y="448"/>
                  </a:lnTo>
                  <a:lnTo>
                    <a:pt x="7" y="448"/>
                  </a:lnTo>
                  <a:lnTo>
                    <a:pt x="15" y="433"/>
                  </a:lnTo>
                  <a:lnTo>
                    <a:pt x="22" y="419"/>
                  </a:lnTo>
                  <a:lnTo>
                    <a:pt x="29" y="405"/>
                  </a:lnTo>
                  <a:lnTo>
                    <a:pt x="35" y="391"/>
                  </a:lnTo>
                  <a:lnTo>
                    <a:pt x="41" y="376"/>
                  </a:lnTo>
                  <a:lnTo>
                    <a:pt x="46" y="363"/>
                  </a:lnTo>
                  <a:lnTo>
                    <a:pt x="50" y="348"/>
                  </a:lnTo>
                  <a:lnTo>
                    <a:pt x="54" y="335"/>
                  </a:lnTo>
                  <a:lnTo>
                    <a:pt x="58" y="320"/>
                  </a:lnTo>
                  <a:lnTo>
                    <a:pt x="61" y="307"/>
                  </a:lnTo>
                  <a:lnTo>
                    <a:pt x="63" y="293"/>
                  </a:lnTo>
                  <a:lnTo>
                    <a:pt x="66" y="280"/>
                  </a:lnTo>
                  <a:lnTo>
                    <a:pt x="67" y="267"/>
                  </a:lnTo>
                  <a:lnTo>
                    <a:pt x="67" y="254"/>
                  </a:lnTo>
                  <a:lnTo>
                    <a:pt x="69" y="241"/>
                  </a:lnTo>
                  <a:lnTo>
                    <a:pt x="69" y="229"/>
                  </a:lnTo>
                  <a:lnTo>
                    <a:pt x="69" y="217"/>
                  </a:lnTo>
                  <a:lnTo>
                    <a:pt x="67" y="205"/>
                  </a:lnTo>
                  <a:lnTo>
                    <a:pt x="66" y="193"/>
                  </a:lnTo>
                  <a:lnTo>
                    <a:pt x="63" y="182"/>
                  </a:lnTo>
                  <a:lnTo>
                    <a:pt x="61" y="171"/>
                  </a:lnTo>
                  <a:lnTo>
                    <a:pt x="58" y="161"/>
                  </a:lnTo>
                  <a:lnTo>
                    <a:pt x="54" y="150"/>
                  </a:lnTo>
                  <a:lnTo>
                    <a:pt x="51" y="140"/>
                  </a:lnTo>
                  <a:lnTo>
                    <a:pt x="46" y="131"/>
                  </a:lnTo>
                  <a:lnTo>
                    <a:pt x="41" y="122"/>
                  </a:lnTo>
                  <a:lnTo>
                    <a:pt x="35" y="114"/>
                  </a:lnTo>
                  <a:lnTo>
                    <a:pt x="30" y="106"/>
                  </a:lnTo>
                  <a:lnTo>
                    <a:pt x="23" y="99"/>
                  </a:lnTo>
                  <a:lnTo>
                    <a:pt x="16" y="91"/>
                  </a:lnTo>
                  <a:lnTo>
                    <a:pt x="8" y="84"/>
                  </a:lnTo>
                  <a:lnTo>
                    <a:pt x="0" y="79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359320" y="3908520"/>
              <a:ext cx="768600" cy="1176840"/>
            </a:xfrm>
            <a:custGeom>
              <a:avLst/>
              <a:gdLst/>
              <a:ahLst/>
              <a:rect l="l" t="t" r="r" b="b"/>
              <a:pathLst>
                <a:path w="484" h="742">
                  <a:moveTo>
                    <a:pt x="416" y="0"/>
                  </a:moveTo>
                  <a:lnTo>
                    <a:pt x="425" y="6"/>
                  </a:lnTo>
                  <a:lnTo>
                    <a:pt x="433" y="13"/>
                  </a:lnTo>
                  <a:lnTo>
                    <a:pt x="440" y="21"/>
                  </a:lnTo>
                  <a:lnTo>
                    <a:pt x="448" y="29"/>
                  </a:lnTo>
                  <a:lnTo>
                    <a:pt x="453" y="39"/>
                  </a:lnTo>
                  <a:lnTo>
                    <a:pt x="460" y="48"/>
                  </a:lnTo>
                  <a:lnTo>
                    <a:pt x="465" y="59"/>
                  </a:lnTo>
                  <a:lnTo>
                    <a:pt x="469" y="69"/>
                  </a:lnTo>
                  <a:lnTo>
                    <a:pt x="473" y="80"/>
                  </a:lnTo>
                  <a:lnTo>
                    <a:pt x="476" y="92"/>
                  </a:lnTo>
                  <a:lnTo>
                    <a:pt x="479" y="103"/>
                  </a:lnTo>
                  <a:lnTo>
                    <a:pt x="481" y="116"/>
                  </a:lnTo>
                  <a:lnTo>
                    <a:pt x="483" y="128"/>
                  </a:lnTo>
                  <a:lnTo>
                    <a:pt x="484" y="142"/>
                  </a:lnTo>
                  <a:lnTo>
                    <a:pt x="484" y="155"/>
                  </a:lnTo>
                  <a:lnTo>
                    <a:pt x="484" y="169"/>
                  </a:lnTo>
                  <a:lnTo>
                    <a:pt x="483" y="183"/>
                  </a:lnTo>
                  <a:lnTo>
                    <a:pt x="481" y="197"/>
                  </a:lnTo>
                  <a:lnTo>
                    <a:pt x="479" y="212"/>
                  </a:lnTo>
                  <a:lnTo>
                    <a:pt x="476" y="226"/>
                  </a:lnTo>
                  <a:lnTo>
                    <a:pt x="473" y="241"/>
                  </a:lnTo>
                  <a:lnTo>
                    <a:pt x="469" y="256"/>
                  </a:lnTo>
                  <a:lnTo>
                    <a:pt x="464" y="272"/>
                  </a:lnTo>
                  <a:lnTo>
                    <a:pt x="460" y="287"/>
                  </a:lnTo>
                  <a:lnTo>
                    <a:pt x="453" y="301"/>
                  </a:lnTo>
                  <a:lnTo>
                    <a:pt x="448" y="317"/>
                  </a:lnTo>
                  <a:lnTo>
                    <a:pt x="440" y="332"/>
                  </a:lnTo>
                  <a:lnTo>
                    <a:pt x="433" y="348"/>
                  </a:lnTo>
                  <a:lnTo>
                    <a:pt x="425" y="363"/>
                  </a:lnTo>
                  <a:lnTo>
                    <a:pt x="416" y="379"/>
                  </a:lnTo>
                  <a:lnTo>
                    <a:pt x="407" y="394"/>
                  </a:lnTo>
                  <a:lnTo>
                    <a:pt x="397" y="409"/>
                  </a:lnTo>
                  <a:lnTo>
                    <a:pt x="397" y="409"/>
                  </a:lnTo>
                  <a:lnTo>
                    <a:pt x="345" y="489"/>
                  </a:lnTo>
                  <a:lnTo>
                    <a:pt x="329" y="511"/>
                  </a:lnTo>
                  <a:lnTo>
                    <a:pt x="313" y="532"/>
                  </a:lnTo>
                  <a:lnTo>
                    <a:pt x="297" y="551"/>
                  </a:lnTo>
                  <a:lnTo>
                    <a:pt x="279" y="570"/>
                  </a:lnTo>
                  <a:lnTo>
                    <a:pt x="262" y="587"/>
                  </a:lnTo>
                  <a:lnTo>
                    <a:pt x="243" y="603"/>
                  </a:lnTo>
                  <a:lnTo>
                    <a:pt x="225" y="618"/>
                  </a:lnTo>
                  <a:lnTo>
                    <a:pt x="215" y="625"/>
                  </a:lnTo>
                  <a:lnTo>
                    <a:pt x="206" y="631"/>
                  </a:lnTo>
                  <a:lnTo>
                    <a:pt x="197" y="637"/>
                  </a:lnTo>
                  <a:lnTo>
                    <a:pt x="187" y="642"/>
                  </a:lnTo>
                  <a:lnTo>
                    <a:pt x="178" y="649"/>
                  </a:lnTo>
                  <a:lnTo>
                    <a:pt x="168" y="653"/>
                  </a:lnTo>
                  <a:lnTo>
                    <a:pt x="158" y="658"/>
                  </a:lnTo>
                  <a:lnTo>
                    <a:pt x="148" y="662"/>
                  </a:lnTo>
                  <a:lnTo>
                    <a:pt x="139" y="666"/>
                  </a:lnTo>
                  <a:lnTo>
                    <a:pt x="130" y="670"/>
                  </a:lnTo>
                  <a:lnTo>
                    <a:pt x="120" y="673"/>
                  </a:lnTo>
                  <a:lnTo>
                    <a:pt x="111" y="675"/>
                  </a:lnTo>
                  <a:lnTo>
                    <a:pt x="102" y="678"/>
                  </a:lnTo>
                  <a:lnTo>
                    <a:pt x="92" y="679"/>
                  </a:lnTo>
                  <a:lnTo>
                    <a:pt x="83" y="682"/>
                  </a:lnTo>
                  <a:lnTo>
                    <a:pt x="73" y="682"/>
                  </a:lnTo>
                  <a:lnTo>
                    <a:pt x="64" y="683"/>
                  </a:lnTo>
                  <a:lnTo>
                    <a:pt x="55" y="683"/>
                  </a:lnTo>
                  <a:lnTo>
                    <a:pt x="15" y="742"/>
                  </a:lnTo>
                  <a:lnTo>
                    <a:pt x="0" y="620"/>
                  </a:lnTo>
                  <a:lnTo>
                    <a:pt x="147" y="545"/>
                  </a:lnTo>
                  <a:lnTo>
                    <a:pt x="107" y="604"/>
                  </a:lnTo>
                  <a:lnTo>
                    <a:pt x="115" y="604"/>
                  </a:lnTo>
                  <a:lnTo>
                    <a:pt x="123" y="603"/>
                  </a:lnTo>
                  <a:lnTo>
                    <a:pt x="131" y="603"/>
                  </a:lnTo>
                  <a:lnTo>
                    <a:pt x="139" y="602"/>
                  </a:lnTo>
                  <a:lnTo>
                    <a:pt x="148" y="600"/>
                  </a:lnTo>
                  <a:lnTo>
                    <a:pt x="156" y="598"/>
                  </a:lnTo>
                  <a:lnTo>
                    <a:pt x="172" y="594"/>
                  </a:lnTo>
                  <a:lnTo>
                    <a:pt x="190" y="587"/>
                  </a:lnTo>
                  <a:lnTo>
                    <a:pt x="207" y="580"/>
                  </a:lnTo>
                  <a:lnTo>
                    <a:pt x="225" y="572"/>
                  </a:lnTo>
                  <a:lnTo>
                    <a:pt x="241" y="563"/>
                  </a:lnTo>
                  <a:lnTo>
                    <a:pt x="258" y="552"/>
                  </a:lnTo>
                  <a:lnTo>
                    <a:pt x="274" y="540"/>
                  </a:lnTo>
                  <a:lnTo>
                    <a:pt x="292" y="527"/>
                  </a:lnTo>
                  <a:lnTo>
                    <a:pt x="308" y="513"/>
                  </a:lnTo>
                  <a:lnTo>
                    <a:pt x="324" y="498"/>
                  </a:lnTo>
                  <a:lnTo>
                    <a:pt x="340" y="482"/>
                  </a:lnTo>
                  <a:lnTo>
                    <a:pt x="354" y="465"/>
                  </a:lnTo>
                  <a:lnTo>
                    <a:pt x="369" y="448"/>
                  </a:lnTo>
                  <a:lnTo>
                    <a:pt x="369" y="448"/>
                  </a:lnTo>
                  <a:lnTo>
                    <a:pt x="377" y="433"/>
                  </a:lnTo>
                  <a:lnTo>
                    <a:pt x="384" y="419"/>
                  </a:lnTo>
                  <a:lnTo>
                    <a:pt x="391" y="405"/>
                  </a:lnTo>
                  <a:lnTo>
                    <a:pt x="397" y="391"/>
                  </a:lnTo>
                  <a:lnTo>
                    <a:pt x="403" y="376"/>
                  </a:lnTo>
                  <a:lnTo>
                    <a:pt x="408" y="363"/>
                  </a:lnTo>
                  <a:lnTo>
                    <a:pt x="412" y="348"/>
                  </a:lnTo>
                  <a:lnTo>
                    <a:pt x="416" y="335"/>
                  </a:lnTo>
                  <a:lnTo>
                    <a:pt x="420" y="320"/>
                  </a:lnTo>
                  <a:lnTo>
                    <a:pt x="423" y="307"/>
                  </a:lnTo>
                  <a:lnTo>
                    <a:pt x="425" y="293"/>
                  </a:lnTo>
                  <a:lnTo>
                    <a:pt x="428" y="280"/>
                  </a:lnTo>
                  <a:lnTo>
                    <a:pt x="429" y="267"/>
                  </a:lnTo>
                  <a:lnTo>
                    <a:pt x="429" y="254"/>
                  </a:lnTo>
                  <a:lnTo>
                    <a:pt x="431" y="241"/>
                  </a:lnTo>
                  <a:lnTo>
                    <a:pt x="431" y="229"/>
                  </a:lnTo>
                  <a:lnTo>
                    <a:pt x="431" y="217"/>
                  </a:lnTo>
                  <a:lnTo>
                    <a:pt x="429" y="205"/>
                  </a:lnTo>
                  <a:lnTo>
                    <a:pt x="428" y="193"/>
                  </a:lnTo>
                  <a:lnTo>
                    <a:pt x="425" y="182"/>
                  </a:lnTo>
                  <a:lnTo>
                    <a:pt x="423" y="171"/>
                  </a:lnTo>
                  <a:lnTo>
                    <a:pt x="420" y="161"/>
                  </a:lnTo>
                  <a:lnTo>
                    <a:pt x="416" y="150"/>
                  </a:lnTo>
                  <a:lnTo>
                    <a:pt x="413" y="140"/>
                  </a:lnTo>
                  <a:lnTo>
                    <a:pt x="408" y="131"/>
                  </a:lnTo>
                  <a:lnTo>
                    <a:pt x="403" y="122"/>
                  </a:lnTo>
                  <a:lnTo>
                    <a:pt x="397" y="114"/>
                  </a:lnTo>
                  <a:lnTo>
                    <a:pt x="392" y="106"/>
                  </a:lnTo>
                  <a:lnTo>
                    <a:pt x="385" y="99"/>
                  </a:lnTo>
                  <a:lnTo>
                    <a:pt x="378" y="91"/>
                  </a:lnTo>
                  <a:lnTo>
                    <a:pt x="370" y="84"/>
                  </a:lnTo>
                  <a:lnTo>
                    <a:pt x="362" y="79"/>
                  </a:lnTo>
                  <a:lnTo>
                    <a:pt x="416" y="0"/>
                  </a:lnTo>
                </a:path>
              </a:pathLst>
            </a:custGeom>
            <a:solidFill>
              <a:srgbClr val="008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945040" y="4557240"/>
              <a:ext cx="44640" cy="61560"/>
            </a:xfrm>
            <a:custGeom>
              <a:avLst/>
              <a:gdLst/>
              <a:ahLst/>
              <a:rect l="l" t="t" r="r" b="b"/>
              <a:pathLst>
                <a:path w="28" h="39">
                  <a:moveTo>
                    <a:pt x="28" y="0"/>
                  </a:moveTo>
                  <a:lnTo>
                    <a:pt x="22" y="10"/>
                  </a:lnTo>
                  <a:lnTo>
                    <a:pt x="15" y="20"/>
                  </a:lnTo>
                  <a:lnTo>
                    <a:pt x="8" y="29"/>
                  </a:lnTo>
                  <a:lnTo>
                    <a:pt x="0" y="3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981160" y="4216320"/>
              <a:ext cx="1052640" cy="767520"/>
            </a:xfrm>
            <a:custGeom>
              <a:avLst/>
              <a:gdLst/>
              <a:ahLst/>
              <a:rect l="l" t="t" r="r" b="b"/>
              <a:pathLst>
                <a:path w="663" h="484">
                  <a:moveTo>
                    <a:pt x="663" y="414"/>
                  </a:moveTo>
                  <a:lnTo>
                    <a:pt x="656" y="424"/>
                  </a:lnTo>
                  <a:lnTo>
                    <a:pt x="648" y="432"/>
                  </a:lnTo>
                  <a:lnTo>
                    <a:pt x="640" y="440"/>
                  </a:lnTo>
                  <a:lnTo>
                    <a:pt x="631" y="447"/>
                  </a:lnTo>
                  <a:lnTo>
                    <a:pt x="622" y="453"/>
                  </a:lnTo>
                  <a:lnTo>
                    <a:pt x="612" y="459"/>
                  </a:lnTo>
                  <a:lnTo>
                    <a:pt x="602" y="464"/>
                  </a:lnTo>
                  <a:lnTo>
                    <a:pt x="591" y="469"/>
                  </a:lnTo>
                  <a:lnTo>
                    <a:pt x="580" y="473"/>
                  </a:lnTo>
                  <a:lnTo>
                    <a:pt x="568" y="476"/>
                  </a:lnTo>
                  <a:lnTo>
                    <a:pt x="557" y="479"/>
                  </a:lnTo>
                  <a:lnTo>
                    <a:pt x="544" y="481"/>
                  </a:lnTo>
                  <a:lnTo>
                    <a:pt x="532" y="483"/>
                  </a:lnTo>
                  <a:lnTo>
                    <a:pt x="520" y="484"/>
                  </a:lnTo>
                  <a:lnTo>
                    <a:pt x="507" y="484"/>
                  </a:lnTo>
                  <a:lnTo>
                    <a:pt x="493" y="484"/>
                  </a:lnTo>
                  <a:lnTo>
                    <a:pt x="480" y="483"/>
                  </a:lnTo>
                  <a:lnTo>
                    <a:pt x="466" y="481"/>
                  </a:lnTo>
                  <a:lnTo>
                    <a:pt x="453" y="479"/>
                  </a:lnTo>
                  <a:lnTo>
                    <a:pt x="440" y="476"/>
                  </a:lnTo>
                  <a:lnTo>
                    <a:pt x="425" y="473"/>
                  </a:lnTo>
                  <a:lnTo>
                    <a:pt x="412" y="469"/>
                  </a:lnTo>
                  <a:lnTo>
                    <a:pt x="398" y="465"/>
                  </a:lnTo>
                  <a:lnTo>
                    <a:pt x="384" y="460"/>
                  </a:lnTo>
                  <a:lnTo>
                    <a:pt x="370" y="455"/>
                  </a:lnTo>
                  <a:lnTo>
                    <a:pt x="355" y="448"/>
                  </a:lnTo>
                  <a:lnTo>
                    <a:pt x="342" y="441"/>
                  </a:lnTo>
                  <a:lnTo>
                    <a:pt x="327" y="435"/>
                  </a:lnTo>
                  <a:lnTo>
                    <a:pt x="314" y="426"/>
                  </a:lnTo>
                  <a:lnTo>
                    <a:pt x="301" y="417"/>
                  </a:lnTo>
                  <a:lnTo>
                    <a:pt x="287" y="408"/>
                  </a:lnTo>
                  <a:lnTo>
                    <a:pt x="274" y="398"/>
                  </a:lnTo>
                  <a:lnTo>
                    <a:pt x="274" y="398"/>
                  </a:lnTo>
                  <a:lnTo>
                    <a:pt x="204" y="346"/>
                  </a:lnTo>
                  <a:lnTo>
                    <a:pt x="186" y="331"/>
                  </a:lnTo>
                  <a:lnTo>
                    <a:pt x="167" y="315"/>
                  </a:lnTo>
                  <a:lnTo>
                    <a:pt x="151" y="298"/>
                  </a:lnTo>
                  <a:lnTo>
                    <a:pt x="135" y="280"/>
                  </a:lnTo>
                  <a:lnTo>
                    <a:pt x="120" y="263"/>
                  </a:lnTo>
                  <a:lnTo>
                    <a:pt x="107" y="244"/>
                  </a:lnTo>
                  <a:lnTo>
                    <a:pt x="95" y="227"/>
                  </a:lnTo>
                  <a:lnTo>
                    <a:pt x="89" y="216"/>
                  </a:lnTo>
                  <a:lnTo>
                    <a:pt x="84" y="207"/>
                  </a:lnTo>
                  <a:lnTo>
                    <a:pt x="80" y="197"/>
                  </a:lnTo>
                  <a:lnTo>
                    <a:pt x="75" y="188"/>
                  </a:lnTo>
                  <a:lnTo>
                    <a:pt x="70" y="178"/>
                  </a:lnTo>
                  <a:lnTo>
                    <a:pt x="68" y="169"/>
                  </a:lnTo>
                  <a:lnTo>
                    <a:pt x="64" y="160"/>
                  </a:lnTo>
                  <a:lnTo>
                    <a:pt x="61" y="149"/>
                  </a:lnTo>
                  <a:lnTo>
                    <a:pt x="58" y="140"/>
                  </a:lnTo>
                  <a:lnTo>
                    <a:pt x="56" y="130"/>
                  </a:lnTo>
                  <a:lnTo>
                    <a:pt x="54" y="121"/>
                  </a:lnTo>
                  <a:lnTo>
                    <a:pt x="53" y="111"/>
                  </a:lnTo>
                  <a:lnTo>
                    <a:pt x="52" y="102"/>
                  </a:lnTo>
                  <a:lnTo>
                    <a:pt x="50" y="93"/>
                  </a:lnTo>
                  <a:lnTo>
                    <a:pt x="50" y="83"/>
                  </a:lnTo>
                  <a:lnTo>
                    <a:pt x="50" y="74"/>
                  </a:lnTo>
                  <a:lnTo>
                    <a:pt x="50" y="64"/>
                  </a:lnTo>
                  <a:lnTo>
                    <a:pt x="52" y="55"/>
                  </a:lnTo>
                  <a:lnTo>
                    <a:pt x="0" y="15"/>
                  </a:lnTo>
                  <a:lnTo>
                    <a:pt x="119" y="0"/>
                  </a:lnTo>
                  <a:lnTo>
                    <a:pt x="172" y="148"/>
                  </a:lnTo>
                  <a:lnTo>
                    <a:pt x="121" y="107"/>
                  </a:lnTo>
                  <a:lnTo>
                    <a:pt x="120" y="123"/>
                  </a:lnTo>
                  <a:lnTo>
                    <a:pt x="120" y="140"/>
                  </a:lnTo>
                  <a:lnTo>
                    <a:pt x="121" y="157"/>
                  </a:lnTo>
                  <a:lnTo>
                    <a:pt x="124" y="173"/>
                  </a:lnTo>
                  <a:lnTo>
                    <a:pt x="127" y="191"/>
                  </a:lnTo>
                  <a:lnTo>
                    <a:pt x="132" y="208"/>
                  </a:lnTo>
                  <a:lnTo>
                    <a:pt x="139" y="225"/>
                  </a:lnTo>
                  <a:lnTo>
                    <a:pt x="145" y="241"/>
                  </a:lnTo>
                  <a:lnTo>
                    <a:pt x="153" y="259"/>
                  </a:lnTo>
                  <a:lnTo>
                    <a:pt x="163" y="275"/>
                  </a:lnTo>
                  <a:lnTo>
                    <a:pt x="173" y="292"/>
                  </a:lnTo>
                  <a:lnTo>
                    <a:pt x="184" y="308"/>
                  </a:lnTo>
                  <a:lnTo>
                    <a:pt x="198" y="325"/>
                  </a:lnTo>
                  <a:lnTo>
                    <a:pt x="211" y="341"/>
                  </a:lnTo>
                  <a:lnTo>
                    <a:pt x="226" y="355"/>
                  </a:lnTo>
                  <a:lnTo>
                    <a:pt x="240" y="370"/>
                  </a:lnTo>
                  <a:lnTo>
                    <a:pt x="240" y="370"/>
                  </a:lnTo>
                  <a:lnTo>
                    <a:pt x="254" y="378"/>
                  </a:lnTo>
                  <a:lnTo>
                    <a:pt x="266" y="385"/>
                  </a:lnTo>
                  <a:lnTo>
                    <a:pt x="279" y="392"/>
                  </a:lnTo>
                  <a:lnTo>
                    <a:pt x="291" y="398"/>
                  </a:lnTo>
                  <a:lnTo>
                    <a:pt x="305" y="404"/>
                  </a:lnTo>
                  <a:lnTo>
                    <a:pt x="318" y="409"/>
                  </a:lnTo>
                  <a:lnTo>
                    <a:pt x="330" y="413"/>
                  </a:lnTo>
                  <a:lnTo>
                    <a:pt x="343" y="417"/>
                  </a:lnTo>
                  <a:lnTo>
                    <a:pt x="355" y="421"/>
                  </a:lnTo>
                  <a:lnTo>
                    <a:pt x="369" y="424"/>
                  </a:lnTo>
                  <a:lnTo>
                    <a:pt x="381" y="426"/>
                  </a:lnTo>
                  <a:lnTo>
                    <a:pt x="394" y="428"/>
                  </a:lnTo>
                  <a:lnTo>
                    <a:pt x="406" y="429"/>
                  </a:lnTo>
                  <a:lnTo>
                    <a:pt x="418" y="431"/>
                  </a:lnTo>
                  <a:lnTo>
                    <a:pt x="430" y="431"/>
                  </a:lnTo>
                  <a:lnTo>
                    <a:pt x="442" y="431"/>
                  </a:lnTo>
                  <a:lnTo>
                    <a:pt x="454" y="431"/>
                  </a:lnTo>
                  <a:lnTo>
                    <a:pt x="466" y="429"/>
                  </a:lnTo>
                  <a:lnTo>
                    <a:pt x="477" y="428"/>
                  </a:lnTo>
                  <a:lnTo>
                    <a:pt x="488" y="426"/>
                  </a:lnTo>
                  <a:lnTo>
                    <a:pt x="499" y="424"/>
                  </a:lnTo>
                  <a:lnTo>
                    <a:pt x="509" y="420"/>
                  </a:lnTo>
                  <a:lnTo>
                    <a:pt x="520" y="417"/>
                  </a:lnTo>
                  <a:lnTo>
                    <a:pt x="529" y="413"/>
                  </a:lnTo>
                  <a:lnTo>
                    <a:pt x="539" y="408"/>
                  </a:lnTo>
                  <a:lnTo>
                    <a:pt x="548" y="402"/>
                  </a:lnTo>
                  <a:lnTo>
                    <a:pt x="556" y="397"/>
                  </a:lnTo>
                  <a:lnTo>
                    <a:pt x="564" y="392"/>
                  </a:lnTo>
                  <a:lnTo>
                    <a:pt x="572" y="385"/>
                  </a:lnTo>
                  <a:lnTo>
                    <a:pt x="580" y="378"/>
                  </a:lnTo>
                  <a:lnTo>
                    <a:pt x="587" y="370"/>
                  </a:lnTo>
                  <a:lnTo>
                    <a:pt x="594" y="362"/>
                  </a:lnTo>
                  <a:lnTo>
                    <a:pt x="663" y="4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362400" y="4790520"/>
              <a:ext cx="671400" cy="193320"/>
            </a:xfrm>
            <a:custGeom>
              <a:avLst/>
              <a:gdLst/>
              <a:ahLst/>
              <a:rect l="l" t="t" r="r" b="b"/>
              <a:pathLst>
                <a:path w="423" h="122">
                  <a:moveTo>
                    <a:pt x="423" y="52"/>
                  </a:moveTo>
                  <a:lnTo>
                    <a:pt x="416" y="62"/>
                  </a:lnTo>
                  <a:lnTo>
                    <a:pt x="408" y="70"/>
                  </a:lnTo>
                  <a:lnTo>
                    <a:pt x="400" y="78"/>
                  </a:lnTo>
                  <a:lnTo>
                    <a:pt x="391" y="85"/>
                  </a:lnTo>
                  <a:lnTo>
                    <a:pt x="382" y="91"/>
                  </a:lnTo>
                  <a:lnTo>
                    <a:pt x="372" y="97"/>
                  </a:lnTo>
                  <a:lnTo>
                    <a:pt x="362" y="102"/>
                  </a:lnTo>
                  <a:lnTo>
                    <a:pt x="351" y="107"/>
                  </a:lnTo>
                  <a:lnTo>
                    <a:pt x="340" y="111"/>
                  </a:lnTo>
                  <a:lnTo>
                    <a:pt x="328" y="114"/>
                  </a:lnTo>
                  <a:lnTo>
                    <a:pt x="317" y="117"/>
                  </a:lnTo>
                  <a:lnTo>
                    <a:pt x="304" y="119"/>
                  </a:lnTo>
                  <a:lnTo>
                    <a:pt x="292" y="121"/>
                  </a:lnTo>
                  <a:lnTo>
                    <a:pt x="280" y="122"/>
                  </a:lnTo>
                  <a:lnTo>
                    <a:pt x="267" y="122"/>
                  </a:lnTo>
                  <a:lnTo>
                    <a:pt x="253" y="122"/>
                  </a:lnTo>
                  <a:lnTo>
                    <a:pt x="240" y="121"/>
                  </a:lnTo>
                  <a:lnTo>
                    <a:pt x="226" y="119"/>
                  </a:lnTo>
                  <a:lnTo>
                    <a:pt x="213" y="117"/>
                  </a:lnTo>
                  <a:lnTo>
                    <a:pt x="200" y="114"/>
                  </a:lnTo>
                  <a:lnTo>
                    <a:pt x="185" y="111"/>
                  </a:lnTo>
                  <a:lnTo>
                    <a:pt x="172" y="107"/>
                  </a:lnTo>
                  <a:lnTo>
                    <a:pt x="158" y="103"/>
                  </a:lnTo>
                  <a:lnTo>
                    <a:pt x="144" y="98"/>
                  </a:lnTo>
                  <a:lnTo>
                    <a:pt x="130" y="93"/>
                  </a:lnTo>
                  <a:lnTo>
                    <a:pt x="115" y="86"/>
                  </a:lnTo>
                  <a:lnTo>
                    <a:pt x="102" y="79"/>
                  </a:lnTo>
                  <a:lnTo>
                    <a:pt x="87" y="73"/>
                  </a:lnTo>
                  <a:lnTo>
                    <a:pt x="74" y="64"/>
                  </a:lnTo>
                  <a:lnTo>
                    <a:pt x="61" y="55"/>
                  </a:lnTo>
                  <a:lnTo>
                    <a:pt x="47" y="46"/>
                  </a:lnTo>
                  <a:lnTo>
                    <a:pt x="34" y="36"/>
                  </a:lnTo>
                  <a:lnTo>
                    <a:pt x="24" y="30"/>
                  </a:lnTo>
                  <a:lnTo>
                    <a:pt x="16" y="23"/>
                  </a:lnTo>
                  <a:lnTo>
                    <a:pt x="8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14" y="16"/>
                  </a:lnTo>
                  <a:lnTo>
                    <a:pt x="26" y="23"/>
                  </a:lnTo>
                  <a:lnTo>
                    <a:pt x="39" y="30"/>
                  </a:lnTo>
                  <a:lnTo>
                    <a:pt x="51" y="36"/>
                  </a:lnTo>
                  <a:lnTo>
                    <a:pt x="65" y="42"/>
                  </a:lnTo>
                  <a:lnTo>
                    <a:pt x="78" y="47"/>
                  </a:lnTo>
                  <a:lnTo>
                    <a:pt x="90" y="51"/>
                  </a:lnTo>
                  <a:lnTo>
                    <a:pt x="103" y="55"/>
                  </a:lnTo>
                  <a:lnTo>
                    <a:pt x="115" y="59"/>
                  </a:lnTo>
                  <a:lnTo>
                    <a:pt x="129" y="62"/>
                  </a:lnTo>
                  <a:lnTo>
                    <a:pt x="141" y="64"/>
                  </a:lnTo>
                  <a:lnTo>
                    <a:pt x="154" y="66"/>
                  </a:lnTo>
                  <a:lnTo>
                    <a:pt x="166" y="67"/>
                  </a:lnTo>
                  <a:lnTo>
                    <a:pt x="178" y="69"/>
                  </a:lnTo>
                  <a:lnTo>
                    <a:pt x="190" y="69"/>
                  </a:lnTo>
                  <a:lnTo>
                    <a:pt x="202" y="69"/>
                  </a:lnTo>
                  <a:lnTo>
                    <a:pt x="214" y="69"/>
                  </a:lnTo>
                  <a:lnTo>
                    <a:pt x="226" y="67"/>
                  </a:lnTo>
                  <a:lnTo>
                    <a:pt x="237" y="66"/>
                  </a:lnTo>
                  <a:lnTo>
                    <a:pt x="248" y="64"/>
                  </a:lnTo>
                  <a:lnTo>
                    <a:pt x="259" y="62"/>
                  </a:lnTo>
                  <a:lnTo>
                    <a:pt x="269" y="58"/>
                  </a:lnTo>
                  <a:lnTo>
                    <a:pt x="280" y="55"/>
                  </a:lnTo>
                  <a:lnTo>
                    <a:pt x="289" y="51"/>
                  </a:lnTo>
                  <a:lnTo>
                    <a:pt x="299" y="46"/>
                  </a:lnTo>
                  <a:lnTo>
                    <a:pt x="308" y="40"/>
                  </a:lnTo>
                  <a:lnTo>
                    <a:pt x="316" y="35"/>
                  </a:lnTo>
                  <a:lnTo>
                    <a:pt x="324" y="30"/>
                  </a:lnTo>
                  <a:lnTo>
                    <a:pt x="332" y="23"/>
                  </a:lnTo>
                  <a:lnTo>
                    <a:pt x="340" y="16"/>
                  </a:lnTo>
                  <a:lnTo>
                    <a:pt x="347" y="8"/>
                  </a:lnTo>
                  <a:lnTo>
                    <a:pt x="354" y="0"/>
                  </a:lnTo>
                  <a:lnTo>
                    <a:pt x="423" y="52"/>
                  </a:ln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981160" y="4216320"/>
              <a:ext cx="1052640" cy="767520"/>
            </a:xfrm>
            <a:custGeom>
              <a:avLst/>
              <a:gdLst/>
              <a:ahLst/>
              <a:rect l="l" t="t" r="r" b="b"/>
              <a:pathLst>
                <a:path w="663" h="484">
                  <a:moveTo>
                    <a:pt x="663" y="414"/>
                  </a:moveTo>
                  <a:lnTo>
                    <a:pt x="656" y="424"/>
                  </a:lnTo>
                  <a:lnTo>
                    <a:pt x="648" y="432"/>
                  </a:lnTo>
                  <a:lnTo>
                    <a:pt x="640" y="440"/>
                  </a:lnTo>
                  <a:lnTo>
                    <a:pt x="631" y="447"/>
                  </a:lnTo>
                  <a:lnTo>
                    <a:pt x="622" y="453"/>
                  </a:lnTo>
                  <a:lnTo>
                    <a:pt x="612" y="459"/>
                  </a:lnTo>
                  <a:lnTo>
                    <a:pt x="602" y="464"/>
                  </a:lnTo>
                  <a:lnTo>
                    <a:pt x="591" y="469"/>
                  </a:lnTo>
                  <a:lnTo>
                    <a:pt x="580" y="473"/>
                  </a:lnTo>
                  <a:lnTo>
                    <a:pt x="568" y="476"/>
                  </a:lnTo>
                  <a:lnTo>
                    <a:pt x="557" y="479"/>
                  </a:lnTo>
                  <a:lnTo>
                    <a:pt x="544" y="481"/>
                  </a:lnTo>
                  <a:lnTo>
                    <a:pt x="532" y="483"/>
                  </a:lnTo>
                  <a:lnTo>
                    <a:pt x="520" y="484"/>
                  </a:lnTo>
                  <a:lnTo>
                    <a:pt x="507" y="484"/>
                  </a:lnTo>
                  <a:lnTo>
                    <a:pt x="493" y="484"/>
                  </a:lnTo>
                  <a:lnTo>
                    <a:pt x="480" y="483"/>
                  </a:lnTo>
                  <a:lnTo>
                    <a:pt x="466" y="481"/>
                  </a:lnTo>
                  <a:lnTo>
                    <a:pt x="453" y="479"/>
                  </a:lnTo>
                  <a:lnTo>
                    <a:pt x="440" y="476"/>
                  </a:lnTo>
                  <a:lnTo>
                    <a:pt x="425" y="473"/>
                  </a:lnTo>
                  <a:lnTo>
                    <a:pt x="412" y="469"/>
                  </a:lnTo>
                  <a:lnTo>
                    <a:pt x="398" y="465"/>
                  </a:lnTo>
                  <a:lnTo>
                    <a:pt x="384" y="460"/>
                  </a:lnTo>
                  <a:lnTo>
                    <a:pt x="370" y="455"/>
                  </a:lnTo>
                  <a:lnTo>
                    <a:pt x="355" y="448"/>
                  </a:lnTo>
                  <a:lnTo>
                    <a:pt x="342" y="441"/>
                  </a:lnTo>
                  <a:lnTo>
                    <a:pt x="327" y="435"/>
                  </a:lnTo>
                  <a:lnTo>
                    <a:pt x="314" y="426"/>
                  </a:lnTo>
                  <a:lnTo>
                    <a:pt x="301" y="417"/>
                  </a:lnTo>
                  <a:lnTo>
                    <a:pt x="287" y="408"/>
                  </a:lnTo>
                  <a:lnTo>
                    <a:pt x="274" y="398"/>
                  </a:lnTo>
                  <a:lnTo>
                    <a:pt x="274" y="398"/>
                  </a:lnTo>
                  <a:lnTo>
                    <a:pt x="204" y="346"/>
                  </a:lnTo>
                  <a:lnTo>
                    <a:pt x="186" y="331"/>
                  </a:lnTo>
                  <a:lnTo>
                    <a:pt x="167" y="315"/>
                  </a:lnTo>
                  <a:lnTo>
                    <a:pt x="151" y="298"/>
                  </a:lnTo>
                  <a:lnTo>
                    <a:pt x="135" y="280"/>
                  </a:lnTo>
                  <a:lnTo>
                    <a:pt x="120" y="263"/>
                  </a:lnTo>
                  <a:lnTo>
                    <a:pt x="107" y="244"/>
                  </a:lnTo>
                  <a:lnTo>
                    <a:pt x="95" y="227"/>
                  </a:lnTo>
                  <a:lnTo>
                    <a:pt x="89" y="216"/>
                  </a:lnTo>
                  <a:lnTo>
                    <a:pt x="84" y="207"/>
                  </a:lnTo>
                  <a:lnTo>
                    <a:pt x="80" y="197"/>
                  </a:lnTo>
                  <a:lnTo>
                    <a:pt x="75" y="188"/>
                  </a:lnTo>
                  <a:lnTo>
                    <a:pt x="70" y="178"/>
                  </a:lnTo>
                  <a:lnTo>
                    <a:pt x="68" y="169"/>
                  </a:lnTo>
                  <a:lnTo>
                    <a:pt x="64" y="160"/>
                  </a:lnTo>
                  <a:lnTo>
                    <a:pt x="61" y="149"/>
                  </a:lnTo>
                  <a:lnTo>
                    <a:pt x="58" y="140"/>
                  </a:lnTo>
                  <a:lnTo>
                    <a:pt x="56" y="130"/>
                  </a:lnTo>
                  <a:lnTo>
                    <a:pt x="54" y="121"/>
                  </a:lnTo>
                  <a:lnTo>
                    <a:pt x="53" y="111"/>
                  </a:lnTo>
                  <a:lnTo>
                    <a:pt x="52" y="102"/>
                  </a:lnTo>
                  <a:lnTo>
                    <a:pt x="50" y="93"/>
                  </a:lnTo>
                  <a:lnTo>
                    <a:pt x="50" y="83"/>
                  </a:lnTo>
                  <a:lnTo>
                    <a:pt x="50" y="74"/>
                  </a:lnTo>
                  <a:lnTo>
                    <a:pt x="50" y="64"/>
                  </a:lnTo>
                  <a:lnTo>
                    <a:pt x="52" y="55"/>
                  </a:lnTo>
                  <a:lnTo>
                    <a:pt x="0" y="15"/>
                  </a:lnTo>
                  <a:lnTo>
                    <a:pt x="119" y="0"/>
                  </a:lnTo>
                  <a:lnTo>
                    <a:pt x="172" y="148"/>
                  </a:lnTo>
                  <a:lnTo>
                    <a:pt x="121" y="107"/>
                  </a:lnTo>
                  <a:lnTo>
                    <a:pt x="120" y="123"/>
                  </a:lnTo>
                  <a:lnTo>
                    <a:pt x="120" y="140"/>
                  </a:lnTo>
                  <a:lnTo>
                    <a:pt x="121" y="157"/>
                  </a:lnTo>
                  <a:lnTo>
                    <a:pt x="124" y="173"/>
                  </a:lnTo>
                  <a:lnTo>
                    <a:pt x="127" y="191"/>
                  </a:lnTo>
                  <a:lnTo>
                    <a:pt x="132" y="208"/>
                  </a:lnTo>
                  <a:lnTo>
                    <a:pt x="139" y="225"/>
                  </a:lnTo>
                  <a:lnTo>
                    <a:pt x="145" y="241"/>
                  </a:lnTo>
                  <a:lnTo>
                    <a:pt x="153" y="259"/>
                  </a:lnTo>
                  <a:lnTo>
                    <a:pt x="163" y="275"/>
                  </a:lnTo>
                  <a:lnTo>
                    <a:pt x="173" y="292"/>
                  </a:lnTo>
                  <a:lnTo>
                    <a:pt x="184" y="308"/>
                  </a:lnTo>
                  <a:lnTo>
                    <a:pt x="198" y="325"/>
                  </a:lnTo>
                  <a:lnTo>
                    <a:pt x="211" y="341"/>
                  </a:lnTo>
                  <a:lnTo>
                    <a:pt x="226" y="355"/>
                  </a:lnTo>
                  <a:lnTo>
                    <a:pt x="240" y="370"/>
                  </a:lnTo>
                  <a:lnTo>
                    <a:pt x="240" y="370"/>
                  </a:lnTo>
                  <a:lnTo>
                    <a:pt x="254" y="378"/>
                  </a:lnTo>
                  <a:lnTo>
                    <a:pt x="266" y="385"/>
                  </a:lnTo>
                  <a:lnTo>
                    <a:pt x="279" y="392"/>
                  </a:lnTo>
                  <a:lnTo>
                    <a:pt x="291" y="398"/>
                  </a:lnTo>
                  <a:lnTo>
                    <a:pt x="305" y="404"/>
                  </a:lnTo>
                  <a:lnTo>
                    <a:pt x="318" y="409"/>
                  </a:lnTo>
                  <a:lnTo>
                    <a:pt x="330" y="413"/>
                  </a:lnTo>
                  <a:lnTo>
                    <a:pt x="343" y="417"/>
                  </a:lnTo>
                  <a:lnTo>
                    <a:pt x="355" y="421"/>
                  </a:lnTo>
                  <a:lnTo>
                    <a:pt x="369" y="424"/>
                  </a:lnTo>
                  <a:lnTo>
                    <a:pt x="381" y="426"/>
                  </a:lnTo>
                  <a:lnTo>
                    <a:pt x="394" y="428"/>
                  </a:lnTo>
                  <a:lnTo>
                    <a:pt x="406" y="429"/>
                  </a:lnTo>
                  <a:lnTo>
                    <a:pt x="418" y="431"/>
                  </a:lnTo>
                  <a:lnTo>
                    <a:pt x="430" y="431"/>
                  </a:lnTo>
                  <a:lnTo>
                    <a:pt x="442" y="431"/>
                  </a:lnTo>
                  <a:lnTo>
                    <a:pt x="454" y="431"/>
                  </a:lnTo>
                  <a:lnTo>
                    <a:pt x="466" y="429"/>
                  </a:lnTo>
                  <a:lnTo>
                    <a:pt x="477" y="428"/>
                  </a:lnTo>
                  <a:lnTo>
                    <a:pt x="488" y="426"/>
                  </a:lnTo>
                  <a:lnTo>
                    <a:pt x="499" y="424"/>
                  </a:lnTo>
                  <a:lnTo>
                    <a:pt x="509" y="420"/>
                  </a:lnTo>
                  <a:lnTo>
                    <a:pt x="520" y="417"/>
                  </a:lnTo>
                  <a:lnTo>
                    <a:pt x="529" y="413"/>
                  </a:lnTo>
                  <a:lnTo>
                    <a:pt x="539" y="408"/>
                  </a:lnTo>
                  <a:lnTo>
                    <a:pt x="548" y="402"/>
                  </a:lnTo>
                  <a:lnTo>
                    <a:pt x="556" y="397"/>
                  </a:lnTo>
                  <a:lnTo>
                    <a:pt x="564" y="392"/>
                  </a:lnTo>
                  <a:lnTo>
                    <a:pt x="572" y="385"/>
                  </a:lnTo>
                  <a:lnTo>
                    <a:pt x="580" y="378"/>
                  </a:lnTo>
                  <a:lnTo>
                    <a:pt x="587" y="370"/>
                  </a:lnTo>
                  <a:lnTo>
                    <a:pt x="594" y="362"/>
                  </a:lnTo>
                  <a:lnTo>
                    <a:pt x="663" y="414"/>
                  </a:lnTo>
                </a:path>
              </a:pathLst>
            </a:custGeom>
            <a:solidFill>
              <a:srgbClr val="008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362400" y="4803120"/>
              <a:ext cx="54000" cy="44280"/>
            </a:xfrm>
            <a:custGeom>
              <a:avLst/>
              <a:gdLst/>
              <a:ahLst/>
              <a:rect l="l" t="t" r="r" b="b"/>
              <a:pathLst>
                <a:path w="34" h="28">
                  <a:moveTo>
                    <a:pt x="34" y="28"/>
                  </a:moveTo>
                  <a:lnTo>
                    <a:pt x="24" y="22"/>
                  </a:lnTo>
                  <a:lnTo>
                    <a:pt x="16" y="15"/>
                  </a:lnTo>
                  <a:lnTo>
                    <a:pt x="8" y="8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102800" y="345816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101720" y="3660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101720" y="386424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101720" y="4068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124400" y="42717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j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101720" y="448416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210080" y="44841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188240" y="5780520"/>
              <a:ext cx="15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344120" y="5780520"/>
              <a:ext cx="1081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Arial"/>
                </a:rPr>
                <a:t>vestigación,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934440" y="5991120"/>
              <a:ext cx="1695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iencia y tecnologí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616360" y="59911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12320" y="2193480"/>
              <a:ext cx="1994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articipación pública y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042800" y="2404800"/>
              <a:ext cx="1287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ncienciació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317920" y="24048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059200" y="325512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058120" y="345960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058120" y="366084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080800" y="38656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130120" y="38656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077200" y="40701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058120" y="427500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074320" y="447768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058120" y="4682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058120" y="488412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165040" y="48841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711200" y="3810240"/>
              <a:ext cx="735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riterio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436960" y="3810240"/>
              <a:ext cx="101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699680" y="4014720"/>
              <a:ext cx="843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ormas y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979400" y="4225680"/>
              <a:ext cx="515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et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486640" y="42256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7609320" y="5950080"/>
            <a:ext cx="121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ahoma"/>
              </a:rPr>
              <a:t>Fuente: CC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rincipi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6851520" cy="7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Sistemas y subsistem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"/>
          <p:cNvSpPr/>
          <p:nvPr/>
        </p:nvSpPr>
        <p:spPr>
          <a:xfrm>
            <a:off x="7915320" y="584820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1187280" y="2924280"/>
            <a:ext cx="6839640" cy="2614320"/>
            <a:chOff x="1187280" y="2924280"/>
            <a:chExt cx="6839640" cy="2614320"/>
          </a:xfrm>
        </p:grpSpPr>
        <p:sp>
          <p:nvSpPr>
            <p:cNvPr id="265" name=""/>
            <p:cNvSpPr/>
            <p:nvPr/>
          </p:nvSpPr>
          <p:spPr>
            <a:xfrm>
              <a:off x="7240320" y="4710600"/>
              <a:ext cx="542160" cy="48852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240320" y="4710600"/>
              <a:ext cx="542160" cy="48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202160" y="4260960"/>
              <a:ext cx="613440" cy="449640"/>
            </a:xfrm>
            <a:custGeom>
              <a:avLst/>
              <a:gdLst/>
              <a:ahLst/>
              <a:rect l="l" t="t" r="r" b="b"/>
              <a:pathLst>
                <a:path w="327" h="220">
                  <a:moveTo>
                    <a:pt x="164" y="0"/>
                  </a:moveTo>
                  <a:lnTo>
                    <a:pt x="327" y="220"/>
                  </a:lnTo>
                  <a:lnTo>
                    <a:pt x="0" y="220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202160" y="4260960"/>
              <a:ext cx="613440" cy="449640"/>
            </a:xfrm>
            <a:custGeom>
              <a:avLst/>
              <a:gdLst/>
              <a:ahLst/>
              <a:rect l="l" t="t" r="r" b="b"/>
              <a:pathLst>
                <a:path w="327" h="220">
                  <a:moveTo>
                    <a:pt x="164" y="0"/>
                  </a:moveTo>
                  <a:lnTo>
                    <a:pt x="327" y="220"/>
                  </a:lnTo>
                  <a:lnTo>
                    <a:pt x="0" y="220"/>
                  </a:lnTo>
                  <a:lnTo>
                    <a:pt x="164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84960" y="4371480"/>
              <a:ext cx="1242720" cy="1167120"/>
            </a:xfrm>
            <a:custGeom>
              <a:avLst/>
              <a:gdLst/>
              <a:ahLst/>
              <a:rect l="l" t="t" r="r" b="b"/>
              <a:pathLst>
                <a:path w="662" h="571">
                  <a:moveTo>
                    <a:pt x="514" y="0"/>
                  </a:moveTo>
                  <a:lnTo>
                    <a:pt x="662" y="357"/>
                  </a:lnTo>
                  <a:lnTo>
                    <a:pt x="147" y="571"/>
                  </a:lnTo>
                  <a:lnTo>
                    <a:pt x="0" y="215"/>
                  </a:lnTo>
                  <a:lnTo>
                    <a:pt x="514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484960" y="4371480"/>
              <a:ext cx="1242720" cy="1167120"/>
            </a:xfrm>
            <a:custGeom>
              <a:avLst/>
              <a:gdLst/>
              <a:ahLst/>
              <a:rect l="l" t="t" r="r" b="b"/>
              <a:pathLst>
                <a:path w="662" h="571">
                  <a:moveTo>
                    <a:pt x="514" y="0"/>
                  </a:moveTo>
                  <a:lnTo>
                    <a:pt x="662" y="357"/>
                  </a:lnTo>
                  <a:lnTo>
                    <a:pt x="147" y="571"/>
                  </a:lnTo>
                  <a:lnTo>
                    <a:pt x="0" y="215"/>
                  </a:lnTo>
                  <a:lnTo>
                    <a:pt x="514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5575320" y="4614840"/>
              <a:ext cx="964800" cy="43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5669280" y="4856400"/>
              <a:ext cx="962640" cy="43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458160" y="4674240"/>
              <a:ext cx="827640" cy="41040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458160" y="4674240"/>
              <a:ext cx="827640" cy="41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581640" y="475200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612320" y="3584520"/>
              <a:ext cx="754560" cy="637560"/>
            </a:xfrm>
            <a:custGeom>
              <a:avLst/>
              <a:gdLst/>
              <a:ahLst/>
              <a:rect l="l" t="t" r="r" b="b"/>
              <a:pathLst>
                <a:path w="402" h="312">
                  <a:moveTo>
                    <a:pt x="201" y="0"/>
                  </a:moveTo>
                  <a:lnTo>
                    <a:pt x="222" y="0"/>
                  </a:lnTo>
                  <a:lnTo>
                    <a:pt x="242" y="1"/>
                  </a:lnTo>
                  <a:lnTo>
                    <a:pt x="261" y="2"/>
                  </a:lnTo>
                  <a:lnTo>
                    <a:pt x="279" y="3"/>
                  </a:lnTo>
                  <a:lnTo>
                    <a:pt x="297" y="5"/>
                  </a:lnTo>
                  <a:lnTo>
                    <a:pt x="306" y="6"/>
                  </a:lnTo>
                  <a:lnTo>
                    <a:pt x="313" y="7"/>
                  </a:lnTo>
                  <a:lnTo>
                    <a:pt x="321" y="8"/>
                  </a:lnTo>
                  <a:lnTo>
                    <a:pt x="329" y="9"/>
                  </a:lnTo>
                  <a:lnTo>
                    <a:pt x="336" y="10"/>
                  </a:lnTo>
                  <a:lnTo>
                    <a:pt x="343" y="11"/>
                  </a:lnTo>
                  <a:lnTo>
                    <a:pt x="350" y="12"/>
                  </a:lnTo>
                  <a:lnTo>
                    <a:pt x="356" y="14"/>
                  </a:lnTo>
                  <a:lnTo>
                    <a:pt x="362" y="15"/>
                  </a:lnTo>
                  <a:lnTo>
                    <a:pt x="367" y="17"/>
                  </a:lnTo>
                  <a:lnTo>
                    <a:pt x="373" y="18"/>
                  </a:lnTo>
                  <a:lnTo>
                    <a:pt x="378" y="21"/>
                  </a:lnTo>
                  <a:lnTo>
                    <a:pt x="382" y="23"/>
                  </a:lnTo>
                  <a:lnTo>
                    <a:pt x="386" y="24"/>
                  </a:lnTo>
                  <a:lnTo>
                    <a:pt x="389" y="26"/>
                  </a:lnTo>
                  <a:lnTo>
                    <a:pt x="393" y="28"/>
                  </a:lnTo>
                  <a:lnTo>
                    <a:pt x="396" y="30"/>
                  </a:lnTo>
                  <a:lnTo>
                    <a:pt x="398" y="31"/>
                  </a:lnTo>
                  <a:lnTo>
                    <a:pt x="400" y="33"/>
                  </a:lnTo>
                  <a:lnTo>
                    <a:pt x="401" y="35"/>
                  </a:lnTo>
                  <a:lnTo>
                    <a:pt x="402" y="37"/>
                  </a:lnTo>
                  <a:lnTo>
                    <a:pt x="402" y="39"/>
                  </a:lnTo>
                  <a:lnTo>
                    <a:pt x="402" y="272"/>
                  </a:lnTo>
                  <a:lnTo>
                    <a:pt x="402" y="275"/>
                  </a:lnTo>
                  <a:lnTo>
                    <a:pt x="401" y="277"/>
                  </a:lnTo>
                  <a:lnTo>
                    <a:pt x="400" y="279"/>
                  </a:lnTo>
                  <a:lnTo>
                    <a:pt x="398" y="281"/>
                  </a:lnTo>
                  <a:lnTo>
                    <a:pt x="396" y="283"/>
                  </a:lnTo>
                  <a:lnTo>
                    <a:pt x="393" y="284"/>
                  </a:lnTo>
                  <a:lnTo>
                    <a:pt x="389" y="286"/>
                  </a:lnTo>
                  <a:lnTo>
                    <a:pt x="386" y="288"/>
                  </a:lnTo>
                  <a:lnTo>
                    <a:pt x="382" y="290"/>
                  </a:lnTo>
                  <a:lnTo>
                    <a:pt x="378" y="291"/>
                  </a:lnTo>
                  <a:lnTo>
                    <a:pt x="373" y="293"/>
                  </a:lnTo>
                  <a:lnTo>
                    <a:pt x="367" y="295"/>
                  </a:lnTo>
                  <a:lnTo>
                    <a:pt x="362" y="297"/>
                  </a:lnTo>
                  <a:lnTo>
                    <a:pt x="356" y="298"/>
                  </a:lnTo>
                  <a:lnTo>
                    <a:pt x="350" y="300"/>
                  </a:lnTo>
                  <a:lnTo>
                    <a:pt x="343" y="301"/>
                  </a:lnTo>
                  <a:lnTo>
                    <a:pt x="336" y="302"/>
                  </a:lnTo>
                  <a:lnTo>
                    <a:pt x="329" y="303"/>
                  </a:lnTo>
                  <a:lnTo>
                    <a:pt x="321" y="304"/>
                  </a:lnTo>
                  <a:lnTo>
                    <a:pt x="313" y="306"/>
                  </a:lnTo>
                  <a:lnTo>
                    <a:pt x="306" y="307"/>
                  </a:lnTo>
                  <a:lnTo>
                    <a:pt x="297" y="307"/>
                  </a:lnTo>
                  <a:lnTo>
                    <a:pt x="279" y="309"/>
                  </a:lnTo>
                  <a:lnTo>
                    <a:pt x="261" y="310"/>
                  </a:lnTo>
                  <a:lnTo>
                    <a:pt x="242" y="311"/>
                  </a:lnTo>
                  <a:lnTo>
                    <a:pt x="222" y="312"/>
                  </a:lnTo>
                  <a:lnTo>
                    <a:pt x="201" y="312"/>
                  </a:lnTo>
                  <a:lnTo>
                    <a:pt x="180" y="312"/>
                  </a:lnTo>
                  <a:lnTo>
                    <a:pt x="160" y="311"/>
                  </a:lnTo>
                  <a:lnTo>
                    <a:pt x="141" y="310"/>
                  </a:lnTo>
                  <a:lnTo>
                    <a:pt x="122" y="309"/>
                  </a:lnTo>
                  <a:lnTo>
                    <a:pt x="105" y="307"/>
                  </a:lnTo>
                  <a:lnTo>
                    <a:pt x="96" y="307"/>
                  </a:lnTo>
                  <a:lnTo>
                    <a:pt x="89" y="306"/>
                  </a:lnTo>
                  <a:lnTo>
                    <a:pt x="80" y="304"/>
                  </a:lnTo>
                  <a:lnTo>
                    <a:pt x="73" y="303"/>
                  </a:lnTo>
                  <a:lnTo>
                    <a:pt x="66" y="302"/>
                  </a:lnTo>
                  <a:lnTo>
                    <a:pt x="58" y="301"/>
                  </a:lnTo>
                  <a:lnTo>
                    <a:pt x="52" y="300"/>
                  </a:lnTo>
                  <a:lnTo>
                    <a:pt x="46" y="298"/>
                  </a:lnTo>
                  <a:lnTo>
                    <a:pt x="40" y="297"/>
                  </a:lnTo>
                  <a:lnTo>
                    <a:pt x="34" y="295"/>
                  </a:lnTo>
                  <a:lnTo>
                    <a:pt x="29" y="293"/>
                  </a:lnTo>
                  <a:lnTo>
                    <a:pt x="24" y="291"/>
                  </a:lnTo>
                  <a:lnTo>
                    <a:pt x="20" y="290"/>
                  </a:lnTo>
                  <a:lnTo>
                    <a:pt x="15" y="288"/>
                  </a:lnTo>
                  <a:lnTo>
                    <a:pt x="12" y="286"/>
                  </a:lnTo>
                  <a:lnTo>
                    <a:pt x="9" y="284"/>
                  </a:lnTo>
                  <a:lnTo>
                    <a:pt x="6" y="283"/>
                  </a:lnTo>
                  <a:lnTo>
                    <a:pt x="4" y="281"/>
                  </a:lnTo>
                  <a:lnTo>
                    <a:pt x="2" y="279"/>
                  </a:lnTo>
                  <a:lnTo>
                    <a:pt x="1" y="277"/>
                  </a:lnTo>
                  <a:lnTo>
                    <a:pt x="0" y="275"/>
                  </a:lnTo>
                  <a:lnTo>
                    <a:pt x="0" y="272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1" y="35"/>
                  </a:lnTo>
                  <a:lnTo>
                    <a:pt x="2" y="33"/>
                  </a:lnTo>
                  <a:lnTo>
                    <a:pt x="4" y="31"/>
                  </a:lnTo>
                  <a:lnTo>
                    <a:pt x="6" y="30"/>
                  </a:lnTo>
                  <a:lnTo>
                    <a:pt x="9" y="28"/>
                  </a:lnTo>
                  <a:lnTo>
                    <a:pt x="12" y="26"/>
                  </a:lnTo>
                  <a:lnTo>
                    <a:pt x="15" y="24"/>
                  </a:lnTo>
                  <a:lnTo>
                    <a:pt x="20" y="23"/>
                  </a:lnTo>
                  <a:lnTo>
                    <a:pt x="24" y="21"/>
                  </a:lnTo>
                  <a:lnTo>
                    <a:pt x="29" y="18"/>
                  </a:lnTo>
                  <a:lnTo>
                    <a:pt x="34" y="17"/>
                  </a:lnTo>
                  <a:lnTo>
                    <a:pt x="40" y="15"/>
                  </a:lnTo>
                  <a:lnTo>
                    <a:pt x="46" y="14"/>
                  </a:lnTo>
                  <a:lnTo>
                    <a:pt x="52" y="12"/>
                  </a:lnTo>
                  <a:lnTo>
                    <a:pt x="58" y="11"/>
                  </a:lnTo>
                  <a:lnTo>
                    <a:pt x="66" y="10"/>
                  </a:lnTo>
                  <a:lnTo>
                    <a:pt x="73" y="9"/>
                  </a:lnTo>
                  <a:lnTo>
                    <a:pt x="80" y="8"/>
                  </a:lnTo>
                  <a:lnTo>
                    <a:pt x="89" y="7"/>
                  </a:lnTo>
                  <a:lnTo>
                    <a:pt x="96" y="6"/>
                  </a:lnTo>
                  <a:lnTo>
                    <a:pt x="105" y="5"/>
                  </a:lnTo>
                  <a:lnTo>
                    <a:pt x="122" y="3"/>
                  </a:lnTo>
                  <a:lnTo>
                    <a:pt x="141" y="2"/>
                  </a:lnTo>
                  <a:lnTo>
                    <a:pt x="160" y="1"/>
                  </a:lnTo>
                  <a:lnTo>
                    <a:pt x="180" y="0"/>
                  </a:lnTo>
                  <a:lnTo>
                    <a:pt x="201" y="0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612320" y="3584520"/>
              <a:ext cx="754560" cy="159120"/>
            </a:xfrm>
            <a:custGeom>
              <a:avLst/>
              <a:gdLst/>
              <a:ahLst/>
              <a:rect l="l" t="t" r="r" b="b"/>
              <a:pathLst>
                <a:path w="402" h="78">
                  <a:moveTo>
                    <a:pt x="402" y="39"/>
                  </a:moveTo>
                  <a:lnTo>
                    <a:pt x="402" y="42"/>
                  </a:lnTo>
                  <a:lnTo>
                    <a:pt x="401" y="44"/>
                  </a:lnTo>
                  <a:lnTo>
                    <a:pt x="400" y="46"/>
                  </a:lnTo>
                  <a:lnTo>
                    <a:pt x="398" y="47"/>
                  </a:lnTo>
                  <a:lnTo>
                    <a:pt x="396" y="49"/>
                  </a:lnTo>
                  <a:lnTo>
                    <a:pt x="393" y="51"/>
                  </a:lnTo>
                  <a:lnTo>
                    <a:pt x="389" y="53"/>
                  </a:lnTo>
                  <a:lnTo>
                    <a:pt x="386" y="54"/>
                  </a:lnTo>
                  <a:lnTo>
                    <a:pt x="382" y="56"/>
                  </a:lnTo>
                  <a:lnTo>
                    <a:pt x="378" y="57"/>
                  </a:lnTo>
                  <a:lnTo>
                    <a:pt x="373" y="59"/>
                  </a:lnTo>
                  <a:lnTo>
                    <a:pt x="367" y="62"/>
                  </a:lnTo>
                  <a:lnTo>
                    <a:pt x="362" y="63"/>
                  </a:lnTo>
                  <a:lnTo>
                    <a:pt x="356" y="64"/>
                  </a:lnTo>
                  <a:lnTo>
                    <a:pt x="350" y="66"/>
                  </a:lnTo>
                  <a:lnTo>
                    <a:pt x="343" y="67"/>
                  </a:lnTo>
                  <a:lnTo>
                    <a:pt x="336" y="68"/>
                  </a:lnTo>
                  <a:lnTo>
                    <a:pt x="329" y="69"/>
                  </a:lnTo>
                  <a:lnTo>
                    <a:pt x="321" y="71"/>
                  </a:lnTo>
                  <a:lnTo>
                    <a:pt x="313" y="72"/>
                  </a:lnTo>
                  <a:lnTo>
                    <a:pt x="306" y="73"/>
                  </a:lnTo>
                  <a:lnTo>
                    <a:pt x="297" y="73"/>
                  </a:lnTo>
                  <a:lnTo>
                    <a:pt x="279" y="75"/>
                  </a:lnTo>
                  <a:lnTo>
                    <a:pt x="261" y="76"/>
                  </a:lnTo>
                  <a:lnTo>
                    <a:pt x="242" y="77"/>
                  </a:lnTo>
                  <a:lnTo>
                    <a:pt x="222" y="78"/>
                  </a:lnTo>
                  <a:lnTo>
                    <a:pt x="201" y="78"/>
                  </a:lnTo>
                  <a:lnTo>
                    <a:pt x="180" y="78"/>
                  </a:lnTo>
                  <a:lnTo>
                    <a:pt x="160" y="77"/>
                  </a:lnTo>
                  <a:lnTo>
                    <a:pt x="141" y="76"/>
                  </a:lnTo>
                  <a:lnTo>
                    <a:pt x="122" y="75"/>
                  </a:lnTo>
                  <a:lnTo>
                    <a:pt x="105" y="73"/>
                  </a:lnTo>
                  <a:lnTo>
                    <a:pt x="96" y="73"/>
                  </a:lnTo>
                  <a:lnTo>
                    <a:pt x="89" y="72"/>
                  </a:lnTo>
                  <a:lnTo>
                    <a:pt x="80" y="71"/>
                  </a:lnTo>
                  <a:lnTo>
                    <a:pt x="73" y="69"/>
                  </a:lnTo>
                  <a:lnTo>
                    <a:pt x="66" y="68"/>
                  </a:lnTo>
                  <a:lnTo>
                    <a:pt x="58" y="67"/>
                  </a:lnTo>
                  <a:lnTo>
                    <a:pt x="52" y="66"/>
                  </a:lnTo>
                  <a:lnTo>
                    <a:pt x="46" y="64"/>
                  </a:lnTo>
                  <a:lnTo>
                    <a:pt x="40" y="63"/>
                  </a:lnTo>
                  <a:lnTo>
                    <a:pt x="34" y="62"/>
                  </a:lnTo>
                  <a:lnTo>
                    <a:pt x="29" y="59"/>
                  </a:lnTo>
                  <a:lnTo>
                    <a:pt x="24" y="57"/>
                  </a:lnTo>
                  <a:lnTo>
                    <a:pt x="20" y="56"/>
                  </a:lnTo>
                  <a:lnTo>
                    <a:pt x="15" y="54"/>
                  </a:lnTo>
                  <a:lnTo>
                    <a:pt x="12" y="53"/>
                  </a:lnTo>
                  <a:lnTo>
                    <a:pt x="9" y="51"/>
                  </a:lnTo>
                  <a:lnTo>
                    <a:pt x="6" y="49"/>
                  </a:lnTo>
                  <a:lnTo>
                    <a:pt x="4" y="47"/>
                  </a:lnTo>
                  <a:lnTo>
                    <a:pt x="2" y="46"/>
                  </a:lnTo>
                  <a:lnTo>
                    <a:pt x="1" y="44"/>
                  </a:lnTo>
                  <a:lnTo>
                    <a:pt x="0" y="42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1" y="35"/>
                  </a:lnTo>
                  <a:lnTo>
                    <a:pt x="2" y="33"/>
                  </a:lnTo>
                  <a:lnTo>
                    <a:pt x="4" y="31"/>
                  </a:lnTo>
                  <a:lnTo>
                    <a:pt x="6" y="30"/>
                  </a:lnTo>
                  <a:lnTo>
                    <a:pt x="9" y="28"/>
                  </a:lnTo>
                  <a:lnTo>
                    <a:pt x="12" y="26"/>
                  </a:lnTo>
                  <a:lnTo>
                    <a:pt x="15" y="24"/>
                  </a:lnTo>
                  <a:lnTo>
                    <a:pt x="20" y="23"/>
                  </a:lnTo>
                  <a:lnTo>
                    <a:pt x="24" y="21"/>
                  </a:lnTo>
                  <a:lnTo>
                    <a:pt x="29" y="18"/>
                  </a:lnTo>
                  <a:lnTo>
                    <a:pt x="34" y="17"/>
                  </a:lnTo>
                  <a:lnTo>
                    <a:pt x="40" y="15"/>
                  </a:lnTo>
                  <a:lnTo>
                    <a:pt x="46" y="14"/>
                  </a:lnTo>
                  <a:lnTo>
                    <a:pt x="52" y="12"/>
                  </a:lnTo>
                  <a:lnTo>
                    <a:pt x="58" y="11"/>
                  </a:lnTo>
                  <a:lnTo>
                    <a:pt x="66" y="10"/>
                  </a:lnTo>
                  <a:lnTo>
                    <a:pt x="73" y="9"/>
                  </a:lnTo>
                  <a:lnTo>
                    <a:pt x="80" y="8"/>
                  </a:lnTo>
                  <a:lnTo>
                    <a:pt x="89" y="7"/>
                  </a:lnTo>
                  <a:lnTo>
                    <a:pt x="96" y="6"/>
                  </a:lnTo>
                  <a:lnTo>
                    <a:pt x="105" y="5"/>
                  </a:lnTo>
                  <a:lnTo>
                    <a:pt x="122" y="3"/>
                  </a:lnTo>
                  <a:lnTo>
                    <a:pt x="141" y="2"/>
                  </a:lnTo>
                  <a:lnTo>
                    <a:pt x="160" y="1"/>
                  </a:lnTo>
                  <a:lnTo>
                    <a:pt x="180" y="0"/>
                  </a:lnTo>
                  <a:lnTo>
                    <a:pt x="201" y="0"/>
                  </a:lnTo>
                  <a:lnTo>
                    <a:pt x="222" y="0"/>
                  </a:lnTo>
                  <a:lnTo>
                    <a:pt x="242" y="1"/>
                  </a:lnTo>
                  <a:lnTo>
                    <a:pt x="261" y="2"/>
                  </a:lnTo>
                  <a:lnTo>
                    <a:pt x="279" y="3"/>
                  </a:lnTo>
                  <a:lnTo>
                    <a:pt x="297" y="5"/>
                  </a:lnTo>
                  <a:lnTo>
                    <a:pt x="306" y="6"/>
                  </a:lnTo>
                  <a:lnTo>
                    <a:pt x="313" y="7"/>
                  </a:lnTo>
                  <a:lnTo>
                    <a:pt x="321" y="8"/>
                  </a:lnTo>
                  <a:lnTo>
                    <a:pt x="329" y="9"/>
                  </a:lnTo>
                  <a:lnTo>
                    <a:pt x="336" y="10"/>
                  </a:lnTo>
                  <a:lnTo>
                    <a:pt x="343" y="11"/>
                  </a:lnTo>
                  <a:lnTo>
                    <a:pt x="350" y="12"/>
                  </a:lnTo>
                  <a:lnTo>
                    <a:pt x="356" y="14"/>
                  </a:lnTo>
                  <a:lnTo>
                    <a:pt x="362" y="15"/>
                  </a:lnTo>
                  <a:lnTo>
                    <a:pt x="367" y="17"/>
                  </a:lnTo>
                  <a:lnTo>
                    <a:pt x="373" y="18"/>
                  </a:lnTo>
                  <a:lnTo>
                    <a:pt x="378" y="21"/>
                  </a:lnTo>
                  <a:lnTo>
                    <a:pt x="382" y="23"/>
                  </a:lnTo>
                  <a:lnTo>
                    <a:pt x="386" y="24"/>
                  </a:lnTo>
                  <a:lnTo>
                    <a:pt x="389" y="26"/>
                  </a:lnTo>
                  <a:lnTo>
                    <a:pt x="393" y="28"/>
                  </a:lnTo>
                  <a:lnTo>
                    <a:pt x="396" y="30"/>
                  </a:lnTo>
                  <a:lnTo>
                    <a:pt x="398" y="31"/>
                  </a:lnTo>
                  <a:lnTo>
                    <a:pt x="400" y="33"/>
                  </a:lnTo>
                  <a:lnTo>
                    <a:pt x="401" y="35"/>
                  </a:lnTo>
                  <a:lnTo>
                    <a:pt x="402" y="37"/>
                  </a:lnTo>
                  <a:lnTo>
                    <a:pt x="402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612320" y="3584520"/>
              <a:ext cx="754560" cy="637560"/>
            </a:xfrm>
            <a:custGeom>
              <a:avLst/>
              <a:gdLst/>
              <a:ahLst/>
              <a:rect l="l" t="t" r="r" b="b"/>
              <a:pathLst>
                <a:path w="402" h="312">
                  <a:moveTo>
                    <a:pt x="201" y="0"/>
                  </a:moveTo>
                  <a:lnTo>
                    <a:pt x="222" y="0"/>
                  </a:lnTo>
                  <a:lnTo>
                    <a:pt x="242" y="1"/>
                  </a:lnTo>
                  <a:lnTo>
                    <a:pt x="261" y="2"/>
                  </a:lnTo>
                  <a:lnTo>
                    <a:pt x="279" y="3"/>
                  </a:lnTo>
                  <a:lnTo>
                    <a:pt x="297" y="5"/>
                  </a:lnTo>
                  <a:lnTo>
                    <a:pt x="306" y="6"/>
                  </a:lnTo>
                  <a:lnTo>
                    <a:pt x="313" y="7"/>
                  </a:lnTo>
                  <a:lnTo>
                    <a:pt x="321" y="8"/>
                  </a:lnTo>
                  <a:lnTo>
                    <a:pt x="329" y="9"/>
                  </a:lnTo>
                  <a:lnTo>
                    <a:pt x="336" y="10"/>
                  </a:lnTo>
                  <a:lnTo>
                    <a:pt x="343" y="11"/>
                  </a:lnTo>
                  <a:lnTo>
                    <a:pt x="350" y="12"/>
                  </a:lnTo>
                  <a:lnTo>
                    <a:pt x="356" y="14"/>
                  </a:lnTo>
                  <a:lnTo>
                    <a:pt x="362" y="15"/>
                  </a:lnTo>
                  <a:lnTo>
                    <a:pt x="367" y="17"/>
                  </a:lnTo>
                  <a:lnTo>
                    <a:pt x="373" y="18"/>
                  </a:lnTo>
                  <a:lnTo>
                    <a:pt x="378" y="21"/>
                  </a:lnTo>
                  <a:lnTo>
                    <a:pt x="382" y="23"/>
                  </a:lnTo>
                  <a:lnTo>
                    <a:pt x="386" y="24"/>
                  </a:lnTo>
                  <a:lnTo>
                    <a:pt x="389" y="26"/>
                  </a:lnTo>
                  <a:lnTo>
                    <a:pt x="393" y="28"/>
                  </a:lnTo>
                  <a:lnTo>
                    <a:pt x="396" y="30"/>
                  </a:lnTo>
                  <a:lnTo>
                    <a:pt x="398" y="31"/>
                  </a:lnTo>
                  <a:lnTo>
                    <a:pt x="400" y="33"/>
                  </a:lnTo>
                  <a:lnTo>
                    <a:pt x="401" y="35"/>
                  </a:lnTo>
                  <a:lnTo>
                    <a:pt x="402" y="37"/>
                  </a:lnTo>
                  <a:lnTo>
                    <a:pt x="402" y="39"/>
                  </a:lnTo>
                  <a:lnTo>
                    <a:pt x="402" y="272"/>
                  </a:lnTo>
                  <a:lnTo>
                    <a:pt x="402" y="275"/>
                  </a:lnTo>
                  <a:lnTo>
                    <a:pt x="401" y="277"/>
                  </a:lnTo>
                  <a:lnTo>
                    <a:pt x="400" y="279"/>
                  </a:lnTo>
                  <a:lnTo>
                    <a:pt x="398" y="281"/>
                  </a:lnTo>
                  <a:lnTo>
                    <a:pt x="396" y="283"/>
                  </a:lnTo>
                  <a:lnTo>
                    <a:pt x="393" y="284"/>
                  </a:lnTo>
                  <a:lnTo>
                    <a:pt x="389" y="286"/>
                  </a:lnTo>
                  <a:lnTo>
                    <a:pt x="386" y="288"/>
                  </a:lnTo>
                  <a:lnTo>
                    <a:pt x="382" y="290"/>
                  </a:lnTo>
                  <a:lnTo>
                    <a:pt x="378" y="291"/>
                  </a:lnTo>
                  <a:lnTo>
                    <a:pt x="373" y="293"/>
                  </a:lnTo>
                  <a:lnTo>
                    <a:pt x="367" y="295"/>
                  </a:lnTo>
                  <a:lnTo>
                    <a:pt x="362" y="297"/>
                  </a:lnTo>
                  <a:lnTo>
                    <a:pt x="356" y="298"/>
                  </a:lnTo>
                  <a:lnTo>
                    <a:pt x="350" y="300"/>
                  </a:lnTo>
                  <a:lnTo>
                    <a:pt x="343" y="301"/>
                  </a:lnTo>
                  <a:lnTo>
                    <a:pt x="336" y="302"/>
                  </a:lnTo>
                  <a:lnTo>
                    <a:pt x="329" y="303"/>
                  </a:lnTo>
                  <a:lnTo>
                    <a:pt x="321" y="304"/>
                  </a:lnTo>
                  <a:lnTo>
                    <a:pt x="313" y="306"/>
                  </a:lnTo>
                  <a:lnTo>
                    <a:pt x="306" y="307"/>
                  </a:lnTo>
                  <a:lnTo>
                    <a:pt x="297" y="307"/>
                  </a:lnTo>
                  <a:lnTo>
                    <a:pt x="279" y="309"/>
                  </a:lnTo>
                  <a:lnTo>
                    <a:pt x="261" y="310"/>
                  </a:lnTo>
                  <a:lnTo>
                    <a:pt x="242" y="311"/>
                  </a:lnTo>
                  <a:lnTo>
                    <a:pt x="222" y="312"/>
                  </a:lnTo>
                  <a:lnTo>
                    <a:pt x="201" y="312"/>
                  </a:lnTo>
                  <a:lnTo>
                    <a:pt x="180" y="312"/>
                  </a:lnTo>
                  <a:lnTo>
                    <a:pt x="160" y="311"/>
                  </a:lnTo>
                  <a:lnTo>
                    <a:pt x="141" y="310"/>
                  </a:lnTo>
                  <a:lnTo>
                    <a:pt x="122" y="309"/>
                  </a:lnTo>
                  <a:lnTo>
                    <a:pt x="105" y="307"/>
                  </a:lnTo>
                  <a:lnTo>
                    <a:pt x="96" y="307"/>
                  </a:lnTo>
                  <a:lnTo>
                    <a:pt x="89" y="306"/>
                  </a:lnTo>
                  <a:lnTo>
                    <a:pt x="80" y="304"/>
                  </a:lnTo>
                  <a:lnTo>
                    <a:pt x="73" y="303"/>
                  </a:lnTo>
                  <a:lnTo>
                    <a:pt x="66" y="302"/>
                  </a:lnTo>
                  <a:lnTo>
                    <a:pt x="58" y="301"/>
                  </a:lnTo>
                  <a:lnTo>
                    <a:pt x="52" y="300"/>
                  </a:lnTo>
                  <a:lnTo>
                    <a:pt x="46" y="298"/>
                  </a:lnTo>
                  <a:lnTo>
                    <a:pt x="40" y="297"/>
                  </a:lnTo>
                  <a:lnTo>
                    <a:pt x="34" y="295"/>
                  </a:lnTo>
                  <a:lnTo>
                    <a:pt x="29" y="293"/>
                  </a:lnTo>
                  <a:lnTo>
                    <a:pt x="24" y="291"/>
                  </a:lnTo>
                  <a:lnTo>
                    <a:pt x="20" y="290"/>
                  </a:lnTo>
                  <a:lnTo>
                    <a:pt x="15" y="288"/>
                  </a:lnTo>
                  <a:lnTo>
                    <a:pt x="12" y="286"/>
                  </a:lnTo>
                  <a:lnTo>
                    <a:pt x="9" y="284"/>
                  </a:lnTo>
                  <a:lnTo>
                    <a:pt x="6" y="283"/>
                  </a:lnTo>
                  <a:lnTo>
                    <a:pt x="4" y="281"/>
                  </a:lnTo>
                  <a:lnTo>
                    <a:pt x="2" y="279"/>
                  </a:lnTo>
                  <a:lnTo>
                    <a:pt x="1" y="277"/>
                  </a:lnTo>
                  <a:lnTo>
                    <a:pt x="0" y="275"/>
                  </a:lnTo>
                  <a:lnTo>
                    <a:pt x="0" y="272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1" y="35"/>
                  </a:lnTo>
                  <a:lnTo>
                    <a:pt x="2" y="33"/>
                  </a:lnTo>
                  <a:lnTo>
                    <a:pt x="4" y="31"/>
                  </a:lnTo>
                  <a:lnTo>
                    <a:pt x="6" y="30"/>
                  </a:lnTo>
                  <a:lnTo>
                    <a:pt x="9" y="28"/>
                  </a:lnTo>
                  <a:lnTo>
                    <a:pt x="12" y="26"/>
                  </a:lnTo>
                  <a:lnTo>
                    <a:pt x="15" y="24"/>
                  </a:lnTo>
                  <a:lnTo>
                    <a:pt x="20" y="23"/>
                  </a:lnTo>
                  <a:lnTo>
                    <a:pt x="24" y="21"/>
                  </a:lnTo>
                  <a:lnTo>
                    <a:pt x="29" y="18"/>
                  </a:lnTo>
                  <a:lnTo>
                    <a:pt x="34" y="17"/>
                  </a:lnTo>
                  <a:lnTo>
                    <a:pt x="40" y="15"/>
                  </a:lnTo>
                  <a:lnTo>
                    <a:pt x="46" y="14"/>
                  </a:lnTo>
                  <a:lnTo>
                    <a:pt x="52" y="12"/>
                  </a:lnTo>
                  <a:lnTo>
                    <a:pt x="58" y="11"/>
                  </a:lnTo>
                  <a:lnTo>
                    <a:pt x="66" y="10"/>
                  </a:lnTo>
                  <a:lnTo>
                    <a:pt x="73" y="9"/>
                  </a:lnTo>
                  <a:lnTo>
                    <a:pt x="80" y="8"/>
                  </a:lnTo>
                  <a:lnTo>
                    <a:pt x="89" y="7"/>
                  </a:lnTo>
                  <a:lnTo>
                    <a:pt x="96" y="6"/>
                  </a:lnTo>
                  <a:lnTo>
                    <a:pt x="105" y="5"/>
                  </a:lnTo>
                  <a:lnTo>
                    <a:pt x="122" y="3"/>
                  </a:lnTo>
                  <a:lnTo>
                    <a:pt x="141" y="2"/>
                  </a:lnTo>
                  <a:lnTo>
                    <a:pt x="160" y="1"/>
                  </a:lnTo>
                  <a:lnTo>
                    <a:pt x="180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612320" y="3664440"/>
              <a:ext cx="754560" cy="79560"/>
            </a:xfrm>
            <a:custGeom>
              <a:avLst/>
              <a:gdLst/>
              <a:ahLst/>
              <a:rect l="l" t="t" r="r" b="b"/>
              <a:pathLst>
                <a:path w="402" h="39">
                  <a:moveTo>
                    <a:pt x="402" y="0"/>
                  </a:moveTo>
                  <a:lnTo>
                    <a:pt x="402" y="3"/>
                  </a:lnTo>
                  <a:lnTo>
                    <a:pt x="401" y="5"/>
                  </a:lnTo>
                  <a:lnTo>
                    <a:pt x="400" y="7"/>
                  </a:lnTo>
                  <a:lnTo>
                    <a:pt x="398" y="8"/>
                  </a:lnTo>
                  <a:lnTo>
                    <a:pt x="396" y="10"/>
                  </a:lnTo>
                  <a:lnTo>
                    <a:pt x="393" y="12"/>
                  </a:lnTo>
                  <a:lnTo>
                    <a:pt x="389" y="14"/>
                  </a:lnTo>
                  <a:lnTo>
                    <a:pt x="386" y="15"/>
                  </a:lnTo>
                  <a:lnTo>
                    <a:pt x="382" y="17"/>
                  </a:lnTo>
                  <a:lnTo>
                    <a:pt x="378" y="18"/>
                  </a:lnTo>
                  <a:lnTo>
                    <a:pt x="373" y="20"/>
                  </a:lnTo>
                  <a:lnTo>
                    <a:pt x="367" y="23"/>
                  </a:lnTo>
                  <a:lnTo>
                    <a:pt x="362" y="24"/>
                  </a:lnTo>
                  <a:lnTo>
                    <a:pt x="356" y="25"/>
                  </a:lnTo>
                  <a:lnTo>
                    <a:pt x="350" y="27"/>
                  </a:lnTo>
                  <a:lnTo>
                    <a:pt x="343" y="28"/>
                  </a:lnTo>
                  <a:lnTo>
                    <a:pt x="336" y="29"/>
                  </a:lnTo>
                  <a:lnTo>
                    <a:pt x="329" y="30"/>
                  </a:lnTo>
                  <a:lnTo>
                    <a:pt x="321" y="32"/>
                  </a:lnTo>
                  <a:lnTo>
                    <a:pt x="313" y="33"/>
                  </a:lnTo>
                  <a:lnTo>
                    <a:pt x="306" y="34"/>
                  </a:lnTo>
                  <a:lnTo>
                    <a:pt x="297" y="34"/>
                  </a:lnTo>
                  <a:lnTo>
                    <a:pt x="279" y="36"/>
                  </a:lnTo>
                  <a:lnTo>
                    <a:pt x="261" y="37"/>
                  </a:lnTo>
                  <a:lnTo>
                    <a:pt x="242" y="38"/>
                  </a:lnTo>
                  <a:lnTo>
                    <a:pt x="222" y="39"/>
                  </a:lnTo>
                  <a:lnTo>
                    <a:pt x="201" y="39"/>
                  </a:lnTo>
                  <a:lnTo>
                    <a:pt x="180" y="39"/>
                  </a:lnTo>
                  <a:lnTo>
                    <a:pt x="160" y="38"/>
                  </a:lnTo>
                  <a:lnTo>
                    <a:pt x="141" y="37"/>
                  </a:lnTo>
                  <a:lnTo>
                    <a:pt x="122" y="36"/>
                  </a:lnTo>
                  <a:lnTo>
                    <a:pt x="105" y="34"/>
                  </a:lnTo>
                  <a:lnTo>
                    <a:pt x="96" y="34"/>
                  </a:lnTo>
                  <a:lnTo>
                    <a:pt x="89" y="33"/>
                  </a:lnTo>
                  <a:lnTo>
                    <a:pt x="80" y="32"/>
                  </a:lnTo>
                  <a:lnTo>
                    <a:pt x="73" y="30"/>
                  </a:lnTo>
                  <a:lnTo>
                    <a:pt x="66" y="29"/>
                  </a:lnTo>
                  <a:lnTo>
                    <a:pt x="58" y="28"/>
                  </a:lnTo>
                  <a:lnTo>
                    <a:pt x="52" y="27"/>
                  </a:lnTo>
                  <a:lnTo>
                    <a:pt x="46" y="25"/>
                  </a:lnTo>
                  <a:lnTo>
                    <a:pt x="40" y="24"/>
                  </a:lnTo>
                  <a:lnTo>
                    <a:pt x="34" y="23"/>
                  </a:lnTo>
                  <a:lnTo>
                    <a:pt x="29" y="20"/>
                  </a:lnTo>
                  <a:lnTo>
                    <a:pt x="24" y="18"/>
                  </a:lnTo>
                  <a:lnTo>
                    <a:pt x="20" y="17"/>
                  </a:lnTo>
                  <a:lnTo>
                    <a:pt x="15" y="15"/>
                  </a:lnTo>
                  <a:lnTo>
                    <a:pt x="12" y="14"/>
                  </a:lnTo>
                  <a:lnTo>
                    <a:pt x="9" y="12"/>
                  </a:lnTo>
                  <a:lnTo>
                    <a:pt x="6" y="10"/>
                  </a:lnTo>
                  <a:lnTo>
                    <a:pt x="4" y="8"/>
                  </a:lnTo>
                  <a:lnTo>
                    <a:pt x="2" y="7"/>
                  </a:lnTo>
                  <a:lnTo>
                    <a:pt x="1" y="5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187280" y="4860000"/>
              <a:ext cx="1801800" cy="601200"/>
            </a:xfrm>
            <a:custGeom>
              <a:avLst/>
              <a:gdLst/>
              <a:ahLst/>
              <a:rect l="l" t="t" r="r" b="b"/>
              <a:pathLst>
                <a:path w="960" h="294">
                  <a:moveTo>
                    <a:pt x="480" y="0"/>
                  </a:moveTo>
                  <a:lnTo>
                    <a:pt x="505" y="0"/>
                  </a:lnTo>
                  <a:lnTo>
                    <a:pt x="529" y="1"/>
                  </a:lnTo>
                  <a:lnTo>
                    <a:pt x="553" y="2"/>
                  </a:lnTo>
                  <a:lnTo>
                    <a:pt x="576" y="3"/>
                  </a:lnTo>
                  <a:lnTo>
                    <a:pt x="600" y="4"/>
                  </a:lnTo>
                  <a:lnTo>
                    <a:pt x="622" y="6"/>
                  </a:lnTo>
                  <a:lnTo>
                    <a:pt x="645" y="10"/>
                  </a:lnTo>
                  <a:lnTo>
                    <a:pt x="666" y="12"/>
                  </a:lnTo>
                  <a:lnTo>
                    <a:pt x="688" y="15"/>
                  </a:lnTo>
                  <a:lnTo>
                    <a:pt x="708" y="18"/>
                  </a:lnTo>
                  <a:lnTo>
                    <a:pt x="729" y="21"/>
                  </a:lnTo>
                  <a:lnTo>
                    <a:pt x="748" y="25"/>
                  </a:lnTo>
                  <a:lnTo>
                    <a:pt x="767" y="29"/>
                  </a:lnTo>
                  <a:lnTo>
                    <a:pt x="785" y="34"/>
                  </a:lnTo>
                  <a:lnTo>
                    <a:pt x="802" y="39"/>
                  </a:lnTo>
                  <a:lnTo>
                    <a:pt x="819" y="43"/>
                  </a:lnTo>
                  <a:lnTo>
                    <a:pt x="835" y="48"/>
                  </a:lnTo>
                  <a:lnTo>
                    <a:pt x="850" y="54"/>
                  </a:lnTo>
                  <a:lnTo>
                    <a:pt x="864" y="59"/>
                  </a:lnTo>
                  <a:lnTo>
                    <a:pt x="878" y="65"/>
                  </a:lnTo>
                  <a:lnTo>
                    <a:pt x="890" y="71"/>
                  </a:lnTo>
                  <a:lnTo>
                    <a:pt x="902" y="77"/>
                  </a:lnTo>
                  <a:lnTo>
                    <a:pt x="912" y="83"/>
                  </a:lnTo>
                  <a:lnTo>
                    <a:pt x="922" y="90"/>
                  </a:lnTo>
                  <a:lnTo>
                    <a:pt x="930" y="97"/>
                  </a:lnTo>
                  <a:lnTo>
                    <a:pt x="934" y="100"/>
                  </a:lnTo>
                  <a:lnTo>
                    <a:pt x="938" y="104"/>
                  </a:lnTo>
                  <a:lnTo>
                    <a:pt x="942" y="107"/>
                  </a:lnTo>
                  <a:lnTo>
                    <a:pt x="945" y="110"/>
                  </a:lnTo>
                  <a:lnTo>
                    <a:pt x="947" y="115"/>
                  </a:lnTo>
                  <a:lnTo>
                    <a:pt x="950" y="118"/>
                  </a:lnTo>
                  <a:lnTo>
                    <a:pt x="952" y="121"/>
                  </a:lnTo>
                  <a:lnTo>
                    <a:pt x="954" y="125"/>
                  </a:lnTo>
                  <a:lnTo>
                    <a:pt x="955" y="128"/>
                  </a:lnTo>
                  <a:lnTo>
                    <a:pt x="957" y="132"/>
                  </a:lnTo>
                  <a:lnTo>
                    <a:pt x="958" y="136"/>
                  </a:lnTo>
                  <a:lnTo>
                    <a:pt x="958" y="140"/>
                  </a:lnTo>
                  <a:lnTo>
                    <a:pt x="960" y="143"/>
                  </a:lnTo>
                  <a:lnTo>
                    <a:pt x="960" y="147"/>
                  </a:lnTo>
                  <a:lnTo>
                    <a:pt x="960" y="151"/>
                  </a:lnTo>
                  <a:lnTo>
                    <a:pt x="958" y="154"/>
                  </a:lnTo>
                  <a:lnTo>
                    <a:pt x="958" y="159"/>
                  </a:lnTo>
                  <a:lnTo>
                    <a:pt x="957" y="162"/>
                  </a:lnTo>
                  <a:lnTo>
                    <a:pt x="955" y="166"/>
                  </a:lnTo>
                  <a:lnTo>
                    <a:pt x="954" y="169"/>
                  </a:lnTo>
                  <a:lnTo>
                    <a:pt x="952" y="173"/>
                  </a:lnTo>
                  <a:lnTo>
                    <a:pt x="950" y="176"/>
                  </a:lnTo>
                  <a:lnTo>
                    <a:pt x="947" y="181"/>
                  </a:lnTo>
                  <a:lnTo>
                    <a:pt x="945" y="184"/>
                  </a:lnTo>
                  <a:lnTo>
                    <a:pt x="942" y="187"/>
                  </a:lnTo>
                  <a:lnTo>
                    <a:pt x="938" y="191"/>
                  </a:lnTo>
                  <a:lnTo>
                    <a:pt x="934" y="194"/>
                  </a:lnTo>
                  <a:lnTo>
                    <a:pt x="930" y="197"/>
                  </a:lnTo>
                  <a:lnTo>
                    <a:pt x="926" y="201"/>
                  </a:lnTo>
                  <a:lnTo>
                    <a:pt x="922" y="204"/>
                  </a:lnTo>
                  <a:lnTo>
                    <a:pt x="912" y="211"/>
                  </a:lnTo>
                  <a:lnTo>
                    <a:pt x="902" y="217"/>
                  </a:lnTo>
                  <a:lnTo>
                    <a:pt x="890" y="223"/>
                  </a:lnTo>
                  <a:lnTo>
                    <a:pt x="878" y="229"/>
                  </a:lnTo>
                  <a:lnTo>
                    <a:pt x="864" y="235"/>
                  </a:lnTo>
                  <a:lnTo>
                    <a:pt x="850" y="240"/>
                  </a:lnTo>
                  <a:lnTo>
                    <a:pt x="835" y="246"/>
                  </a:lnTo>
                  <a:lnTo>
                    <a:pt x="819" y="251"/>
                  </a:lnTo>
                  <a:lnTo>
                    <a:pt x="802" y="256"/>
                  </a:lnTo>
                  <a:lnTo>
                    <a:pt x="785" y="260"/>
                  </a:lnTo>
                  <a:lnTo>
                    <a:pt x="767" y="265"/>
                  </a:lnTo>
                  <a:lnTo>
                    <a:pt x="748" y="269"/>
                  </a:lnTo>
                  <a:lnTo>
                    <a:pt x="729" y="273"/>
                  </a:lnTo>
                  <a:lnTo>
                    <a:pt x="708" y="276"/>
                  </a:lnTo>
                  <a:lnTo>
                    <a:pt x="688" y="279"/>
                  </a:lnTo>
                  <a:lnTo>
                    <a:pt x="666" y="282"/>
                  </a:lnTo>
                  <a:lnTo>
                    <a:pt x="644" y="285"/>
                  </a:lnTo>
                  <a:lnTo>
                    <a:pt x="622" y="288"/>
                  </a:lnTo>
                  <a:lnTo>
                    <a:pt x="599" y="290"/>
                  </a:lnTo>
                  <a:lnTo>
                    <a:pt x="576" y="291"/>
                  </a:lnTo>
                  <a:lnTo>
                    <a:pt x="553" y="292"/>
                  </a:lnTo>
                  <a:lnTo>
                    <a:pt x="529" y="293"/>
                  </a:lnTo>
                  <a:lnTo>
                    <a:pt x="504" y="294"/>
                  </a:lnTo>
                  <a:lnTo>
                    <a:pt x="480" y="294"/>
                  </a:lnTo>
                  <a:lnTo>
                    <a:pt x="455" y="294"/>
                  </a:lnTo>
                  <a:lnTo>
                    <a:pt x="431" y="293"/>
                  </a:lnTo>
                  <a:lnTo>
                    <a:pt x="406" y="292"/>
                  </a:lnTo>
                  <a:lnTo>
                    <a:pt x="383" y="291"/>
                  </a:lnTo>
                  <a:lnTo>
                    <a:pt x="360" y="290"/>
                  </a:lnTo>
                  <a:lnTo>
                    <a:pt x="337" y="288"/>
                  </a:lnTo>
                  <a:lnTo>
                    <a:pt x="315" y="285"/>
                  </a:lnTo>
                  <a:lnTo>
                    <a:pt x="293" y="282"/>
                  </a:lnTo>
                  <a:lnTo>
                    <a:pt x="271" y="279"/>
                  </a:lnTo>
                  <a:lnTo>
                    <a:pt x="251" y="276"/>
                  </a:lnTo>
                  <a:lnTo>
                    <a:pt x="232" y="273"/>
                  </a:lnTo>
                  <a:lnTo>
                    <a:pt x="212" y="269"/>
                  </a:lnTo>
                  <a:lnTo>
                    <a:pt x="193" y="265"/>
                  </a:lnTo>
                  <a:lnTo>
                    <a:pt x="175" y="260"/>
                  </a:lnTo>
                  <a:lnTo>
                    <a:pt x="157" y="256"/>
                  </a:lnTo>
                  <a:lnTo>
                    <a:pt x="140" y="251"/>
                  </a:lnTo>
                  <a:lnTo>
                    <a:pt x="125" y="246"/>
                  </a:lnTo>
                  <a:lnTo>
                    <a:pt x="110" y="240"/>
                  </a:lnTo>
                  <a:lnTo>
                    <a:pt x="95" y="235"/>
                  </a:lnTo>
                  <a:lnTo>
                    <a:pt x="82" y="229"/>
                  </a:lnTo>
                  <a:lnTo>
                    <a:pt x="69" y="223"/>
                  </a:lnTo>
                  <a:lnTo>
                    <a:pt x="58" y="217"/>
                  </a:lnTo>
                  <a:lnTo>
                    <a:pt x="47" y="211"/>
                  </a:lnTo>
                  <a:lnTo>
                    <a:pt x="38" y="204"/>
                  </a:lnTo>
                  <a:lnTo>
                    <a:pt x="29" y="197"/>
                  </a:lnTo>
                  <a:lnTo>
                    <a:pt x="25" y="194"/>
                  </a:lnTo>
                  <a:lnTo>
                    <a:pt x="22" y="191"/>
                  </a:lnTo>
                  <a:lnTo>
                    <a:pt x="18" y="187"/>
                  </a:lnTo>
                  <a:lnTo>
                    <a:pt x="15" y="184"/>
                  </a:lnTo>
                  <a:lnTo>
                    <a:pt x="13" y="181"/>
                  </a:lnTo>
                  <a:lnTo>
                    <a:pt x="9" y="176"/>
                  </a:lnTo>
                  <a:lnTo>
                    <a:pt x="7" y="173"/>
                  </a:lnTo>
                  <a:lnTo>
                    <a:pt x="5" y="169"/>
                  </a:lnTo>
                  <a:lnTo>
                    <a:pt x="4" y="166"/>
                  </a:lnTo>
                  <a:lnTo>
                    <a:pt x="2" y="162"/>
                  </a:lnTo>
                  <a:lnTo>
                    <a:pt x="1" y="159"/>
                  </a:lnTo>
                  <a:lnTo>
                    <a:pt x="1" y="154"/>
                  </a:lnTo>
                  <a:lnTo>
                    <a:pt x="0" y="151"/>
                  </a:lnTo>
                  <a:lnTo>
                    <a:pt x="0" y="147"/>
                  </a:lnTo>
                  <a:lnTo>
                    <a:pt x="0" y="143"/>
                  </a:lnTo>
                  <a:lnTo>
                    <a:pt x="1" y="140"/>
                  </a:lnTo>
                  <a:lnTo>
                    <a:pt x="1" y="136"/>
                  </a:lnTo>
                  <a:lnTo>
                    <a:pt x="2" y="132"/>
                  </a:lnTo>
                  <a:lnTo>
                    <a:pt x="4" y="128"/>
                  </a:lnTo>
                  <a:lnTo>
                    <a:pt x="5" y="125"/>
                  </a:lnTo>
                  <a:lnTo>
                    <a:pt x="7" y="121"/>
                  </a:lnTo>
                  <a:lnTo>
                    <a:pt x="9" y="118"/>
                  </a:lnTo>
                  <a:lnTo>
                    <a:pt x="13" y="115"/>
                  </a:lnTo>
                  <a:lnTo>
                    <a:pt x="15" y="110"/>
                  </a:lnTo>
                  <a:lnTo>
                    <a:pt x="18" y="107"/>
                  </a:lnTo>
                  <a:lnTo>
                    <a:pt x="22" y="104"/>
                  </a:lnTo>
                  <a:lnTo>
                    <a:pt x="25" y="100"/>
                  </a:lnTo>
                  <a:lnTo>
                    <a:pt x="29" y="97"/>
                  </a:lnTo>
                  <a:lnTo>
                    <a:pt x="38" y="90"/>
                  </a:lnTo>
                  <a:lnTo>
                    <a:pt x="47" y="83"/>
                  </a:lnTo>
                  <a:lnTo>
                    <a:pt x="58" y="77"/>
                  </a:lnTo>
                  <a:lnTo>
                    <a:pt x="69" y="71"/>
                  </a:lnTo>
                  <a:lnTo>
                    <a:pt x="82" y="65"/>
                  </a:lnTo>
                  <a:lnTo>
                    <a:pt x="95" y="59"/>
                  </a:lnTo>
                  <a:lnTo>
                    <a:pt x="110" y="54"/>
                  </a:lnTo>
                  <a:lnTo>
                    <a:pt x="125" y="48"/>
                  </a:lnTo>
                  <a:lnTo>
                    <a:pt x="140" y="43"/>
                  </a:lnTo>
                  <a:lnTo>
                    <a:pt x="157" y="38"/>
                  </a:lnTo>
                  <a:lnTo>
                    <a:pt x="175" y="34"/>
                  </a:lnTo>
                  <a:lnTo>
                    <a:pt x="193" y="29"/>
                  </a:lnTo>
                  <a:lnTo>
                    <a:pt x="212" y="25"/>
                  </a:lnTo>
                  <a:lnTo>
                    <a:pt x="230" y="21"/>
                  </a:lnTo>
                  <a:lnTo>
                    <a:pt x="251" y="18"/>
                  </a:lnTo>
                  <a:lnTo>
                    <a:pt x="271" y="15"/>
                  </a:lnTo>
                  <a:lnTo>
                    <a:pt x="293" y="12"/>
                  </a:lnTo>
                  <a:lnTo>
                    <a:pt x="314" y="9"/>
                  </a:lnTo>
                  <a:lnTo>
                    <a:pt x="337" y="6"/>
                  </a:lnTo>
                  <a:lnTo>
                    <a:pt x="359" y="4"/>
                  </a:lnTo>
                  <a:lnTo>
                    <a:pt x="383" y="3"/>
                  </a:lnTo>
                  <a:lnTo>
                    <a:pt x="406" y="2"/>
                  </a:lnTo>
                  <a:lnTo>
                    <a:pt x="431" y="1"/>
                  </a:lnTo>
                  <a:lnTo>
                    <a:pt x="455" y="0"/>
                  </a:lnTo>
                  <a:lnTo>
                    <a:pt x="48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187280" y="4860000"/>
              <a:ext cx="1801800" cy="601200"/>
            </a:xfrm>
            <a:custGeom>
              <a:avLst/>
              <a:gdLst/>
              <a:ahLst/>
              <a:rect l="l" t="t" r="r" b="b"/>
              <a:pathLst>
                <a:path w="960" h="294">
                  <a:moveTo>
                    <a:pt x="480" y="0"/>
                  </a:moveTo>
                  <a:lnTo>
                    <a:pt x="505" y="0"/>
                  </a:lnTo>
                  <a:lnTo>
                    <a:pt x="529" y="1"/>
                  </a:lnTo>
                  <a:lnTo>
                    <a:pt x="553" y="2"/>
                  </a:lnTo>
                  <a:lnTo>
                    <a:pt x="576" y="3"/>
                  </a:lnTo>
                  <a:lnTo>
                    <a:pt x="600" y="4"/>
                  </a:lnTo>
                  <a:lnTo>
                    <a:pt x="622" y="6"/>
                  </a:lnTo>
                  <a:lnTo>
                    <a:pt x="645" y="10"/>
                  </a:lnTo>
                  <a:lnTo>
                    <a:pt x="666" y="12"/>
                  </a:lnTo>
                  <a:lnTo>
                    <a:pt x="688" y="15"/>
                  </a:lnTo>
                  <a:lnTo>
                    <a:pt x="708" y="18"/>
                  </a:lnTo>
                  <a:lnTo>
                    <a:pt x="729" y="21"/>
                  </a:lnTo>
                  <a:lnTo>
                    <a:pt x="748" y="25"/>
                  </a:lnTo>
                  <a:lnTo>
                    <a:pt x="767" y="29"/>
                  </a:lnTo>
                  <a:lnTo>
                    <a:pt x="785" y="34"/>
                  </a:lnTo>
                  <a:lnTo>
                    <a:pt x="802" y="39"/>
                  </a:lnTo>
                  <a:lnTo>
                    <a:pt x="819" y="43"/>
                  </a:lnTo>
                  <a:lnTo>
                    <a:pt x="835" y="48"/>
                  </a:lnTo>
                  <a:lnTo>
                    <a:pt x="850" y="54"/>
                  </a:lnTo>
                  <a:lnTo>
                    <a:pt x="864" y="59"/>
                  </a:lnTo>
                  <a:lnTo>
                    <a:pt x="878" y="65"/>
                  </a:lnTo>
                  <a:lnTo>
                    <a:pt x="890" y="71"/>
                  </a:lnTo>
                  <a:lnTo>
                    <a:pt x="902" y="77"/>
                  </a:lnTo>
                  <a:lnTo>
                    <a:pt x="912" y="83"/>
                  </a:lnTo>
                  <a:lnTo>
                    <a:pt x="922" y="90"/>
                  </a:lnTo>
                  <a:lnTo>
                    <a:pt x="930" y="97"/>
                  </a:lnTo>
                  <a:lnTo>
                    <a:pt x="934" y="100"/>
                  </a:lnTo>
                  <a:lnTo>
                    <a:pt x="938" y="104"/>
                  </a:lnTo>
                  <a:lnTo>
                    <a:pt x="942" y="107"/>
                  </a:lnTo>
                  <a:lnTo>
                    <a:pt x="945" y="110"/>
                  </a:lnTo>
                  <a:lnTo>
                    <a:pt x="947" y="115"/>
                  </a:lnTo>
                  <a:lnTo>
                    <a:pt x="950" y="118"/>
                  </a:lnTo>
                  <a:lnTo>
                    <a:pt x="952" y="121"/>
                  </a:lnTo>
                  <a:lnTo>
                    <a:pt x="954" y="125"/>
                  </a:lnTo>
                  <a:lnTo>
                    <a:pt x="955" y="128"/>
                  </a:lnTo>
                  <a:lnTo>
                    <a:pt x="957" y="132"/>
                  </a:lnTo>
                  <a:lnTo>
                    <a:pt x="958" y="136"/>
                  </a:lnTo>
                  <a:lnTo>
                    <a:pt x="958" y="140"/>
                  </a:lnTo>
                  <a:lnTo>
                    <a:pt x="960" y="143"/>
                  </a:lnTo>
                  <a:lnTo>
                    <a:pt x="960" y="147"/>
                  </a:lnTo>
                  <a:lnTo>
                    <a:pt x="960" y="151"/>
                  </a:lnTo>
                  <a:lnTo>
                    <a:pt x="958" y="154"/>
                  </a:lnTo>
                  <a:lnTo>
                    <a:pt x="958" y="159"/>
                  </a:lnTo>
                  <a:lnTo>
                    <a:pt x="957" y="162"/>
                  </a:lnTo>
                  <a:lnTo>
                    <a:pt x="955" y="166"/>
                  </a:lnTo>
                  <a:lnTo>
                    <a:pt x="954" y="169"/>
                  </a:lnTo>
                  <a:lnTo>
                    <a:pt x="952" y="173"/>
                  </a:lnTo>
                  <a:lnTo>
                    <a:pt x="950" y="176"/>
                  </a:lnTo>
                  <a:lnTo>
                    <a:pt x="947" y="181"/>
                  </a:lnTo>
                  <a:lnTo>
                    <a:pt x="945" y="184"/>
                  </a:lnTo>
                  <a:lnTo>
                    <a:pt x="942" y="187"/>
                  </a:lnTo>
                  <a:lnTo>
                    <a:pt x="938" y="191"/>
                  </a:lnTo>
                  <a:lnTo>
                    <a:pt x="934" y="194"/>
                  </a:lnTo>
                  <a:lnTo>
                    <a:pt x="930" y="197"/>
                  </a:lnTo>
                  <a:lnTo>
                    <a:pt x="926" y="201"/>
                  </a:lnTo>
                  <a:lnTo>
                    <a:pt x="922" y="204"/>
                  </a:lnTo>
                  <a:lnTo>
                    <a:pt x="912" y="211"/>
                  </a:lnTo>
                  <a:lnTo>
                    <a:pt x="902" y="217"/>
                  </a:lnTo>
                  <a:lnTo>
                    <a:pt x="890" y="223"/>
                  </a:lnTo>
                  <a:lnTo>
                    <a:pt x="878" y="229"/>
                  </a:lnTo>
                  <a:lnTo>
                    <a:pt x="864" y="235"/>
                  </a:lnTo>
                  <a:lnTo>
                    <a:pt x="850" y="240"/>
                  </a:lnTo>
                  <a:lnTo>
                    <a:pt x="835" y="246"/>
                  </a:lnTo>
                  <a:lnTo>
                    <a:pt x="819" y="251"/>
                  </a:lnTo>
                  <a:lnTo>
                    <a:pt x="802" y="256"/>
                  </a:lnTo>
                  <a:lnTo>
                    <a:pt x="785" y="260"/>
                  </a:lnTo>
                  <a:lnTo>
                    <a:pt x="767" y="265"/>
                  </a:lnTo>
                  <a:lnTo>
                    <a:pt x="748" y="269"/>
                  </a:lnTo>
                  <a:lnTo>
                    <a:pt x="729" y="273"/>
                  </a:lnTo>
                  <a:lnTo>
                    <a:pt x="708" y="276"/>
                  </a:lnTo>
                  <a:lnTo>
                    <a:pt x="688" y="279"/>
                  </a:lnTo>
                  <a:lnTo>
                    <a:pt x="666" y="282"/>
                  </a:lnTo>
                  <a:lnTo>
                    <a:pt x="644" y="285"/>
                  </a:lnTo>
                  <a:lnTo>
                    <a:pt x="622" y="288"/>
                  </a:lnTo>
                  <a:lnTo>
                    <a:pt x="599" y="290"/>
                  </a:lnTo>
                  <a:lnTo>
                    <a:pt x="576" y="291"/>
                  </a:lnTo>
                  <a:lnTo>
                    <a:pt x="553" y="292"/>
                  </a:lnTo>
                  <a:lnTo>
                    <a:pt x="529" y="293"/>
                  </a:lnTo>
                  <a:lnTo>
                    <a:pt x="504" y="294"/>
                  </a:lnTo>
                  <a:lnTo>
                    <a:pt x="480" y="294"/>
                  </a:lnTo>
                  <a:lnTo>
                    <a:pt x="455" y="294"/>
                  </a:lnTo>
                  <a:lnTo>
                    <a:pt x="431" y="293"/>
                  </a:lnTo>
                  <a:lnTo>
                    <a:pt x="406" y="292"/>
                  </a:lnTo>
                  <a:lnTo>
                    <a:pt x="383" y="291"/>
                  </a:lnTo>
                  <a:lnTo>
                    <a:pt x="360" y="290"/>
                  </a:lnTo>
                  <a:lnTo>
                    <a:pt x="337" y="288"/>
                  </a:lnTo>
                  <a:lnTo>
                    <a:pt x="315" y="285"/>
                  </a:lnTo>
                  <a:lnTo>
                    <a:pt x="293" y="282"/>
                  </a:lnTo>
                  <a:lnTo>
                    <a:pt x="271" y="279"/>
                  </a:lnTo>
                  <a:lnTo>
                    <a:pt x="251" y="276"/>
                  </a:lnTo>
                  <a:lnTo>
                    <a:pt x="232" y="273"/>
                  </a:lnTo>
                  <a:lnTo>
                    <a:pt x="212" y="269"/>
                  </a:lnTo>
                  <a:lnTo>
                    <a:pt x="193" y="265"/>
                  </a:lnTo>
                  <a:lnTo>
                    <a:pt x="175" y="260"/>
                  </a:lnTo>
                  <a:lnTo>
                    <a:pt x="157" y="256"/>
                  </a:lnTo>
                  <a:lnTo>
                    <a:pt x="140" y="251"/>
                  </a:lnTo>
                  <a:lnTo>
                    <a:pt x="125" y="246"/>
                  </a:lnTo>
                  <a:lnTo>
                    <a:pt x="110" y="240"/>
                  </a:lnTo>
                  <a:lnTo>
                    <a:pt x="95" y="235"/>
                  </a:lnTo>
                  <a:lnTo>
                    <a:pt x="82" y="229"/>
                  </a:lnTo>
                  <a:lnTo>
                    <a:pt x="69" y="223"/>
                  </a:lnTo>
                  <a:lnTo>
                    <a:pt x="58" y="217"/>
                  </a:lnTo>
                  <a:lnTo>
                    <a:pt x="47" y="211"/>
                  </a:lnTo>
                  <a:lnTo>
                    <a:pt x="38" y="204"/>
                  </a:lnTo>
                  <a:lnTo>
                    <a:pt x="29" y="197"/>
                  </a:lnTo>
                  <a:lnTo>
                    <a:pt x="25" y="194"/>
                  </a:lnTo>
                  <a:lnTo>
                    <a:pt x="22" y="191"/>
                  </a:lnTo>
                  <a:lnTo>
                    <a:pt x="18" y="187"/>
                  </a:lnTo>
                  <a:lnTo>
                    <a:pt x="15" y="184"/>
                  </a:lnTo>
                  <a:lnTo>
                    <a:pt x="13" y="181"/>
                  </a:lnTo>
                  <a:lnTo>
                    <a:pt x="9" y="176"/>
                  </a:lnTo>
                  <a:lnTo>
                    <a:pt x="7" y="173"/>
                  </a:lnTo>
                  <a:lnTo>
                    <a:pt x="5" y="169"/>
                  </a:lnTo>
                  <a:lnTo>
                    <a:pt x="4" y="166"/>
                  </a:lnTo>
                  <a:lnTo>
                    <a:pt x="2" y="162"/>
                  </a:lnTo>
                  <a:lnTo>
                    <a:pt x="1" y="159"/>
                  </a:lnTo>
                  <a:lnTo>
                    <a:pt x="1" y="154"/>
                  </a:lnTo>
                  <a:lnTo>
                    <a:pt x="0" y="151"/>
                  </a:lnTo>
                  <a:lnTo>
                    <a:pt x="0" y="147"/>
                  </a:lnTo>
                  <a:lnTo>
                    <a:pt x="0" y="143"/>
                  </a:lnTo>
                  <a:lnTo>
                    <a:pt x="1" y="140"/>
                  </a:lnTo>
                  <a:lnTo>
                    <a:pt x="1" y="136"/>
                  </a:lnTo>
                  <a:lnTo>
                    <a:pt x="2" y="132"/>
                  </a:lnTo>
                  <a:lnTo>
                    <a:pt x="4" y="128"/>
                  </a:lnTo>
                  <a:lnTo>
                    <a:pt x="5" y="125"/>
                  </a:lnTo>
                  <a:lnTo>
                    <a:pt x="7" y="121"/>
                  </a:lnTo>
                  <a:lnTo>
                    <a:pt x="9" y="118"/>
                  </a:lnTo>
                  <a:lnTo>
                    <a:pt x="13" y="115"/>
                  </a:lnTo>
                  <a:lnTo>
                    <a:pt x="15" y="110"/>
                  </a:lnTo>
                  <a:lnTo>
                    <a:pt x="18" y="107"/>
                  </a:lnTo>
                  <a:lnTo>
                    <a:pt x="22" y="104"/>
                  </a:lnTo>
                  <a:lnTo>
                    <a:pt x="25" y="100"/>
                  </a:lnTo>
                  <a:lnTo>
                    <a:pt x="29" y="97"/>
                  </a:lnTo>
                  <a:lnTo>
                    <a:pt x="38" y="90"/>
                  </a:lnTo>
                  <a:lnTo>
                    <a:pt x="47" y="83"/>
                  </a:lnTo>
                  <a:lnTo>
                    <a:pt x="58" y="77"/>
                  </a:lnTo>
                  <a:lnTo>
                    <a:pt x="69" y="71"/>
                  </a:lnTo>
                  <a:lnTo>
                    <a:pt x="82" y="65"/>
                  </a:lnTo>
                  <a:lnTo>
                    <a:pt x="95" y="59"/>
                  </a:lnTo>
                  <a:lnTo>
                    <a:pt x="110" y="54"/>
                  </a:lnTo>
                  <a:lnTo>
                    <a:pt x="125" y="48"/>
                  </a:lnTo>
                  <a:lnTo>
                    <a:pt x="140" y="43"/>
                  </a:lnTo>
                  <a:lnTo>
                    <a:pt x="157" y="38"/>
                  </a:lnTo>
                  <a:lnTo>
                    <a:pt x="175" y="34"/>
                  </a:lnTo>
                  <a:lnTo>
                    <a:pt x="193" y="29"/>
                  </a:lnTo>
                  <a:lnTo>
                    <a:pt x="212" y="25"/>
                  </a:lnTo>
                  <a:lnTo>
                    <a:pt x="230" y="21"/>
                  </a:lnTo>
                  <a:lnTo>
                    <a:pt x="251" y="18"/>
                  </a:lnTo>
                  <a:lnTo>
                    <a:pt x="271" y="15"/>
                  </a:lnTo>
                  <a:lnTo>
                    <a:pt x="293" y="12"/>
                  </a:lnTo>
                  <a:lnTo>
                    <a:pt x="314" y="9"/>
                  </a:lnTo>
                  <a:lnTo>
                    <a:pt x="337" y="6"/>
                  </a:lnTo>
                  <a:lnTo>
                    <a:pt x="359" y="4"/>
                  </a:lnTo>
                  <a:lnTo>
                    <a:pt x="383" y="3"/>
                  </a:lnTo>
                  <a:lnTo>
                    <a:pt x="406" y="2"/>
                  </a:lnTo>
                  <a:lnTo>
                    <a:pt x="431" y="1"/>
                  </a:lnTo>
                  <a:lnTo>
                    <a:pt x="455" y="0"/>
                  </a:lnTo>
                  <a:lnTo>
                    <a:pt x="480" y="0"/>
                  </a:lnTo>
                </a:path>
              </a:pathLst>
            </a:custGeom>
            <a:solidFill>
              <a:srgbClr val="0099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412720" y="4749840"/>
              <a:ext cx="144000" cy="186120"/>
            </a:xfrm>
            <a:custGeom>
              <a:avLst/>
              <a:gdLst/>
              <a:ahLst/>
              <a:rect l="l" t="t" r="r" b="b"/>
              <a:pathLst>
                <a:path w="77" h="91">
                  <a:moveTo>
                    <a:pt x="38" y="0"/>
                  </a:moveTo>
                  <a:lnTo>
                    <a:pt x="77" y="91"/>
                  </a:lnTo>
                  <a:lnTo>
                    <a:pt x="0" y="91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412720" y="4749840"/>
              <a:ext cx="144000" cy="186120"/>
            </a:xfrm>
            <a:custGeom>
              <a:avLst/>
              <a:gdLst/>
              <a:ahLst/>
              <a:rect l="l" t="t" r="r" b="b"/>
              <a:pathLst>
                <a:path w="77" h="91">
                  <a:moveTo>
                    <a:pt x="38" y="0"/>
                  </a:moveTo>
                  <a:lnTo>
                    <a:pt x="77" y="91"/>
                  </a:lnTo>
                  <a:lnTo>
                    <a:pt x="0" y="91"/>
                  </a:lnTo>
                  <a:lnTo>
                    <a:pt x="38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412720" y="4674240"/>
              <a:ext cx="144000" cy="149040"/>
            </a:xfrm>
            <a:custGeom>
              <a:avLst/>
              <a:gdLst/>
              <a:ahLst/>
              <a:rect l="l" t="t" r="r" b="b"/>
              <a:pathLst>
                <a:path w="77" h="73">
                  <a:moveTo>
                    <a:pt x="38" y="0"/>
                  </a:moveTo>
                  <a:lnTo>
                    <a:pt x="43" y="0"/>
                  </a:lnTo>
                  <a:lnTo>
                    <a:pt x="46" y="1"/>
                  </a:lnTo>
                  <a:lnTo>
                    <a:pt x="50" y="2"/>
                  </a:lnTo>
                  <a:lnTo>
                    <a:pt x="53" y="3"/>
                  </a:lnTo>
                  <a:lnTo>
                    <a:pt x="56" y="4"/>
                  </a:lnTo>
                  <a:lnTo>
                    <a:pt x="60" y="6"/>
                  </a:lnTo>
                  <a:lnTo>
                    <a:pt x="62" y="8"/>
                  </a:lnTo>
                  <a:lnTo>
                    <a:pt x="66" y="10"/>
                  </a:lnTo>
                  <a:lnTo>
                    <a:pt x="68" y="12"/>
                  </a:lnTo>
                  <a:lnTo>
                    <a:pt x="71" y="16"/>
                  </a:lnTo>
                  <a:lnTo>
                    <a:pt x="72" y="19"/>
                  </a:lnTo>
                  <a:lnTo>
                    <a:pt x="74" y="22"/>
                  </a:lnTo>
                  <a:lnTo>
                    <a:pt x="75" y="25"/>
                  </a:lnTo>
                  <a:lnTo>
                    <a:pt x="76" y="29"/>
                  </a:lnTo>
                  <a:lnTo>
                    <a:pt x="77" y="32"/>
                  </a:lnTo>
                  <a:lnTo>
                    <a:pt x="77" y="37"/>
                  </a:lnTo>
                  <a:lnTo>
                    <a:pt x="77" y="41"/>
                  </a:lnTo>
                  <a:lnTo>
                    <a:pt x="76" y="44"/>
                  </a:lnTo>
                  <a:lnTo>
                    <a:pt x="75" y="47"/>
                  </a:lnTo>
                  <a:lnTo>
                    <a:pt x="74" y="51"/>
                  </a:lnTo>
                  <a:lnTo>
                    <a:pt x="72" y="54"/>
                  </a:lnTo>
                  <a:lnTo>
                    <a:pt x="71" y="56"/>
                  </a:lnTo>
                  <a:lnTo>
                    <a:pt x="68" y="60"/>
                  </a:lnTo>
                  <a:lnTo>
                    <a:pt x="66" y="63"/>
                  </a:lnTo>
                  <a:lnTo>
                    <a:pt x="62" y="65"/>
                  </a:lnTo>
                  <a:lnTo>
                    <a:pt x="60" y="67"/>
                  </a:lnTo>
                  <a:lnTo>
                    <a:pt x="56" y="69"/>
                  </a:lnTo>
                  <a:lnTo>
                    <a:pt x="53" y="70"/>
                  </a:lnTo>
                  <a:lnTo>
                    <a:pt x="50" y="71"/>
                  </a:lnTo>
                  <a:lnTo>
                    <a:pt x="46" y="72"/>
                  </a:lnTo>
                  <a:lnTo>
                    <a:pt x="43" y="73"/>
                  </a:lnTo>
                  <a:lnTo>
                    <a:pt x="38" y="73"/>
                  </a:lnTo>
                  <a:lnTo>
                    <a:pt x="34" y="73"/>
                  </a:lnTo>
                  <a:lnTo>
                    <a:pt x="31" y="72"/>
                  </a:lnTo>
                  <a:lnTo>
                    <a:pt x="27" y="71"/>
                  </a:lnTo>
                  <a:lnTo>
                    <a:pt x="24" y="70"/>
                  </a:lnTo>
                  <a:lnTo>
                    <a:pt x="21" y="69"/>
                  </a:lnTo>
                  <a:lnTo>
                    <a:pt x="17" y="67"/>
                  </a:lnTo>
                  <a:lnTo>
                    <a:pt x="14" y="65"/>
                  </a:lnTo>
                  <a:lnTo>
                    <a:pt x="11" y="63"/>
                  </a:lnTo>
                  <a:lnTo>
                    <a:pt x="9" y="60"/>
                  </a:lnTo>
                  <a:lnTo>
                    <a:pt x="6" y="56"/>
                  </a:lnTo>
                  <a:lnTo>
                    <a:pt x="5" y="54"/>
                  </a:lnTo>
                  <a:lnTo>
                    <a:pt x="3" y="51"/>
                  </a:lnTo>
                  <a:lnTo>
                    <a:pt x="2" y="47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0" y="37"/>
                  </a:lnTo>
                  <a:lnTo>
                    <a:pt x="0" y="32"/>
                  </a:lnTo>
                  <a:lnTo>
                    <a:pt x="1" y="29"/>
                  </a:lnTo>
                  <a:lnTo>
                    <a:pt x="2" y="25"/>
                  </a:lnTo>
                  <a:lnTo>
                    <a:pt x="3" y="22"/>
                  </a:lnTo>
                  <a:lnTo>
                    <a:pt x="5" y="19"/>
                  </a:lnTo>
                  <a:lnTo>
                    <a:pt x="6" y="16"/>
                  </a:lnTo>
                  <a:lnTo>
                    <a:pt x="9" y="12"/>
                  </a:lnTo>
                  <a:lnTo>
                    <a:pt x="11" y="10"/>
                  </a:lnTo>
                  <a:lnTo>
                    <a:pt x="14" y="8"/>
                  </a:lnTo>
                  <a:lnTo>
                    <a:pt x="17" y="6"/>
                  </a:lnTo>
                  <a:lnTo>
                    <a:pt x="21" y="4"/>
                  </a:lnTo>
                  <a:lnTo>
                    <a:pt x="24" y="3"/>
                  </a:lnTo>
                  <a:lnTo>
                    <a:pt x="27" y="2"/>
                  </a:lnTo>
                  <a:lnTo>
                    <a:pt x="31" y="1"/>
                  </a:lnTo>
                  <a:lnTo>
                    <a:pt x="34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412720" y="4674240"/>
              <a:ext cx="144000" cy="149040"/>
            </a:xfrm>
            <a:custGeom>
              <a:avLst/>
              <a:gdLst/>
              <a:ahLst/>
              <a:rect l="l" t="t" r="r" b="b"/>
              <a:pathLst>
                <a:path w="77" h="73">
                  <a:moveTo>
                    <a:pt x="38" y="0"/>
                  </a:moveTo>
                  <a:lnTo>
                    <a:pt x="43" y="0"/>
                  </a:lnTo>
                  <a:lnTo>
                    <a:pt x="46" y="1"/>
                  </a:lnTo>
                  <a:lnTo>
                    <a:pt x="50" y="2"/>
                  </a:lnTo>
                  <a:lnTo>
                    <a:pt x="53" y="3"/>
                  </a:lnTo>
                  <a:lnTo>
                    <a:pt x="56" y="4"/>
                  </a:lnTo>
                  <a:lnTo>
                    <a:pt x="60" y="6"/>
                  </a:lnTo>
                  <a:lnTo>
                    <a:pt x="62" y="8"/>
                  </a:lnTo>
                  <a:lnTo>
                    <a:pt x="66" y="10"/>
                  </a:lnTo>
                  <a:lnTo>
                    <a:pt x="68" y="12"/>
                  </a:lnTo>
                  <a:lnTo>
                    <a:pt x="71" y="16"/>
                  </a:lnTo>
                  <a:lnTo>
                    <a:pt x="72" y="19"/>
                  </a:lnTo>
                  <a:lnTo>
                    <a:pt x="74" y="22"/>
                  </a:lnTo>
                  <a:lnTo>
                    <a:pt x="75" y="25"/>
                  </a:lnTo>
                  <a:lnTo>
                    <a:pt x="76" y="29"/>
                  </a:lnTo>
                  <a:lnTo>
                    <a:pt x="77" y="32"/>
                  </a:lnTo>
                  <a:lnTo>
                    <a:pt x="77" y="37"/>
                  </a:lnTo>
                  <a:lnTo>
                    <a:pt x="77" y="41"/>
                  </a:lnTo>
                  <a:lnTo>
                    <a:pt x="76" y="44"/>
                  </a:lnTo>
                  <a:lnTo>
                    <a:pt x="75" y="47"/>
                  </a:lnTo>
                  <a:lnTo>
                    <a:pt x="74" y="51"/>
                  </a:lnTo>
                  <a:lnTo>
                    <a:pt x="72" y="54"/>
                  </a:lnTo>
                  <a:lnTo>
                    <a:pt x="71" y="56"/>
                  </a:lnTo>
                  <a:lnTo>
                    <a:pt x="68" y="60"/>
                  </a:lnTo>
                  <a:lnTo>
                    <a:pt x="66" y="63"/>
                  </a:lnTo>
                  <a:lnTo>
                    <a:pt x="62" y="65"/>
                  </a:lnTo>
                  <a:lnTo>
                    <a:pt x="60" y="67"/>
                  </a:lnTo>
                  <a:lnTo>
                    <a:pt x="56" y="69"/>
                  </a:lnTo>
                  <a:lnTo>
                    <a:pt x="53" y="70"/>
                  </a:lnTo>
                  <a:lnTo>
                    <a:pt x="50" y="71"/>
                  </a:lnTo>
                  <a:lnTo>
                    <a:pt x="46" y="72"/>
                  </a:lnTo>
                  <a:lnTo>
                    <a:pt x="43" y="73"/>
                  </a:lnTo>
                  <a:lnTo>
                    <a:pt x="38" y="73"/>
                  </a:lnTo>
                  <a:lnTo>
                    <a:pt x="34" y="73"/>
                  </a:lnTo>
                  <a:lnTo>
                    <a:pt x="31" y="72"/>
                  </a:lnTo>
                  <a:lnTo>
                    <a:pt x="27" y="71"/>
                  </a:lnTo>
                  <a:lnTo>
                    <a:pt x="24" y="70"/>
                  </a:lnTo>
                  <a:lnTo>
                    <a:pt x="21" y="69"/>
                  </a:lnTo>
                  <a:lnTo>
                    <a:pt x="17" y="67"/>
                  </a:lnTo>
                  <a:lnTo>
                    <a:pt x="14" y="65"/>
                  </a:lnTo>
                  <a:lnTo>
                    <a:pt x="11" y="63"/>
                  </a:lnTo>
                  <a:lnTo>
                    <a:pt x="9" y="60"/>
                  </a:lnTo>
                  <a:lnTo>
                    <a:pt x="6" y="56"/>
                  </a:lnTo>
                  <a:lnTo>
                    <a:pt x="5" y="54"/>
                  </a:lnTo>
                  <a:lnTo>
                    <a:pt x="3" y="51"/>
                  </a:lnTo>
                  <a:lnTo>
                    <a:pt x="2" y="47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0" y="37"/>
                  </a:lnTo>
                  <a:lnTo>
                    <a:pt x="0" y="32"/>
                  </a:lnTo>
                  <a:lnTo>
                    <a:pt x="1" y="29"/>
                  </a:lnTo>
                  <a:lnTo>
                    <a:pt x="2" y="25"/>
                  </a:lnTo>
                  <a:lnTo>
                    <a:pt x="3" y="22"/>
                  </a:lnTo>
                  <a:lnTo>
                    <a:pt x="5" y="19"/>
                  </a:lnTo>
                  <a:lnTo>
                    <a:pt x="6" y="16"/>
                  </a:lnTo>
                  <a:lnTo>
                    <a:pt x="9" y="12"/>
                  </a:lnTo>
                  <a:lnTo>
                    <a:pt x="11" y="10"/>
                  </a:lnTo>
                  <a:lnTo>
                    <a:pt x="14" y="8"/>
                  </a:lnTo>
                  <a:lnTo>
                    <a:pt x="17" y="6"/>
                  </a:lnTo>
                  <a:lnTo>
                    <a:pt x="21" y="4"/>
                  </a:lnTo>
                  <a:lnTo>
                    <a:pt x="24" y="3"/>
                  </a:lnTo>
                  <a:lnTo>
                    <a:pt x="27" y="2"/>
                  </a:lnTo>
                  <a:lnTo>
                    <a:pt x="31" y="1"/>
                  </a:lnTo>
                  <a:lnTo>
                    <a:pt x="34" y="0"/>
                  </a:lnTo>
                  <a:lnTo>
                    <a:pt x="3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194920" y="4823280"/>
              <a:ext cx="255240" cy="337320"/>
            </a:xfrm>
            <a:custGeom>
              <a:avLst/>
              <a:gdLst/>
              <a:ahLst/>
              <a:rect l="l" t="t" r="r" b="b"/>
              <a:pathLst>
                <a:path w="136" h="165">
                  <a:moveTo>
                    <a:pt x="136" y="0"/>
                  </a:moveTo>
                  <a:lnTo>
                    <a:pt x="0" y="0"/>
                  </a:lnTo>
                  <a:lnTo>
                    <a:pt x="0" y="165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557080" y="4749840"/>
              <a:ext cx="900720" cy="21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323600" y="3432960"/>
              <a:ext cx="682920" cy="1541160"/>
            </a:xfrm>
            <a:custGeom>
              <a:avLst/>
              <a:gdLst/>
              <a:ahLst/>
              <a:rect l="l" t="t" r="r" b="b"/>
              <a:pathLst>
                <a:path w="364" h="754">
                  <a:moveTo>
                    <a:pt x="0" y="754"/>
                  </a:moveTo>
                  <a:lnTo>
                    <a:pt x="134" y="754"/>
                  </a:lnTo>
                  <a:lnTo>
                    <a:pt x="134" y="0"/>
                  </a:lnTo>
                  <a:lnTo>
                    <a:pt x="364" y="0"/>
                  </a:lnTo>
                  <a:lnTo>
                    <a:pt x="364" y="92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99600" y="4913280"/>
              <a:ext cx="575640" cy="120240"/>
            </a:xfrm>
            <a:custGeom>
              <a:avLst/>
              <a:gdLst/>
              <a:ahLst/>
              <a:rect l="l" t="t" r="r" b="b"/>
              <a:pathLst>
                <a:path w="307" h="59">
                  <a:moveTo>
                    <a:pt x="0" y="19"/>
                  </a:moveTo>
                  <a:lnTo>
                    <a:pt x="259" y="20"/>
                  </a:lnTo>
                  <a:lnTo>
                    <a:pt x="259" y="40"/>
                  </a:lnTo>
                  <a:lnTo>
                    <a:pt x="0" y="39"/>
                  </a:lnTo>
                  <a:lnTo>
                    <a:pt x="0" y="19"/>
                  </a:lnTo>
                  <a:close/>
                  <a:moveTo>
                    <a:pt x="248" y="0"/>
                  </a:moveTo>
                  <a:lnTo>
                    <a:pt x="307" y="30"/>
                  </a:lnTo>
                  <a:lnTo>
                    <a:pt x="248" y="59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006520" y="4222440"/>
              <a:ext cx="502920" cy="713160"/>
            </a:xfrm>
            <a:custGeom>
              <a:avLst/>
              <a:gdLst/>
              <a:ahLst/>
              <a:rect l="l" t="t" r="r" b="b"/>
              <a:pathLst>
                <a:path w="268" h="349">
                  <a:moveTo>
                    <a:pt x="0" y="0"/>
                  </a:moveTo>
                  <a:lnTo>
                    <a:pt x="0" y="349"/>
                  </a:lnTo>
                  <a:lnTo>
                    <a:pt x="268" y="349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458160" y="5085000"/>
              <a:ext cx="827640" cy="300600"/>
            </a:xfrm>
            <a:custGeom>
              <a:avLst/>
              <a:gdLst/>
              <a:ahLst/>
              <a:rect l="l" t="t" r="r" b="b"/>
              <a:pathLst>
                <a:path w="441" h="147">
                  <a:moveTo>
                    <a:pt x="441" y="0"/>
                  </a:moveTo>
                  <a:lnTo>
                    <a:pt x="331" y="147"/>
                  </a:lnTo>
                  <a:lnTo>
                    <a:pt x="110" y="147"/>
                  </a:lnTo>
                  <a:lnTo>
                    <a:pt x="0" y="0"/>
                  </a:lnTo>
                  <a:lnTo>
                    <a:pt x="441" y="0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458160" y="5085000"/>
              <a:ext cx="827640" cy="300600"/>
            </a:xfrm>
            <a:custGeom>
              <a:avLst/>
              <a:gdLst/>
              <a:ahLst/>
              <a:rect l="l" t="t" r="r" b="b"/>
              <a:pathLst>
                <a:path w="441" h="147">
                  <a:moveTo>
                    <a:pt x="441" y="0"/>
                  </a:moveTo>
                  <a:lnTo>
                    <a:pt x="331" y="147"/>
                  </a:lnTo>
                  <a:lnTo>
                    <a:pt x="110" y="147"/>
                  </a:lnTo>
                  <a:lnTo>
                    <a:pt x="0" y="0"/>
                  </a:lnTo>
                  <a:lnTo>
                    <a:pt x="44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098840" y="29242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675200" y="32533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777440" y="35823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994160" y="39114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539640" y="3068640"/>
            <a:ext cx="327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Tahoma"/>
              </a:rPr>
              <a:t>Sistema de abasteci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042920" y="551664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Fu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122560" y="4076640"/>
            <a:ext cx="13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Capt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193920" y="558972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Tratami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063040" y="3068640"/>
            <a:ext cx="21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Almacenami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515920" y="5516640"/>
            <a:ext cx="15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Distribu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594200" y="3789360"/>
            <a:ext cx="125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Consum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rincipi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467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iclo de inform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3203640" y="1916280"/>
            <a:ext cx="5544720" cy="4363560"/>
            <a:chOff x="3203640" y="1916280"/>
            <a:chExt cx="5544720" cy="4363560"/>
          </a:xfrm>
        </p:grpSpPr>
        <p:sp>
          <p:nvSpPr>
            <p:cNvPr id="307" name=""/>
            <p:cNvSpPr/>
            <p:nvPr/>
          </p:nvSpPr>
          <p:spPr>
            <a:xfrm>
              <a:off x="4217760" y="2575080"/>
              <a:ext cx="3638880" cy="3355920"/>
            </a:xfrm>
            <a:prstGeom prst="ellipse">
              <a:avLst/>
            </a:pr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108040" y="1916280"/>
              <a:ext cx="1811520" cy="88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 Narrow"/>
                </a:rPr>
                <a:t>Vigilancia de la Calidad del Agua en Zonas Urban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014600" y="3259440"/>
              <a:ext cx="1606320" cy="66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 Narrow"/>
                </a:rPr>
                <a:t>Diagnóstico de necesidad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188480" y="4601160"/>
              <a:ext cx="1559880" cy="671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 Narrow"/>
                </a:rPr>
                <a:t>Desarrollo de la Estrateg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280120" y="5442120"/>
              <a:ext cx="1562040" cy="83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 Narrow"/>
                </a:rPr>
                <a:t>Proceso de Generación de Informació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203640" y="4434840"/>
              <a:ext cx="1794240" cy="81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 Narrow"/>
                </a:rPr>
                <a:t>Análisis de Datos (Productos informativo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547800" y="3259440"/>
              <a:ext cx="1387800" cy="673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 Narrow"/>
                </a:rPr>
                <a:t>Uso de la Informació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7325400">
              <a:off x="6932160" y="2837520"/>
              <a:ext cx="342000" cy="177120"/>
            </a:xfrm>
            <a:prstGeom prst="triangle">
              <a:avLst>
                <a:gd name="adj" fmla="val 49523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10800000">
              <a:off x="7701480" y="4184280"/>
              <a:ext cx="351360" cy="170640"/>
            </a:xfrm>
            <a:prstGeom prst="triangle">
              <a:avLst>
                <a:gd name="adj" fmla="val 49523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4363400">
              <a:off x="6930000" y="5526360"/>
              <a:ext cx="342000" cy="173520"/>
            </a:xfrm>
            <a:prstGeom prst="triangle">
              <a:avLst>
                <a:gd name="adj" fmla="val 49523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rot="18237600">
              <a:off x="4851720" y="5524560"/>
              <a:ext cx="342000" cy="177120"/>
            </a:xfrm>
            <a:prstGeom prst="triangle">
              <a:avLst>
                <a:gd name="adj" fmla="val 49523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187200">
              <a:off x="4069800" y="4098960"/>
              <a:ext cx="351360" cy="171000"/>
            </a:xfrm>
            <a:prstGeom prst="triangle">
              <a:avLst>
                <a:gd name="adj" fmla="val 49523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rot="2808600">
              <a:off x="4676400" y="2920680"/>
              <a:ext cx="343440" cy="172080"/>
            </a:xfrm>
            <a:prstGeom prst="triangle">
              <a:avLst>
                <a:gd name="adj" fmla="val 49523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rincipi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Fuentes alternativas de inform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aluaciones físicas (ambientales y de la infraestructur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cuestas (operadores y usuario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rol de la operació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pec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álisis de calidad del agu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rincipi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Modelos de los sistemas de distribu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rramienta para la simulación del comportamiento de los sistem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emento para la organización de la información y mejora de la oper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trumento de capacit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rramienta para mejorar la vigilanc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2T10:48:54Z</dcterms:created>
  <dc:creator>Jorge Eugenio Barrios Ordóñez</dc:creator>
  <dc:description/>
  <dc:language>en-US</dc:language>
  <cp:lastModifiedBy>Jorge Eugenio Barrios Ordóñez</cp:lastModifiedBy>
  <dcterms:modified xsi:type="dcterms:W3CDTF">2004-01-19T19:22:55Z</dcterms:modified>
  <cp:revision>29</cp:revision>
  <dc:subject/>
  <dc:title>Sistema de Vigilancia de la Calidad del Agua Potable en Zonas Rurales</dc:title>
</cp:coreProperties>
</file>