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seño de un Sistema de Vigilancia de la Calidad del Agua Potable Urbana (SVCAPU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350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ública de Panam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inisterio de Economía y Finanz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nte Regulador de los Servicios Púb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20 de enero de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502560" y="608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54080" y="6234120"/>
            <a:ext cx="2154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5819760"/>
            <a:ext cx="1191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6320" y="37209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22000" y="38354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40520" y="4970520"/>
            <a:ext cx="579600" cy="469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40520" y="4970520"/>
            <a:ext cx="579600" cy="4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02720" y="4537080"/>
            <a:ext cx="653760" cy="433440"/>
          </a:xfrm>
          <a:custGeom>
            <a:avLst/>
            <a:gdLst/>
            <a:ahLst/>
            <a:rect l="l" t="t" r="r" b="b"/>
            <a:pathLst>
              <a:path w="412" h="547">
                <a:moveTo>
                  <a:pt x="206" y="0"/>
                </a:moveTo>
                <a:lnTo>
                  <a:pt x="412" y="547"/>
                </a:lnTo>
                <a:lnTo>
                  <a:pt x="0" y="547"/>
                </a:lnTo>
                <a:lnTo>
                  <a:pt x="2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02720" y="4537080"/>
            <a:ext cx="653760" cy="433440"/>
          </a:xfrm>
          <a:custGeom>
            <a:avLst/>
            <a:gdLst/>
            <a:ahLst/>
            <a:rect l="l" t="t" r="r" b="b"/>
            <a:pathLst>
              <a:path w="412" h="547">
                <a:moveTo>
                  <a:pt x="206" y="0"/>
                </a:moveTo>
                <a:lnTo>
                  <a:pt x="412" y="547"/>
                </a:lnTo>
                <a:lnTo>
                  <a:pt x="0" y="547"/>
                </a:lnTo>
                <a:lnTo>
                  <a:pt x="206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58080" y="4653000"/>
            <a:ext cx="1341360" cy="1103400"/>
          </a:xfrm>
          <a:custGeom>
            <a:avLst/>
            <a:gdLst/>
            <a:ahLst/>
            <a:rect l="l" t="t" r="r" b="b"/>
            <a:pathLst>
              <a:path w="845" h="1390">
                <a:moveTo>
                  <a:pt x="649" y="0"/>
                </a:moveTo>
                <a:lnTo>
                  <a:pt x="845" y="884"/>
                </a:lnTo>
                <a:lnTo>
                  <a:pt x="195" y="1390"/>
                </a:lnTo>
                <a:lnTo>
                  <a:pt x="0" y="508"/>
                </a:lnTo>
                <a:lnTo>
                  <a:pt x="649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58080" y="4653000"/>
            <a:ext cx="1341360" cy="1103400"/>
          </a:xfrm>
          <a:custGeom>
            <a:avLst/>
            <a:gdLst/>
            <a:ahLst/>
            <a:rect l="l" t="t" r="r" b="b"/>
            <a:pathLst>
              <a:path w="845" h="1390">
                <a:moveTo>
                  <a:pt x="649" y="0"/>
                </a:moveTo>
                <a:lnTo>
                  <a:pt x="845" y="884"/>
                </a:lnTo>
                <a:lnTo>
                  <a:pt x="195" y="1390"/>
                </a:lnTo>
                <a:lnTo>
                  <a:pt x="0" y="508"/>
                </a:lnTo>
                <a:lnTo>
                  <a:pt x="64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161040" y="4888080"/>
            <a:ext cx="103176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64360" y="5118120"/>
            <a:ext cx="103176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00600" y="4932360"/>
            <a:ext cx="8856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00600" y="4932360"/>
            <a:ext cx="885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03200" y="4989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33960" y="3886200"/>
            <a:ext cx="806400" cy="612720"/>
          </a:xfrm>
          <a:custGeom>
            <a:avLst/>
            <a:gdLst/>
            <a:ahLst/>
            <a:rect l="l" t="t" r="r" b="b"/>
            <a:pathLst>
              <a:path w="508" h="773">
                <a:moveTo>
                  <a:pt x="254" y="0"/>
                </a:moveTo>
                <a:lnTo>
                  <a:pt x="280" y="0"/>
                </a:lnTo>
                <a:lnTo>
                  <a:pt x="305" y="2"/>
                </a:lnTo>
                <a:lnTo>
                  <a:pt x="317" y="4"/>
                </a:lnTo>
                <a:lnTo>
                  <a:pt x="329" y="4"/>
                </a:lnTo>
                <a:lnTo>
                  <a:pt x="342" y="6"/>
                </a:lnTo>
                <a:lnTo>
                  <a:pt x="353" y="8"/>
                </a:lnTo>
                <a:lnTo>
                  <a:pt x="364" y="10"/>
                </a:lnTo>
                <a:lnTo>
                  <a:pt x="375" y="12"/>
                </a:lnTo>
                <a:lnTo>
                  <a:pt x="385" y="14"/>
                </a:lnTo>
                <a:lnTo>
                  <a:pt x="396" y="17"/>
                </a:lnTo>
                <a:lnTo>
                  <a:pt x="406" y="19"/>
                </a:lnTo>
                <a:lnTo>
                  <a:pt x="416" y="23"/>
                </a:lnTo>
                <a:lnTo>
                  <a:pt x="425" y="25"/>
                </a:lnTo>
                <a:lnTo>
                  <a:pt x="433" y="29"/>
                </a:lnTo>
                <a:lnTo>
                  <a:pt x="443" y="33"/>
                </a:lnTo>
                <a:lnTo>
                  <a:pt x="450" y="35"/>
                </a:lnTo>
                <a:lnTo>
                  <a:pt x="458" y="39"/>
                </a:lnTo>
                <a:lnTo>
                  <a:pt x="465" y="42"/>
                </a:lnTo>
                <a:lnTo>
                  <a:pt x="471" y="46"/>
                </a:lnTo>
                <a:lnTo>
                  <a:pt x="477" y="50"/>
                </a:lnTo>
                <a:lnTo>
                  <a:pt x="483" y="56"/>
                </a:lnTo>
                <a:lnTo>
                  <a:pt x="489" y="60"/>
                </a:lnTo>
                <a:lnTo>
                  <a:pt x="493" y="64"/>
                </a:lnTo>
                <a:lnTo>
                  <a:pt x="497" y="67"/>
                </a:lnTo>
                <a:lnTo>
                  <a:pt x="500" y="73"/>
                </a:lnTo>
                <a:lnTo>
                  <a:pt x="503" y="77"/>
                </a:lnTo>
                <a:lnTo>
                  <a:pt x="505" y="83"/>
                </a:lnTo>
                <a:lnTo>
                  <a:pt x="507" y="87"/>
                </a:lnTo>
                <a:lnTo>
                  <a:pt x="508" y="92"/>
                </a:lnTo>
                <a:lnTo>
                  <a:pt x="508" y="96"/>
                </a:lnTo>
                <a:lnTo>
                  <a:pt x="508" y="675"/>
                </a:lnTo>
                <a:lnTo>
                  <a:pt x="508" y="681"/>
                </a:lnTo>
                <a:lnTo>
                  <a:pt x="507" y="685"/>
                </a:lnTo>
                <a:lnTo>
                  <a:pt x="505" y="691"/>
                </a:lnTo>
                <a:lnTo>
                  <a:pt x="503" y="695"/>
                </a:lnTo>
                <a:lnTo>
                  <a:pt x="500" y="700"/>
                </a:lnTo>
                <a:lnTo>
                  <a:pt x="497" y="704"/>
                </a:lnTo>
                <a:lnTo>
                  <a:pt x="493" y="708"/>
                </a:lnTo>
                <a:lnTo>
                  <a:pt x="489" y="714"/>
                </a:lnTo>
                <a:lnTo>
                  <a:pt x="483" y="718"/>
                </a:lnTo>
                <a:lnTo>
                  <a:pt x="477" y="721"/>
                </a:lnTo>
                <a:lnTo>
                  <a:pt x="471" y="725"/>
                </a:lnTo>
                <a:lnTo>
                  <a:pt x="465" y="729"/>
                </a:lnTo>
                <a:lnTo>
                  <a:pt x="458" y="733"/>
                </a:lnTo>
                <a:lnTo>
                  <a:pt x="450" y="737"/>
                </a:lnTo>
                <a:lnTo>
                  <a:pt x="443" y="741"/>
                </a:lnTo>
                <a:lnTo>
                  <a:pt x="433" y="744"/>
                </a:lnTo>
                <a:lnTo>
                  <a:pt x="425" y="748"/>
                </a:lnTo>
                <a:lnTo>
                  <a:pt x="416" y="750"/>
                </a:lnTo>
                <a:lnTo>
                  <a:pt x="406" y="754"/>
                </a:lnTo>
                <a:lnTo>
                  <a:pt x="396" y="756"/>
                </a:lnTo>
                <a:lnTo>
                  <a:pt x="385" y="760"/>
                </a:lnTo>
                <a:lnTo>
                  <a:pt x="375" y="762"/>
                </a:lnTo>
                <a:lnTo>
                  <a:pt x="364" y="764"/>
                </a:lnTo>
                <a:lnTo>
                  <a:pt x="353" y="765"/>
                </a:lnTo>
                <a:lnTo>
                  <a:pt x="342" y="767"/>
                </a:lnTo>
                <a:lnTo>
                  <a:pt x="329" y="769"/>
                </a:lnTo>
                <a:lnTo>
                  <a:pt x="317" y="769"/>
                </a:lnTo>
                <a:lnTo>
                  <a:pt x="305" y="771"/>
                </a:lnTo>
                <a:lnTo>
                  <a:pt x="280" y="773"/>
                </a:lnTo>
                <a:lnTo>
                  <a:pt x="254" y="773"/>
                </a:lnTo>
                <a:lnTo>
                  <a:pt x="227" y="773"/>
                </a:lnTo>
                <a:lnTo>
                  <a:pt x="203" y="771"/>
                </a:lnTo>
                <a:lnTo>
                  <a:pt x="191" y="769"/>
                </a:lnTo>
                <a:lnTo>
                  <a:pt x="178" y="769"/>
                </a:lnTo>
                <a:lnTo>
                  <a:pt x="166" y="767"/>
                </a:lnTo>
                <a:lnTo>
                  <a:pt x="155" y="765"/>
                </a:lnTo>
                <a:lnTo>
                  <a:pt x="144" y="764"/>
                </a:lnTo>
                <a:lnTo>
                  <a:pt x="132" y="762"/>
                </a:lnTo>
                <a:lnTo>
                  <a:pt x="122" y="760"/>
                </a:lnTo>
                <a:lnTo>
                  <a:pt x="112" y="756"/>
                </a:lnTo>
                <a:lnTo>
                  <a:pt x="102" y="754"/>
                </a:lnTo>
                <a:lnTo>
                  <a:pt x="92" y="750"/>
                </a:lnTo>
                <a:lnTo>
                  <a:pt x="82" y="748"/>
                </a:lnTo>
                <a:lnTo>
                  <a:pt x="74" y="744"/>
                </a:lnTo>
                <a:lnTo>
                  <a:pt x="66" y="741"/>
                </a:lnTo>
                <a:lnTo>
                  <a:pt x="58" y="737"/>
                </a:lnTo>
                <a:lnTo>
                  <a:pt x="50" y="733"/>
                </a:lnTo>
                <a:lnTo>
                  <a:pt x="43" y="729"/>
                </a:lnTo>
                <a:lnTo>
                  <a:pt x="36" y="725"/>
                </a:lnTo>
                <a:lnTo>
                  <a:pt x="30" y="721"/>
                </a:lnTo>
                <a:lnTo>
                  <a:pt x="24" y="718"/>
                </a:lnTo>
                <a:lnTo>
                  <a:pt x="20" y="714"/>
                </a:lnTo>
                <a:lnTo>
                  <a:pt x="15" y="708"/>
                </a:lnTo>
                <a:lnTo>
                  <a:pt x="11" y="704"/>
                </a:lnTo>
                <a:lnTo>
                  <a:pt x="8" y="700"/>
                </a:lnTo>
                <a:lnTo>
                  <a:pt x="5" y="695"/>
                </a:lnTo>
                <a:lnTo>
                  <a:pt x="3" y="691"/>
                </a:lnTo>
                <a:lnTo>
                  <a:pt x="1" y="685"/>
                </a:lnTo>
                <a:lnTo>
                  <a:pt x="0" y="681"/>
                </a:lnTo>
                <a:lnTo>
                  <a:pt x="0" y="675"/>
                </a:lnTo>
                <a:lnTo>
                  <a:pt x="0" y="96"/>
                </a:lnTo>
                <a:lnTo>
                  <a:pt x="0" y="92"/>
                </a:lnTo>
                <a:lnTo>
                  <a:pt x="1" y="87"/>
                </a:lnTo>
                <a:lnTo>
                  <a:pt x="3" y="83"/>
                </a:lnTo>
                <a:lnTo>
                  <a:pt x="5" y="77"/>
                </a:lnTo>
                <a:lnTo>
                  <a:pt x="8" y="73"/>
                </a:lnTo>
                <a:lnTo>
                  <a:pt x="11" y="67"/>
                </a:lnTo>
                <a:lnTo>
                  <a:pt x="15" y="64"/>
                </a:lnTo>
                <a:lnTo>
                  <a:pt x="20" y="60"/>
                </a:lnTo>
                <a:lnTo>
                  <a:pt x="24" y="56"/>
                </a:lnTo>
                <a:lnTo>
                  <a:pt x="30" y="50"/>
                </a:lnTo>
                <a:lnTo>
                  <a:pt x="36" y="46"/>
                </a:lnTo>
                <a:lnTo>
                  <a:pt x="43" y="42"/>
                </a:lnTo>
                <a:lnTo>
                  <a:pt x="50" y="39"/>
                </a:lnTo>
                <a:lnTo>
                  <a:pt x="58" y="35"/>
                </a:lnTo>
                <a:lnTo>
                  <a:pt x="66" y="33"/>
                </a:lnTo>
                <a:lnTo>
                  <a:pt x="74" y="29"/>
                </a:lnTo>
                <a:lnTo>
                  <a:pt x="82" y="25"/>
                </a:lnTo>
                <a:lnTo>
                  <a:pt x="92" y="23"/>
                </a:lnTo>
                <a:lnTo>
                  <a:pt x="102" y="19"/>
                </a:lnTo>
                <a:lnTo>
                  <a:pt x="112" y="17"/>
                </a:lnTo>
                <a:lnTo>
                  <a:pt x="122" y="14"/>
                </a:lnTo>
                <a:lnTo>
                  <a:pt x="132" y="12"/>
                </a:lnTo>
                <a:lnTo>
                  <a:pt x="144" y="10"/>
                </a:lnTo>
                <a:lnTo>
                  <a:pt x="155" y="8"/>
                </a:lnTo>
                <a:lnTo>
                  <a:pt x="166" y="6"/>
                </a:lnTo>
                <a:lnTo>
                  <a:pt x="178" y="4"/>
                </a:lnTo>
                <a:lnTo>
                  <a:pt x="191" y="4"/>
                </a:lnTo>
                <a:lnTo>
                  <a:pt x="203" y="2"/>
                </a:lnTo>
                <a:lnTo>
                  <a:pt x="227" y="0"/>
                </a:lnTo>
                <a:lnTo>
                  <a:pt x="254" y="0"/>
                </a:lnTo>
                <a:lnTo>
                  <a:pt x="254" y="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33960" y="3886200"/>
            <a:ext cx="806400" cy="152280"/>
          </a:xfrm>
          <a:custGeom>
            <a:avLst/>
            <a:gdLst/>
            <a:ahLst/>
            <a:rect l="l" t="t" r="r" b="b"/>
            <a:pathLst>
              <a:path w="508" h="194">
                <a:moveTo>
                  <a:pt x="508" y="96"/>
                </a:moveTo>
                <a:lnTo>
                  <a:pt x="508" y="102"/>
                </a:lnTo>
                <a:lnTo>
                  <a:pt x="507" y="106"/>
                </a:lnTo>
                <a:lnTo>
                  <a:pt x="505" y="111"/>
                </a:lnTo>
                <a:lnTo>
                  <a:pt x="503" y="115"/>
                </a:lnTo>
                <a:lnTo>
                  <a:pt x="500" y="121"/>
                </a:lnTo>
                <a:lnTo>
                  <a:pt x="497" y="125"/>
                </a:lnTo>
                <a:lnTo>
                  <a:pt x="493" y="129"/>
                </a:lnTo>
                <a:lnTo>
                  <a:pt x="489" y="134"/>
                </a:lnTo>
                <a:lnTo>
                  <a:pt x="483" y="138"/>
                </a:lnTo>
                <a:lnTo>
                  <a:pt x="477" y="142"/>
                </a:lnTo>
                <a:lnTo>
                  <a:pt x="471" y="146"/>
                </a:lnTo>
                <a:lnTo>
                  <a:pt x="465" y="150"/>
                </a:lnTo>
                <a:lnTo>
                  <a:pt x="458" y="154"/>
                </a:lnTo>
                <a:lnTo>
                  <a:pt x="450" y="157"/>
                </a:lnTo>
                <a:lnTo>
                  <a:pt x="443" y="161"/>
                </a:lnTo>
                <a:lnTo>
                  <a:pt x="433" y="165"/>
                </a:lnTo>
                <a:lnTo>
                  <a:pt x="425" y="169"/>
                </a:lnTo>
                <a:lnTo>
                  <a:pt x="416" y="171"/>
                </a:lnTo>
                <a:lnTo>
                  <a:pt x="406" y="175"/>
                </a:lnTo>
                <a:lnTo>
                  <a:pt x="396" y="177"/>
                </a:lnTo>
                <a:lnTo>
                  <a:pt x="385" y="181"/>
                </a:lnTo>
                <a:lnTo>
                  <a:pt x="375" y="182"/>
                </a:lnTo>
                <a:lnTo>
                  <a:pt x="364" y="184"/>
                </a:lnTo>
                <a:lnTo>
                  <a:pt x="353" y="186"/>
                </a:lnTo>
                <a:lnTo>
                  <a:pt x="342" y="188"/>
                </a:lnTo>
                <a:lnTo>
                  <a:pt x="329" y="190"/>
                </a:lnTo>
                <a:lnTo>
                  <a:pt x="317" y="190"/>
                </a:lnTo>
                <a:lnTo>
                  <a:pt x="305" y="192"/>
                </a:lnTo>
                <a:lnTo>
                  <a:pt x="280" y="194"/>
                </a:lnTo>
                <a:lnTo>
                  <a:pt x="254" y="194"/>
                </a:lnTo>
                <a:lnTo>
                  <a:pt x="227" y="194"/>
                </a:lnTo>
                <a:lnTo>
                  <a:pt x="203" y="192"/>
                </a:lnTo>
                <a:lnTo>
                  <a:pt x="191" y="190"/>
                </a:lnTo>
                <a:lnTo>
                  <a:pt x="178" y="190"/>
                </a:lnTo>
                <a:lnTo>
                  <a:pt x="166" y="188"/>
                </a:lnTo>
                <a:lnTo>
                  <a:pt x="155" y="186"/>
                </a:lnTo>
                <a:lnTo>
                  <a:pt x="144" y="184"/>
                </a:lnTo>
                <a:lnTo>
                  <a:pt x="132" y="182"/>
                </a:lnTo>
                <a:lnTo>
                  <a:pt x="122" y="181"/>
                </a:lnTo>
                <a:lnTo>
                  <a:pt x="112" y="177"/>
                </a:lnTo>
                <a:lnTo>
                  <a:pt x="102" y="175"/>
                </a:lnTo>
                <a:lnTo>
                  <a:pt x="92" y="171"/>
                </a:lnTo>
                <a:lnTo>
                  <a:pt x="82" y="169"/>
                </a:lnTo>
                <a:lnTo>
                  <a:pt x="74" y="165"/>
                </a:lnTo>
                <a:lnTo>
                  <a:pt x="66" y="161"/>
                </a:lnTo>
                <a:lnTo>
                  <a:pt x="58" y="157"/>
                </a:lnTo>
                <a:lnTo>
                  <a:pt x="50" y="154"/>
                </a:lnTo>
                <a:lnTo>
                  <a:pt x="43" y="150"/>
                </a:lnTo>
                <a:lnTo>
                  <a:pt x="36" y="146"/>
                </a:lnTo>
                <a:lnTo>
                  <a:pt x="30" y="142"/>
                </a:lnTo>
                <a:lnTo>
                  <a:pt x="24" y="138"/>
                </a:lnTo>
                <a:lnTo>
                  <a:pt x="20" y="134"/>
                </a:lnTo>
                <a:lnTo>
                  <a:pt x="15" y="129"/>
                </a:lnTo>
                <a:lnTo>
                  <a:pt x="11" y="125"/>
                </a:lnTo>
                <a:lnTo>
                  <a:pt x="8" y="121"/>
                </a:lnTo>
                <a:lnTo>
                  <a:pt x="5" y="115"/>
                </a:lnTo>
                <a:lnTo>
                  <a:pt x="3" y="111"/>
                </a:lnTo>
                <a:lnTo>
                  <a:pt x="1" y="106"/>
                </a:lnTo>
                <a:lnTo>
                  <a:pt x="0" y="102"/>
                </a:lnTo>
                <a:lnTo>
                  <a:pt x="0" y="96"/>
                </a:lnTo>
                <a:lnTo>
                  <a:pt x="0" y="92"/>
                </a:lnTo>
                <a:lnTo>
                  <a:pt x="1" y="87"/>
                </a:lnTo>
                <a:lnTo>
                  <a:pt x="3" y="83"/>
                </a:lnTo>
                <a:lnTo>
                  <a:pt x="5" y="77"/>
                </a:lnTo>
                <a:lnTo>
                  <a:pt x="8" y="73"/>
                </a:lnTo>
                <a:lnTo>
                  <a:pt x="11" y="67"/>
                </a:lnTo>
                <a:lnTo>
                  <a:pt x="15" y="64"/>
                </a:lnTo>
                <a:lnTo>
                  <a:pt x="20" y="60"/>
                </a:lnTo>
                <a:lnTo>
                  <a:pt x="24" y="56"/>
                </a:lnTo>
                <a:lnTo>
                  <a:pt x="30" y="50"/>
                </a:lnTo>
                <a:lnTo>
                  <a:pt x="36" y="46"/>
                </a:lnTo>
                <a:lnTo>
                  <a:pt x="43" y="42"/>
                </a:lnTo>
                <a:lnTo>
                  <a:pt x="50" y="39"/>
                </a:lnTo>
                <a:lnTo>
                  <a:pt x="58" y="35"/>
                </a:lnTo>
                <a:lnTo>
                  <a:pt x="66" y="33"/>
                </a:lnTo>
                <a:lnTo>
                  <a:pt x="74" y="29"/>
                </a:lnTo>
                <a:lnTo>
                  <a:pt x="82" y="25"/>
                </a:lnTo>
                <a:lnTo>
                  <a:pt x="92" y="23"/>
                </a:lnTo>
                <a:lnTo>
                  <a:pt x="102" y="19"/>
                </a:lnTo>
                <a:lnTo>
                  <a:pt x="112" y="17"/>
                </a:lnTo>
                <a:lnTo>
                  <a:pt x="122" y="14"/>
                </a:lnTo>
                <a:lnTo>
                  <a:pt x="132" y="12"/>
                </a:lnTo>
                <a:lnTo>
                  <a:pt x="144" y="10"/>
                </a:lnTo>
                <a:lnTo>
                  <a:pt x="155" y="8"/>
                </a:lnTo>
                <a:lnTo>
                  <a:pt x="166" y="6"/>
                </a:lnTo>
                <a:lnTo>
                  <a:pt x="178" y="4"/>
                </a:lnTo>
                <a:lnTo>
                  <a:pt x="191" y="4"/>
                </a:lnTo>
                <a:lnTo>
                  <a:pt x="203" y="2"/>
                </a:lnTo>
                <a:lnTo>
                  <a:pt x="227" y="0"/>
                </a:lnTo>
                <a:lnTo>
                  <a:pt x="254" y="0"/>
                </a:lnTo>
                <a:lnTo>
                  <a:pt x="280" y="0"/>
                </a:lnTo>
                <a:lnTo>
                  <a:pt x="305" y="2"/>
                </a:lnTo>
                <a:lnTo>
                  <a:pt x="317" y="4"/>
                </a:lnTo>
                <a:lnTo>
                  <a:pt x="329" y="4"/>
                </a:lnTo>
                <a:lnTo>
                  <a:pt x="342" y="6"/>
                </a:lnTo>
                <a:lnTo>
                  <a:pt x="353" y="8"/>
                </a:lnTo>
                <a:lnTo>
                  <a:pt x="364" y="10"/>
                </a:lnTo>
                <a:lnTo>
                  <a:pt x="375" y="12"/>
                </a:lnTo>
                <a:lnTo>
                  <a:pt x="385" y="14"/>
                </a:lnTo>
                <a:lnTo>
                  <a:pt x="396" y="17"/>
                </a:lnTo>
                <a:lnTo>
                  <a:pt x="406" y="19"/>
                </a:lnTo>
                <a:lnTo>
                  <a:pt x="416" y="23"/>
                </a:lnTo>
                <a:lnTo>
                  <a:pt x="425" y="25"/>
                </a:lnTo>
                <a:lnTo>
                  <a:pt x="433" y="29"/>
                </a:lnTo>
                <a:lnTo>
                  <a:pt x="443" y="33"/>
                </a:lnTo>
                <a:lnTo>
                  <a:pt x="450" y="35"/>
                </a:lnTo>
                <a:lnTo>
                  <a:pt x="458" y="39"/>
                </a:lnTo>
                <a:lnTo>
                  <a:pt x="465" y="42"/>
                </a:lnTo>
                <a:lnTo>
                  <a:pt x="471" y="46"/>
                </a:lnTo>
                <a:lnTo>
                  <a:pt x="477" y="50"/>
                </a:lnTo>
                <a:lnTo>
                  <a:pt x="483" y="56"/>
                </a:lnTo>
                <a:lnTo>
                  <a:pt x="489" y="60"/>
                </a:lnTo>
                <a:lnTo>
                  <a:pt x="493" y="64"/>
                </a:lnTo>
                <a:lnTo>
                  <a:pt x="497" y="67"/>
                </a:lnTo>
                <a:lnTo>
                  <a:pt x="500" y="73"/>
                </a:lnTo>
                <a:lnTo>
                  <a:pt x="503" y="77"/>
                </a:lnTo>
                <a:lnTo>
                  <a:pt x="505" y="83"/>
                </a:lnTo>
                <a:lnTo>
                  <a:pt x="507" y="87"/>
                </a:lnTo>
                <a:lnTo>
                  <a:pt x="508" y="92"/>
                </a:lnTo>
                <a:lnTo>
                  <a:pt x="50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33960" y="3886200"/>
            <a:ext cx="806400" cy="612720"/>
          </a:xfrm>
          <a:custGeom>
            <a:avLst/>
            <a:gdLst/>
            <a:ahLst/>
            <a:rect l="l" t="t" r="r" b="b"/>
            <a:pathLst>
              <a:path w="508" h="773">
                <a:moveTo>
                  <a:pt x="254" y="0"/>
                </a:moveTo>
                <a:lnTo>
                  <a:pt x="280" y="0"/>
                </a:lnTo>
                <a:lnTo>
                  <a:pt x="305" y="2"/>
                </a:lnTo>
                <a:lnTo>
                  <a:pt x="317" y="4"/>
                </a:lnTo>
                <a:lnTo>
                  <a:pt x="329" y="4"/>
                </a:lnTo>
                <a:lnTo>
                  <a:pt x="342" y="6"/>
                </a:lnTo>
                <a:lnTo>
                  <a:pt x="353" y="8"/>
                </a:lnTo>
                <a:lnTo>
                  <a:pt x="364" y="10"/>
                </a:lnTo>
                <a:lnTo>
                  <a:pt x="375" y="12"/>
                </a:lnTo>
                <a:lnTo>
                  <a:pt x="385" y="14"/>
                </a:lnTo>
                <a:lnTo>
                  <a:pt x="396" y="17"/>
                </a:lnTo>
                <a:lnTo>
                  <a:pt x="406" y="19"/>
                </a:lnTo>
                <a:lnTo>
                  <a:pt x="416" y="23"/>
                </a:lnTo>
                <a:lnTo>
                  <a:pt x="425" y="25"/>
                </a:lnTo>
                <a:lnTo>
                  <a:pt x="433" y="29"/>
                </a:lnTo>
                <a:lnTo>
                  <a:pt x="443" y="33"/>
                </a:lnTo>
                <a:lnTo>
                  <a:pt x="450" y="35"/>
                </a:lnTo>
                <a:lnTo>
                  <a:pt x="458" y="39"/>
                </a:lnTo>
                <a:lnTo>
                  <a:pt x="465" y="42"/>
                </a:lnTo>
                <a:lnTo>
                  <a:pt x="471" y="46"/>
                </a:lnTo>
                <a:lnTo>
                  <a:pt x="477" y="50"/>
                </a:lnTo>
                <a:lnTo>
                  <a:pt x="483" y="56"/>
                </a:lnTo>
                <a:lnTo>
                  <a:pt x="489" y="60"/>
                </a:lnTo>
                <a:lnTo>
                  <a:pt x="493" y="64"/>
                </a:lnTo>
                <a:lnTo>
                  <a:pt x="497" y="67"/>
                </a:lnTo>
                <a:lnTo>
                  <a:pt x="500" y="73"/>
                </a:lnTo>
                <a:lnTo>
                  <a:pt x="503" y="77"/>
                </a:lnTo>
                <a:lnTo>
                  <a:pt x="505" y="83"/>
                </a:lnTo>
                <a:lnTo>
                  <a:pt x="507" y="87"/>
                </a:lnTo>
                <a:lnTo>
                  <a:pt x="508" y="92"/>
                </a:lnTo>
                <a:lnTo>
                  <a:pt x="508" y="96"/>
                </a:lnTo>
                <a:lnTo>
                  <a:pt x="508" y="675"/>
                </a:lnTo>
                <a:lnTo>
                  <a:pt x="508" y="681"/>
                </a:lnTo>
                <a:lnTo>
                  <a:pt x="507" y="685"/>
                </a:lnTo>
                <a:lnTo>
                  <a:pt x="505" y="691"/>
                </a:lnTo>
                <a:lnTo>
                  <a:pt x="503" y="695"/>
                </a:lnTo>
                <a:lnTo>
                  <a:pt x="500" y="700"/>
                </a:lnTo>
                <a:lnTo>
                  <a:pt x="497" y="704"/>
                </a:lnTo>
                <a:lnTo>
                  <a:pt x="493" y="708"/>
                </a:lnTo>
                <a:lnTo>
                  <a:pt x="489" y="714"/>
                </a:lnTo>
                <a:lnTo>
                  <a:pt x="483" y="718"/>
                </a:lnTo>
                <a:lnTo>
                  <a:pt x="477" y="721"/>
                </a:lnTo>
                <a:lnTo>
                  <a:pt x="471" y="725"/>
                </a:lnTo>
                <a:lnTo>
                  <a:pt x="465" y="729"/>
                </a:lnTo>
                <a:lnTo>
                  <a:pt x="458" y="733"/>
                </a:lnTo>
                <a:lnTo>
                  <a:pt x="450" y="737"/>
                </a:lnTo>
                <a:lnTo>
                  <a:pt x="443" y="741"/>
                </a:lnTo>
                <a:lnTo>
                  <a:pt x="433" y="744"/>
                </a:lnTo>
                <a:lnTo>
                  <a:pt x="425" y="748"/>
                </a:lnTo>
                <a:lnTo>
                  <a:pt x="416" y="750"/>
                </a:lnTo>
                <a:lnTo>
                  <a:pt x="406" y="754"/>
                </a:lnTo>
                <a:lnTo>
                  <a:pt x="396" y="756"/>
                </a:lnTo>
                <a:lnTo>
                  <a:pt x="385" y="760"/>
                </a:lnTo>
                <a:lnTo>
                  <a:pt x="375" y="762"/>
                </a:lnTo>
                <a:lnTo>
                  <a:pt x="364" y="764"/>
                </a:lnTo>
                <a:lnTo>
                  <a:pt x="353" y="765"/>
                </a:lnTo>
                <a:lnTo>
                  <a:pt x="342" y="767"/>
                </a:lnTo>
                <a:lnTo>
                  <a:pt x="329" y="769"/>
                </a:lnTo>
                <a:lnTo>
                  <a:pt x="317" y="769"/>
                </a:lnTo>
                <a:lnTo>
                  <a:pt x="305" y="771"/>
                </a:lnTo>
                <a:lnTo>
                  <a:pt x="280" y="773"/>
                </a:lnTo>
                <a:lnTo>
                  <a:pt x="254" y="773"/>
                </a:lnTo>
                <a:lnTo>
                  <a:pt x="227" y="773"/>
                </a:lnTo>
                <a:lnTo>
                  <a:pt x="203" y="771"/>
                </a:lnTo>
                <a:lnTo>
                  <a:pt x="191" y="769"/>
                </a:lnTo>
                <a:lnTo>
                  <a:pt x="178" y="769"/>
                </a:lnTo>
                <a:lnTo>
                  <a:pt x="166" y="767"/>
                </a:lnTo>
                <a:lnTo>
                  <a:pt x="155" y="765"/>
                </a:lnTo>
                <a:lnTo>
                  <a:pt x="144" y="764"/>
                </a:lnTo>
                <a:lnTo>
                  <a:pt x="132" y="762"/>
                </a:lnTo>
                <a:lnTo>
                  <a:pt x="122" y="760"/>
                </a:lnTo>
                <a:lnTo>
                  <a:pt x="112" y="756"/>
                </a:lnTo>
                <a:lnTo>
                  <a:pt x="102" y="754"/>
                </a:lnTo>
                <a:lnTo>
                  <a:pt x="92" y="750"/>
                </a:lnTo>
                <a:lnTo>
                  <a:pt x="82" y="748"/>
                </a:lnTo>
                <a:lnTo>
                  <a:pt x="74" y="744"/>
                </a:lnTo>
                <a:lnTo>
                  <a:pt x="66" y="741"/>
                </a:lnTo>
                <a:lnTo>
                  <a:pt x="58" y="737"/>
                </a:lnTo>
                <a:lnTo>
                  <a:pt x="50" y="733"/>
                </a:lnTo>
                <a:lnTo>
                  <a:pt x="43" y="729"/>
                </a:lnTo>
                <a:lnTo>
                  <a:pt x="36" y="725"/>
                </a:lnTo>
                <a:lnTo>
                  <a:pt x="30" y="721"/>
                </a:lnTo>
                <a:lnTo>
                  <a:pt x="24" y="718"/>
                </a:lnTo>
                <a:lnTo>
                  <a:pt x="20" y="714"/>
                </a:lnTo>
                <a:lnTo>
                  <a:pt x="15" y="708"/>
                </a:lnTo>
                <a:lnTo>
                  <a:pt x="11" y="704"/>
                </a:lnTo>
                <a:lnTo>
                  <a:pt x="8" y="700"/>
                </a:lnTo>
                <a:lnTo>
                  <a:pt x="5" y="695"/>
                </a:lnTo>
                <a:lnTo>
                  <a:pt x="3" y="691"/>
                </a:lnTo>
                <a:lnTo>
                  <a:pt x="1" y="685"/>
                </a:lnTo>
                <a:lnTo>
                  <a:pt x="0" y="681"/>
                </a:lnTo>
                <a:lnTo>
                  <a:pt x="0" y="675"/>
                </a:lnTo>
                <a:lnTo>
                  <a:pt x="0" y="96"/>
                </a:lnTo>
                <a:lnTo>
                  <a:pt x="0" y="92"/>
                </a:lnTo>
                <a:lnTo>
                  <a:pt x="1" y="87"/>
                </a:lnTo>
                <a:lnTo>
                  <a:pt x="3" y="83"/>
                </a:lnTo>
                <a:lnTo>
                  <a:pt x="5" y="77"/>
                </a:lnTo>
                <a:lnTo>
                  <a:pt x="8" y="73"/>
                </a:lnTo>
                <a:lnTo>
                  <a:pt x="11" y="67"/>
                </a:lnTo>
                <a:lnTo>
                  <a:pt x="15" y="64"/>
                </a:lnTo>
                <a:lnTo>
                  <a:pt x="20" y="60"/>
                </a:lnTo>
                <a:lnTo>
                  <a:pt x="24" y="56"/>
                </a:lnTo>
                <a:lnTo>
                  <a:pt x="30" y="50"/>
                </a:lnTo>
                <a:lnTo>
                  <a:pt x="36" y="46"/>
                </a:lnTo>
                <a:lnTo>
                  <a:pt x="43" y="42"/>
                </a:lnTo>
                <a:lnTo>
                  <a:pt x="50" y="39"/>
                </a:lnTo>
                <a:lnTo>
                  <a:pt x="58" y="35"/>
                </a:lnTo>
                <a:lnTo>
                  <a:pt x="66" y="33"/>
                </a:lnTo>
                <a:lnTo>
                  <a:pt x="74" y="29"/>
                </a:lnTo>
                <a:lnTo>
                  <a:pt x="82" y="25"/>
                </a:lnTo>
                <a:lnTo>
                  <a:pt x="92" y="23"/>
                </a:lnTo>
                <a:lnTo>
                  <a:pt x="102" y="19"/>
                </a:lnTo>
                <a:lnTo>
                  <a:pt x="112" y="17"/>
                </a:lnTo>
                <a:lnTo>
                  <a:pt x="122" y="14"/>
                </a:lnTo>
                <a:lnTo>
                  <a:pt x="132" y="12"/>
                </a:lnTo>
                <a:lnTo>
                  <a:pt x="144" y="10"/>
                </a:lnTo>
                <a:lnTo>
                  <a:pt x="155" y="8"/>
                </a:lnTo>
                <a:lnTo>
                  <a:pt x="166" y="6"/>
                </a:lnTo>
                <a:lnTo>
                  <a:pt x="178" y="4"/>
                </a:lnTo>
                <a:lnTo>
                  <a:pt x="191" y="4"/>
                </a:lnTo>
                <a:lnTo>
                  <a:pt x="203" y="2"/>
                </a:lnTo>
                <a:lnTo>
                  <a:pt x="227" y="0"/>
                </a:lnTo>
                <a:lnTo>
                  <a:pt x="254" y="0"/>
                </a:lnTo>
                <a:lnTo>
                  <a:pt x="2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33960" y="3962520"/>
            <a:ext cx="806400" cy="75960"/>
          </a:xfrm>
          <a:custGeom>
            <a:avLst/>
            <a:gdLst/>
            <a:ahLst/>
            <a:rect l="l" t="t" r="r" b="b"/>
            <a:pathLst>
              <a:path w="508" h="98">
                <a:moveTo>
                  <a:pt x="508" y="0"/>
                </a:moveTo>
                <a:lnTo>
                  <a:pt x="508" y="6"/>
                </a:lnTo>
                <a:lnTo>
                  <a:pt x="507" y="10"/>
                </a:lnTo>
                <a:lnTo>
                  <a:pt x="505" y="15"/>
                </a:lnTo>
                <a:lnTo>
                  <a:pt x="503" y="19"/>
                </a:lnTo>
                <a:lnTo>
                  <a:pt x="500" y="25"/>
                </a:lnTo>
                <a:lnTo>
                  <a:pt x="497" y="29"/>
                </a:lnTo>
                <a:lnTo>
                  <a:pt x="493" y="33"/>
                </a:lnTo>
                <a:lnTo>
                  <a:pt x="489" y="38"/>
                </a:lnTo>
                <a:lnTo>
                  <a:pt x="483" y="42"/>
                </a:lnTo>
                <a:lnTo>
                  <a:pt x="477" y="46"/>
                </a:lnTo>
                <a:lnTo>
                  <a:pt x="471" y="50"/>
                </a:lnTo>
                <a:lnTo>
                  <a:pt x="465" y="54"/>
                </a:lnTo>
                <a:lnTo>
                  <a:pt x="458" y="58"/>
                </a:lnTo>
                <a:lnTo>
                  <a:pt x="450" y="61"/>
                </a:lnTo>
                <a:lnTo>
                  <a:pt x="443" y="65"/>
                </a:lnTo>
                <a:lnTo>
                  <a:pt x="433" y="69"/>
                </a:lnTo>
                <a:lnTo>
                  <a:pt x="425" y="73"/>
                </a:lnTo>
                <a:lnTo>
                  <a:pt x="416" y="75"/>
                </a:lnTo>
                <a:lnTo>
                  <a:pt x="406" y="79"/>
                </a:lnTo>
                <a:lnTo>
                  <a:pt x="396" y="81"/>
                </a:lnTo>
                <a:lnTo>
                  <a:pt x="385" y="85"/>
                </a:lnTo>
                <a:lnTo>
                  <a:pt x="375" y="86"/>
                </a:lnTo>
                <a:lnTo>
                  <a:pt x="364" y="88"/>
                </a:lnTo>
                <a:lnTo>
                  <a:pt x="353" y="90"/>
                </a:lnTo>
                <a:lnTo>
                  <a:pt x="342" y="92"/>
                </a:lnTo>
                <a:lnTo>
                  <a:pt x="329" y="94"/>
                </a:lnTo>
                <a:lnTo>
                  <a:pt x="317" y="94"/>
                </a:lnTo>
                <a:lnTo>
                  <a:pt x="305" y="96"/>
                </a:lnTo>
                <a:lnTo>
                  <a:pt x="280" y="98"/>
                </a:lnTo>
                <a:lnTo>
                  <a:pt x="254" y="98"/>
                </a:lnTo>
                <a:lnTo>
                  <a:pt x="227" y="98"/>
                </a:lnTo>
                <a:lnTo>
                  <a:pt x="203" y="96"/>
                </a:lnTo>
                <a:lnTo>
                  <a:pt x="191" y="94"/>
                </a:lnTo>
                <a:lnTo>
                  <a:pt x="178" y="94"/>
                </a:lnTo>
                <a:lnTo>
                  <a:pt x="166" y="92"/>
                </a:lnTo>
                <a:lnTo>
                  <a:pt x="155" y="90"/>
                </a:lnTo>
                <a:lnTo>
                  <a:pt x="144" y="88"/>
                </a:lnTo>
                <a:lnTo>
                  <a:pt x="132" y="86"/>
                </a:lnTo>
                <a:lnTo>
                  <a:pt x="122" y="85"/>
                </a:lnTo>
                <a:lnTo>
                  <a:pt x="112" y="81"/>
                </a:lnTo>
                <a:lnTo>
                  <a:pt x="102" y="79"/>
                </a:lnTo>
                <a:lnTo>
                  <a:pt x="92" y="75"/>
                </a:lnTo>
                <a:lnTo>
                  <a:pt x="82" y="73"/>
                </a:lnTo>
                <a:lnTo>
                  <a:pt x="74" y="69"/>
                </a:lnTo>
                <a:lnTo>
                  <a:pt x="66" y="65"/>
                </a:lnTo>
                <a:lnTo>
                  <a:pt x="58" y="61"/>
                </a:lnTo>
                <a:lnTo>
                  <a:pt x="50" y="58"/>
                </a:lnTo>
                <a:lnTo>
                  <a:pt x="43" y="54"/>
                </a:lnTo>
                <a:lnTo>
                  <a:pt x="36" y="50"/>
                </a:lnTo>
                <a:lnTo>
                  <a:pt x="30" y="46"/>
                </a:lnTo>
                <a:lnTo>
                  <a:pt x="24" y="42"/>
                </a:lnTo>
                <a:lnTo>
                  <a:pt x="20" y="38"/>
                </a:lnTo>
                <a:lnTo>
                  <a:pt x="15" y="33"/>
                </a:lnTo>
                <a:lnTo>
                  <a:pt x="11" y="29"/>
                </a:lnTo>
                <a:lnTo>
                  <a:pt x="8" y="25"/>
                </a:lnTo>
                <a:lnTo>
                  <a:pt x="5" y="19"/>
                </a:lnTo>
                <a:lnTo>
                  <a:pt x="3" y="15"/>
                </a:lnTo>
                <a:lnTo>
                  <a:pt x="1" y="1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76360" y="5113440"/>
            <a:ext cx="1925640" cy="579240"/>
          </a:xfrm>
          <a:custGeom>
            <a:avLst/>
            <a:gdLst/>
            <a:ahLst/>
            <a:rect l="l" t="t" r="r" b="b"/>
            <a:pathLst>
              <a:path w="1213" h="729">
                <a:moveTo>
                  <a:pt x="607" y="0"/>
                </a:moveTo>
                <a:lnTo>
                  <a:pt x="638" y="0"/>
                </a:lnTo>
                <a:lnTo>
                  <a:pt x="669" y="2"/>
                </a:lnTo>
                <a:lnTo>
                  <a:pt x="698" y="4"/>
                </a:lnTo>
                <a:lnTo>
                  <a:pt x="729" y="8"/>
                </a:lnTo>
                <a:lnTo>
                  <a:pt x="758" y="12"/>
                </a:lnTo>
                <a:lnTo>
                  <a:pt x="787" y="17"/>
                </a:lnTo>
                <a:lnTo>
                  <a:pt x="815" y="23"/>
                </a:lnTo>
                <a:lnTo>
                  <a:pt x="842" y="29"/>
                </a:lnTo>
                <a:lnTo>
                  <a:pt x="870" y="36"/>
                </a:lnTo>
                <a:lnTo>
                  <a:pt x="895" y="44"/>
                </a:lnTo>
                <a:lnTo>
                  <a:pt x="921" y="54"/>
                </a:lnTo>
                <a:lnTo>
                  <a:pt x="945" y="61"/>
                </a:lnTo>
                <a:lnTo>
                  <a:pt x="969" y="73"/>
                </a:lnTo>
                <a:lnTo>
                  <a:pt x="992" y="82"/>
                </a:lnTo>
                <a:lnTo>
                  <a:pt x="1014" y="94"/>
                </a:lnTo>
                <a:lnTo>
                  <a:pt x="1035" y="107"/>
                </a:lnTo>
                <a:lnTo>
                  <a:pt x="1056" y="119"/>
                </a:lnTo>
                <a:lnTo>
                  <a:pt x="1065" y="127"/>
                </a:lnTo>
                <a:lnTo>
                  <a:pt x="1074" y="132"/>
                </a:lnTo>
                <a:lnTo>
                  <a:pt x="1083" y="140"/>
                </a:lnTo>
                <a:lnTo>
                  <a:pt x="1092" y="146"/>
                </a:lnTo>
                <a:lnTo>
                  <a:pt x="1100" y="153"/>
                </a:lnTo>
                <a:lnTo>
                  <a:pt x="1110" y="161"/>
                </a:lnTo>
                <a:lnTo>
                  <a:pt x="1117" y="169"/>
                </a:lnTo>
                <a:lnTo>
                  <a:pt x="1125" y="175"/>
                </a:lnTo>
                <a:lnTo>
                  <a:pt x="1132" y="182"/>
                </a:lnTo>
                <a:lnTo>
                  <a:pt x="1139" y="190"/>
                </a:lnTo>
                <a:lnTo>
                  <a:pt x="1146" y="198"/>
                </a:lnTo>
                <a:lnTo>
                  <a:pt x="1153" y="207"/>
                </a:lnTo>
                <a:lnTo>
                  <a:pt x="1160" y="215"/>
                </a:lnTo>
                <a:lnTo>
                  <a:pt x="1165" y="222"/>
                </a:lnTo>
                <a:lnTo>
                  <a:pt x="1171" y="230"/>
                </a:lnTo>
                <a:lnTo>
                  <a:pt x="1176" y="240"/>
                </a:lnTo>
                <a:lnTo>
                  <a:pt x="1181" y="247"/>
                </a:lnTo>
                <a:lnTo>
                  <a:pt x="1185" y="255"/>
                </a:lnTo>
                <a:lnTo>
                  <a:pt x="1189" y="265"/>
                </a:lnTo>
                <a:lnTo>
                  <a:pt x="1193" y="274"/>
                </a:lnTo>
                <a:lnTo>
                  <a:pt x="1197" y="282"/>
                </a:lnTo>
                <a:lnTo>
                  <a:pt x="1200" y="292"/>
                </a:lnTo>
                <a:lnTo>
                  <a:pt x="1204" y="299"/>
                </a:lnTo>
                <a:lnTo>
                  <a:pt x="1206" y="309"/>
                </a:lnTo>
                <a:lnTo>
                  <a:pt x="1208" y="318"/>
                </a:lnTo>
                <a:lnTo>
                  <a:pt x="1210" y="328"/>
                </a:lnTo>
                <a:lnTo>
                  <a:pt x="1211" y="336"/>
                </a:lnTo>
                <a:lnTo>
                  <a:pt x="1212" y="345"/>
                </a:lnTo>
                <a:lnTo>
                  <a:pt x="1213" y="355"/>
                </a:lnTo>
                <a:lnTo>
                  <a:pt x="1213" y="364"/>
                </a:lnTo>
                <a:lnTo>
                  <a:pt x="1213" y="374"/>
                </a:lnTo>
                <a:lnTo>
                  <a:pt x="1212" y="384"/>
                </a:lnTo>
                <a:lnTo>
                  <a:pt x="1211" y="393"/>
                </a:lnTo>
                <a:lnTo>
                  <a:pt x="1210" y="401"/>
                </a:lnTo>
                <a:lnTo>
                  <a:pt x="1208" y="410"/>
                </a:lnTo>
                <a:lnTo>
                  <a:pt x="1206" y="420"/>
                </a:lnTo>
                <a:lnTo>
                  <a:pt x="1204" y="430"/>
                </a:lnTo>
                <a:lnTo>
                  <a:pt x="1200" y="437"/>
                </a:lnTo>
                <a:lnTo>
                  <a:pt x="1197" y="447"/>
                </a:lnTo>
                <a:lnTo>
                  <a:pt x="1193" y="456"/>
                </a:lnTo>
                <a:lnTo>
                  <a:pt x="1189" y="464"/>
                </a:lnTo>
                <a:lnTo>
                  <a:pt x="1185" y="474"/>
                </a:lnTo>
                <a:lnTo>
                  <a:pt x="1181" y="481"/>
                </a:lnTo>
                <a:lnTo>
                  <a:pt x="1176" y="489"/>
                </a:lnTo>
                <a:lnTo>
                  <a:pt x="1171" y="499"/>
                </a:lnTo>
                <a:lnTo>
                  <a:pt x="1165" y="506"/>
                </a:lnTo>
                <a:lnTo>
                  <a:pt x="1160" y="514"/>
                </a:lnTo>
                <a:lnTo>
                  <a:pt x="1153" y="522"/>
                </a:lnTo>
                <a:lnTo>
                  <a:pt x="1146" y="531"/>
                </a:lnTo>
                <a:lnTo>
                  <a:pt x="1139" y="539"/>
                </a:lnTo>
                <a:lnTo>
                  <a:pt x="1132" y="547"/>
                </a:lnTo>
                <a:lnTo>
                  <a:pt x="1125" y="554"/>
                </a:lnTo>
                <a:lnTo>
                  <a:pt x="1117" y="560"/>
                </a:lnTo>
                <a:lnTo>
                  <a:pt x="1110" y="568"/>
                </a:lnTo>
                <a:lnTo>
                  <a:pt x="1100" y="575"/>
                </a:lnTo>
                <a:lnTo>
                  <a:pt x="1092" y="583"/>
                </a:lnTo>
                <a:lnTo>
                  <a:pt x="1083" y="589"/>
                </a:lnTo>
                <a:lnTo>
                  <a:pt x="1074" y="596"/>
                </a:lnTo>
                <a:lnTo>
                  <a:pt x="1065" y="602"/>
                </a:lnTo>
                <a:lnTo>
                  <a:pt x="1056" y="610"/>
                </a:lnTo>
                <a:lnTo>
                  <a:pt x="1035" y="621"/>
                </a:lnTo>
                <a:lnTo>
                  <a:pt x="1014" y="635"/>
                </a:lnTo>
                <a:lnTo>
                  <a:pt x="992" y="646"/>
                </a:lnTo>
                <a:lnTo>
                  <a:pt x="969" y="656"/>
                </a:lnTo>
                <a:lnTo>
                  <a:pt x="945" y="667"/>
                </a:lnTo>
                <a:lnTo>
                  <a:pt x="921" y="675"/>
                </a:lnTo>
                <a:lnTo>
                  <a:pt x="895" y="685"/>
                </a:lnTo>
                <a:lnTo>
                  <a:pt x="870" y="692"/>
                </a:lnTo>
                <a:lnTo>
                  <a:pt x="842" y="700"/>
                </a:lnTo>
                <a:lnTo>
                  <a:pt x="815" y="706"/>
                </a:lnTo>
                <a:lnTo>
                  <a:pt x="787" y="712"/>
                </a:lnTo>
                <a:lnTo>
                  <a:pt x="758" y="717"/>
                </a:lnTo>
                <a:lnTo>
                  <a:pt x="729" y="721"/>
                </a:lnTo>
                <a:lnTo>
                  <a:pt x="698" y="725"/>
                </a:lnTo>
                <a:lnTo>
                  <a:pt x="669" y="727"/>
                </a:lnTo>
                <a:lnTo>
                  <a:pt x="638" y="729"/>
                </a:lnTo>
                <a:lnTo>
                  <a:pt x="607" y="729"/>
                </a:lnTo>
                <a:lnTo>
                  <a:pt x="575" y="729"/>
                </a:lnTo>
                <a:lnTo>
                  <a:pt x="544" y="727"/>
                </a:lnTo>
                <a:lnTo>
                  <a:pt x="515" y="725"/>
                </a:lnTo>
                <a:lnTo>
                  <a:pt x="484" y="721"/>
                </a:lnTo>
                <a:lnTo>
                  <a:pt x="455" y="717"/>
                </a:lnTo>
                <a:lnTo>
                  <a:pt x="426" y="712"/>
                </a:lnTo>
                <a:lnTo>
                  <a:pt x="398" y="706"/>
                </a:lnTo>
                <a:lnTo>
                  <a:pt x="371" y="700"/>
                </a:lnTo>
                <a:lnTo>
                  <a:pt x="344" y="692"/>
                </a:lnTo>
                <a:lnTo>
                  <a:pt x="318" y="685"/>
                </a:lnTo>
                <a:lnTo>
                  <a:pt x="292" y="677"/>
                </a:lnTo>
                <a:lnTo>
                  <a:pt x="268" y="667"/>
                </a:lnTo>
                <a:lnTo>
                  <a:pt x="244" y="656"/>
                </a:lnTo>
                <a:lnTo>
                  <a:pt x="221" y="646"/>
                </a:lnTo>
                <a:lnTo>
                  <a:pt x="199" y="635"/>
                </a:lnTo>
                <a:lnTo>
                  <a:pt x="178" y="621"/>
                </a:lnTo>
                <a:lnTo>
                  <a:pt x="157" y="610"/>
                </a:lnTo>
                <a:lnTo>
                  <a:pt x="148" y="602"/>
                </a:lnTo>
                <a:lnTo>
                  <a:pt x="139" y="596"/>
                </a:lnTo>
                <a:lnTo>
                  <a:pt x="130" y="589"/>
                </a:lnTo>
                <a:lnTo>
                  <a:pt x="121" y="583"/>
                </a:lnTo>
                <a:lnTo>
                  <a:pt x="113" y="575"/>
                </a:lnTo>
                <a:lnTo>
                  <a:pt x="103" y="568"/>
                </a:lnTo>
                <a:lnTo>
                  <a:pt x="96" y="560"/>
                </a:lnTo>
                <a:lnTo>
                  <a:pt x="88" y="554"/>
                </a:lnTo>
                <a:lnTo>
                  <a:pt x="81" y="547"/>
                </a:lnTo>
                <a:lnTo>
                  <a:pt x="74" y="539"/>
                </a:lnTo>
                <a:lnTo>
                  <a:pt x="67" y="531"/>
                </a:lnTo>
                <a:lnTo>
                  <a:pt x="61" y="522"/>
                </a:lnTo>
                <a:lnTo>
                  <a:pt x="54" y="514"/>
                </a:lnTo>
                <a:lnTo>
                  <a:pt x="48" y="506"/>
                </a:lnTo>
                <a:lnTo>
                  <a:pt x="42" y="499"/>
                </a:lnTo>
                <a:lnTo>
                  <a:pt x="37" y="489"/>
                </a:lnTo>
                <a:lnTo>
                  <a:pt x="32" y="481"/>
                </a:lnTo>
                <a:lnTo>
                  <a:pt x="28" y="474"/>
                </a:lnTo>
                <a:lnTo>
                  <a:pt x="24" y="464"/>
                </a:lnTo>
                <a:lnTo>
                  <a:pt x="20" y="456"/>
                </a:lnTo>
                <a:lnTo>
                  <a:pt x="16" y="447"/>
                </a:lnTo>
                <a:lnTo>
                  <a:pt x="13" y="437"/>
                </a:lnTo>
                <a:lnTo>
                  <a:pt x="10" y="430"/>
                </a:lnTo>
                <a:lnTo>
                  <a:pt x="7" y="420"/>
                </a:lnTo>
                <a:lnTo>
                  <a:pt x="5" y="410"/>
                </a:lnTo>
                <a:lnTo>
                  <a:pt x="3" y="401"/>
                </a:lnTo>
                <a:lnTo>
                  <a:pt x="2" y="393"/>
                </a:lnTo>
                <a:lnTo>
                  <a:pt x="1" y="384"/>
                </a:lnTo>
                <a:lnTo>
                  <a:pt x="0" y="374"/>
                </a:lnTo>
                <a:lnTo>
                  <a:pt x="0" y="364"/>
                </a:lnTo>
                <a:lnTo>
                  <a:pt x="0" y="355"/>
                </a:lnTo>
                <a:lnTo>
                  <a:pt x="1" y="345"/>
                </a:lnTo>
                <a:lnTo>
                  <a:pt x="2" y="336"/>
                </a:lnTo>
                <a:lnTo>
                  <a:pt x="3" y="328"/>
                </a:lnTo>
                <a:lnTo>
                  <a:pt x="5" y="318"/>
                </a:lnTo>
                <a:lnTo>
                  <a:pt x="7" y="309"/>
                </a:lnTo>
                <a:lnTo>
                  <a:pt x="10" y="299"/>
                </a:lnTo>
                <a:lnTo>
                  <a:pt x="13" y="292"/>
                </a:lnTo>
                <a:lnTo>
                  <a:pt x="16" y="282"/>
                </a:lnTo>
                <a:lnTo>
                  <a:pt x="20" y="274"/>
                </a:lnTo>
                <a:lnTo>
                  <a:pt x="24" y="265"/>
                </a:lnTo>
                <a:lnTo>
                  <a:pt x="28" y="255"/>
                </a:lnTo>
                <a:lnTo>
                  <a:pt x="32" y="247"/>
                </a:lnTo>
                <a:lnTo>
                  <a:pt x="37" y="240"/>
                </a:lnTo>
                <a:lnTo>
                  <a:pt x="42" y="230"/>
                </a:lnTo>
                <a:lnTo>
                  <a:pt x="48" y="222"/>
                </a:lnTo>
                <a:lnTo>
                  <a:pt x="54" y="215"/>
                </a:lnTo>
                <a:lnTo>
                  <a:pt x="61" y="207"/>
                </a:lnTo>
                <a:lnTo>
                  <a:pt x="67" y="198"/>
                </a:lnTo>
                <a:lnTo>
                  <a:pt x="74" y="190"/>
                </a:lnTo>
                <a:lnTo>
                  <a:pt x="81" y="182"/>
                </a:lnTo>
                <a:lnTo>
                  <a:pt x="88" y="175"/>
                </a:lnTo>
                <a:lnTo>
                  <a:pt x="96" y="169"/>
                </a:lnTo>
                <a:lnTo>
                  <a:pt x="103" y="161"/>
                </a:lnTo>
                <a:lnTo>
                  <a:pt x="113" y="153"/>
                </a:lnTo>
                <a:lnTo>
                  <a:pt x="121" y="146"/>
                </a:lnTo>
                <a:lnTo>
                  <a:pt x="130" y="140"/>
                </a:lnTo>
                <a:lnTo>
                  <a:pt x="139" y="132"/>
                </a:lnTo>
                <a:lnTo>
                  <a:pt x="148" y="127"/>
                </a:lnTo>
                <a:lnTo>
                  <a:pt x="157" y="119"/>
                </a:lnTo>
                <a:lnTo>
                  <a:pt x="178" y="107"/>
                </a:lnTo>
                <a:lnTo>
                  <a:pt x="199" y="94"/>
                </a:lnTo>
                <a:lnTo>
                  <a:pt x="221" y="82"/>
                </a:lnTo>
                <a:lnTo>
                  <a:pt x="244" y="73"/>
                </a:lnTo>
                <a:lnTo>
                  <a:pt x="268" y="61"/>
                </a:lnTo>
                <a:lnTo>
                  <a:pt x="292" y="52"/>
                </a:lnTo>
                <a:lnTo>
                  <a:pt x="318" y="44"/>
                </a:lnTo>
                <a:lnTo>
                  <a:pt x="344" y="36"/>
                </a:lnTo>
                <a:lnTo>
                  <a:pt x="371" y="29"/>
                </a:lnTo>
                <a:lnTo>
                  <a:pt x="398" y="21"/>
                </a:lnTo>
                <a:lnTo>
                  <a:pt x="426" y="15"/>
                </a:lnTo>
                <a:lnTo>
                  <a:pt x="455" y="12"/>
                </a:lnTo>
                <a:lnTo>
                  <a:pt x="484" y="8"/>
                </a:lnTo>
                <a:lnTo>
                  <a:pt x="515" y="4"/>
                </a:lnTo>
                <a:lnTo>
                  <a:pt x="544" y="2"/>
                </a:lnTo>
                <a:lnTo>
                  <a:pt x="575" y="0"/>
                </a:lnTo>
                <a:lnTo>
                  <a:pt x="607" y="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5113440"/>
            <a:ext cx="1925640" cy="579240"/>
          </a:xfrm>
          <a:custGeom>
            <a:avLst/>
            <a:gdLst/>
            <a:ahLst/>
            <a:rect l="l" t="t" r="r" b="b"/>
            <a:pathLst>
              <a:path w="1213" h="729">
                <a:moveTo>
                  <a:pt x="607" y="0"/>
                </a:moveTo>
                <a:lnTo>
                  <a:pt x="638" y="0"/>
                </a:lnTo>
                <a:lnTo>
                  <a:pt x="669" y="2"/>
                </a:lnTo>
                <a:lnTo>
                  <a:pt x="698" y="4"/>
                </a:lnTo>
                <a:lnTo>
                  <a:pt x="729" y="8"/>
                </a:lnTo>
                <a:lnTo>
                  <a:pt x="758" y="12"/>
                </a:lnTo>
                <a:lnTo>
                  <a:pt x="787" y="17"/>
                </a:lnTo>
                <a:lnTo>
                  <a:pt x="815" y="23"/>
                </a:lnTo>
                <a:lnTo>
                  <a:pt x="842" y="29"/>
                </a:lnTo>
                <a:lnTo>
                  <a:pt x="870" y="36"/>
                </a:lnTo>
                <a:lnTo>
                  <a:pt x="895" y="44"/>
                </a:lnTo>
                <a:lnTo>
                  <a:pt x="921" y="54"/>
                </a:lnTo>
                <a:lnTo>
                  <a:pt x="945" y="61"/>
                </a:lnTo>
                <a:lnTo>
                  <a:pt x="969" y="73"/>
                </a:lnTo>
                <a:lnTo>
                  <a:pt x="992" y="82"/>
                </a:lnTo>
                <a:lnTo>
                  <a:pt x="1014" y="94"/>
                </a:lnTo>
                <a:lnTo>
                  <a:pt x="1035" y="107"/>
                </a:lnTo>
                <a:lnTo>
                  <a:pt x="1056" y="119"/>
                </a:lnTo>
                <a:lnTo>
                  <a:pt x="1065" y="127"/>
                </a:lnTo>
                <a:lnTo>
                  <a:pt x="1074" y="132"/>
                </a:lnTo>
                <a:lnTo>
                  <a:pt x="1083" y="140"/>
                </a:lnTo>
                <a:lnTo>
                  <a:pt x="1092" y="146"/>
                </a:lnTo>
                <a:lnTo>
                  <a:pt x="1100" y="153"/>
                </a:lnTo>
                <a:lnTo>
                  <a:pt x="1110" y="161"/>
                </a:lnTo>
                <a:lnTo>
                  <a:pt x="1117" y="169"/>
                </a:lnTo>
                <a:lnTo>
                  <a:pt x="1125" y="175"/>
                </a:lnTo>
                <a:lnTo>
                  <a:pt x="1132" y="182"/>
                </a:lnTo>
                <a:lnTo>
                  <a:pt x="1139" y="190"/>
                </a:lnTo>
                <a:lnTo>
                  <a:pt x="1146" y="198"/>
                </a:lnTo>
                <a:lnTo>
                  <a:pt x="1153" y="207"/>
                </a:lnTo>
                <a:lnTo>
                  <a:pt x="1160" y="215"/>
                </a:lnTo>
                <a:lnTo>
                  <a:pt x="1165" y="222"/>
                </a:lnTo>
                <a:lnTo>
                  <a:pt x="1171" y="230"/>
                </a:lnTo>
                <a:lnTo>
                  <a:pt x="1176" y="240"/>
                </a:lnTo>
                <a:lnTo>
                  <a:pt x="1181" y="247"/>
                </a:lnTo>
                <a:lnTo>
                  <a:pt x="1185" y="255"/>
                </a:lnTo>
                <a:lnTo>
                  <a:pt x="1189" y="265"/>
                </a:lnTo>
                <a:lnTo>
                  <a:pt x="1193" y="274"/>
                </a:lnTo>
                <a:lnTo>
                  <a:pt x="1197" y="282"/>
                </a:lnTo>
                <a:lnTo>
                  <a:pt x="1200" y="292"/>
                </a:lnTo>
                <a:lnTo>
                  <a:pt x="1204" y="299"/>
                </a:lnTo>
                <a:lnTo>
                  <a:pt x="1206" y="309"/>
                </a:lnTo>
                <a:lnTo>
                  <a:pt x="1208" y="318"/>
                </a:lnTo>
                <a:lnTo>
                  <a:pt x="1210" y="328"/>
                </a:lnTo>
                <a:lnTo>
                  <a:pt x="1211" y="336"/>
                </a:lnTo>
                <a:lnTo>
                  <a:pt x="1212" y="345"/>
                </a:lnTo>
                <a:lnTo>
                  <a:pt x="1213" y="355"/>
                </a:lnTo>
                <a:lnTo>
                  <a:pt x="1213" y="364"/>
                </a:lnTo>
                <a:lnTo>
                  <a:pt x="1213" y="374"/>
                </a:lnTo>
                <a:lnTo>
                  <a:pt x="1212" y="384"/>
                </a:lnTo>
                <a:lnTo>
                  <a:pt x="1211" y="393"/>
                </a:lnTo>
                <a:lnTo>
                  <a:pt x="1210" y="401"/>
                </a:lnTo>
                <a:lnTo>
                  <a:pt x="1208" y="410"/>
                </a:lnTo>
                <a:lnTo>
                  <a:pt x="1206" y="420"/>
                </a:lnTo>
                <a:lnTo>
                  <a:pt x="1204" y="430"/>
                </a:lnTo>
                <a:lnTo>
                  <a:pt x="1200" y="437"/>
                </a:lnTo>
                <a:lnTo>
                  <a:pt x="1197" y="447"/>
                </a:lnTo>
                <a:lnTo>
                  <a:pt x="1193" y="456"/>
                </a:lnTo>
                <a:lnTo>
                  <a:pt x="1189" y="464"/>
                </a:lnTo>
                <a:lnTo>
                  <a:pt x="1185" y="474"/>
                </a:lnTo>
                <a:lnTo>
                  <a:pt x="1181" y="481"/>
                </a:lnTo>
                <a:lnTo>
                  <a:pt x="1176" y="489"/>
                </a:lnTo>
                <a:lnTo>
                  <a:pt x="1171" y="499"/>
                </a:lnTo>
                <a:lnTo>
                  <a:pt x="1165" y="506"/>
                </a:lnTo>
                <a:lnTo>
                  <a:pt x="1160" y="514"/>
                </a:lnTo>
                <a:lnTo>
                  <a:pt x="1153" y="522"/>
                </a:lnTo>
                <a:lnTo>
                  <a:pt x="1146" y="531"/>
                </a:lnTo>
                <a:lnTo>
                  <a:pt x="1139" y="539"/>
                </a:lnTo>
                <a:lnTo>
                  <a:pt x="1132" y="547"/>
                </a:lnTo>
                <a:lnTo>
                  <a:pt x="1125" y="554"/>
                </a:lnTo>
                <a:lnTo>
                  <a:pt x="1117" y="560"/>
                </a:lnTo>
                <a:lnTo>
                  <a:pt x="1110" y="568"/>
                </a:lnTo>
                <a:lnTo>
                  <a:pt x="1100" y="575"/>
                </a:lnTo>
                <a:lnTo>
                  <a:pt x="1092" y="583"/>
                </a:lnTo>
                <a:lnTo>
                  <a:pt x="1083" y="589"/>
                </a:lnTo>
                <a:lnTo>
                  <a:pt x="1074" y="596"/>
                </a:lnTo>
                <a:lnTo>
                  <a:pt x="1065" y="602"/>
                </a:lnTo>
                <a:lnTo>
                  <a:pt x="1056" y="610"/>
                </a:lnTo>
                <a:lnTo>
                  <a:pt x="1035" y="621"/>
                </a:lnTo>
                <a:lnTo>
                  <a:pt x="1014" y="635"/>
                </a:lnTo>
                <a:lnTo>
                  <a:pt x="992" y="646"/>
                </a:lnTo>
                <a:lnTo>
                  <a:pt x="969" y="656"/>
                </a:lnTo>
                <a:lnTo>
                  <a:pt x="945" y="667"/>
                </a:lnTo>
                <a:lnTo>
                  <a:pt x="921" y="675"/>
                </a:lnTo>
                <a:lnTo>
                  <a:pt x="895" y="685"/>
                </a:lnTo>
                <a:lnTo>
                  <a:pt x="870" y="692"/>
                </a:lnTo>
                <a:lnTo>
                  <a:pt x="842" y="700"/>
                </a:lnTo>
                <a:lnTo>
                  <a:pt x="815" y="706"/>
                </a:lnTo>
                <a:lnTo>
                  <a:pt x="787" y="712"/>
                </a:lnTo>
                <a:lnTo>
                  <a:pt x="758" y="717"/>
                </a:lnTo>
                <a:lnTo>
                  <a:pt x="729" y="721"/>
                </a:lnTo>
                <a:lnTo>
                  <a:pt x="698" y="725"/>
                </a:lnTo>
                <a:lnTo>
                  <a:pt x="669" y="727"/>
                </a:lnTo>
                <a:lnTo>
                  <a:pt x="638" y="729"/>
                </a:lnTo>
                <a:lnTo>
                  <a:pt x="607" y="729"/>
                </a:lnTo>
                <a:lnTo>
                  <a:pt x="575" y="729"/>
                </a:lnTo>
                <a:lnTo>
                  <a:pt x="544" y="727"/>
                </a:lnTo>
                <a:lnTo>
                  <a:pt x="515" y="725"/>
                </a:lnTo>
                <a:lnTo>
                  <a:pt x="484" y="721"/>
                </a:lnTo>
                <a:lnTo>
                  <a:pt x="455" y="717"/>
                </a:lnTo>
                <a:lnTo>
                  <a:pt x="426" y="712"/>
                </a:lnTo>
                <a:lnTo>
                  <a:pt x="398" y="706"/>
                </a:lnTo>
                <a:lnTo>
                  <a:pt x="371" y="700"/>
                </a:lnTo>
                <a:lnTo>
                  <a:pt x="344" y="692"/>
                </a:lnTo>
                <a:lnTo>
                  <a:pt x="318" y="685"/>
                </a:lnTo>
                <a:lnTo>
                  <a:pt x="292" y="677"/>
                </a:lnTo>
                <a:lnTo>
                  <a:pt x="268" y="667"/>
                </a:lnTo>
                <a:lnTo>
                  <a:pt x="244" y="656"/>
                </a:lnTo>
                <a:lnTo>
                  <a:pt x="221" y="646"/>
                </a:lnTo>
                <a:lnTo>
                  <a:pt x="199" y="635"/>
                </a:lnTo>
                <a:lnTo>
                  <a:pt x="178" y="621"/>
                </a:lnTo>
                <a:lnTo>
                  <a:pt x="157" y="610"/>
                </a:lnTo>
                <a:lnTo>
                  <a:pt x="148" y="602"/>
                </a:lnTo>
                <a:lnTo>
                  <a:pt x="139" y="596"/>
                </a:lnTo>
                <a:lnTo>
                  <a:pt x="130" y="589"/>
                </a:lnTo>
                <a:lnTo>
                  <a:pt x="121" y="583"/>
                </a:lnTo>
                <a:lnTo>
                  <a:pt x="113" y="575"/>
                </a:lnTo>
                <a:lnTo>
                  <a:pt x="103" y="568"/>
                </a:lnTo>
                <a:lnTo>
                  <a:pt x="96" y="560"/>
                </a:lnTo>
                <a:lnTo>
                  <a:pt x="88" y="554"/>
                </a:lnTo>
                <a:lnTo>
                  <a:pt x="81" y="547"/>
                </a:lnTo>
                <a:lnTo>
                  <a:pt x="74" y="539"/>
                </a:lnTo>
                <a:lnTo>
                  <a:pt x="67" y="531"/>
                </a:lnTo>
                <a:lnTo>
                  <a:pt x="61" y="522"/>
                </a:lnTo>
                <a:lnTo>
                  <a:pt x="54" y="514"/>
                </a:lnTo>
                <a:lnTo>
                  <a:pt x="48" y="506"/>
                </a:lnTo>
                <a:lnTo>
                  <a:pt x="42" y="499"/>
                </a:lnTo>
                <a:lnTo>
                  <a:pt x="37" y="489"/>
                </a:lnTo>
                <a:lnTo>
                  <a:pt x="32" y="481"/>
                </a:lnTo>
                <a:lnTo>
                  <a:pt x="28" y="474"/>
                </a:lnTo>
                <a:lnTo>
                  <a:pt x="24" y="464"/>
                </a:lnTo>
                <a:lnTo>
                  <a:pt x="20" y="456"/>
                </a:lnTo>
                <a:lnTo>
                  <a:pt x="16" y="447"/>
                </a:lnTo>
                <a:lnTo>
                  <a:pt x="13" y="437"/>
                </a:lnTo>
                <a:lnTo>
                  <a:pt x="10" y="430"/>
                </a:lnTo>
                <a:lnTo>
                  <a:pt x="7" y="420"/>
                </a:lnTo>
                <a:lnTo>
                  <a:pt x="5" y="410"/>
                </a:lnTo>
                <a:lnTo>
                  <a:pt x="3" y="401"/>
                </a:lnTo>
                <a:lnTo>
                  <a:pt x="2" y="393"/>
                </a:lnTo>
                <a:lnTo>
                  <a:pt x="1" y="384"/>
                </a:lnTo>
                <a:lnTo>
                  <a:pt x="0" y="374"/>
                </a:lnTo>
                <a:lnTo>
                  <a:pt x="0" y="364"/>
                </a:lnTo>
                <a:lnTo>
                  <a:pt x="0" y="355"/>
                </a:lnTo>
                <a:lnTo>
                  <a:pt x="1" y="345"/>
                </a:lnTo>
                <a:lnTo>
                  <a:pt x="2" y="336"/>
                </a:lnTo>
                <a:lnTo>
                  <a:pt x="3" y="328"/>
                </a:lnTo>
                <a:lnTo>
                  <a:pt x="5" y="318"/>
                </a:lnTo>
                <a:lnTo>
                  <a:pt x="7" y="309"/>
                </a:lnTo>
                <a:lnTo>
                  <a:pt x="10" y="299"/>
                </a:lnTo>
                <a:lnTo>
                  <a:pt x="13" y="292"/>
                </a:lnTo>
                <a:lnTo>
                  <a:pt x="16" y="282"/>
                </a:lnTo>
                <a:lnTo>
                  <a:pt x="20" y="274"/>
                </a:lnTo>
                <a:lnTo>
                  <a:pt x="24" y="265"/>
                </a:lnTo>
                <a:lnTo>
                  <a:pt x="28" y="255"/>
                </a:lnTo>
                <a:lnTo>
                  <a:pt x="32" y="247"/>
                </a:lnTo>
                <a:lnTo>
                  <a:pt x="37" y="240"/>
                </a:lnTo>
                <a:lnTo>
                  <a:pt x="42" y="230"/>
                </a:lnTo>
                <a:lnTo>
                  <a:pt x="48" y="222"/>
                </a:lnTo>
                <a:lnTo>
                  <a:pt x="54" y="215"/>
                </a:lnTo>
                <a:lnTo>
                  <a:pt x="61" y="207"/>
                </a:lnTo>
                <a:lnTo>
                  <a:pt x="67" y="198"/>
                </a:lnTo>
                <a:lnTo>
                  <a:pt x="74" y="190"/>
                </a:lnTo>
                <a:lnTo>
                  <a:pt x="81" y="182"/>
                </a:lnTo>
                <a:lnTo>
                  <a:pt x="88" y="175"/>
                </a:lnTo>
                <a:lnTo>
                  <a:pt x="96" y="169"/>
                </a:lnTo>
                <a:lnTo>
                  <a:pt x="103" y="161"/>
                </a:lnTo>
                <a:lnTo>
                  <a:pt x="113" y="153"/>
                </a:lnTo>
                <a:lnTo>
                  <a:pt x="121" y="146"/>
                </a:lnTo>
                <a:lnTo>
                  <a:pt x="130" y="140"/>
                </a:lnTo>
                <a:lnTo>
                  <a:pt x="139" y="132"/>
                </a:lnTo>
                <a:lnTo>
                  <a:pt x="148" y="127"/>
                </a:lnTo>
                <a:lnTo>
                  <a:pt x="157" y="119"/>
                </a:lnTo>
                <a:lnTo>
                  <a:pt x="178" y="107"/>
                </a:lnTo>
                <a:lnTo>
                  <a:pt x="199" y="94"/>
                </a:lnTo>
                <a:lnTo>
                  <a:pt x="221" y="82"/>
                </a:lnTo>
                <a:lnTo>
                  <a:pt x="244" y="73"/>
                </a:lnTo>
                <a:lnTo>
                  <a:pt x="268" y="61"/>
                </a:lnTo>
                <a:lnTo>
                  <a:pt x="292" y="52"/>
                </a:lnTo>
                <a:lnTo>
                  <a:pt x="318" y="44"/>
                </a:lnTo>
                <a:lnTo>
                  <a:pt x="344" y="36"/>
                </a:lnTo>
                <a:lnTo>
                  <a:pt x="371" y="29"/>
                </a:lnTo>
                <a:lnTo>
                  <a:pt x="398" y="21"/>
                </a:lnTo>
                <a:lnTo>
                  <a:pt x="426" y="15"/>
                </a:lnTo>
                <a:lnTo>
                  <a:pt x="455" y="12"/>
                </a:lnTo>
                <a:lnTo>
                  <a:pt x="484" y="8"/>
                </a:lnTo>
                <a:lnTo>
                  <a:pt x="515" y="4"/>
                </a:lnTo>
                <a:lnTo>
                  <a:pt x="544" y="2"/>
                </a:lnTo>
                <a:lnTo>
                  <a:pt x="575" y="0"/>
                </a:lnTo>
                <a:lnTo>
                  <a:pt x="60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86040" y="5005440"/>
            <a:ext cx="154080" cy="182520"/>
          </a:xfrm>
          <a:custGeom>
            <a:avLst/>
            <a:gdLst/>
            <a:ahLst/>
            <a:rect l="l" t="t" r="r" b="b"/>
            <a:pathLst>
              <a:path w="97" h="228">
                <a:moveTo>
                  <a:pt x="48" y="0"/>
                </a:moveTo>
                <a:lnTo>
                  <a:pt x="97" y="228"/>
                </a:lnTo>
                <a:lnTo>
                  <a:pt x="0" y="228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86040" y="5005440"/>
            <a:ext cx="154080" cy="182520"/>
          </a:xfrm>
          <a:custGeom>
            <a:avLst/>
            <a:gdLst/>
            <a:ahLst/>
            <a:rect l="l" t="t" r="r" b="b"/>
            <a:pathLst>
              <a:path w="97" h="228">
                <a:moveTo>
                  <a:pt x="48" y="0"/>
                </a:moveTo>
                <a:lnTo>
                  <a:pt x="97" y="228"/>
                </a:lnTo>
                <a:lnTo>
                  <a:pt x="0" y="228"/>
                </a:lnTo>
                <a:lnTo>
                  <a:pt x="4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86040" y="4932360"/>
            <a:ext cx="154080" cy="144360"/>
          </a:xfrm>
          <a:custGeom>
            <a:avLst/>
            <a:gdLst/>
            <a:ahLst/>
            <a:rect l="l" t="t" r="r" b="b"/>
            <a:pathLst>
              <a:path w="97" h="182">
                <a:moveTo>
                  <a:pt x="48" y="0"/>
                </a:moveTo>
                <a:lnTo>
                  <a:pt x="53" y="0"/>
                </a:lnTo>
                <a:lnTo>
                  <a:pt x="58" y="2"/>
                </a:lnTo>
                <a:lnTo>
                  <a:pt x="62" y="4"/>
                </a:lnTo>
                <a:lnTo>
                  <a:pt x="66" y="7"/>
                </a:lnTo>
                <a:lnTo>
                  <a:pt x="71" y="11"/>
                </a:lnTo>
                <a:lnTo>
                  <a:pt x="75" y="15"/>
                </a:lnTo>
                <a:lnTo>
                  <a:pt x="79" y="21"/>
                </a:lnTo>
                <a:lnTo>
                  <a:pt x="83" y="27"/>
                </a:lnTo>
                <a:lnTo>
                  <a:pt x="86" y="34"/>
                </a:lnTo>
                <a:lnTo>
                  <a:pt x="89" y="40"/>
                </a:lnTo>
                <a:lnTo>
                  <a:pt x="91" y="48"/>
                </a:lnTo>
                <a:lnTo>
                  <a:pt x="93" y="57"/>
                </a:lnTo>
                <a:lnTo>
                  <a:pt x="95" y="65"/>
                </a:lnTo>
                <a:lnTo>
                  <a:pt x="96" y="73"/>
                </a:lnTo>
                <a:lnTo>
                  <a:pt x="97" y="82"/>
                </a:lnTo>
                <a:lnTo>
                  <a:pt x="97" y="92"/>
                </a:lnTo>
                <a:lnTo>
                  <a:pt x="97" y="101"/>
                </a:lnTo>
                <a:lnTo>
                  <a:pt x="96" y="111"/>
                </a:lnTo>
                <a:lnTo>
                  <a:pt x="95" y="119"/>
                </a:lnTo>
                <a:lnTo>
                  <a:pt x="93" y="126"/>
                </a:lnTo>
                <a:lnTo>
                  <a:pt x="91" y="134"/>
                </a:lnTo>
                <a:lnTo>
                  <a:pt x="89" y="142"/>
                </a:lnTo>
                <a:lnTo>
                  <a:pt x="86" y="149"/>
                </a:lnTo>
                <a:lnTo>
                  <a:pt x="83" y="155"/>
                </a:lnTo>
                <a:lnTo>
                  <a:pt x="79" y="161"/>
                </a:lnTo>
                <a:lnTo>
                  <a:pt x="75" y="167"/>
                </a:lnTo>
                <a:lnTo>
                  <a:pt x="71" y="170"/>
                </a:lnTo>
                <a:lnTo>
                  <a:pt x="66" y="174"/>
                </a:lnTo>
                <a:lnTo>
                  <a:pt x="62" y="178"/>
                </a:lnTo>
                <a:lnTo>
                  <a:pt x="58" y="180"/>
                </a:lnTo>
                <a:lnTo>
                  <a:pt x="53" y="182"/>
                </a:lnTo>
                <a:lnTo>
                  <a:pt x="48" y="182"/>
                </a:lnTo>
                <a:lnTo>
                  <a:pt x="43" y="182"/>
                </a:lnTo>
                <a:lnTo>
                  <a:pt x="39" y="180"/>
                </a:lnTo>
                <a:lnTo>
                  <a:pt x="34" y="178"/>
                </a:lnTo>
                <a:lnTo>
                  <a:pt x="30" y="174"/>
                </a:lnTo>
                <a:lnTo>
                  <a:pt x="25" y="170"/>
                </a:lnTo>
                <a:lnTo>
                  <a:pt x="21" y="167"/>
                </a:lnTo>
                <a:lnTo>
                  <a:pt x="17" y="161"/>
                </a:lnTo>
                <a:lnTo>
                  <a:pt x="14" y="155"/>
                </a:lnTo>
                <a:lnTo>
                  <a:pt x="11" y="149"/>
                </a:lnTo>
                <a:lnTo>
                  <a:pt x="8" y="142"/>
                </a:lnTo>
                <a:lnTo>
                  <a:pt x="6" y="134"/>
                </a:lnTo>
                <a:lnTo>
                  <a:pt x="4" y="126"/>
                </a:lnTo>
                <a:lnTo>
                  <a:pt x="2" y="119"/>
                </a:lnTo>
                <a:lnTo>
                  <a:pt x="1" y="111"/>
                </a:lnTo>
                <a:lnTo>
                  <a:pt x="0" y="101"/>
                </a:lnTo>
                <a:lnTo>
                  <a:pt x="0" y="92"/>
                </a:lnTo>
                <a:lnTo>
                  <a:pt x="0" y="82"/>
                </a:lnTo>
                <a:lnTo>
                  <a:pt x="1" y="73"/>
                </a:lnTo>
                <a:lnTo>
                  <a:pt x="2" y="65"/>
                </a:lnTo>
                <a:lnTo>
                  <a:pt x="4" y="57"/>
                </a:lnTo>
                <a:lnTo>
                  <a:pt x="6" y="48"/>
                </a:lnTo>
                <a:lnTo>
                  <a:pt x="8" y="40"/>
                </a:lnTo>
                <a:lnTo>
                  <a:pt x="11" y="34"/>
                </a:lnTo>
                <a:lnTo>
                  <a:pt x="14" y="27"/>
                </a:lnTo>
                <a:lnTo>
                  <a:pt x="17" y="21"/>
                </a:lnTo>
                <a:lnTo>
                  <a:pt x="21" y="15"/>
                </a:lnTo>
                <a:lnTo>
                  <a:pt x="25" y="11"/>
                </a:lnTo>
                <a:lnTo>
                  <a:pt x="30" y="7"/>
                </a:lnTo>
                <a:lnTo>
                  <a:pt x="34" y="4"/>
                </a:lnTo>
                <a:lnTo>
                  <a:pt x="39" y="2"/>
                </a:lnTo>
                <a:lnTo>
                  <a:pt x="43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86040" y="4932360"/>
            <a:ext cx="154080" cy="144360"/>
          </a:xfrm>
          <a:custGeom>
            <a:avLst/>
            <a:gdLst/>
            <a:ahLst/>
            <a:rect l="l" t="t" r="r" b="b"/>
            <a:pathLst>
              <a:path w="97" h="182">
                <a:moveTo>
                  <a:pt x="48" y="0"/>
                </a:moveTo>
                <a:lnTo>
                  <a:pt x="53" y="0"/>
                </a:lnTo>
                <a:lnTo>
                  <a:pt x="58" y="2"/>
                </a:lnTo>
                <a:lnTo>
                  <a:pt x="62" y="4"/>
                </a:lnTo>
                <a:lnTo>
                  <a:pt x="66" y="7"/>
                </a:lnTo>
                <a:lnTo>
                  <a:pt x="71" y="11"/>
                </a:lnTo>
                <a:lnTo>
                  <a:pt x="75" y="15"/>
                </a:lnTo>
                <a:lnTo>
                  <a:pt x="79" y="21"/>
                </a:lnTo>
                <a:lnTo>
                  <a:pt x="83" y="27"/>
                </a:lnTo>
                <a:lnTo>
                  <a:pt x="86" y="34"/>
                </a:lnTo>
                <a:lnTo>
                  <a:pt x="89" y="40"/>
                </a:lnTo>
                <a:lnTo>
                  <a:pt x="91" y="48"/>
                </a:lnTo>
                <a:lnTo>
                  <a:pt x="93" y="57"/>
                </a:lnTo>
                <a:lnTo>
                  <a:pt x="95" y="65"/>
                </a:lnTo>
                <a:lnTo>
                  <a:pt x="96" y="73"/>
                </a:lnTo>
                <a:lnTo>
                  <a:pt x="97" y="82"/>
                </a:lnTo>
                <a:lnTo>
                  <a:pt x="97" y="92"/>
                </a:lnTo>
                <a:lnTo>
                  <a:pt x="97" y="101"/>
                </a:lnTo>
                <a:lnTo>
                  <a:pt x="96" y="111"/>
                </a:lnTo>
                <a:lnTo>
                  <a:pt x="95" y="119"/>
                </a:lnTo>
                <a:lnTo>
                  <a:pt x="93" y="126"/>
                </a:lnTo>
                <a:lnTo>
                  <a:pt x="91" y="134"/>
                </a:lnTo>
                <a:lnTo>
                  <a:pt x="89" y="142"/>
                </a:lnTo>
                <a:lnTo>
                  <a:pt x="86" y="149"/>
                </a:lnTo>
                <a:lnTo>
                  <a:pt x="83" y="155"/>
                </a:lnTo>
                <a:lnTo>
                  <a:pt x="79" y="161"/>
                </a:lnTo>
                <a:lnTo>
                  <a:pt x="75" y="167"/>
                </a:lnTo>
                <a:lnTo>
                  <a:pt x="71" y="170"/>
                </a:lnTo>
                <a:lnTo>
                  <a:pt x="66" y="174"/>
                </a:lnTo>
                <a:lnTo>
                  <a:pt x="62" y="178"/>
                </a:lnTo>
                <a:lnTo>
                  <a:pt x="58" y="180"/>
                </a:lnTo>
                <a:lnTo>
                  <a:pt x="53" y="182"/>
                </a:lnTo>
                <a:lnTo>
                  <a:pt x="48" y="182"/>
                </a:lnTo>
                <a:lnTo>
                  <a:pt x="43" y="182"/>
                </a:lnTo>
                <a:lnTo>
                  <a:pt x="39" y="180"/>
                </a:lnTo>
                <a:lnTo>
                  <a:pt x="34" y="178"/>
                </a:lnTo>
                <a:lnTo>
                  <a:pt x="30" y="174"/>
                </a:lnTo>
                <a:lnTo>
                  <a:pt x="25" y="170"/>
                </a:lnTo>
                <a:lnTo>
                  <a:pt x="21" y="167"/>
                </a:lnTo>
                <a:lnTo>
                  <a:pt x="17" y="161"/>
                </a:lnTo>
                <a:lnTo>
                  <a:pt x="14" y="155"/>
                </a:lnTo>
                <a:lnTo>
                  <a:pt x="11" y="149"/>
                </a:lnTo>
                <a:lnTo>
                  <a:pt x="8" y="142"/>
                </a:lnTo>
                <a:lnTo>
                  <a:pt x="6" y="134"/>
                </a:lnTo>
                <a:lnTo>
                  <a:pt x="4" y="126"/>
                </a:lnTo>
                <a:lnTo>
                  <a:pt x="2" y="119"/>
                </a:lnTo>
                <a:lnTo>
                  <a:pt x="1" y="111"/>
                </a:lnTo>
                <a:lnTo>
                  <a:pt x="0" y="101"/>
                </a:lnTo>
                <a:lnTo>
                  <a:pt x="0" y="92"/>
                </a:lnTo>
                <a:lnTo>
                  <a:pt x="0" y="82"/>
                </a:lnTo>
                <a:lnTo>
                  <a:pt x="1" y="73"/>
                </a:lnTo>
                <a:lnTo>
                  <a:pt x="2" y="65"/>
                </a:lnTo>
                <a:lnTo>
                  <a:pt x="4" y="57"/>
                </a:lnTo>
                <a:lnTo>
                  <a:pt x="6" y="48"/>
                </a:lnTo>
                <a:lnTo>
                  <a:pt x="8" y="40"/>
                </a:lnTo>
                <a:lnTo>
                  <a:pt x="11" y="34"/>
                </a:lnTo>
                <a:lnTo>
                  <a:pt x="14" y="27"/>
                </a:lnTo>
                <a:lnTo>
                  <a:pt x="17" y="21"/>
                </a:lnTo>
                <a:lnTo>
                  <a:pt x="21" y="15"/>
                </a:lnTo>
                <a:lnTo>
                  <a:pt x="25" y="11"/>
                </a:lnTo>
                <a:lnTo>
                  <a:pt x="30" y="7"/>
                </a:lnTo>
                <a:lnTo>
                  <a:pt x="34" y="4"/>
                </a:lnTo>
                <a:lnTo>
                  <a:pt x="39" y="2"/>
                </a:lnTo>
                <a:lnTo>
                  <a:pt x="43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4200" y="5076720"/>
            <a:ext cx="268200" cy="327240"/>
          </a:xfrm>
          <a:custGeom>
            <a:avLst/>
            <a:gdLst/>
            <a:ahLst/>
            <a:rect l="l" t="t" r="r" b="b"/>
            <a:pathLst>
              <a:path w="169" h="410">
                <a:moveTo>
                  <a:pt x="169" y="0"/>
                </a:moveTo>
                <a:lnTo>
                  <a:pt x="0" y="0"/>
                </a:lnTo>
                <a:lnTo>
                  <a:pt x="0" y="410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120" y="5005440"/>
            <a:ext cx="9604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24360" y="3741840"/>
            <a:ext cx="731880" cy="1481040"/>
          </a:xfrm>
          <a:custGeom>
            <a:avLst/>
            <a:gdLst/>
            <a:ahLst/>
            <a:rect l="l" t="t" r="r" b="b"/>
            <a:pathLst>
              <a:path w="461" h="1866">
                <a:moveTo>
                  <a:pt x="0" y="1866"/>
                </a:moveTo>
                <a:lnTo>
                  <a:pt x="170" y="1866"/>
                </a:lnTo>
                <a:lnTo>
                  <a:pt x="170" y="0"/>
                </a:lnTo>
                <a:lnTo>
                  <a:pt x="461" y="0"/>
                </a:lnTo>
                <a:lnTo>
                  <a:pt x="461" y="226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64520" y="5181480"/>
            <a:ext cx="615960" cy="84240"/>
          </a:xfrm>
          <a:custGeom>
            <a:avLst/>
            <a:gdLst/>
            <a:ahLst/>
            <a:rect l="l" t="t" r="r" b="b"/>
            <a:pathLst>
              <a:path w="388" h="108">
                <a:moveTo>
                  <a:pt x="0" y="35"/>
                </a:moveTo>
                <a:lnTo>
                  <a:pt x="340" y="35"/>
                </a:lnTo>
                <a:lnTo>
                  <a:pt x="340" y="71"/>
                </a:lnTo>
                <a:lnTo>
                  <a:pt x="0" y="71"/>
                </a:lnTo>
                <a:lnTo>
                  <a:pt x="0" y="35"/>
                </a:lnTo>
                <a:close/>
                <a:moveTo>
                  <a:pt x="331" y="0"/>
                </a:moveTo>
                <a:lnTo>
                  <a:pt x="388" y="54"/>
                </a:lnTo>
                <a:lnTo>
                  <a:pt x="331" y="108"/>
                </a:lnTo>
                <a:lnTo>
                  <a:pt x="33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56240" y="4498920"/>
            <a:ext cx="538200" cy="689040"/>
          </a:xfrm>
          <a:custGeom>
            <a:avLst/>
            <a:gdLst/>
            <a:ahLst/>
            <a:rect l="l" t="t" r="r" b="b"/>
            <a:pathLst>
              <a:path w="339" h="867">
                <a:moveTo>
                  <a:pt x="0" y="0"/>
                </a:moveTo>
                <a:lnTo>
                  <a:pt x="0" y="867"/>
                </a:lnTo>
                <a:lnTo>
                  <a:pt x="339" y="867"/>
                </a:lnTo>
              </a:path>
            </a:pathLst>
          </a:custGeom>
          <a:noFill/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4840" y="4175280"/>
            <a:ext cx="50148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37320" y="4289400"/>
            <a:ext cx="371520" cy="569880"/>
          </a:xfrm>
          <a:custGeom>
            <a:avLst/>
            <a:gdLst/>
            <a:ahLst/>
            <a:rect l="l" t="t" r="r" b="b"/>
            <a:pathLst>
              <a:path w="234" h="720">
                <a:moveTo>
                  <a:pt x="234" y="720"/>
                </a:moveTo>
                <a:lnTo>
                  <a:pt x="5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54840" y="4175280"/>
            <a:ext cx="50148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4227480"/>
            <a:ext cx="25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0040" y="4227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132680" y="3957480"/>
            <a:ext cx="954000" cy="684360"/>
            <a:chOff x="7132680" y="3957480"/>
            <a:chExt cx="954000" cy="684360"/>
          </a:xfrm>
        </p:grpSpPr>
        <p:sp>
          <p:nvSpPr>
            <p:cNvPr id="241" name=""/>
            <p:cNvSpPr/>
            <p:nvPr/>
          </p:nvSpPr>
          <p:spPr>
            <a:xfrm>
              <a:off x="7132680" y="3957480"/>
              <a:ext cx="5000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13720" y="4071960"/>
              <a:ext cx="372960" cy="569880"/>
            </a:xfrm>
            <a:custGeom>
              <a:avLst/>
              <a:gdLst/>
              <a:ahLst/>
              <a:rect l="l" t="t" r="r" b="b"/>
              <a:pathLst>
                <a:path w="235" h="719">
                  <a:moveTo>
                    <a:pt x="235" y="719"/>
                  </a:move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32680" y="3957480"/>
              <a:ext cx="500040" cy="32544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50040" y="40194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17880" y="401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707920" y="44449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54000" y="36846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00600" y="5332320"/>
            <a:ext cx="885600" cy="289080"/>
          </a:xfrm>
          <a:custGeom>
            <a:avLst/>
            <a:gdLst/>
            <a:ahLst/>
            <a:rect l="l" t="t" r="r" b="b"/>
            <a:pathLst>
              <a:path w="558" h="365">
                <a:moveTo>
                  <a:pt x="558" y="0"/>
                </a:moveTo>
                <a:lnTo>
                  <a:pt x="418" y="365"/>
                </a:lnTo>
                <a:lnTo>
                  <a:pt x="140" y="365"/>
                </a:lnTo>
                <a:lnTo>
                  <a:pt x="0" y="0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00600" y="5332320"/>
            <a:ext cx="885600" cy="289080"/>
          </a:xfrm>
          <a:custGeom>
            <a:avLst/>
            <a:gdLst/>
            <a:ahLst/>
            <a:rect l="l" t="t" r="r" b="b"/>
            <a:pathLst>
              <a:path w="558" h="365">
                <a:moveTo>
                  <a:pt x="558" y="0"/>
                </a:moveTo>
                <a:lnTo>
                  <a:pt x="418" y="365"/>
                </a:lnTo>
                <a:lnTo>
                  <a:pt x="140" y="365"/>
                </a:lnTo>
                <a:lnTo>
                  <a:pt x="0" y="0"/>
                </a:lnTo>
                <a:lnTo>
                  <a:pt x="558" y="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48840" y="6283440"/>
            <a:ext cx="2887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MCA: monitoreo de calidad del ag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04920" y="62834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7720" y="4354560"/>
            <a:ext cx="1230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120" y="4398840"/>
            <a:ext cx="103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Sistema d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9400" y="4573440"/>
            <a:ext cx="13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Abast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9560" y="5800680"/>
            <a:ext cx="928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97720" y="5848200"/>
            <a:ext cx="80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apt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6960" y="5803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86800" y="5800680"/>
            <a:ext cx="928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16480" y="584676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481240" y="58024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6560" y="5800680"/>
            <a:ext cx="10317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16600" y="5848200"/>
            <a:ext cx="9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Distribu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84320" y="5803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2040" y="5800680"/>
            <a:ext cx="1347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8440" y="5848200"/>
            <a:ext cx="132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lmac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49160" y="5803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6840" y="5800680"/>
            <a:ext cx="1028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8600" y="584820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Trat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79280" y="5803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82640" y="5800680"/>
            <a:ext cx="930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76040" y="5848200"/>
            <a:ext cx="55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u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13720" y="58039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4440" y="5865840"/>
            <a:ext cx="102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ubsiste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7960" y="5821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gilancia actual en zonas urban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3730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glamento Técnico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GNTI-COPANIT-23-395-9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nfocada al consu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o identifica problem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o es preven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 difícil cumplimiento (costo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4473720"/>
            <a:ext cx="5000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6680" y="4587840"/>
            <a:ext cx="373320" cy="569880"/>
          </a:xfrm>
          <a:custGeom>
            <a:avLst/>
            <a:gdLst/>
            <a:ahLst/>
            <a:rect l="l" t="t" r="r" b="b"/>
            <a:pathLst>
              <a:path w="235" h="719">
                <a:moveTo>
                  <a:pt x="235" y="719"/>
                </a:moveTo>
                <a:lnTo>
                  <a:pt x="51" y="0"/>
                </a:lnTo>
                <a:lnTo>
                  <a:pt x="0" y="0"/>
                </a:lnTo>
              </a:path>
            </a:pathLst>
          </a:custGeom>
          <a:noFill/>
          <a:ln w="30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4473720"/>
            <a:ext cx="500040" cy="3254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13360" y="4535640"/>
            <a:ext cx="25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81200" y="45356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stema de información (cic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stemas y subsiste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últiples barreras a la conta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ión alternativa a los análisis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ferentes niveles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502560" y="608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1052640"/>
            <a:ext cx="8788680" cy="55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7120" y="2944800"/>
            <a:ext cx="8165880" cy="620640"/>
            <a:chOff x="627120" y="2944800"/>
            <a:chExt cx="8165880" cy="620640"/>
          </a:xfrm>
        </p:grpSpPr>
        <p:sp>
          <p:nvSpPr>
            <p:cNvPr id="287" name=""/>
            <p:cNvSpPr/>
            <p:nvPr/>
          </p:nvSpPr>
          <p:spPr>
            <a:xfrm>
              <a:off x="627120" y="3556080"/>
              <a:ext cx="8165880" cy="9360"/>
            </a:xfrm>
            <a:custGeom>
              <a:avLst/>
              <a:gdLst/>
              <a:ahLst/>
              <a:rect l="l" t="t" r="r" b="b"/>
              <a:pathLst>
                <a:path w="5144" h="13">
                  <a:moveTo>
                    <a:pt x="3" y="0"/>
                  </a:moveTo>
                  <a:lnTo>
                    <a:pt x="21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6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0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9" y="2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136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4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4" y="2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181" y="0"/>
                  </a:moveTo>
                  <a:lnTo>
                    <a:pt x="200" y="0"/>
                  </a:lnTo>
                  <a:lnTo>
                    <a:pt x="201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1" y="12"/>
                  </a:lnTo>
                  <a:lnTo>
                    <a:pt x="200" y="12"/>
                  </a:lnTo>
                  <a:lnTo>
                    <a:pt x="181" y="12"/>
                  </a:lnTo>
                  <a:lnTo>
                    <a:pt x="180" y="12"/>
                  </a:lnTo>
                  <a:lnTo>
                    <a:pt x="179" y="10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9" y="2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close/>
                  <a:moveTo>
                    <a:pt x="225" y="0"/>
                  </a:moveTo>
                  <a:lnTo>
                    <a:pt x="244" y="0"/>
                  </a:lnTo>
                  <a:lnTo>
                    <a:pt x="245" y="0"/>
                  </a:lnTo>
                  <a:lnTo>
                    <a:pt x="247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7" y="10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25" y="12"/>
                  </a:lnTo>
                  <a:lnTo>
                    <a:pt x="224" y="12"/>
                  </a:lnTo>
                  <a:lnTo>
                    <a:pt x="223" y="10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3" y="2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close/>
                  <a:moveTo>
                    <a:pt x="270" y="0"/>
                  </a:moveTo>
                  <a:lnTo>
                    <a:pt x="289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1" y="10"/>
                  </a:lnTo>
                  <a:lnTo>
                    <a:pt x="290" y="12"/>
                  </a:lnTo>
                  <a:lnTo>
                    <a:pt x="289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4" y="0"/>
                  </a:lnTo>
                  <a:lnTo>
                    <a:pt x="335" y="0"/>
                  </a:lnTo>
                  <a:lnTo>
                    <a:pt x="336" y="2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7" y="8"/>
                  </a:lnTo>
                  <a:lnTo>
                    <a:pt x="336" y="10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78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2" y="4"/>
                  </a:lnTo>
                  <a:lnTo>
                    <a:pt x="382" y="6"/>
                  </a:lnTo>
                  <a:lnTo>
                    <a:pt x="382" y="8"/>
                  </a:lnTo>
                  <a:lnTo>
                    <a:pt x="381" y="10"/>
                  </a:lnTo>
                  <a:lnTo>
                    <a:pt x="379" y="12"/>
                  </a:lnTo>
                  <a:lnTo>
                    <a:pt x="378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4" y="0"/>
                  </a:moveTo>
                  <a:lnTo>
                    <a:pt x="423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6" y="4"/>
                  </a:lnTo>
                  <a:lnTo>
                    <a:pt x="426" y="6"/>
                  </a:lnTo>
                  <a:lnTo>
                    <a:pt x="426" y="8"/>
                  </a:lnTo>
                  <a:lnTo>
                    <a:pt x="425" y="10"/>
                  </a:lnTo>
                  <a:lnTo>
                    <a:pt x="424" y="12"/>
                  </a:lnTo>
                  <a:lnTo>
                    <a:pt x="423" y="12"/>
                  </a:lnTo>
                  <a:lnTo>
                    <a:pt x="404" y="12"/>
                  </a:lnTo>
                  <a:lnTo>
                    <a:pt x="403" y="12"/>
                  </a:lnTo>
                  <a:lnTo>
                    <a:pt x="402" y="10"/>
                  </a:lnTo>
                  <a:lnTo>
                    <a:pt x="401" y="8"/>
                  </a:lnTo>
                  <a:lnTo>
                    <a:pt x="401" y="6"/>
                  </a:lnTo>
                  <a:lnTo>
                    <a:pt x="401" y="4"/>
                  </a:lnTo>
                  <a:lnTo>
                    <a:pt x="402" y="2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0" y="2"/>
                  </a:lnTo>
                  <a:lnTo>
                    <a:pt x="471" y="4"/>
                  </a:lnTo>
                  <a:lnTo>
                    <a:pt x="471" y="6"/>
                  </a:lnTo>
                  <a:lnTo>
                    <a:pt x="471" y="8"/>
                  </a:lnTo>
                  <a:lnTo>
                    <a:pt x="470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3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3" y="12"/>
                  </a:lnTo>
                  <a:lnTo>
                    <a:pt x="492" y="12"/>
                  </a:lnTo>
                  <a:lnTo>
                    <a:pt x="491" y="10"/>
                  </a:lnTo>
                  <a:lnTo>
                    <a:pt x="490" y="8"/>
                  </a:lnTo>
                  <a:lnTo>
                    <a:pt x="490" y="6"/>
                  </a:lnTo>
                  <a:lnTo>
                    <a:pt x="490" y="4"/>
                  </a:lnTo>
                  <a:lnTo>
                    <a:pt x="491" y="2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3" y="0"/>
                  </a:lnTo>
                  <a:close/>
                  <a:moveTo>
                    <a:pt x="538" y="0"/>
                  </a:moveTo>
                  <a:lnTo>
                    <a:pt x="557" y="0"/>
                  </a:lnTo>
                  <a:lnTo>
                    <a:pt x="558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8" y="12"/>
                  </a:lnTo>
                  <a:lnTo>
                    <a:pt x="557" y="12"/>
                  </a:lnTo>
                  <a:lnTo>
                    <a:pt x="538" y="12"/>
                  </a:lnTo>
                  <a:lnTo>
                    <a:pt x="537" y="12"/>
                  </a:lnTo>
                  <a:lnTo>
                    <a:pt x="536" y="10"/>
                  </a:lnTo>
                  <a:lnTo>
                    <a:pt x="535" y="8"/>
                  </a:lnTo>
                  <a:lnTo>
                    <a:pt x="535" y="6"/>
                  </a:lnTo>
                  <a:lnTo>
                    <a:pt x="535" y="4"/>
                  </a:lnTo>
                  <a:lnTo>
                    <a:pt x="536" y="2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8" y="0"/>
                  </a:lnTo>
                  <a:close/>
                  <a:moveTo>
                    <a:pt x="582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4" y="2"/>
                  </a:lnTo>
                  <a:lnTo>
                    <a:pt x="605" y="4"/>
                  </a:lnTo>
                  <a:lnTo>
                    <a:pt x="605" y="6"/>
                  </a:lnTo>
                  <a:lnTo>
                    <a:pt x="605" y="8"/>
                  </a:lnTo>
                  <a:lnTo>
                    <a:pt x="604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2" y="12"/>
                  </a:lnTo>
                  <a:lnTo>
                    <a:pt x="581" y="12"/>
                  </a:lnTo>
                  <a:lnTo>
                    <a:pt x="580" y="10"/>
                  </a:lnTo>
                  <a:lnTo>
                    <a:pt x="579" y="8"/>
                  </a:lnTo>
                  <a:lnTo>
                    <a:pt x="579" y="6"/>
                  </a:lnTo>
                  <a:lnTo>
                    <a:pt x="579" y="4"/>
                  </a:lnTo>
                  <a:lnTo>
                    <a:pt x="580" y="2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2" y="0"/>
                  </a:lnTo>
                  <a:close/>
                  <a:moveTo>
                    <a:pt x="627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7" y="12"/>
                  </a:lnTo>
                  <a:lnTo>
                    <a:pt x="626" y="12"/>
                  </a:lnTo>
                  <a:lnTo>
                    <a:pt x="625" y="10"/>
                  </a:lnTo>
                  <a:lnTo>
                    <a:pt x="624" y="8"/>
                  </a:lnTo>
                  <a:lnTo>
                    <a:pt x="624" y="6"/>
                  </a:lnTo>
                  <a:lnTo>
                    <a:pt x="624" y="4"/>
                  </a:lnTo>
                  <a:lnTo>
                    <a:pt x="625" y="2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672" y="0"/>
                  </a:moveTo>
                  <a:lnTo>
                    <a:pt x="691" y="0"/>
                  </a:lnTo>
                  <a:lnTo>
                    <a:pt x="692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2" y="12"/>
                  </a:lnTo>
                  <a:lnTo>
                    <a:pt x="691" y="12"/>
                  </a:lnTo>
                  <a:lnTo>
                    <a:pt x="672" y="12"/>
                  </a:lnTo>
                  <a:lnTo>
                    <a:pt x="671" y="12"/>
                  </a:lnTo>
                  <a:lnTo>
                    <a:pt x="670" y="10"/>
                  </a:lnTo>
                  <a:lnTo>
                    <a:pt x="669" y="8"/>
                  </a:lnTo>
                  <a:lnTo>
                    <a:pt x="669" y="6"/>
                  </a:lnTo>
                  <a:lnTo>
                    <a:pt x="669" y="4"/>
                  </a:lnTo>
                  <a:lnTo>
                    <a:pt x="670" y="2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2" y="0"/>
                  </a:lnTo>
                  <a:close/>
                  <a:moveTo>
                    <a:pt x="717" y="0"/>
                  </a:moveTo>
                  <a:lnTo>
                    <a:pt x="735" y="0"/>
                  </a:lnTo>
                  <a:lnTo>
                    <a:pt x="736" y="0"/>
                  </a:lnTo>
                  <a:lnTo>
                    <a:pt x="738" y="2"/>
                  </a:lnTo>
                  <a:lnTo>
                    <a:pt x="739" y="4"/>
                  </a:lnTo>
                  <a:lnTo>
                    <a:pt x="739" y="6"/>
                  </a:lnTo>
                  <a:lnTo>
                    <a:pt x="739" y="8"/>
                  </a:lnTo>
                  <a:lnTo>
                    <a:pt x="738" y="10"/>
                  </a:lnTo>
                  <a:lnTo>
                    <a:pt x="736" y="12"/>
                  </a:lnTo>
                  <a:lnTo>
                    <a:pt x="735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1" y="0"/>
                  </a:moveTo>
                  <a:lnTo>
                    <a:pt x="780" y="0"/>
                  </a:lnTo>
                  <a:lnTo>
                    <a:pt x="781" y="0"/>
                  </a:lnTo>
                  <a:lnTo>
                    <a:pt x="782" y="2"/>
                  </a:lnTo>
                  <a:lnTo>
                    <a:pt x="783" y="4"/>
                  </a:lnTo>
                  <a:lnTo>
                    <a:pt x="783" y="6"/>
                  </a:lnTo>
                  <a:lnTo>
                    <a:pt x="783" y="8"/>
                  </a:lnTo>
                  <a:lnTo>
                    <a:pt x="782" y="10"/>
                  </a:lnTo>
                  <a:lnTo>
                    <a:pt x="781" y="12"/>
                  </a:lnTo>
                  <a:lnTo>
                    <a:pt x="780" y="12"/>
                  </a:lnTo>
                  <a:lnTo>
                    <a:pt x="761" y="12"/>
                  </a:lnTo>
                  <a:lnTo>
                    <a:pt x="760" y="12"/>
                  </a:lnTo>
                  <a:lnTo>
                    <a:pt x="759" y="10"/>
                  </a:lnTo>
                  <a:lnTo>
                    <a:pt x="758" y="8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59" y="2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1" y="0"/>
                  </a:lnTo>
                  <a:close/>
                  <a:moveTo>
                    <a:pt x="806" y="0"/>
                  </a:moveTo>
                  <a:lnTo>
                    <a:pt x="825" y="0"/>
                  </a:lnTo>
                  <a:lnTo>
                    <a:pt x="826" y="0"/>
                  </a:lnTo>
                  <a:lnTo>
                    <a:pt x="827" y="2"/>
                  </a:lnTo>
                  <a:lnTo>
                    <a:pt x="828" y="4"/>
                  </a:lnTo>
                  <a:lnTo>
                    <a:pt x="828" y="6"/>
                  </a:lnTo>
                  <a:lnTo>
                    <a:pt x="828" y="8"/>
                  </a:lnTo>
                  <a:lnTo>
                    <a:pt x="827" y="10"/>
                  </a:lnTo>
                  <a:lnTo>
                    <a:pt x="826" y="12"/>
                  </a:lnTo>
                  <a:lnTo>
                    <a:pt x="825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0" y="0"/>
                  </a:lnTo>
                  <a:lnTo>
                    <a:pt x="871" y="0"/>
                  </a:lnTo>
                  <a:lnTo>
                    <a:pt x="872" y="2"/>
                  </a:lnTo>
                  <a:lnTo>
                    <a:pt x="873" y="4"/>
                  </a:lnTo>
                  <a:lnTo>
                    <a:pt x="873" y="6"/>
                  </a:lnTo>
                  <a:lnTo>
                    <a:pt x="873" y="8"/>
                  </a:lnTo>
                  <a:lnTo>
                    <a:pt x="872" y="10"/>
                  </a:lnTo>
                  <a:lnTo>
                    <a:pt x="871" y="12"/>
                  </a:lnTo>
                  <a:lnTo>
                    <a:pt x="870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4" y="0"/>
                  </a:lnTo>
                  <a:lnTo>
                    <a:pt x="915" y="0"/>
                  </a:lnTo>
                  <a:lnTo>
                    <a:pt x="917" y="2"/>
                  </a:lnTo>
                  <a:lnTo>
                    <a:pt x="918" y="4"/>
                  </a:lnTo>
                  <a:lnTo>
                    <a:pt x="918" y="6"/>
                  </a:lnTo>
                  <a:lnTo>
                    <a:pt x="918" y="8"/>
                  </a:lnTo>
                  <a:lnTo>
                    <a:pt x="917" y="10"/>
                  </a:lnTo>
                  <a:lnTo>
                    <a:pt x="915" y="12"/>
                  </a:lnTo>
                  <a:lnTo>
                    <a:pt x="914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39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1" y="2"/>
                  </a:lnTo>
                  <a:lnTo>
                    <a:pt x="962" y="4"/>
                  </a:lnTo>
                  <a:lnTo>
                    <a:pt x="962" y="6"/>
                  </a:lnTo>
                  <a:lnTo>
                    <a:pt x="962" y="8"/>
                  </a:lnTo>
                  <a:lnTo>
                    <a:pt x="961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39" y="12"/>
                  </a:lnTo>
                  <a:lnTo>
                    <a:pt x="938" y="12"/>
                  </a:lnTo>
                  <a:lnTo>
                    <a:pt x="937" y="10"/>
                  </a:lnTo>
                  <a:lnTo>
                    <a:pt x="936" y="8"/>
                  </a:lnTo>
                  <a:lnTo>
                    <a:pt x="936" y="6"/>
                  </a:lnTo>
                  <a:lnTo>
                    <a:pt x="936" y="4"/>
                  </a:lnTo>
                  <a:lnTo>
                    <a:pt x="937" y="2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984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4" y="12"/>
                  </a:lnTo>
                  <a:lnTo>
                    <a:pt x="983" y="12"/>
                  </a:lnTo>
                  <a:lnTo>
                    <a:pt x="982" y="10"/>
                  </a:lnTo>
                  <a:lnTo>
                    <a:pt x="981" y="8"/>
                  </a:lnTo>
                  <a:lnTo>
                    <a:pt x="981" y="6"/>
                  </a:lnTo>
                  <a:lnTo>
                    <a:pt x="981" y="4"/>
                  </a:lnTo>
                  <a:lnTo>
                    <a:pt x="982" y="2"/>
                  </a:lnTo>
                  <a:lnTo>
                    <a:pt x="983" y="0"/>
                  </a:lnTo>
                  <a:lnTo>
                    <a:pt x="984" y="0"/>
                  </a:lnTo>
                  <a:lnTo>
                    <a:pt x="984" y="0"/>
                  </a:lnTo>
                  <a:close/>
                  <a:moveTo>
                    <a:pt x="1029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29" y="12"/>
                  </a:lnTo>
                  <a:lnTo>
                    <a:pt x="1028" y="12"/>
                  </a:lnTo>
                  <a:lnTo>
                    <a:pt x="1027" y="10"/>
                  </a:lnTo>
                  <a:lnTo>
                    <a:pt x="1026" y="8"/>
                  </a:lnTo>
                  <a:lnTo>
                    <a:pt x="1026" y="6"/>
                  </a:lnTo>
                  <a:lnTo>
                    <a:pt x="1026" y="4"/>
                  </a:lnTo>
                  <a:lnTo>
                    <a:pt x="1027" y="2"/>
                  </a:lnTo>
                  <a:lnTo>
                    <a:pt x="1028" y="0"/>
                  </a:lnTo>
                  <a:lnTo>
                    <a:pt x="1029" y="0"/>
                  </a:lnTo>
                  <a:lnTo>
                    <a:pt x="1029" y="0"/>
                  </a:lnTo>
                  <a:close/>
                  <a:moveTo>
                    <a:pt x="1074" y="0"/>
                  </a:moveTo>
                  <a:lnTo>
                    <a:pt x="1093" y="0"/>
                  </a:lnTo>
                  <a:lnTo>
                    <a:pt x="1094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4" y="12"/>
                  </a:lnTo>
                  <a:lnTo>
                    <a:pt x="1093" y="12"/>
                  </a:lnTo>
                  <a:lnTo>
                    <a:pt x="1074" y="12"/>
                  </a:lnTo>
                  <a:lnTo>
                    <a:pt x="1073" y="12"/>
                  </a:lnTo>
                  <a:lnTo>
                    <a:pt x="1072" y="10"/>
                  </a:lnTo>
                  <a:lnTo>
                    <a:pt x="1071" y="8"/>
                  </a:lnTo>
                  <a:lnTo>
                    <a:pt x="1071" y="6"/>
                  </a:lnTo>
                  <a:lnTo>
                    <a:pt x="1071" y="4"/>
                  </a:lnTo>
                  <a:lnTo>
                    <a:pt x="1072" y="2"/>
                  </a:lnTo>
                  <a:lnTo>
                    <a:pt x="1073" y="0"/>
                  </a:lnTo>
                  <a:lnTo>
                    <a:pt x="1074" y="0"/>
                  </a:lnTo>
                  <a:lnTo>
                    <a:pt x="1074" y="0"/>
                  </a:lnTo>
                  <a:close/>
                  <a:moveTo>
                    <a:pt x="1118" y="0"/>
                  </a:moveTo>
                  <a:lnTo>
                    <a:pt x="1137" y="0"/>
                  </a:lnTo>
                  <a:lnTo>
                    <a:pt x="1138" y="0"/>
                  </a:lnTo>
                  <a:lnTo>
                    <a:pt x="1139" y="2"/>
                  </a:lnTo>
                  <a:lnTo>
                    <a:pt x="1141" y="4"/>
                  </a:lnTo>
                  <a:lnTo>
                    <a:pt x="1141" y="6"/>
                  </a:lnTo>
                  <a:lnTo>
                    <a:pt x="1141" y="8"/>
                  </a:lnTo>
                  <a:lnTo>
                    <a:pt x="1139" y="10"/>
                  </a:lnTo>
                  <a:lnTo>
                    <a:pt x="1138" y="12"/>
                  </a:lnTo>
                  <a:lnTo>
                    <a:pt x="1137" y="12"/>
                  </a:lnTo>
                  <a:lnTo>
                    <a:pt x="1118" y="12"/>
                  </a:lnTo>
                  <a:lnTo>
                    <a:pt x="1117" y="12"/>
                  </a:lnTo>
                  <a:lnTo>
                    <a:pt x="1116" y="10"/>
                  </a:lnTo>
                  <a:lnTo>
                    <a:pt x="1115" y="8"/>
                  </a:lnTo>
                  <a:lnTo>
                    <a:pt x="1115" y="6"/>
                  </a:lnTo>
                  <a:lnTo>
                    <a:pt x="1115" y="4"/>
                  </a:lnTo>
                  <a:lnTo>
                    <a:pt x="1116" y="2"/>
                  </a:lnTo>
                  <a:lnTo>
                    <a:pt x="1117" y="0"/>
                  </a:lnTo>
                  <a:lnTo>
                    <a:pt x="1118" y="0"/>
                  </a:lnTo>
                  <a:lnTo>
                    <a:pt x="1118" y="0"/>
                  </a:lnTo>
                  <a:close/>
                  <a:moveTo>
                    <a:pt x="1163" y="0"/>
                  </a:moveTo>
                  <a:lnTo>
                    <a:pt x="1182" y="0"/>
                  </a:lnTo>
                  <a:lnTo>
                    <a:pt x="1183" y="0"/>
                  </a:lnTo>
                  <a:lnTo>
                    <a:pt x="1184" y="2"/>
                  </a:lnTo>
                  <a:lnTo>
                    <a:pt x="1185" y="4"/>
                  </a:lnTo>
                  <a:lnTo>
                    <a:pt x="1185" y="6"/>
                  </a:lnTo>
                  <a:lnTo>
                    <a:pt x="1185" y="8"/>
                  </a:lnTo>
                  <a:lnTo>
                    <a:pt x="1184" y="10"/>
                  </a:lnTo>
                  <a:lnTo>
                    <a:pt x="1183" y="12"/>
                  </a:lnTo>
                  <a:lnTo>
                    <a:pt x="1182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7" y="0"/>
                  </a:lnTo>
                  <a:lnTo>
                    <a:pt x="1228" y="0"/>
                  </a:lnTo>
                  <a:lnTo>
                    <a:pt x="1229" y="2"/>
                  </a:lnTo>
                  <a:lnTo>
                    <a:pt x="1230" y="4"/>
                  </a:lnTo>
                  <a:lnTo>
                    <a:pt x="1230" y="6"/>
                  </a:lnTo>
                  <a:lnTo>
                    <a:pt x="1230" y="8"/>
                  </a:lnTo>
                  <a:lnTo>
                    <a:pt x="1229" y="10"/>
                  </a:lnTo>
                  <a:lnTo>
                    <a:pt x="1228" y="12"/>
                  </a:lnTo>
                  <a:lnTo>
                    <a:pt x="1227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1" y="0"/>
                  </a:lnTo>
                  <a:lnTo>
                    <a:pt x="1272" y="0"/>
                  </a:lnTo>
                  <a:lnTo>
                    <a:pt x="1274" y="2"/>
                  </a:lnTo>
                  <a:lnTo>
                    <a:pt x="1275" y="4"/>
                  </a:lnTo>
                  <a:lnTo>
                    <a:pt x="1275" y="6"/>
                  </a:lnTo>
                  <a:lnTo>
                    <a:pt x="1275" y="8"/>
                  </a:lnTo>
                  <a:lnTo>
                    <a:pt x="1274" y="10"/>
                  </a:lnTo>
                  <a:lnTo>
                    <a:pt x="1272" y="12"/>
                  </a:lnTo>
                  <a:lnTo>
                    <a:pt x="1271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7" y="0"/>
                  </a:moveTo>
                  <a:lnTo>
                    <a:pt x="1316" y="0"/>
                  </a:lnTo>
                  <a:lnTo>
                    <a:pt x="1317" y="0"/>
                  </a:lnTo>
                  <a:lnTo>
                    <a:pt x="1318" y="2"/>
                  </a:lnTo>
                  <a:lnTo>
                    <a:pt x="1319" y="4"/>
                  </a:lnTo>
                  <a:lnTo>
                    <a:pt x="1319" y="6"/>
                  </a:lnTo>
                  <a:lnTo>
                    <a:pt x="1319" y="8"/>
                  </a:lnTo>
                  <a:lnTo>
                    <a:pt x="1318" y="10"/>
                  </a:lnTo>
                  <a:lnTo>
                    <a:pt x="1317" y="12"/>
                  </a:lnTo>
                  <a:lnTo>
                    <a:pt x="1316" y="12"/>
                  </a:lnTo>
                  <a:lnTo>
                    <a:pt x="1297" y="12"/>
                  </a:lnTo>
                  <a:lnTo>
                    <a:pt x="1296" y="12"/>
                  </a:lnTo>
                  <a:lnTo>
                    <a:pt x="1295" y="10"/>
                  </a:lnTo>
                  <a:lnTo>
                    <a:pt x="1294" y="8"/>
                  </a:lnTo>
                  <a:lnTo>
                    <a:pt x="1294" y="6"/>
                  </a:lnTo>
                  <a:lnTo>
                    <a:pt x="1294" y="4"/>
                  </a:lnTo>
                  <a:lnTo>
                    <a:pt x="1295" y="2"/>
                  </a:lnTo>
                  <a:lnTo>
                    <a:pt x="1296" y="0"/>
                  </a:lnTo>
                  <a:lnTo>
                    <a:pt x="1297" y="0"/>
                  </a:lnTo>
                  <a:lnTo>
                    <a:pt x="1297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4" y="4"/>
                  </a:lnTo>
                  <a:lnTo>
                    <a:pt x="1364" y="6"/>
                  </a:lnTo>
                  <a:lnTo>
                    <a:pt x="1364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8" y="8"/>
                  </a:lnTo>
                  <a:lnTo>
                    <a:pt x="1338" y="6"/>
                  </a:lnTo>
                  <a:lnTo>
                    <a:pt x="1338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6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6" y="12"/>
                  </a:lnTo>
                  <a:lnTo>
                    <a:pt x="1385" y="12"/>
                  </a:lnTo>
                  <a:lnTo>
                    <a:pt x="1384" y="10"/>
                  </a:lnTo>
                  <a:lnTo>
                    <a:pt x="1383" y="8"/>
                  </a:lnTo>
                  <a:lnTo>
                    <a:pt x="1383" y="6"/>
                  </a:lnTo>
                  <a:lnTo>
                    <a:pt x="1383" y="4"/>
                  </a:lnTo>
                  <a:lnTo>
                    <a:pt x="1384" y="2"/>
                  </a:lnTo>
                  <a:lnTo>
                    <a:pt x="1385" y="0"/>
                  </a:lnTo>
                  <a:lnTo>
                    <a:pt x="1386" y="0"/>
                  </a:lnTo>
                  <a:lnTo>
                    <a:pt x="1386" y="0"/>
                  </a:lnTo>
                  <a:close/>
                  <a:moveTo>
                    <a:pt x="1431" y="0"/>
                  </a:moveTo>
                  <a:lnTo>
                    <a:pt x="1450" y="0"/>
                  </a:lnTo>
                  <a:lnTo>
                    <a:pt x="1451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1" y="12"/>
                  </a:lnTo>
                  <a:lnTo>
                    <a:pt x="1450" y="12"/>
                  </a:lnTo>
                  <a:lnTo>
                    <a:pt x="1431" y="12"/>
                  </a:lnTo>
                  <a:lnTo>
                    <a:pt x="1430" y="12"/>
                  </a:lnTo>
                  <a:lnTo>
                    <a:pt x="1429" y="10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4"/>
                  </a:lnTo>
                  <a:lnTo>
                    <a:pt x="1429" y="2"/>
                  </a:lnTo>
                  <a:lnTo>
                    <a:pt x="1430" y="0"/>
                  </a:lnTo>
                  <a:lnTo>
                    <a:pt x="1431" y="0"/>
                  </a:lnTo>
                  <a:lnTo>
                    <a:pt x="1431" y="0"/>
                  </a:lnTo>
                  <a:close/>
                  <a:moveTo>
                    <a:pt x="1475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7" y="2"/>
                  </a:lnTo>
                  <a:lnTo>
                    <a:pt x="1498" y="4"/>
                  </a:lnTo>
                  <a:lnTo>
                    <a:pt x="1498" y="6"/>
                  </a:lnTo>
                  <a:lnTo>
                    <a:pt x="1498" y="8"/>
                  </a:lnTo>
                  <a:lnTo>
                    <a:pt x="1497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5" y="12"/>
                  </a:lnTo>
                  <a:lnTo>
                    <a:pt x="1474" y="12"/>
                  </a:lnTo>
                  <a:lnTo>
                    <a:pt x="1473" y="10"/>
                  </a:lnTo>
                  <a:lnTo>
                    <a:pt x="1472" y="8"/>
                  </a:lnTo>
                  <a:lnTo>
                    <a:pt x="1472" y="6"/>
                  </a:lnTo>
                  <a:lnTo>
                    <a:pt x="1472" y="4"/>
                  </a:lnTo>
                  <a:lnTo>
                    <a:pt x="1473" y="2"/>
                  </a:lnTo>
                  <a:lnTo>
                    <a:pt x="1474" y="0"/>
                  </a:lnTo>
                  <a:lnTo>
                    <a:pt x="1475" y="0"/>
                  </a:lnTo>
                  <a:lnTo>
                    <a:pt x="1475" y="0"/>
                  </a:lnTo>
                  <a:close/>
                  <a:moveTo>
                    <a:pt x="1520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0" y="12"/>
                  </a:lnTo>
                  <a:lnTo>
                    <a:pt x="1519" y="12"/>
                  </a:lnTo>
                  <a:lnTo>
                    <a:pt x="1518" y="10"/>
                  </a:lnTo>
                  <a:lnTo>
                    <a:pt x="1517" y="8"/>
                  </a:lnTo>
                  <a:lnTo>
                    <a:pt x="1517" y="6"/>
                  </a:lnTo>
                  <a:lnTo>
                    <a:pt x="1517" y="4"/>
                  </a:lnTo>
                  <a:lnTo>
                    <a:pt x="1518" y="2"/>
                  </a:lnTo>
                  <a:lnTo>
                    <a:pt x="1519" y="0"/>
                  </a:lnTo>
                  <a:lnTo>
                    <a:pt x="1520" y="0"/>
                  </a:lnTo>
                  <a:lnTo>
                    <a:pt x="1520" y="0"/>
                  </a:lnTo>
                  <a:close/>
                  <a:moveTo>
                    <a:pt x="1565" y="0"/>
                  </a:moveTo>
                  <a:lnTo>
                    <a:pt x="1584" y="0"/>
                  </a:lnTo>
                  <a:lnTo>
                    <a:pt x="1585" y="0"/>
                  </a:lnTo>
                  <a:lnTo>
                    <a:pt x="1586" y="2"/>
                  </a:lnTo>
                  <a:lnTo>
                    <a:pt x="1587" y="4"/>
                  </a:lnTo>
                  <a:lnTo>
                    <a:pt x="1587" y="6"/>
                  </a:lnTo>
                  <a:lnTo>
                    <a:pt x="1587" y="8"/>
                  </a:lnTo>
                  <a:lnTo>
                    <a:pt x="1586" y="10"/>
                  </a:lnTo>
                  <a:lnTo>
                    <a:pt x="1585" y="12"/>
                  </a:lnTo>
                  <a:lnTo>
                    <a:pt x="1584" y="12"/>
                  </a:lnTo>
                  <a:lnTo>
                    <a:pt x="1565" y="12"/>
                  </a:lnTo>
                  <a:lnTo>
                    <a:pt x="1564" y="12"/>
                  </a:lnTo>
                  <a:lnTo>
                    <a:pt x="1563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3" y="2"/>
                  </a:lnTo>
                  <a:lnTo>
                    <a:pt x="1564" y="0"/>
                  </a:lnTo>
                  <a:lnTo>
                    <a:pt x="1565" y="0"/>
                  </a:lnTo>
                  <a:lnTo>
                    <a:pt x="1565" y="0"/>
                  </a:lnTo>
                  <a:close/>
                  <a:moveTo>
                    <a:pt x="1610" y="0"/>
                  </a:moveTo>
                  <a:lnTo>
                    <a:pt x="1628" y="0"/>
                  </a:lnTo>
                  <a:lnTo>
                    <a:pt x="1629" y="0"/>
                  </a:lnTo>
                  <a:lnTo>
                    <a:pt x="1631" y="2"/>
                  </a:lnTo>
                  <a:lnTo>
                    <a:pt x="1632" y="4"/>
                  </a:lnTo>
                  <a:lnTo>
                    <a:pt x="1632" y="6"/>
                  </a:lnTo>
                  <a:lnTo>
                    <a:pt x="1632" y="8"/>
                  </a:lnTo>
                  <a:lnTo>
                    <a:pt x="1631" y="10"/>
                  </a:lnTo>
                  <a:lnTo>
                    <a:pt x="1629" y="12"/>
                  </a:lnTo>
                  <a:lnTo>
                    <a:pt x="1628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4" y="0"/>
                  </a:moveTo>
                  <a:lnTo>
                    <a:pt x="1673" y="0"/>
                  </a:lnTo>
                  <a:lnTo>
                    <a:pt x="1674" y="0"/>
                  </a:lnTo>
                  <a:lnTo>
                    <a:pt x="1675" y="2"/>
                  </a:lnTo>
                  <a:lnTo>
                    <a:pt x="1676" y="4"/>
                  </a:lnTo>
                  <a:lnTo>
                    <a:pt x="1676" y="6"/>
                  </a:lnTo>
                  <a:lnTo>
                    <a:pt x="1676" y="8"/>
                  </a:lnTo>
                  <a:lnTo>
                    <a:pt x="1675" y="10"/>
                  </a:lnTo>
                  <a:lnTo>
                    <a:pt x="1674" y="12"/>
                  </a:lnTo>
                  <a:lnTo>
                    <a:pt x="1673" y="12"/>
                  </a:lnTo>
                  <a:lnTo>
                    <a:pt x="1654" y="12"/>
                  </a:lnTo>
                  <a:lnTo>
                    <a:pt x="1653" y="12"/>
                  </a:lnTo>
                  <a:lnTo>
                    <a:pt x="1652" y="10"/>
                  </a:lnTo>
                  <a:lnTo>
                    <a:pt x="1651" y="8"/>
                  </a:lnTo>
                  <a:lnTo>
                    <a:pt x="1651" y="6"/>
                  </a:lnTo>
                  <a:lnTo>
                    <a:pt x="1651" y="4"/>
                  </a:lnTo>
                  <a:lnTo>
                    <a:pt x="1652" y="2"/>
                  </a:lnTo>
                  <a:lnTo>
                    <a:pt x="1653" y="0"/>
                  </a:lnTo>
                  <a:lnTo>
                    <a:pt x="1654" y="0"/>
                  </a:lnTo>
                  <a:lnTo>
                    <a:pt x="1654" y="0"/>
                  </a:lnTo>
                  <a:close/>
                  <a:moveTo>
                    <a:pt x="1699" y="0"/>
                  </a:moveTo>
                  <a:lnTo>
                    <a:pt x="1718" y="0"/>
                  </a:lnTo>
                  <a:lnTo>
                    <a:pt x="1719" y="0"/>
                  </a:lnTo>
                  <a:lnTo>
                    <a:pt x="1720" y="2"/>
                  </a:lnTo>
                  <a:lnTo>
                    <a:pt x="1721" y="4"/>
                  </a:lnTo>
                  <a:lnTo>
                    <a:pt x="1721" y="6"/>
                  </a:lnTo>
                  <a:lnTo>
                    <a:pt x="1721" y="8"/>
                  </a:lnTo>
                  <a:lnTo>
                    <a:pt x="1720" y="10"/>
                  </a:lnTo>
                  <a:lnTo>
                    <a:pt x="1719" y="12"/>
                  </a:lnTo>
                  <a:lnTo>
                    <a:pt x="1718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3" y="0"/>
                  </a:lnTo>
                  <a:lnTo>
                    <a:pt x="1764" y="0"/>
                  </a:lnTo>
                  <a:lnTo>
                    <a:pt x="1765" y="2"/>
                  </a:lnTo>
                  <a:lnTo>
                    <a:pt x="1766" y="4"/>
                  </a:lnTo>
                  <a:lnTo>
                    <a:pt x="1766" y="6"/>
                  </a:lnTo>
                  <a:lnTo>
                    <a:pt x="1766" y="8"/>
                  </a:lnTo>
                  <a:lnTo>
                    <a:pt x="1765" y="10"/>
                  </a:lnTo>
                  <a:lnTo>
                    <a:pt x="1764" y="12"/>
                  </a:lnTo>
                  <a:lnTo>
                    <a:pt x="1763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7" y="0"/>
                  </a:lnTo>
                  <a:lnTo>
                    <a:pt x="1808" y="0"/>
                  </a:lnTo>
                  <a:lnTo>
                    <a:pt x="1810" y="2"/>
                  </a:lnTo>
                  <a:lnTo>
                    <a:pt x="1811" y="4"/>
                  </a:lnTo>
                  <a:lnTo>
                    <a:pt x="1811" y="6"/>
                  </a:lnTo>
                  <a:lnTo>
                    <a:pt x="1811" y="8"/>
                  </a:lnTo>
                  <a:lnTo>
                    <a:pt x="1810" y="10"/>
                  </a:lnTo>
                  <a:lnTo>
                    <a:pt x="1808" y="12"/>
                  </a:lnTo>
                  <a:lnTo>
                    <a:pt x="1807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5" y="8"/>
                  </a:lnTo>
                  <a:lnTo>
                    <a:pt x="1785" y="6"/>
                  </a:lnTo>
                  <a:lnTo>
                    <a:pt x="1785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2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4" y="2"/>
                  </a:lnTo>
                  <a:lnTo>
                    <a:pt x="1855" y="4"/>
                  </a:lnTo>
                  <a:lnTo>
                    <a:pt x="1855" y="6"/>
                  </a:lnTo>
                  <a:lnTo>
                    <a:pt x="1855" y="8"/>
                  </a:lnTo>
                  <a:lnTo>
                    <a:pt x="1854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2" y="12"/>
                  </a:lnTo>
                  <a:lnTo>
                    <a:pt x="1831" y="12"/>
                  </a:lnTo>
                  <a:lnTo>
                    <a:pt x="1830" y="10"/>
                  </a:lnTo>
                  <a:lnTo>
                    <a:pt x="1829" y="8"/>
                  </a:lnTo>
                  <a:lnTo>
                    <a:pt x="1829" y="6"/>
                  </a:lnTo>
                  <a:lnTo>
                    <a:pt x="1829" y="4"/>
                  </a:lnTo>
                  <a:lnTo>
                    <a:pt x="1830" y="2"/>
                  </a:lnTo>
                  <a:lnTo>
                    <a:pt x="1831" y="0"/>
                  </a:lnTo>
                  <a:lnTo>
                    <a:pt x="1832" y="0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7" y="12"/>
                  </a:lnTo>
                  <a:lnTo>
                    <a:pt x="1876" y="12"/>
                  </a:lnTo>
                  <a:lnTo>
                    <a:pt x="1875" y="10"/>
                  </a:lnTo>
                  <a:lnTo>
                    <a:pt x="1874" y="8"/>
                  </a:lnTo>
                  <a:lnTo>
                    <a:pt x="1874" y="6"/>
                  </a:lnTo>
                  <a:lnTo>
                    <a:pt x="1874" y="4"/>
                  </a:lnTo>
                  <a:lnTo>
                    <a:pt x="1875" y="2"/>
                  </a:lnTo>
                  <a:lnTo>
                    <a:pt x="1876" y="0"/>
                  </a:lnTo>
                  <a:lnTo>
                    <a:pt x="1877" y="0"/>
                  </a:lnTo>
                  <a:lnTo>
                    <a:pt x="1877" y="0"/>
                  </a:lnTo>
                  <a:close/>
                  <a:moveTo>
                    <a:pt x="1922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2" y="12"/>
                  </a:lnTo>
                  <a:lnTo>
                    <a:pt x="1921" y="12"/>
                  </a:lnTo>
                  <a:lnTo>
                    <a:pt x="1920" y="10"/>
                  </a:lnTo>
                  <a:lnTo>
                    <a:pt x="1919" y="8"/>
                  </a:lnTo>
                  <a:lnTo>
                    <a:pt x="1919" y="6"/>
                  </a:lnTo>
                  <a:lnTo>
                    <a:pt x="1919" y="4"/>
                  </a:lnTo>
                  <a:lnTo>
                    <a:pt x="1920" y="2"/>
                  </a:lnTo>
                  <a:lnTo>
                    <a:pt x="1921" y="0"/>
                  </a:lnTo>
                  <a:lnTo>
                    <a:pt x="1922" y="0"/>
                  </a:lnTo>
                  <a:lnTo>
                    <a:pt x="1922" y="0"/>
                  </a:lnTo>
                  <a:close/>
                  <a:moveTo>
                    <a:pt x="1967" y="0"/>
                  </a:moveTo>
                  <a:lnTo>
                    <a:pt x="1986" y="0"/>
                  </a:lnTo>
                  <a:lnTo>
                    <a:pt x="1987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7" y="12"/>
                  </a:lnTo>
                  <a:lnTo>
                    <a:pt x="1986" y="12"/>
                  </a:lnTo>
                  <a:lnTo>
                    <a:pt x="1967" y="12"/>
                  </a:lnTo>
                  <a:lnTo>
                    <a:pt x="1966" y="12"/>
                  </a:lnTo>
                  <a:lnTo>
                    <a:pt x="1965" y="10"/>
                  </a:lnTo>
                  <a:lnTo>
                    <a:pt x="1964" y="8"/>
                  </a:lnTo>
                  <a:lnTo>
                    <a:pt x="1964" y="6"/>
                  </a:lnTo>
                  <a:lnTo>
                    <a:pt x="1964" y="4"/>
                  </a:lnTo>
                  <a:lnTo>
                    <a:pt x="1965" y="2"/>
                  </a:lnTo>
                  <a:lnTo>
                    <a:pt x="1966" y="0"/>
                  </a:lnTo>
                  <a:lnTo>
                    <a:pt x="1967" y="0"/>
                  </a:lnTo>
                  <a:lnTo>
                    <a:pt x="1967" y="0"/>
                  </a:lnTo>
                  <a:close/>
                  <a:moveTo>
                    <a:pt x="2011" y="0"/>
                  </a:moveTo>
                  <a:lnTo>
                    <a:pt x="2030" y="0"/>
                  </a:lnTo>
                  <a:lnTo>
                    <a:pt x="2031" y="0"/>
                  </a:lnTo>
                  <a:lnTo>
                    <a:pt x="2032" y="2"/>
                  </a:lnTo>
                  <a:lnTo>
                    <a:pt x="2033" y="4"/>
                  </a:lnTo>
                  <a:lnTo>
                    <a:pt x="2033" y="6"/>
                  </a:lnTo>
                  <a:lnTo>
                    <a:pt x="2033" y="8"/>
                  </a:lnTo>
                  <a:lnTo>
                    <a:pt x="2032" y="10"/>
                  </a:lnTo>
                  <a:lnTo>
                    <a:pt x="2031" y="12"/>
                  </a:lnTo>
                  <a:lnTo>
                    <a:pt x="2030" y="12"/>
                  </a:lnTo>
                  <a:lnTo>
                    <a:pt x="2011" y="12"/>
                  </a:lnTo>
                  <a:lnTo>
                    <a:pt x="2010" y="12"/>
                  </a:lnTo>
                  <a:lnTo>
                    <a:pt x="2009" y="10"/>
                  </a:lnTo>
                  <a:lnTo>
                    <a:pt x="2008" y="8"/>
                  </a:lnTo>
                  <a:lnTo>
                    <a:pt x="2008" y="6"/>
                  </a:lnTo>
                  <a:lnTo>
                    <a:pt x="2008" y="4"/>
                  </a:lnTo>
                  <a:lnTo>
                    <a:pt x="2009" y="2"/>
                  </a:lnTo>
                  <a:lnTo>
                    <a:pt x="2010" y="0"/>
                  </a:lnTo>
                  <a:lnTo>
                    <a:pt x="2011" y="0"/>
                  </a:lnTo>
                  <a:lnTo>
                    <a:pt x="2011" y="0"/>
                  </a:lnTo>
                  <a:close/>
                  <a:moveTo>
                    <a:pt x="2056" y="0"/>
                  </a:moveTo>
                  <a:lnTo>
                    <a:pt x="2075" y="0"/>
                  </a:lnTo>
                  <a:lnTo>
                    <a:pt x="2076" y="0"/>
                  </a:lnTo>
                  <a:lnTo>
                    <a:pt x="2077" y="2"/>
                  </a:lnTo>
                  <a:lnTo>
                    <a:pt x="2078" y="4"/>
                  </a:lnTo>
                  <a:lnTo>
                    <a:pt x="2078" y="6"/>
                  </a:lnTo>
                  <a:lnTo>
                    <a:pt x="2078" y="8"/>
                  </a:lnTo>
                  <a:lnTo>
                    <a:pt x="2077" y="10"/>
                  </a:lnTo>
                  <a:lnTo>
                    <a:pt x="2076" y="12"/>
                  </a:lnTo>
                  <a:lnTo>
                    <a:pt x="2075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0" y="0"/>
                  </a:lnTo>
                  <a:lnTo>
                    <a:pt x="2121" y="0"/>
                  </a:lnTo>
                  <a:lnTo>
                    <a:pt x="2122" y="2"/>
                  </a:lnTo>
                  <a:lnTo>
                    <a:pt x="2123" y="4"/>
                  </a:lnTo>
                  <a:lnTo>
                    <a:pt x="2123" y="6"/>
                  </a:lnTo>
                  <a:lnTo>
                    <a:pt x="2123" y="8"/>
                  </a:lnTo>
                  <a:lnTo>
                    <a:pt x="2122" y="10"/>
                  </a:lnTo>
                  <a:lnTo>
                    <a:pt x="2121" y="12"/>
                  </a:lnTo>
                  <a:lnTo>
                    <a:pt x="2120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4" y="0"/>
                  </a:lnTo>
                  <a:lnTo>
                    <a:pt x="2165" y="0"/>
                  </a:lnTo>
                  <a:lnTo>
                    <a:pt x="2167" y="2"/>
                  </a:lnTo>
                  <a:lnTo>
                    <a:pt x="2168" y="4"/>
                  </a:lnTo>
                  <a:lnTo>
                    <a:pt x="2168" y="6"/>
                  </a:lnTo>
                  <a:lnTo>
                    <a:pt x="2168" y="8"/>
                  </a:lnTo>
                  <a:lnTo>
                    <a:pt x="2167" y="10"/>
                  </a:lnTo>
                  <a:lnTo>
                    <a:pt x="2165" y="12"/>
                  </a:lnTo>
                  <a:lnTo>
                    <a:pt x="2164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0" y="0"/>
                  </a:moveTo>
                  <a:lnTo>
                    <a:pt x="2209" y="0"/>
                  </a:lnTo>
                  <a:lnTo>
                    <a:pt x="2210" y="0"/>
                  </a:lnTo>
                  <a:lnTo>
                    <a:pt x="2211" y="2"/>
                  </a:lnTo>
                  <a:lnTo>
                    <a:pt x="2212" y="4"/>
                  </a:lnTo>
                  <a:lnTo>
                    <a:pt x="2212" y="6"/>
                  </a:lnTo>
                  <a:lnTo>
                    <a:pt x="2212" y="8"/>
                  </a:lnTo>
                  <a:lnTo>
                    <a:pt x="2211" y="10"/>
                  </a:lnTo>
                  <a:lnTo>
                    <a:pt x="2210" y="12"/>
                  </a:lnTo>
                  <a:lnTo>
                    <a:pt x="2209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2188" y="10"/>
                  </a:lnTo>
                  <a:lnTo>
                    <a:pt x="2187" y="8"/>
                  </a:lnTo>
                  <a:lnTo>
                    <a:pt x="2187" y="6"/>
                  </a:lnTo>
                  <a:lnTo>
                    <a:pt x="2187" y="4"/>
                  </a:lnTo>
                  <a:lnTo>
                    <a:pt x="2188" y="2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2" y="10"/>
                  </a:lnTo>
                  <a:lnTo>
                    <a:pt x="2231" y="8"/>
                  </a:lnTo>
                  <a:lnTo>
                    <a:pt x="2231" y="6"/>
                  </a:lnTo>
                  <a:lnTo>
                    <a:pt x="2231" y="4"/>
                  </a:lnTo>
                  <a:lnTo>
                    <a:pt x="2232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79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79" y="12"/>
                  </a:lnTo>
                  <a:lnTo>
                    <a:pt x="2278" y="12"/>
                  </a:lnTo>
                  <a:lnTo>
                    <a:pt x="2277" y="10"/>
                  </a:lnTo>
                  <a:lnTo>
                    <a:pt x="2276" y="8"/>
                  </a:lnTo>
                  <a:lnTo>
                    <a:pt x="2276" y="6"/>
                  </a:lnTo>
                  <a:lnTo>
                    <a:pt x="2276" y="4"/>
                  </a:lnTo>
                  <a:lnTo>
                    <a:pt x="2277" y="2"/>
                  </a:lnTo>
                  <a:lnTo>
                    <a:pt x="2278" y="0"/>
                  </a:lnTo>
                  <a:lnTo>
                    <a:pt x="2279" y="0"/>
                  </a:lnTo>
                  <a:lnTo>
                    <a:pt x="2279" y="0"/>
                  </a:lnTo>
                  <a:close/>
                  <a:moveTo>
                    <a:pt x="2324" y="0"/>
                  </a:moveTo>
                  <a:lnTo>
                    <a:pt x="2343" y="0"/>
                  </a:lnTo>
                  <a:lnTo>
                    <a:pt x="2344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4" y="12"/>
                  </a:lnTo>
                  <a:lnTo>
                    <a:pt x="2343" y="12"/>
                  </a:lnTo>
                  <a:lnTo>
                    <a:pt x="2324" y="12"/>
                  </a:lnTo>
                  <a:lnTo>
                    <a:pt x="2323" y="12"/>
                  </a:lnTo>
                  <a:lnTo>
                    <a:pt x="2322" y="10"/>
                  </a:lnTo>
                  <a:lnTo>
                    <a:pt x="2321" y="8"/>
                  </a:lnTo>
                  <a:lnTo>
                    <a:pt x="2321" y="6"/>
                  </a:lnTo>
                  <a:lnTo>
                    <a:pt x="2321" y="4"/>
                  </a:lnTo>
                  <a:lnTo>
                    <a:pt x="2322" y="2"/>
                  </a:lnTo>
                  <a:lnTo>
                    <a:pt x="2323" y="0"/>
                  </a:lnTo>
                  <a:lnTo>
                    <a:pt x="2324" y="0"/>
                  </a:lnTo>
                  <a:lnTo>
                    <a:pt x="2324" y="0"/>
                  </a:lnTo>
                  <a:close/>
                  <a:moveTo>
                    <a:pt x="2368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0" y="2"/>
                  </a:lnTo>
                  <a:lnTo>
                    <a:pt x="2391" y="4"/>
                  </a:lnTo>
                  <a:lnTo>
                    <a:pt x="2391" y="6"/>
                  </a:lnTo>
                  <a:lnTo>
                    <a:pt x="2391" y="8"/>
                  </a:lnTo>
                  <a:lnTo>
                    <a:pt x="2390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68" y="12"/>
                  </a:lnTo>
                  <a:lnTo>
                    <a:pt x="2367" y="12"/>
                  </a:lnTo>
                  <a:lnTo>
                    <a:pt x="2366" y="10"/>
                  </a:lnTo>
                  <a:lnTo>
                    <a:pt x="2365" y="8"/>
                  </a:lnTo>
                  <a:lnTo>
                    <a:pt x="2365" y="6"/>
                  </a:lnTo>
                  <a:lnTo>
                    <a:pt x="2365" y="4"/>
                  </a:lnTo>
                  <a:lnTo>
                    <a:pt x="2366" y="2"/>
                  </a:lnTo>
                  <a:lnTo>
                    <a:pt x="2367" y="0"/>
                  </a:lnTo>
                  <a:lnTo>
                    <a:pt x="2368" y="0"/>
                  </a:lnTo>
                  <a:lnTo>
                    <a:pt x="2368" y="0"/>
                  </a:lnTo>
                  <a:close/>
                  <a:moveTo>
                    <a:pt x="2413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3" y="12"/>
                  </a:lnTo>
                  <a:lnTo>
                    <a:pt x="2412" y="12"/>
                  </a:lnTo>
                  <a:lnTo>
                    <a:pt x="2411" y="10"/>
                  </a:lnTo>
                  <a:lnTo>
                    <a:pt x="2410" y="8"/>
                  </a:lnTo>
                  <a:lnTo>
                    <a:pt x="2410" y="6"/>
                  </a:lnTo>
                  <a:lnTo>
                    <a:pt x="2410" y="4"/>
                  </a:lnTo>
                  <a:lnTo>
                    <a:pt x="2411" y="2"/>
                  </a:lnTo>
                  <a:lnTo>
                    <a:pt x="2412" y="0"/>
                  </a:lnTo>
                  <a:lnTo>
                    <a:pt x="2413" y="0"/>
                  </a:lnTo>
                  <a:lnTo>
                    <a:pt x="2413" y="0"/>
                  </a:lnTo>
                  <a:close/>
                  <a:moveTo>
                    <a:pt x="2458" y="0"/>
                  </a:moveTo>
                  <a:lnTo>
                    <a:pt x="2477" y="0"/>
                  </a:lnTo>
                  <a:lnTo>
                    <a:pt x="2478" y="0"/>
                  </a:lnTo>
                  <a:lnTo>
                    <a:pt x="2479" y="2"/>
                  </a:lnTo>
                  <a:lnTo>
                    <a:pt x="2480" y="4"/>
                  </a:lnTo>
                  <a:lnTo>
                    <a:pt x="2480" y="6"/>
                  </a:lnTo>
                  <a:lnTo>
                    <a:pt x="2480" y="8"/>
                  </a:lnTo>
                  <a:lnTo>
                    <a:pt x="2479" y="10"/>
                  </a:lnTo>
                  <a:lnTo>
                    <a:pt x="2478" y="12"/>
                  </a:lnTo>
                  <a:lnTo>
                    <a:pt x="2477" y="12"/>
                  </a:lnTo>
                  <a:lnTo>
                    <a:pt x="2458" y="12"/>
                  </a:lnTo>
                  <a:lnTo>
                    <a:pt x="2457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7" y="0"/>
                  </a:lnTo>
                  <a:lnTo>
                    <a:pt x="2458" y="0"/>
                  </a:lnTo>
                  <a:lnTo>
                    <a:pt x="2458" y="0"/>
                  </a:lnTo>
                  <a:close/>
                  <a:moveTo>
                    <a:pt x="2503" y="0"/>
                  </a:moveTo>
                  <a:lnTo>
                    <a:pt x="2521" y="0"/>
                  </a:lnTo>
                  <a:lnTo>
                    <a:pt x="2522" y="0"/>
                  </a:lnTo>
                  <a:lnTo>
                    <a:pt x="2524" y="2"/>
                  </a:lnTo>
                  <a:lnTo>
                    <a:pt x="2525" y="4"/>
                  </a:lnTo>
                  <a:lnTo>
                    <a:pt x="2525" y="6"/>
                  </a:lnTo>
                  <a:lnTo>
                    <a:pt x="2525" y="8"/>
                  </a:lnTo>
                  <a:lnTo>
                    <a:pt x="2524" y="10"/>
                  </a:lnTo>
                  <a:lnTo>
                    <a:pt x="2522" y="12"/>
                  </a:lnTo>
                  <a:lnTo>
                    <a:pt x="2521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7" y="0"/>
                  </a:moveTo>
                  <a:lnTo>
                    <a:pt x="2566" y="0"/>
                  </a:lnTo>
                  <a:lnTo>
                    <a:pt x="2567" y="0"/>
                  </a:lnTo>
                  <a:lnTo>
                    <a:pt x="2568" y="2"/>
                  </a:lnTo>
                  <a:lnTo>
                    <a:pt x="2569" y="4"/>
                  </a:lnTo>
                  <a:lnTo>
                    <a:pt x="2569" y="6"/>
                  </a:lnTo>
                  <a:lnTo>
                    <a:pt x="2569" y="8"/>
                  </a:lnTo>
                  <a:lnTo>
                    <a:pt x="2568" y="10"/>
                  </a:lnTo>
                  <a:lnTo>
                    <a:pt x="2567" y="12"/>
                  </a:lnTo>
                  <a:lnTo>
                    <a:pt x="2566" y="12"/>
                  </a:lnTo>
                  <a:lnTo>
                    <a:pt x="2547" y="12"/>
                  </a:lnTo>
                  <a:lnTo>
                    <a:pt x="2546" y="12"/>
                  </a:lnTo>
                  <a:lnTo>
                    <a:pt x="2545" y="10"/>
                  </a:lnTo>
                  <a:lnTo>
                    <a:pt x="2544" y="8"/>
                  </a:lnTo>
                  <a:lnTo>
                    <a:pt x="2544" y="6"/>
                  </a:lnTo>
                  <a:lnTo>
                    <a:pt x="2544" y="4"/>
                  </a:lnTo>
                  <a:lnTo>
                    <a:pt x="2545" y="2"/>
                  </a:lnTo>
                  <a:lnTo>
                    <a:pt x="2546" y="0"/>
                  </a:lnTo>
                  <a:lnTo>
                    <a:pt x="2547" y="0"/>
                  </a:lnTo>
                  <a:lnTo>
                    <a:pt x="2547" y="0"/>
                  </a:lnTo>
                  <a:close/>
                  <a:moveTo>
                    <a:pt x="2592" y="0"/>
                  </a:moveTo>
                  <a:lnTo>
                    <a:pt x="2611" y="0"/>
                  </a:lnTo>
                  <a:lnTo>
                    <a:pt x="2612" y="0"/>
                  </a:lnTo>
                  <a:lnTo>
                    <a:pt x="2613" y="2"/>
                  </a:lnTo>
                  <a:lnTo>
                    <a:pt x="2614" y="4"/>
                  </a:lnTo>
                  <a:lnTo>
                    <a:pt x="2614" y="6"/>
                  </a:lnTo>
                  <a:lnTo>
                    <a:pt x="2614" y="8"/>
                  </a:lnTo>
                  <a:lnTo>
                    <a:pt x="2613" y="10"/>
                  </a:lnTo>
                  <a:lnTo>
                    <a:pt x="2612" y="12"/>
                  </a:lnTo>
                  <a:lnTo>
                    <a:pt x="2611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6" y="0"/>
                  </a:lnTo>
                  <a:lnTo>
                    <a:pt x="2657" y="0"/>
                  </a:lnTo>
                  <a:lnTo>
                    <a:pt x="2658" y="2"/>
                  </a:lnTo>
                  <a:lnTo>
                    <a:pt x="2659" y="4"/>
                  </a:lnTo>
                  <a:lnTo>
                    <a:pt x="2659" y="6"/>
                  </a:lnTo>
                  <a:lnTo>
                    <a:pt x="2659" y="8"/>
                  </a:lnTo>
                  <a:lnTo>
                    <a:pt x="2658" y="10"/>
                  </a:lnTo>
                  <a:lnTo>
                    <a:pt x="2657" y="12"/>
                  </a:lnTo>
                  <a:lnTo>
                    <a:pt x="2656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0" y="0"/>
                  </a:lnTo>
                  <a:lnTo>
                    <a:pt x="2701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1" y="12"/>
                  </a:lnTo>
                  <a:lnTo>
                    <a:pt x="2700" y="12"/>
                  </a:lnTo>
                  <a:lnTo>
                    <a:pt x="2682" y="12"/>
                  </a:lnTo>
                  <a:lnTo>
                    <a:pt x="2680" y="12"/>
                  </a:lnTo>
                  <a:lnTo>
                    <a:pt x="2679" y="10"/>
                  </a:lnTo>
                  <a:lnTo>
                    <a:pt x="2678" y="8"/>
                  </a:lnTo>
                  <a:lnTo>
                    <a:pt x="2678" y="6"/>
                  </a:lnTo>
                  <a:lnTo>
                    <a:pt x="2678" y="4"/>
                  </a:lnTo>
                  <a:lnTo>
                    <a:pt x="2679" y="2"/>
                  </a:lnTo>
                  <a:lnTo>
                    <a:pt x="2680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5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7" y="2"/>
                  </a:lnTo>
                  <a:lnTo>
                    <a:pt x="2748" y="4"/>
                  </a:lnTo>
                  <a:lnTo>
                    <a:pt x="2748" y="6"/>
                  </a:lnTo>
                  <a:lnTo>
                    <a:pt x="2748" y="8"/>
                  </a:lnTo>
                  <a:lnTo>
                    <a:pt x="2747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5" y="12"/>
                  </a:lnTo>
                  <a:lnTo>
                    <a:pt x="2724" y="12"/>
                  </a:lnTo>
                  <a:lnTo>
                    <a:pt x="2723" y="10"/>
                  </a:lnTo>
                  <a:lnTo>
                    <a:pt x="2722" y="8"/>
                  </a:lnTo>
                  <a:lnTo>
                    <a:pt x="2722" y="6"/>
                  </a:lnTo>
                  <a:lnTo>
                    <a:pt x="2722" y="4"/>
                  </a:lnTo>
                  <a:lnTo>
                    <a:pt x="2723" y="2"/>
                  </a:lnTo>
                  <a:lnTo>
                    <a:pt x="2724" y="0"/>
                  </a:lnTo>
                  <a:lnTo>
                    <a:pt x="2725" y="0"/>
                  </a:lnTo>
                  <a:lnTo>
                    <a:pt x="2725" y="0"/>
                  </a:lnTo>
                  <a:close/>
                  <a:moveTo>
                    <a:pt x="2770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0" y="12"/>
                  </a:lnTo>
                  <a:lnTo>
                    <a:pt x="2769" y="12"/>
                  </a:lnTo>
                  <a:lnTo>
                    <a:pt x="2768" y="10"/>
                  </a:lnTo>
                  <a:lnTo>
                    <a:pt x="2767" y="8"/>
                  </a:lnTo>
                  <a:lnTo>
                    <a:pt x="2767" y="6"/>
                  </a:lnTo>
                  <a:lnTo>
                    <a:pt x="2767" y="4"/>
                  </a:lnTo>
                  <a:lnTo>
                    <a:pt x="2768" y="2"/>
                  </a:lnTo>
                  <a:lnTo>
                    <a:pt x="2769" y="0"/>
                  </a:lnTo>
                  <a:lnTo>
                    <a:pt x="2770" y="0"/>
                  </a:lnTo>
                  <a:lnTo>
                    <a:pt x="2770" y="0"/>
                  </a:lnTo>
                  <a:close/>
                  <a:moveTo>
                    <a:pt x="2815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5" y="12"/>
                  </a:lnTo>
                  <a:lnTo>
                    <a:pt x="2814" y="12"/>
                  </a:lnTo>
                  <a:lnTo>
                    <a:pt x="2813" y="10"/>
                  </a:lnTo>
                  <a:lnTo>
                    <a:pt x="2812" y="8"/>
                  </a:lnTo>
                  <a:lnTo>
                    <a:pt x="2812" y="6"/>
                  </a:lnTo>
                  <a:lnTo>
                    <a:pt x="2812" y="4"/>
                  </a:lnTo>
                  <a:lnTo>
                    <a:pt x="2813" y="2"/>
                  </a:lnTo>
                  <a:lnTo>
                    <a:pt x="2814" y="0"/>
                  </a:lnTo>
                  <a:lnTo>
                    <a:pt x="2815" y="0"/>
                  </a:lnTo>
                  <a:lnTo>
                    <a:pt x="2815" y="0"/>
                  </a:lnTo>
                  <a:close/>
                  <a:moveTo>
                    <a:pt x="2860" y="0"/>
                  </a:moveTo>
                  <a:lnTo>
                    <a:pt x="2878" y="0"/>
                  </a:lnTo>
                  <a:lnTo>
                    <a:pt x="2880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0" y="12"/>
                  </a:lnTo>
                  <a:lnTo>
                    <a:pt x="2878" y="12"/>
                  </a:lnTo>
                  <a:lnTo>
                    <a:pt x="2860" y="12"/>
                  </a:lnTo>
                  <a:lnTo>
                    <a:pt x="2859" y="12"/>
                  </a:lnTo>
                  <a:lnTo>
                    <a:pt x="2858" y="10"/>
                  </a:lnTo>
                  <a:lnTo>
                    <a:pt x="2857" y="8"/>
                  </a:lnTo>
                  <a:lnTo>
                    <a:pt x="2857" y="6"/>
                  </a:lnTo>
                  <a:lnTo>
                    <a:pt x="2857" y="4"/>
                  </a:lnTo>
                  <a:lnTo>
                    <a:pt x="2858" y="2"/>
                  </a:lnTo>
                  <a:lnTo>
                    <a:pt x="2859" y="0"/>
                  </a:lnTo>
                  <a:lnTo>
                    <a:pt x="2860" y="0"/>
                  </a:lnTo>
                  <a:lnTo>
                    <a:pt x="2860" y="0"/>
                  </a:lnTo>
                  <a:close/>
                  <a:moveTo>
                    <a:pt x="2904" y="0"/>
                  </a:moveTo>
                  <a:lnTo>
                    <a:pt x="2923" y="0"/>
                  </a:lnTo>
                  <a:lnTo>
                    <a:pt x="2924" y="0"/>
                  </a:lnTo>
                  <a:lnTo>
                    <a:pt x="2925" y="2"/>
                  </a:lnTo>
                  <a:lnTo>
                    <a:pt x="2926" y="4"/>
                  </a:lnTo>
                  <a:lnTo>
                    <a:pt x="2926" y="6"/>
                  </a:lnTo>
                  <a:lnTo>
                    <a:pt x="2926" y="8"/>
                  </a:lnTo>
                  <a:lnTo>
                    <a:pt x="2925" y="10"/>
                  </a:lnTo>
                  <a:lnTo>
                    <a:pt x="2924" y="12"/>
                  </a:lnTo>
                  <a:lnTo>
                    <a:pt x="2923" y="12"/>
                  </a:lnTo>
                  <a:lnTo>
                    <a:pt x="2904" y="12"/>
                  </a:lnTo>
                  <a:lnTo>
                    <a:pt x="2903" y="12"/>
                  </a:lnTo>
                  <a:lnTo>
                    <a:pt x="2902" y="10"/>
                  </a:lnTo>
                  <a:lnTo>
                    <a:pt x="2901" y="8"/>
                  </a:lnTo>
                  <a:lnTo>
                    <a:pt x="2901" y="6"/>
                  </a:lnTo>
                  <a:lnTo>
                    <a:pt x="2901" y="4"/>
                  </a:lnTo>
                  <a:lnTo>
                    <a:pt x="2902" y="2"/>
                  </a:lnTo>
                  <a:lnTo>
                    <a:pt x="2903" y="0"/>
                  </a:lnTo>
                  <a:lnTo>
                    <a:pt x="2904" y="0"/>
                  </a:lnTo>
                  <a:lnTo>
                    <a:pt x="2904" y="0"/>
                  </a:lnTo>
                  <a:close/>
                  <a:moveTo>
                    <a:pt x="2949" y="0"/>
                  </a:moveTo>
                  <a:lnTo>
                    <a:pt x="2968" y="0"/>
                  </a:lnTo>
                  <a:lnTo>
                    <a:pt x="2969" y="0"/>
                  </a:lnTo>
                  <a:lnTo>
                    <a:pt x="2970" y="2"/>
                  </a:lnTo>
                  <a:lnTo>
                    <a:pt x="2971" y="4"/>
                  </a:lnTo>
                  <a:lnTo>
                    <a:pt x="2971" y="6"/>
                  </a:lnTo>
                  <a:lnTo>
                    <a:pt x="2971" y="8"/>
                  </a:lnTo>
                  <a:lnTo>
                    <a:pt x="2970" y="10"/>
                  </a:lnTo>
                  <a:lnTo>
                    <a:pt x="2969" y="12"/>
                  </a:lnTo>
                  <a:lnTo>
                    <a:pt x="2968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3" y="0"/>
                  </a:lnTo>
                  <a:lnTo>
                    <a:pt x="3014" y="0"/>
                  </a:lnTo>
                  <a:lnTo>
                    <a:pt x="3015" y="2"/>
                  </a:lnTo>
                  <a:lnTo>
                    <a:pt x="3016" y="4"/>
                  </a:lnTo>
                  <a:lnTo>
                    <a:pt x="3016" y="6"/>
                  </a:lnTo>
                  <a:lnTo>
                    <a:pt x="3016" y="8"/>
                  </a:lnTo>
                  <a:lnTo>
                    <a:pt x="3015" y="10"/>
                  </a:lnTo>
                  <a:lnTo>
                    <a:pt x="3014" y="12"/>
                  </a:lnTo>
                  <a:lnTo>
                    <a:pt x="3013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7" y="0"/>
                  </a:lnTo>
                  <a:lnTo>
                    <a:pt x="3058" y="0"/>
                  </a:lnTo>
                  <a:lnTo>
                    <a:pt x="3060" y="2"/>
                  </a:lnTo>
                  <a:lnTo>
                    <a:pt x="3061" y="4"/>
                  </a:lnTo>
                  <a:lnTo>
                    <a:pt x="3061" y="6"/>
                  </a:lnTo>
                  <a:lnTo>
                    <a:pt x="3061" y="8"/>
                  </a:lnTo>
                  <a:lnTo>
                    <a:pt x="3060" y="10"/>
                  </a:lnTo>
                  <a:lnTo>
                    <a:pt x="3058" y="12"/>
                  </a:lnTo>
                  <a:lnTo>
                    <a:pt x="3057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3" y="0"/>
                  </a:moveTo>
                  <a:lnTo>
                    <a:pt x="3102" y="0"/>
                  </a:lnTo>
                  <a:lnTo>
                    <a:pt x="3103" y="0"/>
                  </a:lnTo>
                  <a:lnTo>
                    <a:pt x="3104" y="2"/>
                  </a:lnTo>
                  <a:lnTo>
                    <a:pt x="3105" y="4"/>
                  </a:lnTo>
                  <a:lnTo>
                    <a:pt x="3105" y="6"/>
                  </a:lnTo>
                  <a:lnTo>
                    <a:pt x="3105" y="8"/>
                  </a:lnTo>
                  <a:lnTo>
                    <a:pt x="3104" y="10"/>
                  </a:lnTo>
                  <a:lnTo>
                    <a:pt x="3103" y="12"/>
                  </a:lnTo>
                  <a:lnTo>
                    <a:pt x="3102" y="12"/>
                  </a:lnTo>
                  <a:lnTo>
                    <a:pt x="3083" y="12"/>
                  </a:lnTo>
                  <a:lnTo>
                    <a:pt x="3082" y="12"/>
                  </a:lnTo>
                  <a:lnTo>
                    <a:pt x="3081" y="10"/>
                  </a:lnTo>
                  <a:lnTo>
                    <a:pt x="3080" y="8"/>
                  </a:lnTo>
                  <a:lnTo>
                    <a:pt x="3080" y="6"/>
                  </a:lnTo>
                  <a:lnTo>
                    <a:pt x="3080" y="4"/>
                  </a:lnTo>
                  <a:lnTo>
                    <a:pt x="3081" y="2"/>
                  </a:lnTo>
                  <a:lnTo>
                    <a:pt x="3082" y="0"/>
                  </a:lnTo>
                  <a:lnTo>
                    <a:pt x="3083" y="0"/>
                  </a:lnTo>
                  <a:lnTo>
                    <a:pt x="3083" y="0"/>
                  </a:lnTo>
                  <a:close/>
                  <a:moveTo>
                    <a:pt x="3127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7" y="12"/>
                  </a:lnTo>
                  <a:lnTo>
                    <a:pt x="3126" y="12"/>
                  </a:lnTo>
                  <a:lnTo>
                    <a:pt x="3125" y="10"/>
                  </a:lnTo>
                  <a:lnTo>
                    <a:pt x="3124" y="8"/>
                  </a:lnTo>
                  <a:lnTo>
                    <a:pt x="3124" y="6"/>
                  </a:lnTo>
                  <a:lnTo>
                    <a:pt x="3124" y="4"/>
                  </a:lnTo>
                  <a:lnTo>
                    <a:pt x="3125" y="2"/>
                  </a:lnTo>
                  <a:lnTo>
                    <a:pt x="3126" y="0"/>
                  </a:lnTo>
                  <a:lnTo>
                    <a:pt x="3127" y="0"/>
                  </a:lnTo>
                  <a:lnTo>
                    <a:pt x="3127" y="0"/>
                  </a:lnTo>
                  <a:close/>
                  <a:moveTo>
                    <a:pt x="3172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2" y="12"/>
                  </a:lnTo>
                  <a:lnTo>
                    <a:pt x="3171" y="12"/>
                  </a:lnTo>
                  <a:lnTo>
                    <a:pt x="3170" y="10"/>
                  </a:lnTo>
                  <a:lnTo>
                    <a:pt x="3169" y="8"/>
                  </a:lnTo>
                  <a:lnTo>
                    <a:pt x="3169" y="6"/>
                  </a:lnTo>
                  <a:lnTo>
                    <a:pt x="3169" y="4"/>
                  </a:lnTo>
                  <a:lnTo>
                    <a:pt x="3170" y="2"/>
                  </a:lnTo>
                  <a:lnTo>
                    <a:pt x="3171" y="0"/>
                  </a:lnTo>
                  <a:lnTo>
                    <a:pt x="3172" y="0"/>
                  </a:lnTo>
                  <a:lnTo>
                    <a:pt x="3172" y="0"/>
                  </a:lnTo>
                  <a:close/>
                  <a:moveTo>
                    <a:pt x="3217" y="0"/>
                  </a:moveTo>
                  <a:lnTo>
                    <a:pt x="3236" y="0"/>
                  </a:lnTo>
                  <a:lnTo>
                    <a:pt x="3237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7" y="12"/>
                  </a:lnTo>
                  <a:lnTo>
                    <a:pt x="3236" y="12"/>
                  </a:lnTo>
                  <a:lnTo>
                    <a:pt x="3217" y="12"/>
                  </a:lnTo>
                  <a:lnTo>
                    <a:pt x="3216" y="12"/>
                  </a:lnTo>
                  <a:lnTo>
                    <a:pt x="3215" y="10"/>
                  </a:lnTo>
                  <a:lnTo>
                    <a:pt x="3214" y="8"/>
                  </a:lnTo>
                  <a:lnTo>
                    <a:pt x="3214" y="6"/>
                  </a:lnTo>
                  <a:lnTo>
                    <a:pt x="3214" y="4"/>
                  </a:lnTo>
                  <a:lnTo>
                    <a:pt x="3215" y="2"/>
                  </a:lnTo>
                  <a:lnTo>
                    <a:pt x="3216" y="0"/>
                  </a:lnTo>
                  <a:lnTo>
                    <a:pt x="3217" y="0"/>
                  </a:lnTo>
                  <a:lnTo>
                    <a:pt x="3217" y="0"/>
                  </a:lnTo>
                  <a:close/>
                  <a:moveTo>
                    <a:pt x="3261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3" y="2"/>
                  </a:lnTo>
                  <a:lnTo>
                    <a:pt x="3284" y="4"/>
                  </a:lnTo>
                  <a:lnTo>
                    <a:pt x="3284" y="6"/>
                  </a:lnTo>
                  <a:lnTo>
                    <a:pt x="3284" y="8"/>
                  </a:lnTo>
                  <a:lnTo>
                    <a:pt x="3283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1" y="12"/>
                  </a:lnTo>
                  <a:lnTo>
                    <a:pt x="3260" y="12"/>
                  </a:lnTo>
                  <a:lnTo>
                    <a:pt x="3259" y="10"/>
                  </a:lnTo>
                  <a:lnTo>
                    <a:pt x="3258" y="8"/>
                  </a:lnTo>
                  <a:lnTo>
                    <a:pt x="3258" y="6"/>
                  </a:lnTo>
                  <a:lnTo>
                    <a:pt x="3258" y="4"/>
                  </a:lnTo>
                  <a:lnTo>
                    <a:pt x="3259" y="2"/>
                  </a:lnTo>
                  <a:lnTo>
                    <a:pt x="3260" y="0"/>
                  </a:lnTo>
                  <a:lnTo>
                    <a:pt x="3261" y="0"/>
                  </a:lnTo>
                  <a:lnTo>
                    <a:pt x="3261" y="0"/>
                  </a:lnTo>
                  <a:close/>
                  <a:moveTo>
                    <a:pt x="3306" y="0"/>
                  </a:moveTo>
                  <a:lnTo>
                    <a:pt x="3325" y="0"/>
                  </a:lnTo>
                  <a:lnTo>
                    <a:pt x="3326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6" y="12"/>
                  </a:lnTo>
                  <a:lnTo>
                    <a:pt x="3325" y="12"/>
                  </a:lnTo>
                  <a:lnTo>
                    <a:pt x="3306" y="12"/>
                  </a:lnTo>
                  <a:lnTo>
                    <a:pt x="3305" y="12"/>
                  </a:lnTo>
                  <a:lnTo>
                    <a:pt x="3304" y="10"/>
                  </a:lnTo>
                  <a:lnTo>
                    <a:pt x="3303" y="8"/>
                  </a:lnTo>
                  <a:lnTo>
                    <a:pt x="3303" y="6"/>
                  </a:lnTo>
                  <a:lnTo>
                    <a:pt x="3303" y="4"/>
                  </a:lnTo>
                  <a:lnTo>
                    <a:pt x="3304" y="2"/>
                  </a:lnTo>
                  <a:lnTo>
                    <a:pt x="3305" y="0"/>
                  </a:lnTo>
                  <a:lnTo>
                    <a:pt x="3306" y="0"/>
                  </a:lnTo>
                  <a:lnTo>
                    <a:pt x="3306" y="0"/>
                  </a:lnTo>
                  <a:close/>
                  <a:moveTo>
                    <a:pt x="3351" y="0"/>
                  </a:moveTo>
                  <a:lnTo>
                    <a:pt x="3370" y="0"/>
                  </a:lnTo>
                  <a:lnTo>
                    <a:pt x="3371" y="0"/>
                  </a:lnTo>
                  <a:lnTo>
                    <a:pt x="3372" y="2"/>
                  </a:lnTo>
                  <a:lnTo>
                    <a:pt x="3373" y="4"/>
                  </a:lnTo>
                  <a:lnTo>
                    <a:pt x="3373" y="6"/>
                  </a:lnTo>
                  <a:lnTo>
                    <a:pt x="3373" y="8"/>
                  </a:lnTo>
                  <a:lnTo>
                    <a:pt x="3372" y="10"/>
                  </a:lnTo>
                  <a:lnTo>
                    <a:pt x="3371" y="12"/>
                  </a:lnTo>
                  <a:lnTo>
                    <a:pt x="3370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4" y="0"/>
                  </a:lnTo>
                  <a:lnTo>
                    <a:pt x="3415" y="0"/>
                  </a:lnTo>
                  <a:lnTo>
                    <a:pt x="3417" y="2"/>
                  </a:lnTo>
                  <a:lnTo>
                    <a:pt x="3418" y="4"/>
                  </a:lnTo>
                  <a:lnTo>
                    <a:pt x="3418" y="6"/>
                  </a:lnTo>
                  <a:lnTo>
                    <a:pt x="3418" y="8"/>
                  </a:lnTo>
                  <a:lnTo>
                    <a:pt x="3417" y="10"/>
                  </a:lnTo>
                  <a:lnTo>
                    <a:pt x="3415" y="12"/>
                  </a:lnTo>
                  <a:lnTo>
                    <a:pt x="3414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0" y="0"/>
                  </a:moveTo>
                  <a:lnTo>
                    <a:pt x="3459" y="0"/>
                  </a:lnTo>
                  <a:lnTo>
                    <a:pt x="3460" y="0"/>
                  </a:lnTo>
                  <a:lnTo>
                    <a:pt x="3461" y="2"/>
                  </a:lnTo>
                  <a:lnTo>
                    <a:pt x="3462" y="4"/>
                  </a:lnTo>
                  <a:lnTo>
                    <a:pt x="3462" y="6"/>
                  </a:lnTo>
                  <a:lnTo>
                    <a:pt x="3462" y="8"/>
                  </a:lnTo>
                  <a:lnTo>
                    <a:pt x="3461" y="10"/>
                  </a:lnTo>
                  <a:lnTo>
                    <a:pt x="3460" y="12"/>
                  </a:lnTo>
                  <a:lnTo>
                    <a:pt x="3459" y="12"/>
                  </a:lnTo>
                  <a:lnTo>
                    <a:pt x="3440" y="12"/>
                  </a:lnTo>
                  <a:lnTo>
                    <a:pt x="3439" y="12"/>
                  </a:lnTo>
                  <a:lnTo>
                    <a:pt x="3438" y="10"/>
                  </a:lnTo>
                  <a:lnTo>
                    <a:pt x="3437" y="8"/>
                  </a:lnTo>
                  <a:lnTo>
                    <a:pt x="3437" y="6"/>
                  </a:lnTo>
                  <a:lnTo>
                    <a:pt x="3437" y="4"/>
                  </a:lnTo>
                  <a:lnTo>
                    <a:pt x="3438" y="2"/>
                  </a:lnTo>
                  <a:lnTo>
                    <a:pt x="3439" y="0"/>
                  </a:lnTo>
                  <a:lnTo>
                    <a:pt x="3440" y="0"/>
                  </a:lnTo>
                  <a:lnTo>
                    <a:pt x="3440" y="0"/>
                  </a:lnTo>
                  <a:close/>
                  <a:moveTo>
                    <a:pt x="3485" y="0"/>
                  </a:moveTo>
                  <a:lnTo>
                    <a:pt x="3504" y="0"/>
                  </a:lnTo>
                  <a:lnTo>
                    <a:pt x="3505" y="0"/>
                  </a:lnTo>
                  <a:lnTo>
                    <a:pt x="3506" y="2"/>
                  </a:lnTo>
                  <a:lnTo>
                    <a:pt x="3507" y="4"/>
                  </a:lnTo>
                  <a:lnTo>
                    <a:pt x="3507" y="6"/>
                  </a:lnTo>
                  <a:lnTo>
                    <a:pt x="3507" y="8"/>
                  </a:lnTo>
                  <a:lnTo>
                    <a:pt x="3506" y="10"/>
                  </a:lnTo>
                  <a:lnTo>
                    <a:pt x="3505" y="12"/>
                  </a:lnTo>
                  <a:lnTo>
                    <a:pt x="3504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0" y="0"/>
                  </a:lnTo>
                  <a:lnTo>
                    <a:pt x="3551" y="2"/>
                  </a:lnTo>
                  <a:lnTo>
                    <a:pt x="3552" y="4"/>
                  </a:lnTo>
                  <a:lnTo>
                    <a:pt x="3552" y="6"/>
                  </a:lnTo>
                  <a:lnTo>
                    <a:pt x="3552" y="8"/>
                  </a:lnTo>
                  <a:lnTo>
                    <a:pt x="3551" y="10"/>
                  </a:lnTo>
                  <a:lnTo>
                    <a:pt x="3550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4" y="0"/>
                  </a:moveTo>
                  <a:lnTo>
                    <a:pt x="3593" y="0"/>
                  </a:lnTo>
                  <a:lnTo>
                    <a:pt x="3594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4" y="12"/>
                  </a:lnTo>
                  <a:lnTo>
                    <a:pt x="3593" y="12"/>
                  </a:lnTo>
                  <a:lnTo>
                    <a:pt x="3574" y="12"/>
                  </a:lnTo>
                  <a:lnTo>
                    <a:pt x="3573" y="12"/>
                  </a:lnTo>
                  <a:lnTo>
                    <a:pt x="3572" y="10"/>
                  </a:lnTo>
                  <a:lnTo>
                    <a:pt x="3571" y="8"/>
                  </a:lnTo>
                  <a:lnTo>
                    <a:pt x="3571" y="6"/>
                  </a:lnTo>
                  <a:lnTo>
                    <a:pt x="3571" y="4"/>
                  </a:lnTo>
                  <a:lnTo>
                    <a:pt x="3572" y="2"/>
                  </a:lnTo>
                  <a:lnTo>
                    <a:pt x="3573" y="0"/>
                  </a:lnTo>
                  <a:lnTo>
                    <a:pt x="3574" y="0"/>
                  </a:lnTo>
                  <a:lnTo>
                    <a:pt x="3574" y="0"/>
                  </a:lnTo>
                  <a:close/>
                  <a:moveTo>
                    <a:pt x="3618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0" y="2"/>
                  </a:lnTo>
                  <a:lnTo>
                    <a:pt x="3641" y="4"/>
                  </a:lnTo>
                  <a:lnTo>
                    <a:pt x="3641" y="6"/>
                  </a:lnTo>
                  <a:lnTo>
                    <a:pt x="3641" y="8"/>
                  </a:lnTo>
                  <a:lnTo>
                    <a:pt x="3640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18" y="12"/>
                  </a:lnTo>
                  <a:lnTo>
                    <a:pt x="3617" y="12"/>
                  </a:lnTo>
                  <a:lnTo>
                    <a:pt x="3616" y="10"/>
                  </a:lnTo>
                  <a:lnTo>
                    <a:pt x="3615" y="8"/>
                  </a:lnTo>
                  <a:lnTo>
                    <a:pt x="3615" y="6"/>
                  </a:lnTo>
                  <a:lnTo>
                    <a:pt x="3615" y="4"/>
                  </a:lnTo>
                  <a:lnTo>
                    <a:pt x="3616" y="2"/>
                  </a:lnTo>
                  <a:lnTo>
                    <a:pt x="3617" y="0"/>
                  </a:lnTo>
                  <a:lnTo>
                    <a:pt x="3618" y="0"/>
                  </a:lnTo>
                  <a:lnTo>
                    <a:pt x="3618" y="0"/>
                  </a:lnTo>
                  <a:close/>
                  <a:moveTo>
                    <a:pt x="3663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3" y="12"/>
                  </a:lnTo>
                  <a:lnTo>
                    <a:pt x="3662" y="12"/>
                  </a:lnTo>
                  <a:lnTo>
                    <a:pt x="3661" y="10"/>
                  </a:lnTo>
                  <a:lnTo>
                    <a:pt x="3660" y="8"/>
                  </a:lnTo>
                  <a:lnTo>
                    <a:pt x="3660" y="6"/>
                  </a:lnTo>
                  <a:lnTo>
                    <a:pt x="3660" y="4"/>
                  </a:lnTo>
                  <a:lnTo>
                    <a:pt x="3661" y="2"/>
                  </a:lnTo>
                  <a:lnTo>
                    <a:pt x="3662" y="0"/>
                  </a:lnTo>
                  <a:lnTo>
                    <a:pt x="3663" y="0"/>
                  </a:lnTo>
                  <a:lnTo>
                    <a:pt x="3663" y="0"/>
                  </a:lnTo>
                  <a:close/>
                  <a:moveTo>
                    <a:pt x="3708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8" y="12"/>
                  </a:lnTo>
                  <a:lnTo>
                    <a:pt x="3707" y="12"/>
                  </a:lnTo>
                  <a:lnTo>
                    <a:pt x="3706" y="10"/>
                  </a:lnTo>
                  <a:lnTo>
                    <a:pt x="3705" y="8"/>
                  </a:lnTo>
                  <a:lnTo>
                    <a:pt x="3705" y="6"/>
                  </a:lnTo>
                  <a:lnTo>
                    <a:pt x="3705" y="4"/>
                  </a:lnTo>
                  <a:lnTo>
                    <a:pt x="3706" y="2"/>
                  </a:lnTo>
                  <a:lnTo>
                    <a:pt x="3707" y="0"/>
                  </a:lnTo>
                  <a:lnTo>
                    <a:pt x="3708" y="0"/>
                  </a:lnTo>
                  <a:lnTo>
                    <a:pt x="3708" y="0"/>
                  </a:lnTo>
                  <a:close/>
                  <a:moveTo>
                    <a:pt x="3753" y="0"/>
                  </a:moveTo>
                  <a:lnTo>
                    <a:pt x="3771" y="0"/>
                  </a:lnTo>
                  <a:lnTo>
                    <a:pt x="3772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2" y="12"/>
                  </a:lnTo>
                  <a:lnTo>
                    <a:pt x="3771" y="12"/>
                  </a:lnTo>
                  <a:lnTo>
                    <a:pt x="3753" y="12"/>
                  </a:lnTo>
                  <a:lnTo>
                    <a:pt x="3752" y="12"/>
                  </a:lnTo>
                  <a:lnTo>
                    <a:pt x="3751" y="10"/>
                  </a:lnTo>
                  <a:lnTo>
                    <a:pt x="3750" y="8"/>
                  </a:lnTo>
                  <a:lnTo>
                    <a:pt x="3750" y="6"/>
                  </a:lnTo>
                  <a:lnTo>
                    <a:pt x="3750" y="4"/>
                  </a:lnTo>
                  <a:lnTo>
                    <a:pt x="3751" y="2"/>
                  </a:lnTo>
                  <a:lnTo>
                    <a:pt x="3752" y="0"/>
                  </a:lnTo>
                  <a:lnTo>
                    <a:pt x="3753" y="0"/>
                  </a:lnTo>
                  <a:lnTo>
                    <a:pt x="3753" y="0"/>
                  </a:lnTo>
                  <a:close/>
                  <a:moveTo>
                    <a:pt x="3797" y="0"/>
                  </a:moveTo>
                  <a:lnTo>
                    <a:pt x="3816" y="0"/>
                  </a:lnTo>
                  <a:lnTo>
                    <a:pt x="3817" y="0"/>
                  </a:lnTo>
                  <a:lnTo>
                    <a:pt x="3818" y="2"/>
                  </a:lnTo>
                  <a:lnTo>
                    <a:pt x="3819" y="4"/>
                  </a:lnTo>
                  <a:lnTo>
                    <a:pt x="3819" y="6"/>
                  </a:lnTo>
                  <a:lnTo>
                    <a:pt x="3819" y="8"/>
                  </a:lnTo>
                  <a:lnTo>
                    <a:pt x="3818" y="10"/>
                  </a:lnTo>
                  <a:lnTo>
                    <a:pt x="3817" y="12"/>
                  </a:lnTo>
                  <a:lnTo>
                    <a:pt x="3816" y="12"/>
                  </a:lnTo>
                  <a:lnTo>
                    <a:pt x="3797" y="12"/>
                  </a:lnTo>
                  <a:lnTo>
                    <a:pt x="3796" y="12"/>
                  </a:lnTo>
                  <a:lnTo>
                    <a:pt x="3795" y="10"/>
                  </a:lnTo>
                  <a:lnTo>
                    <a:pt x="3794" y="8"/>
                  </a:lnTo>
                  <a:lnTo>
                    <a:pt x="3794" y="6"/>
                  </a:lnTo>
                  <a:lnTo>
                    <a:pt x="3794" y="4"/>
                  </a:lnTo>
                  <a:lnTo>
                    <a:pt x="3795" y="2"/>
                  </a:lnTo>
                  <a:lnTo>
                    <a:pt x="3796" y="0"/>
                  </a:lnTo>
                  <a:lnTo>
                    <a:pt x="3797" y="0"/>
                  </a:lnTo>
                  <a:lnTo>
                    <a:pt x="3797" y="0"/>
                  </a:lnTo>
                  <a:close/>
                  <a:moveTo>
                    <a:pt x="3842" y="0"/>
                  </a:moveTo>
                  <a:lnTo>
                    <a:pt x="3861" y="0"/>
                  </a:lnTo>
                  <a:lnTo>
                    <a:pt x="3862" y="0"/>
                  </a:lnTo>
                  <a:lnTo>
                    <a:pt x="3863" y="2"/>
                  </a:lnTo>
                  <a:lnTo>
                    <a:pt x="3864" y="4"/>
                  </a:lnTo>
                  <a:lnTo>
                    <a:pt x="3864" y="6"/>
                  </a:lnTo>
                  <a:lnTo>
                    <a:pt x="3864" y="8"/>
                  </a:lnTo>
                  <a:lnTo>
                    <a:pt x="3863" y="10"/>
                  </a:lnTo>
                  <a:lnTo>
                    <a:pt x="3862" y="12"/>
                  </a:lnTo>
                  <a:lnTo>
                    <a:pt x="3861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6" y="0"/>
                  </a:lnTo>
                  <a:lnTo>
                    <a:pt x="3907" y="0"/>
                  </a:lnTo>
                  <a:lnTo>
                    <a:pt x="3908" y="2"/>
                  </a:lnTo>
                  <a:lnTo>
                    <a:pt x="3909" y="4"/>
                  </a:lnTo>
                  <a:lnTo>
                    <a:pt x="3909" y="6"/>
                  </a:lnTo>
                  <a:lnTo>
                    <a:pt x="3909" y="8"/>
                  </a:lnTo>
                  <a:lnTo>
                    <a:pt x="3908" y="10"/>
                  </a:lnTo>
                  <a:lnTo>
                    <a:pt x="3907" y="12"/>
                  </a:lnTo>
                  <a:lnTo>
                    <a:pt x="3906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0" y="0"/>
                  </a:lnTo>
                  <a:lnTo>
                    <a:pt x="3951" y="0"/>
                  </a:lnTo>
                  <a:lnTo>
                    <a:pt x="3953" y="2"/>
                  </a:lnTo>
                  <a:lnTo>
                    <a:pt x="3954" y="4"/>
                  </a:lnTo>
                  <a:lnTo>
                    <a:pt x="3954" y="6"/>
                  </a:lnTo>
                  <a:lnTo>
                    <a:pt x="3954" y="8"/>
                  </a:lnTo>
                  <a:lnTo>
                    <a:pt x="3953" y="10"/>
                  </a:lnTo>
                  <a:lnTo>
                    <a:pt x="3951" y="12"/>
                  </a:lnTo>
                  <a:lnTo>
                    <a:pt x="3950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6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7" y="2"/>
                  </a:lnTo>
                  <a:lnTo>
                    <a:pt x="3998" y="4"/>
                  </a:lnTo>
                  <a:lnTo>
                    <a:pt x="3998" y="6"/>
                  </a:lnTo>
                  <a:lnTo>
                    <a:pt x="3998" y="8"/>
                  </a:lnTo>
                  <a:lnTo>
                    <a:pt x="3997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6" y="12"/>
                  </a:lnTo>
                  <a:lnTo>
                    <a:pt x="3975" y="12"/>
                  </a:lnTo>
                  <a:lnTo>
                    <a:pt x="3974" y="10"/>
                  </a:lnTo>
                  <a:lnTo>
                    <a:pt x="3973" y="8"/>
                  </a:lnTo>
                  <a:lnTo>
                    <a:pt x="3973" y="6"/>
                  </a:lnTo>
                  <a:lnTo>
                    <a:pt x="3973" y="4"/>
                  </a:lnTo>
                  <a:lnTo>
                    <a:pt x="3974" y="2"/>
                  </a:lnTo>
                  <a:lnTo>
                    <a:pt x="3975" y="0"/>
                  </a:lnTo>
                  <a:lnTo>
                    <a:pt x="3976" y="0"/>
                  </a:lnTo>
                  <a:lnTo>
                    <a:pt x="3976" y="0"/>
                  </a:lnTo>
                  <a:close/>
                  <a:moveTo>
                    <a:pt x="4020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0" y="12"/>
                  </a:lnTo>
                  <a:lnTo>
                    <a:pt x="4019" y="12"/>
                  </a:lnTo>
                  <a:lnTo>
                    <a:pt x="4018" y="10"/>
                  </a:lnTo>
                  <a:lnTo>
                    <a:pt x="4017" y="8"/>
                  </a:lnTo>
                  <a:lnTo>
                    <a:pt x="4017" y="6"/>
                  </a:lnTo>
                  <a:lnTo>
                    <a:pt x="4017" y="4"/>
                  </a:lnTo>
                  <a:lnTo>
                    <a:pt x="4018" y="2"/>
                  </a:lnTo>
                  <a:lnTo>
                    <a:pt x="4019" y="0"/>
                  </a:lnTo>
                  <a:lnTo>
                    <a:pt x="4020" y="0"/>
                  </a:lnTo>
                  <a:lnTo>
                    <a:pt x="4020" y="0"/>
                  </a:lnTo>
                  <a:close/>
                  <a:moveTo>
                    <a:pt x="4065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5" y="12"/>
                  </a:lnTo>
                  <a:lnTo>
                    <a:pt x="4064" y="12"/>
                  </a:lnTo>
                  <a:lnTo>
                    <a:pt x="4063" y="10"/>
                  </a:lnTo>
                  <a:lnTo>
                    <a:pt x="4062" y="8"/>
                  </a:lnTo>
                  <a:lnTo>
                    <a:pt x="4062" y="6"/>
                  </a:lnTo>
                  <a:lnTo>
                    <a:pt x="4062" y="4"/>
                  </a:lnTo>
                  <a:lnTo>
                    <a:pt x="4063" y="2"/>
                  </a:lnTo>
                  <a:lnTo>
                    <a:pt x="4064" y="0"/>
                  </a:lnTo>
                  <a:lnTo>
                    <a:pt x="4065" y="0"/>
                  </a:lnTo>
                  <a:lnTo>
                    <a:pt x="4065" y="0"/>
                  </a:lnTo>
                  <a:close/>
                  <a:moveTo>
                    <a:pt x="4110" y="0"/>
                  </a:moveTo>
                  <a:lnTo>
                    <a:pt x="4129" y="0"/>
                  </a:lnTo>
                  <a:lnTo>
                    <a:pt x="4130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0" y="12"/>
                  </a:lnTo>
                  <a:lnTo>
                    <a:pt x="4129" y="12"/>
                  </a:lnTo>
                  <a:lnTo>
                    <a:pt x="4110" y="12"/>
                  </a:lnTo>
                  <a:lnTo>
                    <a:pt x="4109" y="12"/>
                  </a:lnTo>
                  <a:lnTo>
                    <a:pt x="4108" y="10"/>
                  </a:lnTo>
                  <a:lnTo>
                    <a:pt x="4107" y="8"/>
                  </a:lnTo>
                  <a:lnTo>
                    <a:pt x="4107" y="6"/>
                  </a:lnTo>
                  <a:lnTo>
                    <a:pt x="4107" y="4"/>
                  </a:lnTo>
                  <a:lnTo>
                    <a:pt x="4108" y="2"/>
                  </a:lnTo>
                  <a:lnTo>
                    <a:pt x="4109" y="0"/>
                  </a:lnTo>
                  <a:lnTo>
                    <a:pt x="4110" y="0"/>
                  </a:lnTo>
                  <a:lnTo>
                    <a:pt x="4110" y="0"/>
                  </a:lnTo>
                  <a:close/>
                  <a:moveTo>
                    <a:pt x="4154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6" y="2"/>
                  </a:lnTo>
                  <a:lnTo>
                    <a:pt x="4177" y="4"/>
                  </a:lnTo>
                  <a:lnTo>
                    <a:pt x="4177" y="6"/>
                  </a:lnTo>
                  <a:lnTo>
                    <a:pt x="4177" y="8"/>
                  </a:lnTo>
                  <a:lnTo>
                    <a:pt x="4176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4" y="12"/>
                  </a:lnTo>
                  <a:lnTo>
                    <a:pt x="4153" y="12"/>
                  </a:lnTo>
                  <a:lnTo>
                    <a:pt x="4152" y="10"/>
                  </a:lnTo>
                  <a:lnTo>
                    <a:pt x="4151" y="8"/>
                  </a:lnTo>
                  <a:lnTo>
                    <a:pt x="4151" y="6"/>
                  </a:lnTo>
                  <a:lnTo>
                    <a:pt x="4151" y="4"/>
                  </a:lnTo>
                  <a:lnTo>
                    <a:pt x="4152" y="2"/>
                  </a:lnTo>
                  <a:lnTo>
                    <a:pt x="4153" y="0"/>
                  </a:lnTo>
                  <a:lnTo>
                    <a:pt x="4154" y="0"/>
                  </a:lnTo>
                  <a:lnTo>
                    <a:pt x="4154" y="0"/>
                  </a:lnTo>
                  <a:close/>
                  <a:moveTo>
                    <a:pt x="4199" y="0"/>
                  </a:moveTo>
                  <a:lnTo>
                    <a:pt x="4218" y="0"/>
                  </a:lnTo>
                  <a:lnTo>
                    <a:pt x="4219" y="0"/>
                  </a:lnTo>
                  <a:lnTo>
                    <a:pt x="4220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0" y="10"/>
                  </a:lnTo>
                  <a:lnTo>
                    <a:pt x="4219" y="12"/>
                  </a:lnTo>
                  <a:lnTo>
                    <a:pt x="4218" y="12"/>
                  </a:lnTo>
                  <a:lnTo>
                    <a:pt x="4199" y="12"/>
                  </a:lnTo>
                  <a:lnTo>
                    <a:pt x="4198" y="12"/>
                  </a:lnTo>
                  <a:lnTo>
                    <a:pt x="4197" y="10"/>
                  </a:lnTo>
                  <a:lnTo>
                    <a:pt x="4196" y="8"/>
                  </a:lnTo>
                  <a:lnTo>
                    <a:pt x="4196" y="6"/>
                  </a:lnTo>
                  <a:lnTo>
                    <a:pt x="4196" y="4"/>
                  </a:lnTo>
                  <a:lnTo>
                    <a:pt x="4197" y="2"/>
                  </a:lnTo>
                  <a:lnTo>
                    <a:pt x="4198" y="0"/>
                  </a:lnTo>
                  <a:lnTo>
                    <a:pt x="4199" y="0"/>
                  </a:lnTo>
                  <a:lnTo>
                    <a:pt x="4199" y="0"/>
                  </a:lnTo>
                  <a:close/>
                  <a:moveTo>
                    <a:pt x="4244" y="0"/>
                  </a:moveTo>
                  <a:lnTo>
                    <a:pt x="4263" y="0"/>
                  </a:lnTo>
                  <a:lnTo>
                    <a:pt x="4264" y="0"/>
                  </a:lnTo>
                  <a:lnTo>
                    <a:pt x="4265" y="2"/>
                  </a:lnTo>
                  <a:lnTo>
                    <a:pt x="4266" y="4"/>
                  </a:lnTo>
                  <a:lnTo>
                    <a:pt x="4266" y="6"/>
                  </a:lnTo>
                  <a:lnTo>
                    <a:pt x="4266" y="8"/>
                  </a:lnTo>
                  <a:lnTo>
                    <a:pt x="4265" y="10"/>
                  </a:lnTo>
                  <a:lnTo>
                    <a:pt x="4264" y="12"/>
                  </a:lnTo>
                  <a:lnTo>
                    <a:pt x="4263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7" y="0"/>
                  </a:lnTo>
                  <a:lnTo>
                    <a:pt x="4308" y="0"/>
                  </a:lnTo>
                  <a:lnTo>
                    <a:pt x="4310" y="2"/>
                  </a:lnTo>
                  <a:lnTo>
                    <a:pt x="4311" y="4"/>
                  </a:lnTo>
                  <a:lnTo>
                    <a:pt x="4311" y="6"/>
                  </a:lnTo>
                  <a:lnTo>
                    <a:pt x="4311" y="8"/>
                  </a:lnTo>
                  <a:lnTo>
                    <a:pt x="4310" y="10"/>
                  </a:lnTo>
                  <a:lnTo>
                    <a:pt x="4308" y="12"/>
                  </a:lnTo>
                  <a:lnTo>
                    <a:pt x="4307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3" y="0"/>
                  </a:moveTo>
                  <a:lnTo>
                    <a:pt x="4352" y="0"/>
                  </a:lnTo>
                  <a:lnTo>
                    <a:pt x="4353" y="0"/>
                  </a:lnTo>
                  <a:lnTo>
                    <a:pt x="4354" y="2"/>
                  </a:lnTo>
                  <a:lnTo>
                    <a:pt x="4355" y="4"/>
                  </a:lnTo>
                  <a:lnTo>
                    <a:pt x="4355" y="6"/>
                  </a:lnTo>
                  <a:lnTo>
                    <a:pt x="4355" y="8"/>
                  </a:lnTo>
                  <a:lnTo>
                    <a:pt x="4354" y="10"/>
                  </a:lnTo>
                  <a:lnTo>
                    <a:pt x="4353" y="12"/>
                  </a:lnTo>
                  <a:lnTo>
                    <a:pt x="4352" y="12"/>
                  </a:lnTo>
                  <a:lnTo>
                    <a:pt x="4333" y="12"/>
                  </a:lnTo>
                  <a:lnTo>
                    <a:pt x="4332" y="12"/>
                  </a:lnTo>
                  <a:lnTo>
                    <a:pt x="4331" y="10"/>
                  </a:lnTo>
                  <a:lnTo>
                    <a:pt x="4330" y="8"/>
                  </a:lnTo>
                  <a:lnTo>
                    <a:pt x="4330" y="6"/>
                  </a:lnTo>
                  <a:lnTo>
                    <a:pt x="4330" y="4"/>
                  </a:lnTo>
                  <a:lnTo>
                    <a:pt x="4331" y="2"/>
                  </a:lnTo>
                  <a:lnTo>
                    <a:pt x="4332" y="0"/>
                  </a:lnTo>
                  <a:lnTo>
                    <a:pt x="4333" y="0"/>
                  </a:lnTo>
                  <a:lnTo>
                    <a:pt x="4333" y="0"/>
                  </a:lnTo>
                  <a:close/>
                  <a:moveTo>
                    <a:pt x="4378" y="0"/>
                  </a:moveTo>
                  <a:lnTo>
                    <a:pt x="4397" y="0"/>
                  </a:lnTo>
                  <a:lnTo>
                    <a:pt x="4398" y="0"/>
                  </a:lnTo>
                  <a:lnTo>
                    <a:pt x="4399" y="2"/>
                  </a:lnTo>
                  <a:lnTo>
                    <a:pt x="4400" y="4"/>
                  </a:lnTo>
                  <a:lnTo>
                    <a:pt x="4400" y="6"/>
                  </a:lnTo>
                  <a:lnTo>
                    <a:pt x="4400" y="8"/>
                  </a:lnTo>
                  <a:lnTo>
                    <a:pt x="4399" y="10"/>
                  </a:lnTo>
                  <a:lnTo>
                    <a:pt x="4398" y="12"/>
                  </a:lnTo>
                  <a:lnTo>
                    <a:pt x="4397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5" y="4"/>
                  </a:lnTo>
                  <a:lnTo>
                    <a:pt x="4445" y="6"/>
                  </a:lnTo>
                  <a:lnTo>
                    <a:pt x="4445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19" y="8"/>
                  </a:lnTo>
                  <a:lnTo>
                    <a:pt x="4419" y="6"/>
                  </a:lnTo>
                  <a:lnTo>
                    <a:pt x="4419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7" y="0"/>
                  </a:moveTo>
                  <a:lnTo>
                    <a:pt x="4486" y="0"/>
                  </a:lnTo>
                  <a:lnTo>
                    <a:pt x="4487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7" y="12"/>
                  </a:lnTo>
                  <a:lnTo>
                    <a:pt x="4486" y="12"/>
                  </a:lnTo>
                  <a:lnTo>
                    <a:pt x="4467" y="12"/>
                  </a:lnTo>
                  <a:lnTo>
                    <a:pt x="4466" y="12"/>
                  </a:lnTo>
                  <a:lnTo>
                    <a:pt x="4465" y="10"/>
                  </a:lnTo>
                  <a:lnTo>
                    <a:pt x="4464" y="8"/>
                  </a:lnTo>
                  <a:lnTo>
                    <a:pt x="4464" y="6"/>
                  </a:lnTo>
                  <a:lnTo>
                    <a:pt x="4464" y="4"/>
                  </a:lnTo>
                  <a:lnTo>
                    <a:pt x="4465" y="2"/>
                  </a:lnTo>
                  <a:lnTo>
                    <a:pt x="4466" y="0"/>
                  </a:lnTo>
                  <a:lnTo>
                    <a:pt x="4467" y="0"/>
                  </a:lnTo>
                  <a:lnTo>
                    <a:pt x="4467" y="0"/>
                  </a:lnTo>
                  <a:close/>
                  <a:moveTo>
                    <a:pt x="4511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3" y="2"/>
                  </a:lnTo>
                  <a:lnTo>
                    <a:pt x="4534" y="4"/>
                  </a:lnTo>
                  <a:lnTo>
                    <a:pt x="4534" y="6"/>
                  </a:lnTo>
                  <a:lnTo>
                    <a:pt x="4534" y="8"/>
                  </a:lnTo>
                  <a:lnTo>
                    <a:pt x="4533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1" y="12"/>
                  </a:lnTo>
                  <a:lnTo>
                    <a:pt x="4510" y="12"/>
                  </a:lnTo>
                  <a:lnTo>
                    <a:pt x="4509" y="10"/>
                  </a:lnTo>
                  <a:lnTo>
                    <a:pt x="4508" y="8"/>
                  </a:lnTo>
                  <a:lnTo>
                    <a:pt x="4508" y="6"/>
                  </a:lnTo>
                  <a:lnTo>
                    <a:pt x="4508" y="4"/>
                  </a:lnTo>
                  <a:lnTo>
                    <a:pt x="4509" y="2"/>
                  </a:lnTo>
                  <a:lnTo>
                    <a:pt x="4510" y="0"/>
                  </a:lnTo>
                  <a:lnTo>
                    <a:pt x="4511" y="0"/>
                  </a:lnTo>
                  <a:lnTo>
                    <a:pt x="4511" y="0"/>
                  </a:lnTo>
                  <a:close/>
                  <a:moveTo>
                    <a:pt x="4556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6" y="12"/>
                  </a:lnTo>
                  <a:lnTo>
                    <a:pt x="4555" y="12"/>
                  </a:lnTo>
                  <a:lnTo>
                    <a:pt x="4554" y="10"/>
                  </a:lnTo>
                  <a:lnTo>
                    <a:pt x="4553" y="8"/>
                  </a:lnTo>
                  <a:lnTo>
                    <a:pt x="4553" y="6"/>
                  </a:lnTo>
                  <a:lnTo>
                    <a:pt x="4553" y="4"/>
                  </a:lnTo>
                  <a:lnTo>
                    <a:pt x="4554" y="2"/>
                  </a:lnTo>
                  <a:lnTo>
                    <a:pt x="4555" y="0"/>
                  </a:lnTo>
                  <a:lnTo>
                    <a:pt x="4556" y="0"/>
                  </a:lnTo>
                  <a:lnTo>
                    <a:pt x="4556" y="0"/>
                  </a:lnTo>
                  <a:close/>
                  <a:moveTo>
                    <a:pt x="4601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1" y="12"/>
                  </a:lnTo>
                  <a:lnTo>
                    <a:pt x="4600" y="12"/>
                  </a:lnTo>
                  <a:lnTo>
                    <a:pt x="4599" y="10"/>
                  </a:lnTo>
                  <a:lnTo>
                    <a:pt x="4598" y="8"/>
                  </a:lnTo>
                  <a:lnTo>
                    <a:pt x="4598" y="6"/>
                  </a:lnTo>
                  <a:lnTo>
                    <a:pt x="4598" y="4"/>
                  </a:lnTo>
                  <a:lnTo>
                    <a:pt x="4599" y="2"/>
                  </a:lnTo>
                  <a:lnTo>
                    <a:pt x="4600" y="0"/>
                  </a:lnTo>
                  <a:lnTo>
                    <a:pt x="4601" y="0"/>
                  </a:lnTo>
                  <a:lnTo>
                    <a:pt x="4601" y="0"/>
                  </a:lnTo>
                  <a:close/>
                  <a:moveTo>
                    <a:pt x="4646" y="0"/>
                  </a:moveTo>
                  <a:lnTo>
                    <a:pt x="4664" y="0"/>
                  </a:lnTo>
                  <a:lnTo>
                    <a:pt x="4665" y="0"/>
                  </a:lnTo>
                  <a:lnTo>
                    <a:pt x="4667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7" y="10"/>
                  </a:lnTo>
                  <a:lnTo>
                    <a:pt x="4665" y="12"/>
                  </a:lnTo>
                  <a:lnTo>
                    <a:pt x="4664" y="12"/>
                  </a:lnTo>
                  <a:lnTo>
                    <a:pt x="4646" y="12"/>
                  </a:lnTo>
                  <a:lnTo>
                    <a:pt x="4645" y="12"/>
                  </a:lnTo>
                  <a:lnTo>
                    <a:pt x="4644" y="10"/>
                  </a:lnTo>
                  <a:lnTo>
                    <a:pt x="4643" y="8"/>
                  </a:lnTo>
                  <a:lnTo>
                    <a:pt x="4643" y="6"/>
                  </a:lnTo>
                  <a:lnTo>
                    <a:pt x="4643" y="4"/>
                  </a:lnTo>
                  <a:lnTo>
                    <a:pt x="4644" y="2"/>
                  </a:lnTo>
                  <a:lnTo>
                    <a:pt x="4645" y="0"/>
                  </a:lnTo>
                  <a:lnTo>
                    <a:pt x="4646" y="0"/>
                  </a:lnTo>
                  <a:lnTo>
                    <a:pt x="4646" y="0"/>
                  </a:lnTo>
                  <a:close/>
                  <a:moveTo>
                    <a:pt x="4690" y="0"/>
                  </a:moveTo>
                  <a:lnTo>
                    <a:pt x="4709" y="0"/>
                  </a:lnTo>
                  <a:lnTo>
                    <a:pt x="4710" y="0"/>
                  </a:lnTo>
                  <a:lnTo>
                    <a:pt x="4711" y="2"/>
                  </a:lnTo>
                  <a:lnTo>
                    <a:pt x="4712" y="4"/>
                  </a:lnTo>
                  <a:lnTo>
                    <a:pt x="4712" y="6"/>
                  </a:lnTo>
                  <a:lnTo>
                    <a:pt x="4712" y="8"/>
                  </a:lnTo>
                  <a:lnTo>
                    <a:pt x="4711" y="10"/>
                  </a:lnTo>
                  <a:lnTo>
                    <a:pt x="4710" y="12"/>
                  </a:lnTo>
                  <a:lnTo>
                    <a:pt x="4709" y="12"/>
                  </a:lnTo>
                  <a:lnTo>
                    <a:pt x="4690" y="12"/>
                  </a:lnTo>
                  <a:lnTo>
                    <a:pt x="4689" y="12"/>
                  </a:lnTo>
                  <a:lnTo>
                    <a:pt x="4688" y="10"/>
                  </a:lnTo>
                  <a:lnTo>
                    <a:pt x="4687" y="8"/>
                  </a:lnTo>
                  <a:lnTo>
                    <a:pt x="4687" y="6"/>
                  </a:lnTo>
                  <a:lnTo>
                    <a:pt x="4687" y="4"/>
                  </a:lnTo>
                  <a:lnTo>
                    <a:pt x="4688" y="2"/>
                  </a:lnTo>
                  <a:lnTo>
                    <a:pt x="4689" y="0"/>
                  </a:lnTo>
                  <a:lnTo>
                    <a:pt x="4690" y="0"/>
                  </a:lnTo>
                  <a:lnTo>
                    <a:pt x="4690" y="0"/>
                  </a:lnTo>
                  <a:close/>
                  <a:moveTo>
                    <a:pt x="4735" y="0"/>
                  </a:moveTo>
                  <a:lnTo>
                    <a:pt x="4754" y="0"/>
                  </a:lnTo>
                  <a:lnTo>
                    <a:pt x="4755" y="0"/>
                  </a:lnTo>
                  <a:lnTo>
                    <a:pt x="4756" y="2"/>
                  </a:lnTo>
                  <a:lnTo>
                    <a:pt x="4757" y="4"/>
                  </a:lnTo>
                  <a:lnTo>
                    <a:pt x="4757" y="6"/>
                  </a:lnTo>
                  <a:lnTo>
                    <a:pt x="4757" y="8"/>
                  </a:lnTo>
                  <a:lnTo>
                    <a:pt x="4756" y="10"/>
                  </a:lnTo>
                  <a:lnTo>
                    <a:pt x="4755" y="12"/>
                  </a:lnTo>
                  <a:lnTo>
                    <a:pt x="4754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799" y="0"/>
                  </a:lnTo>
                  <a:lnTo>
                    <a:pt x="4800" y="0"/>
                  </a:lnTo>
                  <a:lnTo>
                    <a:pt x="4801" y="2"/>
                  </a:lnTo>
                  <a:lnTo>
                    <a:pt x="4802" y="4"/>
                  </a:lnTo>
                  <a:lnTo>
                    <a:pt x="4802" y="6"/>
                  </a:lnTo>
                  <a:lnTo>
                    <a:pt x="4802" y="8"/>
                  </a:lnTo>
                  <a:lnTo>
                    <a:pt x="4801" y="10"/>
                  </a:lnTo>
                  <a:lnTo>
                    <a:pt x="4800" y="12"/>
                  </a:lnTo>
                  <a:lnTo>
                    <a:pt x="4799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3" y="0"/>
                  </a:lnTo>
                  <a:lnTo>
                    <a:pt x="4844" y="0"/>
                  </a:lnTo>
                  <a:lnTo>
                    <a:pt x="4846" y="2"/>
                  </a:lnTo>
                  <a:lnTo>
                    <a:pt x="4847" y="4"/>
                  </a:lnTo>
                  <a:lnTo>
                    <a:pt x="4847" y="6"/>
                  </a:lnTo>
                  <a:lnTo>
                    <a:pt x="4847" y="8"/>
                  </a:lnTo>
                  <a:lnTo>
                    <a:pt x="4846" y="10"/>
                  </a:lnTo>
                  <a:lnTo>
                    <a:pt x="4844" y="12"/>
                  </a:lnTo>
                  <a:lnTo>
                    <a:pt x="4843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69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0" y="2"/>
                  </a:lnTo>
                  <a:lnTo>
                    <a:pt x="4891" y="4"/>
                  </a:lnTo>
                  <a:lnTo>
                    <a:pt x="4891" y="6"/>
                  </a:lnTo>
                  <a:lnTo>
                    <a:pt x="4891" y="8"/>
                  </a:lnTo>
                  <a:lnTo>
                    <a:pt x="4890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69" y="12"/>
                  </a:lnTo>
                  <a:lnTo>
                    <a:pt x="4868" y="12"/>
                  </a:lnTo>
                  <a:lnTo>
                    <a:pt x="4866" y="10"/>
                  </a:lnTo>
                  <a:lnTo>
                    <a:pt x="4865" y="8"/>
                  </a:lnTo>
                  <a:lnTo>
                    <a:pt x="4865" y="6"/>
                  </a:lnTo>
                  <a:lnTo>
                    <a:pt x="4865" y="4"/>
                  </a:lnTo>
                  <a:lnTo>
                    <a:pt x="4866" y="2"/>
                  </a:lnTo>
                  <a:lnTo>
                    <a:pt x="4868" y="0"/>
                  </a:lnTo>
                  <a:lnTo>
                    <a:pt x="4869" y="0"/>
                  </a:lnTo>
                  <a:lnTo>
                    <a:pt x="4869" y="0"/>
                  </a:lnTo>
                  <a:close/>
                  <a:moveTo>
                    <a:pt x="4913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3" y="12"/>
                  </a:lnTo>
                  <a:lnTo>
                    <a:pt x="4912" y="12"/>
                  </a:lnTo>
                  <a:lnTo>
                    <a:pt x="4911" y="10"/>
                  </a:lnTo>
                  <a:lnTo>
                    <a:pt x="4910" y="8"/>
                  </a:lnTo>
                  <a:lnTo>
                    <a:pt x="4910" y="6"/>
                  </a:lnTo>
                  <a:lnTo>
                    <a:pt x="4910" y="4"/>
                  </a:lnTo>
                  <a:lnTo>
                    <a:pt x="4911" y="2"/>
                  </a:lnTo>
                  <a:lnTo>
                    <a:pt x="4912" y="0"/>
                  </a:lnTo>
                  <a:lnTo>
                    <a:pt x="4913" y="0"/>
                  </a:lnTo>
                  <a:lnTo>
                    <a:pt x="4913" y="0"/>
                  </a:lnTo>
                  <a:close/>
                  <a:moveTo>
                    <a:pt x="4958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8" y="12"/>
                  </a:lnTo>
                  <a:lnTo>
                    <a:pt x="4957" y="12"/>
                  </a:lnTo>
                  <a:lnTo>
                    <a:pt x="4956" y="10"/>
                  </a:lnTo>
                  <a:lnTo>
                    <a:pt x="4955" y="8"/>
                  </a:lnTo>
                  <a:lnTo>
                    <a:pt x="4955" y="6"/>
                  </a:lnTo>
                  <a:lnTo>
                    <a:pt x="4955" y="4"/>
                  </a:lnTo>
                  <a:lnTo>
                    <a:pt x="4956" y="2"/>
                  </a:lnTo>
                  <a:lnTo>
                    <a:pt x="4957" y="0"/>
                  </a:lnTo>
                  <a:lnTo>
                    <a:pt x="4958" y="0"/>
                  </a:lnTo>
                  <a:lnTo>
                    <a:pt x="4958" y="0"/>
                  </a:lnTo>
                  <a:close/>
                  <a:moveTo>
                    <a:pt x="5003" y="0"/>
                  </a:moveTo>
                  <a:lnTo>
                    <a:pt x="5022" y="0"/>
                  </a:lnTo>
                  <a:lnTo>
                    <a:pt x="5023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3" y="12"/>
                  </a:lnTo>
                  <a:lnTo>
                    <a:pt x="5022" y="12"/>
                  </a:lnTo>
                  <a:lnTo>
                    <a:pt x="5003" y="12"/>
                  </a:lnTo>
                  <a:lnTo>
                    <a:pt x="5002" y="12"/>
                  </a:lnTo>
                  <a:lnTo>
                    <a:pt x="5001" y="10"/>
                  </a:lnTo>
                  <a:lnTo>
                    <a:pt x="5000" y="8"/>
                  </a:lnTo>
                  <a:lnTo>
                    <a:pt x="5000" y="6"/>
                  </a:lnTo>
                  <a:lnTo>
                    <a:pt x="5000" y="4"/>
                  </a:lnTo>
                  <a:lnTo>
                    <a:pt x="5001" y="2"/>
                  </a:lnTo>
                  <a:lnTo>
                    <a:pt x="5002" y="0"/>
                  </a:lnTo>
                  <a:lnTo>
                    <a:pt x="5003" y="0"/>
                  </a:lnTo>
                  <a:lnTo>
                    <a:pt x="5003" y="0"/>
                  </a:lnTo>
                  <a:close/>
                  <a:moveTo>
                    <a:pt x="5047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69" y="2"/>
                  </a:lnTo>
                  <a:lnTo>
                    <a:pt x="5070" y="4"/>
                  </a:lnTo>
                  <a:lnTo>
                    <a:pt x="5070" y="6"/>
                  </a:lnTo>
                  <a:lnTo>
                    <a:pt x="5070" y="8"/>
                  </a:lnTo>
                  <a:lnTo>
                    <a:pt x="5069" y="12"/>
                  </a:lnTo>
                  <a:lnTo>
                    <a:pt x="5068" y="13"/>
                  </a:lnTo>
                  <a:lnTo>
                    <a:pt x="5067" y="13"/>
                  </a:lnTo>
                  <a:lnTo>
                    <a:pt x="5047" y="13"/>
                  </a:lnTo>
                  <a:lnTo>
                    <a:pt x="5046" y="13"/>
                  </a:lnTo>
                  <a:lnTo>
                    <a:pt x="5045" y="12"/>
                  </a:lnTo>
                  <a:lnTo>
                    <a:pt x="5044" y="8"/>
                  </a:lnTo>
                  <a:lnTo>
                    <a:pt x="5044" y="6"/>
                  </a:lnTo>
                  <a:lnTo>
                    <a:pt x="5044" y="4"/>
                  </a:lnTo>
                  <a:lnTo>
                    <a:pt x="5045" y="2"/>
                  </a:lnTo>
                  <a:lnTo>
                    <a:pt x="5046" y="0"/>
                  </a:lnTo>
                  <a:lnTo>
                    <a:pt x="5047" y="0"/>
                  </a:lnTo>
                  <a:lnTo>
                    <a:pt x="5047" y="0"/>
                  </a:lnTo>
                  <a:close/>
                  <a:moveTo>
                    <a:pt x="5092" y="0"/>
                  </a:moveTo>
                  <a:lnTo>
                    <a:pt x="5111" y="0"/>
                  </a:lnTo>
                  <a:lnTo>
                    <a:pt x="5112" y="0"/>
                  </a:lnTo>
                  <a:lnTo>
                    <a:pt x="5113" y="2"/>
                  </a:lnTo>
                  <a:lnTo>
                    <a:pt x="5114" y="4"/>
                  </a:lnTo>
                  <a:lnTo>
                    <a:pt x="5114" y="6"/>
                  </a:lnTo>
                  <a:lnTo>
                    <a:pt x="5114" y="8"/>
                  </a:lnTo>
                  <a:lnTo>
                    <a:pt x="5113" y="12"/>
                  </a:lnTo>
                  <a:lnTo>
                    <a:pt x="5112" y="13"/>
                  </a:lnTo>
                  <a:lnTo>
                    <a:pt x="5111" y="13"/>
                  </a:lnTo>
                  <a:lnTo>
                    <a:pt x="5092" y="13"/>
                  </a:lnTo>
                  <a:lnTo>
                    <a:pt x="5091" y="13"/>
                  </a:lnTo>
                  <a:lnTo>
                    <a:pt x="5090" y="12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1" y="0"/>
                  </a:lnTo>
                  <a:lnTo>
                    <a:pt x="5092" y="0"/>
                  </a:lnTo>
                  <a:lnTo>
                    <a:pt x="5092" y="0"/>
                  </a:lnTo>
                  <a:close/>
                  <a:moveTo>
                    <a:pt x="5137" y="0"/>
                  </a:moveTo>
                  <a:lnTo>
                    <a:pt x="5141" y="0"/>
                  </a:lnTo>
                  <a:lnTo>
                    <a:pt x="5142" y="0"/>
                  </a:lnTo>
                  <a:lnTo>
                    <a:pt x="5143" y="2"/>
                  </a:lnTo>
                  <a:lnTo>
                    <a:pt x="5144" y="4"/>
                  </a:lnTo>
                  <a:lnTo>
                    <a:pt x="5144" y="6"/>
                  </a:lnTo>
                  <a:lnTo>
                    <a:pt x="5144" y="8"/>
                  </a:lnTo>
                  <a:lnTo>
                    <a:pt x="5143" y="12"/>
                  </a:lnTo>
                  <a:lnTo>
                    <a:pt x="5142" y="13"/>
                  </a:lnTo>
                  <a:lnTo>
                    <a:pt x="5141" y="13"/>
                  </a:lnTo>
                  <a:lnTo>
                    <a:pt x="5137" y="13"/>
                  </a:lnTo>
                  <a:lnTo>
                    <a:pt x="5136" y="13"/>
                  </a:lnTo>
                  <a:lnTo>
                    <a:pt x="5135" y="12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0520" y="2981160"/>
              <a:ext cx="1191960" cy="4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28760" y="302724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Evalu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8520" y="302724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ión  del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53320" y="314496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t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68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160" y="2944800"/>
              <a:ext cx="962280" cy="506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8160" y="2944800"/>
              <a:ext cx="962280" cy="50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66960" y="29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25640" y="299736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6320" y="29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7960" y="31129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agnóst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33160" y="3112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78480" y="2998800"/>
              <a:ext cx="923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75040" y="304632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26160" y="316224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itari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5456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0240" y="2998800"/>
              <a:ext cx="92412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92640" y="304632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04320" y="3162240"/>
              <a:ext cx="24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 P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5884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46360" y="2998800"/>
              <a:ext cx="107604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87480" y="3046320"/>
              <a:ext cx="77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 de la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5000" y="316224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uent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5232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8640" y="2998800"/>
              <a:ext cx="923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23600" y="3046320"/>
              <a:ext cx="56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ención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50680" y="316224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eja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892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87520" y="2220840"/>
            <a:ext cx="8167680" cy="657360"/>
            <a:chOff x="587520" y="2220840"/>
            <a:chExt cx="8167680" cy="657360"/>
          </a:xfrm>
        </p:grpSpPr>
        <p:sp>
          <p:nvSpPr>
            <p:cNvPr id="317" name=""/>
            <p:cNvSpPr/>
            <p:nvPr/>
          </p:nvSpPr>
          <p:spPr>
            <a:xfrm>
              <a:off x="587520" y="2868480"/>
              <a:ext cx="8167680" cy="9720"/>
            </a:xfrm>
            <a:custGeom>
              <a:avLst/>
              <a:gdLst/>
              <a:ahLst/>
              <a:rect l="l" t="t" r="r" b="b"/>
              <a:pathLst>
                <a:path w="5145" h="12">
                  <a:moveTo>
                    <a:pt x="3" y="0"/>
                  </a:moveTo>
                  <a:lnTo>
                    <a:pt x="22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8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69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8" y="0"/>
                  </a:lnTo>
                  <a:close/>
                  <a:moveTo>
                    <a:pt x="92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2" y="12"/>
                  </a:lnTo>
                  <a:lnTo>
                    <a:pt x="91" y="12"/>
                  </a:lnTo>
                  <a:lnTo>
                    <a:pt x="90" y="10"/>
                  </a:lnTo>
                  <a:lnTo>
                    <a:pt x="89" y="8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0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close/>
                  <a:moveTo>
                    <a:pt x="137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7" y="12"/>
                  </a:lnTo>
                  <a:lnTo>
                    <a:pt x="136" y="12"/>
                  </a:lnTo>
                  <a:lnTo>
                    <a:pt x="135" y="10"/>
                  </a:lnTo>
                  <a:lnTo>
                    <a:pt x="134" y="8"/>
                  </a:lnTo>
                  <a:lnTo>
                    <a:pt x="134" y="6"/>
                  </a:lnTo>
                  <a:lnTo>
                    <a:pt x="134" y="4"/>
                  </a:lnTo>
                  <a:lnTo>
                    <a:pt x="135" y="2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close/>
                  <a:moveTo>
                    <a:pt x="182" y="0"/>
                  </a:moveTo>
                  <a:lnTo>
                    <a:pt x="201" y="0"/>
                  </a:lnTo>
                  <a:lnTo>
                    <a:pt x="202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2" y="12"/>
                  </a:lnTo>
                  <a:lnTo>
                    <a:pt x="201" y="12"/>
                  </a:lnTo>
                  <a:lnTo>
                    <a:pt x="182" y="12"/>
                  </a:lnTo>
                  <a:lnTo>
                    <a:pt x="181" y="12"/>
                  </a:lnTo>
                  <a:lnTo>
                    <a:pt x="180" y="10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80" y="2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2" y="0"/>
                  </a:lnTo>
                  <a:close/>
                  <a:moveTo>
                    <a:pt x="227" y="0"/>
                  </a:moveTo>
                  <a:lnTo>
                    <a:pt x="245" y="0"/>
                  </a:lnTo>
                  <a:lnTo>
                    <a:pt x="246" y="0"/>
                  </a:lnTo>
                  <a:lnTo>
                    <a:pt x="248" y="2"/>
                  </a:lnTo>
                  <a:lnTo>
                    <a:pt x="249" y="4"/>
                  </a:lnTo>
                  <a:lnTo>
                    <a:pt x="249" y="6"/>
                  </a:lnTo>
                  <a:lnTo>
                    <a:pt x="249" y="8"/>
                  </a:lnTo>
                  <a:lnTo>
                    <a:pt x="248" y="10"/>
                  </a:lnTo>
                  <a:lnTo>
                    <a:pt x="246" y="12"/>
                  </a:lnTo>
                  <a:lnTo>
                    <a:pt x="245" y="12"/>
                  </a:lnTo>
                  <a:lnTo>
                    <a:pt x="227" y="12"/>
                  </a:lnTo>
                  <a:lnTo>
                    <a:pt x="226" y="12"/>
                  </a:lnTo>
                  <a:lnTo>
                    <a:pt x="225" y="10"/>
                  </a:lnTo>
                  <a:lnTo>
                    <a:pt x="224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5" y="2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7" y="0"/>
                  </a:lnTo>
                  <a:close/>
                  <a:moveTo>
                    <a:pt x="270" y="0"/>
                  </a:moveTo>
                  <a:lnTo>
                    <a:pt x="290" y="0"/>
                  </a:lnTo>
                  <a:lnTo>
                    <a:pt x="291" y="0"/>
                  </a:lnTo>
                  <a:lnTo>
                    <a:pt x="292" y="2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2" y="10"/>
                  </a:lnTo>
                  <a:lnTo>
                    <a:pt x="291" y="12"/>
                  </a:lnTo>
                  <a:lnTo>
                    <a:pt x="290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5" y="0"/>
                  </a:lnTo>
                  <a:lnTo>
                    <a:pt x="336" y="0"/>
                  </a:lnTo>
                  <a:lnTo>
                    <a:pt x="337" y="2"/>
                  </a:lnTo>
                  <a:lnTo>
                    <a:pt x="338" y="4"/>
                  </a:lnTo>
                  <a:lnTo>
                    <a:pt x="338" y="6"/>
                  </a:lnTo>
                  <a:lnTo>
                    <a:pt x="338" y="8"/>
                  </a:lnTo>
                  <a:lnTo>
                    <a:pt x="337" y="10"/>
                  </a:lnTo>
                  <a:lnTo>
                    <a:pt x="336" y="12"/>
                  </a:lnTo>
                  <a:lnTo>
                    <a:pt x="335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80" y="0"/>
                  </a:lnTo>
                  <a:lnTo>
                    <a:pt x="381" y="0"/>
                  </a:lnTo>
                  <a:lnTo>
                    <a:pt x="382" y="2"/>
                  </a:lnTo>
                  <a:lnTo>
                    <a:pt x="383" y="4"/>
                  </a:lnTo>
                  <a:lnTo>
                    <a:pt x="383" y="6"/>
                  </a:lnTo>
                  <a:lnTo>
                    <a:pt x="383" y="8"/>
                  </a:lnTo>
                  <a:lnTo>
                    <a:pt x="382" y="10"/>
                  </a:lnTo>
                  <a:lnTo>
                    <a:pt x="381" y="12"/>
                  </a:lnTo>
                  <a:lnTo>
                    <a:pt x="380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5" y="0"/>
                  </a:moveTo>
                  <a:lnTo>
                    <a:pt x="424" y="0"/>
                  </a:lnTo>
                  <a:lnTo>
                    <a:pt x="425" y="0"/>
                  </a:lnTo>
                  <a:lnTo>
                    <a:pt x="427" y="2"/>
                  </a:lnTo>
                  <a:lnTo>
                    <a:pt x="428" y="4"/>
                  </a:lnTo>
                  <a:lnTo>
                    <a:pt x="428" y="6"/>
                  </a:lnTo>
                  <a:lnTo>
                    <a:pt x="428" y="8"/>
                  </a:lnTo>
                  <a:lnTo>
                    <a:pt x="427" y="10"/>
                  </a:lnTo>
                  <a:lnTo>
                    <a:pt x="425" y="12"/>
                  </a:lnTo>
                  <a:lnTo>
                    <a:pt x="424" y="12"/>
                  </a:lnTo>
                  <a:lnTo>
                    <a:pt x="405" y="12"/>
                  </a:lnTo>
                  <a:lnTo>
                    <a:pt x="404" y="12"/>
                  </a:lnTo>
                  <a:lnTo>
                    <a:pt x="403" y="10"/>
                  </a:lnTo>
                  <a:lnTo>
                    <a:pt x="402" y="8"/>
                  </a:lnTo>
                  <a:lnTo>
                    <a:pt x="402" y="6"/>
                  </a:lnTo>
                  <a:lnTo>
                    <a:pt x="402" y="4"/>
                  </a:lnTo>
                  <a:lnTo>
                    <a:pt x="403" y="2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5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1" y="2"/>
                  </a:lnTo>
                  <a:lnTo>
                    <a:pt x="472" y="4"/>
                  </a:lnTo>
                  <a:lnTo>
                    <a:pt x="472" y="6"/>
                  </a:lnTo>
                  <a:lnTo>
                    <a:pt x="472" y="8"/>
                  </a:lnTo>
                  <a:lnTo>
                    <a:pt x="471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4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4" y="12"/>
                  </a:lnTo>
                  <a:lnTo>
                    <a:pt x="493" y="12"/>
                  </a:lnTo>
                  <a:lnTo>
                    <a:pt x="492" y="10"/>
                  </a:lnTo>
                  <a:lnTo>
                    <a:pt x="491" y="8"/>
                  </a:lnTo>
                  <a:lnTo>
                    <a:pt x="491" y="6"/>
                  </a:lnTo>
                  <a:lnTo>
                    <a:pt x="491" y="4"/>
                  </a:lnTo>
                  <a:lnTo>
                    <a:pt x="492" y="2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539" y="0"/>
                  </a:moveTo>
                  <a:lnTo>
                    <a:pt x="558" y="0"/>
                  </a:lnTo>
                  <a:lnTo>
                    <a:pt x="559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9" y="12"/>
                  </a:lnTo>
                  <a:lnTo>
                    <a:pt x="558" y="12"/>
                  </a:lnTo>
                  <a:lnTo>
                    <a:pt x="539" y="12"/>
                  </a:lnTo>
                  <a:lnTo>
                    <a:pt x="538" y="12"/>
                  </a:lnTo>
                  <a:lnTo>
                    <a:pt x="537" y="10"/>
                  </a:lnTo>
                  <a:lnTo>
                    <a:pt x="536" y="8"/>
                  </a:lnTo>
                  <a:lnTo>
                    <a:pt x="536" y="6"/>
                  </a:lnTo>
                  <a:lnTo>
                    <a:pt x="536" y="4"/>
                  </a:lnTo>
                  <a:lnTo>
                    <a:pt x="537" y="2"/>
                  </a:lnTo>
                  <a:lnTo>
                    <a:pt x="538" y="0"/>
                  </a:lnTo>
                  <a:lnTo>
                    <a:pt x="539" y="0"/>
                  </a:lnTo>
                  <a:lnTo>
                    <a:pt x="539" y="0"/>
                  </a:lnTo>
                  <a:close/>
                  <a:moveTo>
                    <a:pt x="584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5" y="2"/>
                  </a:lnTo>
                  <a:lnTo>
                    <a:pt x="606" y="4"/>
                  </a:lnTo>
                  <a:lnTo>
                    <a:pt x="606" y="6"/>
                  </a:lnTo>
                  <a:lnTo>
                    <a:pt x="606" y="8"/>
                  </a:lnTo>
                  <a:lnTo>
                    <a:pt x="605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4" y="12"/>
                  </a:lnTo>
                  <a:lnTo>
                    <a:pt x="583" y="12"/>
                  </a:lnTo>
                  <a:lnTo>
                    <a:pt x="582" y="10"/>
                  </a:lnTo>
                  <a:lnTo>
                    <a:pt x="581" y="8"/>
                  </a:lnTo>
                  <a:lnTo>
                    <a:pt x="581" y="6"/>
                  </a:lnTo>
                  <a:lnTo>
                    <a:pt x="581" y="4"/>
                  </a:lnTo>
                  <a:lnTo>
                    <a:pt x="582" y="2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4" y="0"/>
                  </a:lnTo>
                  <a:close/>
                  <a:moveTo>
                    <a:pt x="628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8" y="12"/>
                  </a:lnTo>
                  <a:lnTo>
                    <a:pt x="627" y="12"/>
                  </a:lnTo>
                  <a:lnTo>
                    <a:pt x="626" y="10"/>
                  </a:lnTo>
                  <a:lnTo>
                    <a:pt x="625" y="8"/>
                  </a:lnTo>
                  <a:lnTo>
                    <a:pt x="625" y="6"/>
                  </a:lnTo>
                  <a:lnTo>
                    <a:pt x="625" y="4"/>
                  </a:lnTo>
                  <a:lnTo>
                    <a:pt x="626" y="2"/>
                  </a:lnTo>
                  <a:lnTo>
                    <a:pt x="627" y="0"/>
                  </a:lnTo>
                  <a:lnTo>
                    <a:pt x="628" y="0"/>
                  </a:lnTo>
                  <a:lnTo>
                    <a:pt x="628" y="0"/>
                  </a:lnTo>
                  <a:close/>
                  <a:moveTo>
                    <a:pt x="673" y="0"/>
                  </a:moveTo>
                  <a:lnTo>
                    <a:pt x="692" y="0"/>
                  </a:lnTo>
                  <a:lnTo>
                    <a:pt x="693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3" y="12"/>
                  </a:lnTo>
                  <a:lnTo>
                    <a:pt x="692" y="12"/>
                  </a:lnTo>
                  <a:lnTo>
                    <a:pt x="673" y="12"/>
                  </a:lnTo>
                  <a:lnTo>
                    <a:pt x="672" y="12"/>
                  </a:lnTo>
                  <a:lnTo>
                    <a:pt x="671" y="10"/>
                  </a:lnTo>
                  <a:lnTo>
                    <a:pt x="670" y="8"/>
                  </a:lnTo>
                  <a:lnTo>
                    <a:pt x="670" y="6"/>
                  </a:lnTo>
                  <a:lnTo>
                    <a:pt x="670" y="4"/>
                  </a:lnTo>
                  <a:lnTo>
                    <a:pt x="671" y="2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3" y="0"/>
                  </a:lnTo>
                  <a:close/>
                  <a:moveTo>
                    <a:pt x="717" y="0"/>
                  </a:moveTo>
                  <a:lnTo>
                    <a:pt x="737" y="0"/>
                  </a:lnTo>
                  <a:lnTo>
                    <a:pt x="738" y="0"/>
                  </a:lnTo>
                  <a:lnTo>
                    <a:pt x="739" y="2"/>
                  </a:lnTo>
                  <a:lnTo>
                    <a:pt x="740" y="4"/>
                  </a:lnTo>
                  <a:lnTo>
                    <a:pt x="740" y="6"/>
                  </a:lnTo>
                  <a:lnTo>
                    <a:pt x="740" y="8"/>
                  </a:lnTo>
                  <a:lnTo>
                    <a:pt x="739" y="10"/>
                  </a:lnTo>
                  <a:lnTo>
                    <a:pt x="738" y="12"/>
                  </a:lnTo>
                  <a:lnTo>
                    <a:pt x="737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2" y="0"/>
                  </a:moveTo>
                  <a:lnTo>
                    <a:pt x="781" y="0"/>
                  </a:lnTo>
                  <a:lnTo>
                    <a:pt x="782" y="0"/>
                  </a:lnTo>
                  <a:lnTo>
                    <a:pt x="784" y="2"/>
                  </a:lnTo>
                  <a:lnTo>
                    <a:pt x="785" y="4"/>
                  </a:lnTo>
                  <a:lnTo>
                    <a:pt x="785" y="6"/>
                  </a:lnTo>
                  <a:lnTo>
                    <a:pt x="785" y="8"/>
                  </a:lnTo>
                  <a:lnTo>
                    <a:pt x="784" y="10"/>
                  </a:lnTo>
                  <a:lnTo>
                    <a:pt x="782" y="12"/>
                  </a:lnTo>
                  <a:lnTo>
                    <a:pt x="781" y="12"/>
                  </a:lnTo>
                  <a:lnTo>
                    <a:pt x="762" y="12"/>
                  </a:lnTo>
                  <a:lnTo>
                    <a:pt x="761" y="12"/>
                  </a:lnTo>
                  <a:lnTo>
                    <a:pt x="760" y="10"/>
                  </a:lnTo>
                  <a:lnTo>
                    <a:pt x="759" y="8"/>
                  </a:lnTo>
                  <a:lnTo>
                    <a:pt x="759" y="6"/>
                  </a:lnTo>
                  <a:lnTo>
                    <a:pt x="759" y="4"/>
                  </a:lnTo>
                  <a:lnTo>
                    <a:pt x="760" y="2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2" y="0"/>
                  </a:lnTo>
                  <a:close/>
                  <a:moveTo>
                    <a:pt x="806" y="0"/>
                  </a:moveTo>
                  <a:lnTo>
                    <a:pt x="826" y="0"/>
                  </a:lnTo>
                  <a:lnTo>
                    <a:pt x="827" y="0"/>
                  </a:lnTo>
                  <a:lnTo>
                    <a:pt x="828" y="2"/>
                  </a:lnTo>
                  <a:lnTo>
                    <a:pt x="829" y="4"/>
                  </a:lnTo>
                  <a:lnTo>
                    <a:pt x="829" y="6"/>
                  </a:lnTo>
                  <a:lnTo>
                    <a:pt x="829" y="8"/>
                  </a:lnTo>
                  <a:lnTo>
                    <a:pt x="828" y="10"/>
                  </a:lnTo>
                  <a:lnTo>
                    <a:pt x="827" y="12"/>
                  </a:lnTo>
                  <a:lnTo>
                    <a:pt x="826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1" y="0"/>
                  </a:lnTo>
                  <a:lnTo>
                    <a:pt x="872" y="0"/>
                  </a:lnTo>
                  <a:lnTo>
                    <a:pt x="873" y="2"/>
                  </a:lnTo>
                  <a:lnTo>
                    <a:pt x="874" y="4"/>
                  </a:lnTo>
                  <a:lnTo>
                    <a:pt x="874" y="6"/>
                  </a:lnTo>
                  <a:lnTo>
                    <a:pt x="874" y="8"/>
                  </a:lnTo>
                  <a:lnTo>
                    <a:pt x="873" y="10"/>
                  </a:lnTo>
                  <a:lnTo>
                    <a:pt x="872" y="12"/>
                  </a:lnTo>
                  <a:lnTo>
                    <a:pt x="871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5" y="0"/>
                  </a:lnTo>
                  <a:lnTo>
                    <a:pt x="916" y="0"/>
                  </a:lnTo>
                  <a:lnTo>
                    <a:pt x="918" y="2"/>
                  </a:lnTo>
                  <a:lnTo>
                    <a:pt x="919" y="4"/>
                  </a:lnTo>
                  <a:lnTo>
                    <a:pt x="919" y="6"/>
                  </a:lnTo>
                  <a:lnTo>
                    <a:pt x="919" y="8"/>
                  </a:lnTo>
                  <a:lnTo>
                    <a:pt x="918" y="10"/>
                  </a:lnTo>
                  <a:lnTo>
                    <a:pt x="916" y="12"/>
                  </a:lnTo>
                  <a:lnTo>
                    <a:pt x="915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41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2" y="2"/>
                  </a:lnTo>
                  <a:lnTo>
                    <a:pt x="963" y="4"/>
                  </a:lnTo>
                  <a:lnTo>
                    <a:pt x="963" y="6"/>
                  </a:lnTo>
                  <a:lnTo>
                    <a:pt x="963" y="8"/>
                  </a:lnTo>
                  <a:lnTo>
                    <a:pt x="962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41" y="12"/>
                  </a:lnTo>
                  <a:lnTo>
                    <a:pt x="940" y="12"/>
                  </a:lnTo>
                  <a:lnTo>
                    <a:pt x="939" y="10"/>
                  </a:lnTo>
                  <a:lnTo>
                    <a:pt x="938" y="8"/>
                  </a:lnTo>
                  <a:lnTo>
                    <a:pt x="938" y="6"/>
                  </a:lnTo>
                  <a:lnTo>
                    <a:pt x="938" y="4"/>
                  </a:lnTo>
                  <a:lnTo>
                    <a:pt x="939" y="2"/>
                  </a:lnTo>
                  <a:lnTo>
                    <a:pt x="940" y="0"/>
                  </a:lnTo>
                  <a:lnTo>
                    <a:pt x="941" y="0"/>
                  </a:lnTo>
                  <a:lnTo>
                    <a:pt x="941" y="0"/>
                  </a:lnTo>
                  <a:close/>
                  <a:moveTo>
                    <a:pt x="985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5" y="12"/>
                  </a:lnTo>
                  <a:lnTo>
                    <a:pt x="984" y="12"/>
                  </a:lnTo>
                  <a:lnTo>
                    <a:pt x="983" y="10"/>
                  </a:lnTo>
                  <a:lnTo>
                    <a:pt x="982" y="8"/>
                  </a:lnTo>
                  <a:lnTo>
                    <a:pt x="982" y="6"/>
                  </a:lnTo>
                  <a:lnTo>
                    <a:pt x="982" y="4"/>
                  </a:lnTo>
                  <a:lnTo>
                    <a:pt x="983" y="2"/>
                  </a:lnTo>
                  <a:lnTo>
                    <a:pt x="984" y="0"/>
                  </a:lnTo>
                  <a:lnTo>
                    <a:pt x="985" y="0"/>
                  </a:lnTo>
                  <a:lnTo>
                    <a:pt x="985" y="0"/>
                  </a:lnTo>
                  <a:close/>
                  <a:moveTo>
                    <a:pt x="1030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30" y="12"/>
                  </a:lnTo>
                  <a:lnTo>
                    <a:pt x="1029" y="12"/>
                  </a:lnTo>
                  <a:lnTo>
                    <a:pt x="1028" y="10"/>
                  </a:lnTo>
                  <a:lnTo>
                    <a:pt x="1027" y="8"/>
                  </a:lnTo>
                  <a:lnTo>
                    <a:pt x="1027" y="6"/>
                  </a:lnTo>
                  <a:lnTo>
                    <a:pt x="1027" y="4"/>
                  </a:lnTo>
                  <a:lnTo>
                    <a:pt x="1028" y="2"/>
                  </a:lnTo>
                  <a:lnTo>
                    <a:pt x="1029" y="0"/>
                  </a:lnTo>
                  <a:lnTo>
                    <a:pt x="1030" y="0"/>
                  </a:lnTo>
                  <a:lnTo>
                    <a:pt x="1030" y="0"/>
                  </a:lnTo>
                  <a:close/>
                  <a:moveTo>
                    <a:pt x="1075" y="0"/>
                  </a:moveTo>
                  <a:lnTo>
                    <a:pt x="1094" y="0"/>
                  </a:lnTo>
                  <a:lnTo>
                    <a:pt x="1095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5" y="12"/>
                  </a:lnTo>
                  <a:lnTo>
                    <a:pt x="1094" y="12"/>
                  </a:lnTo>
                  <a:lnTo>
                    <a:pt x="1075" y="12"/>
                  </a:lnTo>
                  <a:lnTo>
                    <a:pt x="1074" y="12"/>
                  </a:lnTo>
                  <a:lnTo>
                    <a:pt x="1073" y="10"/>
                  </a:lnTo>
                  <a:lnTo>
                    <a:pt x="1072" y="8"/>
                  </a:lnTo>
                  <a:lnTo>
                    <a:pt x="1072" y="6"/>
                  </a:lnTo>
                  <a:lnTo>
                    <a:pt x="1072" y="4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5" y="0"/>
                  </a:lnTo>
                  <a:lnTo>
                    <a:pt x="1075" y="0"/>
                  </a:lnTo>
                  <a:close/>
                  <a:moveTo>
                    <a:pt x="1120" y="0"/>
                  </a:moveTo>
                  <a:lnTo>
                    <a:pt x="1138" y="0"/>
                  </a:lnTo>
                  <a:lnTo>
                    <a:pt x="1139" y="0"/>
                  </a:lnTo>
                  <a:lnTo>
                    <a:pt x="1141" y="2"/>
                  </a:lnTo>
                  <a:lnTo>
                    <a:pt x="1142" y="4"/>
                  </a:lnTo>
                  <a:lnTo>
                    <a:pt x="1142" y="6"/>
                  </a:lnTo>
                  <a:lnTo>
                    <a:pt x="1142" y="8"/>
                  </a:lnTo>
                  <a:lnTo>
                    <a:pt x="1141" y="10"/>
                  </a:lnTo>
                  <a:lnTo>
                    <a:pt x="1139" y="12"/>
                  </a:lnTo>
                  <a:lnTo>
                    <a:pt x="1138" y="12"/>
                  </a:lnTo>
                  <a:lnTo>
                    <a:pt x="1120" y="12"/>
                  </a:lnTo>
                  <a:lnTo>
                    <a:pt x="1119" y="12"/>
                  </a:lnTo>
                  <a:lnTo>
                    <a:pt x="1118" y="10"/>
                  </a:lnTo>
                  <a:lnTo>
                    <a:pt x="1117" y="8"/>
                  </a:lnTo>
                  <a:lnTo>
                    <a:pt x="1117" y="6"/>
                  </a:lnTo>
                  <a:lnTo>
                    <a:pt x="1117" y="4"/>
                  </a:lnTo>
                  <a:lnTo>
                    <a:pt x="1118" y="2"/>
                  </a:lnTo>
                  <a:lnTo>
                    <a:pt x="1119" y="0"/>
                  </a:lnTo>
                  <a:lnTo>
                    <a:pt x="1120" y="0"/>
                  </a:lnTo>
                  <a:lnTo>
                    <a:pt x="1120" y="0"/>
                  </a:lnTo>
                  <a:close/>
                  <a:moveTo>
                    <a:pt x="1163" y="0"/>
                  </a:moveTo>
                  <a:lnTo>
                    <a:pt x="1183" y="0"/>
                  </a:lnTo>
                  <a:lnTo>
                    <a:pt x="1184" y="0"/>
                  </a:lnTo>
                  <a:lnTo>
                    <a:pt x="1185" y="2"/>
                  </a:lnTo>
                  <a:lnTo>
                    <a:pt x="1186" y="4"/>
                  </a:lnTo>
                  <a:lnTo>
                    <a:pt x="1186" y="6"/>
                  </a:lnTo>
                  <a:lnTo>
                    <a:pt x="1186" y="8"/>
                  </a:lnTo>
                  <a:lnTo>
                    <a:pt x="1185" y="10"/>
                  </a:lnTo>
                  <a:lnTo>
                    <a:pt x="1184" y="12"/>
                  </a:lnTo>
                  <a:lnTo>
                    <a:pt x="1183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8" y="0"/>
                  </a:lnTo>
                  <a:lnTo>
                    <a:pt x="1229" y="0"/>
                  </a:lnTo>
                  <a:lnTo>
                    <a:pt x="1230" y="2"/>
                  </a:lnTo>
                  <a:lnTo>
                    <a:pt x="1231" y="4"/>
                  </a:lnTo>
                  <a:lnTo>
                    <a:pt x="1231" y="6"/>
                  </a:lnTo>
                  <a:lnTo>
                    <a:pt x="1231" y="8"/>
                  </a:lnTo>
                  <a:lnTo>
                    <a:pt x="1230" y="10"/>
                  </a:lnTo>
                  <a:lnTo>
                    <a:pt x="1229" y="12"/>
                  </a:lnTo>
                  <a:lnTo>
                    <a:pt x="1228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3" y="0"/>
                  </a:lnTo>
                  <a:lnTo>
                    <a:pt x="1274" y="0"/>
                  </a:lnTo>
                  <a:lnTo>
                    <a:pt x="1275" y="2"/>
                  </a:lnTo>
                  <a:lnTo>
                    <a:pt x="1276" y="4"/>
                  </a:lnTo>
                  <a:lnTo>
                    <a:pt x="1276" y="6"/>
                  </a:lnTo>
                  <a:lnTo>
                    <a:pt x="1276" y="8"/>
                  </a:lnTo>
                  <a:lnTo>
                    <a:pt x="1275" y="10"/>
                  </a:lnTo>
                  <a:lnTo>
                    <a:pt x="1274" y="12"/>
                  </a:lnTo>
                  <a:lnTo>
                    <a:pt x="1273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8" y="0"/>
                  </a:moveTo>
                  <a:lnTo>
                    <a:pt x="1317" y="0"/>
                  </a:lnTo>
                  <a:lnTo>
                    <a:pt x="1318" y="0"/>
                  </a:lnTo>
                  <a:lnTo>
                    <a:pt x="1320" y="2"/>
                  </a:lnTo>
                  <a:lnTo>
                    <a:pt x="1321" y="4"/>
                  </a:lnTo>
                  <a:lnTo>
                    <a:pt x="1321" y="6"/>
                  </a:lnTo>
                  <a:lnTo>
                    <a:pt x="1321" y="8"/>
                  </a:lnTo>
                  <a:lnTo>
                    <a:pt x="1320" y="10"/>
                  </a:lnTo>
                  <a:lnTo>
                    <a:pt x="1318" y="12"/>
                  </a:lnTo>
                  <a:lnTo>
                    <a:pt x="1317" y="12"/>
                  </a:lnTo>
                  <a:lnTo>
                    <a:pt x="1298" y="12"/>
                  </a:lnTo>
                  <a:lnTo>
                    <a:pt x="1297" y="12"/>
                  </a:lnTo>
                  <a:lnTo>
                    <a:pt x="1296" y="10"/>
                  </a:lnTo>
                  <a:lnTo>
                    <a:pt x="1295" y="8"/>
                  </a:lnTo>
                  <a:lnTo>
                    <a:pt x="1295" y="6"/>
                  </a:lnTo>
                  <a:lnTo>
                    <a:pt x="1295" y="4"/>
                  </a:lnTo>
                  <a:lnTo>
                    <a:pt x="1296" y="2"/>
                  </a:lnTo>
                  <a:lnTo>
                    <a:pt x="1297" y="0"/>
                  </a:lnTo>
                  <a:lnTo>
                    <a:pt x="1298" y="0"/>
                  </a:lnTo>
                  <a:lnTo>
                    <a:pt x="1298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5" y="4"/>
                  </a:lnTo>
                  <a:lnTo>
                    <a:pt x="1365" y="6"/>
                  </a:lnTo>
                  <a:lnTo>
                    <a:pt x="1365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9" y="8"/>
                  </a:lnTo>
                  <a:lnTo>
                    <a:pt x="1339" y="6"/>
                  </a:lnTo>
                  <a:lnTo>
                    <a:pt x="1339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7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7" y="12"/>
                  </a:lnTo>
                  <a:lnTo>
                    <a:pt x="1386" y="12"/>
                  </a:lnTo>
                  <a:lnTo>
                    <a:pt x="1385" y="10"/>
                  </a:lnTo>
                  <a:lnTo>
                    <a:pt x="1384" y="8"/>
                  </a:lnTo>
                  <a:lnTo>
                    <a:pt x="1384" y="6"/>
                  </a:lnTo>
                  <a:lnTo>
                    <a:pt x="1384" y="4"/>
                  </a:lnTo>
                  <a:lnTo>
                    <a:pt x="1385" y="2"/>
                  </a:lnTo>
                  <a:lnTo>
                    <a:pt x="1386" y="0"/>
                  </a:lnTo>
                  <a:lnTo>
                    <a:pt x="1387" y="0"/>
                  </a:lnTo>
                  <a:lnTo>
                    <a:pt x="1387" y="0"/>
                  </a:lnTo>
                  <a:close/>
                  <a:moveTo>
                    <a:pt x="1432" y="0"/>
                  </a:moveTo>
                  <a:lnTo>
                    <a:pt x="1451" y="0"/>
                  </a:lnTo>
                  <a:lnTo>
                    <a:pt x="1452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2" y="12"/>
                  </a:lnTo>
                  <a:lnTo>
                    <a:pt x="1451" y="12"/>
                  </a:lnTo>
                  <a:lnTo>
                    <a:pt x="1432" y="12"/>
                  </a:lnTo>
                  <a:lnTo>
                    <a:pt x="1431" y="12"/>
                  </a:lnTo>
                  <a:lnTo>
                    <a:pt x="1430" y="10"/>
                  </a:lnTo>
                  <a:lnTo>
                    <a:pt x="1429" y="8"/>
                  </a:lnTo>
                  <a:lnTo>
                    <a:pt x="1429" y="6"/>
                  </a:lnTo>
                  <a:lnTo>
                    <a:pt x="1429" y="4"/>
                  </a:lnTo>
                  <a:lnTo>
                    <a:pt x="1430" y="2"/>
                  </a:lnTo>
                  <a:lnTo>
                    <a:pt x="1431" y="0"/>
                  </a:lnTo>
                  <a:lnTo>
                    <a:pt x="1432" y="0"/>
                  </a:lnTo>
                  <a:lnTo>
                    <a:pt x="1432" y="0"/>
                  </a:lnTo>
                  <a:close/>
                  <a:moveTo>
                    <a:pt x="1477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8" y="2"/>
                  </a:lnTo>
                  <a:lnTo>
                    <a:pt x="1499" y="4"/>
                  </a:lnTo>
                  <a:lnTo>
                    <a:pt x="1499" y="6"/>
                  </a:lnTo>
                  <a:lnTo>
                    <a:pt x="1499" y="8"/>
                  </a:lnTo>
                  <a:lnTo>
                    <a:pt x="1498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7" y="12"/>
                  </a:lnTo>
                  <a:lnTo>
                    <a:pt x="1476" y="12"/>
                  </a:lnTo>
                  <a:lnTo>
                    <a:pt x="1475" y="10"/>
                  </a:lnTo>
                  <a:lnTo>
                    <a:pt x="1474" y="8"/>
                  </a:lnTo>
                  <a:lnTo>
                    <a:pt x="1474" y="6"/>
                  </a:lnTo>
                  <a:lnTo>
                    <a:pt x="1474" y="4"/>
                  </a:lnTo>
                  <a:lnTo>
                    <a:pt x="1475" y="2"/>
                  </a:lnTo>
                  <a:lnTo>
                    <a:pt x="1476" y="0"/>
                  </a:lnTo>
                  <a:lnTo>
                    <a:pt x="1477" y="0"/>
                  </a:lnTo>
                  <a:lnTo>
                    <a:pt x="1477" y="0"/>
                  </a:lnTo>
                  <a:close/>
                  <a:moveTo>
                    <a:pt x="1521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1" y="12"/>
                  </a:lnTo>
                  <a:lnTo>
                    <a:pt x="1520" y="12"/>
                  </a:lnTo>
                  <a:lnTo>
                    <a:pt x="1519" y="10"/>
                  </a:lnTo>
                  <a:lnTo>
                    <a:pt x="1518" y="8"/>
                  </a:lnTo>
                  <a:lnTo>
                    <a:pt x="1518" y="6"/>
                  </a:lnTo>
                  <a:lnTo>
                    <a:pt x="1518" y="4"/>
                  </a:lnTo>
                  <a:lnTo>
                    <a:pt x="1519" y="2"/>
                  </a:lnTo>
                  <a:lnTo>
                    <a:pt x="1520" y="0"/>
                  </a:lnTo>
                  <a:lnTo>
                    <a:pt x="1521" y="0"/>
                  </a:lnTo>
                  <a:lnTo>
                    <a:pt x="1521" y="0"/>
                  </a:lnTo>
                  <a:close/>
                  <a:moveTo>
                    <a:pt x="1566" y="0"/>
                  </a:moveTo>
                  <a:lnTo>
                    <a:pt x="1585" y="0"/>
                  </a:lnTo>
                  <a:lnTo>
                    <a:pt x="1586" y="0"/>
                  </a:lnTo>
                  <a:lnTo>
                    <a:pt x="1587" y="2"/>
                  </a:lnTo>
                  <a:lnTo>
                    <a:pt x="1588" y="4"/>
                  </a:lnTo>
                  <a:lnTo>
                    <a:pt x="1588" y="6"/>
                  </a:lnTo>
                  <a:lnTo>
                    <a:pt x="1588" y="8"/>
                  </a:lnTo>
                  <a:lnTo>
                    <a:pt x="1587" y="10"/>
                  </a:lnTo>
                  <a:lnTo>
                    <a:pt x="1586" y="12"/>
                  </a:lnTo>
                  <a:lnTo>
                    <a:pt x="1585" y="12"/>
                  </a:lnTo>
                  <a:lnTo>
                    <a:pt x="1566" y="12"/>
                  </a:lnTo>
                  <a:lnTo>
                    <a:pt x="1565" y="12"/>
                  </a:lnTo>
                  <a:lnTo>
                    <a:pt x="1564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4" y="2"/>
                  </a:lnTo>
                  <a:lnTo>
                    <a:pt x="1565" y="0"/>
                  </a:lnTo>
                  <a:lnTo>
                    <a:pt x="1566" y="0"/>
                  </a:lnTo>
                  <a:lnTo>
                    <a:pt x="1566" y="0"/>
                  </a:lnTo>
                  <a:close/>
                  <a:moveTo>
                    <a:pt x="1610" y="0"/>
                  </a:moveTo>
                  <a:lnTo>
                    <a:pt x="1630" y="0"/>
                  </a:lnTo>
                  <a:lnTo>
                    <a:pt x="1631" y="0"/>
                  </a:lnTo>
                  <a:lnTo>
                    <a:pt x="1632" y="2"/>
                  </a:lnTo>
                  <a:lnTo>
                    <a:pt x="1633" y="4"/>
                  </a:lnTo>
                  <a:lnTo>
                    <a:pt x="1633" y="6"/>
                  </a:lnTo>
                  <a:lnTo>
                    <a:pt x="1633" y="8"/>
                  </a:lnTo>
                  <a:lnTo>
                    <a:pt x="1632" y="10"/>
                  </a:lnTo>
                  <a:lnTo>
                    <a:pt x="1631" y="12"/>
                  </a:lnTo>
                  <a:lnTo>
                    <a:pt x="1630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5" y="0"/>
                  </a:moveTo>
                  <a:lnTo>
                    <a:pt x="1674" y="0"/>
                  </a:lnTo>
                  <a:lnTo>
                    <a:pt x="1675" y="0"/>
                  </a:lnTo>
                  <a:lnTo>
                    <a:pt x="1677" y="2"/>
                  </a:lnTo>
                  <a:lnTo>
                    <a:pt x="1678" y="4"/>
                  </a:lnTo>
                  <a:lnTo>
                    <a:pt x="1678" y="6"/>
                  </a:lnTo>
                  <a:lnTo>
                    <a:pt x="1678" y="8"/>
                  </a:lnTo>
                  <a:lnTo>
                    <a:pt x="1677" y="10"/>
                  </a:lnTo>
                  <a:lnTo>
                    <a:pt x="1675" y="12"/>
                  </a:lnTo>
                  <a:lnTo>
                    <a:pt x="1674" y="12"/>
                  </a:lnTo>
                  <a:lnTo>
                    <a:pt x="1655" y="12"/>
                  </a:lnTo>
                  <a:lnTo>
                    <a:pt x="1654" y="12"/>
                  </a:lnTo>
                  <a:lnTo>
                    <a:pt x="1653" y="10"/>
                  </a:lnTo>
                  <a:lnTo>
                    <a:pt x="1652" y="8"/>
                  </a:lnTo>
                  <a:lnTo>
                    <a:pt x="1652" y="6"/>
                  </a:lnTo>
                  <a:lnTo>
                    <a:pt x="1652" y="4"/>
                  </a:lnTo>
                  <a:lnTo>
                    <a:pt x="1653" y="2"/>
                  </a:lnTo>
                  <a:lnTo>
                    <a:pt x="1654" y="0"/>
                  </a:lnTo>
                  <a:lnTo>
                    <a:pt x="1655" y="0"/>
                  </a:lnTo>
                  <a:lnTo>
                    <a:pt x="1655" y="0"/>
                  </a:lnTo>
                  <a:close/>
                  <a:moveTo>
                    <a:pt x="1699" y="0"/>
                  </a:moveTo>
                  <a:lnTo>
                    <a:pt x="1719" y="0"/>
                  </a:lnTo>
                  <a:lnTo>
                    <a:pt x="1720" y="0"/>
                  </a:lnTo>
                  <a:lnTo>
                    <a:pt x="1721" y="2"/>
                  </a:lnTo>
                  <a:lnTo>
                    <a:pt x="1722" y="4"/>
                  </a:lnTo>
                  <a:lnTo>
                    <a:pt x="1722" y="6"/>
                  </a:lnTo>
                  <a:lnTo>
                    <a:pt x="1722" y="8"/>
                  </a:lnTo>
                  <a:lnTo>
                    <a:pt x="1721" y="10"/>
                  </a:lnTo>
                  <a:lnTo>
                    <a:pt x="1720" y="12"/>
                  </a:lnTo>
                  <a:lnTo>
                    <a:pt x="1719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4" y="0"/>
                  </a:lnTo>
                  <a:lnTo>
                    <a:pt x="1765" y="0"/>
                  </a:lnTo>
                  <a:lnTo>
                    <a:pt x="1766" y="2"/>
                  </a:lnTo>
                  <a:lnTo>
                    <a:pt x="1767" y="4"/>
                  </a:lnTo>
                  <a:lnTo>
                    <a:pt x="1767" y="6"/>
                  </a:lnTo>
                  <a:lnTo>
                    <a:pt x="1767" y="8"/>
                  </a:lnTo>
                  <a:lnTo>
                    <a:pt x="1766" y="10"/>
                  </a:lnTo>
                  <a:lnTo>
                    <a:pt x="1765" y="12"/>
                  </a:lnTo>
                  <a:lnTo>
                    <a:pt x="1764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8" y="0"/>
                  </a:lnTo>
                  <a:lnTo>
                    <a:pt x="1809" y="0"/>
                  </a:lnTo>
                  <a:lnTo>
                    <a:pt x="1810" y="2"/>
                  </a:lnTo>
                  <a:lnTo>
                    <a:pt x="1812" y="4"/>
                  </a:lnTo>
                  <a:lnTo>
                    <a:pt x="1812" y="6"/>
                  </a:lnTo>
                  <a:lnTo>
                    <a:pt x="1812" y="8"/>
                  </a:lnTo>
                  <a:lnTo>
                    <a:pt x="1810" y="10"/>
                  </a:lnTo>
                  <a:lnTo>
                    <a:pt x="1809" y="12"/>
                  </a:lnTo>
                  <a:lnTo>
                    <a:pt x="1808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6" y="8"/>
                  </a:lnTo>
                  <a:lnTo>
                    <a:pt x="1786" y="6"/>
                  </a:lnTo>
                  <a:lnTo>
                    <a:pt x="1786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4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5" y="2"/>
                  </a:lnTo>
                  <a:lnTo>
                    <a:pt x="1856" y="4"/>
                  </a:lnTo>
                  <a:lnTo>
                    <a:pt x="1856" y="6"/>
                  </a:lnTo>
                  <a:lnTo>
                    <a:pt x="1856" y="8"/>
                  </a:lnTo>
                  <a:lnTo>
                    <a:pt x="1855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4" y="12"/>
                  </a:lnTo>
                  <a:lnTo>
                    <a:pt x="1833" y="12"/>
                  </a:lnTo>
                  <a:lnTo>
                    <a:pt x="1832" y="10"/>
                  </a:lnTo>
                  <a:lnTo>
                    <a:pt x="1831" y="8"/>
                  </a:lnTo>
                  <a:lnTo>
                    <a:pt x="1831" y="6"/>
                  </a:lnTo>
                  <a:lnTo>
                    <a:pt x="1831" y="4"/>
                  </a:lnTo>
                  <a:lnTo>
                    <a:pt x="1832" y="2"/>
                  </a:lnTo>
                  <a:lnTo>
                    <a:pt x="1833" y="0"/>
                  </a:lnTo>
                  <a:lnTo>
                    <a:pt x="1834" y="0"/>
                  </a:lnTo>
                  <a:lnTo>
                    <a:pt x="1834" y="0"/>
                  </a:lnTo>
                  <a:close/>
                  <a:moveTo>
                    <a:pt x="1878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8" y="12"/>
                  </a:lnTo>
                  <a:lnTo>
                    <a:pt x="1877" y="12"/>
                  </a:lnTo>
                  <a:lnTo>
                    <a:pt x="1876" y="10"/>
                  </a:lnTo>
                  <a:lnTo>
                    <a:pt x="1875" y="8"/>
                  </a:lnTo>
                  <a:lnTo>
                    <a:pt x="1875" y="6"/>
                  </a:lnTo>
                  <a:lnTo>
                    <a:pt x="1875" y="4"/>
                  </a:lnTo>
                  <a:lnTo>
                    <a:pt x="1876" y="2"/>
                  </a:lnTo>
                  <a:lnTo>
                    <a:pt x="1877" y="0"/>
                  </a:lnTo>
                  <a:lnTo>
                    <a:pt x="1878" y="0"/>
                  </a:lnTo>
                  <a:lnTo>
                    <a:pt x="1878" y="0"/>
                  </a:lnTo>
                  <a:close/>
                  <a:moveTo>
                    <a:pt x="1923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3" y="12"/>
                  </a:lnTo>
                  <a:lnTo>
                    <a:pt x="1922" y="12"/>
                  </a:lnTo>
                  <a:lnTo>
                    <a:pt x="1921" y="10"/>
                  </a:lnTo>
                  <a:lnTo>
                    <a:pt x="1920" y="8"/>
                  </a:lnTo>
                  <a:lnTo>
                    <a:pt x="1920" y="6"/>
                  </a:lnTo>
                  <a:lnTo>
                    <a:pt x="1920" y="4"/>
                  </a:lnTo>
                  <a:lnTo>
                    <a:pt x="1921" y="2"/>
                  </a:lnTo>
                  <a:lnTo>
                    <a:pt x="1922" y="0"/>
                  </a:lnTo>
                  <a:lnTo>
                    <a:pt x="1923" y="0"/>
                  </a:lnTo>
                  <a:lnTo>
                    <a:pt x="1923" y="0"/>
                  </a:lnTo>
                  <a:close/>
                  <a:moveTo>
                    <a:pt x="1968" y="0"/>
                  </a:moveTo>
                  <a:lnTo>
                    <a:pt x="1987" y="0"/>
                  </a:lnTo>
                  <a:lnTo>
                    <a:pt x="1988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8" y="12"/>
                  </a:lnTo>
                  <a:lnTo>
                    <a:pt x="1987" y="12"/>
                  </a:lnTo>
                  <a:lnTo>
                    <a:pt x="1968" y="12"/>
                  </a:lnTo>
                  <a:lnTo>
                    <a:pt x="1967" y="12"/>
                  </a:lnTo>
                  <a:lnTo>
                    <a:pt x="1966" y="10"/>
                  </a:lnTo>
                  <a:lnTo>
                    <a:pt x="1965" y="8"/>
                  </a:lnTo>
                  <a:lnTo>
                    <a:pt x="1965" y="6"/>
                  </a:lnTo>
                  <a:lnTo>
                    <a:pt x="1965" y="4"/>
                  </a:lnTo>
                  <a:lnTo>
                    <a:pt x="1966" y="2"/>
                  </a:lnTo>
                  <a:lnTo>
                    <a:pt x="1967" y="0"/>
                  </a:lnTo>
                  <a:lnTo>
                    <a:pt x="1968" y="0"/>
                  </a:lnTo>
                  <a:lnTo>
                    <a:pt x="1968" y="0"/>
                  </a:lnTo>
                  <a:close/>
                  <a:moveTo>
                    <a:pt x="2013" y="0"/>
                  </a:moveTo>
                  <a:lnTo>
                    <a:pt x="2031" y="0"/>
                  </a:lnTo>
                  <a:lnTo>
                    <a:pt x="2032" y="0"/>
                  </a:lnTo>
                  <a:lnTo>
                    <a:pt x="2034" y="2"/>
                  </a:lnTo>
                  <a:lnTo>
                    <a:pt x="2035" y="4"/>
                  </a:lnTo>
                  <a:lnTo>
                    <a:pt x="2035" y="6"/>
                  </a:lnTo>
                  <a:lnTo>
                    <a:pt x="2035" y="8"/>
                  </a:lnTo>
                  <a:lnTo>
                    <a:pt x="2034" y="10"/>
                  </a:lnTo>
                  <a:lnTo>
                    <a:pt x="2032" y="12"/>
                  </a:lnTo>
                  <a:lnTo>
                    <a:pt x="2031" y="12"/>
                  </a:lnTo>
                  <a:lnTo>
                    <a:pt x="2013" y="12"/>
                  </a:lnTo>
                  <a:lnTo>
                    <a:pt x="2012" y="12"/>
                  </a:lnTo>
                  <a:lnTo>
                    <a:pt x="2011" y="10"/>
                  </a:lnTo>
                  <a:lnTo>
                    <a:pt x="2009" y="8"/>
                  </a:lnTo>
                  <a:lnTo>
                    <a:pt x="2009" y="6"/>
                  </a:lnTo>
                  <a:lnTo>
                    <a:pt x="2009" y="4"/>
                  </a:lnTo>
                  <a:lnTo>
                    <a:pt x="2011" y="2"/>
                  </a:lnTo>
                  <a:lnTo>
                    <a:pt x="2012" y="0"/>
                  </a:lnTo>
                  <a:lnTo>
                    <a:pt x="2013" y="0"/>
                  </a:lnTo>
                  <a:lnTo>
                    <a:pt x="2013" y="0"/>
                  </a:lnTo>
                  <a:close/>
                  <a:moveTo>
                    <a:pt x="2056" y="0"/>
                  </a:moveTo>
                  <a:lnTo>
                    <a:pt x="2076" y="0"/>
                  </a:lnTo>
                  <a:lnTo>
                    <a:pt x="2077" y="0"/>
                  </a:lnTo>
                  <a:lnTo>
                    <a:pt x="2078" y="2"/>
                  </a:lnTo>
                  <a:lnTo>
                    <a:pt x="2079" y="4"/>
                  </a:lnTo>
                  <a:lnTo>
                    <a:pt x="2079" y="6"/>
                  </a:lnTo>
                  <a:lnTo>
                    <a:pt x="2079" y="8"/>
                  </a:lnTo>
                  <a:lnTo>
                    <a:pt x="2078" y="10"/>
                  </a:lnTo>
                  <a:lnTo>
                    <a:pt x="2077" y="12"/>
                  </a:lnTo>
                  <a:lnTo>
                    <a:pt x="2076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1" y="0"/>
                  </a:lnTo>
                  <a:lnTo>
                    <a:pt x="2122" y="0"/>
                  </a:lnTo>
                  <a:lnTo>
                    <a:pt x="2123" y="2"/>
                  </a:lnTo>
                  <a:lnTo>
                    <a:pt x="2124" y="4"/>
                  </a:lnTo>
                  <a:lnTo>
                    <a:pt x="2124" y="6"/>
                  </a:lnTo>
                  <a:lnTo>
                    <a:pt x="2124" y="8"/>
                  </a:lnTo>
                  <a:lnTo>
                    <a:pt x="2123" y="10"/>
                  </a:lnTo>
                  <a:lnTo>
                    <a:pt x="2122" y="12"/>
                  </a:lnTo>
                  <a:lnTo>
                    <a:pt x="2121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6" y="0"/>
                  </a:lnTo>
                  <a:lnTo>
                    <a:pt x="2167" y="0"/>
                  </a:lnTo>
                  <a:lnTo>
                    <a:pt x="2168" y="2"/>
                  </a:lnTo>
                  <a:lnTo>
                    <a:pt x="2169" y="4"/>
                  </a:lnTo>
                  <a:lnTo>
                    <a:pt x="2169" y="6"/>
                  </a:lnTo>
                  <a:lnTo>
                    <a:pt x="2169" y="8"/>
                  </a:lnTo>
                  <a:lnTo>
                    <a:pt x="2168" y="10"/>
                  </a:lnTo>
                  <a:lnTo>
                    <a:pt x="2167" y="12"/>
                  </a:lnTo>
                  <a:lnTo>
                    <a:pt x="2166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1" y="0"/>
                  </a:moveTo>
                  <a:lnTo>
                    <a:pt x="2210" y="0"/>
                  </a:lnTo>
                  <a:lnTo>
                    <a:pt x="2211" y="0"/>
                  </a:lnTo>
                  <a:lnTo>
                    <a:pt x="2213" y="2"/>
                  </a:lnTo>
                  <a:lnTo>
                    <a:pt x="2214" y="4"/>
                  </a:lnTo>
                  <a:lnTo>
                    <a:pt x="2214" y="6"/>
                  </a:lnTo>
                  <a:lnTo>
                    <a:pt x="2214" y="8"/>
                  </a:lnTo>
                  <a:lnTo>
                    <a:pt x="2213" y="10"/>
                  </a:lnTo>
                  <a:lnTo>
                    <a:pt x="2211" y="12"/>
                  </a:lnTo>
                  <a:lnTo>
                    <a:pt x="2210" y="12"/>
                  </a:lnTo>
                  <a:lnTo>
                    <a:pt x="2191" y="12"/>
                  </a:lnTo>
                  <a:lnTo>
                    <a:pt x="2190" y="12"/>
                  </a:lnTo>
                  <a:lnTo>
                    <a:pt x="2189" y="10"/>
                  </a:lnTo>
                  <a:lnTo>
                    <a:pt x="2188" y="8"/>
                  </a:lnTo>
                  <a:lnTo>
                    <a:pt x="2188" y="6"/>
                  </a:lnTo>
                  <a:lnTo>
                    <a:pt x="2188" y="4"/>
                  </a:lnTo>
                  <a:lnTo>
                    <a:pt x="2189" y="2"/>
                  </a:lnTo>
                  <a:lnTo>
                    <a:pt x="2190" y="0"/>
                  </a:lnTo>
                  <a:lnTo>
                    <a:pt x="2191" y="0"/>
                  </a:lnTo>
                  <a:lnTo>
                    <a:pt x="2191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3" y="10"/>
                  </a:lnTo>
                  <a:lnTo>
                    <a:pt x="2232" y="8"/>
                  </a:lnTo>
                  <a:lnTo>
                    <a:pt x="2232" y="6"/>
                  </a:lnTo>
                  <a:lnTo>
                    <a:pt x="2232" y="4"/>
                  </a:lnTo>
                  <a:lnTo>
                    <a:pt x="2233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80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80" y="12"/>
                  </a:lnTo>
                  <a:lnTo>
                    <a:pt x="2279" y="12"/>
                  </a:lnTo>
                  <a:lnTo>
                    <a:pt x="2278" y="10"/>
                  </a:lnTo>
                  <a:lnTo>
                    <a:pt x="2277" y="8"/>
                  </a:lnTo>
                  <a:lnTo>
                    <a:pt x="2277" y="6"/>
                  </a:lnTo>
                  <a:lnTo>
                    <a:pt x="2277" y="4"/>
                  </a:lnTo>
                  <a:lnTo>
                    <a:pt x="2278" y="2"/>
                  </a:lnTo>
                  <a:lnTo>
                    <a:pt x="2279" y="0"/>
                  </a:lnTo>
                  <a:lnTo>
                    <a:pt x="2280" y="0"/>
                  </a:lnTo>
                  <a:lnTo>
                    <a:pt x="2280" y="0"/>
                  </a:lnTo>
                  <a:close/>
                  <a:moveTo>
                    <a:pt x="2325" y="0"/>
                  </a:moveTo>
                  <a:lnTo>
                    <a:pt x="2344" y="0"/>
                  </a:lnTo>
                  <a:lnTo>
                    <a:pt x="2345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5" y="12"/>
                  </a:lnTo>
                  <a:lnTo>
                    <a:pt x="2344" y="12"/>
                  </a:lnTo>
                  <a:lnTo>
                    <a:pt x="2325" y="12"/>
                  </a:lnTo>
                  <a:lnTo>
                    <a:pt x="2324" y="12"/>
                  </a:lnTo>
                  <a:lnTo>
                    <a:pt x="2323" y="10"/>
                  </a:lnTo>
                  <a:lnTo>
                    <a:pt x="2322" y="8"/>
                  </a:lnTo>
                  <a:lnTo>
                    <a:pt x="2322" y="6"/>
                  </a:lnTo>
                  <a:lnTo>
                    <a:pt x="2322" y="4"/>
                  </a:lnTo>
                  <a:lnTo>
                    <a:pt x="2323" y="2"/>
                  </a:lnTo>
                  <a:lnTo>
                    <a:pt x="2324" y="0"/>
                  </a:lnTo>
                  <a:lnTo>
                    <a:pt x="2325" y="0"/>
                  </a:lnTo>
                  <a:lnTo>
                    <a:pt x="2325" y="0"/>
                  </a:lnTo>
                  <a:close/>
                  <a:moveTo>
                    <a:pt x="2370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1" y="2"/>
                  </a:lnTo>
                  <a:lnTo>
                    <a:pt x="2392" y="4"/>
                  </a:lnTo>
                  <a:lnTo>
                    <a:pt x="2392" y="6"/>
                  </a:lnTo>
                  <a:lnTo>
                    <a:pt x="2392" y="8"/>
                  </a:lnTo>
                  <a:lnTo>
                    <a:pt x="2391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70" y="12"/>
                  </a:lnTo>
                  <a:lnTo>
                    <a:pt x="2369" y="12"/>
                  </a:lnTo>
                  <a:lnTo>
                    <a:pt x="2368" y="10"/>
                  </a:lnTo>
                  <a:lnTo>
                    <a:pt x="2367" y="8"/>
                  </a:lnTo>
                  <a:lnTo>
                    <a:pt x="2367" y="6"/>
                  </a:lnTo>
                  <a:lnTo>
                    <a:pt x="2367" y="4"/>
                  </a:lnTo>
                  <a:lnTo>
                    <a:pt x="2368" y="2"/>
                  </a:lnTo>
                  <a:lnTo>
                    <a:pt x="2369" y="0"/>
                  </a:lnTo>
                  <a:lnTo>
                    <a:pt x="2370" y="0"/>
                  </a:lnTo>
                  <a:lnTo>
                    <a:pt x="2370" y="0"/>
                  </a:lnTo>
                  <a:close/>
                  <a:moveTo>
                    <a:pt x="2414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4" y="12"/>
                  </a:lnTo>
                  <a:lnTo>
                    <a:pt x="2413" y="12"/>
                  </a:lnTo>
                  <a:lnTo>
                    <a:pt x="2412" y="10"/>
                  </a:lnTo>
                  <a:lnTo>
                    <a:pt x="2411" y="8"/>
                  </a:lnTo>
                  <a:lnTo>
                    <a:pt x="2411" y="6"/>
                  </a:lnTo>
                  <a:lnTo>
                    <a:pt x="2411" y="4"/>
                  </a:lnTo>
                  <a:lnTo>
                    <a:pt x="2412" y="2"/>
                  </a:lnTo>
                  <a:lnTo>
                    <a:pt x="2413" y="0"/>
                  </a:lnTo>
                  <a:lnTo>
                    <a:pt x="2414" y="0"/>
                  </a:lnTo>
                  <a:lnTo>
                    <a:pt x="2414" y="0"/>
                  </a:lnTo>
                  <a:close/>
                  <a:moveTo>
                    <a:pt x="2459" y="0"/>
                  </a:moveTo>
                  <a:lnTo>
                    <a:pt x="2478" y="0"/>
                  </a:lnTo>
                  <a:lnTo>
                    <a:pt x="2479" y="0"/>
                  </a:lnTo>
                  <a:lnTo>
                    <a:pt x="2480" y="2"/>
                  </a:lnTo>
                  <a:lnTo>
                    <a:pt x="2481" y="4"/>
                  </a:lnTo>
                  <a:lnTo>
                    <a:pt x="2481" y="6"/>
                  </a:lnTo>
                  <a:lnTo>
                    <a:pt x="2481" y="8"/>
                  </a:lnTo>
                  <a:lnTo>
                    <a:pt x="2480" y="10"/>
                  </a:lnTo>
                  <a:lnTo>
                    <a:pt x="2479" y="12"/>
                  </a:lnTo>
                  <a:lnTo>
                    <a:pt x="2478" y="12"/>
                  </a:lnTo>
                  <a:lnTo>
                    <a:pt x="2459" y="12"/>
                  </a:lnTo>
                  <a:lnTo>
                    <a:pt x="2458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8" y="0"/>
                  </a:lnTo>
                  <a:lnTo>
                    <a:pt x="2459" y="0"/>
                  </a:lnTo>
                  <a:lnTo>
                    <a:pt x="2459" y="0"/>
                  </a:lnTo>
                  <a:close/>
                  <a:moveTo>
                    <a:pt x="2503" y="0"/>
                  </a:moveTo>
                  <a:lnTo>
                    <a:pt x="2523" y="0"/>
                  </a:lnTo>
                  <a:lnTo>
                    <a:pt x="2524" y="0"/>
                  </a:lnTo>
                  <a:lnTo>
                    <a:pt x="2525" y="2"/>
                  </a:lnTo>
                  <a:lnTo>
                    <a:pt x="2526" y="4"/>
                  </a:lnTo>
                  <a:lnTo>
                    <a:pt x="2526" y="6"/>
                  </a:lnTo>
                  <a:lnTo>
                    <a:pt x="2526" y="8"/>
                  </a:lnTo>
                  <a:lnTo>
                    <a:pt x="2525" y="10"/>
                  </a:lnTo>
                  <a:lnTo>
                    <a:pt x="2524" y="12"/>
                  </a:lnTo>
                  <a:lnTo>
                    <a:pt x="2523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8" y="0"/>
                  </a:moveTo>
                  <a:lnTo>
                    <a:pt x="2567" y="0"/>
                  </a:lnTo>
                  <a:lnTo>
                    <a:pt x="2568" y="0"/>
                  </a:lnTo>
                  <a:lnTo>
                    <a:pt x="2570" y="2"/>
                  </a:lnTo>
                  <a:lnTo>
                    <a:pt x="2571" y="4"/>
                  </a:lnTo>
                  <a:lnTo>
                    <a:pt x="2571" y="6"/>
                  </a:lnTo>
                  <a:lnTo>
                    <a:pt x="2571" y="8"/>
                  </a:lnTo>
                  <a:lnTo>
                    <a:pt x="2570" y="10"/>
                  </a:lnTo>
                  <a:lnTo>
                    <a:pt x="2568" y="12"/>
                  </a:lnTo>
                  <a:lnTo>
                    <a:pt x="2567" y="12"/>
                  </a:lnTo>
                  <a:lnTo>
                    <a:pt x="2548" y="12"/>
                  </a:lnTo>
                  <a:lnTo>
                    <a:pt x="2547" y="12"/>
                  </a:lnTo>
                  <a:lnTo>
                    <a:pt x="2546" y="10"/>
                  </a:lnTo>
                  <a:lnTo>
                    <a:pt x="2545" y="8"/>
                  </a:lnTo>
                  <a:lnTo>
                    <a:pt x="2545" y="6"/>
                  </a:lnTo>
                  <a:lnTo>
                    <a:pt x="2545" y="4"/>
                  </a:lnTo>
                  <a:lnTo>
                    <a:pt x="2546" y="2"/>
                  </a:lnTo>
                  <a:lnTo>
                    <a:pt x="2547" y="0"/>
                  </a:lnTo>
                  <a:lnTo>
                    <a:pt x="2548" y="0"/>
                  </a:lnTo>
                  <a:lnTo>
                    <a:pt x="2548" y="0"/>
                  </a:lnTo>
                  <a:close/>
                  <a:moveTo>
                    <a:pt x="2592" y="0"/>
                  </a:moveTo>
                  <a:lnTo>
                    <a:pt x="2612" y="0"/>
                  </a:lnTo>
                  <a:lnTo>
                    <a:pt x="2613" y="0"/>
                  </a:lnTo>
                  <a:lnTo>
                    <a:pt x="2614" y="2"/>
                  </a:lnTo>
                  <a:lnTo>
                    <a:pt x="2615" y="4"/>
                  </a:lnTo>
                  <a:lnTo>
                    <a:pt x="2615" y="6"/>
                  </a:lnTo>
                  <a:lnTo>
                    <a:pt x="2615" y="8"/>
                  </a:lnTo>
                  <a:lnTo>
                    <a:pt x="2614" y="10"/>
                  </a:lnTo>
                  <a:lnTo>
                    <a:pt x="2613" y="12"/>
                  </a:lnTo>
                  <a:lnTo>
                    <a:pt x="2612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7" y="0"/>
                  </a:lnTo>
                  <a:lnTo>
                    <a:pt x="2658" y="0"/>
                  </a:lnTo>
                  <a:lnTo>
                    <a:pt x="2659" y="2"/>
                  </a:lnTo>
                  <a:lnTo>
                    <a:pt x="2660" y="4"/>
                  </a:lnTo>
                  <a:lnTo>
                    <a:pt x="2660" y="6"/>
                  </a:lnTo>
                  <a:lnTo>
                    <a:pt x="2660" y="8"/>
                  </a:lnTo>
                  <a:lnTo>
                    <a:pt x="2659" y="10"/>
                  </a:lnTo>
                  <a:lnTo>
                    <a:pt x="2658" y="12"/>
                  </a:lnTo>
                  <a:lnTo>
                    <a:pt x="2657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1" y="0"/>
                  </a:lnTo>
                  <a:lnTo>
                    <a:pt x="2702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2" y="12"/>
                  </a:lnTo>
                  <a:lnTo>
                    <a:pt x="2701" y="12"/>
                  </a:lnTo>
                  <a:lnTo>
                    <a:pt x="2682" y="12"/>
                  </a:lnTo>
                  <a:lnTo>
                    <a:pt x="2681" y="12"/>
                  </a:lnTo>
                  <a:lnTo>
                    <a:pt x="2680" y="10"/>
                  </a:lnTo>
                  <a:lnTo>
                    <a:pt x="2679" y="8"/>
                  </a:lnTo>
                  <a:lnTo>
                    <a:pt x="2679" y="6"/>
                  </a:lnTo>
                  <a:lnTo>
                    <a:pt x="2679" y="4"/>
                  </a:lnTo>
                  <a:lnTo>
                    <a:pt x="2680" y="2"/>
                  </a:lnTo>
                  <a:lnTo>
                    <a:pt x="2681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7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8" y="2"/>
                  </a:lnTo>
                  <a:lnTo>
                    <a:pt x="2749" y="4"/>
                  </a:lnTo>
                  <a:lnTo>
                    <a:pt x="2749" y="6"/>
                  </a:lnTo>
                  <a:lnTo>
                    <a:pt x="2749" y="8"/>
                  </a:lnTo>
                  <a:lnTo>
                    <a:pt x="2748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7" y="12"/>
                  </a:lnTo>
                  <a:lnTo>
                    <a:pt x="2726" y="12"/>
                  </a:lnTo>
                  <a:lnTo>
                    <a:pt x="2725" y="10"/>
                  </a:lnTo>
                  <a:lnTo>
                    <a:pt x="2724" y="8"/>
                  </a:lnTo>
                  <a:lnTo>
                    <a:pt x="2724" y="6"/>
                  </a:lnTo>
                  <a:lnTo>
                    <a:pt x="2724" y="4"/>
                  </a:lnTo>
                  <a:lnTo>
                    <a:pt x="2725" y="2"/>
                  </a:lnTo>
                  <a:lnTo>
                    <a:pt x="2726" y="0"/>
                  </a:lnTo>
                  <a:lnTo>
                    <a:pt x="2727" y="0"/>
                  </a:lnTo>
                  <a:lnTo>
                    <a:pt x="2727" y="0"/>
                  </a:lnTo>
                  <a:close/>
                  <a:moveTo>
                    <a:pt x="2771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1" y="12"/>
                  </a:lnTo>
                  <a:lnTo>
                    <a:pt x="2770" y="12"/>
                  </a:lnTo>
                  <a:lnTo>
                    <a:pt x="2769" y="10"/>
                  </a:lnTo>
                  <a:lnTo>
                    <a:pt x="2768" y="8"/>
                  </a:lnTo>
                  <a:lnTo>
                    <a:pt x="2768" y="6"/>
                  </a:lnTo>
                  <a:lnTo>
                    <a:pt x="2768" y="4"/>
                  </a:lnTo>
                  <a:lnTo>
                    <a:pt x="2769" y="2"/>
                  </a:lnTo>
                  <a:lnTo>
                    <a:pt x="2770" y="0"/>
                  </a:lnTo>
                  <a:lnTo>
                    <a:pt x="2771" y="0"/>
                  </a:lnTo>
                  <a:lnTo>
                    <a:pt x="2771" y="0"/>
                  </a:lnTo>
                  <a:close/>
                  <a:moveTo>
                    <a:pt x="2816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6" y="12"/>
                  </a:lnTo>
                  <a:lnTo>
                    <a:pt x="2815" y="12"/>
                  </a:lnTo>
                  <a:lnTo>
                    <a:pt x="2814" y="10"/>
                  </a:lnTo>
                  <a:lnTo>
                    <a:pt x="2813" y="8"/>
                  </a:lnTo>
                  <a:lnTo>
                    <a:pt x="2813" y="6"/>
                  </a:lnTo>
                  <a:lnTo>
                    <a:pt x="2813" y="4"/>
                  </a:lnTo>
                  <a:lnTo>
                    <a:pt x="2814" y="2"/>
                  </a:lnTo>
                  <a:lnTo>
                    <a:pt x="2815" y="0"/>
                  </a:lnTo>
                  <a:lnTo>
                    <a:pt x="2816" y="0"/>
                  </a:lnTo>
                  <a:lnTo>
                    <a:pt x="2816" y="0"/>
                  </a:lnTo>
                  <a:close/>
                  <a:moveTo>
                    <a:pt x="2861" y="0"/>
                  </a:moveTo>
                  <a:lnTo>
                    <a:pt x="2880" y="0"/>
                  </a:lnTo>
                  <a:lnTo>
                    <a:pt x="2881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1" y="12"/>
                  </a:lnTo>
                  <a:lnTo>
                    <a:pt x="2880" y="12"/>
                  </a:lnTo>
                  <a:lnTo>
                    <a:pt x="2861" y="12"/>
                  </a:lnTo>
                  <a:lnTo>
                    <a:pt x="2860" y="12"/>
                  </a:lnTo>
                  <a:lnTo>
                    <a:pt x="2859" y="10"/>
                  </a:lnTo>
                  <a:lnTo>
                    <a:pt x="2858" y="8"/>
                  </a:lnTo>
                  <a:lnTo>
                    <a:pt x="2858" y="6"/>
                  </a:lnTo>
                  <a:lnTo>
                    <a:pt x="2858" y="4"/>
                  </a:lnTo>
                  <a:lnTo>
                    <a:pt x="2859" y="2"/>
                  </a:lnTo>
                  <a:lnTo>
                    <a:pt x="2860" y="0"/>
                  </a:lnTo>
                  <a:lnTo>
                    <a:pt x="2861" y="0"/>
                  </a:lnTo>
                  <a:lnTo>
                    <a:pt x="2861" y="0"/>
                  </a:lnTo>
                  <a:close/>
                  <a:moveTo>
                    <a:pt x="2906" y="0"/>
                  </a:moveTo>
                  <a:lnTo>
                    <a:pt x="2924" y="0"/>
                  </a:lnTo>
                  <a:lnTo>
                    <a:pt x="2925" y="0"/>
                  </a:lnTo>
                  <a:lnTo>
                    <a:pt x="2927" y="2"/>
                  </a:lnTo>
                  <a:lnTo>
                    <a:pt x="2928" y="4"/>
                  </a:lnTo>
                  <a:lnTo>
                    <a:pt x="2928" y="6"/>
                  </a:lnTo>
                  <a:lnTo>
                    <a:pt x="2928" y="8"/>
                  </a:lnTo>
                  <a:lnTo>
                    <a:pt x="2927" y="10"/>
                  </a:lnTo>
                  <a:lnTo>
                    <a:pt x="2925" y="12"/>
                  </a:lnTo>
                  <a:lnTo>
                    <a:pt x="2924" y="12"/>
                  </a:lnTo>
                  <a:lnTo>
                    <a:pt x="2906" y="12"/>
                  </a:lnTo>
                  <a:lnTo>
                    <a:pt x="2905" y="12"/>
                  </a:lnTo>
                  <a:lnTo>
                    <a:pt x="2903" y="10"/>
                  </a:lnTo>
                  <a:lnTo>
                    <a:pt x="2902" y="8"/>
                  </a:lnTo>
                  <a:lnTo>
                    <a:pt x="2902" y="6"/>
                  </a:lnTo>
                  <a:lnTo>
                    <a:pt x="2902" y="4"/>
                  </a:lnTo>
                  <a:lnTo>
                    <a:pt x="2903" y="2"/>
                  </a:lnTo>
                  <a:lnTo>
                    <a:pt x="2905" y="0"/>
                  </a:lnTo>
                  <a:lnTo>
                    <a:pt x="2906" y="0"/>
                  </a:lnTo>
                  <a:lnTo>
                    <a:pt x="2906" y="0"/>
                  </a:lnTo>
                  <a:close/>
                  <a:moveTo>
                    <a:pt x="2949" y="0"/>
                  </a:moveTo>
                  <a:lnTo>
                    <a:pt x="2969" y="0"/>
                  </a:lnTo>
                  <a:lnTo>
                    <a:pt x="2970" y="0"/>
                  </a:lnTo>
                  <a:lnTo>
                    <a:pt x="2971" y="2"/>
                  </a:lnTo>
                  <a:lnTo>
                    <a:pt x="2972" y="4"/>
                  </a:lnTo>
                  <a:lnTo>
                    <a:pt x="2972" y="6"/>
                  </a:lnTo>
                  <a:lnTo>
                    <a:pt x="2972" y="8"/>
                  </a:lnTo>
                  <a:lnTo>
                    <a:pt x="2971" y="10"/>
                  </a:lnTo>
                  <a:lnTo>
                    <a:pt x="2970" y="12"/>
                  </a:lnTo>
                  <a:lnTo>
                    <a:pt x="2969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4" y="0"/>
                  </a:lnTo>
                  <a:lnTo>
                    <a:pt x="3015" y="0"/>
                  </a:lnTo>
                  <a:lnTo>
                    <a:pt x="3016" y="2"/>
                  </a:lnTo>
                  <a:lnTo>
                    <a:pt x="3017" y="4"/>
                  </a:lnTo>
                  <a:lnTo>
                    <a:pt x="3017" y="6"/>
                  </a:lnTo>
                  <a:lnTo>
                    <a:pt x="3017" y="8"/>
                  </a:lnTo>
                  <a:lnTo>
                    <a:pt x="3016" y="10"/>
                  </a:lnTo>
                  <a:lnTo>
                    <a:pt x="3015" y="12"/>
                  </a:lnTo>
                  <a:lnTo>
                    <a:pt x="3014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9" y="0"/>
                  </a:lnTo>
                  <a:lnTo>
                    <a:pt x="3060" y="0"/>
                  </a:lnTo>
                  <a:lnTo>
                    <a:pt x="3061" y="2"/>
                  </a:lnTo>
                  <a:lnTo>
                    <a:pt x="3062" y="4"/>
                  </a:lnTo>
                  <a:lnTo>
                    <a:pt x="3062" y="6"/>
                  </a:lnTo>
                  <a:lnTo>
                    <a:pt x="3062" y="8"/>
                  </a:lnTo>
                  <a:lnTo>
                    <a:pt x="3061" y="10"/>
                  </a:lnTo>
                  <a:lnTo>
                    <a:pt x="3060" y="12"/>
                  </a:lnTo>
                  <a:lnTo>
                    <a:pt x="3059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4" y="0"/>
                  </a:moveTo>
                  <a:lnTo>
                    <a:pt x="3102" y="0"/>
                  </a:lnTo>
                  <a:lnTo>
                    <a:pt x="3104" y="0"/>
                  </a:lnTo>
                  <a:lnTo>
                    <a:pt x="3106" y="2"/>
                  </a:lnTo>
                  <a:lnTo>
                    <a:pt x="3107" y="4"/>
                  </a:lnTo>
                  <a:lnTo>
                    <a:pt x="3107" y="6"/>
                  </a:lnTo>
                  <a:lnTo>
                    <a:pt x="3107" y="8"/>
                  </a:lnTo>
                  <a:lnTo>
                    <a:pt x="3106" y="10"/>
                  </a:lnTo>
                  <a:lnTo>
                    <a:pt x="3104" y="12"/>
                  </a:lnTo>
                  <a:lnTo>
                    <a:pt x="3102" y="12"/>
                  </a:lnTo>
                  <a:lnTo>
                    <a:pt x="3084" y="12"/>
                  </a:lnTo>
                  <a:lnTo>
                    <a:pt x="3083" y="12"/>
                  </a:lnTo>
                  <a:lnTo>
                    <a:pt x="3082" y="10"/>
                  </a:lnTo>
                  <a:lnTo>
                    <a:pt x="3081" y="8"/>
                  </a:lnTo>
                  <a:lnTo>
                    <a:pt x="3081" y="6"/>
                  </a:lnTo>
                  <a:lnTo>
                    <a:pt x="3081" y="4"/>
                  </a:lnTo>
                  <a:lnTo>
                    <a:pt x="3082" y="2"/>
                  </a:lnTo>
                  <a:lnTo>
                    <a:pt x="3083" y="0"/>
                  </a:lnTo>
                  <a:lnTo>
                    <a:pt x="3084" y="0"/>
                  </a:lnTo>
                  <a:lnTo>
                    <a:pt x="3084" y="0"/>
                  </a:lnTo>
                  <a:close/>
                  <a:moveTo>
                    <a:pt x="3128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8" y="12"/>
                  </a:lnTo>
                  <a:lnTo>
                    <a:pt x="3127" y="12"/>
                  </a:lnTo>
                  <a:lnTo>
                    <a:pt x="3126" y="10"/>
                  </a:lnTo>
                  <a:lnTo>
                    <a:pt x="3125" y="8"/>
                  </a:lnTo>
                  <a:lnTo>
                    <a:pt x="3125" y="6"/>
                  </a:lnTo>
                  <a:lnTo>
                    <a:pt x="3125" y="4"/>
                  </a:lnTo>
                  <a:lnTo>
                    <a:pt x="3126" y="2"/>
                  </a:lnTo>
                  <a:lnTo>
                    <a:pt x="3127" y="0"/>
                  </a:lnTo>
                  <a:lnTo>
                    <a:pt x="3128" y="0"/>
                  </a:lnTo>
                  <a:lnTo>
                    <a:pt x="3128" y="0"/>
                  </a:lnTo>
                  <a:close/>
                  <a:moveTo>
                    <a:pt x="3173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3" y="12"/>
                  </a:lnTo>
                  <a:lnTo>
                    <a:pt x="3172" y="12"/>
                  </a:lnTo>
                  <a:lnTo>
                    <a:pt x="3171" y="10"/>
                  </a:lnTo>
                  <a:lnTo>
                    <a:pt x="3170" y="8"/>
                  </a:lnTo>
                  <a:lnTo>
                    <a:pt x="3170" y="6"/>
                  </a:lnTo>
                  <a:lnTo>
                    <a:pt x="3170" y="4"/>
                  </a:lnTo>
                  <a:lnTo>
                    <a:pt x="3171" y="2"/>
                  </a:lnTo>
                  <a:lnTo>
                    <a:pt x="3172" y="0"/>
                  </a:lnTo>
                  <a:lnTo>
                    <a:pt x="3173" y="0"/>
                  </a:lnTo>
                  <a:lnTo>
                    <a:pt x="3173" y="0"/>
                  </a:lnTo>
                  <a:close/>
                  <a:moveTo>
                    <a:pt x="3218" y="0"/>
                  </a:moveTo>
                  <a:lnTo>
                    <a:pt x="3237" y="0"/>
                  </a:lnTo>
                  <a:lnTo>
                    <a:pt x="3238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8" y="12"/>
                  </a:lnTo>
                  <a:lnTo>
                    <a:pt x="3237" y="12"/>
                  </a:lnTo>
                  <a:lnTo>
                    <a:pt x="3218" y="12"/>
                  </a:lnTo>
                  <a:lnTo>
                    <a:pt x="3217" y="12"/>
                  </a:lnTo>
                  <a:lnTo>
                    <a:pt x="3216" y="10"/>
                  </a:lnTo>
                  <a:lnTo>
                    <a:pt x="3215" y="8"/>
                  </a:lnTo>
                  <a:lnTo>
                    <a:pt x="3215" y="6"/>
                  </a:lnTo>
                  <a:lnTo>
                    <a:pt x="3215" y="4"/>
                  </a:lnTo>
                  <a:lnTo>
                    <a:pt x="3216" y="2"/>
                  </a:lnTo>
                  <a:lnTo>
                    <a:pt x="3217" y="0"/>
                  </a:lnTo>
                  <a:lnTo>
                    <a:pt x="3218" y="0"/>
                  </a:lnTo>
                  <a:lnTo>
                    <a:pt x="3218" y="0"/>
                  </a:lnTo>
                  <a:close/>
                  <a:moveTo>
                    <a:pt x="3263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4" y="2"/>
                  </a:lnTo>
                  <a:lnTo>
                    <a:pt x="3285" y="4"/>
                  </a:lnTo>
                  <a:lnTo>
                    <a:pt x="3285" y="6"/>
                  </a:lnTo>
                  <a:lnTo>
                    <a:pt x="3285" y="8"/>
                  </a:lnTo>
                  <a:lnTo>
                    <a:pt x="3284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3" y="12"/>
                  </a:lnTo>
                  <a:lnTo>
                    <a:pt x="3262" y="12"/>
                  </a:lnTo>
                  <a:lnTo>
                    <a:pt x="3261" y="10"/>
                  </a:lnTo>
                  <a:lnTo>
                    <a:pt x="3260" y="8"/>
                  </a:lnTo>
                  <a:lnTo>
                    <a:pt x="3260" y="6"/>
                  </a:lnTo>
                  <a:lnTo>
                    <a:pt x="3260" y="4"/>
                  </a:lnTo>
                  <a:lnTo>
                    <a:pt x="3261" y="2"/>
                  </a:lnTo>
                  <a:lnTo>
                    <a:pt x="3262" y="0"/>
                  </a:lnTo>
                  <a:lnTo>
                    <a:pt x="3263" y="0"/>
                  </a:lnTo>
                  <a:lnTo>
                    <a:pt x="3263" y="0"/>
                  </a:lnTo>
                  <a:close/>
                  <a:moveTo>
                    <a:pt x="3307" y="0"/>
                  </a:moveTo>
                  <a:lnTo>
                    <a:pt x="3326" y="0"/>
                  </a:lnTo>
                  <a:lnTo>
                    <a:pt x="3327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7" y="12"/>
                  </a:lnTo>
                  <a:lnTo>
                    <a:pt x="3326" y="12"/>
                  </a:lnTo>
                  <a:lnTo>
                    <a:pt x="3307" y="12"/>
                  </a:lnTo>
                  <a:lnTo>
                    <a:pt x="3306" y="12"/>
                  </a:lnTo>
                  <a:lnTo>
                    <a:pt x="3305" y="10"/>
                  </a:lnTo>
                  <a:lnTo>
                    <a:pt x="3304" y="8"/>
                  </a:lnTo>
                  <a:lnTo>
                    <a:pt x="3304" y="6"/>
                  </a:lnTo>
                  <a:lnTo>
                    <a:pt x="3304" y="4"/>
                  </a:lnTo>
                  <a:lnTo>
                    <a:pt x="3305" y="2"/>
                  </a:lnTo>
                  <a:lnTo>
                    <a:pt x="3306" y="0"/>
                  </a:lnTo>
                  <a:lnTo>
                    <a:pt x="3307" y="0"/>
                  </a:lnTo>
                  <a:lnTo>
                    <a:pt x="3307" y="0"/>
                  </a:lnTo>
                  <a:close/>
                  <a:moveTo>
                    <a:pt x="3351" y="0"/>
                  </a:moveTo>
                  <a:lnTo>
                    <a:pt x="3371" y="0"/>
                  </a:lnTo>
                  <a:lnTo>
                    <a:pt x="3372" y="0"/>
                  </a:lnTo>
                  <a:lnTo>
                    <a:pt x="3373" y="2"/>
                  </a:lnTo>
                  <a:lnTo>
                    <a:pt x="3374" y="4"/>
                  </a:lnTo>
                  <a:lnTo>
                    <a:pt x="3374" y="6"/>
                  </a:lnTo>
                  <a:lnTo>
                    <a:pt x="3374" y="8"/>
                  </a:lnTo>
                  <a:lnTo>
                    <a:pt x="3373" y="10"/>
                  </a:lnTo>
                  <a:lnTo>
                    <a:pt x="3372" y="12"/>
                  </a:lnTo>
                  <a:lnTo>
                    <a:pt x="3371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6" y="0"/>
                  </a:lnTo>
                  <a:lnTo>
                    <a:pt x="3417" y="0"/>
                  </a:lnTo>
                  <a:lnTo>
                    <a:pt x="3418" y="2"/>
                  </a:lnTo>
                  <a:lnTo>
                    <a:pt x="3419" y="4"/>
                  </a:lnTo>
                  <a:lnTo>
                    <a:pt x="3419" y="6"/>
                  </a:lnTo>
                  <a:lnTo>
                    <a:pt x="3419" y="8"/>
                  </a:lnTo>
                  <a:lnTo>
                    <a:pt x="3418" y="10"/>
                  </a:lnTo>
                  <a:lnTo>
                    <a:pt x="3417" y="12"/>
                  </a:lnTo>
                  <a:lnTo>
                    <a:pt x="3416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1" y="0"/>
                  </a:moveTo>
                  <a:lnTo>
                    <a:pt x="3460" y="0"/>
                  </a:lnTo>
                  <a:lnTo>
                    <a:pt x="3461" y="0"/>
                  </a:lnTo>
                  <a:lnTo>
                    <a:pt x="3463" y="2"/>
                  </a:lnTo>
                  <a:lnTo>
                    <a:pt x="3464" y="4"/>
                  </a:lnTo>
                  <a:lnTo>
                    <a:pt x="3464" y="6"/>
                  </a:lnTo>
                  <a:lnTo>
                    <a:pt x="3464" y="8"/>
                  </a:lnTo>
                  <a:lnTo>
                    <a:pt x="3463" y="10"/>
                  </a:lnTo>
                  <a:lnTo>
                    <a:pt x="3461" y="12"/>
                  </a:lnTo>
                  <a:lnTo>
                    <a:pt x="3460" y="12"/>
                  </a:lnTo>
                  <a:lnTo>
                    <a:pt x="3441" y="12"/>
                  </a:lnTo>
                  <a:lnTo>
                    <a:pt x="3440" y="12"/>
                  </a:lnTo>
                  <a:lnTo>
                    <a:pt x="3439" y="10"/>
                  </a:lnTo>
                  <a:lnTo>
                    <a:pt x="3438" y="8"/>
                  </a:lnTo>
                  <a:lnTo>
                    <a:pt x="3438" y="6"/>
                  </a:lnTo>
                  <a:lnTo>
                    <a:pt x="3438" y="4"/>
                  </a:lnTo>
                  <a:lnTo>
                    <a:pt x="3439" y="2"/>
                  </a:lnTo>
                  <a:lnTo>
                    <a:pt x="3440" y="0"/>
                  </a:lnTo>
                  <a:lnTo>
                    <a:pt x="3441" y="0"/>
                  </a:lnTo>
                  <a:lnTo>
                    <a:pt x="3441" y="0"/>
                  </a:lnTo>
                  <a:close/>
                  <a:moveTo>
                    <a:pt x="3485" y="0"/>
                  </a:moveTo>
                  <a:lnTo>
                    <a:pt x="3505" y="0"/>
                  </a:lnTo>
                  <a:lnTo>
                    <a:pt x="3506" y="0"/>
                  </a:lnTo>
                  <a:lnTo>
                    <a:pt x="3507" y="2"/>
                  </a:lnTo>
                  <a:lnTo>
                    <a:pt x="3508" y="4"/>
                  </a:lnTo>
                  <a:lnTo>
                    <a:pt x="3508" y="6"/>
                  </a:lnTo>
                  <a:lnTo>
                    <a:pt x="3508" y="8"/>
                  </a:lnTo>
                  <a:lnTo>
                    <a:pt x="3507" y="10"/>
                  </a:lnTo>
                  <a:lnTo>
                    <a:pt x="3506" y="12"/>
                  </a:lnTo>
                  <a:lnTo>
                    <a:pt x="3505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1" y="0"/>
                  </a:lnTo>
                  <a:lnTo>
                    <a:pt x="3552" y="2"/>
                  </a:lnTo>
                  <a:lnTo>
                    <a:pt x="3553" y="4"/>
                  </a:lnTo>
                  <a:lnTo>
                    <a:pt x="3553" y="6"/>
                  </a:lnTo>
                  <a:lnTo>
                    <a:pt x="3553" y="8"/>
                  </a:lnTo>
                  <a:lnTo>
                    <a:pt x="3552" y="10"/>
                  </a:lnTo>
                  <a:lnTo>
                    <a:pt x="3551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5" y="0"/>
                  </a:moveTo>
                  <a:lnTo>
                    <a:pt x="3594" y="0"/>
                  </a:lnTo>
                  <a:lnTo>
                    <a:pt x="3595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5" y="12"/>
                  </a:lnTo>
                  <a:lnTo>
                    <a:pt x="3594" y="12"/>
                  </a:lnTo>
                  <a:lnTo>
                    <a:pt x="3575" y="12"/>
                  </a:lnTo>
                  <a:lnTo>
                    <a:pt x="3574" y="12"/>
                  </a:lnTo>
                  <a:lnTo>
                    <a:pt x="3573" y="10"/>
                  </a:lnTo>
                  <a:lnTo>
                    <a:pt x="3572" y="8"/>
                  </a:lnTo>
                  <a:lnTo>
                    <a:pt x="3572" y="6"/>
                  </a:lnTo>
                  <a:lnTo>
                    <a:pt x="3572" y="4"/>
                  </a:lnTo>
                  <a:lnTo>
                    <a:pt x="3573" y="2"/>
                  </a:lnTo>
                  <a:lnTo>
                    <a:pt x="3574" y="0"/>
                  </a:lnTo>
                  <a:lnTo>
                    <a:pt x="3575" y="0"/>
                  </a:lnTo>
                  <a:lnTo>
                    <a:pt x="3575" y="0"/>
                  </a:lnTo>
                  <a:close/>
                  <a:moveTo>
                    <a:pt x="3620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1" y="2"/>
                  </a:lnTo>
                  <a:lnTo>
                    <a:pt x="3642" y="4"/>
                  </a:lnTo>
                  <a:lnTo>
                    <a:pt x="3642" y="6"/>
                  </a:lnTo>
                  <a:lnTo>
                    <a:pt x="3642" y="8"/>
                  </a:lnTo>
                  <a:lnTo>
                    <a:pt x="3641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20" y="12"/>
                  </a:lnTo>
                  <a:lnTo>
                    <a:pt x="3619" y="12"/>
                  </a:lnTo>
                  <a:lnTo>
                    <a:pt x="3618" y="10"/>
                  </a:lnTo>
                  <a:lnTo>
                    <a:pt x="3617" y="8"/>
                  </a:lnTo>
                  <a:lnTo>
                    <a:pt x="3617" y="6"/>
                  </a:lnTo>
                  <a:lnTo>
                    <a:pt x="3617" y="4"/>
                  </a:lnTo>
                  <a:lnTo>
                    <a:pt x="3618" y="2"/>
                  </a:lnTo>
                  <a:lnTo>
                    <a:pt x="3619" y="0"/>
                  </a:lnTo>
                  <a:lnTo>
                    <a:pt x="3620" y="0"/>
                  </a:lnTo>
                  <a:lnTo>
                    <a:pt x="3620" y="0"/>
                  </a:lnTo>
                  <a:close/>
                  <a:moveTo>
                    <a:pt x="3664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4" y="12"/>
                  </a:lnTo>
                  <a:lnTo>
                    <a:pt x="3663" y="12"/>
                  </a:lnTo>
                  <a:lnTo>
                    <a:pt x="3662" y="10"/>
                  </a:lnTo>
                  <a:lnTo>
                    <a:pt x="3661" y="8"/>
                  </a:lnTo>
                  <a:lnTo>
                    <a:pt x="3661" y="6"/>
                  </a:lnTo>
                  <a:lnTo>
                    <a:pt x="3661" y="4"/>
                  </a:lnTo>
                  <a:lnTo>
                    <a:pt x="3662" y="2"/>
                  </a:lnTo>
                  <a:lnTo>
                    <a:pt x="3663" y="0"/>
                  </a:lnTo>
                  <a:lnTo>
                    <a:pt x="3664" y="0"/>
                  </a:lnTo>
                  <a:lnTo>
                    <a:pt x="3664" y="0"/>
                  </a:lnTo>
                  <a:close/>
                  <a:moveTo>
                    <a:pt x="3709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9" y="12"/>
                  </a:lnTo>
                  <a:lnTo>
                    <a:pt x="3708" y="12"/>
                  </a:lnTo>
                  <a:lnTo>
                    <a:pt x="3707" y="10"/>
                  </a:lnTo>
                  <a:lnTo>
                    <a:pt x="3706" y="8"/>
                  </a:lnTo>
                  <a:lnTo>
                    <a:pt x="3706" y="6"/>
                  </a:lnTo>
                  <a:lnTo>
                    <a:pt x="3706" y="4"/>
                  </a:lnTo>
                  <a:lnTo>
                    <a:pt x="3707" y="2"/>
                  </a:lnTo>
                  <a:lnTo>
                    <a:pt x="3708" y="0"/>
                  </a:lnTo>
                  <a:lnTo>
                    <a:pt x="3709" y="0"/>
                  </a:lnTo>
                  <a:lnTo>
                    <a:pt x="3709" y="0"/>
                  </a:lnTo>
                  <a:close/>
                  <a:moveTo>
                    <a:pt x="3754" y="0"/>
                  </a:moveTo>
                  <a:lnTo>
                    <a:pt x="3773" y="0"/>
                  </a:lnTo>
                  <a:lnTo>
                    <a:pt x="3774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4" y="12"/>
                  </a:lnTo>
                  <a:lnTo>
                    <a:pt x="3773" y="12"/>
                  </a:lnTo>
                  <a:lnTo>
                    <a:pt x="3754" y="12"/>
                  </a:lnTo>
                  <a:lnTo>
                    <a:pt x="3753" y="12"/>
                  </a:lnTo>
                  <a:lnTo>
                    <a:pt x="3752" y="10"/>
                  </a:lnTo>
                  <a:lnTo>
                    <a:pt x="3751" y="8"/>
                  </a:lnTo>
                  <a:lnTo>
                    <a:pt x="3751" y="6"/>
                  </a:lnTo>
                  <a:lnTo>
                    <a:pt x="3751" y="4"/>
                  </a:lnTo>
                  <a:lnTo>
                    <a:pt x="3752" y="2"/>
                  </a:lnTo>
                  <a:lnTo>
                    <a:pt x="3753" y="0"/>
                  </a:lnTo>
                  <a:lnTo>
                    <a:pt x="3754" y="0"/>
                  </a:lnTo>
                  <a:lnTo>
                    <a:pt x="3754" y="0"/>
                  </a:lnTo>
                  <a:close/>
                  <a:moveTo>
                    <a:pt x="3798" y="0"/>
                  </a:moveTo>
                  <a:lnTo>
                    <a:pt x="3817" y="0"/>
                  </a:lnTo>
                  <a:lnTo>
                    <a:pt x="3818" y="0"/>
                  </a:lnTo>
                  <a:lnTo>
                    <a:pt x="3820" y="2"/>
                  </a:lnTo>
                  <a:lnTo>
                    <a:pt x="3821" y="4"/>
                  </a:lnTo>
                  <a:lnTo>
                    <a:pt x="3821" y="6"/>
                  </a:lnTo>
                  <a:lnTo>
                    <a:pt x="3821" y="8"/>
                  </a:lnTo>
                  <a:lnTo>
                    <a:pt x="3820" y="10"/>
                  </a:lnTo>
                  <a:lnTo>
                    <a:pt x="3818" y="12"/>
                  </a:lnTo>
                  <a:lnTo>
                    <a:pt x="3817" y="12"/>
                  </a:lnTo>
                  <a:lnTo>
                    <a:pt x="3798" y="12"/>
                  </a:lnTo>
                  <a:lnTo>
                    <a:pt x="3797" y="12"/>
                  </a:lnTo>
                  <a:lnTo>
                    <a:pt x="3796" y="10"/>
                  </a:lnTo>
                  <a:lnTo>
                    <a:pt x="3795" y="8"/>
                  </a:lnTo>
                  <a:lnTo>
                    <a:pt x="3795" y="6"/>
                  </a:lnTo>
                  <a:lnTo>
                    <a:pt x="3795" y="4"/>
                  </a:lnTo>
                  <a:lnTo>
                    <a:pt x="3796" y="2"/>
                  </a:lnTo>
                  <a:lnTo>
                    <a:pt x="3797" y="0"/>
                  </a:lnTo>
                  <a:lnTo>
                    <a:pt x="3798" y="0"/>
                  </a:lnTo>
                  <a:lnTo>
                    <a:pt x="3798" y="0"/>
                  </a:lnTo>
                  <a:close/>
                  <a:moveTo>
                    <a:pt x="3842" y="0"/>
                  </a:moveTo>
                  <a:lnTo>
                    <a:pt x="3862" y="0"/>
                  </a:lnTo>
                  <a:lnTo>
                    <a:pt x="3863" y="0"/>
                  </a:lnTo>
                  <a:lnTo>
                    <a:pt x="3864" y="2"/>
                  </a:lnTo>
                  <a:lnTo>
                    <a:pt x="3865" y="4"/>
                  </a:lnTo>
                  <a:lnTo>
                    <a:pt x="3865" y="6"/>
                  </a:lnTo>
                  <a:lnTo>
                    <a:pt x="3865" y="8"/>
                  </a:lnTo>
                  <a:lnTo>
                    <a:pt x="3864" y="10"/>
                  </a:lnTo>
                  <a:lnTo>
                    <a:pt x="3863" y="12"/>
                  </a:lnTo>
                  <a:lnTo>
                    <a:pt x="3862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7" y="0"/>
                  </a:lnTo>
                  <a:lnTo>
                    <a:pt x="3908" y="0"/>
                  </a:lnTo>
                  <a:lnTo>
                    <a:pt x="3909" y="2"/>
                  </a:lnTo>
                  <a:lnTo>
                    <a:pt x="3910" y="4"/>
                  </a:lnTo>
                  <a:lnTo>
                    <a:pt x="3910" y="6"/>
                  </a:lnTo>
                  <a:lnTo>
                    <a:pt x="3910" y="8"/>
                  </a:lnTo>
                  <a:lnTo>
                    <a:pt x="3909" y="10"/>
                  </a:lnTo>
                  <a:lnTo>
                    <a:pt x="3908" y="12"/>
                  </a:lnTo>
                  <a:lnTo>
                    <a:pt x="3907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2" y="0"/>
                  </a:lnTo>
                  <a:lnTo>
                    <a:pt x="3953" y="0"/>
                  </a:lnTo>
                  <a:lnTo>
                    <a:pt x="3954" y="2"/>
                  </a:lnTo>
                  <a:lnTo>
                    <a:pt x="3955" y="4"/>
                  </a:lnTo>
                  <a:lnTo>
                    <a:pt x="3955" y="6"/>
                  </a:lnTo>
                  <a:lnTo>
                    <a:pt x="3955" y="8"/>
                  </a:lnTo>
                  <a:lnTo>
                    <a:pt x="3954" y="10"/>
                  </a:lnTo>
                  <a:lnTo>
                    <a:pt x="3953" y="12"/>
                  </a:lnTo>
                  <a:lnTo>
                    <a:pt x="3952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7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9" y="2"/>
                  </a:lnTo>
                  <a:lnTo>
                    <a:pt x="4000" y="4"/>
                  </a:lnTo>
                  <a:lnTo>
                    <a:pt x="4000" y="6"/>
                  </a:lnTo>
                  <a:lnTo>
                    <a:pt x="4000" y="8"/>
                  </a:lnTo>
                  <a:lnTo>
                    <a:pt x="3999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7" y="12"/>
                  </a:lnTo>
                  <a:lnTo>
                    <a:pt x="3976" y="12"/>
                  </a:lnTo>
                  <a:lnTo>
                    <a:pt x="3975" y="10"/>
                  </a:lnTo>
                  <a:lnTo>
                    <a:pt x="3974" y="8"/>
                  </a:lnTo>
                  <a:lnTo>
                    <a:pt x="3974" y="6"/>
                  </a:lnTo>
                  <a:lnTo>
                    <a:pt x="3974" y="4"/>
                  </a:lnTo>
                  <a:lnTo>
                    <a:pt x="3975" y="2"/>
                  </a:lnTo>
                  <a:lnTo>
                    <a:pt x="3976" y="0"/>
                  </a:lnTo>
                  <a:lnTo>
                    <a:pt x="3977" y="0"/>
                  </a:lnTo>
                  <a:lnTo>
                    <a:pt x="3977" y="0"/>
                  </a:lnTo>
                  <a:close/>
                  <a:moveTo>
                    <a:pt x="4021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1" y="12"/>
                  </a:lnTo>
                  <a:lnTo>
                    <a:pt x="4020" y="12"/>
                  </a:lnTo>
                  <a:lnTo>
                    <a:pt x="4019" y="10"/>
                  </a:lnTo>
                  <a:lnTo>
                    <a:pt x="4018" y="8"/>
                  </a:lnTo>
                  <a:lnTo>
                    <a:pt x="4018" y="6"/>
                  </a:lnTo>
                  <a:lnTo>
                    <a:pt x="4018" y="4"/>
                  </a:lnTo>
                  <a:lnTo>
                    <a:pt x="4019" y="2"/>
                  </a:lnTo>
                  <a:lnTo>
                    <a:pt x="4020" y="0"/>
                  </a:lnTo>
                  <a:lnTo>
                    <a:pt x="4021" y="0"/>
                  </a:lnTo>
                  <a:lnTo>
                    <a:pt x="4021" y="0"/>
                  </a:lnTo>
                  <a:close/>
                  <a:moveTo>
                    <a:pt x="4066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6" y="12"/>
                  </a:lnTo>
                  <a:lnTo>
                    <a:pt x="4065" y="12"/>
                  </a:lnTo>
                  <a:lnTo>
                    <a:pt x="4064" y="10"/>
                  </a:lnTo>
                  <a:lnTo>
                    <a:pt x="4063" y="8"/>
                  </a:lnTo>
                  <a:lnTo>
                    <a:pt x="4063" y="6"/>
                  </a:lnTo>
                  <a:lnTo>
                    <a:pt x="4063" y="4"/>
                  </a:lnTo>
                  <a:lnTo>
                    <a:pt x="4064" y="2"/>
                  </a:lnTo>
                  <a:lnTo>
                    <a:pt x="4065" y="0"/>
                  </a:lnTo>
                  <a:lnTo>
                    <a:pt x="4066" y="0"/>
                  </a:lnTo>
                  <a:lnTo>
                    <a:pt x="4066" y="0"/>
                  </a:lnTo>
                  <a:close/>
                  <a:moveTo>
                    <a:pt x="4111" y="0"/>
                  </a:moveTo>
                  <a:lnTo>
                    <a:pt x="4130" y="0"/>
                  </a:lnTo>
                  <a:lnTo>
                    <a:pt x="4131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1" y="12"/>
                  </a:lnTo>
                  <a:lnTo>
                    <a:pt x="4130" y="12"/>
                  </a:lnTo>
                  <a:lnTo>
                    <a:pt x="4111" y="12"/>
                  </a:lnTo>
                  <a:lnTo>
                    <a:pt x="4110" y="12"/>
                  </a:lnTo>
                  <a:lnTo>
                    <a:pt x="4109" y="10"/>
                  </a:lnTo>
                  <a:lnTo>
                    <a:pt x="4108" y="8"/>
                  </a:lnTo>
                  <a:lnTo>
                    <a:pt x="4108" y="6"/>
                  </a:lnTo>
                  <a:lnTo>
                    <a:pt x="4108" y="4"/>
                  </a:lnTo>
                  <a:lnTo>
                    <a:pt x="4109" y="2"/>
                  </a:lnTo>
                  <a:lnTo>
                    <a:pt x="4110" y="0"/>
                  </a:lnTo>
                  <a:lnTo>
                    <a:pt x="4111" y="0"/>
                  </a:lnTo>
                  <a:lnTo>
                    <a:pt x="4111" y="0"/>
                  </a:lnTo>
                  <a:close/>
                  <a:moveTo>
                    <a:pt x="4156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7" y="2"/>
                  </a:lnTo>
                  <a:lnTo>
                    <a:pt x="4178" y="4"/>
                  </a:lnTo>
                  <a:lnTo>
                    <a:pt x="4178" y="6"/>
                  </a:lnTo>
                  <a:lnTo>
                    <a:pt x="4178" y="8"/>
                  </a:lnTo>
                  <a:lnTo>
                    <a:pt x="4177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6" y="12"/>
                  </a:lnTo>
                  <a:lnTo>
                    <a:pt x="4155" y="12"/>
                  </a:lnTo>
                  <a:lnTo>
                    <a:pt x="4154" y="10"/>
                  </a:lnTo>
                  <a:lnTo>
                    <a:pt x="4153" y="8"/>
                  </a:lnTo>
                  <a:lnTo>
                    <a:pt x="4153" y="6"/>
                  </a:lnTo>
                  <a:lnTo>
                    <a:pt x="4153" y="4"/>
                  </a:lnTo>
                  <a:lnTo>
                    <a:pt x="4154" y="2"/>
                  </a:lnTo>
                  <a:lnTo>
                    <a:pt x="4155" y="0"/>
                  </a:lnTo>
                  <a:lnTo>
                    <a:pt x="4156" y="0"/>
                  </a:lnTo>
                  <a:lnTo>
                    <a:pt x="4156" y="0"/>
                  </a:lnTo>
                  <a:close/>
                  <a:moveTo>
                    <a:pt x="4200" y="0"/>
                  </a:moveTo>
                  <a:lnTo>
                    <a:pt x="4219" y="0"/>
                  </a:lnTo>
                  <a:lnTo>
                    <a:pt x="4220" y="0"/>
                  </a:lnTo>
                  <a:lnTo>
                    <a:pt x="4221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1" y="10"/>
                  </a:lnTo>
                  <a:lnTo>
                    <a:pt x="4220" y="12"/>
                  </a:lnTo>
                  <a:lnTo>
                    <a:pt x="4219" y="12"/>
                  </a:lnTo>
                  <a:lnTo>
                    <a:pt x="4200" y="12"/>
                  </a:lnTo>
                  <a:lnTo>
                    <a:pt x="4199" y="12"/>
                  </a:lnTo>
                  <a:lnTo>
                    <a:pt x="4198" y="10"/>
                  </a:lnTo>
                  <a:lnTo>
                    <a:pt x="4197" y="8"/>
                  </a:lnTo>
                  <a:lnTo>
                    <a:pt x="4197" y="6"/>
                  </a:lnTo>
                  <a:lnTo>
                    <a:pt x="4197" y="4"/>
                  </a:lnTo>
                  <a:lnTo>
                    <a:pt x="4198" y="2"/>
                  </a:lnTo>
                  <a:lnTo>
                    <a:pt x="4199" y="0"/>
                  </a:lnTo>
                  <a:lnTo>
                    <a:pt x="4200" y="0"/>
                  </a:lnTo>
                  <a:lnTo>
                    <a:pt x="4200" y="0"/>
                  </a:lnTo>
                  <a:close/>
                  <a:moveTo>
                    <a:pt x="4244" y="0"/>
                  </a:moveTo>
                  <a:lnTo>
                    <a:pt x="4264" y="0"/>
                  </a:lnTo>
                  <a:lnTo>
                    <a:pt x="4265" y="0"/>
                  </a:lnTo>
                  <a:lnTo>
                    <a:pt x="4266" y="2"/>
                  </a:lnTo>
                  <a:lnTo>
                    <a:pt x="4267" y="4"/>
                  </a:lnTo>
                  <a:lnTo>
                    <a:pt x="4267" y="6"/>
                  </a:lnTo>
                  <a:lnTo>
                    <a:pt x="4267" y="8"/>
                  </a:lnTo>
                  <a:lnTo>
                    <a:pt x="4266" y="10"/>
                  </a:lnTo>
                  <a:lnTo>
                    <a:pt x="4265" y="12"/>
                  </a:lnTo>
                  <a:lnTo>
                    <a:pt x="4264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9" y="0"/>
                  </a:lnTo>
                  <a:lnTo>
                    <a:pt x="4310" y="0"/>
                  </a:lnTo>
                  <a:lnTo>
                    <a:pt x="4311" y="2"/>
                  </a:lnTo>
                  <a:lnTo>
                    <a:pt x="4312" y="4"/>
                  </a:lnTo>
                  <a:lnTo>
                    <a:pt x="4312" y="6"/>
                  </a:lnTo>
                  <a:lnTo>
                    <a:pt x="4312" y="8"/>
                  </a:lnTo>
                  <a:lnTo>
                    <a:pt x="4311" y="10"/>
                  </a:lnTo>
                  <a:lnTo>
                    <a:pt x="4310" y="12"/>
                  </a:lnTo>
                  <a:lnTo>
                    <a:pt x="4309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4" y="0"/>
                  </a:moveTo>
                  <a:lnTo>
                    <a:pt x="4353" y="0"/>
                  </a:lnTo>
                  <a:lnTo>
                    <a:pt x="4354" y="0"/>
                  </a:lnTo>
                  <a:lnTo>
                    <a:pt x="4356" y="2"/>
                  </a:lnTo>
                  <a:lnTo>
                    <a:pt x="4357" y="4"/>
                  </a:lnTo>
                  <a:lnTo>
                    <a:pt x="4357" y="6"/>
                  </a:lnTo>
                  <a:lnTo>
                    <a:pt x="4357" y="8"/>
                  </a:lnTo>
                  <a:lnTo>
                    <a:pt x="4356" y="10"/>
                  </a:lnTo>
                  <a:lnTo>
                    <a:pt x="4354" y="12"/>
                  </a:lnTo>
                  <a:lnTo>
                    <a:pt x="4353" y="12"/>
                  </a:lnTo>
                  <a:lnTo>
                    <a:pt x="4334" y="12"/>
                  </a:lnTo>
                  <a:lnTo>
                    <a:pt x="4333" y="12"/>
                  </a:lnTo>
                  <a:lnTo>
                    <a:pt x="4332" y="10"/>
                  </a:lnTo>
                  <a:lnTo>
                    <a:pt x="4331" y="8"/>
                  </a:lnTo>
                  <a:lnTo>
                    <a:pt x="4331" y="6"/>
                  </a:lnTo>
                  <a:lnTo>
                    <a:pt x="4331" y="4"/>
                  </a:lnTo>
                  <a:lnTo>
                    <a:pt x="4332" y="2"/>
                  </a:lnTo>
                  <a:lnTo>
                    <a:pt x="4333" y="0"/>
                  </a:lnTo>
                  <a:lnTo>
                    <a:pt x="4334" y="0"/>
                  </a:lnTo>
                  <a:lnTo>
                    <a:pt x="4334" y="0"/>
                  </a:lnTo>
                  <a:close/>
                  <a:moveTo>
                    <a:pt x="4378" y="0"/>
                  </a:moveTo>
                  <a:lnTo>
                    <a:pt x="4398" y="0"/>
                  </a:lnTo>
                  <a:lnTo>
                    <a:pt x="4399" y="0"/>
                  </a:lnTo>
                  <a:lnTo>
                    <a:pt x="4400" y="2"/>
                  </a:lnTo>
                  <a:lnTo>
                    <a:pt x="4401" y="4"/>
                  </a:lnTo>
                  <a:lnTo>
                    <a:pt x="4401" y="6"/>
                  </a:lnTo>
                  <a:lnTo>
                    <a:pt x="4401" y="8"/>
                  </a:lnTo>
                  <a:lnTo>
                    <a:pt x="4400" y="10"/>
                  </a:lnTo>
                  <a:lnTo>
                    <a:pt x="4399" y="12"/>
                  </a:lnTo>
                  <a:lnTo>
                    <a:pt x="4398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6" y="4"/>
                  </a:lnTo>
                  <a:lnTo>
                    <a:pt x="4446" y="6"/>
                  </a:lnTo>
                  <a:lnTo>
                    <a:pt x="4446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20" y="8"/>
                  </a:lnTo>
                  <a:lnTo>
                    <a:pt x="4420" y="6"/>
                  </a:lnTo>
                  <a:lnTo>
                    <a:pt x="4420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8" y="0"/>
                  </a:moveTo>
                  <a:lnTo>
                    <a:pt x="4487" y="0"/>
                  </a:lnTo>
                  <a:lnTo>
                    <a:pt x="4488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8" y="12"/>
                  </a:lnTo>
                  <a:lnTo>
                    <a:pt x="4487" y="12"/>
                  </a:lnTo>
                  <a:lnTo>
                    <a:pt x="4468" y="12"/>
                  </a:lnTo>
                  <a:lnTo>
                    <a:pt x="4467" y="12"/>
                  </a:lnTo>
                  <a:lnTo>
                    <a:pt x="4466" y="10"/>
                  </a:lnTo>
                  <a:lnTo>
                    <a:pt x="4465" y="8"/>
                  </a:lnTo>
                  <a:lnTo>
                    <a:pt x="4465" y="6"/>
                  </a:lnTo>
                  <a:lnTo>
                    <a:pt x="4465" y="4"/>
                  </a:lnTo>
                  <a:lnTo>
                    <a:pt x="4466" y="2"/>
                  </a:lnTo>
                  <a:lnTo>
                    <a:pt x="4467" y="0"/>
                  </a:lnTo>
                  <a:lnTo>
                    <a:pt x="4468" y="0"/>
                  </a:lnTo>
                  <a:lnTo>
                    <a:pt x="4468" y="0"/>
                  </a:lnTo>
                  <a:close/>
                  <a:moveTo>
                    <a:pt x="4513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4" y="2"/>
                  </a:lnTo>
                  <a:lnTo>
                    <a:pt x="4535" y="4"/>
                  </a:lnTo>
                  <a:lnTo>
                    <a:pt x="4535" y="6"/>
                  </a:lnTo>
                  <a:lnTo>
                    <a:pt x="4535" y="8"/>
                  </a:lnTo>
                  <a:lnTo>
                    <a:pt x="4534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3" y="12"/>
                  </a:lnTo>
                  <a:lnTo>
                    <a:pt x="4512" y="12"/>
                  </a:lnTo>
                  <a:lnTo>
                    <a:pt x="4511" y="10"/>
                  </a:lnTo>
                  <a:lnTo>
                    <a:pt x="4510" y="8"/>
                  </a:lnTo>
                  <a:lnTo>
                    <a:pt x="4510" y="6"/>
                  </a:lnTo>
                  <a:lnTo>
                    <a:pt x="4510" y="4"/>
                  </a:lnTo>
                  <a:lnTo>
                    <a:pt x="4511" y="2"/>
                  </a:lnTo>
                  <a:lnTo>
                    <a:pt x="4512" y="0"/>
                  </a:lnTo>
                  <a:lnTo>
                    <a:pt x="4513" y="0"/>
                  </a:lnTo>
                  <a:lnTo>
                    <a:pt x="4513" y="0"/>
                  </a:lnTo>
                  <a:close/>
                  <a:moveTo>
                    <a:pt x="4557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7" y="12"/>
                  </a:lnTo>
                  <a:lnTo>
                    <a:pt x="4556" y="12"/>
                  </a:lnTo>
                  <a:lnTo>
                    <a:pt x="4555" y="10"/>
                  </a:lnTo>
                  <a:lnTo>
                    <a:pt x="4554" y="8"/>
                  </a:lnTo>
                  <a:lnTo>
                    <a:pt x="4554" y="6"/>
                  </a:lnTo>
                  <a:lnTo>
                    <a:pt x="4554" y="4"/>
                  </a:lnTo>
                  <a:lnTo>
                    <a:pt x="4555" y="2"/>
                  </a:lnTo>
                  <a:lnTo>
                    <a:pt x="4556" y="0"/>
                  </a:lnTo>
                  <a:lnTo>
                    <a:pt x="4557" y="0"/>
                  </a:lnTo>
                  <a:lnTo>
                    <a:pt x="4557" y="0"/>
                  </a:lnTo>
                  <a:close/>
                  <a:moveTo>
                    <a:pt x="4602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2" y="12"/>
                  </a:lnTo>
                  <a:lnTo>
                    <a:pt x="4601" y="12"/>
                  </a:lnTo>
                  <a:lnTo>
                    <a:pt x="4600" y="10"/>
                  </a:lnTo>
                  <a:lnTo>
                    <a:pt x="4599" y="8"/>
                  </a:lnTo>
                  <a:lnTo>
                    <a:pt x="4599" y="6"/>
                  </a:lnTo>
                  <a:lnTo>
                    <a:pt x="4599" y="4"/>
                  </a:lnTo>
                  <a:lnTo>
                    <a:pt x="4600" y="2"/>
                  </a:lnTo>
                  <a:lnTo>
                    <a:pt x="4601" y="0"/>
                  </a:lnTo>
                  <a:lnTo>
                    <a:pt x="4602" y="0"/>
                  </a:lnTo>
                  <a:lnTo>
                    <a:pt x="4602" y="0"/>
                  </a:lnTo>
                  <a:close/>
                  <a:moveTo>
                    <a:pt x="4647" y="0"/>
                  </a:moveTo>
                  <a:lnTo>
                    <a:pt x="4666" y="0"/>
                  </a:lnTo>
                  <a:lnTo>
                    <a:pt x="4667" y="0"/>
                  </a:lnTo>
                  <a:lnTo>
                    <a:pt x="4668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8" y="10"/>
                  </a:lnTo>
                  <a:lnTo>
                    <a:pt x="4667" y="12"/>
                  </a:lnTo>
                  <a:lnTo>
                    <a:pt x="4666" y="12"/>
                  </a:lnTo>
                  <a:lnTo>
                    <a:pt x="4647" y="12"/>
                  </a:lnTo>
                  <a:lnTo>
                    <a:pt x="4646" y="12"/>
                  </a:lnTo>
                  <a:lnTo>
                    <a:pt x="4645" y="10"/>
                  </a:lnTo>
                  <a:lnTo>
                    <a:pt x="4644" y="8"/>
                  </a:lnTo>
                  <a:lnTo>
                    <a:pt x="4644" y="6"/>
                  </a:lnTo>
                  <a:lnTo>
                    <a:pt x="4644" y="4"/>
                  </a:lnTo>
                  <a:lnTo>
                    <a:pt x="4645" y="2"/>
                  </a:lnTo>
                  <a:lnTo>
                    <a:pt x="4646" y="0"/>
                  </a:lnTo>
                  <a:lnTo>
                    <a:pt x="4647" y="0"/>
                  </a:lnTo>
                  <a:lnTo>
                    <a:pt x="4647" y="0"/>
                  </a:lnTo>
                  <a:close/>
                  <a:moveTo>
                    <a:pt x="4691" y="0"/>
                  </a:moveTo>
                  <a:lnTo>
                    <a:pt x="4710" y="0"/>
                  </a:lnTo>
                  <a:lnTo>
                    <a:pt x="4711" y="0"/>
                  </a:lnTo>
                  <a:lnTo>
                    <a:pt x="4713" y="2"/>
                  </a:lnTo>
                  <a:lnTo>
                    <a:pt x="4714" y="4"/>
                  </a:lnTo>
                  <a:lnTo>
                    <a:pt x="4714" y="6"/>
                  </a:lnTo>
                  <a:lnTo>
                    <a:pt x="4714" y="8"/>
                  </a:lnTo>
                  <a:lnTo>
                    <a:pt x="4713" y="10"/>
                  </a:lnTo>
                  <a:lnTo>
                    <a:pt x="4711" y="12"/>
                  </a:lnTo>
                  <a:lnTo>
                    <a:pt x="4710" y="12"/>
                  </a:lnTo>
                  <a:lnTo>
                    <a:pt x="4691" y="12"/>
                  </a:lnTo>
                  <a:lnTo>
                    <a:pt x="4690" y="12"/>
                  </a:lnTo>
                  <a:lnTo>
                    <a:pt x="4689" y="10"/>
                  </a:lnTo>
                  <a:lnTo>
                    <a:pt x="4688" y="8"/>
                  </a:lnTo>
                  <a:lnTo>
                    <a:pt x="4688" y="6"/>
                  </a:lnTo>
                  <a:lnTo>
                    <a:pt x="4688" y="4"/>
                  </a:lnTo>
                  <a:lnTo>
                    <a:pt x="4689" y="2"/>
                  </a:lnTo>
                  <a:lnTo>
                    <a:pt x="4690" y="0"/>
                  </a:lnTo>
                  <a:lnTo>
                    <a:pt x="4691" y="0"/>
                  </a:lnTo>
                  <a:lnTo>
                    <a:pt x="4691" y="0"/>
                  </a:lnTo>
                  <a:close/>
                  <a:moveTo>
                    <a:pt x="4735" y="0"/>
                  </a:moveTo>
                  <a:lnTo>
                    <a:pt x="4755" y="0"/>
                  </a:lnTo>
                  <a:lnTo>
                    <a:pt x="4756" y="0"/>
                  </a:lnTo>
                  <a:lnTo>
                    <a:pt x="4757" y="2"/>
                  </a:lnTo>
                  <a:lnTo>
                    <a:pt x="4758" y="4"/>
                  </a:lnTo>
                  <a:lnTo>
                    <a:pt x="4758" y="6"/>
                  </a:lnTo>
                  <a:lnTo>
                    <a:pt x="4758" y="8"/>
                  </a:lnTo>
                  <a:lnTo>
                    <a:pt x="4757" y="10"/>
                  </a:lnTo>
                  <a:lnTo>
                    <a:pt x="4756" y="12"/>
                  </a:lnTo>
                  <a:lnTo>
                    <a:pt x="4755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800" y="0"/>
                  </a:lnTo>
                  <a:lnTo>
                    <a:pt x="4801" y="0"/>
                  </a:lnTo>
                  <a:lnTo>
                    <a:pt x="4802" y="2"/>
                  </a:lnTo>
                  <a:lnTo>
                    <a:pt x="4803" y="4"/>
                  </a:lnTo>
                  <a:lnTo>
                    <a:pt x="4803" y="6"/>
                  </a:lnTo>
                  <a:lnTo>
                    <a:pt x="4803" y="8"/>
                  </a:lnTo>
                  <a:lnTo>
                    <a:pt x="4802" y="10"/>
                  </a:lnTo>
                  <a:lnTo>
                    <a:pt x="4801" y="12"/>
                  </a:lnTo>
                  <a:lnTo>
                    <a:pt x="4800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5" y="0"/>
                  </a:lnTo>
                  <a:lnTo>
                    <a:pt x="4846" y="0"/>
                  </a:lnTo>
                  <a:lnTo>
                    <a:pt x="4847" y="2"/>
                  </a:lnTo>
                  <a:lnTo>
                    <a:pt x="4848" y="4"/>
                  </a:lnTo>
                  <a:lnTo>
                    <a:pt x="4848" y="6"/>
                  </a:lnTo>
                  <a:lnTo>
                    <a:pt x="4848" y="8"/>
                  </a:lnTo>
                  <a:lnTo>
                    <a:pt x="4847" y="10"/>
                  </a:lnTo>
                  <a:lnTo>
                    <a:pt x="4846" y="12"/>
                  </a:lnTo>
                  <a:lnTo>
                    <a:pt x="4845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70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1" y="2"/>
                  </a:lnTo>
                  <a:lnTo>
                    <a:pt x="4893" y="4"/>
                  </a:lnTo>
                  <a:lnTo>
                    <a:pt x="4893" y="6"/>
                  </a:lnTo>
                  <a:lnTo>
                    <a:pt x="4893" y="8"/>
                  </a:lnTo>
                  <a:lnTo>
                    <a:pt x="4891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70" y="12"/>
                  </a:lnTo>
                  <a:lnTo>
                    <a:pt x="4869" y="12"/>
                  </a:lnTo>
                  <a:lnTo>
                    <a:pt x="4868" y="10"/>
                  </a:lnTo>
                  <a:lnTo>
                    <a:pt x="4867" y="8"/>
                  </a:lnTo>
                  <a:lnTo>
                    <a:pt x="4867" y="6"/>
                  </a:lnTo>
                  <a:lnTo>
                    <a:pt x="4867" y="4"/>
                  </a:lnTo>
                  <a:lnTo>
                    <a:pt x="4868" y="2"/>
                  </a:lnTo>
                  <a:lnTo>
                    <a:pt x="4869" y="0"/>
                  </a:lnTo>
                  <a:lnTo>
                    <a:pt x="4870" y="0"/>
                  </a:lnTo>
                  <a:lnTo>
                    <a:pt x="4870" y="0"/>
                  </a:lnTo>
                  <a:close/>
                  <a:moveTo>
                    <a:pt x="4914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4" y="12"/>
                  </a:lnTo>
                  <a:lnTo>
                    <a:pt x="4913" y="12"/>
                  </a:lnTo>
                  <a:lnTo>
                    <a:pt x="4912" y="10"/>
                  </a:lnTo>
                  <a:lnTo>
                    <a:pt x="4911" y="8"/>
                  </a:lnTo>
                  <a:lnTo>
                    <a:pt x="4911" y="6"/>
                  </a:lnTo>
                  <a:lnTo>
                    <a:pt x="4911" y="4"/>
                  </a:lnTo>
                  <a:lnTo>
                    <a:pt x="4912" y="2"/>
                  </a:lnTo>
                  <a:lnTo>
                    <a:pt x="4913" y="0"/>
                  </a:lnTo>
                  <a:lnTo>
                    <a:pt x="4914" y="0"/>
                  </a:lnTo>
                  <a:lnTo>
                    <a:pt x="4914" y="0"/>
                  </a:lnTo>
                  <a:close/>
                  <a:moveTo>
                    <a:pt x="4959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9" y="12"/>
                  </a:lnTo>
                  <a:lnTo>
                    <a:pt x="4958" y="12"/>
                  </a:lnTo>
                  <a:lnTo>
                    <a:pt x="4957" y="10"/>
                  </a:lnTo>
                  <a:lnTo>
                    <a:pt x="4956" y="8"/>
                  </a:lnTo>
                  <a:lnTo>
                    <a:pt x="4956" y="6"/>
                  </a:lnTo>
                  <a:lnTo>
                    <a:pt x="4956" y="4"/>
                  </a:lnTo>
                  <a:lnTo>
                    <a:pt x="4957" y="2"/>
                  </a:lnTo>
                  <a:lnTo>
                    <a:pt x="4958" y="0"/>
                  </a:lnTo>
                  <a:lnTo>
                    <a:pt x="4959" y="0"/>
                  </a:lnTo>
                  <a:lnTo>
                    <a:pt x="4959" y="0"/>
                  </a:lnTo>
                  <a:close/>
                  <a:moveTo>
                    <a:pt x="5004" y="0"/>
                  </a:moveTo>
                  <a:lnTo>
                    <a:pt x="5023" y="0"/>
                  </a:lnTo>
                  <a:lnTo>
                    <a:pt x="5024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4" y="12"/>
                  </a:lnTo>
                  <a:lnTo>
                    <a:pt x="5023" y="12"/>
                  </a:lnTo>
                  <a:lnTo>
                    <a:pt x="5004" y="12"/>
                  </a:lnTo>
                  <a:lnTo>
                    <a:pt x="5003" y="12"/>
                  </a:lnTo>
                  <a:lnTo>
                    <a:pt x="5002" y="10"/>
                  </a:lnTo>
                  <a:lnTo>
                    <a:pt x="5001" y="8"/>
                  </a:lnTo>
                  <a:lnTo>
                    <a:pt x="5001" y="6"/>
                  </a:lnTo>
                  <a:lnTo>
                    <a:pt x="5001" y="4"/>
                  </a:lnTo>
                  <a:lnTo>
                    <a:pt x="5002" y="2"/>
                  </a:lnTo>
                  <a:lnTo>
                    <a:pt x="5003" y="0"/>
                  </a:lnTo>
                  <a:lnTo>
                    <a:pt x="5004" y="0"/>
                  </a:lnTo>
                  <a:lnTo>
                    <a:pt x="5004" y="0"/>
                  </a:lnTo>
                  <a:close/>
                  <a:moveTo>
                    <a:pt x="5049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70" y="2"/>
                  </a:lnTo>
                  <a:lnTo>
                    <a:pt x="5071" y="4"/>
                  </a:lnTo>
                  <a:lnTo>
                    <a:pt x="5071" y="6"/>
                  </a:lnTo>
                  <a:lnTo>
                    <a:pt x="5071" y="8"/>
                  </a:lnTo>
                  <a:lnTo>
                    <a:pt x="5070" y="10"/>
                  </a:lnTo>
                  <a:lnTo>
                    <a:pt x="5068" y="12"/>
                  </a:lnTo>
                  <a:lnTo>
                    <a:pt x="5067" y="12"/>
                  </a:lnTo>
                  <a:lnTo>
                    <a:pt x="5049" y="12"/>
                  </a:lnTo>
                  <a:lnTo>
                    <a:pt x="5048" y="12"/>
                  </a:lnTo>
                  <a:lnTo>
                    <a:pt x="5047" y="10"/>
                  </a:lnTo>
                  <a:lnTo>
                    <a:pt x="5046" y="8"/>
                  </a:lnTo>
                  <a:lnTo>
                    <a:pt x="5046" y="6"/>
                  </a:lnTo>
                  <a:lnTo>
                    <a:pt x="5046" y="4"/>
                  </a:lnTo>
                  <a:lnTo>
                    <a:pt x="5047" y="2"/>
                  </a:lnTo>
                  <a:lnTo>
                    <a:pt x="5048" y="0"/>
                  </a:lnTo>
                  <a:lnTo>
                    <a:pt x="5049" y="0"/>
                  </a:lnTo>
                  <a:lnTo>
                    <a:pt x="5049" y="0"/>
                  </a:lnTo>
                  <a:close/>
                  <a:moveTo>
                    <a:pt x="5093" y="0"/>
                  </a:moveTo>
                  <a:lnTo>
                    <a:pt x="5112" y="0"/>
                  </a:lnTo>
                  <a:lnTo>
                    <a:pt x="5113" y="0"/>
                  </a:lnTo>
                  <a:lnTo>
                    <a:pt x="5114" y="2"/>
                  </a:lnTo>
                  <a:lnTo>
                    <a:pt x="5115" y="4"/>
                  </a:lnTo>
                  <a:lnTo>
                    <a:pt x="5115" y="6"/>
                  </a:lnTo>
                  <a:lnTo>
                    <a:pt x="5115" y="8"/>
                  </a:lnTo>
                  <a:lnTo>
                    <a:pt x="5114" y="10"/>
                  </a:lnTo>
                  <a:lnTo>
                    <a:pt x="5113" y="12"/>
                  </a:lnTo>
                  <a:lnTo>
                    <a:pt x="5112" y="12"/>
                  </a:lnTo>
                  <a:lnTo>
                    <a:pt x="5093" y="12"/>
                  </a:lnTo>
                  <a:lnTo>
                    <a:pt x="5092" y="12"/>
                  </a:lnTo>
                  <a:lnTo>
                    <a:pt x="5090" y="10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2" y="0"/>
                  </a:lnTo>
                  <a:lnTo>
                    <a:pt x="5093" y="0"/>
                  </a:lnTo>
                  <a:lnTo>
                    <a:pt x="5093" y="0"/>
                  </a:lnTo>
                  <a:close/>
                  <a:moveTo>
                    <a:pt x="5137" y="0"/>
                  </a:moveTo>
                  <a:lnTo>
                    <a:pt x="5142" y="0"/>
                  </a:lnTo>
                  <a:lnTo>
                    <a:pt x="5143" y="0"/>
                  </a:lnTo>
                  <a:lnTo>
                    <a:pt x="5144" y="2"/>
                  </a:lnTo>
                  <a:lnTo>
                    <a:pt x="5145" y="4"/>
                  </a:lnTo>
                  <a:lnTo>
                    <a:pt x="5145" y="6"/>
                  </a:lnTo>
                  <a:lnTo>
                    <a:pt x="5145" y="8"/>
                  </a:lnTo>
                  <a:lnTo>
                    <a:pt x="5144" y="10"/>
                  </a:lnTo>
                  <a:lnTo>
                    <a:pt x="5143" y="12"/>
                  </a:lnTo>
                  <a:lnTo>
                    <a:pt x="5142" y="12"/>
                  </a:lnTo>
                  <a:lnTo>
                    <a:pt x="5137" y="12"/>
                  </a:lnTo>
                  <a:lnTo>
                    <a:pt x="5136" y="12"/>
                  </a:lnTo>
                  <a:lnTo>
                    <a:pt x="5135" y="10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8160" y="2220840"/>
              <a:ext cx="962280" cy="507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68160" y="2220840"/>
              <a:ext cx="962280" cy="50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6960" y="227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25640" y="227484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36320" y="227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6800" y="2389320"/>
              <a:ext cx="38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Desarroll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53960" y="234144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40320" y="2257560"/>
              <a:ext cx="1616040" cy="4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3000" y="2305080"/>
              <a:ext cx="1340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joras y ordenamientos del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57720" y="242244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33920" y="237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32440" y="2276640"/>
              <a:ext cx="100008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79760" y="232236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jora del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3400" y="243828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tamient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20840" y="2394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62320" y="2276640"/>
              <a:ext cx="92232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70760" y="232236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ejo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37360" y="2440080"/>
              <a:ext cx="35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enc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09600" y="239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27120" y="1422360"/>
            <a:ext cx="8165880" cy="731880"/>
            <a:chOff x="627120" y="1422360"/>
            <a:chExt cx="8165880" cy="731880"/>
          </a:xfrm>
        </p:grpSpPr>
        <p:sp>
          <p:nvSpPr>
            <p:cNvPr id="338" name=""/>
            <p:cNvSpPr/>
            <p:nvPr/>
          </p:nvSpPr>
          <p:spPr>
            <a:xfrm>
              <a:off x="627120" y="2146320"/>
              <a:ext cx="8165880" cy="7920"/>
            </a:xfrm>
            <a:custGeom>
              <a:avLst/>
              <a:gdLst/>
              <a:ahLst/>
              <a:rect l="l" t="t" r="r" b="b"/>
              <a:pathLst>
                <a:path w="5144" h="12">
                  <a:moveTo>
                    <a:pt x="3" y="0"/>
                  </a:moveTo>
                  <a:lnTo>
                    <a:pt x="21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6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0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9" y="2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136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4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4" y="2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181" y="0"/>
                  </a:moveTo>
                  <a:lnTo>
                    <a:pt x="200" y="0"/>
                  </a:lnTo>
                  <a:lnTo>
                    <a:pt x="201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1" y="12"/>
                  </a:lnTo>
                  <a:lnTo>
                    <a:pt x="200" y="12"/>
                  </a:lnTo>
                  <a:lnTo>
                    <a:pt x="181" y="12"/>
                  </a:lnTo>
                  <a:lnTo>
                    <a:pt x="180" y="12"/>
                  </a:lnTo>
                  <a:lnTo>
                    <a:pt x="179" y="10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9" y="2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close/>
                  <a:moveTo>
                    <a:pt x="225" y="0"/>
                  </a:moveTo>
                  <a:lnTo>
                    <a:pt x="244" y="0"/>
                  </a:lnTo>
                  <a:lnTo>
                    <a:pt x="245" y="0"/>
                  </a:lnTo>
                  <a:lnTo>
                    <a:pt x="247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7" y="10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25" y="12"/>
                  </a:lnTo>
                  <a:lnTo>
                    <a:pt x="224" y="12"/>
                  </a:lnTo>
                  <a:lnTo>
                    <a:pt x="223" y="10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3" y="2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close/>
                  <a:moveTo>
                    <a:pt x="270" y="0"/>
                  </a:moveTo>
                  <a:lnTo>
                    <a:pt x="289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1" y="10"/>
                  </a:lnTo>
                  <a:lnTo>
                    <a:pt x="290" y="12"/>
                  </a:lnTo>
                  <a:lnTo>
                    <a:pt x="289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4" y="0"/>
                  </a:lnTo>
                  <a:lnTo>
                    <a:pt x="335" y="0"/>
                  </a:lnTo>
                  <a:lnTo>
                    <a:pt x="336" y="2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7" y="8"/>
                  </a:lnTo>
                  <a:lnTo>
                    <a:pt x="336" y="10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78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2" y="4"/>
                  </a:lnTo>
                  <a:lnTo>
                    <a:pt x="382" y="6"/>
                  </a:lnTo>
                  <a:lnTo>
                    <a:pt x="382" y="8"/>
                  </a:lnTo>
                  <a:lnTo>
                    <a:pt x="381" y="10"/>
                  </a:lnTo>
                  <a:lnTo>
                    <a:pt x="379" y="12"/>
                  </a:lnTo>
                  <a:lnTo>
                    <a:pt x="378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4" y="0"/>
                  </a:moveTo>
                  <a:lnTo>
                    <a:pt x="423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6" y="4"/>
                  </a:lnTo>
                  <a:lnTo>
                    <a:pt x="426" y="6"/>
                  </a:lnTo>
                  <a:lnTo>
                    <a:pt x="426" y="8"/>
                  </a:lnTo>
                  <a:lnTo>
                    <a:pt x="425" y="10"/>
                  </a:lnTo>
                  <a:lnTo>
                    <a:pt x="424" y="12"/>
                  </a:lnTo>
                  <a:lnTo>
                    <a:pt x="423" y="12"/>
                  </a:lnTo>
                  <a:lnTo>
                    <a:pt x="404" y="12"/>
                  </a:lnTo>
                  <a:lnTo>
                    <a:pt x="403" y="12"/>
                  </a:lnTo>
                  <a:lnTo>
                    <a:pt x="402" y="10"/>
                  </a:lnTo>
                  <a:lnTo>
                    <a:pt x="401" y="8"/>
                  </a:lnTo>
                  <a:lnTo>
                    <a:pt x="401" y="6"/>
                  </a:lnTo>
                  <a:lnTo>
                    <a:pt x="401" y="4"/>
                  </a:lnTo>
                  <a:lnTo>
                    <a:pt x="402" y="2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0" y="2"/>
                  </a:lnTo>
                  <a:lnTo>
                    <a:pt x="471" y="4"/>
                  </a:lnTo>
                  <a:lnTo>
                    <a:pt x="471" y="6"/>
                  </a:lnTo>
                  <a:lnTo>
                    <a:pt x="471" y="8"/>
                  </a:lnTo>
                  <a:lnTo>
                    <a:pt x="470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3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3" y="12"/>
                  </a:lnTo>
                  <a:lnTo>
                    <a:pt x="492" y="12"/>
                  </a:lnTo>
                  <a:lnTo>
                    <a:pt x="491" y="10"/>
                  </a:lnTo>
                  <a:lnTo>
                    <a:pt x="490" y="8"/>
                  </a:lnTo>
                  <a:lnTo>
                    <a:pt x="490" y="6"/>
                  </a:lnTo>
                  <a:lnTo>
                    <a:pt x="490" y="4"/>
                  </a:lnTo>
                  <a:lnTo>
                    <a:pt x="491" y="2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3" y="0"/>
                  </a:lnTo>
                  <a:close/>
                  <a:moveTo>
                    <a:pt x="538" y="0"/>
                  </a:moveTo>
                  <a:lnTo>
                    <a:pt x="557" y="0"/>
                  </a:lnTo>
                  <a:lnTo>
                    <a:pt x="558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8" y="12"/>
                  </a:lnTo>
                  <a:lnTo>
                    <a:pt x="557" y="12"/>
                  </a:lnTo>
                  <a:lnTo>
                    <a:pt x="538" y="12"/>
                  </a:lnTo>
                  <a:lnTo>
                    <a:pt x="537" y="12"/>
                  </a:lnTo>
                  <a:lnTo>
                    <a:pt x="536" y="10"/>
                  </a:lnTo>
                  <a:lnTo>
                    <a:pt x="535" y="8"/>
                  </a:lnTo>
                  <a:lnTo>
                    <a:pt x="535" y="6"/>
                  </a:lnTo>
                  <a:lnTo>
                    <a:pt x="535" y="4"/>
                  </a:lnTo>
                  <a:lnTo>
                    <a:pt x="536" y="2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8" y="0"/>
                  </a:lnTo>
                  <a:close/>
                  <a:moveTo>
                    <a:pt x="582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4" y="2"/>
                  </a:lnTo>
                  <a:lnTo>
                    <a:pt x="605" y="4"/>
                  </a:lnTo>
                  <a:lnTo>
                    <a:pt x="605" y="6"/>
                  </a:lnTo>
                  <a:lnTo>
                    <a:pt x="605" y="8"/>
                  </a:lnTo>
                  <a:lnTo>
                    <a:pt x="604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2" y="12"/>
                  </a:lnTo>
                  <a:lnTo>
                    <a:pt x="581" y="12"/>
                  </a:lnTo>
                  <a:lnTo>
                    <a:pt x="580" y="10"/>
                  </a:lnTo>
                  <a:lnTo>
                    <a:pt x="579" y="8"/>
                  </a:lnTo>
                  <a:lnTo>
                    <a:pt x="579" y="6"/>
                  </a:lnTo>
                  <a:lnTo>
                    <a:pt x="579" y="4"/>
                  </a:lnTo>
                  <a:lnTo>
                    <a:pt x="580" y="2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2" y="0"/>
                  </a:lnTo>
                  <a:close/>
                  <a:moveTo>
                    <a:pt x="627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7" y="12"/>
                  </a:lnTo>
                  <a:lnTo>
                    <a:pt x="626" y="12"/>
                  </a:lnTo>
                  <a:lnTo>
                    <a:pt x="625" y="10"/>
                  </a:lnTo>
                  <a:lnTo>
                    <a:pt x="624" y="8"/>
                  </a:lnTo>
                  <a:lnTo>
                    <a:pt x="624" y="6"/>
                  </a:lnTo>
                  <a:lnTo>
                    <a:pt x="624" y="4"/>
                  </a:lnTo>
                  <a:lnTo>
                    <a:pt x="625" y="2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672" y="0"/>
                  </a:moveTo>
                  <a:lnTo>
                    <a:pt x="691" y="0"/>
                  </a:lnTo>
                  <a:lnTo>
                    <a:pt x="692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2" y="12"/>
                  </a:lnTo>
                  <a:lnTo>
                    <a:pt x="691" y="12"/>
                  </a:lnTo>
                  <a:lnTo>
                    <a:pt x="672" y="12"/>
                  </a:lnTo>
                  <a:lnTo>
                    <a:pt x="671" y="12"/>
                  </a:lnTo>
                  <a:lnTo>
                    <a:pt x="670" y="10"/>
                  </a:lnTo>
                  <a:lnTo>
                    <a:pt x="669" y="8"/>
                  </a:lnTo>
                  <a:lnTo>
                    <a:pt x="669" y="6"/>
                  </a:lnTo>
                  <a:lnTo>
                    <a:pt x="669" y="4"/>
                  </a:lnTo>
                  <a:lnTo>
                    <a:pt x="670" y="2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2" y="0"/>
                  </a:lnTo>
                  <a:close/>
                  <a:moveTo>
                    <a:pt x="717" y="0"/>
                  </a:moveTo>
                  <a:lnTo>
                    <a:pt x="735" y="0"/>
                  </a:lnTo>
                  <a:lnTo>
                    <a:pt x="736" y="0"/>
                  </a:lnTo>
                  <a:lnTo>
                    <a:pt x="738" y="2"/>
                  </a:lnTo>
                  <a:lnTo>
                    <a:pt x="739" y="4"/>
                  </a:lnTo>
                  <a:lnTo>
                    <a:pt x="739" y="6"/>
                  </a:lnTo>
                  <a:lnTo>
                    <a:pt x="739" y="8"/>
                  </a:lnTo>
                  <a:lnTo>
                    <a:pt x="738" y="10"/>
                  </a:lnTo>
                  <a:lnTo>
                    <a:pt x="736" y="12"/>
                  </a:lnTo>
                  <a:lnTo>
                    <a:pt x="735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1" y="0"/>
                  </a:moveTo>
                  <a:lnTo>
                    <a:pt x="780" y="0"/>
                  </a:lnTo>
                  <a:lnTo>
                    <a:pt x="781" y="0"/>
                  </a:lnTo>
                  <a:lnTo>
                    <a:pt x="782" y="2"/>
                  </a:lnTo>
                  <a:lnTo>
                    <a:pt x="783" y="4"/>
                  </a:lnTo>
                  <a:lnTo>
                    <a:pt x="783" y="6"/>
                  </a:lnTo>
                  <a:lnTo>
                    <a:pt x="783" y="8"/>
                  </a:lnTo>
                  <a:lnTo>
                    <a:pt x="782" y="10"/>
                  </a:lnTo>
                  <a:lnTo>
                    <a:pt x="781" y="12"/>
                  </a:lnTo>
                  <a:lnTo>
                    <a:pt x="780" y="12"/>
                  </a:lnTo>
                  <a:lnTo>
                    <a:pt x="761" y="12"/>
                  </a:lnTo>
                  <a:lnTo>
                    <a:pt x="760" y="12"/>
                  </a:lnTo>
                  <a:lnTo>
                    <a:pt x="759" y="10"/>
                  </a:lnTo>
                  <a:lnTo>
                    <a:pt x="758" y="8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59" y="2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1" y="0"/>
                  </a:lnTo>
                  <a:close/>
                  <a:moveTo>
                    <a:pt x="806" y="0"/>
                  </a:moveTo>
                  <a:lnTo>
                    <a:pt x="825" y="0"/>
                  </a:lnTo>
                  <a:lnTo>
                    <a:pt x="826" y="0"/>
                  </a:lnTo>
                  <a:lnTo>
                    <a:pt x="827" y="2"/>
                  </a:lnTo>
                  <a:lnTo>
                    <a:pt x="828" y="4"/>
                  </a:lnTo>
                  <a:lnTo>
                    <a:pt x="828" y="6"/>
                  </a:lnTo>
                  <a:lnTo>
                    <a:pt x="828" y="8"/>
                  </a:lnTo>
                  <a:lnTo>
                    <a:pt x="827" y="10"/>
                  </a:lnTo>
                  <a:lnTo>
                    <a:pt x="826" y="12"/>
                  </a:lnTo>
                  <a:lnTo>
                    <a:pt x="825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0" y="0"/>
                  </a:lnTo>
                  <a:lnTo>
                    <a:pt x="871" y="0"/>
                  </a:lnTo>
                  <a:lnTo>
                    <a:pt x="872" y="2"/>
                  </a:lnTo>
                  <a:lnTo>
                    <a:pt x="873" y="4"/>
                  </a:lnTo>
                  <a:lnTo>
                    <a:pt x="873" y="6"/>
                  </a:lnTo>
                  <a:lnTo>
                    <a:pt x="873" y="8"/>
                  </a:lnTo>
                  <a:lnTo>
                    <a:pt x="872" y="10"/>
                  </a:lnTo>
                  <a:lnTo>
                    <a:pt x="871" y="12"/>
                  </a:lnTo>
                  <a:lnTo>
                    <a:pt x="870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4" y="0"/>
                  </a:lnTo>
                  <a:lnTo>
                    <a:pt x="915" y="0"/>
                  </a:lnTo>
                  <a:lnTo>
                    <a:pt x="917" y="2"/>
                  </a:lnTo>
                  <a:lnTo>
                    <a:pt x="918" y="4"/>
                  </a:lnTo>
                  <a:lnTo>
                    <a:pt x="918" y="6"/>
                  </a:lnTo>
                  <a:lnTo>
                    <a:pt x="918" y="8"/>
                  </a:lnTo>
                  <a:lnTo>
                    <a:pt x="917" y="10"/>
                  </a:lnTo>
                  <a:lnTo>
                    <a:pt x="915" y="12"/>
                  </a:lnTo>
                  <a:lnTo>
                    <a:pt x="914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39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1" y="2"/>
                  </a:lnTo>
                  <a:lnTo>
                    <a:pt x="962" y="4"/>
                  </a:lnTo>
                  <a:lnTo>
                    <a:pt x="962" y="6"/>
                  </a:lnTo>
                  <a:lnTo>
                    <a:pt x="962" y="8"/>
                  </a:lnTo>
                  <a:lnTo>
                    <a:pt x="961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39" y="12"/>
                  </a:lnTo>
                  <a:lnTo>
                    <a:pt x="938" y="12"/>
                  </a:lnTo>
                  <a:lnTo>
                    <a:pt x="937" y="10"/>
                  </a:lnTo>
                  <a:lnTo>
                    <a:pt x="936" y="8"/>
                  </a:lnTo>
                  <a:lnTo>
                    <a:pt x="936" y="6"/>
                  </a:lnTo>
                  <a:lnTo>
                    <a:pt x="936" y="4"/>
                  </a:lnTo>
                  <a:lnTo>
                    <a:pt x="937" y="2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984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4" y="12"/>
                  </a:lnTo>
                  <a:lnTo>
                    <a:pt x="983" y="12"/>
                  </a:lnTo>
                  <a:lnTo>
                    <a:pt x="982" y="10"/>
                  </a:lnTo>
                  <a:lnTo>
                    <a:pt x="981" y="8"/>
                  </a:lnTo>
                  <a:lnTo>
                    <a:pt x="981" y="6"/>
                  </a:lnTo>
                  <a:lnTo>
                    <a:pt x="981" y="4"/>
                  </a:lnTo>
                  <a:lnTo>
                    <a:pt x="982" y="2"/>
                  </a:lnTo>
                  <a:lnTo>
                    <a:pt x="983" y="0"/>
                  </a:lnTo>
                  <a:lnTo>
                    <a:pt x="984" y="0"/>
                  </a:lnTo>
                  <a:lnTo>
                    <a:pt x="984" y="0"/>
                  </a:lnTo>
                  <a:close/>
                  <a:moveTo>
                    <a:pt x="1029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29" y="12"/>
                  </a:lnTo>
                  <a:lnTo>
                    <a:pt x="1028" y="12"/>
                  </a:lnTo>
                  <a:lnTo>
                    <a:pt x="1027" y="10"/>
                  </a:lnTo>
                  <a:lnTo>
                    <a:pt x="1026" y="8"/>
                  </a:lnTo>
                  <a:lnTo>
                    <a:pt x="1026" y="6"/>
                  </a:lnTo>
                  <a:lnTo>
                    <a:pt x="1026" y="4"/>
                  </a:lnTo>
                  <a:lnTo>
                    <a:pt x="1027" y="2"/>
                  </a:lnTo>
                  <a:lnTo>
                    <a:pt x="1028" y="0"/>
                  </a:lnTo>
                  <a:lnTo>
                    <a:pt x="1029" y="0"/>
                  </a:lnTo>
                  <a:lnTo>
                    <a:pt x="1029" y="0"/>
                  </a:lnTo>
                  <a:close/>
                  <a:moveTo>
                    <a:pt x="1074" y="0"/>
                  </a:moveTo>
                  <a:lnTo>
                    <a:pt x="1093" y="0"/>
                  </a:lnTo>
                  <a:lnTo>
                    <a:pt x="1094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4" y="12"/>
                  </a:lnTo>
                  <a:lnTo>
                    <a:pt x="1093" y="12"/>
                  </a:lnTo>
                  <a:lnTo>
                    <a:pt x="1074" y="12"/>
                  </a:lnTo>
                  <a:lnTo>
                    <a:pt x="1073" y="12"/>
                  </a:lnTo>
                  <a:lnTo>
                    <a:pt x="1072" y="10"/>
                  </a:lnTo>
                  <a:lnTo>
                    <a:pt x="1071" y="8"/>
                  </a:lnTo>
                  <a:lnTo>
                    <a:pt x="1071" y="6"/>
                  </a:lnTo>
                  <a:lnTo>
                    <a:pt x="1071" y="4"/>
                  </a:lnTo>
                  <a:lnTo>
                    <a:pt x="1072" y="2"/>
                  </a:lnTo>
                  <a:lnTo>
                    <a:pt x="1073" y="0"/>
                  </a:lnTo>
                  <a:lnTo>
                    <a:pt x="1074" y="0"/>
                  </a:lnTo>
                  <a:lnTo>
                    <a:pt x="1074" y="0"/>
                  </a:lnTo>
                  <a:close/>
                  <a:moveTo>
                    <a:pt x="1118" y="0"/>
                  </a:moveTo>
                  <a:lnTo>
                    <a:pt x="1137" y="0"/>
                  </a:lnTo>
                  <a:lnTo>
                    <a:pt x="1138" y="0"/>
                  </a:lnTo>
                  <a:lnTo>
                    <a:pt x="1139" y="2"/>
                  </a:lnTo>
                  <a:lnTo>
                    <a:pt x="1141" y="4"/>
                  </a:lnTo>
                  <a:lnTo>
                    <a:pt x="1141" y="6"/>
                  </a:lnTo>
                  <a:lnTo>
                    <a:pt x="1141" y="8"/>
                  </a:lnTo>
                  <a:lnTo>
                    <a:pt x="1139" y="10"/>
                  </a:lnTo>
                  <a:lnTo>
                    <a:pt x="1138" y="12"/>
                  </a:lnTo>
                  <a:lnTo>
                    <a:pt x="1137" y="12"/>
                  </a:lnTo>
                  <a:lnTo>
                    <a:pt x="1118" y="12"/>
                  </a:lnTo>
                  <a:lnTo>
                    <a:pt x="1117" y="12"/>
                  </a:lnTo>
                  <a:lnTo>
                    <a:pt x="1116" y="10"/>
                  </a:lnTo>
                  <a:lnTo>
                    <a:pt x="1115" y="8"/>
                  </a:lnTo>
                  <a:lnTo>
                    <a:pt x="1115" y="6"/>
                  </a:lnTo>
                  <a:lnTo>
                    <a:pt x="1115" y="4"/>
                  </a:lnTo>
                  <a:lnTo>
                    <a:pt x="1116" y="2"/>
                  </a:lnTo>
                  <a:lnTo>
                    <a:pt x="1117" y="0"/>
                  </a:lnTo>
                  <a:lnTo>
                    <a:pt x="1118" y="0"/>
                  </a:lnTo>
                  <a:lnTo>
                    <a:pt x="1118" y="0"/>
                  </a:lnTo>
                  <a:close/>
                  <a:moveTo>
                    <a:pt x="1163" y="0"/>
                  </a:moveTo>
                  <a:lnTo>
                    <a:pt x="1182" y="0"/>
                  </a:lnTo>
                  <a:lnTo>
                    <a:pt x="1183" y="0"/>
                  </a:lnTo>
                  <a:lnTo>
                    <a:pt x="1184" y="2"/>
                  </a:lnTo>
                  <a:lnTo>
                    <a:pt x="1185" y="4"/>
                  </a:lnTo>
                  <a:lnTo>
                    <a:pt x="1185" y="6"/>
                  </a:lnTo>
                  <a:lnTo>
                    <a:pt x="1185" y="8"/>
                  </a:lnTo>
                  <a:lnTo>
                    <a:pt x="1184" y="10"/>
                  </a:lnTo>
                  <a:lnTo>
                    <a:pt x="1183" y="12"/>
                  </a:lnTo>
                  <a:lnTo>
                    <a:pt x="1182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7" y="0"/>
                  </a:lnTo>
                  <a:lnTo>
                    <a:pt x="1228" y="0"/>
                  </a:lnTo>
                  <a:lnTo>
                    <a:pt x="1229" y="2"/>
                  </a:lnTo>
                  <a:lnTo>
                    <a:pt x="1230" y="4"/>
                  </a:lnTo>
                  <a:lnTo>
                    <a:pt x="1230" y="6"/>
                  </a:lnTo>
                  <a:lnTo>
                    <a:pt x="1230" y="8"/>
                  </a:lnTo>
                  <a:lnTo>
                    <a:pt x="1229" y="10"/>
                  </a:lnTo>
                  <a:lnTo>
                    <a:pt x="1228" y="12"/>
                  </a:lnTo>
                  <a:lnTo>
                    <a:pt x="1227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1" y="0"/>
                  </a:lnTo>
                  <a:lnTo>
                    <a:pt x="1272" y="0"/>
                  </a:lnTo>
                  <a:lnTo>
                    <a:pt x="1274" y="2"/>
                  </a:lnTo>
                  <a:lnTo>
                    <a:pt x="1275" y="4"/>
                  </a:lnTo>
                  <a:lnTo>
                    <a:pt x="1275" y="6"/>
                  </a:lnTo>
                  <a:lnTo>
                    <a:pt x="1275" y="8"/>
                  </a:lnTo>
                  <a:lnTo>
                    <a:pt x="1274" y="10"/>
                  </a:lnTo>
                  <a:lnTo>
                    <a:pt x="1272" y="12"/>
                  </a:lnTo>
                  <a:lnTo>
                    <a:pt x="1271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7" y="0"/>
                  </a:moveTo>
                  <a:lnTo>
                    <a:pt x="1316" y="0"/>
                  </a:lnTo>
                  <a:lnTo>
                    <a:pt x="1317" y="0"/>
                  </a:lnTo>
                  <a:lnTo>
                    <a:pt x="1318" y="2"/>
                  </a:lnTo>
                  <a:lnTo>
                    <a:pt x="1319" y="4"/>
                  </a:lnTo>
                  <a:lnTo>
                    <a:pt x="1319" y="6"/>
                  </a:lnTo>
                  <a:lnTo>
                    <a:pt x="1319" y="8"/>
                  </a:lnTo>
                  <a:lnTo>
                    <a:pt x="1318" y="10"/>
                  </a:lnTo>
                  <a:lnTo>
                    <a:pt x="1317" y="12"/>
                  </a:lnTo>
                  <a:lnTo>
                    <a:pt x="1316" y="12"/>
                  </a:lnTo>
                  <a:lnTo>
                    <a:pt x="1297" y="12"/>
                  </a:lnTo>
                  <a:lnTo>
                    <a:pt x="1296" y="12"/>
                  </a:lnTo>
                  <a:lnTo>
                    <a:pt x="1295" y="10"/>
                  </a:lnTo>
                  <a:lnTo>
                    <a:pt x="1294" y="8"/>
                  </a:lnTo>
                  <a:lnTo>
                    <a:pt x="1294" y="6"/>
                  </a:lnTo>
                  <a:lnTo>
                    <a:pt x="1294" y="4"/>
                  </a:lnTo>
                  <a:lnTo>
                    <a:pt x="1295" y="2"/>
                  </a:lnTo>
                  <a:lnTo>
                    <a:pt x="1296" y="0"/>
                  </a:lnTo>
                  <a:lnTo>
                    <a:pt x="1297" y="0"/>
                  </a:lnTo>
                  <a:lnTo>
                    <a:pt x="1297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4" y="4"/>
                  </a:lnTo>
                  <a:lnTo>
                    <a:pt x="1364" y="6"/>
                  </a:lnTo>
                  <a:lnTo>
                    <a:pt x="1364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8" y="8"/>
                  </a:lnTo>
                  <a:lnTo>
                    <a:pt x="1338" y="6"/>
                  </a:lnTo>
                  <a:lnTo>
                    <a:pt x="1338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6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6" y="12"/>
                  </a:lnTo>
                  <a:lnTo>
                    <a:pt x="1385" y="12"/>
                  </a:lnTo>
                  <a:lnTo>
                    <a:pt x="1384" y="10"/>
                  </a:lnTo>
                  <a:lnTo>
                    <a:pt x="1383" y="8"/>
                  </a:lnTo>
                  <a:lnTo>
                    <a:pt x="1383" y="6"/>
                  </a:lnTo>
                  <a:lnTo>
                    <a:pt x="1383" y="4"/>
                  </a:lnTo>
                  <a:lnTo>
                    <a:pt x="1384" y="2"/>
                  </a:lnTo>
                  <a:lnTo>
                    <a:pt x="1385" y="0"/>
                  </a:lnTo>
                  <a:lnTo>
                    <a:pt x="1386" y="0"/>
                  </a:lnTo>
                  <a:lnTo>
                    <a:pt x="1386" y="0"/>
                  </a:lnTo>
                  <a:close/>
                  <a:moveTo>
                    <a:pt x="1431" y="0"/>
                  </a:moveTo>
                  <a:lnTo>
                    <a:pt x="1450" y="0"/>
                  </a:lnTo>
                  <a:lnTo>
                    <a:pt x="1451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1" y="12"/>
                  </a:lnTo>
                  <a:lnTo>
                    <a:pt x="1450" y="12"/>
                  </a:lnTo>
                  <a:lnTo>
                    <a:pt x="1431" y="12"/>
                  </a:lnTo>
                  <a:lnTo>
                    <a:pt x="1430" y="12"/>
                  </a:lnTo>
                  <a:lnTo>
                    <a:pt x="1429" y="10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4"/>
                  </a:lnTo>
                  <a:lnTo>
                    <a:pt x="1429" y="2"/>
                  </a:lnTo>
                  <a:lnTo>
                    <a:pt x="1430" y="0"/>
                  </a:lnTo>
                  <a:lnTo>
                    <a:pt x="1431" y="0"/>
                  </a:lnTo>
                  <a:lnTo>
                    <a:pt x="1431" y="0"/>
                  </a:lnTo>
                  <a:close/>
                  <a:moveTo>
                    <a:pt x="1475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7" y="2"/>
                  </a:lnTo>
                  <a:lnTo>
                    <a:pt x="1498" y="4"/>
                  </a:lnTo>
                  <a:lnTo>
                    <a:pt x="1498" y="6"/>
                  </a:lnTo>
                  <a:lnTo>
                    <a:pt x="1498" y="8"/>
                  </a:lnTo>
                  <a:lnTo>
                    <a:pt x="1497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5" y="12"/>
                  </a:lnTo>
                  <a:lnTo>
                    <a:pt x="1474" y="12"/>
                  </a:lnTo>
                  <a:lnTo>
                    <a:pt x="1473" y="10"/>
                  </a:lnTo>
                  <a:lnTo>
                    <a:pt x="1472" y="8"/>
                  </a:lnTo>
                  <a:lnTo>
                    <a:pt x="1472" y="6"/>
                  </a:lnTo>
                  <a:lnTo>
                    <a:pt x="1472" y="4"/>
                  </a:lnTo>
                  <a:lnTo>
                    <a:pt x="1473" y="2"/>
                  </a:lnTo>
                  <a:lnTo>
                    <a:pt x="1474" y="0"/>
                  </a:lnTo>
                  <a:lnTo>
                    <a:pt x="1475" y="0"/>
                  </a:lnTo>
                  <a:lnTo>
                    <a:pt x="1475" y="0"/>
                  </a:lnTo>
                  <a:close/>
                  <a:moveTo>
                    <a:pt x="1520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0" y="12"/>
                  </a:lnTo>
                  <a:lnTo>
                    <a:pt x="1519" y="12"/>
                  </a:lnTo>
                  <a:lnTo>
                    <a:pt x="1518" y="10"/>
                  </a:lnTo>
                  <a:lnTo>
                    <a:pt x="1517" y="8"/>
                  </a:lnTo>
                  <a:lnTo>
                    <a:pt x="1517" y="6"/>
                  </a:lnTo>
                  <a:lnTo>
                    <a:pt x="1517" y="4"/>
                  </a:lnTo>
                  <a:lnTo>
                    <a:pt x="1518" y="2"/>
                  </a:lnTo>
                  <a:lnTo>
                    <a:pt x="1519" y="0"/>
                  </a:lnTo>
                  <a:lnTo>
                    <a:pt x="1520" y="0"/>
                  </a:lnTo>
                  <a:lnTo>
                    <a:pt x="1520" y="0"/>
                  </a:lnTo>
                  <a:close/>
                  <a:moveTo>
                    <a:pt x="1565" y="0"/>
                  </a:moveTo>
                  <a:lnTo>
                    <a:pt x="1584" y="0"/>
                  </a:lnTo>
                  <a:lnTo>
                    <a:pt x="1585" y="0"/>
                  </a:lnTo>
                  <a:lnTo>
                    <a:pt x="1586" y="2"/>
                  </a:lnTo>
                  <a:lnTo>
                    <a:pt x="1587" y="4"/>
                  </a:lnTo>
                  <a:lnTo>
                    <a:pt x="1587" y="6"/>
                  </a:lnTo>
                  <a:lnTo>
                    <a:pt x="1587" y="8"/>
                  </a:lnTo>
                  <a:lnTo>
                    <a:pt x="1586" y="10"/>
                  </a:lnTo>
                  <a:lnTo>
                    <a:pt x="1585" y="12"/>
                  </a:lnTo>
                  <a:lnTo>
                    <a:pt x="1584" y="12"/>
                  </a:lnTo>
                  <a:lnTo>
                    <a:pt x="1565" y="12"/>
                  </a:lnTo>
                  <a:lnTo>
                    <a:pt x="1564" y="12"/>
                  </a:lnTo>
                  <a:lnTo>
                    <a:pt x="1563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3" y="2"/>
                  </a:lnTo>
                  <a:lnTo>
                    <a:pt x="1564" y="0"/>
                  </a:lnTo>
                  <a:lnTo>
                    <a:pt x="1565" y="0"/>
                  </a:lnTo>
                  <a:lnTo>
                    <a:pt x="1565" y="0"/>
                  </a:lnTo>
                  <a:close/>
                  <a:moveTo>
                    <a:pt x="1610" y="0"/>
                  </a:moveTo>
                  <a:lnTo>
                    <a:pt x="1628" y="0"/>
                  </a:lnTo>
                  <a:lnTo>
                    <a:pt x="1629" y="0"/>
                  </a:lnTo>
                  <a:lnTo>
                    <a:pt x="1631" y="2"/>
                  </a:lnTo>
                  <a:lnTo>
                    <a:pt x="1632" y="4"/>
                  </a:lnTo>
                  <a:lnTo>
                    <a:pt x="1632" y="6"/>
                  </a:lnTo>
                  <a:lnTo>
                    <a:pt x="1632" y="8"/>
                  </a:lnTo>
                  <a:lnTo>
                    <a:pt x="1631" y="10"/>
                  </a:lnTo>
                  <a:lnTo>
                    <a:pt x="1629" y="12"/>
                  </a:lnTo>
                  <a:lnTo>
                    <a:pt x="1628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4" y="0"/>
                  </a:moveTo>
                  <a:lnTo>
                    <a:pt x="1673" y="0"/>
                  </a:lnTo>
                  <a:lnTo>
                    <a:pt x="1674" y="0"/>
                  </a:lnTo>
                  <a:lnTo>
                    <a:pt x="1675" y="2"/>
                  </a:lnTo>
                  <a:lnTo>
                    <a:pt x="1676" y="4"/>
                  </a:lnTo>
                  <a:lnTo>
                    <a:pt x="1676" y="6"/>
                  </a:lnTo>
                  <a:lnTo>
                    <a:pt x="1676" y="8"/>
                  </a:lnTo>
                  <a:lnTo>
                    <a:pt x="1675" y="10"/>
                  </a:lnTo>
                  <a:lnTo>
                    <a:pt x="1674" y="12"/>
                  </a:lnTo>
                  <a:lnTo>
                    <a:pt x="1673" y="12"/>
                  </a:lnTo>
                  <a:lnTo>
                    <a:pt x="1654" y="12"/>
                  </a:lnTo>
                  <a:lnTo>
                    <a:pt x="1653" y="12"/>
                  </a:lnTo>
                  <a:lnTo>
                    <a:pt x="1652" y="10"/>
                  </a:lnTo>
                  <a:lnTo>
                    <a:pt x="1651" y="8"/>
                  </a:lnTo>
                  <a:lnTo>
                    <a:pt x="1651" y="6"/>
                  </a:lnTo>
                  <a:lnTo>
                    <a:pt x="1651" y="4"/>
                  </a:lnTo>
                  <a:lnTo>
                    <a:pt x="1652" y="2"/>
                  </a:lnTo>
                  <a:lnTo>
                    <a:pt x="1653" y="0"/>
                  </a:lnTo>
                  <a:lnTo>
                    <a:pt x="1654" y="0"/>
                  </a:lnTo>
                  <a:lnTo>
                    <a:pt x="1654" y="0"/>
                  </a:lnTo>
                  <a:close/>
                  <a:moveTo>
                    <a:pt x="1699" y="0"/>
                  </a:moveTo>
                  <a:lnTo>
                    <a:pt x="1718" y="0"/>
                  </a:lnTo>
                  <a:lnTo>
                    <a:pt x="1719" y="0"/>
                  </a:lnTo>
                  <a:lnTo>
                    <a:pt x="1720" y="2"/>
                  </a:lnTo>
                  <a:lnTo>
                    <a:pt x="1721" y="4"/>
                  </a:lnTo>
                  <a:lnTo>
                    <a:pt x="1721" y="6"/>
                  </a:lnTo>
                  <a:lnTo>
                    <a:pt x="1721" y="8"/>
                  </a:lnTo>
                  <a:lnTo>
                    <a:pt x="1720" y="10"/>
                  </a:lnTo>
                  <a:lnTo>
                    <a:pt x="1719" y="12"/>
                  </a:lnTo>
                  <a:lnTo>
                    <a:pt x="1718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3" y="0"/>
                  </a:lnTo>
                  <a:lnTo>
                    <a:pt x="1764" y="0"/>
                  </a:lnTo>
                  <a:lnTo>
                    <a:pt x="1765" y="2"/>
                  </a:lnTo>
                  <a:lnTo>
                    <a:pt x="1766" y="4"/>
                  </a:lnTo>
                  <a:lnTo>
                    <a:pt x="1766" y="6"/>
                  </a:lnTo>
                  <a:lnTo>
                    <a:pt x="1766" y="8"/>
                  </a:lnTo>
                  <a:lnTo>
                    <a:pt x="1765" y="10"/>
                  </a:lnTo>
                  <a:lnTo>
                    <a:pt x="1764" y="12"/>
                  </a:lnTo>
                  <a:lnTo>
                    <a:pt x="1763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7" y="0"/>
                  </a:lnTo>
                  <a:lnTo>
                    <a:pt x="1808" y="0"/>
                  </a:lnTo>
                  <a:lnTo>
                    <a:pt x="1810" y="2"/>
                  </a:lnTo>
                  <a:lnTo>
                    <a:pt x="1811" y="4"/>
                  </a:lnTo>
                  <a:lnTo>
                    <a:pt x="1811" y="6"/>
                  </a:lnTo>
                  <a:lnTo>
                    <a:pt x="1811" y="8"/>
                  </a:lnTo>
                  <a:lnTo>
                    <a:pt x="1810" y="10"/>
                  </a:lnTo>
                  <a:lnTo>
                    <a:pt x="1808" y="12"/>
                  </a:lnTo>
                  <a:lnTo>
                    <a:pt x="1807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5" y="8"/>
                  </a:lnTo>
                  <a:lnTo>
                    <a:pt x="1785" y="6"/>
                  </a:lnTo>
                  <a:lnTo>
                    <a:pt x="1785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2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4" y="2"/>
                  </a:lnTo>
                  <a:lnTo>
                    <a:pt x="1855" y="4"/>
                  </a:lnTo>
                  <a:lnTo>
                    <a:pt x="1855" y="6"/>
                  </a:lnTo>
                  <a:lnTo>
                    <a:pt x="1855" y="8"/>
                  </a:lnTo>
                  <a:lnTo>
                    <a:pt x="1854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2" y="12"/>
                  </a:lnTo>
                  <a:lnTo>
                    <a:pt x="1831" y="12"/>
                  </a:lnTo>
                  <a:lnTo>
                    <a:pt x="1830" y="10"/>
                  </a:lnTo>
                  <a:lnTo>
                    <a:pt x="1829" y="8"/>
                  </a:lnTo>
                  <a:lnTo>
                    <a:pt x="1829" y="6"/>
                  </a:lnTo>
                  <a:lnTo>
                    <a:pt x="1829" y="4"/>
                  </a:lnTo>
                  <a:lnTo>
                    <a:pt x="1830" y="2"/>
                  </a:lnTo>
                  <a:lnTo>
                    <a:pt x="1831" y="0"/>
                  </a:lnTo>
                  <a:lnTo>
                    <a:pt x="1832" y="0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7" y="12"/>
                  </a:lnTo>
                  <a:lnTo>
                    <a:pt x="1876" y="12"/>
                  </a:lnTo>
                  <a:lnTo>
                    <a:pt x="1875" y="10"/>
                  </a:lnTo>
                  <a:lnTo>
                    <a:pt x="1874" y="8"/>
                  </a:lnTo>
                  <a:lnTo>
                    <a:pt x="1874" y="6"/>
                  </a:lnTo>
                  <a:lnTo>
                    <a:pt x="1874" y="4"/>
                  </a:lnTo>
                  <a:lnTo>
                    <a:pt x="1875" y="2"/>
                  </a:lnTo>
                  <a:lnTo>
                    <a:pt x="1876" y="0"/>
                  </a:lnTo>
                  <a:lnTo>
                    <a:pt x="1877" y="0"/>
                  </a:lnTo>
                  <a:lnTo>
                    <a:pt x="1877" y="0"/>
                  </a:lnTo>
                  <a:close/>
                  <a:moveTo>
                    <a:pt x="1922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2" y="12"/>
                  </a:lnTo>
                  <a:lnTo>
                    <a:pt x="1921" y="12"/>
                  </a:lnTo>
                  <a:lnTo>
                    <a:pt x="1920" y="10"/>
                  </a:lnTo>
                  <a:lnTo>
                    <a:pt x="1919" y="8"/>
                  </a:lnTo>
                  <a:lnTo>
                    <a:pt x="1919" y="6"/>
                  </a:lnTo>
                  <a:lnTo>
                    <a:pt x="1919" y="4"/>
                  </a:lnTo>
                  <a:lnTo>
                    <a:pt x="1920" y="2"/>
                  </a:lnTo>
                  <a:lnTo>
                    <a:pt x="1921" y="0"/>
                  </a:lnTo>
                  <a:lnTo>
                    <a:pt x="1922" y="0"/>
                  </a:lnTo>
                  <a:lnTo>
                    <a:pt x="1922" y="0"/>
                  </a:lnTo>
                  <a:close/>
                  <a:moveTo>
                    <a:pt x="1967" y="0"/>
                  </a:moveTo>
                  <a:lnTo>
                    <a:pt x="1986" y="0"/>
                  </a:lnTo>
                  <a:lnTo>
                    <a:pt x="1987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7" y="12"/>
                  </a:lnTo>
                  <a:lnTo>
                    <a:pt x="1986" y="12"/>
                  </a:lnTo>
                  <a:lnTo>
                    <a:pt x="1967" y="12"/>
                  </a:lnTo>
                  <a:lnTo>
                    <a:pt x="1966" y="12"/>
                  </a:lnTo>
                  <a:lnTo>
                    <a:pt x="1965" y="10"/>
                  </a:lnTo>
                  <a:lnTo>
                    <a:pt x="1964" y="8"/>
                  </a:lnTo>
                  <a:lnTo>
                    <a:pt x="1964" y="6"/>
                  </a:lnTo>
                  <a:lnTo>
                    <a:pt x="1964" y="4"/>
                  </a:lnTo>
                  <a:lnTo>
                    <a:pt x="1965" y="2"/>
                  </a:lnTo>
                  <a:lnTo>
                    <a:pt x="1966" y="0"/>
                  </a:lnTo>
                  <a:lnTo>
                    <a:pt x="1967" y="0"/>
                  </a:lnTo>
                  <a:lnTo>
                    <a:pt x="1967" y="0"/>
                  </a:lnTo>
                  <a:close/>
                  <a:moveTo>
                    <a:pt x="2011" y="0"/>
                  </a:moveTo>
                  <a:lnTo>
                    <a:pt x="2030" y="0"/>
                  </a:lnTo>
                  <a:lnTo>
                    <a:pt x="2031" y="0"/>
                  </a:lnTo>
                  <a:lnTo>
                    <a:pt x="2032" y="2"/>
                  </a:lnTo>
                  <a:lnTo>
                    <a:pt x="2033" y="4"/>
                  </a:lnTo>
                  <a:lnTo>
                    <a:pt x="2033" y="6"/>
                  </a:lnTo>
                  <a:lnTo>
                    <a:pt x="2033" y="8"/>
                  </a:lnTo>
                  <a:lnTo>
                    <a:pt x="2032" y="10"/>
                  </a:lnTo>
                  <a:lnTo>
                    <a:pt x="2031" y="12"/>
                  </a:lnTo>
                  <a:lnTo>
                    <a:pt x="2030" y="12"/>
                  </a:lnTo>
                  <a:lnTo>
                    <a:pt x="2011" y="12"/>
                  </a:lnTo>
                  <a:lnTo>
                    <a:pt x="2010" y="12"/>
                  </a:lnTo>
                  <a:lnTo>
                    <a:pt x="2009" y="10"/>
                  </a:lnTo>
                  <a:lnTo>
                    <a:pt x="2008" y="8"/>
                  </a:lnTo>
                  <a:lnTo>
                    <a:pt x="2008" y="6"/>
                  </a:lnTo>
                  <a:lnTo>
                    <a:pt x="2008" y="4"/>
                  </a:lnTo>
                  <a:lnTo>
                    <a:pt x="2009" y="2"/>
                  </a:lnTo>
                  <a:lnTo>
                    <a:pt x="2010" y="0"/>
                  </a:lnTo>
                  <a:lnTo>
                    <a:pt x="2011" y="0"/>
                  </a:lnTo>
                  <a:lnTo>
                    <a:pt x="2011" y="0"/>
                  </a:lnTo>
                  <a:close/>
                  <a:moveTo>
                    <a:pt x="2056" y="0"/>
                  </a:moveTo>
                  <a:lnTo>
                    <a:pt x="2075" y="0"/>
                  </a:lnTo>
                  <a:lnTo>
                    <a:pt x="2076" y="0"/>
                  </a:lnTo>
                  <a:lnTo>
                    <a:pt x="2077" y="2"/>
                  </a:lnTo>
                  <a:lnTo>
                    <a:pt x="2078" y="4"/>
                  </a:lnTo>
                  <a:lnTo>
                    <a:pt x="2078" y="6"/>
                  </a:lnTo>
                  <a:lnTo>
                    <a:pt x="2078" y="8"/>
                  </a:lnTo>
                  <a:lnTo>
                    <a:pt x="2077" y="10"/>
                  </a:lnTo>
                  <a:lnTo>
                    <a:pt x="2076" y="12"/>
                  </a:lnTo>
                  <a:lnTo>
                    <a:pt x="2075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0" y="0"/>
                  </a:lnTo>
                  <a:lnTo>
                    <a:pt x="2121" y="0"/>
                  </a:lnTo>
                  <a:lnTo>
                    <a:pt x="2122" y="2"/>
                  </a:lnTo>
                  <a:lnTo>
                    <a:pt x="2123" y="4"/>
                  </a:lnTo>
                  <a:lnTo>
                    <a:pt x="2123" y="6"/>
                  </a:lnTo>
                  <a:lnTo>
                    <a:pt x="2123" y="8"/>
                  </a:lnTo>
                  <a:lnTo>
                    <a:pt x="2122" y="10"/>
                  </a:lnTo>
                  <a:lnTo>
                    <a:pt x="2121" y="12"/>
                  </a:lnTo>
                  <a:lnTo>
                    <a:pt x="2120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4" y="0"/>
                  </a:lnTo>
                  <a:lnTo>
                    <a:pt x="2165" y="0"/>
                  </a:lnTo>
                  <a:lnTo>
                    <a:pt x="2167" y="2"/>
                  </a:lnTo>
                  <a:lnTo>
                    <a:pt x="2168" y="4"/>
                  </a:lnTo>
                  <a:lnTo>
                    <a:pt x="2168" y="6"/>
                  </a:lnTo>
                  <a:lnTo>
                    <a:pt x="2168" y="8"/>
                  </a:lnTo>
                  <a:lnTo>
                    <a:pt x="2167" y="10"/>
                  </a:lnTo>
                  <a:lnTo>
                    <a:pt x="2165" y="12"/>
                  </a:lnTo>
                  <a:lnTo>
                    <a:pt x="2164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0" y="0"/>
                  </a:moveTo>
                  <a:lnTo>
                    <a:pt x="2209" y="0"/>
                  </a:lnTo>
                  <a:lnTo>
                    <a:pt x="2210" y="0"/>
                  </a:lnTo>
                  <a:lnTo>
                    <a:pt x="2211" y="2"/>
                  </a:lnTo>
                  <a:lnTo>
                    <a:pt x="2212" y="4"/>
                  </a:lnTo>
                  <a:lnTo>
                    <a:pt x="2212" y="6"/>
                  </a:lnTo>
                  <a:lnTo>
                    <a:pt x="2212" y="8"/>
                  </a:lnTo>
                  <a:lnTo>
                    <a:pt x="2211" y="10"/>
                  </a:lnTo>
                  <a:lnTo>
                    <a:pt x="2210" y="12"/>
                  </a:lnTo>
                  <a:lnTo>
                    <a:pt x="2209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2188" y="10"/>
                  </a:lnTo>
                  <a:lnTo>
                    <a:pt x="2187" y="8"/>
                  </a:lnTo>
                  <a:lnTo>
                    <a:pt x="2187" y="6"/>
                  </a:lnTo>
                  <a:lnTo>
                    <a:pt x="2187" y="4"/>
                  </a:lnTo>
                  <a:lnTo>
                    <a:pt x="2188" y="2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2" y="10"/>
                  </a:lnTo>
                  <a:lnTo>
                    <a:pt x="2231" y="8"/>
                  </a:lnTo>
                  <a:lnTo>
                    <a:pt x="2231" y="6"/>
                  </a:lnTo>
                  <a:lnTo>
                    <a:pt x="2231" y="4"/>
                  </a:lnTo>
                  <a:lnTo>
                    <a:pt x="2232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79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79" y="12"/>
                  </a:lnTo>
                  <a:lnTo>
                    <a:pt x="2278" y="12"/>
                  </a:lnTo>
                  <a:lnTo>
                    <a:pt x="2277" y="10"/>
                  </a:lnTo>
                  <a:lnTo>
                    <a:pt x="2276" y="8"/>
                  </a:lnTo>
                  <a:lnTo>
                    <a:pt x="2276" y="6"/>
                  </a:lnTo>
                  <a:lnTo>
                    <a:pt x="2276" y="4"/>
                  </a:lnTo>
                  <a:lnTo>
                    <a:pt x="2277" y="2"/>
                  </a:lnTo>
                  <a:lnTo>
                    <a:pt x="2278" y="0"/>
                  </a:lnTo>
                  <a:lnTo>
                    <a:pt x="2279" y="0"/>
                  </a:lnTo>
                  <a:lnTo>
                    <a:pt x="2279" y="0"/>
                  </a:lnTo>
                  <a:close/>
                  <a:moveTo>
                    <a:pt x="2324" y="0"/>
                  </a:moveTo>
                  <a:lnTo>
                    <a:pt x="2343" y="0"/>
                  </a:lnTo>
                  <a:lnTo>
                    <a:pt x="2344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4" y="12"/>
                  </a:lnTo>
                  <a:lnTo>
                    <a:pt x="2343" y="12"/>
                  </a:lnTo>
                  <a:lnTo>
                    <a:pt x="2324" y="12"/>
                  </a:lnTo>
                  <a:lnTo>
                    <a:pt x="2323" y="12"/>
                  </a:lnTo>
                  <a:lnTo>
                    <a:pt x="2322" y="10"/>
                  </a:lnTo>
                  <a:lnTo>
                    <a:pt x="2321" y="8"/>
                  </a:lnTo>
                  <a:lnTo>
                    <a:pt x="2321" y="6"/>
                  </a:lnTo>
                  <a:lnTo>
                    <a:pt x="2321" y="4"/>
                  </a:lnTo>
                  <a:lnTo>
                    <a:pt x="2322" y="2"/>
                  </a:lnTo>
                  <a:lnTo>
                    <a:pt x="2323" y="0"/>
                  </a:lnTo>
                  <a:lnTo>
                    <a:pt x="2324" y="0"/>
                  </a:lnTo>
                  <a:lnTo>
                    <a:pt x="2324" y="0"/>
                  </a:lnTo>
                  <a:close/>
                  <a:moveTo>
                    <a:pt x="2368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0" y="2"/>
                  </a:lnTo>
                  <a:lnTo>
                    <a:pt x="2391" y="4"/>
                  </a:lnTo>
                  <a:lnTo>
                    <a:pt x="2391" y="6"/>
                  </a:lnTo>
                  <a:lnTo>
                    <a:pt x="2391" y="8"/>
                  </a:lnTo>
                  <a:lnTo>
                    <a:pt x="2390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68" y="12"/>
                  </a:lnTo>
                  <a:lnTo>
                    <a:pt x="2367" y="12"/>
                  </a:lnTo>
                  <a:lnTo>
                    <a:pt x="2366" y="10"/>
                  </a:lnTo>
                  <a:lnTo>
                    <a:pt x="2365" y="8"/>
                  </a:lnTo>
                  <a:lnTo>
                    <a:pt x="2365" y="6"/>
                  </a:lnTo>
                  <a:lnTo>
                    <a:pt x="2365" y="4"/>
                  </a:lnTo>
                  <a:lnTo>
                    <a:pt x="2366" y="2"/>
                  </a:lnTo>
                  <a:lnTo>
                    <a:pt x="2367" y="0"/>
                  </a:lnTo>
                  <a:lnTo>
                    <a:pt x="2368" y="0"/>
                  </a:lnTo>
                  <a:lnTo>
                    <a:pt x="2368" y="0"/>
                  </a:lnTo>
                  <a:close/>
                  <a:moveTo>
                    <a:pt x="2413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3" y="12"/>
                  </a:lnTo>
                  <a:lnTo>
                    <a:pt x="2412" y="12"/>
                  </a:lnTo>
                  <a:lnTo>
                    <a:pt x="2411" y="10"/>
                  </a:lnTo>
                  <a:lnTo>
                    <a:pt x="2410" y="8"/>
                  </a:lnTo>
                  <a:lnTo>
                    <a:pt x="2410" y="6"/>
                  </a:lnTo>
                  <a:lnTo>
                    <a:pt x="2410" y="4"/>
                  </a:lnTo>
                  <a:lnTo>
                    <a:pt x="2411" y="2"/>
                  </a:lnTo>
                  <a:lnTo>
                    <a:pt x="2412" y="0"/>
                  </a:lnTo>
                  <a:lnTo>
                    <a:pt x="2413" y="0"/>
                  </a:lnTo>
                  <a:lnTo>
                    <a:pt x="2413" y="0"/>
                  </a:lnTo>
                  <a:close/>
                  <a:moveTo>
                    <a:pt x="2458" y="0"/>
                  </a:moveTo>
                  <a:lnTo>
                    <a:pt x="2477" y="0"/>
                  </a:lnTo>
                  <a:lnTo>
                    <a:pt x="2478" y="0"/>
                  </a:lnTo>
                  <a:lnTo>
                    <a:pt x="2479" y="2"/>
                  </a:lnTo>
                  <a:lnTo>
                    <a:pt x="2480" y="4"/>
                  </a:lnTo>
                  <a:lnTo>
                    <a:pt x="2480" y="6"/>
                  </a:lnTo>
                  <a:lnTo>
                    <a:pt x="2480" y="8"/>
                  </a:lnTo>
                  <a:lnTo>
                    <a:pt x="2479" y="10"/>
                  </a:lnTo>
                  <a:lnTo>
                    <a:pt x="2478" y="12"/>
                  </a:lnTo>
                  <a:lnTo>
                    <a:pt x="2477" y="12"/>
                  </a:lnTo>
                  <a:lnTo>
                    <a:pt x="2458" y="12"/>
                  </a:lnTo>
                  <a:lnTo>
                    <a:pt x="2457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7" y="0"/>
                  </a:lnTo>
                  <a:lnTo>
                    <a:pt x="2458" y="0"/>
                  </a:lnTo>
                  <a:lnTo>
                    <a:pt x="2458" y="0"/>
                  </a:lnTo>
                  <a:close/>
                  <a:moveTo>
                    <a:pt x="2503" y="0"/>
                  </a:moveTo>
                  <a:lnTo>
                    <a:pt x="2521" y="0"/>
                  </a:lnTo>
                  <a:lnTo>
                    <a:pt x="2522" y="0"/>
                  </a:lnTo>
                  <a:lnTo>
                    <a:pt x="2524" y="2"/>
                  </a:lnTo>
                  <a:lnTo>
                    <a:pt x="2525" y="4"/>
                  </a:lnTo>
                  <a:lnTo>
                    <a:pt x="2525" y="6"/>
                  </a:lnTo>
                  <a:lnTo>
                    <a:pt x="2525" y="8"/>
                  </a:lnTo>
                  <a:lnTo>
                    <a:pt x="2524" y="10"/>
                  </a:lnTo>
                  <a:lnTo>
                    <a:pt x="2522" y="12"/>
                  </a:lnTo>
                  <a:lnTo>
                    <a:pt x="2521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7" y="0"/>
                  </a:moveTo>
                  <a:lnTo>
                    <a:pt x="2566" y="0"/>
                  </a:lnTo>
                  <a:lnTo>
                    <a:pt x="2567" y="0"/>
                  </a:lnTo>
                  <a:lnTo>
                    <a:pt x="2568" y="2"/>
                  </a:lnTo>
                  <a:lnTo>
                    <a:pt x="2569" y="4"/>
                  </a:lnTo>
                  <a:lnTo>
                    <a:pt x="2569" y="6"/>
                  </a:lnTo>
                  <a:lnTo>
                    <a:pt x="2569" y="8"/>
                  </a:lnTo>
                  <a:lnTo>
                    <a:pt x="2568" y="10"/>
                  </a:lnTo>
                  <a:lnTo>
                    <a:pt x="2567" y="12"/>
                  </a:lnTo>
                  <a:lnTo>
                    <a:pt x="2566" y="12"/>
                  </a:lnTo>
                  <a:lnTo>
                    <a:pt x="2547" y="12"/>
                  </a:lnTo>
                  <a:lnTo>
                    <a:pt x="2546" y="12"/>
                  </a:lnTo>
                  <a:lnTo>
                    <a:pt x="2545" y="10"/>
                  </a:lnTo>
                  <a:lnTo>
                    <a:pt x="2544" y="8"/>
                  </a:lnTo>
                  <a:lnTo>
                    <a:pt x="2544" y="6"/>
                  </a:lnTo>
                  <a:lnTo>
                    <a:pt x="2544" y="4"/>
                  </a:lnTo>
                  <a:lnTo>
                    <a:pt x="2545" y="2"/>
                  </a:lnTo>
                  <a:lnTo>
                    <a:pt x="2546" y="0"/>
                  </a:lnTo>
                  <a:lnTo>
                    <a:pt x="2547" y="0"/>
                  </a:lnTo>
                  <a:lnTo>
                    <a:pt x="2547" y="0"/>
                  </a:lnTo>
                  <a:close/>
                  <a:moveTo>
                    <a:pt x="2592" y="0"/>
                  </a:moveTo>
                  <a:lnTo>
                    <a:pt x="2611" y="0"/>
                  </a:lnTo>
                  <a:lnTo>
                    <a:pt x="2612" y="0"/>
                  </a:lnTo>
                  <a:lnTo>
                    <a:pt x="2613" y="2"/>
                  </a:lnTo>
                  <a:lnTo>
                    <a:pt x="2614" y="4"/>
                  </a:lnTo>
                  <a:lnTo>
                    <a:pt x="2614" y="6"/>
                  </a:lnTo>
                  <a:lnTo>
                    <a:pt x="2614" y="8"/>
                  </a:lnTo>
                  <a:lnTo>
                    <a:pt x="2613" y="10"/>
                  </a:lnTo>
                  <a:lnTo>
                    <a:pt x="2612" y="12"/>
                  </a:lnTo>
                  <a:lnTo>
                    <a:pt x="2611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6" y="0"/>
                  </a:lnTo>
                  <a:lnTo>
                    <a:pt x="2657" y="0"/>
                  </a:lnTo>
                  <a:lnTo>
                    <a:pt x="2658" y="2"/>
                  </a:lnTo>
                  <a:lnTo>
                    <a:pt x="2659" y="4"/>
                  </a:lnTo>
                  <a:lnTo>
                    <a:pt x="2659" y="6"/>
                  </a:lnTo>
                  <a:lnTo>
                    <a:pt x="2659" y="8"/>
                  </a:lnTo>
                  <a:lnTo>
                    <a:pt x="2658" y="10"/>
                  </a:lnTo>
                  <a:lnTo>
                    <a:pt x="2657" y="12"/>
                  </a:lnTo>
                  <a:lnTo>
                    <a:pt x="2656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0" y="0"/>
                  </a:lnTo>
                  <a:lnTo>
                    <a:pt x="2701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1" y="12"/>
                  </a:lnTo>
                  <a:lnTo>
                    <a:pt x="2700" y="12"/>
                  </a:lnTo>
                  <a:lnTo>
                    <a:pt x="2682" y="12"/>
                  </a:lnTo>
                  <a:lnTo>
                    <a:pt x="2680" y="12"/>
                  </a:lnTo>
                  <a:lnTo>
                    <a:pt x="2679" y="10"/>
                  </a:lnTo>
                  <a:lnTo>
                    <a:pt x="2678" y="8"/>
                  </a:lnTo>
                  <a:lnTo>
                    <a:pt x="2678" y="6"/>
                  </a:lnTo>
                  <a:lnTo>
                    <a:pt x="2678" y="4"/>
                  </a:lnTo>
                  <a:lnTo>
                    <a:pt x="2679" y="2"/>
                  </a:lnTo>
                  <a:lnTo>
                    <a:pt x="2680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5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7" y="2"/>
                  </a:lnTo>
                  <a:lnTo>
                    <a:pt x="2748" y="4"/>
                  </a:lnTo>
                  <a:lnTo>
                    <a:pt x="2748" y="6"/>
                  </a:lnTo>
                  <a:lnTo>
                    <a:pt x="2748" y="8"/>
                  </a:lnTo>
                  <a:lnTo>
                    <a:pt x="2747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5" y="12"/>
                  </a:lnTo>
                  <a:lnTo>
                    <a:pt x="2724" y="12"/>
                  </a:lnTo>
                  <a:lnTo>
                    <a:pt x="2723" y="10"/>
                  </a:lnTo>
                  <a:lnTo>
                    <a:pt x="2722" y="8"/>
                  </a:lnTo>
                  <a:lnTo>
                    <a:pt x="2722" y="6"/>
                  </a:lnTo>
                  <a:lnTo>
                    <a:pt x="2722" y="4"/>
                  </a:lnTo>
                  <a:lnTo>
                    <a:pt x="2723" y="2"/>
                  </a:lnTo>
                  <a:lnTo>
                    <a:pt x="2724" y="0"/>
                  </a:lnTo>
                  <a:lnTo>
                    <a:pt x="2725" y="0"/>
                  </a:lnTo>
                  <a:lnTo>
                    <a:pt x="2725" y="0"/>
                  </a:lnTo>
                  <a:close/>
                  <a:moveTo>
                    <a:pt x="2770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0" y="12"/>
                  </a:lnTo>
                  <a:lnTo>
                    <a:pt x="2769" y="12"/>
                  </a:lnTo>
                  <a:lnTo>
                    <a:pt x="2768" y="10"/>
                  </a:lnTo>
                  <a:lnTo>
                    <a:pt x="2767" y="8"/>
                  </a:lnTo>
                  <a:lnTo>
                    <a:pt x="2767" y="6"/>
                  </a:lnTo>
                  <a:lnTo>
                    <a:pt x="2767" y="4"/>
                  </a:lnTo>
                  <a:lnTo>
                    <a:pt x="2768" y="2"/>
                  </a:lnTo>
                  <a:lnTo>
                    <a:pt x="2769" y="0"/>
                  </a:lnTo>
                  <a:lnTo>
                    <a:pt x="2770" y="0"/>
                  </a:lnTo>
                  <a:lnTo>
                    <a:pt x="2770" y="0"/>
                  </a:lnTo>
                  <a:close/>
                  <a:moveTo>
                    <a:pt x="2815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5" y="12"/>
                  </a:lnTo>
                  <a:lnTo>
                    <a:pt x="2814" y="12"/>
                  </a:lnTo>
                  <a:lnTo>
                    <a:pt x="2813" y="10"/>
                  </a:lnTo>
                  <a:lnTo>
                    <a:pt x="2812" y="8"/>
                  </a:lnTo>
                  <a:lnTo>
                    <a:pt x="2812" y="6"/>
                  </a:lnTo>
                  <a:lnTo>
                    <a:pt x="2812" y="4"/>
                  </a:lnTo>
                  <a:lnTo>
                    <a:pt x="2813" y="2"/>
                  </a:lnTo>
                  <a:lnTo>
                    <a:pt x="2814" y="0"/>
                  </a:lnTo>
                  <a:lnTo>
                    <a:pt x="2815" y="0"/>
                  </a:lnTo>
                  <a:lnTo>
                    <a:pt x="2815" y="0"/>
                  </a:lnTo>
                  <a:close/>
                  <a:moveTo>
                    <a:pt x="2860" y="0"/>
                  </a:moveTo>
                  <a:lnTo>
                    <a:pt x="2878" y="0"/>
                  </a:lnTo>
                  <a:lnTo>
                    <a:pt x="2880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0" y="12"/>
                  </a:lnTo>
                  <a:lnTo>
                    <a:pt x="2878" y="12"/>
                  </a:lnTo>
                  <a:lnTo>
                    <a:pt x="2860" y="12"/>
                  </a:lnTo>
                  <a:lnTo>
                    <a:pt x="2859" y="12"/>
                  </a:lnTo>
                  <a:lnTo>
                    <a:pt x="2858" y="10"/>
                  </a:lnTo>
                  <a:lnTo>
                    <a:pt x="2857" y="8"/>
                  </a:lnTo>
                  <a:lnTo>
                    <a:pt x="2857" y="6"/>
                  </a:lnTo>
                  <a:lnTo>
                    <a:pt x="2857" y="4"/>
                  </a:lnTo>
                  <a:lnTo>
                    <a:pt x="2858" y="2"/>
                  </a:lnTo>
                  <a:lnTo>
                    <a:pt x="2859" y="0"/>
                  </a:lnTo>
                  <a:lnTo>
                    <a:pt x="2860" y="0"/>
                  </a:lnTo>
                  <a:lnTo>
                    <a:pt x="2860" y="0"/>
                  </a:lnTo>
                  <a:close/>
                  <a:moveTo>
                    <a:pt x="2904" y="0"/>
                  </a:moveTo>
                  <a:lnTo>
                    <a:pt x="2923" y="0"/>
                  </a:lnTo>
                  <a:lnTo>
                    <a:pt x="2924" y="0"/>
                  </a:lnTo>
                  <a:lnTo>
                    <a:pt x="2925" y="2"/>
                  </a:lnTo>
                  <a:lnTo>
                    <a:pt x="2926" y="4"/>
                  </a:lnTo>
                  <a:lnTo>
                    <a:pt x="2926" y="6"/>
                  </a:lnTo>
                  <a:lnTo>
                    <a:pt x="2926" y="8"/>
                  </a:lnTo>
                  <a:lnTo>
                    <a:pt x="2925" y="10"/>
                  </a:lnTo>
                  <a:lnTo>
                    <a:pt x="2924" y="12"/>
                  </a:lnTo>
                  <a:lnTo>
                    <a:pt x="2923" y="12"/>
                  </a:lnTo>
                  <a:lnTo>
                    <a:pt x="2904" y="12"/>
                  </a:lnTo>
                  <a:lnTo>
                    <a:pt x="2903" y="12"/>
                  </a:lnTo>
                  <a:lnTo>
                    <a:pt x="2902" y="10"/>
                  </a:lnTo>
                  <a:lnTo>
                    <a:pt x="2901" y="8"/>
                  </a:lnTo>
                  <a:lnTo>
                    <a:pt x="2901" y="6"/>
                  </a:lnTo>
                  <a:lnTo>
                    <a:pt x="2901" y="4"/>
                  </a:lnTo>
                  <a:lnTo>
                    <a:pt x="2902" y="2"/>
                  </a:lnTo>
                  <a:lnTo>
                    <a:pt x="2903" y="0"/>
                  </a:lnTo>
                  <a:lnTo>
                    <a:pt x="2904" y="0"/>
                  </a:lnTo>
                  <a:lnTo>
                    <a:pt x="2904" y="0"/>
                  </a:lnTo>
                  <a:close/>
                  <a:moveTo>
                    <a:pt x="2949" y="0"/>
                  </a:moveTo>
                  <a:lnTo>
                    <a:pt x="2968" y="0"/>
                  </a:lnTo>
                  <a:lnTo>
                    <a:pt x="2969" y="0"/>
                  </a:lnTo>
                  <a:lnTo>
                    <a:pt x="2970" y="2"/>
                  </a:lnTo>
                  <a:lnTo>
                    <a:pt x="2971" y="4"/>
                  </a:lnTo>
                  <a:lnTo>
                    <a:pt x="2971" y="6"/>
                  </a:lnTo>
                  <a:lnTo>
                    <a:pt x="2971" y="8"/>
                  </a:lnTo>
                  <a:lnTo>
                    <a:pt x="2970" y="10"/>
                  </a:lnTo>
                  <a:lnTo>
                    <a:pt x="2969" y="12"/>
                  </a:lnTo>
                  <a:lnTo>
                    <a:pt x="2968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3" y="0"/>
                  </a:lnTo>
                  <a:lnTo>
                    <a:pt x="3014" y="0"/>
                  </a:lnTo>
                  <a:lnTo>
                    <a:pt x="3015" y="2"/>
                  </a:lnTo>
                  <a:lnTo>
                    <a:pt x="3016" y="4"/>
                  </a:lnTo>
                  <a:lnTo>
                    <a:pt x="3016" y="6"/>
                  </a:lnTo>
                  <a:lnTo>
                    <a:pt x="3016" y="8"/>
                  </a:lnTo>
                  <a:lnTo>
                    <a:pt x="3015" y="10"/>
                  </a:lnTo>
                  <a:lnTo>
                    <a:pt x="3014" y="12"/>
                  </a:lnTo>
                  <a:lnTo>
                    <a:pt x="3013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7" y="0"/>
                  </a:lnTo>
                  <a:lnTo>
                    <a:pt x="3058" y="0"/>
                  </a:lnTo>
                  <a:lnTo>
                    <a:pt x="3060" y="2"/>
                  </a:lnTo>
                  <a:lnTo>
                    <a:pt x="3061" y="4"/>
                  </a:lnTo>
                  <a:lnTo>
                    <a:pt x="3061" y="6"/>
                  </a:lnTo>
                  <a:lnTo>
                    <a:pt x="3061" y="8"/>
                  </a:lnTo>
                  <a:lnTo>
                    <a:pt x="3060" y="10"/>
                  </a:lnTo>
                  <a:lnTo>
                    <a:pt x="3058" y="12"/>
                  </a:lnTo>
                  <a:lnTo>
                    <a:pt x="3057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3" y="0"/>
                  </a:moveTo>
                  <a:lnTo>
                    <a:pt x="3102" y="0"/>
                  </a:lnTo>
                  <a:lnTo>
                    <a:pt x="3103" y="0"/>
                  </a:lnTo>
                  <a:lnTo>
                    <a:pt x="3104" y="2"/>
                  </a:lnTo>
                  <a:lnTo>
                    <a:pt x="3105" y="4"/>
                  </a:lnTo>
                  <a:lnTo>
                    <a:pt x="3105" y="6"/>
                  </a:lnTo>
                  <a:lnTo>
                    <a:pt x="3105" y="8"/>
                  </a:lnTo>
                  <a:lnTo>
                    <a:pt x="3104" y="10"/>
                  </a:lnTo>
                  <a:lnTo>
                    <a:pt x="3103" y="12"/>
                  </a:lnTo>
                  <a:lnTo>
                    <a:pt x="3102" y="12"/>
                  </a:lnTo>
                  <a:lnTo>
                    <a:pt x="3083" y="12"/>
                  </a:lnTo>
                  <a:lnTo>
                    <a:pt x="3082" y="12"/>
                  </a:lnTo>
                  <a:lnTo>
                    <a:pt x="3081" y="10"/>
                  </a:lnTo>
                  <a:lnTo>
                    <a:pt x="3080" y="8"/>
                  </a:lnTo>
                  <a:lnTo>
                    <a:pt x="3080" y="6"/>
                  </a:lnTo>
                  <a:lnTo>
                    <a:pt x="3080" y="4"/>
                  </a:lnTo>
                  <a:lnTo>
                    <a:pt x="3081" y="2"/>
                  </a:lnTo>
                  <a:lnTo>
                    <a:pt x="3082" y="0"/>
                  </a:lnTo>
                  <a:lnTo>
                    <a:pt x="3083" y="0"/>
                  </a:lnTo>
                  <a:lnTo>
                    <a:pt x="3083" y="0"/>
                  </a:lnTo>
                  <a:close/>
                  <a:moveTo>
                    <a:pt x="3127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7" y="12"/>
                  </a:lnTo>
                  <a:lnTo>
                    <a:pt x="3126" y="12"/>
                  </a:lnTo>
                  <a:lnTo>
                    <a:pt x="3125" y="10"/>
                  </a:lnTo>
                  <a:lnTo>
                    <a:pt x="3124" y="8"/>
                  </a:lnTo>
                  <a:lnTo>
                    <a:pt x="3124" y="6"/>
                  </a:lnTo>
                  <a:lnTo>
                    <a:pt x="3124" y="4"/>
                  </a:lnTo>
                  <a:lnTo>
                    <a:pt x="3125" y="2"/>
                  </a:lnTo>
                  <a:lnTo>
                    <a:pt x="3126" y="0"/>
                  </a:lnTo>
                  <a:lnTo>
                    <a:pt x="3127" y="0"/>
                  </a:lnTo>
                  <a:lnTo>
                    <a:pt x="3127" y="0"/>
                  </a:lnTo>
                  <a:close/>
                  <a:moveTo>
                    <a:pt x="3172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2" y="12"/>
                  </a:lnTo>
                  <a:lnTo>
                    <a:pt x="3171" y="12"/>
                  </a:lnTo>
                  <a:lnTo>
                    <a:pt x="3170" y="10"/>
                  </a:lnTo>
                  <a:lnTo>
                    <a:pt x="3169" y="8"/>
                  </a:lnTo>
                  <a:lnTo>
                    <a:pt x="3169" y="6"/>
                  </a:lnTo>
                  <a:lnTo>
                    <a:pt x="3169" y="4"/>
                  </a:lnTo>
                  <a:lnTo>
                    <a:pt x="3170" y="2"/>
                  </a:lnTo>
                  <a:lnTo>
                    <a:pt x="3171" y="0"/>
                  </a:lnTo>
                  <a:lnTo>
                    <a:pt x="3172" y="0"/>
                  </a:lnTo>
                  <a:lnTo>
                    <a:pt x="3172" y="0"/>
                  </a:lnTo>
                  <a:close/>
                  <a:moveTo>
                    <a:pt x="3217" y="0"/>
                  </a:moveTo>
                  <a:lnTo>
                    <a:pt x="3236" y="0"/>
                  </a:lnTo>
                  <a:lnTo>
                    <a:pt x="3237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7" y="12"/>
                  </a:lnTo>
                  <a:lnTo>
                    <a:pt x="3236" y="12"/>
                  </a:lnTo>
                  <a:lnTo>
                    <a:pt x="3217" y="12"/>
                  </a:lnTo>
                  <a:lnTo>
                    <a:pt x="3216" y="12"/>
                  </a:lnTo>
                  <a:lnTo>
                    <a:pt x="3215" y="10"/>
                  </a:lnTo>
                  <a:lnTo>
                    <a:pt x="3214" y="8"/>
                  </a:lnTo>
                  <a:lnTo>
                    <a:pt x="3214" y="6"/>
                  </a:lnTo>
                  <a:lnTo>
                    <a:pt x="3214" y="4"/>
                  </a:lnTo>
                  <a:lnTo>
                    <a:pt x="3215" y="2"/>
                  </a:lnTo>
                  <a:lnTo>
                    <a:pt x="3216" y="0"/>
                  </a:lnTo>
                  <a:lnTo>
                    <a:pt x="3217" y="0"/>
                  </a:lnTo>
                  <a:lnTo>
                    <a:pt x="3217" y="0"/>
                  </a:lnTo>
                  <a:close/>
                  <a:moveTo>
                    <a:pt x="3261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3" y="2"/>
                  </a:lnTo>
                  <a:lnTo>
                    <a:pt x="3284" y="4"/>
                  </a:lnTo>
                  <a:lnTo>
                    <a:pt x="3284" y="6"/>
                  </a:lnTo>
                  <a:lnTo>
                    <a:pt x="3284" y="8"/>
                  </a:lnTo>
                  <a:lnTo>
                    <a:pt x="3283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1" y="12"/>
                  </a:lnTo>
                  <a:lnTo>
                    <a:pt x="3260" y="12"/>
                  </a:lnTo>
                  <a:lnTo>
                    <a:pt x="3259" y="10"/>
                  </a:lnTo>
                  <a:lnTo>
                    <a:pt x="3258" y="8"/>
                  </a:lnTo>
                  <a:lnTo>
                    <a:pt x="3258" y="6"/>
                  </a:lnTo>
                  <a:lnTo>
                    <a:pt x="3258" y="4"/>
                  </a:lnTo>
                  <a:lnTo>
                    <a:pt x="3259" y="2"/>
                  </a:lnTo>
                  <a:lnTo>
                    <a:pt x="3260" y="0"/>
                  </a:lnTo>
                  <a:lnTo>
                    <a:pt x="3261" y="0"/>
                  </a:lnTo>
                  <a:lnTo>
                    <a:pt x="3261" y="0"/>
                  </a:lnTo>
                  <a:close/>
                  <a:moveTo>
                    <a:pt x="3306" y="0"/>
                  </a:moveTo>
                  <a:lnTo>
                    <a:pt x="3325" y="0"/>
                  </a:lnTo>
                  <a:lnTo>
                    <a:pt x="3326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6" y="12"/>
                  </a:lnTo>
                  <a:lnTo>
                    <a:pt x="3325" y="12"/>
                  </a:lnTo>
                  <a:lnTo>
                    <a:pt x="3306" y="12"/>
                  </a:lnTo>
                  <a:lnTo>
                    <a:pt x="3305" y="12"/>
                  </a:lnTo>
                  <a:lnTo>
                    <a:pt x="3304" y="10"/>
                  </a:lnTo>
                  <a:lnTo>
                    <a:pt x="3303" y="8"/>
                  </a:lnTo>
                  <a:lnTo>
                    <a:pt x="3303" y="6"/>
                  </a:lnTo>
                  <a:lnTo>
                    <a:pt x="3303" y="4"/>
                  </a:lnTo>
                  <a:lnTo>
                    <a:pt x="3304" y="2"/>
                  </a:lnTo>
                  <a:lnTo>
                    <a:pt x="3305" y="0"/>
                  </a:lnTo>
                  <a:lnTo>
                    <a:pt x="3306" y="0"/>
                  </a:lnTo>
                  <a:lnTo>
                    <a:pt x="3306" y="0"/>
                  </a:lnTo>
                  <a:close/>
                  <a:moveTo>
                    <a:pt x="3351" y="0"/>
                  </a:moveTo>
                  <a:lnTo>
                    <a:pt x="3370" y="0"/>
                  </a:lnTo>
                  <a:lnTo>
                    <a:pt x="3371" y="0"/>
                  </a:lnTo>
                  <a:lnTo>
                    <a:pt x="3372" y="2"/>
                  </a:lnTo>
                  <a:lnTo>
                    <a:pt x="3373" y="4"/>
                  </a:lnTo>
                  <a:lnTo>
                    <a:pt x="3373" y="6"/>
                  </a:lnTo>
                  <a:lnTo>
                    <a:pt x="3373" y="8"/>
                  </a:lnTo>
                  <a:lnTo>
                    <a:pt x="3372" y="10"/>
                  </a:lnTo>
                  <a:lnTo>
                    <a:pt x="3371" y="12"/>
                  </a:lnTo>
                  <a:lnTo>
                    <a:pt x="3370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4" y="0"/>
                  </a:lnTo>
                  <a:lnTo>
                    <a:pt x="3415" y="0"/>
                  </a:lnTo>
                  <a:lnTo>
                    <a:pt x="3417" y="2"/>
                  </a:lnTo>
                  <a:lnTo>
                    <a:pt x="3418" y="4"/>
                  </a:lnTo>
                  <a:lnTo>
                    <a:pt x="3418" y="6"/>
                  </a:lnTo>
                  <a:lnTo>
                    <a:pt x="3418" y="8"/>
                  </a:lnTo>
                  <a:lnTo>
                    <a:pt x="3417" y="10"/>
                  </a:lnTo>
                  <a:lnTo>
                    <a:pt x="3415" y="12"/>
                  </a:lnTo>
                  <a:lnTo>
                    <a:pt x="3414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0" y="0"/>
                  </a:moveTo>
                  <a:lnTo>
                    <a:pt x="3459" y="0"/>
                  </a:lnTo>
                  <a:lnTo>
                    <a:pt x="3460" y="0"/>
                  </a:lnTo>
                  <a:lnTo>
                    <a:pt x="3461" y="2"/>
                  </a:lnTo>
                  <a:lnTo>
                    <a:pt x="3462" y="4"/>
                  </a:lnTo>
                  <a:lnTo>
                    <a:pt x="3462" y="6"/>
                  </a:lnTo>
                  <a:lnTo>
                    <a:pt x="3462" y="8"/>
                  </a:lnTo>
                  <a:lnTo>
                    <a:pt x="3461" y="10"/>
                  </a:lnTo>
                  <a:lnTo>
                    <a:pt x="3460" y="12"/>
                  </a:lnTo>
                  <a:lnTo>
                    <a:pt x="3459" y="12"/>
                  </a:lnTo>
                  <a:lnTo>
                    <a:pt x="3440" y="12"/>
                  </a:lnTo>
                  <a:lnTo>
                    <a:pt x="3439" y="12"/>
                  </a:lnTo>
                  <a:lnTo>
                    <a:pt x="3438" y="10"/>
                  </a:lnTo>
                  <a:lnTo>
                    <a:pt x="3437" y="8"/>
                  </a:lnTo>
                  <a:lnTo>
                    <a:pt x="3437" y="6"/>
                  </a:lnTo>
                  <a:lnTo>
                    <a:pt x="3437" y="4"/>
                  </a:lnTo>
                  <a:lnTo>
                    <a:pt x="3438" y="2"/>
                  </a:lnTo>
                  <a:lnTo>
                    <a:pt x="3439" y="0"/>
                  </a:lnTo>
                  <a:lnTo>
                    <a:pt x="3440" y="0"/>
                  </a:lnTo>
                  <a:lnTo>
                    <a:pt x="3440" y="0"/>
                  </a:lnTo>
                  <a:close/>
                  <a:moveTo>
                    <a:pt x="3485" y="0"/>
                  </a:moveTo>
                  <a:lnTo>
                    <a:pt x="3504" y="0"/>
                  </a:lnTo>
                  <a:lnTo>
                    <a:pt x="3505" y="0"/>
                  </a:lnTo>
                  <a:lnTo>
                    <a:pt x="3506" y="2"/>
                  </a:lnTo>
                  <a:lnTo>
                    <a:pt x="3507" y="4"/>
                  </a:lnTo>
                  <a:lnTo>
                    <a:pt x="3507" y="6"/>
                  </a:lnTo>
                  <a:lnTo>
                    <a:pt x="3507" y="8"/>
                  </a:lnTo>
                  <a:lnTo>
                    <a:pt x="3506" y="10"/>
                  </a:lnTo>
                  <a:lnTo>
                    <a:pt x="3505" y="12"/>
                  </a:lnTo>
                  <a:lnTo>
                    <a:pt x="3504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0" y="0"/>
                  </a:lnTo>
                  <a:lnTo>
                    <a:pt x="3551" y="2"/>
                  </a:lnTo>
                  <a:lnTo>
                    <a:pt x="3552" y="4"/>
                  </a:lnTo>
                  <a:lnTo>
                    <a:pt x="3552" y="6"/>
                  </a:lnTo>
                  <a:lnTo>
                    <a:pt x="3552" y="8"/>
                  </a:lnTo>
                  <a:lnTo>
                    <a:pt x="3551" y="10"/>
                  </a:lnTo>
                  <a:lnTo>
                    <a:pt x="3550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4" y="0"/>
                  </a:moveTo>
                  <a:lnTo>
                    <a:pt x="3593" y="0"/>
                  </a:lnTo>
                  <a:lnTo>
                    <a:pt x="3594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4" y="12"/>
                  </a:lnTo>
                  <a:lnTo>
                    <a:pt x="3593" y="12"/>
                  </a:lnTo>
                  <a:lnTo>
                    <a:pt x="3574" y="12"/>
                  </a:lnTo>
                  <a:lnTo>
                    <a:pt x="3573" y="12"/>
                  </a:lnTo>
                  <a:lnTo>
                    <a:pt x="3572" y="10"/>
                  </a:lnTo>
                  <a:lnTo>
                    <a:pt x="3571" y="8"/>
                  </a:lnTo>
                  <a:lnTo>
                    <a:pt x="3571" y="6"/>
                  </a:lnTo>
                  <a:lnTo>
                    <a:pt x="3571" y="4"/>
                  </a:lnTo>
                  <a:lnTo>
                    <a:pt x="3572" y="2"/>
                  </a:lnTo>
                  <a:lnTo>
                    <a:pt x="3573" y="0"/>
                  </a:lnTo>
                  <a:lnTo>
                    <a:pt x="3574" y="0"/>
                  </a:lnTo>
                  <a:lnTo>
                    <a:pt x="3574" y="0"/>
                  </a:lnTo>
                  <a:close/>
                  <a:moveTo>
                    <a:pt x="3618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0" y="2"/>
                  </a:lnTo>
                  <a:lnTo>
                    <a:pt x="3641" y="4"/>
                  </a:lnTo>
                  <a:lnTo>
                    <a:pt x="3641" y="6"/>
                  </a:lnTo>
                  <a:lnTo>
                    <a:pt x="3641" y="8"/>
                  </a:lnTo>
                  <a:lnTo>
                    <a:pt x="3640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18" y="12"/>
                  </a:lnTo>
                  <a:lnTo>
                    <a:pt x="3617" y="12"/>
                  </a:lnTo>
                  <a:lnTo>
                    <a:pt x="3616" y="10"/>
                  </a:lnTo>
                  <a:lnTo>
                    <a:pt x="3615" y="8"/>
                  </a:lnTo>
                  <a:lnTo>
                    <a:pt x="3615" y="6"/>
                  </a:lnTo>
                  <a:lnTo>
                    <a:pt x="3615" y="4"/>
                  </a:lnTo>
                  <a:lnTo>
                    <a:pt x="3616" y="2"/>
                  </a:lnTo>
                  <a:lnTo>
                    <a:pt x="3617" y="0"/>
                  </a:lnTo>
                  <a:lnTo>
                    <a:pt x="3618" y="0"/>
                  </a:lnTo>
                  <a:lnTo>
                    <a:pt x="3618" y="0"/>
                  </a:lnTo>
                  <a:close/>
                  <a:moveTo>
                    <a:pt x="3663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3" y="12"/>
                  </a:lnTo>
                  <a:lnTo>
                    <a:pt x="3662" y="12"/>
                  </a:lnTo>
                  <a:lnTo>
                    <a:pt x="3661" y="10"/>
                  </a:lnTo>
                  <a:lnTo>
                    <a:pt x="3660" y="8"/>
                  </a:lnTo>
                  <a:lnTo>
                    <a:pt x="3660" y="6"/>
                  </a:lnTo>
                  <a:lnTo>
                    <a:pt x="3660" y="4"/>
                  </a:lnTo>
                  <a:lnTo>
                    <a:pt x="3661" y="2"/>
                  </a:lnTo>
                  <a:lnTo>
                    <a:pt x="3662" y="0"/>
                  </a:lnTo>
                  <a:lnTo>
                    <a:pt x="3663" y="0"/>
                  </a:lnTo>
                  <a:lnTo>
                    <a:pt x="3663" y="0"/>
                  </a:lnTo>
                  <a:close/>
                  <a:moveTo>
                    <a:pt x="3708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8" y="12"/>
                  </a:lnTo>
                  <a:lnTo>
                    <a:pt x="3707" y="12"/>
                  </a:lnTo>
                  <a:lnTo>
                    <a:pt x="3706" y="10"/>
                  </a:lnTo>
                  <a:lnTo>
                    <a:pt x="3705" y="8"/>
                  </a:lnTo>
                  <a:lnTo>
                    <a:pt x="3705" y="6"/>
                  </a:lnTo>
                  <a:lnTo>
                    <a:pt x="3705" y="4"/>
                  </a:lnTo>
                  <a:lnTo>
                    <a:pt x="3706" y="2"/>
                  </a:lnTo>
                  <a:lnTo>
                    <a:pt x="3707" y="0"/>
                  </a:lnTo>
                  <a:lnTo>
                    <a:pt x="3708" y="0"/>
                  </a:lnTo>
                  <a:lnTo>
                    <a:pt x="3708" y="0"/>
                  </a:lnTo>
                  <a:close/>
                  <a:moveTo>
                    <a:pt x="3753" y="0"/>
                  </a:moveTo>
                  <a:lnTo>
                    <a:pt x="3771" y="0"/>
                  </a:lnTo>
                  <a:lnTo>
                    <a:pt x="3772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2" y="12"/>
                  </a:lnTo>
                  <a:lnTo>
                    <a:pt x="3771" y="12"/>
                  </a:lnTo>
                  <a:lnTo>
                    <a:pt x="3753" y="12"/>
                  </a:lnTo>
                  <a:lnTo>
                    <a:pt x="3752" y="12"/>
                  </a:lnTo>
                  <a:lnTo>
                    <a:pt x="3751" y="10"/>
                  </a:lnTo>
                  <a:lnTo>
                    <a:pt x="3750" y="8"/>
                  </a:lnTo>
                  <a:lnTo>
                    <a:pt x="3750" y="6"/>
                  </a:lnTo>
                  <a:lnTo>
                    <a:pt x="3750" y="4"/>
                  </a:lnTo>
                  <a:lnTo>
                    <a:pt x="3751" y="2"/>
                  </a:lnTo>
                  <a:lnTo>
                    <a:pt x="3752" y="0"/>
                  </a:lnTo>
                  <a:lnTo>
                    <a:pt x="3753" y="0"/>
                  </a:lnTo>
                  <a:lnTo>
                    <a:pt x="3753" y="0"/>
                  </a:lnTo>
                  <a:close/>
                  <a:moveTo>
                    <a:pt x="3797" y="0"/>
                  </a:moveTo>
                  <a:lnTo>
                    <a:pt x="3816" y="0"/>
                  </a:lnTo>
                  <a:lnTo>
                    <a:pt x="3817" y="0"/>
                  </a:lnTo>
                  <a:lnTo>
                    <a:pt x="3818" y="2"/>
                  </a:lnTo>
                  <a:lnTo>
                    <a:pt x="3819" y="4"/>
                  </a:lnTo>
                  <a:lnTo>
                    <a:pt x="3819" y="6"/>
                  </a:lnTo>
                  <a:lnTo>
                    <a:pt x="3819" y="8"/>
                  </a:lnTo>
                  <a:lnTo>
                    <a:pt x="3818" y="10"/>
                  </a:lnTo>
                  <a:lnTo>
                    <a:pt x="3817" y="12"/>
                  </a:lnTo>
                  <a:lnTo>
                    <a:pt x="3816" y="12"/>
                  </a:lnTo>
                  <a:lnTo>
                    <a:pt x="3797" y="12"/>
                  </a:lnTo>
                  <a:lnTo>
                    <a:pt x="3796" y="12"/>
                  </a:lnTo>
                  <a:lnTo>
                    <a:pt x="3795" y="10"/>
                  </a:lnTo>
                  <a:lnTo>
                    <a:pt x="3794" y="8"/>
                  </a:lnTo>
                  <a:lnTo>
                    <a:pt x="3794" y="6"/>
                  </a:lnTo>
                  <a:lnTo>
                    <a:pt x="3794" y="4"/>
                  </a:lnTo>
                  <a:lnTo>
                    <a:pt x="3795" y="2"/>
                  </a:lnTo>
                  <a:lnTo>
                    <a:pt x="3796" y="0"/>
                  </a:lnTo>
                  <a:lnTo>
                    <a:pt x="3797" y="0"/>
                  </a:lnTo>
                  <a:lnTo>
                    <a:pt x="3797" y="0"/>
                  </a:lnTo>
                  <a:close/>
                  <a:moveTo>
                    <a:pt x="3842" y="0"/>
                  </a:moveTo>
                  <a:lnTo>
                    <a:pt x="3861" y="0"/>
                  </a:lnTo>
                  <a:lnTo>
                    <a:pt x="3862" y="0"/>
                  </a:lnTo>
                  <a:lnTo>
                    <a:pt x="3863" y="2"/>
                  </a:lnTo>
                  <a:lnTo>
                    <a:pt x="3864" y="4"/>
                  </a:lnTo>
                  <a:lnTo>
                    <a:pt x="3864" y="6"/>
                  </a:lnTo>
                  <a:lnTo>
                    <a:pt x="3864" y="8"/>
                  </a:lnTo>
                  <a:lnTo>
                    <a:pt x="3863" y="10"/>
                  </a:lnTo>
                  <a:lnTo>
                    <a:pt x="3862" y="12"/>
                  </a:lnTo>
                  <a:lnTo>
                    <a:pt x="3861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6" y="0"/>
                  </a:lnTo>
                  <a:lnTo>
                    <a:pt x="3907" y="0"/>
                  </a:lnTo>
                  <a:lnTo>
                    <a:pt x="3908" y="2"/>
                  </a:lnTo>
                  <a:lnTo>
                    <a:pt x="3909" y="4"/>
                  </a:lnTo>
                  <a:lnTo>
                    <a:pt x="3909" y="6"/>
                  </a:lnTo>
                  <a:lnTo>
                    <a:pt x="3909" y="8"/>
                  </a:lnTo>
                  <a:lnTo>
                    <a:pt x="3908" y="10"/>
                  </a:lnTo>
                  <a:lnTo>
                    <a:pt x="3907" y="12"/>
                  </a:lnTo>
                  <a:lnTo>
                    <a:pt x="3906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0" y="0"/>
                  </a:lnTo>
                  <a:lnTo>
                    <a:pt x="3951" y="0"/>
                  </a:lnTo>
                  <a:lnTo>
                    <a:pt x="3953" y="2"/>
                  </a:lnTo>
                  <a:lnTo>
                    <a:pt x="3954" y="4"/>
                  </a:lnTo>
                  <a:lnTo>
                    <a:pt x="3954" y="6"/>
                  </a:lnTo>
                  <a:lnTo>
                    <a:pt x="3954" y="8"/>
                  </a:lnTo>
                  <a:lnTo>
                    <a:pt x="3953" y="10"/>
                  </a:lnTo>
                  <a:lnTo>
                    <a:pt x="3951" y="12"/>
                  </a:lnTo>
                  <a:lnTo>
                    <a:pt x="3950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6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7" y="2"/>
                  </a:lnTo>
                  <a:lnTo>
                    <a:pt x="3998" y="4"/>
                  </a:lnTo>
                  <a:lnTo>
                    <a:pt x="3998" y="6"/>
                  </a:lnTo>
                  <a:lnTo>
                    <a:pt x="3998" y="8"/>
                  </a:lnTo>
                  <a:lnTo>
                    <a:pt x="3997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6" y="12"/>
                  </a:lnTo>
                  <a:lnTo>
                    <a:pt x="3975" y="12"/>
                  </a:lnTo>
                  <a:lnTo>
                    <a:pt x="3974" y="10"/>
                  </a:lnTo>
                  <a:lnTo>
                    <a:pt x="3973" y="8"/>
                  </a:lnTo>
                  <a:lnTo>
                    <a:pt x="3973" y="6"/>
                  </a:lnTo>
                  <a:lnTo>
                    <a:pt x="3973" y="4"/>
                  </a:lnTo>
                  <a:lnTo>
                    <a:pt x="3974" y="2"/>
                  </a:lnTo>
                  <a:lnTo>
                    <a:pt x="3975" y="0"/>
                  </a:lnTo>
                  <a:lnTo>
                    <a:pt x="3976" y="0"/>
                  </a:lnTo>
                  <a:lnTo>
                    <a:pt x="3976" y="0"/>
                  </a:lnTo>
                  <a:close/>
                  <a:moveTo>
                    <a:pt x="4020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0" y="12"/>
                  </a:lnTo>
                  <a:lnTo>
                    <a:pt x="4019" y="12"/>
                  </a:lnTo>
                  <a:lnTo>
                    <a:pt x="4018" y="10"/>
                  </a:lnTo>
                  <a:lnTo>
                    <a:pt x="4017" y="8"/>
                  </a:lnTo>
                  <a:lnTo>
                    <a:pt x="4017" y="6"/>
                  </a:lnTo>
                  <a:lnTo>
                    <a:pt x="4017" y="4"/>
                  </a:lnTo>
                  <a:lnTo>
                    <a:pt x="4018" y="2"/>
                  </a:lnTo>
                  <a:lnTo>
                    <a:pt x="4019" y="0"/>
                  </a:lnTo>
                  <a:lnTo>
                    <a:pt x="4020" y="0"/>
                  </a:lnTo>
                  <a:lnTo>
                    <a:pt x="4020" y="0"/>
                  </a:lnTo>
                  <a:close/>
                  <a:moveTo>
                    <a:pt x="4065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5" y="12"/>
                  </a:lnTo>
                  <a:lnTo>
                    <a:pt x="4064" y="12"/>
                  </a:lnTo>
                  <a:lnTo>
                    <a:pt x="4063" y="10"/>
                  </a:lnTo>
                  <a:lnTo>
                    <a:pt x="4062" y="8"/>
                  </a:lnTo>
                  <a:lnTo>
                    <a:pt x="4062" y="6"/>
                  </a:lnTo>
                  <a:lnTo>
                    <a:pt x="4062" y="4"/>
                  </a:lnTo>
                  <a:lnTo>
                    <a:pt x="4063" y="2"/>
                  </a:lnTo>
                  <a:lnTo>
                    <a:pt x="4064" y="0"/>
                  </a:lnTo>
                  <a:lnTo>
                    <a:pt x="4065" y="0"/>
                  </a:lnTo>
                  <a:lnTo>
                    <a:pt x="4065" y="0"/>
                  </a:lnTo>
                  <a:close/>
                  <a:moveTo>
                    <a:pt x="4110" y="0"/>
                  </a:moveTo>
                  <a:lnTo>
                    <a:pt x="4129" y="0"/>
                  </a:lnTo>
                  <a:lnTo>
                    <a:pt x="4130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0" y="12"/>
                  </a:lnTo>
                  <a:lnTo>
                    <a:pt x="4129" y="12"/>
                  </a:lnTo>
                  <a:lnTo>
                    <a:pt x="4110" y="12"/>
                  </a:lnTo>
                  <a:lnTo>
                    <a:pt x="4109" y="12"/>
                  </a:lnTo>
                  <a:lnTo>
                    <a:pt x="4108" y="10"/>
                  </a:lnTo>
                  <a:lnTo>
                    <a:pt x="4107" y="8"/>
                  </a:lnTo>
                  <a:lnTo>
                    <a:pt x="4107" y="6"/>
                  </a:lnTo>
                  <a:lnTo>
                    <a:pt x="4107" y="4"/>
                  </a:lnTo>
                  <a:lnTo>
                    <a:pt x="4108" y="2"/>
                  </a:lnTo>
                  <a:lnTo>
                    <a:pt x="4109" y="0"/>
                  </a:lnTo>
                  <a:lnTo>
                    <a:pt x="4110" y="0"/>
                  </a:lnTo>
                  <a:lnTo>
                    <a:pt x="4110" y="0"/>
                  </a:lnTo>
                  <a:close/>
                  <a:moveTo>
                    <a:pt x="4154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6" y="2"/>
                  </a:lnTo>
                  <a:lnTo>
                    <a:pt x="4177" y="4"/>
                  </a:lnTo>
                  <a:lnTo>
                    <a:pt x="4177" y="6"/>
                  </a:lnTo>
                  <a:lnTo>
                    <a:pt x="4177" y="8"/>
                  </a:lnTo>
                  <a:lnTo>
                    <a:pt x="4176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4" y="12"/>
                  </a:lnTo>
                  <a:lnTo>
                    <a:pt x="4153" y="12"/>
                  </a:lnTo>
                  <a:lnTo>
                    <a:pt x="4152" y="10"/>
                  </a:lnTo>
                  <a:lnTo>
                    <a:pt x="4151" y="8"/>
                  </a:lnTo>
                  <a:lnTo>
                    <a:pt x="4151" y="6"/>
                  </a:lnTo>
                  <a:lnTo>
                    <a:pt x="4151" y="4"/>
                  </a:lnTo>
                  <a:lnTo>
                    <a:pt x="4152" y="2"/>
                  </a:lnTo>
                  <a:lnTo>
                    <a:pt x="4153" y="0"/>
                  </a:lnTo>
                  <a:lnTo>
                    <a:pt x="4154" y="0"/>
                  </a:lnTo>
                  <a:lnTo>
                    <a:pt x="4154" y="0"/>
                  </a:lnTo>
                  <a:close/>
                  <a:moveTo>
                    <a:pt x="4199" y="0"/>
                  </a:moveTo>
                  <a:lnTo>
                    <a:pt x="4218" y="0"/>
                  </a:lnTo>
                  <a:lnTo>
                    <a:pt x="4219" y="0"/>
                  </a:lnTo>
                  <a:lnTo>
                    <a:pt x="4220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0" y="10"/>
                  </a:lnTo>
                  <a:lnTo>
                    <a:pt x="4219" y="12"/>
                  </a:lnTo>
                  <a:lnTo>
                    <a:pt x="4218" y="12"/>
                  </a:lnTo>
                  <a:lnTo>
                    <a:pt x="4199" y="12"/>
                  </a:lnTo>
                  <a:lnTo>
                    <a:pt x="4198" y="12"/>
                  </a:lnTo>
                  <a:lnTo>
                    <a:pt x="4197" y="10"/>
                  </a:lnTo>
                  <a:lnTo>
                    <a:pt x="4196" y="8"/>
                  </a:lnTo>
                  <a:lnTo>
                    <a:pt x="4196" y="6"/>
                  </a:lnTo>
                  <a:lnTo>
                    <a:pt x="4196" y="4"/>
                  </a:lnTo>
                  <a:lnTo>
                    <a:pt x="4197" y="2"/>
                  </a:lnTo>
                  <a:lnTo>
                    <a:pt x="4198" y="0"/>
                  </a:lnTo>
                  <a:lnTo>
                    <a:pt x="4199" y="0"/>
                  </a:lnTo>
                  <a:lnTo>
                    <a:pt x="4199" y="0"/>
                  </a:lnTo>
                  <a:close/>
                  <a:moveTo>
                    <a:pt x="4244" y="0"/>
                  </a:moveTo>
                  <a:lnTo>
                    <a:pt x="4263" y="0"/>
                  </a:lnTo>
                  <a:lnTo>
                    <a:pt x="4264" y="0"/>
                  </a:lnTo>
                  <a:lnTo>
                    <a:pt x="4265" y="2"/>
                  </a:lnTo>
                  <a:lnTo>
                    <a:pt x="4266" y="4"/>
                  </a:lnTo>
                  <a:lnTo>
                    <a:pt x="4266" y="6"/>
                  </a:lnTo>
                  <a:lnTo>
                    <a:pt x="4266" y="8"/>
                  </a:lnTo>
                  <a:lnTo>
                    <a:pt x="4265" y="10"/>
                  </a:lnTo>
                  <a:lnTo>
                    <a:pt x="4264" y="12"/>
                  </a:lnTo>
                  <a:lnTo>
                    <a:pt x="4263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7" y="0"/>
                  </a:lnTo>
                  <a:lnTo>
                    <a:pt x="4308" y="0"/>
                  </a:lnTo>
                  <a:lnTo>
                    <a:pt x="4310" y="2"/>
                  </a:lnTo>
                  <a:lnTo>
                    <a:pt x="4311" y="4"/>
                  </a:lnTo>
                  <a:lnTo>
                    <a:pt x="4311" y="6"/>
                  </a:lnTo>
                  <a:lnTo>
                    <a:pt x="4311" y="8"/>
                  </a:lnTo>
                  <a:lnTo>
                    <a:pt x="4310" y="10"/>
                  </a:lnTo>
                  <a:lnTo>
                    <a:pt x="4308" y="12"/>
                  </a:lnTo>
                  <a:lnTo>
                    <a:pt x="4307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3" y="0"/>
                  </a:moveTo>
                  <a:lnTo>
                    <a:pt x="4352" y="0"/>
                  </a:lnTo>
                  <a:lnTo>
                    <a:pt x="4353" y="0"/>
                  </a:lnTo>
                  <a:lnTo>
                    <a:pt x="4354" y="2"/>
                  </a:lnTo>
                  <a:lnTo>
                    <a:pt x="4355" y="4"/>
                  </a:lnTo>
                  <a:lnTo>
                    <a:pt x="4355" y="6"/>
                  </a:lnTo>
                  <a:lnTo>
                    <a:pt x="4355" y="8"/>
                  </a:lnTo>
                  <a:lnTo>
                    <a:pt x="4354" y="10"/>
                  </a:lnTo>
                  <a:lnTo>
                    <a:pt x="4353" y="12"/>
                  </a:lnTo>
                  <a:lnTo>
                    <a:pt x="4352" y="12"/>
                  </a:lnTo>
                  <a:lnTo>
                    <a:pt x="4333" y="12"/>
                  </a:lnTo>
                  <a:lnTo>
                    <a:pt x="4332" y="12"/>
                  </a:lnTo>
                  <a:lnTo>
                    <a:pt x="4331" y="10"/>
                  </a:lnTo>
                  <a:lnTo>
                    <a:pt x="4330" y="8"/>
                  </a:lnTo>
                  <a:lnTo>
                    <a:pt x="4330" y="6"/>
                  </a:lnTo>
                  <a:lnTo>
                    <a:pt x="4330" y="4"/>
                  </a:lnTo>
                  <a:lnTo>
                    <a:pt x="4331" y="2"/>
                  </a:lnTo>
                  <a:lnTo>
                    <a:pt x="4332" y="0"/>
                  </a:lnTo>
                  <a:lnTo>
                    <a:pt x="4333" y="0"/>
                  </a:lnTo>
                  <a:lnTo>
                    <a:pt x="4333" y="0"/>
                  </a:lnTo>
                  <a:close/>
                  <a:moveTo>
                    <a:pt x="4378" y="0"/>
                  </a:moveTo>
                  <a:lnTo>
                    <a:pt x="4397" y="0"/>
                  </a:lnTo>
                  <a:lnTo>
                    <a:pt x="4398" y="0"/>
                  </a:lnTo>
                  <a:lnTo>
                    <a:pt x="4399" y="2"/>
                  </a:lnTo>
                  <a:lnTo>
                    <a:pt x="4400" y="4"/>
                  </a:lnTo>
                  <a:lnTo>
                    <a:pt x="4400" y="6"/>
                  </a:lnTo>
                  <a:lnTo>
                    <a:pt x="4400" y="8"/>
                  </a:lnTo>
                  <a:lnTo>
                    <a:pt x="4399" y="10"/>
                  </a:lnTo>
                  <a:lnTo>
                    <a:pt x="4398" y="12"/>
                  </a:lnTo>
                  <a:lnTo>
                    <a:pt x="4397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5" y="4"/>
                  </a:lnTo>
                  <a:lnTo>
                    <a:pt x="4445" y="6"/>
                  </a:lnTo>
                  <a:lnTo>
                    <a:pt x="4445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19" y="8"/>
                  </a:lnTo>
                  <a:lnTo>
                    <a:pt x="4419" y="6"/>
                  </a:lnTo>
                  <a:lnTo>
                    <a:pt x="4419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7" y="0"/>
                  </a:moveTo>
                  <a:lnTo>
                    <a:pt x="4486" y="0"/>
                  </a:lnTo>
                  <a:lnTo>
                    <a:pt x="4487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7" y="12"/>
                  </a:lnTo>
                  <a:lnTo>
                    <a:pt x="4486" y="12"/>
                  </a:lnTo>
                  <a:lnTo>
                    <a:pt x="4467" y="12"/>
                  </a:lnTo>
                  <a:lnTo>
                    <a:pt x="4466" y="12"/>
                  </a:lnTo>
                  <a:lnTo>
                    <a:pt x="4465" y="10"/>
                  </a:lnTo>
                  <a:lnTo>
                    <a:pt x="4464" y="8"/>
                  </a:lnTo>
                  <a:lnTo>
                    <a:pt x="4464" y="6"/>
                  </a:lnTo>
                  <a:lnTo>
                    <a:pt x="4464" y="4"/>
                  </a:lnTo>
                  <a:lnTo>
                    <a:pt x="4465" y="2"/>
                  </a:lnTo>
                  <a:lnTo>
                    <a:pt x="4466" y="0"/>
                  </a:lnTo>
                  <a:lnTo>
                    <a:pt x="4467" y="0"/>
                  </a:lnTo>
                  <a:lnTo>
                    <a:pt x="4467" y="0"/>
                  </a:lnTo>
                  <a:close/>
                  <a:moveTo>
                    <a:pt x="4511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3" y="2"/>
                  </a:lnTo>
                  <a:lnTo>
                    <a:pt x="4534" y="4"/>
                  </a:lnTo>
                  <a:lnTo>
                    <a:pt x="4534" y="6"/>
                  </a:lnTo>
                  <a:lnTo>
                    <a:pt x="4534" y="8"/>
                  </a:lnTo>
                  <a:lnTo>
                    <a:pt x="4533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1" y="12"/>
                  </a:lnTo>
                  <a:lnTo>
                    <a:pt x="4510" y="12"/>
                  </a:lnTo>
                  <a:lnTo>
                    <a:pt x="4509" y="10"/>
                  </a:lnTo>
                  <a:lnTo>
                    <a:pt x="4508" y="8"/>
                  </a:lnTo>
                  <a:lnTo>
                    <a:pt x="4508" y="6"/>
                  </a:lnTo>
                  <a:lnTo>
                    <a:pt x="4508" y="4"/>
                  </a:lnTo>
                  <a:lnTo>
                    <a:pt x="4509" y="2"/>
                  </a:lnTo>
                  <a:lnTo>
                    <a:pt x="4510" y="0"/>
                  </a:lnTo>
                  <a:lnTo>
                    <a:pt x="4511" y="0"/>
                  </a:lnTo>
                  <a:lnTo>
                    <a:pt x="4511" y="0"/>
                  </a:lnTo>
                  <a:close/>
                  <a:moveTo>
                    <a:pt x="4556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6" y="12"/>
                  </a:lnTo>
                  <a:lnTo>
                    <a:pt x="4555" y="12"/>
                  </a:lnTo>
                  <a:lnTo>
                    <a:pt x="4554" y="10"/>
                  </a:lnTo>
                  <a:lnTo>
                    <a:pt x="4553" y="8"/>
                  </a:lnTo>
                  <a:lnTo>
                    <a:pt x="4553" y="6"/>
                  </a:lnTo>
                  <a:lnTo>
                    <a:pt x="4553" y="4"/>
                  </a:lnTo>
                  <a:lnTo>
                    <a:pt x="4554" y="2"/>
                  </a:lnTo>
                  <a:lnTo>
                    <a:pt x="4555" y="0"/>
                  </a:lnTo>
                  <a:lnTo>
                    <a:pt x="4556" y="0"/>
                  </a:lnTo>
                  <a:lnTo>
                    <a:pt x="4556" y="0"/>
                  </a:lnTo>
                  <a:close/>
                  <a:moveTo>
                    <a:pt x="4601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1" y="12"/>
                  </a:lnTo>
                  <a:lnTo>
                    <a:pt x="4600" y="12"/>
                  </a:lnTo>
                  <a:lnTo>
                    <a:pt x="4599" y="10"/>
                  </a:lnTo>
                  <a:lnTo>
                    <a:pt x="4598" y="8"/>
                  </a:lnTo>
                  <a:lnTo>
                    <a:pt x="4598" y="6"/>
                  </a:lnTo>
                  <a:lnTo>
                    <a:pt x="4598" y="4"/>
                  </a:lnTo>
                  <a:lnTo>
                    <a:pt x="4599" y="2"/>
                  </a:lnTo>
                  <a:lnTo>
                    <a:pt x="4600" y="0"/>
                  </a:lnTo>
                  <a:lnTo>
                    <a:pt x="4601" y="0"/>
                  </a:lnTo>
                  <a:lnTo>
                    <a:pt x="4601" y="0"/>
                  </a:lnTo>
                  <a:close/>
                  <a:moveTo>
                    <a:pt x="4646" y="0"/>
                  </a:moveTo>
                  <a:lnTo>
                    <a:pt x="4664" y="0"/>
                  </a:lnTo>
                  <a:lnTo>
                    <a:pt x="4665" y="0"/>
                  </a:lnTo>
                  <a:lnTo>
                    <a:pt x="4667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7" y="10"/>
                  </a:lnTo>
                  <a:lnTo>
                    <a:pt x="4665" y="12"/>
                  </a:lnTo>
                  <a:lnTo>
                    <a:pt x="4664" y="12"/>
                  </a:lnTo>
                  <a:lnTo>
                    <a:pt x="4646" y="12"/>
                  </a:lnTo>
                  <a:lnTo>
                    <a:pt x="4645" y="12"/>
                  </a:lnTo>
                  <a:lnTo>
                    <a:pt x="4644" y="10"/>
                  </a:lnTo>
                  <a:lnTo>
                    <a:pt x="4643" y="8"/>
                  </a:lnTo>
                  <a:lnTo>
                    <a:pt x="4643" y="6"/>
                  </a:lnTo>
                  <a:lnTo>
                    <a:pt x="4643" y="4"/>
                  </a:lnTo>
                  <a:lnTo>
                    <a:pt x="4644" y="2"/>
                  </a:lnTo>
                  <a:lnTo>
                    <a:pt x="4645" y="0"/>
                  </a:lnTo>
                  <a:lnTo>
                    <a:pt x="4646" y="0"/>
                  </a:lnTo>
                  <a:lnTo>
                    <a:pt x="4646" y="0"/>
                  </a:lnTo>
                  <a:close/>
                  <a:moveTo>
                    <a:pt x="4690" y="0"/>
                  </a:moveTo>
                  <a:lnTo>
                    <a:pt x="4709" y="0"/>
                  </a:lnTo>
                  <a:lnTo>
                    <a:pt x="4710" y="0"/>
                  </a:lnTo>
                  <a:lnTo>
                    <a:pt x="4711" y="2"/>
                  </a:lnTo>
                  <a:lnTo>
                    <a:pt x="4712" y="4"/>
                  </a:lnTo>
                  <a:lnTo>
                    <a:pt x="4712" y="6"/>
                  </a:lnTo>
                  <a:lnTo>
                    <a:pt x="4712" y="8"/>
                  </a:lnTo>
                  <a:lnTo>
                    <a:pt x="4711" y="10"/>
                  </a:lnTo>
                  <a:lnTo>
                    <a:pt x="4710" y="12"/>
                  </a:lnTo>
                  <a:lnTo>
                    <a:pt x="4709" y="12"/>
                  </a:lnTo>
                  <a:lnTo>
                    <a:pt x="4690" y="12"/>
                  </a:lnTo>
                  <a:lnTo>
                    <a:pt x="4689" y="12"/>
                  </a:lnTo>
                  <a:lnTo>
                    <a:pt x="4688" y="10"/>
                  </a:lnTo>
                  <a:lnTo>
                    <a:pt x="4687" y="8"/>
                  </a:lnTo>
                  <a:lnTo>
                    <a:pt x="4687" y="6"/>
                  </a:lnTo>
                  <a:lnTo>
                    <a:pt x="4687" y="4"/>
                  </a:lnTo>
                  <a:lnTo>
                    <a:pt x="4688" y="2"/>
                  </a:lnTo>
                  <a:lnTo>
                    <a:pt x="4689" y="0"/>
                  </a:lnTo>
                  <a:lnTo>
                    <a:pt x="4690" y="0"/>
                  </a:lnTo>
                  <a:lnTo>
                    <a:pt x="4690" y="0"/>
                  </a:lnTo>
                  <a:close/>
                  <a:moveTo>
                    <a:pt x="4735" y="0"/>
                  </a:moveTo>
                  <a:lnTo>
                    <a:pt x="4754" y="0"/>
                  </a:lnTo>
                  <a:lnTo>
                    <a:pt x="4755" y="0"/>
                  </a:lnTo>
                  <a:lnTo>
                    <a:pt x="4756" y="2"/>
                  </a:lnTo>
                  <a:lnTo>
                    <a:pt x="4757" y="4"/>
                  </a:lnTo>
                  <a:lnTo>
                    <a:pt x="4757" y="6"/>
                  </a:lnTo>
                  <a:lnTo>
                    <a:pt x="4757" y="8"/>
                  </a:lnTo>
                  <a:lnTo>
                    <a:pt x="4756" y="10"/>
                  </a:lnTo>
                  <a:lnTo>
                    <a:pt x="4755" y="12"/>
                  </a:lnTo>
                  <a:lnTo>
                    <a:pt x="4754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799" y="0"/>
                  </a:lnTo>
                  <a:lnTo>
                    <a:pt x="4800" y="0"/>
                  </a:lnTo>
                  <a:lnTo>
                    <a:pt x="4801" y="2"/>
                  </a:lnTo>
                  <a:lnTo>
                    <a:pt x="4802" y="4"/>
                  </a:lnTo>
                  <a:lnTo>
                    <a:pt x="4802" y="6"/>
                  </a:lnTo>
                  <a:lnTo>
                    <a:pt x="4802" y="8"/>
                  </a:lnTo>
                  <a:lnTo>
                    <a:pt x="4801" y="10"/>
                  </a:lnTo>
                  <a:lnTo>
                    <a:pt x="4800" y="12"/>
                  </a:lnTo>
                  <a:lnTo>
                    <a:pt x="4799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3" y="0"/>
                  </a:lnTo>
                  <a:lnTo>
                    <a:pt x="4844" y="0"/>
                  </a:lnTo>
                  <a:lnTo>
                    <a:pt x="4846" y="2"/>
                  </a:lnTo>
                  <a:lnTo>
                    <a:pt x="4847" y="4"/>
                  </a:lnTo>
                  <a:lnTo>
                    <a:pt x="4847" y="6"/>
                  </a:lnTo>
                  <a:lnTo>
                    <a:pt x="4847" y="8"/>
                  </a:lnTo>
                  <a:lnTo>
                    <a:pt x="4846" y="10"/>
                  </a:lnTo>
                  <a:lnTo>
                    <a:pt x="4844" y="12"/>
                  </a:lnTo>
                  <a:lnTo>
                    <a:pt x="4843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69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0" y="2"/>
                  </a:lnTo>
                  <a:lnTo>
                    <a:pt x="4891" y="4"/>
                  </a:lnTo>
                  <a:lnTo>
                    <a:pt x="4891" y="6"/>
                  </a:lnTo>
                  <a:lnTo>
                    <a:pt x="4891" y="8"/>
                  </a:lnTo>
                  <a:lnTo>
                    <a:pt x="4890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69" y="12"/>
                  </a:lnTo>
                  <a:lnTo>
                    <a:pt x="4868" y="12"/>
                  </a:lnTo>
                  <a:lnTo>
                    <a:pt x="4866" y="10"/>
                  </a:lnTo>
                  <a:lnTo>
                    <a:pt x="4865" y="8"/>
                  </a:lnTo>
                  <a:lnTo>
                    <a:pt x="4865" y="6"/>
                  </a:lnTo>
                  <a:lnTo>
                    <a:pt x="4865" y="4"/>
                  </a:lnTo>
                  <a:lnTo>
                    <a:pt x="4866" y="2"/>
                  </a:lnTo>
                  <a:lnTo>
                    <a:pt x="4868" y="0"/>
                  </a:lnTo>
                  <a:lnTo>
                    <a:pt x="4869" y="0"/>
                  </a:lnTo>
                  <a:lnTo>
                    <a:pt x="4869" y="0"/>
                  </a:lnTo>
                  <a:close/>
                  <a:moveTo>
                    <a:pt x="4913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3" y="12"/>
                  </a:lnTo>
                  <a:lnTo>
                    <a:pt x="4912" y="12"/>
                  </a:lnTo>
                  <a:lnTo>
                    <a:pt x="4911" y="10"/>
                  </a:lnTo>
                  <a:lnTo>
                    <a:pt x="4910" y="8"/>
                  </a:lnTo>
                  <a:lnTo>
                    <a:pt x="4910" y="6"/>
                  </a:lnTo>
                  <a:lnTo>
                    <a:pt x="4910" y="4"/>
                  </a:lnTo>
                  <a:lnTo>
                    <a:pt x="4911" y="2"/>
                  </a:lnTo>
                  <a:lnTo>
                    <a:pt x="4912" y="0"/>
                  </a:lnTo>
                  <a:lnTo>
                    <a:pt x="4913" y="0"/>
                  </a:lnTo>
                  <a:lnTo>
                    <a:pt x="4913" y="0"/>
                  </a:lnTo>
                  <a:close/>
                  <a:moveTo>
                    <a:pt x="4958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8" y="12"/>
                  </a:lnTo>
                  <a:lnTo>
                    <a:pt x="4957" y="12"/>
                  </a:lnTo>
                  <a:lnTo>
                    <a:pt x="4956" y="10"/>
                  </a:lnTo>
                  <a:lnTo>
                    <a:pt x="4955" y="8"/>
                  </a:lnTo>
                  <a:lnTo>
                    <a:pt x="4955" y="6"/>
                  </a:lnTo>
                  <a:lnTo>
                    <a:pt x="4955" y="4"/>
                  </a:lnTo>
                  <a:lnTo>
                    <a:pt x="4956" y="2"/>
                  </a:lnTo>
                  <a:lnTo>
                    <a:pt x="4957" y="0"/>
                  </a:lnTo>
                  <a:lnTo>
                    <a:pt x="4958" y="0"/>
                  </a:lnTo>
                  <a:lnTo>
                    <a:pt x="4958" y="0"/>
                  </a:lnTo>
                  <a:close/>
                  <a:moveTo>
                    <a:pt x="5003" y="0"/>
                  </a:moveTo>
                  <a:lnTo>
                    <a:pt x="5022" y="0"/>
                  </a:lnTo>
                  <a:lnTo>
                    <a:pt x="5023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3" y="12"/>
                  </a:lnTo>
                  <a:lnTo>
                    <a:pt x="5022" y="12"/>
                  </a:lnTo>
                  <a:lnTo>
                    <a:pt x="5003" y="12"/>
                  </a:lnTo>
                  <a:lnTo>
                    <a:pt x="5002" y="12"/>
                  </a:lnTo>
                  <a:lnTo>
                    <a:pt x="5001" y="10"/>
                  </a:lnTo>
                  <a:lnTo>
                    <a:pt x="5000" y="8"/>
                  </a:lnTo>
                  <a:lnTo>
                    <a:pt x="5000" y="6"/>
                  </a:lnTo>
                  <a:lnTo>
                    <a:pt x="5000" y="4"/>
                  </a:lnTo>
                  <a:lnTo>
                    <a:pt x="5001" y="2"/>
                  </a:lnTo>
                  <a:lnTo>
                    <a:pt x="5002" y="0"/>
                  </a:lnTo>
                  <a:lnTo>
                    <a:pt x="5003" y="0"/>
                  </a:lnTo>
                  <a:lnTo>
                    <a:pt x="5003" y="0"/>
                  </a:lnTo>
                  <a:close/>
                  <a:moveTo>
                    <a:pt x="5047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69" y="2"/>
                  </a:lnTo>
                  <a:lnTo>
                    <a:pt x="5070" y="4"/>
                  </a:lnTo>
                  <a:lnTo>
                    <a:pt x="5070" y="6"/>
                  </a:lnTo>
                  <a:lnTo>
                    <a:pt x="5070" y="8"/>
                  </a:lnTo>
                  <a:lnTo>
                    <a:pt x="5069" y="10"/>
                  </a:lnTo>
                  <a:lnTo>
                    <a:pt x="5068" y="12"/>
                  </a:lnTo>
                  <a:lnTo>
                    <a:pt x="5067" y="12"/>
                  </a:lnTo>
                  <a:lnTo>
                    <a:pt x="5047" y="12"/>
                  </a:lnTo>
                  <a:lnTo>
                    <a:pt x="5046" y="12"/>
                  </a:lnTo>
                  <a:lnTo>
                    <a:pt x="5045" y="10"/>
                  </a:lnTo>
                  <a:lnTo>
                    <a:pt x="5044" y="8"/>
                  </a:lnTo>
                  <a:lnTo>
                    <a:pt x="5044" y="6"/>
                  </a:lnTo>
                  <a:lnTo>
                    <a:pt x="5044" y="4"/>
                  </a:lnTo>
                  <a:lnTo>
                    <a:pt x="5045" y="2"/>
                  </a:lnTo>
                  <a:lnTo>
                    <a:pt x="5046" y="0"/>
                  </a:lnTo>
                  <a:lnTo>
                    <a:pt x="5047" y="0"/>
                  </a:lnTo>
                  <a:lnTo>
                    <a:pt x="5047" y="0"/>
                  </a:lnTo>
                  <a:close/>
                  <a:moveTo>
                    <a:pt x="5092" y="0"/>
                  </a:moveTo>
                  <a:lnTo>
                    <a:pt x="5111" y="0"/>
                  </a:lnTo>
                  <a:lnTo>
                    <a:pt x="5112" y="0"/>
                  </a:lnTo>
                  <a:lnTo>
                    <a:pt x="5113" y="2"/>
                  </a:lnTo>
                  <a:lnTo>
                    <a:pt x="5114" y="4"/>
                  </a:lnTo>
                  <a:lnTo>
                    <a:pt x="5114" y="6"/>
                  </a:lnTo>
                  <a:lnTo>
                    <a:pt x="5114" y="8"/>
                  </a:lnTo>
                  <a:lnTo>
                    <a:pt x="5113" y="10"/>
                  </a:lnTo>
                  <a:lnTo>
                    <a:pt x="5112" y="12"/>
                  </a:lnTo>
                  <a:lnTo>
                    <a:pt x="5111" y="12"/>
                  </a:lnTo>
                  <a:lnTo>
                    <a:pt x="5092" y="12"/>
                  </a:lnTo>
                  <a:lnTo>
                    <a:pt x="5091" y="12"/>
                  </a:lnTo>
                  <a:lnTo>
                    <a:pt x="5090" y="10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1" y="0"/>
                  </a:lnTo>
                  <a:lnTo>
                    <a:pt x="5092" y="0"/>
                  </a:lnTo>
                  <a:lnTo>
                    <a:pt x="5092" y="0"/>
                  </a:lnTo>
                  <a:close/>
                  <a:moveTo>
                    <a:pt x="5137" y="0"/>
                  </a:moveTo>
                  <a:lnTo>
                    <a:pt x="5141" y="0"/>
                  </a:lnTo>
                  <a:lnTo>
                    <a:pt x="5142" y="0"/>
                  </a:lnTo>
                  <a:lnTo>
                    <a:pt x="5143" y="2"/>
                  </a:lnTo>
                  <a:lnTo>
                    <a:pt x="5144" y="4"/>
                  </a:lnTo>
                  <a:lnTo>
                    <a:pt x="5144" y="6"/>
                  </a:lnTo>
                  <a:lnTo>
                    <a:pt x="5144" y="8"/>
                  </a:lnTo>
                  <a:lnTo>
                    <a:pt x="5143" y="10"/>
                  </a:lnTo>
                  <a:lnTo>
                    <a:pt x="5142" y="12"/>
                  </a:lnTo>
                  <a:lnTo>
                    <a:pt x="5141" y="12"/>
                  </a:lnTo>
                  <a:lnTo>
                    <a:pt x="5137" y="12"/>
                  </a:lnTo>
                  <a:lnTo>
                    <a:pt x="5136" y="12"/>
                  </a:lnTo>
                  <a:lnTo>
                    <a:pt x="5135" y="10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7120" y="1422360"/>
              <a:ext cx="8165880" cy="9720"/>
            </a:xfrm>
            <a:custGeom>
              <a:avLst/>
              <a:gdLst/>
              <a:ahLst/>
              <a:rect l="l" t="t" r="r" b="b"/>
              <a:pathLst>
                <a:path w="5144" h="12">
                  <a:moveTo>
                    <a:pt x="3" y="0"/>
                  </a:moveTo>
                  <a:lnTo>
                    <a:pt x="21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6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0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9" y="2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136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4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4" y="2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181" y="0"/>
                  </a:moveTo>
                  <a:lnTo>
                    <a:pt x="200" y="0"/>
                  </a:lnTo>
                  <a:lnTo>
                    <a:pt x="201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1" y="12"/>
                  </a:lnTo>
                  <a:lnTo>
                    <a:pt x="200" y="12"/>
                  </a:lnTo>
                  <a:lnTo>
                    <a:pt x="181" y="12"/>
                  </a:lnTo>
                  <a:lnTo>
                    <a:pt x="180" y="12"/>
                  </a:lnTo>
                  <a:lnTo>
                    <a:pt x="179" y="10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9" y="2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close/>
                  <a:moveTo>
                    <a:pt x="225" y="0"/>
                  </a:moveTo>
                  <a:lnTo>
                    <a:pt x="244" y="0"/>
                  </a:lnTo>
                  <a:lnTo>
                    <a:pt x="245" y="0"/>
                  </a:lnTo>
                  <a:lnTo>
                    <a:pt x="247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7" y="10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25" y="12"/>
                  </a:lnTo>
                  <a:lnTo>
                    <a:pt x="224" y="12"/>
                  </a:lnTo>
                  <a:lnTo>
                    <a:pt x="223" y="10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3" y="2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close/>
                  <a:moveTo>
                    <a:pt x="270" y="0"/>
                  </a:moveTo>
                  <a:lnTo>
                    <a:pt x="289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1" y="10"/>
                  </a:lnTo>
                  <a:lnTo>
                    <a:pt x="290" y="12"/>
                  </a:lnTo>
                  <a:lnTo>
                    <a:pt x="289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4" y="0"/>
                  </a:lnTo>
                  <a:lnTo>
                    <a:pt x="335" y="0"/>
                  </a:lnTo>
                  <a:lnTo>
                    <a:pt x="336" y="2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7" y="8"/>
                  </a:lnTo>
                  <a:lnTo>
                    <a:pt x="336" y="10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78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2" y="4"/>
                  </a:lnTo>
                  <a:lnTo>
                    <a:pt x="382" y="6"/>
                  </a:lnTo>
                  <a:lnTo>
                    <a:pt x="382" y="8"/>
                  </a:lnTo>
                  <a:lnTo>
                    <a:pt x="381" y="10"/>
                  </a:lnTo>
                  <a:lnTo>
                    <a:pt x="379" y="12"/>
                  </a:lnTo>
                  <a:lnTo>
                    <a:pt x="378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4" y="0"/>
                  </a:moveTo>
                  <a:lnTo>
                    <a:pt x="423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6" y="4"/>
                  </a:lnTo>
                  <a:lnTo>
                    <a:pt x="426" y="6"/>
                  </a:lnTo>
                  <a:lnTo>
                    <a:pt x="426" y="8"/>
                  </a:lnTo>
                  <a:lnTo>
                    <a:pt x="425" y="10"/>
                  </a:lnTo>
                  <a:lnTo>
                    <a:pt x="424" y="12"/>
                  </a:lnTo>
                  <a:lnTo>
                    <a:pt x="423" y="12"/>
                  </a:lnTo>
                  <a:lnTo>
                    <a:pt x="404" y="12"/>
                  </a:lnTo>
                  <a:lnTo>
                    <a:pt x="403" y="12"/>
                  </a:lnTo>
                  <a:lnTo>
                    <a:pt x="402" y="10"/>
                  </a:lnTo>
                  <a:lnTo>
                    <a:pt x="401" y="8"/>
                  </a:lnTo>
                  <a:lnTo>
                    <a:pt x="401" y="6"/>
                  </a:lnTo>
                  <a:lnTo>
                    <a:pt x="401" y="4"/>
                  </a:lnTo>
                  <a:lnTo>
                    <a:pt x="402" y="2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0" y="2"/>
                  </a:lnTo>
                  <a:lnTo>
                    <a:pt x="471" y="4"/>
                  </a:lnTo>
                  <a:lnTo>
                    <a:pt x="471" y="6"/>
                  </a:lnTo>
                  <a:lnTo>
                    <a:pt x="471" y="8"/>
                  </a:lnTo>
                  <a:lnTo>
                    <a:pt x="470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3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3" y="12"/>
                  </a:lnTo>
                  <a:lnTo>
                    <a:pt x="492" y="12"/>
                  </a:lnTo>
                  <a:lnTo>
                    <a:pt x="491" y="10"/>
                  </a:lnTo>
                  <a:lnTo>
                    <a:pt x="490" y="8"/>
                  </a:lnTo>
                  <a:lnTo>
                    <a:pt x="490" y="6"/>
                  </a:lnTo>
                  <a:lnTo>
                    <a:pt x="490" y="4"/>
                  </a:lnTo>
                  <a:lnTo>
                    <a:pt x="491" y="2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3" y="0"/>
                  </a:lnTo>
                  <a:close/>
                  <a:moveTo>
                    <a:pt x="538" y="0"/>
                  </a:moveTo>
                  <a:lnTo>
                    <a:pt x="557" y="0"/>
                  </a:lnTo>
                  <a:lnTo>
                    <a:pt x="558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8" y="12"/>
                  </a:lnTo>
                  <a:lnTo>
                    <a:pt x="557" y="12"/>
                  </a:lnTo>
                  <a:lnTo>
                    <a:pt x="538" y="12"/>
                  </a:lnTo>
                  <a:lnTo>
                    <a:pt x="537" y="12"/>
                  </a:lnTo>
                  <a:lnTo>
                    <a:pt x="536" y="10"/>
                  </a:lnTo>
                  <a:lnTo>
                    <a:pt x="535" y="8"/>
                  </a:lnTo>
                  <a:lnTo>
                    <a:pt x="535" y="6"/>
                  </a:lnTo>
                  <a:lnTo>
                    <a:pt x="535" y="4"/>
                  </a:lnTo>
                  <a:lnTo>
                    <a:pt x="536" y="2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8" y="0"/>
                  </a:lnTo>
                  <a:close/>
                  <a:moveTo>
                    <a:pt x="582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4" y="2"/>
                  </a:lnTo>
                  <a:lnTo>
                    <a:pt x="605" y="4"/>
                  </a:lnTo>
                  <a:lnTo>
                    <a:pt x="605" y="6"/>
                  </a:lnTo>
                  <a:lnTo>
                    <a:pt x="605" y="8"/>
                  </a:lnTo>
                  <a:lnTo>
                    <a:pt x="604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2" y="12"/>
                  </a:lnTo>
                  <a:lnTo>
                    <a:pt x="581" y="12"/>
                  </a:lnTo>
                  <a:lnTo>
                    <a:pt x="580" y="10"/>
                  </a:lnTo>
                  <a:lnTo>
                    <a:pt x="579" y="8"/>
                  </a:lnTo>
                  <a:lnTo>
                    <a:pt x="579" y="6"/>
                  </a:lnTo>
                  <a:lnTo>
                    <a:pt x="579" y="4"/>
                  </a:lnTo>
                  <a:lnTo>
                    <a:pt x="580" y="2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2" y="0"/>
                  </a:lnTo>
                  <a:close/>
                  <a:moveTo>
                    <a:pt x="627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7" y="12"/>
                  </a:lnTo>
                  <a:lnTo>
                    <a:pt x="626" y="12"/>
                  </a:lnTo>
                  <a:lnTo>
                    <a:pt x="625" y="10"/>
                  </a:lnTo>
                  <a:lnTo>
                    <a:pt x="624" y="8"/>
                  </a:lnTo>
                  <a:lnTo>
                    <a:pt x="624" y="6"/>
                  </a:lnTo>
                  <a:lnTo>
                    <a:pt x="624" y="4"/>
                  </a:lnTo>
                  <a:lnTo>
                    <a:pt x="625" y="2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672" y="0"/>
                  </a:moveTo>
                  <a:lnTo>
                    <a:pt x="691" y="0"/>
                  </a:lnTo>
                  <a:lnTo>
                    <a:pt x="692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2" y="12"/>
                  </a:lnTo>
                  <a:lnTo>
                    <a:pt x="691" y="12"/>
                  </a:lnTo>
                  <a:lnTo>
                    <a:pt x="672" y="12"/>
                  </a:lnTo>
                  <a:lnTo>
                    <a:pt x="671" y="12"/>
                  </a:lnTo>
                  <a:lnTo>
                    <a:pt x="670" y="10"/>
                  </a:lnTo>
                  <a:lnTo>
                    <a:pt x="669" y="8"/>
                  </a:lnTo>
                  <a:lnTo>
                    <a:pt x="669" y="6"/>
                  </a:lnTo>
                  <a:lnTo>
                    <a:pt x="669" y="4"/>
                  </a:lnTo>
                  <a:lnTo>
                    <a:pt x="670" y="2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2" y="0"/>
                  </a:lnTo>
                  <a:close/>
                  <a:moveTo>
                    <a:pt x="717" y="0"/>
                  </a:moveTo>
                  <a:lnTo>
                    <a:pt x="735" y="0"/>
                  </a:lnTo>
                  <a:lnTo>
                    <a:pt x="736" y="0"/>
                  </a:lnTo>
                  <a:lnTo>
                    <a:pt x="738" y="2"/>
                  </a:lnTo>
                  <a:lnTo>
                    <a:pt x="739" y="4"/>
                  </a:lnTo>
                  <a:lnTo>
                    <a:pt x="739" y="6"/>
                  </a:lnTo>
                  <a:lnTo>
                    <a:pt x="739" y="8"/>
                  </a:lnTo>
                  <a:lnTo>
                    <a:pt x="738" y="10"/>
                  </a:lnTo>
                  <a:lnTo>
                    <a:pt x="736" y="12"/>
                  </a:lnTo>
                  <a:lnTo>
                    <a:pt x="735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1" y="0"/>
                  </a:moveTo>
                  <a:lnTo>
                    <a:pt x="780" y="0"/>
                  </a:lnTo>
                  <a:lnTo>
                    <a:pt x="781" y="0"/>
                  </a:lnTo>
                  <a:lnTo>
                    <a:pt x="782" y="2"/>
                  </a:lnTo>
                  <a:lnTo>
                    <a:pt x="783" y="4"/>
                  </a:lnTo>
                  <a:lnTo>
                    <a:pt x="783" y="6"/>
                  </a:lnTo>
                  <a:lnTo>
                    <a:pt x="783" y="8"/>
                  </a:lnTo>
                  <a:lnTo>
                    <a:pt x="782" y="10"/>
                  </a:lnTo>
                  <a:lnTo>
                    <a:pt x="781" y="12"/>
                  </a:lnTo>
                  <a:lnTo>
                    <a:pt x="780" y="12"/>
                  </a:lnTo>
                  <a:lnTo>
                    <a:pt x="761" y="12"/>
                  </a:lnTo>
                  <a:lnTo>
                    <a:pt x="760" y="12"/>
                  </a:lnTo>
                  <a:lnTo>
                    <a:pt x="759" y="10"/>
                  </a:lnTo>
                  <a:lnTo>
                    <a:pt x="758" y="8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59" y="2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1" y="0"/>
                  </a:lnTo>
                  <a:close/>
                  <a:moveTo>
                    <a:pt x="806" y="0"/>
                  </a:moveTo>
                  <a:lnTo>
                    <a:pt x="825" y="0"/>
                  </a:lnTo>
                  <a:lnTo>
                    <a:pt x="826" y="0"/>
                  </a:lnTo>
                  <a:lnTo>
                    <a:pt x="827" y="2"/>
                  </a:lnTo>
                  <a:lnTo>
                    <a:pt x="828" y="4"/>
                  </a:lnTo>
                  <a:lnTo>
                    <a:pt x="828" y="6"/>
                  </a:lnTo>
                  <a:lnTo>
                    <a:pt x="828" y="8"/>
                  </a:lnTo>
                  <a:lnTo>
                    <a:pt x="827" y="10"/>
                  </a:lnTo>
                  <a:lnTo>
                    <a:pt x="826" y="12"/>
                  </a:lnTo>
                  <a:lnTo>
                    <a:pt x="825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0" y="0"/>
                  </a:lnTo>
                  <a:lnTo>
                    <a:pt x="871" y="0"/>
                  </a:lnTo>
                  <a:lnTo>
                    <a:pt x="872" y="2"/>
                  </a:lnTo>
                  <a:lnTo>
                    <a:pt x="873" y="4"/>
                  </a:lnTo>
                  <a:lnTo>
                    <a:pt x="873" y="6"/>
                  </a:lnTo>
                  <a:lnTo>
                    <a:pt x="873" y="8"/>
                  </a:lnTo>
                  <a:lnTo>
                    <a:pt x="872" y="10"/>
                  </a:lnTo>
                  <a:lnTo>
                    <a:pt x="871" y="12"/>
                  </a:lnTo>
                  <a:lnTo>
                    <a:pt x="870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4" y="0"/>
                  </a:lnTo>
                  <a:lnTo>
                    <a:pt x="915" y="0"/>
                  </a:lnTo>
                  <a:lnTo>
                    <a:pt x="917" y="2"/>
                  </a:lnTo>
                  <a:lnTo>
                    <a:pt x="918" y="4"/>
                  </a:lnTo>
                  <a:lnTo>
                    <a:pt x="918" y="6"/>
                  </a:lnTo>
                  <a:lnTo>
                    <a:pt x="918" y="8"/>
                  </a:lnTo>
                  <a:lnTo>
                    <a:pt x="917" y="10"/>
                  </a:lnTo>
                  <a:lnTo>
                    <a:pt x="915" y="12"/>
                  </a:lnTo>
                  <a:lnTo>
                    <a:pt x="914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39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1" y="2"/>
                  </a:lnTo>
                  <a:lnTo>
                    <a:pt x="962" y="4"/>
                  </a:lnTo>
                  <a:lnTo>
                    <a:pt x="962" y="6"/>
                  </a:lnTo>
                  <a:lnTo>
                    <a:pt x="962" y="8"/>
                  </a:lnTo>
                  <a:lnTo>
                    <a:pt x="961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39" y="12"/>
                  </a:lnTo>
                  <a:lnTo>
                    <a:pt x="938" y="12"/>
                  </a:lnTo>
                  <a:lnTo>
                    <a:pt x="937" y="10"/>
                  </a:lnTo>
                  <a:lnTo>
                    <a:pt x="936" y="8"/>
                  </a:lnTo>
                  <a:lnTo>
                    <a:pt x="936" y="6"/>
                  </a:lnTo>
                  <a:lnTo>
                    <a:pt x="936" y="4"/>
                  </a:lnTo>
                  <a:lnTo>
                    <a:pt x="937" y="2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984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4" y="12"/>
                  </a:lnTo>
                  <a:lnTo>
                    <a:pt x="983" y="12"/>
                  </a:lnTo>
                  <a:lnTo>
                    <a:pt x="982" y="10"/>
                  </a:lnTo>
                  <a:lnTo>
                    <a:pt x="981" y="8"/>
                  </a:lnTo>
                  <a:lnTo>
                    <a:pt x="981" y="6"/>
                  </a:lnTo>
                  <a:lnTo>
                    <a:pt x="981" y="4"/>
                  </a:lnTo>
                  <a:lnTo>
                    <a:pt x="982" y="2"/>
                  </a:lnTo>
                  <a:lnTo>
                    <a:pt x="983" y="0"/>
                  </a:lnTo>
                  <a:lnTo>
                    <a:pt x="984" y="0"/>
                  </a:lnTo>
                  <a:lnTo>
                    <a:pt x="984" y="0"/>
                  </a:lnTo>
                  <a:close/>
                  <a:moveTo>
                    <a:pt x="1029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29" y="12"/>
                  </a:lnTo>
                  <a:lnTo>
                    <a:pt x="1028" y="12"/>
                  </a:lnTo>
                  <a:lnTo>
                    <a:pt x="1027" y="10"/>
                  </a:lnTo>
                  <a:lnTo>
                    <a:pt x="1026" y="8"/>
                  </a:lnTo>
                  <a:lnTo>
                    <a:pt x="1026" y="6"/>
                  </a:lnTo>
                  <a:lnTo>
                    <a:pt x="1026" y="4"/>
                  </a:lnTo>
                  <a:lnTo>
                    <a:pt x="1027" y="2"/>
                  </a:lnTo>
                  <a:lnTo>
                    <a:pt x="1028" y="0"/>
                  </a:lnTo>
                  <a:lnTo>
                    <a:pt x="1029" y="0"/>
                  </a:lnTo>
                  <a:lnTo>
                    <a:pt x="1029" y="0"/>
                  </a:lnTo>
                  <a:close/>
                  <a:moveTo>
                    <a:pt x="1074" y="0"/>
                  </a:moveTo>
                  <a:lnTo>
                    <a:pt x="1093" y="0"/>
                  </a:lnTo>
                  <a:lnTo>
                    <a:pt x="1094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4" y="12"/>
                  </a:lnTo>
                  <a:lnTo>
                    <a:pt x="1093" y="12"/>
                  </a:lnTo>
                  <a:lnTo>
                    <a:pt x="1074" y="12"/>
                  </a:lnTo>
                  <a:lnTo>
                    <a:pt x="1073" y="12"/>
                  </a:lnTo>
                  <a:lnTo>
                    <a:pt x="1072" y="10"/>
                  </a:lnTo>
                  <a:lnTo>
                    <a:pt x="1071" y="8"/>
                  </a:lnTo>
                  <a:lnTo>
                    <a:pt x="1071" y="6"/>
                  </a:lnTo>
                  <a:lnTo>
                    <a:pt x="1071" y="4"/>
                  </a:lnTo>
                  <a:lnTo>
                    <a:pt x="1072" y="2"/>
                  </a:lnTo>
                  <a:lnTo>
                    <a:pt x="1073" y="0"/>
                  </a:lnTo>
                  <a:lnTo>
                    <a:pt x="1074" y="0"/>
                  </a:lnTo>
                  <a:lnTo>
                    <a:pt x="1074" y="0"/>
                  </a:lnTo>
                  <a:close/>
                  <a:moveTo>
                    <a:pt x="1118" y="0"/>
                  </a:moveTo>
                  <a:lnTo>
                    <a:pt x="1137" y="0"/>
                  </a:lnTo>
                  <a:lnTo>
                    <a:pt x="1138" y="0"/>
                  </a:lnTo>
                  <a:lnTo>
                    <a:pt x="1139" y="2"/>
                  </a:lnTo>
                  <a:lnTo>
                    <a:pt x="1141" y="4"/>
                  </a:lnTo>
                  <a:lnTo>
                    <a:pt x="1141" y="6"/>
                  </a:lnTo>
                  <a:lnTo>
                    <a:pt x="1141" y="8"/>
                  </a:lnTo>
                  <a:lnTo>
                    <a:pt x="1139" y="10"/>
                  </a:lnTo>
                  <a:lnTo>
                    <a:pt x="1138" y="12"/>
                  </a:lnTo>
                  <a:lnTo>
                    <a:pt x="1137" y="12"/>
                  </a:lnTo>
                  <a:lnTo>
                    <a:pt x="1118" y="12"/>
                  </a:lnTo>
                  <a:lnTo>
                    <a:pt x="1117" y="12"/>
                  </a:lnTo>
                  <a:lnTo>
                    <a:pt x="1116" y="10"/>
                  </a:lnTo>
                  <a:lnTo>
                    <a:pt x="1115" y="8"/>
                  </a:lnTo>
                  <a:lnTo>
                    <a:pt x="1115" y="6"/>
                  </a:lnTo>
                  <a:lnTo>
                    <a:pt x="1115" y="4"/>
                  </a:lnTo>
                  <a:lnTo>
                    <a:pt x="1116" y="2"/>
                  </a:lnTo>
                  <a:lnTo>
                    <a:pt x="1117" y="0"/>
                  </a:lnTo>
                  <a:lnTo>
                    <a:pt x="1118" y="0"/>
                  </a:lnTo>
                  <a:lnTo>
                    <a:pt x="1118" y="0"/>
                  </a:lnTo>
                  <a:close/>
                  <a:moveTo>
                    <a:pt x="1163" y="0"/>
                  </a:moveTo>
                  <a:lnTo>
                    <a:pt x="1182" y="0"/>
                  </a:lnTo>
                  <a:lnTo>
                    <a:pt x="1183" y="0"/>
                  </a:lnTo>
                  <a:lnTo>
                    <a:pt x="1184" y="2"/>
                  </a:lnTo>
                  <a:lnTo>
                    <a:pt x="1185" y="4"/>
                  </a:lnTo>
                  <a:lnTo>
                    <a:pt x="1185" y="6"/>
                  </a:lnTo>
                  <a:lnTo>
                    <a:pt x="1185" y="8"/>
                  </a:lnTo>
                  <a:lnTo>
                    <a:pt x="1184" y="10"/>
                  </a:lnTo>
                  <a:lnTo>
                    <a:pt x="1183" y="12"/>
                  </a:lnTo>
                  <a:lnTo>
                    <a:pt x="1182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7" y="0"/>
                  </a:lnTo>
                  <a:lnTo>
                    <a:pt x="1228" y="0"/>
                  </a:lnTo>
                  <a:lnTo>
                    <a:pt x="1229" y="2"/>
                  </a:lnTo>
                  <a:lnTo>
                    <a:pt x="1230" y="4"/>
                  </a:lnTo>
                  <a:lnTo>
                    <a:pt x="1230" y="6"/>
                  </a:lnTo>
                  <a:lnTo>
                    <a:pt x="1230" y="8"/>
                  </a:lnTo>
                  <a:lnTo>
                    <a:pt x="1229" y="10"/>
                  </a:lnTo>
                  <a:lnTo>
                    <a:pt x="1228" y="12"/>
                  </a:lnTo>
                  <a:lnTo>
                    <a:pt x="1227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1" y="0"/>
                  </a:lnTo>
                  <a:lnTo>
                    <a:pt x="1272" y="0"/>
                  </a:lnTo>
                  <a:lnTo>
                    <a:pt x="1274" y="2"/>
                  </a:lnTo>
                  <a:lnTo>
                    <a:pt x="1275" y="4"/>
                  </a:lnTo>
                  <a:lnTo>
                    <a:pt x="1275" y="6"/>
                  </a:lnTo>
                  <a:lnTo>
                    <a:pt x="1275" y="8"/>
                  </a:lnTo>
                  <a:lnTo>
                    <a:pt x="1274" y="10"/>
                  </a:lnTo>
                  <a:lnTo>
                    <a:pt x="1272" y="12"/>
                  </a:lnTo>
                  <a:lnTo>
                    <a:pt x="1271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7" y="0"/>
                  </a:moveTo>
                  <a:lnTo>
                    <a:pt x="1316" y="0"/>
                  </a:lnTo>
                  <a:lnTo>
                    <a:pt x="1317" y="0"/>
                  </a:lnTo>
                  <a:lnTo>
                    <a:pt x="1318" y="2"/>
                  </a:lnTo>
                  <a:lnTo>
                    <a:pt x="1319" y="4"/>
                  </a:lnTo>
                  <a:lnTo>
                    <a:pt x="1319" y="6"/>
                  </a:lnTo>
                  <a:lnTo>
                    <a:pt x="1319" y="8"/>
                  </a:lnTo>
                  <a:lnTo>
                    <a:pt x="1318" y="10"/>
                  </a:lnTo>
                  <a:lnTo>
                    <a:pt x="1317" y="12"/>
                  </a:lnTo>
                  <a:lnTo>
                    <a:pt x="1316" y="12"/>
                  </a:lnTo>
                  <a:lnTo>
                    <a:pt x="1297" y="12"/>
                  </a:lnTo>
                  <a:lnTo>
                    <a:pt x="1296" y="12"/>
                  </a:lnTo>
                  <a:lnTo>
                    <a:pt x="1295" y="10"/>
                  </a:lnTo>
                  <a:lnTo>
                    <a:pt x="1294" y="8"/>
                  </a:lnTo>
                  <a:lnTo>
                    <a:pt x="1294" y="6"/>
                  </a:lnTo>
                  <a:lnTo>
                    <a:pt x="1294" y="4"/>
                  </a:lnTo>
                  <a:lnTo>
                    <a:pt x="1295" y="2"/>
                  </a:lnTo>
                  <a:lnTo>
                    <a:pt x="1296" y="0"/>
                  </a:lnTo>
                  <a:lnTo>
                    <a:pt x="1297" y="0"/>
                  </a:lnTo>
                  <a:lnTo>
                    <a:pt x="1297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4" y="4"/>
                  </a:lnTo>
                  <a:lnTo>
                    <a:pt x="1364" y="6"/>
                  </a:lnTo>
                  <a:lnTo>
                    <a:pt x="1364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8" y="8"/>
                  </a:lnTo>
                  <a:lnTo>
                    <a:pt x="1338" y="6"/>
                  </a:lnTo>
                  <a:lnTo>
                    <a:pt x="1338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6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6" y="12"/>
                  </a:lnTo>
                  <a:lnTo>
                    <a:pt x="1385" y="12"/>
                  </a:lnTo>
                  <a:lnTo>
                    <a:pt x="1384" y="10"/>
                  </a:lnTo>
                  <a:lnTo>
                    <a:pt x="1383" y="8"/>
                  </a:lnTo>
                  <a:lnTo>
                    <a:pt x="1383" y="6"/>
                  </a:lnTo>
                  <a:lnTo>
                    <a:pt x="1383" y="4"/>
                  </a:lnTo>
                  <a:lnTo>
                    <a:pt x="1384" y="2"/>
                  </a:lnTo>
                  <a:lnTo>
                    <a:pt x="1385" y="0"/>
                  </a:lnTo>
                  <a:lnTo>
                    <a:pt x="1386" y="0"/>
                  </a:lnTo>
                  <a:lnTo>
                    <a:pt x="1386" y="0"/>
                  </a:lnTo>
                  <a:close/>
                  <a:moveTo>
                    <a:pt x="1431" y="0"/>
                  </a:moveTo>
                  <a:lnTo>
                    <a:pt x="1450" y="0"/>
                  </a:lnTo>
                  <a:lnTo>
                    <a:pt x="1451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1" y="12"/>
                  </a:lnTo>
                  <a:lnTo>
                    <a:pt x="1450" y="12"/>
                  </a:lnTo>
                  <a:lnTo>
                    <a:pt x="1431" y="12"/>
                  </a:lnTo>
                  <a:lnTo>
                    <a:pt x="1430" y="12"/>
                  </a:lnTo>
                  <a:lnTo>
                    <a:pt x="1429" y="10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4"/>
                  </a:lnTo>
                  <a:lnTo>
                    <a:pt x="1429" y="2"/>
                  </a:lnTo>
                  <a:lnTo>
                    <a:pt x="1430" y="0"/>
                  </a:lnTo>
                  <a:lnTo>
                    <a:pt x="1431" y="0"/>
                  </a:lnTo>
                  <a:lnTo>
                    <a:pt x="1431" y="0"/>
                  </a:lnTo>
                  <a:close/>
                  <a:moveTo>
                    <a:pt x="1475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7" y="2"/>
                  </a:lnTo>
                  <a:lnTo>
                    <a:pt x="1498" y="4"/>
                  </a:lnTo>
                  <a:lnTo>
                    <a:pt x="1498" y="6"/>
                  </a:lnTo>
                  <a:lnTo>
                    <a:pt x="1498" y="8"/>
                  </a:lnTo>
                  <a:lnTo>
                    <a:pt x="1497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5" y="12"/>
                  </a:lnTo>
                  <a:lnTo>
                    <a:pt x="1474" y="12"/>
                  </a:lnTo>
                  <a:lnTo>
                    <a:pt x="1473" y="10"/>
                  </a:lnTo>
                  <a:lnTo>
                    <a:pt x="1472" y="8"/>
                  </a:lnTo>
                  <a:lnTo>
                    <a:pt x="1472" y="6"/>
                  </a:lnTo>
                  <a:lnTo>
                    <a:pt x="1472" y="4"/>
                  </a:lnTo>
                  <a:lnTo>
                    <a:pt x="1473" y="2"/>
                  </a:lnTo>
                  <a:lnTo>
                    <a:pt x="1474" y="0"/>
                  </a:lnTo>
                  <a:lnTo>
                    <a:pt x="1475" y="0"/>
                  </a:lnTo>
                  <a:lnTo>
                    <a:pt x="1475" y="0"/>
                  </a:lnTo>
                  <a:close/>
                  <a:moveTo>
                    <a:pt x="1520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0" y="12"/>
                  </a:lnTo>
                  <a:lnTo>
                    <a:pt x="1519" y="12"/>
                  </a:lnTo>
                  <a:lnTo>
                    <a:pt x="1518" y="10"/>
                  </a:lnTo>
                  <a:lnTo>
                    <a:pt x="1517" y="8"/>
                  </a:lnTo>
                  <a:lnTo>
                    <a:pt x="1517" y="6"/>
                  </a:lnTo>
                  <a:lnTo>
                    <a:pt x="1517" y="4"/>
                  </a:lnTo>
                  <a:lnTo>
                    <a:pt x="1518" y="2"/>
                  </a:lnTo>
                  <a:lnTo>
                    <a:pt x="1519" y="0"/>
                  </a:lnTo>
                  <a:lnTo>
                    <a:pt x="1520" y="0"/>
                  </a:lnTo>
                  <a:lnTo>
                    <a:pt x="1520" y="0"/>
                  </a:lnTo>
                  <a:close/>
                  <a:moveTo>
                    <a:pt x="1565" y="0"/>
                  </a:moveTo>
                  <a:lnTo>
                    <a:pt x="1584" y="0"/>
                  </a:lnTo>
                  <a:lnTo>
                    <a:pt x="1585" y="0"/>
                  </a:lnTo>
                  <a:lnTo>
                    <a:pt x="1586" y="2"/>
                  </a:lnTo>
                  <a:lnTo>
                    <a:pt x="1587" y="4"/>
                  </a:lnTo>
                  <a:lnTo>
                    <a:pt x="1587" y="6"/>
                  </a:lnTo>
                  <a:lnTo>
                    <a:pt x="1587" y="8"/>
                  </a:lnTo>
                  <a:lnTo>
                    <a:pt x="1586" y="10"/>
                  </a:lnTo>
                  <a:lnTo>
                    <a:pt x="1585" y="12"/>
                  </a:lnTo>
                  <a:lnTo>
                    <a:pt x="1584" y="12"/>
                  </a:lnTo>
                  <a:lnTo>
                    <a:pt x="1565" y="12"/>
                  </a:lnTo>
                  <a:lnTo>
                    <a:pt x="1564" y="12"/>
                  </a:lnTo>
                  <a:lnTo>
                    <a:pt x="1563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3" y="2"/>
                  </a:lnTo>
                  <a:lnTo>
                    <a:pt x="1564" y="0"/>
                  </a:lnTo>
                  <a:lnTo>
                    <a:pt x="1565" y="0"/>
                  </a:lnTo>
                  <a:lnTo>
                    <a:pt x="1565" y="0"/>
                  </a:lnTo>
                  <a:close/>
                  <a:moveTo>
                    <a:pt x="1610" y="0"/>
                  </a:moveTo>
                  <a:lnTo>
                    <a:pt x="1628" y="0"/>
                  </a:lnTo>
                  <a:lnTo>
                    <a:pt x="1629" y="0"/>
                  </a:lnTo>
                  <a:lnTo>
                    <a:pt x="1631" y="2"/>
                  </a:lnTo>
                  <a:lnTo>
                    <a:pt x="1632" y="4"/>
                  </a:lnTo>
                  <a:lnTo>
                    <a:pt x="1632" y="6"/>
                  </a:lnTo>
                  <a:lnTo>
                    <a:pt x="1632" y="8"/>
                  </a:lnTo>
                  <a:lnTo>
                    <a:pt x="1631" y="10"/>
                  </a:lnTo>
                  <a:lnTo>
                    <a:pt x="1629" y="12"/>
                  </a:lnTo>
                  <a:lnTo>
                    <a:pt x="1628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4" y="0"/>
                  </a:moveTo>
                  <a:lnTo>
                    <a:pt x="1673" y="0"/>
                  </a:lnTo>
                  <a:lnTo>
                    <a:pt x="1674" y="0"/>
                  </a:lnTo>
                  <a:lnTo>
                    <a:pt x="1675" y="2"/>
                  </a:lnTo>
                  <a:lnTo>
                    <a:pt x="1676" y="4"/>
                  </a:lnTo>
                  <a:lnTo>
                    <a:pt x="1676" y="6"/>
                  </a:lnTo>
                  <a:lnTo>
                    <a:pt x="1676" y="8"/>
                  </a:lnTo>
                  <a:lnTo>
                    <a:pt x="1675" y="10"/>
                  </a:lnTo>
                  <a:lnTo>
                    <a:pt x="1674" y="12"/>
                  </a:lnTo>
                  <a:lnTo>
                    <a:pt x="1673" y="12"/>
                  </a:lnTo>
                  <a:lnTo>
                    <a:pt x="1654" y="12"/>
                  </a:lnTo>
                  <a:lnTo>
                    <a:pt x="1653" y="12"/>
                  </a:lnTo>
                  <a:lnTo>
                    <a:pt x="1652" y="10"/>
                  </a:lnTo>
                  <a:lnTo>
                    <a:pt x="1651" y="8"/>
                  </a:lnTo>
                  <a:lnTo>
                    <a:pt x="1651" y="6"/>
                  </a:lnTo>
                  <a:lnTo>
                    <a:pt x="1651" y="4"/>
                  </a:lnTo>
                  <a:lnTo>
                    <a:pt x="1652" y="2"/>
                  </a:lnTo>
                  <a:lnTo>
                    <a:pt x="1653" y="0"/>
                  </a:lnTo>
                  <a:lnTo>
                    <a:pt x="1654" y="0"/>
                  </a:lnTo>
                  <a:lnTo>
                    <a:pt x="1654" y="0"/>
                  </a:lnTo>
                  <a:close/>
                  <a:moveTo>
                    <a:pt x="1699" y="0"/>
                  </a:moveTo>
                  <a:lnTo>
                    <a:pt x="1718" y="0"/>
                  </a:lnTo>
                  <a:lnTo>
                    <a:pt x="1719" y="0"/>
                  </a:lnTo>
                  <a:lnTo>
                    <a:pt x="1720" y="2"/>
                  </a:lnTo>
                  <a:lnTo>
                    <a:pt x="1721" y="4"/>
                  </a:lnTo>
                  <a:lnTo>
                    <a:pt x="1721" y="6"/>
                  </a:lnTo>
                  <a:lnTo>
                    <a:pt x="1721" y="8"/>
                  </a:lnTo>
                  <a:lnTo>
                    <a:pt x="1720" y="10"/>
                  </a:lnTo>
                  <a:lnTo>
                    <a:pt x="1719" y="12"/>
                  </a:lnTo>
                  <a:lnTo>
                    <a:pt x="1718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3" y="0"/>
                  </a:lnTo>
                  <a:lnTo>
                    <a:pt x="1764" y="0"/>
                  </a:lnTo>
                  <a:lnTo>
                    <a:pt x="1765" y="2"/>
                  </a:lnTo>
                  <a:lnTo>
                    <a:pt x="1766" y="4"/>
                  </a:lnTo>
                  <a:lnTo>
                    <a:pt x="1766" y="6"/>
                  </a:lnTo>
                  <a:lnTo>
                    <a:pt x="1766" y="8"/>
                  </a:lnTo>
                  <a:lnTo>
                    <a:pt x="1765" y="10"/>
                  </a:lnTo>
                  <a:lnTo>
                    <a:pt x="1764" y="12"/>
                  </a:lnTo>
                  <a:lnTo>
                    <a:pt x="1763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7" y="0"/>
                  </a:lnTo>
                  <a:lnTo>
                    <a:pt x="1808" y="0"/>
                  </a:lnTo>
                  <a:lnTo>
                    <a:pt x="1810" y="2"/>
                  </a:lnTo>
                  <a:lnTo>
                    <a:pt x="1811" y="4"/>
                  </a:lnTo>
                  <a:lnTo>
                    <a:pt x="1811" y="6"/>
                  </a:lnTo>
                  <a:lnTo>
                    <a:pt x="1811" y="8"/>
                  </a:lnTo>
                  <a:lnTo>
                    <a:pt x="1810" y="10"/>
                  </a:lnTo>
                  <a:lnTo>
                    <a:pt x="1808" y="12"/>
                  </a:lnTo>
                  <a:lnTo>
                    <a:pt x="1807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5" y="8"/>
                  </a:lnTo>
                  <a:lnTo>
                    <a:pt x="1785" y="6"/>
                  </a:lnTo>
                  <a:lnTo>
                    <a:pt x="1785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2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4" y="2"/>
                  </a:lnTo>
                  <a:lnTo>
                    <a:pt x="1855" y="4"/>
                  </a:lnTo>
                  <a:lnTo>
                    <a:pt x="1855" y="6"/>
                  </a:lnTo>
                  <a:lnTo>
                    <a:pt x="1855" y="8"/>
                  </a:lnTo>
                  <a:lnTo>
                    <a:pt x="1854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2" y="12"/>
                  </a:lnTo>
                  <a:lnTo>
                    <a:pt x="1831" y="12"/>
                  </a:lnTo>
                  <a:lnTo>
                    <a:pt x="1830" y="10"/>
                  </a:lnTo>
                  <a:lnTo>
                    <a:pt x="1829" y="8"/>
                  </a:lnTo>
                  <a:lnTo>
                    <a:pt x="1829" y="6"/>
                  </a:lnTo>
                  <a:lnTo>
                    <a:pt x="1829" y="4"/>
                  </a:lnTo>
                  <a:lnTo>
                    <a:pt x="1830" y="2"/>
                  </a:lnTo>
                  <a:lnTo>
                    <a:pt x="1831" y="0"/>
                  </a:lnTo>
                  <a:lnTo>
                    <a:pt x="1832" y="0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7" y="12"/>
                  </a:lnTo>
                  <a:lnTo>
                    <a:pt x="1876" y="12"/>
                  </a:lnTo>
                  <a:lnTo>
                    <a:pt x="1875" y="10"/>
                  </a:lnTo>
                  <a:lnTo>
                    <a:pt x="1874" y="8"/>
                  </a:lnTo>
                  <a:lnTo>
                    <a:pt x="1874" y="6"/>
                  </a:lnTo>
                  <a:lnTo>
                    <a:pt x="1874" y="4"/>
                  </a:lnTo>
                  <a:lnTo>
                    <a:pt x="1875" y="2"/>
                  </a:lnTo>
                  <a:lnTo>
                    <a:pt x="1876" y="0"/>
                  </a:lnTo>
                  <a:lnTo>
                    <a:pt x="1877" y="0"/>
                  </a:lnTo>
                  <a:lnTo>
                    <a:pt x="1877" y="0"/>
                  </a:lnTo>
                  <a:close/>
                  <a:moveTo>
                    <a:pt x="1922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2" y="12"/>
                  </a:lnTo>
                  <a:lnTo>
                    <a:pt x="1921" y="12"/>
                  </a:lnTo>
                  <a:lnTo>
                    <a:pt x="1920" y="10"/>
                  </a:lnTo>
                  <a:lnTo>
                    <a:pt x="1919" y="8"/>
                  </a:lnTo>
                  <a:lnTo>
                    <a:pt x="1919" y="6"/>
                  </a:lnTo>
                  <a:lnTo>
                    <a:pt x="1919" y="4"/>
                  </a:lnTo>
                  <a:lnTo>
                    <a:pt x="1920" y="2"/>
                  </a:lnTo>
                  <a:lnTo>
                    <a:pt x="1921" y="0"/>
                  </a:lnTo>
                  <a:lnTo>
                    <a:pt x="1922" y="0"/>
                  </a:lnTo>
                  <a:lnTo>
                    <a:pt x="1922" y="0"/>
                  </a:lnTo>
                  <a:close/>
                  <a:moveTo>
                    <a:pt x="1967" y="0"/>
                  </a:moveTo>
                  <a:lnTo>
                    <a:pt x="1986" y="0"/>
                  </a:lnTo>
                  <a:lnTo>
                    <a:pt x="1987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7" y="12"/>
                  </a:lnTo>
                  <a:lnTo>
                    <a:pt x="1986" y="12"/>
                  </a:lnTo>
                  <a:lnTo>
                    <a:pt x="1967" y="12"/>
                  </a:lnTo>
                  <a:lnTo>
                    <a:pt x="1966" y="12"/>
                  </a:lnTo>
                  <a:lnTo>
                    <a:pt x="1965" y="10"/>
                  </a:lnTo>
                  <a:lnTo>
                    <a:pt x="1964" y="8"/>
                  </a:lnTo>
                  <a:lnTo>
                    <a:pt x="1964" y="6"/>
                  </a:lnTo>
                  <a:lnTo>
                    <a:pt x="1964" y="4"/>
                  </a:lnTo>
                  <a:lnTo>
                    <a:pt x="1965" y="2"/>
                  </a:lnTo>
                  <a:lnTo>
                    <a:pt x="1966" y="0"/>
                  </a:lnTo>
                  <a:lnTo>
                    <a:pt x="1967" y="0"/>
                  </a:lnTo>
                  <a:lnTo>
                    <a:pt x="1967" y="0"/>
                  </a:lnTo>
                  <a:close/>
                  <a:moveTo>
                    <a:pt x="2011" y="0"/>
                  </a:moveTo>
                  <a:lnTo>
                    <a:pt x="2030" y="0"/>
                  </a:lnTo>
                  <a:lnTo>
                    <a:pt x="2031" y="0"/>
                  </a:lnTo>
                  <a:lnTo>
                    <a:pt x="2032" y="2"/>
                  </a:lnTo>
                  <a:lnTo>
                    <a:pt x="2033" y="4"/>
                  </a:lnTo>
                  <a:lnTo>
                    <a:pt x="2033" y="6"/>
                  </a:lnTo>
                  <a:lnTo>
                    <a:pt x="2033" y="8"/>
                  </a:lnTo>
                  <a:lnTo>
                    <a:pt x="2032" y="10"/>
                  </a:lnTo>
                  <a:lnTo>
                    <a:pt x="2031" y="12"/>
                  </a:lnTo>
                  <a:lnTo>
                    <a:pt x="2030" y="12"/>
                  </a:lnTo>
                  <a:lnTo>
                    <a:pt x="2011" y="12"/>
                  </a:lnTo>
                  <a:lnTo>
                    <a:pt x="2010" y="12"/>
                  </a:lnTo>
                  <a:lnTo>
                    <a:pt x="2009" y="10"/>
                  </a:lnTo>
                  <a:lnTo>
                    <a:pt x="2008" y="8"/>
                  </a:lnTo>
                  <a:lnTo>
                    <a:pt x="2008" y="6"/>
                  </a:lnTo>
                  <a:lnTo>
                    <a:pt x="2008" y="4"/>
                  </a:lnTo>
                  <a:lnTo>
                    <a:pt x="2009" y="2"/>
                  </a:lnTo>
                  <a:lnTo>
                    <a:pt x="2010" y="0"/>
                  </a:lnTo>
                  <a:lnTo>
                    <a:pt x="2011" y="0"/>
                  </a:lnTo>
                  <a:lnTo>
                    <a:pt x="2011" y="0"/>
                  </a:lnTo>
                  <a:close/>
                  <a:moveTo>
                    <a:pt x="2056" y="0"/>
                  </a:moveTo>
                  <a:lnTo>
                    <a:pt x="2075" y="0"/>
                  </a:lnTo>
                  <a:lnTo>
                    <a:pt x="2076" y="0"/>
                  </a:lnTo>
                  <a:lnTo>
                    <a:pt x="2077" y="2"/>
                  </a:lnTo>
                  <a:lnTo>
                    <a:pt x="2078" y="4"/>
                  </a:lnTo>
                  <a:lnTo>
                    <a:pt x="2078" y="6"/>
                  </a:lnTo>
                  <a:lnTo>
                    <a:pt x="2078" y="8"/>
                  </a:lnTo>
                  <a:lnTo>
                    <a:pt x="2077" y="10"/>
                  </a:lnTo>
                  <a:lnTo>
                    <a:pt x="2076" y="12"/>
                  </a:lnTo>
                  <a:lnTo>
                    <a:pt x="2075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0" y="0"/>
                  </a:lnTo>
                  <a:lnTo>
                    <a:pt x="2121" y="0"/>
                  </a:lnTo>
                  <a:lnTo>
                    <a:pt x="2122" y="2"/>
                  </a:lnTo>
                  <a:lnTo>
                    <a:pt x="2123" y="4"/>
                  </a:lnTo>
                  <a:lnTo>
                    <a:pt x="2123" y="6"/>
                  </a:lnTo>
                  <a:lnTo>
                    <a:pt x="2123" y="8"/>
                  </a:lnTo>
                  <a:lnTo>
                    <a:pt x="2122" y="10"/>
                  </a:lnTo>
                  <a:lnTo>
                    <a:pt x="2121" y="12"/>
                  </a:lnTo>
                  <a:lnTo>
                    <a:pt x="2120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4" y="0"/>
                  </a:lnTo>
                  <a:lnTo>
                    <a:pt x="2165" y="0"/>
                  </a:lnTo>
                  <a:lnTo>
                    <a:pt x="2167" y="2"/>
                  </a:lnTo>
                  <a:lnTo>
                    <a:pt x="2168" y="4"/>
                  </a:lnTo>
                  <a:lnTo>
                    <a:pt x="2168" y="6"/>
                  </a:lnTo>
                  <a:lnTo>
                    <a:pt x="2168" y="8"/>
                  </a:lnTo>
                  <a:lnTo>
                    <a:pt x="2167" y="10"/>
                  </a:lnTo>
                  <a:lnTo>
                    <a:pt x="2165" y="12"/>
                  </a:lnTo>
                  <a:lnTo>
                    <a:pt x="2164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0" y="0"/>
                  </a:moveTo>
                  <a:lnTo>
                    <a:pt x="2209" y="0"/>
                  </a:lnTo>
                  <a:lnTo>
                    <a:pt x="2210" y="0"/>
                  </a:lnTo>
                  <a:lnTo>
                    <a:pt x="2211" y="2"/>
                  </a:lnTo>
                  <a:lnTo>
                    <a:pt x="2212" y="4"/>
                  </a:lnTo>
                  <a:lnTo>
                    <a:pt x="2212" y="6"/>
                  </a:lnTo>
                  <a:lnTo>
                    <a:pt x="2212" y="8"/>
                  </a:lnTo>
                  <a:lnTo>
                    <a:pt x="2211" y="10"/>
                  </a:lnTo>
                  <a:lnTo>
                    <a:pt x="2210" y="12"/>
                  </a:lnTo>
                  <a:lnTo>
                    <a:pt x="2209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2188" y="10"/>
                  </a:lnTo>
                  <a:lnTo>
                    <a:pt x="2187" y="8"/>
                  </a:lnTo>
                  <a:lnTo>
                    <a:pt x="2187" y="6"/>
                  </a:lnTo>
                  <a:lnTo>
                    <a:pt x="2187" y="4"/>
                  </a:lnTo>
                  <a:lnTo>
                    <a:pt x="2188" y="2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2" y="10"/>
                  </a:lnTo>
                  <a:lnTo>
                    <a:pt x="2231" y="8"/>
                  </a:lnTo>
                  <a:lnTo>
                    <a:pt x="2231" y="6"/>
                  </a:lnTo>
                  <a:lnTo>
                    <a:pt x="2231" y="4"/>
                  </a:lnTo>
                  <a:lnTo>
                    <a:pt x="2232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79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79" y="12"/>
                  </a:lnTo>
                  <a:lnTo>
                    <a:pt x="2278" y="12"/>
                  </a:lnTo>
                  <a:lnTo>
                    <a:pt x="2277" y="10"/>
                  </a:lnTo>
                  <a:lnTo>
                    <a:pt x="2276" y="8"/>
                  </a:lnTo>
                  <a:lnTo>
                    <a:pt x="2276" y="6"/>
                  </a:lnTo>
                  <a:lnTo>
                    <a:pt x="2276" y="4"/>
                  </a:lnTo>
                  <a:lnTo>
                    <a:pt x="2277" y="2"/>
                  </a:lnTo>
                  <a:lnTo>
                    <a:pt x="2278" y="0"/>
                  </a:lnTo>
                  <a:lnTo>
                    <a:pt x="2279" y="0"/>
                  </a:lnTo>
                  <a:lnTo>
                    <a:pt x="2279" y="0"/>
                  </a:lnTo>
                  <a:close/>
                  <a:moveTo>
                    <a:pt x="2324" y="0"/>
                  </a:moveTo>
                  <a:lnTo>
                    <a:pt x="2343" y="0"/>
                  </a:lnTo>
                  <a:lnTo>
                    <a:pt x="2344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4" y="12"/>
                  </a:lnTo>
                  <a:lnTo>
                    <a:pt x="2343" y="12"/>
                  </a:lnTo>
                  <a:lnTo>
                    <a:pt x="2324" y="12"/>
                  </a:lnTo>
                  <a:lnTo>
                    <a:pt x="2323" y="12"/>
                  </a:lnTo>
                  <a:lnTo>
                    <a:pt x="2322" y="10"/>
                  </a:lnTo>
                  <a:lnTo>
                    <a:pt x="2321" y="8"/>
                  </a:lnTo>
                  <a:lnTo>
                    <a:pt x="2321" y="6"/>
                  </a:lnTo>
                  <a:lnTo>
                    <a:pt x="2321" y="4"/>
                  </a:lnTo>
                  <a:lnTo>
                    <a:pt x="2322" y="2"/>
                  </a:lnTo>
                  <a:lnTo>
                    <a:pt x="2323" y="0"/>
                  </a:lnTo>
                  <a:lnTo>
                    <a:pt x="2324" y="0"/>
                  </a:lnTo>
                  <a:lnTo>
                    <a:pt x="2324" y="0"/>
                  </a:lnTo>
                  <a:close/>
                  <a:moveTo>
                    <a:pt x="2368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0" y="2"/>
                  </a:lnTo>
                  <a:lnTo>
                    <a:pt x="2391" y="4"/>
                  </a:lnTo>
                  <a:lnTo>
                    <a:pt x="2391" y="6"/>
                  </a:lnTo>
                  <a:lnTo>
                    <a:pt x="2391" y="8"/>
                  </a:lnTo>
                  <a:lnTo>
                    <a:pt x="2390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68" y="12"/>
                  </a:lnTo>
                  <a:lnTo>
                    <a:pt x="2367" y="12"/>
                  </a:lnTo>
                  <a:lnTo>
                    <a:pt x="2366" y="10"/>
                  </a:lnTo>
                  <a:lnTo>
                    <a:pt x="2365" y="8"/>
                  </a:lnTo>
                  <a:lnTo>
                    <a:pt x="2365" y="6"/>
                  </a:lnTo>
                  <a:lnTo>
                    <a:pt x="2365" y="4"/>
                  </a:lnTo>
                  <a:lnTo>
                    <a:pt x="2366" y="2"/>
                  </a:lnTo>
                  <a:lnTo>
                    <a:pt x="2367" y="0"/>
                  </a:lnTo>
                  <a:lnTo>
                    <a:pt x="2368" y="0"/>
                  </a:lnTo>
                  <a:lnTo>
                    <a:pt x="2368" y="0"/>
                  </a:lnTo>
                  <a:close/>
                  <a:moveTo>
                    <a:pt x="2413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3" y="12"/>
                  </a:lnTo>
                  <a:lnTo>
                    <a:pt x="2412" y="12"/>
                  </a:lnTo>
                  <a:lnTo>
                    <a:pt x="2411" y="10"/>
                  </a:lnTo>
                  <a:lnTo>
                    <a:pt x="2410" y="8"/>
                  </a:lnTo>
                  <a:lnTo>
                    <a:pt x="2410" y="6"/>
                  </a:lnTo>
                  <a:lnTo>
                    <a:pt x="2410" y="4"/>
                  </a:lnTo>
                  <a:lnTo>
                    <a:pt x="2411" y="2"/>
                  </a:lnTo>
                  <a:lnTo>
                    <a:pt x="2412" y="0"/>
                  </a:lnTo>
                  <a:lnTo>
                    <a:pt x="2413" y="0"/>
                  </a:lnTo>
                  <a:lnTo>
                    <a:pt x="2413" y="0"/>
                  </a:lnTo>
                  <a:close/>
                  <a:moveTo>
                    <a:pt x="2458" y="0"/>
                  </a:moveTo>
                  <a:lnTo>
                    <a:pt x="2477" y="0"/>
                  </a:lnTo>
                  <a:lnTo>
                    <a:pt x="2478" y="0"/>
                  </a:lnTo>
                  <a:lnTo>
                    <a:pt x="2479" y="2"/>
                  </a:lnTo>
                  <a:lnTo>
                    <a:pt x="2480" y="4"/>
                  </a:lnTo>
                  <a:lnTo>
                    <a:pt x="2480" y="6"/>
                  </a:lnTo>
                  <a:lnTo>
                    <a:pt x="2480" y="8"/>
                  </a:lnTo>
                  <a:lnTo>
                    <a:pt x="2479" y="10"/>
                  </a:lnTo>
                  <a:lnTo>
                    <a:pt x="2478" y="12"/>
                  </a:lnTo>
                  <a:lnTo>
                    <a:pt x="2477" y="12"/>
                  </a:lnTo>
                  <a:lnTo>
                    <a:pt x="2458" y="12"/>
                  </a:lnTo>
                  <a:lnTo>
                    <a:pt x="2457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7" y="0"/>
                  </a:lnTo>
                  <a:lnTo>
                    <a:pt x="2458" y="0"/>
                  </a:lnTo>
                  <a:lnTo>
                    <a:pt x="2458" y="0"/>
                  </a:lnTo>
                  <a:close/>
                  <a:moveTo>
                    <a:pt x="2503" y="0"/>
                  </a:moveTo>
                  <a:lnTo>
                    <a:pt x="2521" y="0"/>
                  </a:lnTo>
                  <a:lnTo>
                    <a:pt x="2522" y="0"/>
                  </a:lnTo>
                  <a:lnTo>
                    <a:pt x="2524" y="2"/>
                  </a:lnTo>
                  <a:lnTo>
                    <a:pt x="2525" y="4"/>
                  </a:lnTo>
                  <a:lnTo>
                    <a:pt x="2525" y="6"/>
                  </a:lnTo>
                  <a:lnTo>
                    <a:pt x="2525" y="8"/>
                  </a:lnTo>
                  <a:lnTo>
                    <a:pt x="2524" y="10"/>
                  </a:lnTo>
                  <a:lnTo>
                    <a:pt x="2522" y="12"/>
                  </a:lnTo>
                  <a:lnTo>
                    <a:pt x="2521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7" y="0"/>
                  </a:moveTo>
                  <a:lnTo>
                    <a:pt x="2566" y="0"/>
                  </a:lnTo>
                  <a:lnTo>
                    <a:pt x="2567" y="0"/>
                  </a:lnTo>
                  <a:lnTo>
                    <a:pt x="2568" y="2"/>
                  </a:lnTo>
                  <a:lnTo>
                    <a:pt x="2569" y="4"/>
                  </a:lnTo>
                  <a:lnTo>
                    <a:pt x="2569" y="6"/>
                  </a:lnTo>
                  <a:lnTo>
                    <a:pt x="2569" y="8"/>
                  </a:lnTo>
                  <a:lnTo>
                    <a:pt x="2568" y="10"/>
                  </a:lnTo>
                  <a:lnTo>
                    <a:pt x="2567" y="12"/>
                  </a:lnTo>
                  <a:lnTo>
                    <a:pt x="2566" y="12"/>
                  </a:lnTo>
                  <a:lnTo>
                    <a:pt x="2547" y="12"/>
                  </a:lnTo>
                  <a:lnTo>
                    <a:pt x="2546" y="12"/>
                  </a:lnTo>
                  <a:lnTo>
                    <a:pt x="2545" y="10"/>
                  </a:lnTo>
                  <a:lnTo>
                    <a:pt x="2544" y="8"/>
                  </a:lnTo>
                  <a:lnTo>
                    <a:pt x="2544" y="6"/>
                  </a:lnTo>
                  <a:lnTo>
                    <a:pt x="2544" y="4"/>
                  </a:lnTo>
                  <a:lnTo>
                    <a:pt x="2545" y="2"/>
                  </a:lnTo>
                  <a:lnTo>
                    <a:pt x="2546" y="0"/>
                  </a:lnTo>
                  <a:lnTo>
                    <a:pt x="2547" y="0"/>
                  </a:lnTo>
                  <a:lnTo>
                    <a:pt x="2547" y="0"/>
                  </a:lnTo>
                  <a:close/>
                  <a:moveTo>
                    <a:pt x="2592" y="0"/>
                  </a:moveTo>
                  <a:lnTo>
                    <a:pt x="2611" y="0"/>
                  </a:lnTo>
                  <a:lnTo>
                    <a:pt x="2612" y="0"/>
                  </a:lnTo>
                  <a:lnTo>
                    <a:pt x="2613" y="2"/>
                  </a:lnTo>
                  <a:lnTo>
                    <a:pt x="2614" y="4"/>
                  </a:lnTo>
                  <a:lnTo>
                    <a:pt x="2614" y="6"/>
                  </a:lnTo>
                  <a:lnTo>
                    <a:pt x="2614" y="8"/>
                  </a:lnTo>
                  <a:lnTo>
                    <a:pt x="2613" y="10"/>
                  </a:lnTo>
                  <a:lnTo>
                    <a:pt x="2612" y="12"/>
                  </a:lnTo>
                  <a:lnTo>
                    <a:pt x="2611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6" y="0"/>
                  </a:lnTo>
                  <a:lnTo>
                    <a:pt x="2657" y="0"/>
                  </a:lnTo>
                  <a:lnTo>
                    <a:pt x="2658" y="2"/>
                  </a:lnTo>
                  <a:lnTo>
                    <a:pt x="2659" y="4"/>
                  </a:lnTo>
                  <a:lnTo>
                    <a:pt x="2659" y="6"/>
                  </a:lnTo>
                  <a:lnTo>
                    <a:pt x="2659" y="8"/>
                  </a:lnTo>
                  <a:lnTo>
                    <a:pt x="2658" y="10"/>
                  </a:lnTo>
                  <a:lnTo>
                    <a:pt x="2657" y="12"/>
                  </a:lnTo>
                  <a:lnTo>
                    <a:pt x="2656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0" y="0"/>
                  </a:lnTo>
                  <a:lnTo>
                    <a:pt x="2701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1" y="12"/>
                  </a:lnTo>
                  <a:lnTo>
                    <a:pt x="2700" y="12"/>
                  </a:lnTo>
                  <a:lnTo>
                    <a:pt x="2682" y="12"/>
                  </a:lnTo>
                  <a:lnTo>
                    <a:pt x="2680" y="12"/>
                  </a:lnTo>
                  <a:lnTo>
                    <a:pt x="2679" y="10"/>
                  </a:lnTo>
                  <a:lnTo>
                    <a:pt x="2678" y="8"/>
                  </a:lnTo>
                  <a:lnTo>
                    <a:pt x="2678" y="6"/>
                  </a:lnTo>
                  <a:lnTo>
                    <a:pt x="2678" y="4"/>
                  </a:lnTo>
                  <a:lnTo>
                    <a:pt x="2679" y="2"/>
                  </a:lnTo>
                  <a:lnTo>
                    <a:pt x="2680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5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7" y="2"/>
                  </a:lnTo>
                  <a:lnTo>
                    <a:pt x="2748" y="4"/>
                  </a:lnTo>
                  <a:lnTo>
                    <a:pt x="2748" y="6"/>
                  </a:lnTo>
                  <a:lnTo>
                    <a:pt x="2748" y="8"/>
                  </a:lnTo>
                  <a:lnTo>
                    <a:pt x="2747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5" y="12"/>
                  </a:lnTo>
                  <a:lnTo>
                    <a:pt x="2724" y="12"/>
                  </a:lnTo>
                  <a:lnTo>
                    <a:pt x="2723" y="10"/>
                  </a:lnTo>
                  <a:lnTo>
                    <a:pt x="2722" y="8"/>
                  </a:lnTo>
                  <a:lnTo>
                    <a:pt x="2722" y="6"/>
                  </a:lnTo>
                  <a:lnTo>
                    <a:pt x="2722" y="4"/>
                  </a:lnTo>
                  <a:lnTo>
                    <a:pt x="2723" y="2"/>
                  </a:lnTo>
                  <a:lnTo>
                    <a:pt x="2724" y="0"/>
                  </a:lnTo>
                  <a:lnTo>
                    <a:pt x="2725" y="0"/>
                  </a:lnTo>
                  <a:lnTo>
                    <a:pt x="2725" y="0"/>
                  </a:lnTo>
                  <a:close/>
                  <a:moveTo>
                    <a:pt x="2770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0" y="12"/>
                  </a:lnTo>
                  <a:lnTo>
                    <a:pt x="2769" y="12"/>
                  </a:lnTo>
                  <a:lnTo>
                    <a:pt x="2768" y="10"/>
                  </a:lnTo>
                  <a:lnTo>
                    <a:pt x="2767" y="8"/>
                  </a:lnTo>
                  <a:lnTo>
                    <a:pt x="2767" y="6"/>
                  </a:lnTo>
                  <a:lnTo>
                    <a:pt x="2767" y="4"/>
                  </a:lnTo>
                  <a:lnTo>
                    <a:pt x="2768" y="2"/>
                  </a:lnTo>
                  <a:lnTo>
                    <a:pt x="2769" y="0"/>
                  </a:lnTo>
                  <a:lnTo>
                    <a:pt x="2770" y="0"/>
                  </a:lnTo>
                  <a:lnTo>
                    <a:pt x="2770" y="0"/>
                  </a:lnTo>
                  <a:close/>
                  <a:moveTo>
                    <a:pt x="2815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5" y="12"/>
                  </a:lnTo>
                  <a:lnTo>
                    <a:pt x="2814" y="12"/>
                  </a:lnTo>
                  <a:lnTo>
                    <a:pt x="2813" y="10"/>
                  </a:lnTo>
                  <a:lnTo>
                    <a:pt x="2812" y="8"/>
                  </a:lnTo>
                  <a:lnTo>
                    <a:pt x="2812" y="6"/>
                  </a:lnTo>
                  <a:lnTo>
                    <a:pt x="2812" y="4"/>
                  </a:lnTo>
                  <a:lnTo>
                    <a:pt x="2813" y="2"/>
                  </a:lnTo>
                  <a:lnTo>
                    <a:pt x="2814" y="0"/>
                  </a:lnTo>
                  <a:lnTo>
                    <a:pt x="2815" y="0"/>
                  </a:lnTo>
                  <a:lnTo>
                    <a:pt x="2815" y="0"/>
                  </a:lnTo>
                  <a:close/>
                  <a:moveTo>
                    <a:pt x="2860" y="0"/>
                  </a:moveTo>
                  <a:lnTo>
                    <a:pt x="2878" y="0"/>
                  </a:lnTo>
                  <a:lnTo>
                    <a:pt x="2880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0" y="12"/>
                  </a:lnTo>
                  <a:lnTo>
                    <a:pt x="2878" y="12"/>
                  </a:lnTo>
                  <a:lnTo>
                    <a:pt x="2860" y="12"/>
                  </a:lnTo>
                  <a:lnTo>
                    <a:pt x="2859" y="12"/>
                  </a:lnTo>
                  <a:lnTo>
                    <a:pt x="2858" y="10"/>
                  </a:lnTo>
                  <a:lnTo>
                    <a:pt x="2857" y="8"/>
                  </a:lnTo>
                  <a:lnTo>
                    <a:pt x="2857" y="6"/>
                  </a:lnTo>
                  <a:lnTo>
                    <a:pt x="2857" y="4"/>
                  </a:lnTo>
                  <a:lnTo>
                    <a:pt x="2858" y="2"/>
                  </a:lnTo>
                  <a:lnTo>
                    <a:pt x="2859" y="0"/>
                  </a:lnTo>
                  <a:lnTo>
                    <a:pt x="2860" y="0"/>
                  </a:lnTo>
                  <a:lnTo>
                    <a:pt x="2860" y="0"/>
                  </a:lnTo>
                  <a:close/>
                  <a:moveTo>
                    <a:pt x="2904" y="0"/>
                  </a:moveTo>
                  <a:lnTo>
                    <a:pt x="2923" y="0"/>
                  </a:lnTo>
                  <a:lnTo>
                    <a:pt x="2924" y="0"/>
                  </a:lnTo>
                  <a:lnTo>
                    <a:pt x="2925" y="2"/>
                  </a:lnTo>
                  <a:lnTo>
                    <a:pt x="2926" y="4"/>
                  </a:lnTo>
                  <a:lnTo>
                    <a:pt x="2926" y="6"/>
                  </a:lnTo>
                  <a:lnTo>
                    <a:pt x="2926" y="8"/>
                  </a:lnTo>
                  <a:lnTo>
                    <a:pt x="2925" y="10"/>
                  </a:lnTo>
                  <a:lnTo>
                    <a:pt x="2924" y="12"/>
                  </a:lnTo>
                  <a:lnTo>
                    <a:pt x="2923" y="12"/>
                  </a:lnTo>
                  <a:lnTo>
                    <a:pt x="2904" y="12"/>
                  </a:lnTo>
                  <a:lnTo>
                    <a:pt x="2903" y="12"/>
                  </a:lnTo>
                  <a:lnTo>
                    <a:pt x="2902" y="10"/>
                  </a:lnTo>
                  <a:lnTo>
                    <a:pt x="2901" y="8"/>
                  </a:lnTo>
                  <a:lnTo>
                    <a:pt x="2901" y="6"/>
                  </a:lnTo>
                  <a:lnTo>
                    <a:pt x="2901" y="4"/>
                  </a:lnTo>
                  <a:lnTo>
                    <a:pt x="2902" y="2"/>
                  </a:lnTo>
                  <a:lnTo>
                    <a:pt x="2903" y="0"/>
                  </a:lnTo>
                  <a:lnTo>
                    <a:pt x="2904" y="0"/>
                  </a:lnTo>
                  <a:lnTo>
                    <a:pt x="2904" y="0"/>
                  </a:lnTo>
                  <a:close/>
                  <a:moveTo>
                    <a:pt x="2949" y="0"/>
                  </a:moveTo>
                  <a:lnTo>
                    <a:pt x="2968" y="0"/>
                  </a:lnTo>
                  <a:lnTo>
                    <a:pt x="2969" y="0"/>
                  </a:lnTo>
                  <a:lnTo>
                    <a:pt x="2970" y="2"/>
                  </a:lnTo>
                  <a:lnTo>
                    <a:pt x="2971" y="4"/>
                  </a:lnTo>
                  <a:lnTo>
                    <a:pt x="2971" y="6"/>
                  </a:lnTo>
                  <a:lnTo>
                    <a:pt x="2971" y="8"/>
                  </a:lnTo>
                  <a:lnTo>
                    <a:pt x="2970" y="10"/>
                  </a:lnTo>
                  <a:lnTo>
                    <a:pt x="2969" y="12"/>
                  </a:lnTo>
                  <a:lnTo>
                    <a:pt x="2968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3" y="0"/>
                  </a:lnTo>
                  <a:lnTo>
                    <a:pt x="3014" y="0"/>
                  </a:lnTo>
                  <a:lnTo>
                    <a:pt x="3015" y="2"/>
                  </a:lnTo>
                  <a:lnTo>
                    <a:pt x="3016" y="4"/>
                  </a:lnTo>
                  <a:lnTo>
                    <a:pt x="3016" y="6"/>
                  </a:lnTo>
                  <a:lnTo>
                    <a:pt x="3016" y="8"/>
                  </a:lnTo>
                  <a:lnTo>
                    <a:pt x="3015" y="10"/>
                  </a:lnTo>
                  <a:lnTo>
                    <a:pt x="3014" y="12"/>
                  </a:lnTo>
                  <a:lnTo>
                    <a:pt x="3013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7" y="0"/>
                  </a:lnTo>
                  <a:lnTo>
                    <a:pt x="3058" y="0"/>
                  </a:lnTo>
                  <a:lnTo>
                    <a:pt x="3060" y="2"/>
                  </a:lnTo>
                  <a:lnTo>
                    <a:pt x="3061" y="4"/>
                  </a:lnTo>
                  <a:lnTo>
                    <a:pt x="3061" y="6"/>
                  </a:lnTo>
                  <a:lnTo>
                    <a:pt x="3061" y="8"/>
                  </a:lnTo>
                  <a:lnTo>
                    <a:pt x="3060" y="10"/>
                  </a:lnTo>
                  <a:lnTo>
                    <a:pt x="3058" y="12"/>
                  </a:lnTo>
                  <a:lnTo>
                    <a:pt x="3057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3" y="0"/>
                  </a:moveTo>
                  <a:lnTo>
                    <a:pt x="3102" y="0"/>
                  </a:lnTo>
                  <a:lnTo>
                    <a:pt x="3103" y="0"/>
                  </a:lnTo>
                  <a:lnTo>
                    <a:pt x="3104" y="2"/>
                  </a:lnTo>
                  <a:lnTo>
                    <a:pt x="3105" y="4"/>
                  </a:lnTo>
                  <a:lnTo>
                    <a:pt x="3105" y="6"/>
                  </a:lnTo>
                  <a:lnTo>
                    <a:pt x="3105" y="8"/>
                  </a:lnTo>
                  <a:lnTo>
                    <a:pt x="3104" y="10"/>
                  </a:lnTo>
                  <a:lnTo>
                    <a:pt x="3103" y="12"/>
                  </a:lnTo>
                  <a:lnTo>
                    <a:pt x="3102" y="12"/>
                  </a:lnTo>
                  <a:lnTo>
                    <a:pt x="3083" y="12"/>
                  </a:lnTo>
                  <a:lnTo>
                    <a:pt x="3082" y="12"/>
                  </a:lnTo>
                  <a:lnTo>
                    <a:pt x="3081" y="10"/>
                  </a:lnTo>
                  <a:lnTo>
                    <a:pt x="3080" y="8"/>
                  </a:lnTo>
                  <a:lnTo>
                    <a:pt x="3080" y="6"/>
                  </a:lnTo>
                  <a:lnTo>
                    <a:pt x="3080" y="4"/>
                  </a:lnTo>
                  <a:lnTo>
                    <a:pt x="3081" y="2"/>
                  </a:lnTo>
                  <a:lnTo>
                    <a:pt x="3082" y="0"/>
                  </a:lnTo>
                  <a:lnTo>
                    <a:pt x="3083" y="0"/>
                  </a:lnTo>
                  <a:lnTo>
                    <a:pt x="3083" y="0"/>
                  </a:lnTo>
                  <a:close/>
                  <a:moveTo>
                    <a:pt x="3127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7" y="12"/>
                  </a:lnTo>
                  <a:lnTo>
                    <a:pt x="3126" y="12"/>
                  </a:lnTo>
                  <a:lnTo>
                    <a:pt x="3125" y="10"/>
                  </a:lnTo>
                  <a:lnTo>
                    <a:pt x="3124" y="8"/>
                  </a:lnTo>
                  <a:lnTo>
                    <a:pt x="3124" y="6"/>
                  </a:lnTo>
                  <a:lnTo>
                    <a:pt x="3124" y="4"/>
                  </a:lnTo>
                  <a:lnTo>
                    <a:pt x="3125" y="2"/>
                  </a:lnTo>
                  <a:lnTo>
                    <a:pt x="3126" y="0"/>
                  </a:lnTo>
                  <a:lnTo>
                    <a:pt x="3127" y="0"/>
                  </a:lnTo>
                  <a:lnTo>
                    <a:pt x="3127" y="0"/>
                  </a:lnTo>
                  <a:close/>
                  <a:moveTo>
                    <a:pt x="3172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2" y="12"/>
                  </a:lnTo>
                  <a:lnTo>
                    <a:pt x="3171" y="12"/>
                  </a:lnTo>
                  <a:lnTo>
                    <a:pt x="3170" y="10"/>
                  </a:lnTo>
                  <a:lnTo>
                    <a:pt x="3169" y="8"/>
                  </a:lnTo>
                  <a:lnTo>
                    <a:pt x="3169" y="6"/>
                  </a:lnTo>
                  <a:lnTo>
                    <a:pt x="3169" y="4"/>
                  </a:lnTo>
                  <a:lnTo>
                    <a:pt x="3170" y="2"/>
                  </a:lnTo>
                  <a:lnTo>
                    <a:pt x="3171" y="0"/>
                  </a:lnTo>
                  <a:lnTo>
                    <a:pt x="3172" y="0"/>
                  </a:lnTo>
                  <a:lnTo>
                    <a:pt x="3172" y="0"/>
                  </a:lnTo>
                  <a:close/>
                  <a:moveTo>
                    <a:pt x="3217" y="0"/>
                  </a:moveTo>
                  <a:lnTo>
                    <a:pt x="3236" y="0"/>
                  </a:lnTo>
                  <a:lnTo>
                    <a:pt x="3237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7" y="12"/>
                  </a:lnTo>
                  <a:lnTo>
                    <a:pt x="3236" y="12"/>
                  </a:lnTo>
                  <a:lnTo>
                    <a:pt x="3217" y="12"/>
                  </a:lnTo>
                  <a:lnTo>
                    <a:pt x="3216" y="12"/>
                  </a:lnTo>
                  <a:lnTo>
                    <a:pt x="3215" y="10"/>
                  </a:lnTo>
                  <a:lnTo>
                    <a:pt x="3214" y="8"/>
                  </a:lnTo>
                  <a:lnTo>
                    <a:pt x="3214" y="6"/>
                  </a:lnTo>
                  <a:lnTo>
                    <a:pt x="3214" y="4"/>
                  </a:lnTo>
                  <a:lnTo>
                    <a:pt x="3215" y="2"/>
                  </a:lnTo>
                  <a:lnTo>
                    <a:pt x="3216" y="0"/>
                  </a:lnTo>
                  <a:lnTo>
                    <a:pt x="3217" y="0"/>
                  </a:lnTo>
                  <a:lnTo>
                    <a:pt x="3217" y="0"/>
                  </a:lnTo>
                  <a:close/>
                  <a:moveTo>
                    <a:pt x="3261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3" y="2"/>
                  </a:lnTo>
                  <a:lnTo>
                    <a:pt x="3284" y="4"/>
                  </a:lnTo>
                  <a:lnTo>
                    <a:pt x="3284" y="6"/>
                  </a:lnTo>
                  <a:lnTo>
                    <a:pt x="3284" y="8"/>
                  </a:lnTo>
                  <a:lnTo>
                    <a:pt x="3283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1" y="12"/>
                  </a:lnTo>
                  <a:lnTo>
                    <a:pt x="3260" y="12"/>
                  </a:lnTo>
                  <a:lnTo>
                    <a:pt x="3259" y="10"/>
                  </a:lnTo>
                  <a:lnTo>
                    <a:pt x="3258" y="8"/>
                  </a:lnTo>
                  <a:lnTo>
                    <a:pt x="3258" y="6"/>
                  </a:lnTo>
                  <a:lnTo>
                    <a:pt x="3258" y="4"/>
                  </a:lnTo>
                  <a:lnTo>
                    <a:pt x="3259" y="2"/>
                  </a:lnTo>
                  <a:lnTo>
                    <a:pt x="3260" y="0"/>
                  </a:lnTo>
                  <a:lnTo>
                    <a:pt x="3261" y="0"/>
                  </a:lnTo>
                  <a:lnTo>
                    <a:pt x="3261" y="0"/>
                  </a:lnTo>
                  <a:close/>
                  <a:moveTo>
                    <a:pt x="3306" y="0"/>
                  </a:moveTo>
                  <a:lnTo>
                    <a:pt x="3325" y="0"/>
                  </a:lnTo>
                  <a:lnTo>
                    <a:pt x="3326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6" y="12"/>
                  </a:lnTo>
                  <a:lnTo>
                    <a:pt x="3325" y="12"/>
                  </a:lnTo>
                  <a:lnTo>
                    <a:pt x="3306" y="12"/>
                  </a:lnTo>
                  <a:lnTo>
                    <a:pt x="3305" y="12"/>
                  </a:lnTo>
                  <a:lnTo>
                    <a:pt x="3304" y="10"/>
                  </a:lnTo>
                  <a:lnTo>
                    <a:pt x="3303" y="8"/>
                  </a:lnTo>
                  <a:lnTo>
                    <a:pt x="3303" y="6"/>
                  </a:lnTo>
                  <a:lnTo>
                    <a:pt x="3303" y="4"/>
                  </a:lnTo>
                  <a:lnTo>
                    <a:pt x="3304" y="2"/>
                  </a:lnTo>
                  <a:lnTo>
                    <a:pt x="3305" y="0"/>
                  </a:lnTo>
                  <a:lnTo>
                    <a:pt x="3306" y="0"/>
                  </a:lnTo>
                  <a:lnTo>
                    <a:pt x="3306" y="0"/>
                  </a:lnTo>
                  <a:close/>
                  <a:moveTo>
                    <a:pt x="3351" y="0"/>
                  </a:moveTo>
                  <a:lnTo>
                    <a:pt x="3370" y="0"/>
                  </a:lnTo>
                  <a:lnTo>
                    <a:pt x="3371" y="0"/>
                  </a:lnTo>
                  <a:lnTo>
                    <a:pt x="3372" y="2"/>
                  </a:lnTo>
                  <a:lnTo>
                    <a:pt x="3373" y="4"/>
                  </a:lnTo>
                  <a:lnTo>
                    <a:pt x="3373" y="6"/>
                  </a:lnTo>
                  <a:lnTo>
                    <a:pt x="3373" y="8"/>
                  </a:lnTo>
                  <a:lnTo>
                    <a:pt x="3372" y="10"/>
                  </a:lnTo>
                  <a:lnTo>
                    <a:pt x="3371" y="12"/>
                  </a:lnTo>
                  <a:lnTo>
                    <a:pt x="3370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4" y="0"/>
                  </a:lnTo>
                  <a:lnTo>
                    <a:pt x="3415" y="0"/>
                  </a:lnTo>
                  <a:lnTo>
                    <a:pt x="3417" y="2"/>
                  </a:lnTo>
                  <a:lnTo>
                    <a:pt x="3418" y="4"/>
                  </a:lnTo>
                  <a:lnTo>
                    <a:pt x="3418" y="6"/>
                  </a:lnTo>
                  <a:lnTo>
                    <a:pt x="3418" y="8"/>
                  </a:lnTo>
                  <a:lnTo>
                    <a:pt x="3417" y="10"/>
                  </a:lnTo>
                  <a:lnTo>
                    <a:pt x="3415" y="12"/>
                  </a:lnTo>
                  <a:lnTo>
                    <a:pt x="3414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0" y="0"/>
                  </a:moveTo>
                  <a:lnTo>
                    <a:pt x="3459" y="0"/>
                  </a:lnTo>
                  <a:lnTo>
                    <a:pt x="3460" y="0"/>
                  </a:lnTo>
                  <a:lnTo>
                    <a:pt x="3461" y="2"/>
                  </a:lnTo>
                  <a:lnTo>
                    <a:pt x="3462" y="4"/>
                  </a:lnTo>
                  <a:lnTo>
                    <a:pt x="3462" y="6"/>
                  </a:lnTo>
                  <a:lnTo>
                    <a:pt x="3462" y="8"/>
                  </a:lnTo>
                  <a:lnTo>
                    <a:pt x="3461" y="10"/>
                  </a:lnTo>
                  <a:lnTo>
                    <a:pt x="3460" y="12"/>
                  </a:lnTo>
                  <a:lnTo>
                    <a:pt x="3459" y="12"/>
                  </a:lnTo>
                  <a:lnTo>
                    <a:pt x="3440" y="12"/>
                  </a:lnTo>
                  <a:lnTo>
                    <a:pt x="3439" y="12"/>
                  </a:lnTo>
                  <a:lnTo>
                    <a:pt x="3438" y="10"/>
                  </a:lnTo>
                  <a:lnTo>
                    <a:pt x="3437" y="8"/>
                  </a:lnTo>
                  <a:lnTo>
                    <a:pt x="3437" y="6"/>
                  </a:lnTo>
                  <a:lnTo>
                    <a:pt x="3437" y="4"/>
                  </a:lnTo>
                  <a:lnTo>
                    <a:pt x="3438" y="2"/>
                  </a:lnTo>
                  <a:lnTo>
                    <a:pt x="3439" y="0"/>
                  </a:lnTo>
                  <a:lnTo>
                    <a:pt x="3440" y="0"/>
                  </a:lnTo>
                  <a:lnTo>
                    <a:pt x="3440" y="0"/>
                  </a:lnTo>
                  <a:close/>
                  <a:moveTo>
                    <a:pt x="3485" y="0"/>
                  </a:moveTo>
                  <a:lnTo>
                    <a:pt x="3504" y="0"/>
                  </a:lnTo>
                  <a:lnTo>
                    <a:pt x="3505" y="0"/>
                  </a:lnTo>
                  <a:lnTo>
                    <a:pt x="3506" y="2"/>
                  </a:lnTo>
                  <a:lnTo>
                    <a:pt x="3507" y="4"/>
                  </a:lnTo>
                  <a:lnTo>
                    <a:pt x="3507" y="6"/>
                  </a:lnTo>
                  <a:lnTo>
                    <a:pt x="3507" y="8"/>
                  </a:lnTo>
                  <a:lnTo>
                    <a:pt x="3506" y="10"/>
                  </a:lnTo>
                  <a:lnTo>
                    <a:pt x="3505" y="12"/>
                  </a:lnTo>
                  <a:lnTo>
                    <a:pt x="3504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0" y="0"/>
                  </a:lnTo>
                  <a:lnTo>
                    <a:pt x="3551" y="2"/>
                  </a:lnTo>
                  <a:lnTo>
                    <a:pt x="3552" y="4"/>
                  </a:lnTo>
                  <a:lnTo>
                    <a:pt x="3552" y="6"/>
                  </a:lnTo>
                  <a:lnTo>
                    <a:pt x="3552" y="8"/>
                  </a:lnTo>
                  <a:lnTo>
                    <a:pt x="3551" y="10"/>
                  </a:lnTo>
                  <a:lnTo>
                    <a:pt x="3550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4" y="0"/>
                  </a:moveTo>
                  <a:lnTo>
                    <a:pt x="3593" y="0"/>
                  </a:lnTo>
                  <a:lnTo>
                    <a:pt x="3594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4" y="12"/>
                  </a:lnTo>
                  <a:lnTo>
                    <a:pt x="3593" y="12"/>
                  </a:lnTo>
                  <a:lnTo>
                    <a:pt x="3574" y="12"/>
                  </a:lnTo>
                  <a:lnTo>
                    <a:pt x="3573" y="12"/>
                  </a:lnTo>
                  <a:lnTo>
                    <a:pt x="3572" y="10"/>
                  </a:lnTo>
                  <a:lnTo>
                    <a:pt x="3571" y="8"/>
                  </a:lnTo>
                  <a:lnTo>
                    <a:pt x="3571" y="6"/>
                  </a:lnTo>
                  <a:lnTo>
                    <a:pt x="3571" y="4"/>
                  </a:lnTo>
                  <a:lnTo>
                    <a:pt x="3572" y="2"/>
                  </a:lnTo>
                  <a:lnTo>
                    <a:pt x="3573" y="0"/>
                  </a:lnTo>
                  <a:lnTo>
                    <a:pt x="3574" y="0"/>
                  </a:lnTo>
                  <a:lnTo>
                    <a:pt x="3574" y="0"/>
                  </a:lnTo>
                  <a:close/>
                  <a:moveTo>
                    <a:pt x="3618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0" y="2"/>
                  </a:lnTo>
                  <a:lnTo>
                    <a:pt x="3641" y="4"/>
                  </a:lnTo>
                  <a:lnTo>
                    <a:pt x="3641" y="6"/>
                  </a:lnTo>
                  <a:lnTo>
                    <a:pt x="3641" y="8"/>
                  </a:lnTo>
                  <a:lnTo>
                    <a:pt x="3640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18" y="12"/>
                  </a:lnTo>
                  <a:lnTo>
                    <a:pt x="3617" y="12"/>
                  </a:lnTo>
                  <a:lnTo>
                    <a:pt x="3616" y="10"/>
                  </a:lnTo>
                  <a:lnTo>
                    <a:pt x="3615" y="8"/>
                  </a:lnTo>
                  <a:lnTo>
                    <a:pt x="3615" y="6"/>
                  </a:lnTo>
                  <a:lnTo>
                    <a:pt x="3615" y="4"/>
                  </a:lnTo>
                  <a:lnTo>
                    <a:pt x="3616" y="2"/>
                  </a:lnTo>
                  <a:lnTo>
                    <a:pt x="3617" y="0"/>
                  </a:lnTo>
                  <a:lnTo>
                    <a:pt x="3618" y="0"/>
                  </a:lnTo>
                  <a:lnTo>
                    <a:pt x="3618" y="0"/>
                  </a:lnTo>
                  <a:close/>
                  <a:moveTo>
                    <a:pt x="3663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3" y="12"/>
                  </a:lnTo>
                  <a:lnTo>
                    <a:pt x="3662" y="12"/>
                  </a:lnTo>
                  <a:lnTo>
                    <a:pt x="3661" y="10"/>
                  </a:lnTo>
                  <a:lnTo>
                    <a:pt x="3660" y="8"/>
                  </a:lnTo>
                  <a:lnTo>
                    <a:pt x="3660" y="6"/>
                  </a:lnTo>
                  <a:lnTo>
                    <a:pt x="3660" y="4"/>
                  </a:lnTo>
                  <a:lnTo>
                    <a:pt x="3661" y="2"/>
                  </a:lnTo>
                  <a:lnTo>
                    <a:pt x="3662" y="0"/>
                  </a:lnTo>
                  <a:lnTo>
                    <a:pt x="3663" y="0"/>
                  </a:lnTo>
                  <a:lnTo>
                    <a:pt x="3663" y="0"/>
                  </a:lnTo>
                  <a:close/>
                  <a:moveTo>
                    <a:pt x="3708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8" y="12"/>
                  </a:lnTo>
                  <a:lnTo>
                    <a:pt x="3707" y="12"/>
                  </a:lnTo>
                  <a:lnTo>
                    <a:pt x="3706" y="10"/>
                  </a:lnTo>
                  <a:lnTo>
                    <a:pt x="3705" y="8"/>
                  </a:lnTo>
                  <a:lnTo>
                    <a:pt x="3705" y="6"/>
                  </a:lnTo>
                  <a:lnTo>
                    <a:pt x="3705" y="4"/>
                  </a:lnTo>
                  <a:lnTo>
                    <a:pt x="3706" y="2"/>
                  </a:lnTo>
                  <a:lnTo>
                    <a:pt x="3707" y="0"/>
                  </a:lnTo>
                  <a:lnTo>
                    <a:pt x="3708" y="0"/>
                  </a:lnTo>
                  <a:lnTo>
                    <a:pt x="3708" y="0"/>
                  </a:lnTo>
                  <a:close/>
                  <a:moveTo>
                    <a:pt x="3753" y="0"/>
                  </a:moveTo>
                  <a:lnTo>
                    <a:pt x="3771" y="0"/>
                  </a:lnTo>
                  <a:lnTo>
                    <a:pt x="3772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2" y="12"/>
                  </a:lnTo>
                  <a:lnTo>
                    <a:pt x="3771" y="12"/>
                  </a:lnTo>
                  <a:lnTo>
                    <a:pt x="3753" y="12"/>
                  </a:lnTo>
                  <a:lnTo>
                    <a:pt x="3752" y="12"/>
                  </a:lnTo>
                  <a:lnTo>
                    <a:pt x="3751" y="10"/>
                  </a:lnTo>
                  <a:lnTo>
                    <a:pt x="3750" y="8"/>
                  </a:lnTo>
                  <a:lnTo>
                    <a:pt x="3750" y="6"/>
                  </a:lnTo>
                  <a:lnTo>
                    <a:pt x="3750" y="4"/>
                  </a:lnTo>
                  <a:lnTo>
                    <a:pt x="3751" y="2"/>
                  </a:lnTo>
                  <a:lnTo>
                    <a:pt x="3752" y="0"/>
                  </a:lnTo>
                  <a:lnTo>
                    <a:pt x="3753" y="0"/>
                  </a:lnTo>
                  <a:lnTo>
                    <a:pt x="3753" y="0"/>
                  </a:lnTo>
                  <a:close/>
                  <a:moveTo>
                    <a:pt x="3797" y="0"/>
                  </a:moveTo>
                  <a:lnTo>
                    <a:pt x="3816" y="0"/>
                  </a:lnTo>
                  <a:lnTo>
                    <a:pt x="3817" y="0"/>
                  </a:lnTo>
                  <a:lnTo>
                    <a:pt x="3818" y="2"/>
                  </a:lnTo>
                  <a:lnTo>
                    <a:pt x="3819" y="4"/>
                  </a:lnTo>
                  <a:lnTo>
                    <a:pt x="3819" y="6"/>
                  </a:lnTo>
                  <a:lnTo>
                    <a:pt x="3819" y="8"/>
                  </a:lnTo>
                  <a:lnTo>
                    <a:pt x="3818" y="10"/>
                  </a:lnTo>
                  <a:lnTo>
                    <a:pt x="3817" y="12"/>
                  </a:lnTo>
                  <a:lnTo>
                    <a:pt x="3816" y="12"/>
                  </a:lnTo>
                  <a:lnTo>
                    <a:pt x="3797" y="12"/>
                  </a:lnTo>
                  <a:lnTo>
                    <a:pt x="3796" y="12"/>
                  </a:lnTo>
                  <a:lnTo>
                    <a:pt x="3795" y="10"/>
                  </a:lnTo>
                  <a:lnTo>
                    <a:pt x="3794" y="8"/>
                  </a:lnTo>
                  <a:lnTo>
                    <a:pt x="3794" y="6"/>
                  </a:lnTo>
                  <a:lnTo>
                    <a:pt x="3794" y="4"/>
                  </a:lnTo>
                  <a:lnTo>
                    <a:pt x="3795" y="2"/>
                  </a:lnTo>
                  <a:lnTo>
                    <a:pt x="3796" y="0"/>
                  </a:lnTo>
                  <a:lnTo>
                    <a:pt x="3797" y="0"/>
                  </a:lnTo>
                  <a:lnTo>
                    <a:pt x="3797" y="0"/>
                  </a:lnTo>
                  <a:close/>
                  <a:moveTo>
                    <a:pt x="3842" y="0"/>
                  </a:moveTo>
                  <a:lnTo>
                    <a:pt x="3861" y="0"/>
                  </a:lnTo>
                  <a:lnTo>
                    <a:pt x="3862" y="0"/>
                  </a:lnTo>
                  <a:lnTo>
                    <a:pt x="3863" y="2"/>
                  </a:lnTo>
                  <a:lnTo>
                    <a:pt x="3864" y="4"/>
                  </a:lnTo>
                  <a:lnTo>
                    <a:pt x="3864" y="6"/>
                  </a:lnTo>
                  <a:lnTo>
                    <a:pt x="3864" y="8"/>
                  </a:lnTo>
                  <a:lnTo>
                    <a:pt x="3863" y="10"/>
                  </a:lnTo>
                  <a:lnTo>
                    <a:pt x="3862" y="12"/>
                  </a:lnTo>
                  <a:lnTo>
                    <a:pt x="3861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6" y="0"/>
                  </a:lnTo>
                  <a:lnTo>
                    <a:pt x="3907" y="0"/>
                  </a:lnTo>
                  <a:lnTo>
                    <a:pt x="3908" y="2"/>
                  </a:lnTo>
                  <a:lnTo>
                    <a:pt x="3909" y="4"/>
                  </a:lnTo>
                  <a:lnTo>
                    <a:pt x="3909" y="6"/>
                  </a:lnTo>
                  <a:lnTo>
                    <a:pt x="3909" y="8"/>
                  </a:lnTo>
                  <a:lnTo>
                    <a:pt x="3908" y="10"/>
                  </a:lnTo>
                  <a:lnTo>
                    <a:pt x="3907" y="12"/>
                  </a:lnTo>
                  <a:lnTo>
                    <a:pt x="3906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0" y="0"/>
                  </a:lnTo>
                  <a:lnTo>
                    <a:pt x="3951" y="0"/>
                  </a:lnTo>
                  <a:lnTo>
                    <a:pt x="3953" y="2"/>
                  </a:lnTo>
                  <a:lnTo>
                    <a:pt x="3954" y="4"/>
                  </a:lnTo>
                  <a:lnTo>
                    <a:pt x="3954" y="6"/>
                  </a:lnTo>
                  <a:lnTo>
                    <a:pt x="3954" y="8"/>
                  </a:lnTo>
                  <a:lnTo>
                    <a:pt x="3953" y="10"/>
                  </a:lnTo>
                  <a:lnTo>
                    <a:pt x="3951" y="12"/>
                  </a:lnTo>
                  <a:lnTo>
                    <a:pt x="3950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6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7" y="2"/>
                  </a:lnTo>
                  <a:lnTo>
                    <a:pt x="3998" y="4"/>
                  </a:lnTo>
                  <a:lnTo>
                    <a:pt x="3998" y="6"/>
                  </a:lnTo>
                  <a:lnTo>
                    <a:pt x="3998" y="8"/>
                  </a:lnTo>
                  <a:lnTo>
                    <a:pt x="3997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6" y="12"/>
                  </a:lnTo>
                  <a:lnTo>
                    <a:pt x="3975" y="12"/>
                  </a:lnTo>
                  <a:lnTo>
                    <a:pt x="3974" y="10"/>
                  </a:lnTo>
                  <a:lnTo>
                    <a:pt x="3973" y="8"/>
                  </a:lnTo>
                  <a:lnTo>
                    <a:pt x="3973" y="6"/>
                  </a:lnTo>
                  <a:lnTo>
                    <a:pt x="3973" y="4"/>
                  </a:lnTo>
                  <a:lnTo>
                    <a:pt x="3974" y="2"/>
                  </a:lnTo>
                  <a:lnTo>
                    <a:pt x="3975" y="0"/>
                  </a:lnTo>
                  <a:lnTo>
                    <a:pt x="3976" y="0"/>
                  </a:lnTo>
                  <a:lnTo>
                    <a:pt x="3976" y="0"/>
                  </a:lnTo>
                  <a:close/>
                  <a:moveTo>
                    <a:pt x="4020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0" y="12"/>
                  </a:lnTo>
                  <a:lnTo>
                    <a:pt x="4019" y="12"/>
                  </a:lnTo>
                  <a:lnTo>
                    <a:pt x="4018" y="10"/>
                  </a:lnTo>
                  <a:lnTo>
                    <a:pt x="4017" y="8"/>
                  </a:lnTo>
                  <a:lnTo>
                    <a:pt x="4017" y="6"/>
                  </a:lnTo>
                  <a:lnTo>
                    <a:pt x="4017" y="4"/>
                  </a:lnTo>
                  <a:lnTo>
                    <a:pt x="4018" y="2"/>
                  </a:lnTo>
                  <a:lnTo>
                    <a:pt x="4019" y="0"/>
                  </a:lnTo>
                  <a:lnTo>
                    <a:pt x="4020" y="0"/>
                  </a:lnTo>
                  <a:lnTo>
                    <a:pt x="4020" y="0"/>
                  </a:lnTo>
                  <a:close/>
                  <a:moveTo>
                    <a:pt x="4065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5" y="12"/>
                  </a:lnTo>
                  <a:lnTo>
                    <a:pt x="4064" y="12"/>
                  </a:lnTo>
                  <a:lnTo>
                    <a:pt x="4063" y="10"/>
                  </a:lnTo>
                  <a:lnTo>
                    <a:pt x="4062" y="8"/>
                  </a:lnTo>
                  <a:lnTo>
                    <a:pt x="4062" y="6"/>
                  </a:lnTo>
                  <a:lnTo>
                    <a:pt x="4062" y="4"/>
                  </a:lnTo>
                  <a:lnTo>
                    <a:pt x="4063" y="2"/>
                  </a:lnTo>
                  <a:lnTo>
                    <a:pt x="4064" y="0"/>
                  </a:lnTo>
                  <a:lnTo>
                    <a:pt x="4065" y="0"/>
                  </a:lnTo>
                  <a:lnTo>
                    <a:pt x="4065" y="0"/>
                  </a:lnTo>
                  <a:close/>
                  <a:moveTo>
                    <a:pt x="4110" y="0"/>
                  </a:moveTo>
                  <a:lnTo>
                    <a:pt x="4129" y="0"/>
                  </a:lnTo>
                  <a:lnTo>
                    <a:pt x="4130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0" y="12"/>
                  </a:lnTo>
                  <a:lnTo>
                    <a:pt x="4129" y="12"/>
                  </a:lnTo>
                  <a:lnTo>
                    <a:pt x="4110" y="12"/>
                  </a:lnTo>
                  <a:lnTo>
                    <a:pt x="4109" y="12"/>
                  </a:lnTo>
                  <a:lnTo>
                    <a:pt x="4108" y="10"/>
                  </a:lnTo>
                  <a:lnTo>
                    <a:pt x="4107" y="8"/>
                  </a:lnTo>
                  <a:lnTo>
                    <a:pt x="4107" y="6"/>
                  </a:lnTo>
                  <a:lnTo>
                    <a:pt x="4107" y="4"/>
                  </a:lnTo>
                  <a:lnTo>
                    <a:pt x="4108" y="2"/>
                  </a:lnTo>
                  <a:lnTo>
                    <a:pt x="4109" y="0"/>
                  </a:lnTo>
                  <a:lnTo>
                    <a:pt x="4110" y="0"/>
                  </a:lnTo>
                  <a:lnTo>
                    <a:pt x="4110" y="0"/>
                  </a:lnTo>
                  <a:close/>
                  <a:moveTo>
                    <a:pt x="4154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6" y="2"/>
                  </a:lnTo>
                  <a:lnTo>
                    <a:pt x="4177" y="4"/>
                  </a:lnTo>
                  <a:lnTo>
                    <a:pt x="4177" y="6"/>
                  </a:lnTo>
                  <a:lnTo>
                    <a:pt x="4177" y="8"/>
                  </a:lnTo>
                  <a:lnTo>
                    <a:pt x="4176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4" y="12"/>
                  </a:lnTo>
                  <a:lnTo>
                    <a:pt x="4153" y="12"/>
                  </a:lnTo>
                  <a:lnTo>
                    <a:pt x="4152" y="10"/>
                  </a:lnTo>
                  <a:lnTo>
                    <a:pt x="4151" y="8"/>
                  </a:lnTo>
                  <a:lnTo>
                    <a:pt x="4151" y="6"/>
                  </a:lnTo>
                  <a:lnTo>
                    <a:pt x="4151" y="4"/>
                  </a:lnTo>
                  <a:lnTo>
                    <a:pt x="4152" y="2"/>
                  </a:lnTo>
                  <a:lnTo>
                    <a:pt x="4153" y="0"/>
                  </a:lnTo>
                  <a:lnTo>
                    <a:pt x="4154" y="0"/>
                  </a:lnTo>
                  <a:lnTo>
                    <a:pt x="4154" y="0"/>
                  </a:lnTo>
                  <a:close/>
                  <a:moveTo>
                    <a:pt x="4199" y="0"/>
                  </a:moveTo>
                  <a:lnTo>
                    <a:pt x="4218" y="0"/>
                  </a:lnTo>
                  <a:lnTo>
                    <a:pt x="4219" y="0"/>
                  </a:lnTo>
                  <a:lnTo>
                    <a:pt x="4220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0" y="10"/>
                  </a:lnTo>
                  <a:lnTo>
                    <a:pt x="4219" y="12"/>
                  </a:lnTo>
                  <a:lnTo>
                    <a:pt x="4218" y="12"/>
                  </a:lnTo>
                  <a:lnTo>
                    <a:pt x="4199" y="12"/>
                  </a:lnTo>
                  <a:lnTo>
                    <a:pt x="4198" y="12"/>
                  </a:lnTo>
                  <a:lnTo>
                    <a:pt x="4197" y="10"/>
                  </a:lnTo>
                  <a:lnTo>
                    <a:pt x="4196" y="8"/>
                  </a:lnTo>
                  <a:lnTo>
                    <a:pt x="4196" y="6"/>
                  </a:lnTo>
                  <a:lnTo>
                    <a:pt x="4196" y="4"/>
                  </a:lnTo>
                  <a:lnTo>
                    <a:pt x="4197" y="2"/>
                  </a:lnTo>
                  <a:lnTo>
                    <a:pt x="4198" y="0"/>
                  </a:lnTo>
                  <a:lnTo>
                    <a:pt x="4199" y="0"/>
                  </a:lnTo>
                  <a:lnTo>
                    <a:pt x="4199" y="0"/>
                  </a:lnTo>
                  <a:close/>
                  <a:moveTo>
                    <a:pt x="4244" y="0"/>
                  </a:moveTo>
                  <a:lnTo>
                    <a:pt x="4263" y="0"/>
                  </a:lnTo>
                  <a:lnTo>
                    <a:pt x="4264" y="0"/>
                  </a:lnTo>
                  <a:lnTo>
                    <a:pt x="4265" y="2"/>
                  </a:lnTo>
                  <a:lnTo>
                    <a:pt x="4266" y="4"/>
                  </a:lnTo>
                  <a:lnTo>
                    <a:pt x="4266" y="6"/>
                  </a:lnTo>
                  <a:lnTo>
                    <a:pt x="4266" y="8"/>
                  </a:lnTo>
                  <a:lnTo>
                    <a:pt x="4265" y="10"/>
                  </a:lnTo>
                  <a:lnTo>
                    <a:pt x="4264" y="12"/>
                  </a:lnTo>
                  <a:lnTo>
                    <a:pt x="4263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7" y="0"/>
                  </a:lnTo>
                  <a:lnTo>
                    <a:pt x="4308" y="0"/>
                  </a:lnTo>
                  <a:lnTo>
                    <a:pt x="4310" y="2"/>
                  </a:lnTo>
                  <a:lnTo>
                    <a:pt x="4311" y="4"/>
                  </a:lnTo>
                  <a:lnTo>
                    <a:pt x="4311" y="6"/>
                  </a:lnTo>
                  <a:lnTo>
                    <a:pt x="4311" y="8"/>
                  </a:lnTo>
                  <a:lnTo>
                    <a:pt x="4310" y="10"/>
                  </a:lnTo>
                  <a:lnTo>
                    <a:pt x="4308" y="12"/>
                  </a:lnTo>
                  <a:lnTo>
                    <a:pt x="4307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3" y="0"/>
                  </a:moveTo>
                  <a:lnTo>
                    <a:pt x="4352" y="0"/>
                  </a:lnTo>
                  <a:lnTo>
                    <a:pt x="4353" y="0"/>
                  </a:lnTo>
                  <a:lnTo>
                    <a:pt x="4354" y="2"/>
                  </a:lnTo>
                  <a:lnTo>
                    <a:pt x="4355" y="4"/>
                  </a:lnTo>
                  <a:lnTo>
                    <a:pt x="4355" y="6"/>
                  </a:lnTo>
                  <a:lnTo>
                    <a:pt x="4355" y="8"/>
                  </a:lnTo>
                  <a:lnTo>
                    <a:pt x="4354" y="10"/>
                  </a:lnTo>
                  <a:lnTo>
                    <a:pt x="4353" y="12"/>
                  </a:lnTo>
                  <a:lnTo>
                    <a:pt x="4352" y="12"/>
                  </a:lnTo>
                  <a:lnTo>
                    <a:pt x="4333" y="12"/>
                  </a:lnTo>
                  <a:lnTo>
                    <a:pt x="4332" y="12"/>
                  </a:lnTo>
                  <a:lnTo>
                    <a:pt x="4331" y="10"/>
                  </a:lnTo>
                  <a:lnTo>
                    <a:pt x="4330" y="8"/>
                  </a:lnTo>
                  <a:lnTo>
                    <a:pt x="4330" y="6"/>
                  </a:lnTo>
                  <a:lnTo>
                    <a:pt x="4330" y="4"/>
                  </a:lnTo>
                  <a:lnTo>
                    <a:pt x="4331" y="2"/>
                  </a:lnTo>
                  <a:lnTo>
                    <a:pt x="4332" y="0"/>
                  </a:lnTo>
                  <a:lnTo>
                    <a:pt x="4333" y="0"/>
                  </a:lnTo>
                  <a:lnTo>
                    <a:pt x="4333" y="0"/>
                  </a:lnTo>
                  <a:close/>
                  <a:moveTo>
                    <a:pt x="4378" y="0"/>
                  </a:moveTo>
                  <a:lnTo>
                    <a:pt x="4397" y="0"/>
                  </a:lnTo>
                  <a:lnTo>
                    <a:pt x="4398" y="0"/>
                  </a:lnTo>
                  <a:lnTo>
                    <a:pt x="4399" y="2"/>
                  </a:lnTo>
                  <a:lnTo>
                    <a:pt x="4400" y="4"/>
                  </a:lnTo>
                  <a:lnTo>
                    <a:pt x="4400" y="6"/>
                  </a:lnTo>
                  <a:lnTo>
                    <a:pt x="4400" y="8"/>
                  </a:lnTo>
                  <a:lnTo>
                    <a:pt x="4399" y="10"/>
                  </a:lnTo>
                  <a:lnTo>
                    <a:pt x="4398" y="12"/>
                  </a:lnTo>
                  <a:lnTo>
                    <a:pt x="4397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5" y="4"/>
                  </a:lnTo>
                  <a:lnTo>
                    <a:pt x="4445" y="6"/>
                  </a:lnTo>
                  <a:lnTo>
                    <a:pt x="4445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19" y="8"/>
                  </a:lnTo>
                  <a:lnTo>
                    <a:pt x="4419" y="6"/>
                  </a:lnTo>
                  <a:lnTo>
                    <a:pt x="4419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7" y="0"/>
                  </a:moveTo>
                  <a:lnTo>
                    <a:pt x="4486" y="0"/>
                  </a:lnTo>
                  <a:lnTo>
                    <a:pt x="4487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7" y="12"/>
                  </a:lnTo>
                  <a:lnTo>
                    <a:pt x="4486" y="12"/>
                  </a:lnTo>
                  <a:lnTo>
                    <a:pt x="4467" y="12"/>
                  </a:lnTo>
                  <a:lnTo>
                    <a:pt x="4466" y="12"/>
                  </a:lnTo>
                  <a:lnTo>
                    <a:pt x="4465" y="10"/>
                  </a:lnTo>
                  <a:lnTo>
                    <a:pt x="4464" y="8"/>
                  </a:lnTo>
                  <a:lnTo>
                    <a:pt x="4464" y="6"/>
                  </a:lnTo>
                  <a:lnTo>
                    <a:pt x="4464" y="4"/>
                  </a:lnTo>
                  <a:lnTo>
                    <a:pt x="4465" y="2"/>
                  </a:lnTo>
                  <a:lnTo>
                    <a:pt x="4466" y="0"/>
                  </a:lnTo>
                  <a:lnTo>
                    <a:pt x="4467" y="0"/>
                  </a:lnTo>
                  <a:lnTo>
                    <a:pt x="4467" y="0"/>
                  </a:lnTo>
                  <a:close/>
                  <a:moveTo>
                    <a:pt x="4511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3" y="2"/>
                  </a:lnTo>
                  <a:lnTo>
                    <a:pt x="4534" y="4"/>
                  </a:lnTo>
                  <a:lnTo>
                    <a:pt x="4534" y="6"/>
                  </a:lnTo>
                  <a:lnTo>
                    <a:pt x="4534" y="8"/>
                  </a:lnTo>
                  <a:lnTo>
                    <a:pt x="4533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1" y="12"/>
                  </a:lnTo>
                  <a:lnTo>
                    <a:pt x="4510" y="12"/>
                  </a:lnTo>
                  <a:lnTo>
                    <a:pt x="4509" y="10"/>
                  </a:lnTo>
                  <a:lnTo>
                    <a:pt x="4508" y="8"/>
                  </a:lnTo>
                  <a:lnTo>
                    <a:pt x="4508" y="6"/>
                  </a:lnTo>
                  <a:lnTo>
                    <a:pt x="4508" y="4"/>
                  </a:lnTo>
                  <a:lnTo>
                    <a:pt x="4509" y="2"/>
                  </a:lnTo>
                  <a:lnTo>
                    <a:pt x="4510" y="0"/>
                  </a:lnTo>
                  <a:lnTo>
                    <a:pt x="4511" y="0"/>
                  </a:lnTo>
                  <a:lnTo>
                    <a:pt x="4511" y="0"/>
                  </a:lnTo>
                  <a:close/>
                  <a:moveTo>
                    <a:pt x="4556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6" y="12"/>
                  </a:lnTo>
                  <a:lnTo>
                    <a:pt x="4555" y="12"/>
                  </a:lnTo>
                  <a:lnTo>
                    <a:pt x="4554" y="10"/>
                  </a:lnTo>
                  <a:lnTo>
                    <a:pt x="4553" y="8"/>
                  </a:lnTo>
                  <a:lnTo>
                    <a:pt x="4553" y="6"/>
                  </a:lnTo>
                  <a:lnTo>
                    <a:pt x="4553" y="4"/>
                  </a:lnTo>
                  <a:lnTo>
                    <a:pt x="4554" y="2"/>
                  </a:lnTo>
                  <a:lnTo>
                    <a:pt x="4555" y="0"/>
                  </a:lnTo>
                  <a:lnTo>
                    <a:pt x="4556" y="0"/>
                  </a:lnTo>
                  <a:lnTo>
                    <a:pt x="4556" y="0"/>
                  </a:lnTo>
                  <a:close/>
                  <a:moveTo>
                    <a:pt x="4601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1" y="12"/>
                  </a:lnTo>
                  <a:lnTo>
                    <a:pt x="4600" y="12"/>
                  </a:lnTo>
                  <a:lnTo>
                    <a:pt x="4599" y="10"/>
                  </a:lnTo>
                  <a:lnTo>
                    <a:pt x="4598" y="8"/>
                  </a:lnTo>
                  <a:lnTo>
                    <a:pt x="4598" y="6"/>
                  </a:lnTo>
                  <a:lnTo>
                    <a:pt x="4598" y="4"/>
                  </a:lnTo>
                  <a:lnTo>
                    <a:pt x="4599" y="2"/>
                  </a:lnTo>
                  <a:lnTo>
                    <a:pt x="4600" y="0"/>
                  </a:lnTo>
                  <a:lnTo>
                    <a:pt x="4601" y="0"/>
                  </a:lnTo>
                  <a:lnTo>
                    <a:pt x="4601" y="0"/>
                  </a:lnTo>
                  <a:close/>
                  <a:moveTo>
                    <a:pt x="4646" y="0"/>
                  </a:moveTo>
                  <a:lnTo>
                    <a:pt x="4664" y="0"/>
                  </a:lnTo>
                  <a:lnTo>
                    <a:pt x="4665" y="0"/>
                  </a:lnTo>
                  <a:lnTo>
                    <a:pt x="4667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7" y="10"/>
                  </a:lnTo>
                  <a:lnTo>
                    <a:pt x="4665" y="12"/>
                  </a:lnTo>
                  <a:lnTo>
                    <a:pt x="4664" y="12"/>
                  </a:lnTo>
                  <a:lnTo>
                    <a:pt x="4646" y="12"/>
                  </a:lnTo>
                  <a:lnTo>
                    <a:pt x="4645" y="12"/>
                  </a:lnTo>
                  <a:lnTo>
                    <a:pt x="4644" y="10"/>
                  </a:lnTo>
                  <a:lnTo>
                    <a:pt x="4643" y="8"/>
                  </a:lnTo>
                  <a:lnTo>
                    <a:pt x="4643" y="6"/>
                  </a:lnTo>
                  <a:lnTo>
                    <a:pt x="4643" y="4"/>
                  </a:lnTo>
                  <a:lnTo>
                    <a:pt x="4644" y="2"/>
                  </a:lnTo>
                  <a:lnTo>
                    <a:pt x="4645" y="0"/>
                  </a:lnTo>
                  <a:lnTo>
                    <a:pt x="4646" y="0"/>
                  </a:lnTo>
                  <a:lnTo>
                    <a:pt x="4646" y="0"/>
                  </a:lnTo>
                  <a:close/>
                  <a:moveTo>
                    <a:pt x="4690" y="0"/>
                  </a:moveTo>
                  <a:lnTo>
                    <a:pt x="4709" y="0"/>
                  </a:lnTo>
                  <a:lnTo>
                    <a:pt x="4710" y="0"/>
                  </a:lnTo>
                  <a:lnTo>
                    <a:pt x="4711" y="2"/>
                  </a:lnTo>
                  <a:lnTo>
                    <a:pt x="4712" y="4"/>
                  </a:lnTo>
                  <a:lnTo>
                    <a:pt x="4712" y="6"/>
                  </a:lnTo>
                  <a:lnTo>
                    <a:pt x="4712" y="8"/>
                  </a:lnTo>
                  <a:lnTo>
                    <a:pt x="4711" y="10"/>
                  </a:lnTo>
                  <a:lnTo>
                    <a:pt x="4710" y="12"/>
                  </a:lnTo>
                  <a:lnTo>
                    <a:pt x="4709" y="12"/>
                  </a:lnTo>
                  <a:lnTo>
                    <a:pt x="4690" y="12"/>
                  </a:lnTo>
                  <a:lnTo>
                    <a:pt x="4689" y="12"/>
                  </a:lnTo>
                  <a:lnTo>
                    <a:pt x="4688" y="10"/>
                  </a:lnTo>
                  <a:lnTo>
                    <a:pt x="4687" y="8"/>
                  </a:lnTo>
                  <a:lnTo>
                    <a:pt x="4687" y="6"/>
                  </a:lnTo>
                  <a:lnTo>
                    <a:pt x="4687" y="4"/>
                  </a:lnTo>
                  <a:lnTo>
                    <a:pt x="4688" y="2"/>
                  </a:lnTo>
                  <a:lnTo>
                    <a:pt x="4689" y="0"/>
                  </a:lnTo>
                  <a:lnTo>
                    <a:pt x="4690" y="0"/>
                  </a:lnTo>
                  <a:lnTo>
                    <a:pt x="4690" y="0"/>
                  </a:lnTo>
                  <a:close/>
                  <a:moveTo>
                    <a:pt x="4735" y="0"/>
                  </a:moveTo>
                  <a:lnTo>
                    <a:pt x="4754" y="0"/>
                  </a:lnTo>
                  <a:lnTo>
                    <a:pt x="4755" y="0"/>
                  </a:lnTo>
                  <a:lnTo>
                    <a:pt x="4756" y="2"/>
                  </a:lnTo>
                  <a:lnTo>
                    <a:pt x="4757" y="4"/>
                  </a:lnTo>
                  <a:lnTo>
                    <a:pt x="4757" y="6"/>
                  </a:lnTo>
                  <a:lnTo>
                    <a:pt x="4757" y="8"/>
                  </a:lnTo>
                  <a:lnTo>
                    <a:pt x="4756" y="10"/>
                  </a:lnTo>
                  <a:lnTo>
                    <a:pt x="4755" y="12"/>
                  </a:lnTo>
                  <a:lnTo>
                    <a:pt x="4754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799" y="0"/>
                  </a:lnTo>
                  <a:lnTo>
                    <a:pt x="4800" y="0"/>
                  </a:lnTo>
                  <a:lnTo>
                    <a:pt x="4801" y="2"/>
                  </a:lnTo>
                  <a:lnTo>
                    <a:pt x="4802" y="4"/>
                  </a:lnTo>
                  <a:lnTo>
                    <a:pt x="4802" y="6"/>
                  </a:lnTo>
                  <a:lnTo>
                    <a:pt x="4802" y="8"/>
                  </a:lnTo>
                  <a:lnTo>
                    <a:pt x="4801" y="10"/>
                  </a:lnTo>
                  <a:lnTo>
                    <a:pt x="4800" y="12"/>
                  </a:lnTo>
                  <a:lnTo>
                    <a:pt x="4799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3" y="0"/>
                  </a:lnTo>
                  <a:lnTo>
                    <a:pt x="4844" y="0"/>
                  </a:lnTo>
                  <a:lnTo>
                    <a:pt x="4846" y="2"/>
                  </a:lnTo>
                  <a:lnTo>
                    <a:pt x="4847" y="4"/>
                  </a:lnTo>
                  <a:lnTo>
                    <a:pt x="4847" y="6"/>
                  </a:lnTo>
                  <a:lnTo>
                    <a:pt x="4847" y="8"/>
                  </a:lnTo>
                  <a:lnTo>
                    <a:pt x="4846" y="10"/>
                  </a:lnTo>
                  <a:lnTo>
                    <a:pt x="4844" y="12"/>
                  </a:lnTo>
                  <a:lnTo>
                    <a:pt x="4843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69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0" y="2"/>
                  </a:lnTo>
                  <a:lnTo>
                    <a:pt x="4891" y="4"/>
                  </a:lnTo>
                  <a:lnTo>
                    <a:pt x="4891" y="6"/>
                  </a:lnTo>
                  <a:lnTo>
                    <a:pt x="4891" y="8"/>
                  </a:lnTo>
                  <a:lnTo>
                    <a:pt x="4890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69" y="12"/>
                  </a:lnTo>
                  <a:lnTo>
                    <a:pt x="4868" y="12"/>
                  </a:lnTo>
                  <a:lnTo>
                    <a:pt x="4866" y="10"/>
                  </a:lnTo>
                  <a:lnTo>
                    <a:pt x="4865" y="8"/>
                  </a:lnTo>
                  <a:lnTo>
                    <a:pt x="4865" y="6"/>
                  </a:lnTo>
                  <a:lnTo>
                    <a:pt x="4865" y="4"/>
                  </a:lnTo>
                  <a:lnTo>
                    <a:pt x="4866" y="2"/>
                  </a:lnTo>
                  <a:lnTo>
                    <a:pt x="4868" y="0"/>
                  </a:lnTo>
                  <a:lnTo>
                    <a:pt x="4869" y="0"/>
                  </a:lnTo>
                  <a:lnTo>
                    <a:pt x="4869" y="0"/>
                  </a:lnTo>
                  <a:close/>
                  <a:moveTo>
                    <a:pt x="4913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3" y="12"/>
                  </a:lnTo>
                  <a:lnTo>
                    <a:pt x="4912" y="12"/>
                  </a:lnTo>
                  <a:lnTo>
                    <a:pt x="4911" y="10"/>
                  </a:lnTo>
                  <a:lnTo>
                    <a:pt x="4910" y="8"/>
                  </a:lnTo>
                  <a:lnTo>
                    <a:pt x="4910" y="6"/>
                  </a:lnTo>
                  <a:lnTo>
                    <a:pt x="4910" y="4"/>
                  </a:lnTo>
                  <a:lnTo>
                    <a:pt x="4911" y="2"/>
                  </a:lnTo>
                  <a:lnTo>
                    <a:pt x="4912" y="0"/>
                  </a:lnTo>
                  <a:lnTo>
                    <a:pt x="4913" y="0"/>
                  </a:lnTo>
                  <a:lnTo>
                    <a:pt x="4913" y="0"/>
                  </a:lnTo>
                  <a:close/>
                  <a:moveTo>
                    <a:pt x="4958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8" y="12"/>
                  </a:lnTo>
                  <a:lnTo>
                    <a:pt x="4957" y="12"/>
                  </a:lnTo>
                  <a:lnTo>
                    <a:pt x="4956" y="10"/>
                  </a:lnTo>
                  <a:lnTo>
                    <a:pt x="4955" y="8"/>
                  </a:lnTo>
                  <a:lnTo>
                    <a:pt x="4955" y="6"/>
                  </a:lnTo>
                  <a:lnTo>
                    <a:pt x="4955" y="4"/>
                  </a:lnTo>
                  <a:lnTo>
                    <a:pt x="4956" y="2"/>
                  </a:lnTo>
                  <a:lnTo>
                    <a:pt x="4957" y="0"/>
                  </a:lnTo>
                  <a:lnTo>
                    <a:pt x="4958" y="0"/>
                  </a:lnTo>
                  <a:lnTo>
                    <a:pt x="4958" y="0"/>
                  </a:lnTo>
                  <a:close/>
                  <a:moveTo>
                    <a:pt x="5003" y="0"/>
                  </a:moveTo>
                  <a:lnTo>
                    <a:pt x="5022" y="0"/>
                  </a:lnTo>
                  <a:lnTo>
                    <a:pt x="5023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3" y="12"/>
                  </a:lnTo>
                  <a:lnTo>
                    <a:pt x="5022" y="12"/>
                  </a:lnTo>
                  <a:lnTo>
                    <a:pt x="5003" y="12"/>
                  </a:lnTo>
                  <a:lnTo>
                    <a:pt x="5002" y="12"/>
                  </a:lnTo>
                  <a:lnTo>
                    <a:pt x="5001" y="10"/>
                  </a:lnTo>
                  <a:lnTo>
                    <a:pt x="5000" y="8"/>
                  </a:lnTo>
                  <a:lnTo>
                    <a:pt x="5000" y="6"/>
                  </a:lnTo>
                  <a:lnTo>
                    <a:pt x="5000" y="4"/>
                  </a:lnTo>
                  <a:lnTo>
                    <a:pt x="5001" y="2"/>
                  </a:lnTo>
                  <a:lnTo>
                    <a:pt x="5002" y="0"/>
                  </a:lnTo>
                  <a:lnTo>
                    <a:pt x="5003" y="0"/>
                  </a:lnTo>
                  <a:lnTo>
                    <a:pt x="5003" y="0"/>
                  </a:lnTo>
                  <a:close/>
                  <a:moveTo>
                    <a:pt x="5047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69" y="2"/>
                  </a:lnTo>
                  <a:lnTo>
                    <a:pt x="5070" y="4"/>
                  </a:lnTo>
                  <a:lnTo>
                    <a:pt x="5070" y="6"/>
                  </a:lnTo>
                  <a:lnTo>
                    <a:pt x="5070" y="8"/>
                  </a:lnTo>
                  <a:lnTo>
                    <a:pt x="5069" y="10"/>
                  </a:lnTo>
                  <a:lnTo>
                    <a:pt x="5068" y="12"/>
                  </a:lnTo>
                  <a:lnTo>
                    <a:pt x="5067" y="12"/>
                  </a:lnTo>
                  <a:lnTo>
                    <a:pt x="5047" y="12"/>
                  </a:lnTo>
                  <a:lnTo>
                    <a:pt x="5046" y="12"/>
                  </a:lnTo>
                  <a:lnTo>
                    <a:pt x="5045" y="10"/>
                  </a:lnTo>
                  <a:lnTo>
                    <a:pt x="5044" y="8"/>
                  </a:lnTo>
                  <a:lnTo>
                    <a:pt x="5044" y="6"/>
                  </a:lnTo>
                  <a:lnTo>
                    <a:pt x="5044" y="4"/>
                  </a:lnTo>
                  <a:lnTo>
                    <a:pt x="5045" y="2"/>
                  </a:lnTo>
                  <a:lnTo>
                    <a:pt x="5046" y="0"/>
                  </a:lnTo>
                  <a:lnTo>
                    <a:pt x="5047" y="0"/>
                  </a:lnTo>
                  <a:lnTo>
                    <a:pt x="5047" y="0"/>
                  </a:lnTo>
                  <a:close/>
                  <a:moveTo>
                    <a:pt x="5092" y="0"/>
                  </a:moveTo>
                  <a:lnTo>
                    <a:pt x="5111" y="0"/>
                  </a:lnTo>
                  <a:lnTo>
                    <a:pt x="5112" y="0"/>
                  </a:lnTo>
                  <a:lnTo>
                    <a:pt x="5113" y="2"/>
                  </a:lnTo>
                  <a:lnTo>
                    <a:pt x="5114" y="4"/>
                  </a:lnTo>
                  <a:lnTo>
                    <a:pt x="5114" y="6"/>
                  </a:lnTo>
                  <a:lnTo>
                    <a:pt x="5114" y="8"/>
                  </a:lnTo>
                  <a:lnTo>
                    <a:pt x="5113" y="10"/>
                  </a:lnTo>
                  <a:lnTo>
                    <a:pt x="5112" y="12"/>
                  </a:lnTo>
                  <a:lnTo>
                    <a:pt x="5111" y="12"/>
                  </a:lnTo>
                  <a:lnTo>
                    <a:pt x="5092" y="12"/>
                  </a:lnTo>
                  <a:lnTo>
                    <a:pt x="5091" y="12"/>
                  </a:lnTo>
                  <a:lnTo>
                    <a:pt x="5090" y="10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1" y="0"/>
                  </a:lnTo>
                  <a:lnTo>
                    <a:pt x="5092" y="0"/>
                  </a:lnTo>
                  <a:lnTo>
                    <a:pt x="5092" y="0"/>
                  </a:lnTo>
                  <a:close/>
                  <a:moveTo>
                    <a:pt x="5137" y="0"/>
                  </a:moveTo>
                  <a:lnTo>
                    <a:pt x="5141" y="0"/>
                  </a:lnTo>
                  <a:lnTo>
                    <a:pt x="5142" y="0"/>
                  </a:lnTo>
                  <a:lnTo>
                    <a:pt x="5143" y="2"/>
                  </a:lnTo>
                  <a:lnTo>
                    <a:pt x="5144" y="4"/>
                  </a:lnTo>
                  <a:lnTo>
                    <a:pt x="5144" y="6"/>
                  </a:lnTo>
                  <a:lnTo>
                    <a:pt x="5144" y="8"/>
                  </a:lnTo>
                  <a:lnTo>
                    <a:pt x="5143" y="10"/>
                  </a:lnTo>
                  <a:lnTo>
                    <a:pt x="5142" y="12"/>
                  </a:lnTo>
                  <a:lnTo>
                    <a:pt x="5141" y="12"/>
                  </a:lnTo>
                  <a:lnTo>
                    <a:pt x="5137" y="12"/>
                  </a:lnTo>
                  <a:lnTo>
                    <a:pt x="5136" y="12"/>
                  </a:lnTo>
                  <a:lnTo>
                    <a:pt x="5135" y="10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8160" y="1461960"/>
              <a:ext cx="962280" cy="577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8160" y="1461960"/>
              <a:ext cx="962280" cy="57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66960" y="151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25640" y="151452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6320" y="151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1640" y="163188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22000" y="163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80200" y="1747800"/>
              <a:ext cx="51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tratégic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22000" y="1747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21240" y="1498680"/>
              <a:ext cx="924120" cy="433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19960" y="1544760"/>
              <a:ext cx="64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95920" y="166212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70320" y="161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0240" y="1498680"/>
              <a:ext cx="9241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83360" y="1544760"/>
              <a:ext cx="19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O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87480" y="15447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ción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30520" y="16621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icient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33720" y="161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5080" y="1498680"/>
              <a:ext cx="9237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9200" y="154476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uent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5840" y="166212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gid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98440" y="161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054080" y="6234120"/>
            <a:ext cx="2154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5819760"/>
            <a:ext cx="1191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77720" y="3627360"/>
            <a:ext cx="8237520" cy="2808720"/>
            <a:chOff x="477720" y="3627360"/>
            <a:chExt cx="8237520" cy="2808720"/>
          </a:xfrm>
        </p:grpSpPr>
        <p:sp>
          <p:nvSpPr>
            <p:cNvPr id="365" name=""/>
            <p:cNvSpPr/>
            <p:nvPr/>
          </p:nvSpPr>
          <p:spPr>
            <a:xfrm>
              <a:off x="668160" y="3666960"/>
              <a:ext cx="962280" cy="508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160" y="3666960"/>
              <a:ext cx="962280" cy="50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65880" y="372096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36320" y="3720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81640" y="383544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22000" y="3835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40520" y="4970520"/>
              <a:ext cx="579600" cy="4698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40520" y="4970520"/>
              <a:ext cx="579600" cy="46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02720" y="4537080"/>
              <a:ext cx="653760" cy="433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206" y="0"/>
                  </a:moveTo>
                  <a:lnTo>
                    <a:pt x="412" y="547"/>
                  </a:lnTo>
                  <a:lnTo>
                    <a:pt x="0" y="54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902720" y="4537080"/>
              <a:ext cx="653760" cy="433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206" y="0"/>
                  </a:moveTo>
                  <a:lnTo>
                    <a:pt x="412" y="547"/>
                  </a:lnTo>
                  <a:lnTo>
                    <a:pt x="0" y="54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58080" y="4653000"/>
              <a:ext cx="1341360" cy="1103400"/>
            </a:xfrm>
            <a:custGeom>
              <a:avLst/>
              <a:gdLst/>
              <a:ahLst/>
              <a:rect l="l" t="t" r="r" b="b"/>
              <a:pathLst>
                <a:path w="845" h="1390">
                  <a:moveTo>
                    <a:pt x="649" y="0"/>
                  </a:moveTo>
                  <a:lnTo>
                    <a:pt x="845" y="884"/>
                  </a:lnTo>
                  <a:lnTo>
                    <a:pt x="195" y="1390"/>
                  </a:lnTo>
                  <a:lnTo>
                    <a:pt x="0" y="508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58080" y="4653000"/>
              <a:ext cx="1341360" cy="1103400"/>
            </a:xfrm>
            <a:custGeom>
              <a:avLst/>
              <a:gdLst/>
              <a:ahLst/>
              <a:rect l="l" t="t" r="r" b="b"/>
              <a:pathLst>
                <a:path w="845" h="1390">
                  <a:moveTo>
                    <a:pt x="649" y="0"/>
                  </a:moveTo>
                  <a:lnTo>
                    <a:pt x="845" y="884"/>
                  </a:lnTo>
                  <a:lnTo>
                    <a:pt x="195" y="1390"/>
                  </a:lnTo>
                  <a:lnTo>
                    <a:pt x="0" y="508"/>
                  </a:lnTo>
                  <a:lnTo>
                    <a:pt x="64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161040" y="4888080"/>
              <a:ext cx="103176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4360" y="5118120"/>
              <a:ext cx="103176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0600" y="4932360"/>
              <a:ext cx="885600" cy="3999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00600" y="4932360"/>
              <a:ext cx="885600" cy="39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03200" y="4989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33960" y="3886200"/>
              <a:ext cx="806400" cy="612720"/>
            </a:xfrm>
            <a:custGeom>
              <a:avLst/>
              <a:gdLst/>
              <a:ahLst/>
              <a:rect l="l" t="t" r="r" b="b"/>
              <a:pathLst>
                <a:path w="508" h="773">
                  <a:moveTo>
                    <a:pt x="254" y="0"/>
                  </a:moveTo>
                  <a:lnTo>
                    <a:pt x="280" y="0"/>
                  </a:lnTo>
                  <a:lnTo>
                    <a:pt x="305" y="2"/>
                  </a:lnTo>
                  <a:lnTo>
                    <a:pt x="317" y="4"/>
                  </a:lnTo>
                  <a:lnTo>
                    <a:pt x="329" y="4"/>
                  </a:lnTo>
                  <a:lnTo>
                    <a:pt x="342" y="6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5" y="12"/>
                  </a:lnTo>
                  <a:lnTo>
                    <a:pt x="385" y="14"/>
                  </a:lnTo>
                  <a:lnTo>
                    <a:pt x="396" y="17"/>
                  </a:lnTo>
                  <a:lnTo>
                    <a:pt x="406" y="19"/>
                  </a:lnTo>
                  <a:lnTo>
                    <a:pt x="416" y="23"/>
                  </a:lnTo>
                  <a:lnTo>
                    <a:pt x="425" y="25"/>
                  </a:lnTo>
                  <a:lnTo>
                    <a:pt x="433" y="29"/>
                  </a:lnTo>
                  <a:lnTo>
                    <a:pt x="443" y="33"/>
                  </a:lnTo>
                  <a:lnTo>
                    <a:pt x="450" y="35"/>
                  </a:lnTo>
                  <a:lnTo>
                    <a:pt x="458" y="39"/>
                  </a:lnTo>
                  <a:lnTo>
                    <a:pt x="465" y="42"/>
                  </a:lnTo>
                  <a:lnTo>
                    <a:pt x="471" y="46"/>
                  </a:lnTo>
                  <a:lnTo>
                    <a:pt x="477" y="50"/>
                  </a:lnTo>
                  <a:lnTo>
                    <a:pt x="483" y="56"/>
                  </a:lnTo>
                  <a:lnTo>
                    <a:pt x="489" y="60"/>
                  </a:lnTo>
                  <a:lnTo>
                    <a:pt x="493" y="64"/>
                  </a:lnTo>
                  <a:lnTo>
                    <a:pt x="497" y="67"/>
                  </a:lnTo>
                  <a:lnTo>
                    <a:pt x="500" y="73"/>
                  </a:lnTo>
                  <a:lnTo>
                    <a:pt x="503" y="77"/>
                  </a:lnTo>
                  <a:lnTo>
                    <a:pt x="505" y="83"/>
                  </a:lnTo>
                  <a:lnTo>
                    <a:pt x="507" y="87"/>
                  </a:lnTo>
                  <a:lnTo>
                    <a:pt x="508" y="92"/>
                  </a:lnTo>
                  <a:lnTo>
                    <a:pt x="508" y="96"/>
                  </a:lnTo>
                  <a:lnTo>
                    <a:pt x="508" y="675"/>
                  </a:lnTo>
                  <a:lnTo>
                    <a:pt x="508" y="681"/>
                  </a:lnTo>
                  <a:lnTo>
                    <a:pt x="507" y="685"/>
                  </a:lnTo>
                  <a:lnTo>
                    <a:pt x="505" y="691"/>
                  </a:lnTo>
                  <a:lnTo>
                    <a:pt x="503" y="695"/>
                  </a:lnTo>
                  <a:lnTo>
                    <a:pt x="500" y="700"/>
                  </a:lnTo>
                  <a:lnTo>
                    <a:pt x="497" y="704"/>
                  </a:lnTo>
                  <a:lnTo>
                    <a:pt x="493" y="708"/>
                  </a:lnTo>
                  <a:lnTo>
                    <a:pt x="489" y="714"/>
                  </a:lnTo>
                  <a:lnTo>
                    <a:pt x="483" y="718"/>
                  </a:lnTo>
                  <a:lnTo>
                    <a:pt x="477" y="721"/>
                  </a:lnTo>
                  <a:lnTo>
                    <a:pt x="471" y="725"/>
                  </a:lnTo>
                  <a:lnTo>
                    <a:pt x="465" y="729"/>
                  </a:lnTo>
                  <a:lnTo>
                    <a:pt x="458" y="733"/>
                  </a:lnTo>
                  <a:lnTo>
                    <a:pt x="450" y="737"/>
                  </a:lnTo>
                  <a:lnTo>
                    <a:pt x="443" y="741"/>
                  </a:lnTo>
                  <a:lnTo>
                    <a:pt x="433" y="744"/>
                  </a:lnTo>
                  <a:lnTo>
                    <a:pt x="425" y="748"/>
                  </a:lnTo>
                  <a:lnTo>
                    <a:pt x="416" y="750"/>
                  </a:lnTo>
                  <a:lnTo>
                    <a:pt x="406" y="754"/>
                  </a:lnTo>
                  <a:lnTo>
                    <a:pt x="396" y="756"/>
                  </a:lnTo>
                  <a:lnTo>
                    <a:pt x="385" y="760"/>
                  </a:lnTo>
                  <a:lnTo>
                    <a:pt x="375" y="762"/>
                  </a:lnTo>
                  <a:lnTo>
                    <a:pt x="364" y="764"/>
                  </a:lnTo>
                  <a:lnTo>
                    <a:pt x="353" y="765"/>
                  </a:lnTo>
                  <a:lnTo>
                    <a:pt x="342" y="767"/>
                  </a:lnTo>
                  <a:lnTo>
                    <a:pt x="329" y="769"/>
                  </a:lnTo>
                  <a:lnTo>
                    <a:pt x="317" y="769"/>
                  </a:lnTo>
                  <a:lnTo>
                    <a:pt x="305" y="771"/>
                  </a:lnTo>
                  <a:lnTo>
                    <a:pt x="280" y="773"/>
                  </a:lnTo>
                  <a:lnTo>
                    <a:pt x="254" y="773"/>
                  </a:lnTo>
                  <a:lnTo>
                    <a:pt x="227" y="773"/>
                  </a:lnTo>
                  <a:lnTo>
                    <a:pt x="203" y="771"/>
                  </a:lnTo>
                  <a:lnTo>
                    <a:pt x="191" y="769"/>
                  </a:lnTo>
                  <a:lnTo>
                    <a:pt x="178" y="769"/>
                  </a:lnTo>
                  <a:lnTo>
                    <a:pt x="166" y="767"/>
                  </a:lnTo>
                  <a:lnTo>
                    <a:pt x="155" y="765"/>
                  </a:lnTo>
                  <a:lnTo>
                    <a:pt x="144" y="764"/>
                  </a:lnTo>
                  <a:lnTo>
                    <a:pt x="132" y="762"/>
                  </a:lnTo>
                  <a:lnTo>
                    <a:pt x="122" y="760"/>
                  </a:lnTo>
                  <a:lnTo>
                    <a:pt x="112" y="756"/>
                  </a:lnTo>
                  <a:lnTo>
                    <a:pt x="102" y="754"/>
                  </a:lnTo>
                  <a:lnTo>
                    <a:pt x="92" y="750"/>
                  </a:lnTo>
                  <a:lnTo>
                    <a:pt x="82" y="748"/>
                  </a:lnTo>
                  <a:lnTo>
                    <a:pt x="74" y="744"/>
                  </a:lnTo>
                  <a:lnTo>
                    <a:pt x="66" y="741"/>
                  </a:lnTo>
                  <a:lnTo>
                    <a:pt x="58" y="737"/>
                  </a:lnTo>
                  <a:lnTo>
                    <a:pt x="50" y="733"/>
                  </a:lnTo>
                  <a:lnTo>
                    <a:pt x="43" y="729"/>
                  </a:lnTo>
                  <a:lnTo>
                    <a:pt x="36" y="725"/>
                  </a:lnTo>
                  <a:lnTo>
                    <a:pt x="30" y="721"/>
                  </a:lnTo>
                  <a:lnTo>
                    <a:pt x="24" y="718"/>
                  </a:lnTo>
                  <a:lnTo>
                    <a:pt x="20" y="714"/>
                  </a:lnTo>
                  <a:lnTo>
                    <a:pt x="15" y="708"/>
                  </a:lnTo>
                  <a:lnTo>
                    <a:pt x="11" y="704"/>
                  </a:lnTo>
                  <a:lnTo>
                    <a:pt x="8" y="700"/>
                  </a:lnTo>
                  <a:lnTo>
                    <a:pt x="5" y="695"/>
                  </a:lnTo>
                  <a:lnTo>
                    <a:pt x="3" y="691"/>
                  </a:lnTo>
                  <a:lnTo>
                    <a:pt x="1" y="685"/>
                  </a:lnTo>
                  <a:lnTo>
                    <a:pt x="0" y="681"/>
                  </a:lnTo>
                  <a:lnTo>
                    <a:pt x="0" y="675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5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0" y="50"/>
                  </a:lnTo>
                  <a:lnTo>
                    <a:pt x="36" y="46"/>
                  </a:lnTo>
                  <a:lnTo>
                    <a:pt x="43" y="42"/>
                  </a:lnTo>
                  <a:lnTo>
                    <a:pt x="50" y="39"/>
                  </a:lnTo>
                  <a:lnTo>
                    <a:pt x="58" y="35"/>
                  </a:lnTo>
                  <a:lnTo>
                    <a:pt x="66" y="33"/>
                  </a:lnTo>
                  <a:lnTo>
                    <a:pt x="74" y="29"/>
                  </a:lnTo>
                  <a:lnTo>
                    <a:pt x="82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2" y="17"/>
                  </a:lnTo>
                  <a:lnTo>
                    <a:pt x="122" y="14"/>
                  </a:lnTo>
                  <a:lnTo>
                    <a:pt x="132" y="12"/>
                  </a:lnTo>
                  <a:lnTo>
                    <a:pt x="144" y="10"/>
                  </a:lnTo>
                  <a:lnTo>
                    <a:pt x="155" y="8"/>
                  </a:lnTo>
                  <a:lnTo>
                    <a:pt x="166" y="6"/>
                  </a:lnTo>
                  <a:lnTo>
                    <a:pt x="178" y="4"/>
                  </a:lnTo>
                  <a:lnTo>
                    <a:pt x="191" y="4"/>
                  </a:lnTo>
                  <a:lnTo>
                    <a:pt x="203" y="2"/>
                  </a:lnTo>
                  <a:lnTo>
                    <a:pt x="227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33960" y="3886200"/>
              <a:ext cx="806400" cy="152280"/>
            </a:xfrm>
            <a:custGeom>
              <a:avLst/>
              <a:gdLst/>
              <a:ahLst/>
              <a:rect l="l" t="t" r="r" b="b"/>
              <a:pathLst>
                <a:path w="508" h="194">
                  <a:moveTo>
                    <a:pt x="508" y="96"/>
                  </a:moveTo>
                  <a:lnTo>
                    <a:pt x="508" y="102"/>
                  </a:lnTo>
                  <a:lnTo>
                    <a:pt x="507" y="106"/>
                  </a:lnTo>
                  <a:lnTo>
                    <a:pt x="505" y="111"/>
                  </a:lnTo>
                  <a:lnTo>
                    <a:pt x="503" y="115"/>
                  </a:lnTo>
                  <a:lnTo>
                    <a:pt x="500" y="121"/>
                  </a:lnTo>
                  <a:lnTo>
                    <a:pt x="497" y="125"/>
                  </a:lnTo>
                  <a:lnTo>
                    <a:pt x="493" y="129"/>
                  </a:lnTo>
                  <a:lnTo>
                    <a:pt x="489" y="134"/>
                  </a:lnTo>
                  <a:lnTo>
                    <a:pt x="483" y="138"/>
                  </a:lnTo>
                  <a:lnTo>
                    <a:pt x="477" y="142"/>
                  </a:lnTo>
                  <a:lnTo>
                    <a:pt x="471" y="146"/>
                  </a:lnTo>
                  <a:lnTo>
                    <a:pt x="465" y="150"/>
                  </a:lnTo>
                  <a:lnTo>
                    <a:pt x="458" y="154"/>
                  </a:lnTo>
                  <a:lnTo>
                    <a:pt x="450" y="157"/>
                  </a:lnTo>
                  <a:lnTo>
                    <a:pt x="443" y="161"/>
                  </a:lnTo>
                  <a:lnTo>
                    <a:pt x="433" y="165"/>
                  </a:lnTo>
                  <a:lnTo>
                    <a:pt x="425" y="169"/>
                  </a:lnTo>
                  <a:lnTo>
                    <a:pt x="416" y="171"/>
                  </a:lnTo>
                  <a:lnTo>
                    <a:pt x="406" y="175"/>
                  </a:lnTo>
                  <a:lnTo>
                    <a:pt x="396" y="177"/>
                  </a:lnTo>
                  <a:lnTo>
                    <a:pt x="385" y="181"/>
                  </a:lnTo>
                  <a:lnTo>
                    <a:pt x="375" y="182"/>
                  </a:lnTo>
                  <a:lnTo>
                    <a:pt x="364" y="184"/>
                  </a:lnTo>
                  <a:lnTo>
                    <a:pt x="353" y="186"/>
                  </a:lnTo>
                  <a:lnTo>
                    <a:pt x="342" y="188"/>
                  </a:lnTo>
                  <a:lnTo>
                    <a:pt x="329" y="190"/>
                  </a:lnTo>
                  <a:lnTo>
                    <a:pt x="317" y="190"/>
                  </a:lnTo>
                  <a:lnTo>
                    <a:pt x="305" y="192"/>
                  </a:lnTo>
                  <a:lnTo>
                    <a:pt x="280" y="194"/>
                  </a:lnTo>
                  <a:lnTo>
                    <a:pt x="254" y="194"/>
                  </a:lnTo>
                  <a:lnTo>
                    <a:pt x="227" y="194"/>
                  </a:lnTo>
                  <a:lnTo>
                    <a:pt x="203" y="192"/>
                  </a:lnTo>
                  <a:lnTo>
                    <a:pt x="191" y="190"/>
                  </a:lnTo>
                  <a:lnTo>
                    <a:pt x="178" y="190"/>
                  </a:lnTo>
                  <a:lnTo>
                    <a:pt x="166" y="188"/>
                  </a:lnTo>
                  <a:lnTo>
                    <a:pt x="155" y="186"/>
                  </a:lnTo>
                  <a:lnTo>
                    <a:pt x="144" y="184"/>
                  </a:lnTo>
                  <a:lnTo>
                    <a:pt x="132" y="182"/>
                  </a:lnTo>
                  <a:lnTo>
                    <a:pt x="122" y="181"/>
                  </a:lnTo>
                  <a:lnTo>
                    <a:pt x="112" y="177"/>
                  </a:lnTo>
                  <a:lnTo>
                    <a:pt x="102" y="175"/>
                  </a:lnTo>
                  <a:lnTo>
                    <a:pt x="92" y="171"/>
                  </a:lnTo>
                  <a:lnTo>
                    <a:pt x="82" y="169"/>
                  </a:lnTo>
                  <a:lnTo>
                    <a:pt x="74" y="165"/>
                  </a:lnTo>
                  <a:lnTo>
                    <a:pt x="66" y="161"/>
                  </a:lnTo>
                  <a:lnTo>
                    <a:pt x="58" y="157"/>
                  </a:lnTo>
                  <a:lnTo>
                    <a:pt x="50" y="154"/>
                  </a:lnTo>
                  <a:lnTo>
                    <a:pt x="43" y="150"/>
                  </a:lnTo>
                  <a:lnTo>
                    <a:pt x="36" y="146"/>
                  </a:lnTo>
                  <a:lnTo>
                    <a:pt x="30" y="142"/>
                  </a:lnTo>
                  <a:lnTo>
                    <a:pt x="24" y="138"/>
                  </a:lnTo>
                  <a:lnTo>
                    <a:pt x="20" y="134"/>
                  </a:lnTo>
                  <a:lnTo>
                    <a:pt x="15" y="129"/>
                  </a:lnTo>
                  <a:lnTo>
                    <a:pt x="11" y="125"/>
                  </a:lnTo>
                  <a:lnTo>
                    <a:pt x="8" y="121"/>
                  </a:lnTo>
                  <a:lnTo>
                    <a:pt x="5" y="115"/>
                  </a:lnTo>
                  <a:lnTo>
                    <a:pt x="3" y="111"/>
                  </a:lnTo>
                  <a:lnTo>
                    <a:pt x="1" y="106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5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0" y="50"/>
                  </a:lnTo>
                  <a:lnTo>
                    <a:pt x="36" y="46"/>
                  </a:lnTo>
                  <a:lnTo>
                    <a:pt x="43" y="42"/>
                  </a:lnTo>
                  <a:lnTo>
                    <a:pt x="50" y="39"/>
                  </a:lnTo>
                  <a:lnTo>
                    <a:pt x="58" y="35"/>
                  </a:lnTo>
                  <a:lnTo>
                    <a:pt x="66" y="33"/>
                  </a:lnTo>
                  <a:lnTo>
                    <a:pt x="74" y="29"/>
                  </a:lnTo>
                  <a:lnTo>
                    <a:pt x="82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2" y="17"/>
                  </a:lnTo>
                  <a:lnTo>
                    <a:pt x="122" y="14"/>
                  </a:lnTo>
                  <a:lnTo>
                    <a:pt x="132" y="12"/>
                  </a:lnTo>
                  <a:lnTo>
                    <a:pt x="144" y="10"/>
                  </a:lnTo>
                  <a:lnTo>
                    <a:pt x="155" y="8"/>
                  </a:lnTo>
                  <a:lnTo>
                    <a:pt x="166" y="6"/>
                  </a:lnTo>
                  <a:lnTo>
                    <a:pt x="178" y="4"/>
                  </a:lnTo>
                  <a:lnTo>
                    <a:pt x="191" y="4"/>
                  </a:lnTo>
                  <a:lnTo>
                    <a:pt x="203" y="2"/>
                  </a:lnTo>
                  <a:lnTo>
                    <a:pt x="227" y="0"/>
                  </a:lnTo>
                  <a:lnTo>
                    <a:pt x="254" y="0"/>
                  </a:lnTo>
                  <a:lnTo>
                    <a:pt x="280" y="0"/>
                  </a:lnTo>
                  <a:lnTo>
                    <a:pt x="305" y="2"/>
                  </a:lnTo>
                  <a:lnTo>
                    <a:pt x="317" y="4"/>
                  </a:lnTo>
                  <a:lnTo>
                    <a:pt x="329" y="4"/>
                  </a:lnTo>
                  <a:lnTo>
                    <a:pt x="342" y="6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5" y="12"/>
                  </a:lnTo>
                  <a:lnTo>
                    <a:pt x="385" y="14"/>
                  </a:lnTo>
                  <a:lnTo>
                    <a:pt x="396" y="17"/>
                  </a:lnTo>
                  <a:lnTo>
                    <a:pt x="406" y="19"/>
                  </a:lnTo>
                  <a:lnTo>
                    <a:pt x="416" y="23"/>
                  </a:lnTo>
                  <a:lnTo>
                    <a:pt x="425" y="25"/>
                  </a:lnTo>
                  <a:lnTo>
                    <a:pt x="433" y="29"/>
                  </a:lnTo>
                  <a:lnTo>
                    <a:pt x="443" y="33"/>
                  </a:lnTo>
                  <a:lnTo>
                    <a:pt x="450" y="35"/>
                  </a:lnTo>
                  <a:lnTo>
                    <a:pt x="458" y="39"/>
                  </a:lnTo>
                  <a:lnTo>
                    <a:pt x="465" y="42"/>
                  </a:lnTo>
                  <a:lnTo>
                    <a:pt x="471" y="46"/>
                  </a:lnTo>
                  <a:lnTo>
                    <a:pt x="477" y="50"/>
                  </a:lnTo>
                  <a:lnTo>
                    <a:pt x="483" y="56"/>
                  </a:lnTo>
                  <a:lnTo>
                    <a:pt x="489" y="60"/>
                  </a:lnTo>
                  <a:lnTo>
                    <a:pt x="493" y="64"/>
                  </a:lnTo>
                  <a:lnTo>
                    <a:pt x="497" y="67"/>
                  </a:lnTo>
                  <a:lnTo>
                    <a:pt x="500" y="73"/>
                  </a:lnTo>
                  <a:lnTo>
                    <a:pt x="503" y="77"/>
                  </a:lnTo>
                  <a:lnTo>
                    <a:pt x="505" y="83"/>
                  </a:lnTo>
                  <a:lnTo>
                    <a:pt x="507" y="87"/>
                  </a:lnTo>
                  <a:lnTo>
                    <a:pt x="508" y="92"/>
                  </a:lnTo>
                  <a:lnTo>
                    <a:pt x="50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33960" y="3886200"/>
              <a:ext cx="806400" cy="612720"/>
            </a:xfrm>
            <a:custGeom>
              <a:avLst/>
              <a:gdLst/>
              <a:ahLst/>
              <a:rect l="l" t="t" r="r" b="b"/>
              <a:pathLst>
                <a:path w="508" h="773">
                  <a:moveTo>
                    <a:pt x="254" y="0"/>
                  </a:moveTo>
                  <a:lnTo>
                    <a:pt x="280" y="0"/>
                  </a:lnTo>
                  <a:lnTo>
                    <a:pt x="305" y="2"/>
                  </a:lnTo>
                  <a:lnTo>
                    <a:pt x="317" y="4"/>
                  </a:lnTo>
                  <a:lnTo>
                    <a:pt x="329" y="4"/>
                  </a:lnTo>
                  <a:lnTo>
                    <a:pt x="342" y="6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5" y="12"/>
                  </a:lnTo>
                  <a:lnTo>
                    <a:pt x="385" y="14"/>
                  </a:lnTo>
                  <a:lnTo>
                    <a:pt x="396" y="17"/>
                  </a:lnTo>
                  <a:lnTo>
                    <a:pt x="406" y="19"/>
                  </a:lnTo>
                  <a:lnTo>
                    <a:pt x="416" y="23"/>
                  </a:lnTo>
                  <a:lnTo>
                    <a:pt x="425" y="25"/>
                  </a:lnTo>
                  <a:lnTo>
                    <a:pt x="433" y="29"/>
                  </a:lnTo>
                  <a:lnTo>
                    <a:pt x="443" y="33"/>
                  </a:lnTo>
                  <a:lnTo>
                    <a:pt x="450" y="35"/>
                  </a:lnTo>
                  <a:lnTo>
                    <a:pt x="458" y="39"/>
                  </a:lnTo>
                  <a:lnTo>
                    <a:pt x="465" y="42"/>
                  </a:lnTo>
                  <a:lnTo>
                    <a:pt x="471" y="46"/>
                  </a:lnTo>
                  <a:lnTo>
                    <a:pt x="477" y="50"/>
                  </a:lnTo>
                  <a:lnTo>
                    <a:pt x="483" y="56"/>
                  </a:lnTo>
                  <a:lnTo>
                    <a:pt x="489" y="60"/>
                  </a:lnTo>
                  <a:lnTo>
                    <a:pt x="493" y="64"/>
                  </a:lnTo>
                  <a:lnTo>
                    <a:pt x="497" y="67"/>
                  </a:lnTo>
                  <a:lnTo>
                    <a:pt x="500" y="73"/>
                  </a:lnTo>
                  <a:lnTo>
                    <a:pt x="503" y="77"/>
                  </a:lnTo>
                  <a:lnTo>
                    <a:pt x="505" y="83"/>
                  </a:lnTo>
                  <a:lnTo>
                    <a:pt x="507" y="87"/>
                  </a:lnTo>
                  <a:lnTo>
                    <a:pt x="508" y="92"/>
                  </a:lnTo>
                  <a:lnTo>
                    <a:pt x="508" y="96"/>
                  </a:lnTo>
                  <a:lnTo>
                    <a:pt x="508" y="675"/>
                  </a:lnTo>
                  <a:lnTo>
                    <a:pt x="508" y="681"/>
                  </a:lnTo>
                  <a:lnTo>
                    <a:pt x="507" y="685"/>
                  </a:lnTo>
                  <a:lnTo>
                    <a:pt x="505" y="691"/>
                  </a:lnTo>
                  <a:lnTo>
                    <a:pt x="503" y="695"/>
                  </a:lnTo>
                  <a:lnTo>
                    <a:pt x="500" y="700"/>
                  </a:lnTo>
                  <a:lnTo>
                    <a:pt x="497" y="704"/>
                  </a:lnTo>
                  <a:lnTo>
                    <a:pt x="493" y="708"/>
                  </a:lnTo>
                  <a:lnTo>
                    <a:pt x="489" y="714"/>
                  </a:lnTo>
                  <a:lnTo>
                    <a:pt x="483" y="718"/>
                  </a:lnTo>
                  <a:lnTo>
                    <a:pt x="477" y="721"/>
                  </a:lnTo>
                  <a:lnTo>
                    <a:pt x="471" y="725"/>
                  </a:lnTo>
                  <a:lnTo>
                    <a:pt x="465" y="729"/>
                  </a:lnTo>
                  <a:lnTo>
                    <a:pt x="458" y="733"/>
                  </a:lnTo>
                  <a:lnTo>
                    <a:pt x="450" y="737"/>
                  </a:lnTo>
                  <a:lnTo>
                    <a:pt x="443" y="741"/>
                  </a:lnTo>
                  <a:lnTo>
                    <a:pt x="433" y="744"/>
                  </a:lnTo>
                  <a:lnTo>
                    <a:pt x="425" y="748"/>
                  </a:lnTo>
                  <a:lnTo>
                    <a:pt x="416" y="750"/>
                  </a:lnTo>
                  <a:lnTo>
                    <a:pt x="406" y="754"/>
                  </a:lnTo>
                  <a:lnTo>
                    <a:pt x="396" y="756"/>
                  </a:lnTo>
                  <a:lnTo>
                    <a:pt x="385" y="760"/>
                  </a:lnTo>
                  <a:lnTo>
                    <a:pt x="375" y="762"/>
                  </a:lnTo>
                  <a:lnTo>
                    <a:pt x="364" y="764"/>
                  </a:lnTo>
                  <a:lnTo>
                    <a:pt x="353" y="765"/>
                  </a:lnTo>
                  <a:lnTo>
                    <a:pt x="342" y="767"/>
                  </a:lnTo>
                  <a:lnTo>
                    <a:pt x="329" y="769"/>
                  </a:lnTo>
                  <a:lnTo>
                    <a:pt x="317" y="769"/>
                  </a:lnTo>
                  <a:lnTo>
                    <a:pt x="305" y="771"/>
                  </a:lnTo>
                  <a:lnTo>
                    <a:pt x="280" y="773"/>
                  </a:lnTo>
                  <a:lnTo>
                    <a:pt x="254" y="773"/>
                  </a:lnTo>
                  <a:lnTo>
                    <a:pt x="227" y="773"/>
                  </a:lnTo>
                  <a:lnTo>
                    <a:pt x="203" y="771"/>
                  </a:lnTo>
                  <a:lnTo>
                    <a:pt x="191" y="769"/>
                  </a:lnTo>
                  <a:lnTo>
                    <a:pt x="178" y="769"/>
                  </a:lnTo>
                  <a:lnTo>
                    <a:pt x="166" y="767"/>
                  </a:lnTo>
                  <a:lnTo>
                    <a:pt x="155" y="765"/>
                  </a:lnTo>
                  <a:lnTo>
                    <a:pt x="144" y="764"/>
                  </a:lnTo>
                  <a:lnTo>
                    <a:pt x="132" y="762"/>
                  </a:lnTo>
                  <a:lnTo>
                    <a:pt x="122" y="760"/>
                  </a:lnTo>
                  <a:lnTo>
                    <a:pt x="112" y="756"/>
                  </a:lnTo>
                  <a:lnTo>
                    <a:pt x="102" y="754"/>
                  </a:lnTo>
                  <a:lnTo>
                    <a:pt x="92" y="750"/>
                  </a:lnTo>
                  <a:lnTo>
                    <a:pt x="82" y="748"/>
                  </a:lnTo>
                  <a:lnTo>
                    <a:pt x="74" y="744"/>
                  </a:lnTo>
                  <a:lnTo>
                    <a:pt x="66" y="741"/>
                  </a:lnTo>
                  <a:lnTo>
                    <a:pt x="58" y="737"/>
                  </a:lnTo>
                  <a:lnTo>
                    <a:pt x="50" y="733"/>
                  </a:lnTo>
                  <a:lnTo>
                    <a:pt x="43" y="729"/>
                  </a:lnTo>
                  <a:lnTo>
                    <a:pt x="36" y="725"/>
                  </a:lnTo>
                  <a:lnTo>
                    <a:pt x="30" y="721"/>
                  </a:lnTo>
                  <a:lnTo>
                    <a:pt x="24" y="718"/>
                  </a:lnTo>
                  <a:lnTo>
                    <a:pt x="20" y="714"/>
                  </a:lnTo>
                  <a:lnTo>
                    <a:pt x="15" y="708"/>
                  </a:lnTo>
                  <a:lnTo>
                    <a:pt x="11" y="704"/>
                  </a:lnTo>
                  <a:lnTo>
                    <a:pt x="8" y="700"/>
                  </a:lnTo>
                  <a:lnTo>
                    <a:pt x="5" y="695"/>
                  </a:lnTo>
                  <a:lnTo>
                    <a:pt x="3" y="691"/>
                  </a:lnTo>
                  <a:lnTo>
                    <a:pt x="1" y="685"/>
                  </a:lnTo>
                  <a:lnTo>
                    <a:pt x="0" y="681"/>
                  </a:lnTo>
                  <a:lnTo>
                    <a:pt x="0" y="675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5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0" y="50"/>
                  </a:lnTo>
                  <a:lnTo>
                    <a:pt x="36" y="46"/>
                  </a:lnTo>
                  <a:lnTo>
                    <a:pt x="43" y="42"/>
                  </a:lnTo>
                  <a:lnTo>
                    <a:pt x="50" y="39"/>
                  </a:lnTo>
                  <a:lnTo>
                    <a:pt x="58" y="35"/>
                  </a:lnTo>
                  <a:lnTo>
                    <a:pt x="66" y="33"/>
                  </a:lnTo>
                  <a:lnTo>
                    <a:pt x="74" y="29"/>
                  </a:lnTo>
                  <a:lnTo>
                    <a:pt x="82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2" y="17"/>
                  </a:lnTo>
                  <a:lnTo>
                    <a:pt x="122" y="14"/>
                  </a:lnTo>
                  <a:lnTo>
                    <a:pt x="132" y="12"/>
                  </a:lnTo>
                  <a:lnTo>
                    <a:pt x="144" y="10"/>
                  </a:lnTo>
                  <a:lnTo>
                    <a:pt x="155" y="8"/>
                  </a:lnTo>
                  <a:lnTo>
                    <a:pt x="166" y="6"/>
                  </a:lnTo>
                  <a:lnTo>
                    <a:pt x="178" y="4"/>
                  </a:lnTo>
                  <a:lnTo>
                    <a:pt x="191" y="4"/>
                  </a:lnTo>
                  <a:lnTo>
                    <a:pt x="203" y="2"/>
                  </a:lnTo>
                  <a:lnTo>
                    <a:pt x="227" y="0"/>
                  </a:lnTo>
                  <a:lnTo>
                    <a:pt x="254" y="0"/>
                  </a:lnTo>
                  <a:lnTo>
                    <a:pt x="2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33960" y="3962520"/>
              <a:ext cx="806400" cy="75960"/>
            </a:xfrm>
            <a:custGeom>
              <a:avLst/>
              <a:gdLst/>
              <a:ahLst/>
              <a:rect l="l" t="t" r="r" b="b"/>
              <a:pathLst>
                <a:path w="508" h="98">
                  <a:moveTo>
                    <a:pt x="508" y="0"/>
                  </a:moveTo>
                  <a:lnTo>
                    <a:pt x="508" y="6"/>
                  </a:lnTo>
                  <a:lnTo>
                    <a:pt x="507" y="10"/>
                  </a:lnTo>
                  <a:lnTo>
                    <a:pt x="505" y="15"/>
                  </a:lnTo>
                  <a:lnTo>
                    <a:pt x="503" y="19"/>
                  </a:lnTo>
                  <a:lnTo>
                    <a:pt x="500" y="25"/>
                  </a:lnTo>
                  <a:lnTo>
                    <a:pt x="497" y="29"/>
                  </a:lnTo>
                  <a:lnTo>
                    <a:pt x="493" y="33"/>
                  </a:lnTo>
                  <a:lnTo>
                    <a:pt x="489" y="38"/>
                  </a:lnTo>
                  <a:lnTo>
                    <a:pt x="483" y="42"/>
                  </a:lnTo>
                  <a:lnTo>
                    <a:pt x="477" y="46"/>
                  </a:lnTo>
                  <a:lnTo>
                    <a:pt x="471" y="50"/>
                  </a:lnTo>
                  <a:lnTo>
                    <a:pt x="465" y="54"/>
                  </a:lnTo>
                  <a:lnTo>
                    <a:pt x="458" y="58"/>
                  </a:lnTo>
                  <a:lnTo>
                    <a:pt x="450" y="61"/>
                  </a:lnTo>
                  <a:lnTo>
                    <a:pt x="443" y="65"/>
                  </a:lnTo>
                  <a:lnTo>
                    <a:pt x="433" y="69"/>
                  </a:lnTo>
                  <a:lnTo>
                    <a:pt x="425" y="73"/>
                  </a:lnTo>
                  <a:lnTo>
                    <a:pt x="416" y="75"/>
                  </a:lnTo>
                  <a:lnTo>
                    <a:pt x="406" y="79"/>
                  </a:lnTo>
                  <a:lnTo>
                    <a:pt x="396" y="81"/>
                  </a:lnTo>
                  <a:lnTo>
                    <a:pt x="385" y="85"/>
                  </a:lnTo>
                  <a:lnTo>
                    <a:pt x="375" y="86"/>
                  </a:lnTo>
                  <a:lnTo>
                    <a:pt x="364" y="88"/>
                  </a:lnTo>
                  <a:lnTo>
                    <a:pt x="353" y="90"/>
                  </a:lnTo>
                  <a:lnTo>
                    <a:pt x="342" y="92"/>
                  </a:lnTo>
                  <a:lnTo>
                    <a:pt x="329" y="94"/>
                  </a:lnTo>
                  <a:lnTo>
                    <a:pt x="317" y="94"/>
                  </a:lnTo>
                  <a:lnTo>
                    <a:pt x="305" y="96"/>
                  </a:lnTo>
                  <a:lnTo>
                    <a:pt x="280" y="98"/>
                  </a:lnTo>
                  <a:lnTo>
                    <a:pt x="254" y="98"/>
                  </a:lnTo>
                  <a:lnTo>
                    <a:pt x="227" y="98"/>
                  </a:lnTo>
                  <a:lnTo>
                    <a:pt x="203" y="96"/>
                  </a:lnTo>
                  <a:lnTo>
                    <a:pt x="191" y="94"/>
                  </a:lnTo>
                  <a:lnTo>
                    <a:pt x="178" y="94"/>
                  </a:lnTo>
                  <a:lnTo>
                    <a:pt x="166" y="92"/>
                  </a:lnTo>
                  <a:lnTo>
                    <a:pt x="155" y="90"/>
                  </a:lnTo>
                  <a:lnTo>
                    <a:pt x="144" y="88"/>
                  </a:lnTo>
                  <a:lnTo>
                    <a:pt x="132" y="86"/>
                  </a:lnTo>
                  <a:lnTo>
                    <a:pt x="122" y="85"/>
                  </a:lnTo>
                  <a:lnTo>
                    <a:pt x="112" y="81"/>
                  </a:lnTo>
                  <a:lnTo>
                    <a:pt x="102" y="79"/>
                  </a:lnTo>
                  <a:lnTo>
                    <a:pt x="92" y="75"/>
                  </a:lnTo>
                  <a:lnTo>
                    <a:pt x="82" y="73"/>
                  </a:lnTo>
                  <a:lnTo>
                    <a:pt x="74" y="69"/>
                  </a:lnTo>
                  <a:lnTo>
                    <a:pt x="66" y="65"/>
                  </a:lnTo>
                  <a:lnTo>
                    <a:pt x="58" y="61"/>
                  </a:lnTo>
                  <a:lnTo>
                    <a:pt x="50" y="58"/>
                  </a:lnTo>
                  <a:lnTo>
                    <a:pt x="43" y="54"/>
                  </a:lnTo>
                  <a:lnTo>
                    <a:pt x="36" y="50"/>
                  </a:lnTo>
                  <a:lnTo>
                    <a:pt x="30" y="46"/>
                  </a:lnTo>
                  <a:lnTo>
                    <a:pt x="24" y="42"/>
                  </a:lnTo>
                  <a:lnTo>
                    <a:pt x="20" y="38"/>
                  </a:lnTo>
                  <a:lnTo>
                    <a:pt x="15" y="33"/>
                  </a:lnTo>
                  <a:lnTo>
                    <a:pt x="11" y="29"/>
                  </a:lnTo>
                  <a:lnTo>
                    <a:pt x="8" y="25"/>
                  </a:lnTo>
                  <a:lnTo>
                    <a:pt x="5" y="19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76360" y="5113440"/>
              <a:ext cx="1925640" cy="579240"/>
            </a:xfrm>
            <a:custGeom>
              <a:avLst/>
              <a:gdLst/>
              <a:ahLst/>
              <a:rect l="l" t="t" r="r" b="b"/>
              <a:pathLst>
                <a:path w="1213" h="729">
                  <a:moveTo>
                    <a:pt x="607" y="0"/>
                  </a:moveTo>
                  <a:lnTo>
                    <a:pt x="638" y="0"/>
                  </a:lnTo>
                  <a:lnTo>
                    <a:pt x="669" y="2"/>
                  </a:lnTo>
                  <a:lnTo>
                    <a:pt x="698" y="4"/>
                  </a:lnTo>
                  <a:lnTo>
                    <a:pt x="729" y="8"/>
                  </a:lnTo>
                  <a:lnTo>
                    <a:pt x="758" y="12"/>
                  </a:lnTo>
                  <a:lnTo>
                    <a:pt x="787" y="17"/>
                  </a:lnTo>
                  <a:lnTo>
                    <a:pt x="815" y="23"/>
                  </a:lnTo>
                  <a:lnTo>
                    <a:pt x="842" y="29"/>
                  </a:lnTo>
                  <a:lnTo>
                    <a:pt x="870" y="36"/>
                  </a:lnTo>
                  <a:lnTo>
                    <a:pt x="895" y="44"/>
                  </a:lnTo>
                  <a:lnTo>
                    <a:pt x="921" y="54"/>
                  </a:lnTo>
                  <a:lnTo>
                    <a:pt x="945" y="61"/>
                  </a:lnTo>
                  <a:lnTo>
                    <a:pt x="969" y="73"/>
                  </a:lnTo>
                  <a:lnTo>
                    <a:pt x="992" y="82"/>
                  </a:lnTo>
                  <a:lnTo>
                    <a:pt x="1014" y="94"/>
                  </a:lnTo>
                  <a:lnTo>
                    <a:pt x="1035" y="107"/>
                  </a:lnTo>
                  <a:lnTo>
                    <a:pt x="1056" y="119"/>
                  </a:lnTo>
                  <a:lnTo>
                    <a:pt x="1065" y="127"/>
                  </a:lnTo>
                  <a:lnTo>
                    <a:pt x="1074" y="132"/>
                  </a:lnTo>
                  <a:lnTo>
                    <a:pt x="1083" y="140"/>
                  </a:lnTo>
                  <a:lnTo>
                    <a:pt x="1092" y="146"/>
                  </a:lnTo>
                  <a:lnTo>
                    <a:pt x="1100" y="153"/>
                  </a:lnTo>
                  <a:lnTo>
                    <a:pt x="1110" y="161"/>
                  </a:lnTo>
                  <a:lnTo>
                    <a:pt x="1117" y="169"/>
                  </a:lnTo>
                  <a:lnTo>
                    <a:pt x="1125" y="175"/>
                  </a:lnTo>
                  <a:lnTo>
                    <a:pt x="1132" y="182"/>
                  </a:lnTo>
                  <a:lnTo>
                    <a:pt x="1139" y="190"/>
                  </a:lnTo>
                  <a:lnTo>
                    <a:pt x="1146" y="198"/>
                  </a:lnTo>
                  <a:lnTo>
                    <a:pt x="1153" y="207"/>
                  </a:lnTo>
                  <a:lnTo>
                    <a:pt x="1160" y="215"/>
                  </a:lnTo>
                  <a:lnTo>
                    <a:pt x="1165" y="222"/>
                  </a:lnTo>
                  <a:lnTo>
                    <a:pt x="1171" y="230"/>
                  </a:lnTo>
                  <a:lnTo>
                    <a:pt x="1176" y="240"/>
                  </a:lnTo>
                  <a:lnTo>
                    <a:pt x="1181" y="247"/>
                  </a:lnTo>
                  <a:lnTo>
                    <a:pt x="1185" y="255"/>
                  </a:lnTo>
                  <a:lnTo>
                    <a:pt x="1189" y="265"/>
                  </a:lnTo>
                  <a:lnTo>
                    <a:pt x="1193" y="274"/>
                  </a:lnTo>
                  <a:lnTo>
                    <a:pt x="1197" y="282"/>
                  </a:lnTo>
                  <a:lnTo>
                    <a:pt x="1200" y="292"/>
                  </a:lnTo>
                  <a:lnTo>
                    <a:pt x="1204" y="299"/>
                  </a:lnTo>
                  <a:lnTo>
                    <a:pt x="1206" y="309"/>
                  </a:lnTo>
                  <a:lnTo>
                    <a:pt x="1208" y="318"/>
                  </a:lnTo>
                  <a:lnTo>
                    <a:pt x="1210" y="328"/>
                  </a:lnTo>
                  <a:lnTo>
                    <a:pt x="1211" y="336"/>
                  </a:lnTo>
                  <a:lnTo>
                    <a:pt x="1212" y="345"/>
                  </a:lnTo>
                  <a:lnTo>
                    <a:pt x="1213" y="355"/>
                  </a:lnTo>
                  <a:lnTo>
                    <a:pt x="1213" y="364"/>
                  </a:lnTo>
                  <a:lnTo>
                    <a:pt x="1213" y="374"/>
                  </a:lnTo>
                  <a:lnTo>
                    <a:pt x="1212" y="384"/>
                  </a:lnTo>
                  <a:lnTo>
                    <a:pt x="1211" y="393"/>
                  </a:lnTo>
                  <a:lnTo>
                    <a:pt x="1210" y="401"/>
                  </a:lnTo>
                  <a:lnTo>
                    <a:pt x="1208" y="410"/>
                  </a:lnTo>
                  <a:lnTo>
                    <a:pt x="1206" y="420"/>
                  </a:lnTo>
                  <a:lnTo>
                    <a:pt x="1204" y="430"/>
                  </a:lnTo>
                  <a:lnTo>
                    <a:pt x="1200" y="437"/>
                  </a:lnTo>
                  <a:lnTo>
                    <a:pt x="1197" y="447"/>
                  </a:lnTo>
                  <a:lnTo>
                    <a:pt x="1193" y="456"/>
                  </a:lnTo>
                  <a:lnTo>
                    <a:pt x="1189" y="464"/>
                  </a:lnTo>
                  <a:lnTo>
                    <a:pt x="1185" y="474"/>
                  </a:lnTo>
                  <a:lnTo>
                    <a:pt x="1181" y="481"/>
                  </a:lnTo>
                  <a:lnTo>
                    <a:pt x="1176" y="489"/>
                  </a:lnTo>
                  <a:lnTo>
                    <a:pt x="1171" y="499"/>
                  </a:lnTo>
                  <a:lnTo>
                    <a:pt x="1165" y="506"/>
                  </a:lnTo>
                  <a:lnTo>
                    <a:pt x="1160" y="514"/>
                  </a:lnTo>
                  <a:lnTo>
                    <a:pt x="1153" y="522"/>
                  </a:lnTo>
                  <a:lnTo>
                    <a:pt x="1146" y="531"/>
                  </a:lnTo>
                  <a:lnTo>
                    <a:pt x="1139" y="539"/>
                  </a:lnTo>
                  <a:lnTo>
                    <a:pt x="1132" y="547"/>
                  </a:lnTo>
                  <a:lnTo>
                    <a:pt x="1125" y="554"/>
                  </a:lnTo>
                  <a:lnTo>
                    <a:pt x="1117" y="560"/>
                  </a:lnTo>
                  <a:lnTo>
                    <a:pt x="1110" y="568"/>
                  </a:lnTo>
                  <a:lnTo>
                    <a:pt x="1100" y="575"/>
                  </a:lnTo>
                  <a:lnTo>
                    <a:pt x="1092" y="583"/>
                  </a:lnTo>
                  <a:lnTo>
                    <a:pt x="1083" y="589"/>
                  </a:lnTo>
                  <a:lnTo>
                    <a:pt x="1074" y="596"/>
                  </a:lnTo>
                  <a:lnTo>
                    <a:pt x="1065" y="602"/>
                  </a:lnTo>
                  <a:lnTo>
                    <a:pt x="1056" y="610"/>
                  </a:lnTo>
                  <a:lnTo>
                    <a:pt x="1035" y="621"/>
                  </a:lnTo>
                  <a:lnTo>
                    <a:pt x="1014" y="635"/>
                  </a:lnTo>
                  <a:lnTo>
                    <a:pt x="992" y="646"/>
                  </a:lnTo>
                  <a:lnTo>
                    <a:pt x="969" y="656"/>
                  </a:lnTo>
                  <a:lnTo>
                    <a:pt x="945" y="667"/>
                  </a:lnTo>
                  <a:lnTo>
                    <a:pt x="921" y="675"/>
                  </a:lnTo>
                  <a:lnTo>
                    <a:pt x="895" y="685"/>
                  </a:lnTo>
                  <a:lnTo>
                    <a:pt x="870" y="692"/>
                  </a:lnTo>
                  <a:lnTo>
                    <a:pt x="842" y="700"/>
                  </a:lnTo>
                  <a:lnTo>
                    <a:pt x="815" y="706"/>
                  </a:lnTo>
                  <a:lnTo>
                    <a:pt x="787" y="712"/>
                  </a:lnTo>
                  <a:lnTo>
                    <a:pt x="758" y="717"/>
                  </a:lnTo>
                  <a:lnTo>
                    <a:pt x="729" y="721"/>
                  </a:lnTo>
                  <a:lnTo>
                    <a:pt x="698" y="725"/>
                  </a:lnTo>
                  <a:lnTo>
                    <a:pt x="669" y="727"/>
                  </a:lnTo>
                  <a:lnTo>
                    <a:pt x="638" y="729"/>
                  </a:lnTo>
                  <a:lnTo>
                    <a:pt x="607" y="729"/>
                  </a:lnTo>
                  <a:lnTo>
                    <a:pt x="575" y="729"/>
                  </a:lnTo>
                  <a:lnTo>
                    <a:pt x="544" y="727"/>
                  </a:lnTo>
                  <a:lnTo>
                    <a:pt x="515" y="725"/>
                  </a:lnTo>
                  <a:lnTo>
                    <a:pt x="484" y="721"/>
                  </a:lnTo>
                  <a:lnTo>
                    <a:pt x="455" y="717"/>
                  </a:lnTo>
                  <a:lnTo>
                    <a:pt x="426" y="712"/>
                  </a:lnTo>
                  <a:lnTo>
                    <a:pt x="398" y="706"/>
                  </a:lnTo>
                  <a:lnTo>
                    <a:pt x="371" y="700"/>
                  </a:lnTo>
                  <a:lnTo>
                    <a:pt x="344" y="692"/>
                  </a:lnTo>
                  <a:lnTo>
                    <a:pt x="318" y="685"/>
                  </a:lnTo>
                  <a:lnTo>
                    <a:pt x="292" y="677"/>
                  </a:lnTo>
                  <a:lnTo>
                    <a:pt x="268" y="667"/>
                  </a:lnTo>
                  <a:lnTo>
                    <a:pt x="244" y="656"/>
                  </a:lnTo>
                  <a:lnTo>
                    <a:pt x="221" y="646"/>
                  </a:lnTo>
                  <a:lnTo>
                    <a:pt x="199" y="635"/>
                  </a:lnTo>
                  <a:lnTo>
                    <a:pt x="178" y="621"/>
                  </a:lnTo>
                  <a:lnTo>
                    <a:pt x="157" y="610"/>
                  </a:lnTo>
                  <a:lnTo>
                    <a:pt x="148" y="602"/>
                  </a:lnTo>
                  <a:lnTo>
                    <a:pt x="139" y="596"/>
                  </a:lnTo>
                  <a:lnTo>
                    <a:pt x="130" y="589"/>
                  </a:lnTo>
                  <a:lnTo>
                    <a:pt x="121" y="583"/>
                  </a:lnTo>
                  <a:lnTo>
                    <a:pt x="113" y="575"/>
                  </a:lnTo>
                  <a:lnTo>
                    <a:pt x="103" y="568"/>
                  </a:lnTo>
                  <a:lnTo>
                    <a:pt x="96" y="560"/>
                  </a:lnTo>
                  <a:lnTo>
                    <a:pt x="88" y="554"/>
                  </a:lnTo>
                  <a:lnTo>
                    <a:pt x="81" y="547"/>
                  </a:lnTo>
                  <a:lnTo>
                    <a:pt x="74" y="539"/>
                  </a:lnTo>
                  <a:lnTo>
                    <a:pt x="67" y="531"/>
                  </a:lnTo>
                  <a:lnTo>
                    <a:pt x="61" y="522"/>
                  </a:lnTo>
                  <a:lnTo>
                    <a:pt x="54" y="514"/>
                  </a:lnTo>
                  <a:lnTo>
                    <a:pt x="48" y="506"/>
                  </a:lnTo>
                  <a:lnTo>
                    <a:pt x="42" y="499"/>
                  </a:lnTo>
                  <a:lnTo>
                    <a:pt x="37" y="489"/>
                  </a:lnTo>
                  <a:lnTo>
                    <a:pt x="32" y="481"/>
                  </a:lnTo>
                  <a:lnTo>
                    <a:pt x="28" y="474"/>
                  </a:lnTo>
                  <a:lnTo>
                    <a:pt x="24" y="464"/>
                  </a:lnTo>
                  <a:lnTo>
                    <a:pt x="20" y="456"/>
                  </a:lnTo>
                  <a:lnTo>
                    <a:pt x="16" y="447"/>
                  </a:lnTo>
                  <a:lnTo>
                    <a:pt x="13" y="437"/>
                  </a:lnTo>
                  <a:lnTo>
                    <a:pt x="10" y="430"/>
                  </a:lnTo>
                  <a:lnTo>
                    <a:pt x="7" y="420"/>
                  </a:lnTo>
                  <a:lnTo>
                    <a:pt x="5" y="410"/>
                  </a:lnTo>
                  <a:lnTo>
                    <a:pt x="3" y="401"/>
                  </a:lnTo>
                  <a:lnTo>
                    <a:pt x="2" y="393"/>
                  </a:lnTo>
                  <a:lnTo>
                    <a:pt x="1" y="384"/>
                  </a:lnTo>
                  <a:lnTo>
                    <a:pt x="0" y="374"/>
                  </a:lnTo>
                  <a:lnTo>
                    <a:pt x="0" y="364"/>
                  </a:lnTo>
                  <a:lnTo>
                    <a:pt x="0" y="355"/>
                  </a:lnTo>
                  <a:lnTo>
                    <a:pt x="1" y="345"/>
                  </a:lnTo>
                  <a:lnTo>
                    <a:pt x="2" y="336"/>
                  </a:lnTo>
                  <a:lnTo>
                    <a:pt x="3" y="328"/>
                  </a:lnTo>
                  <a:lnTo>
                    <a:pt x="5" y="318"/>
                  </a:lnTo>
                  <a:lnTo>
                    <a:pt x="7" y="309"/>
                  </a:lnTo>
                  <a:lnTo>
                    <a:pt x="10" y="299"/>
                  </a:lnTo>
                  <a:lnTo>
                    <a:pt x="13" y="292"/>
                  </a:lnTo>
                  <a:lnTo>
                    <a:pt x="16" y="282"/>
                  </a:lnTo>
                  <a:lnTo>
                    <a:pt x="20" y="274"/>
                  </a:lnTo>
                  <a:lnTo>
                    <a:pt x="24" y="265"/>
                  </a:lnTo>
                  <a:lnTo>
                    <a:pt x="28" y="255"/>
                  </a:lnTo>
                  <a:lnTo>
                    <a:pt x="32" y="247"/>
                  </a:lnTo>
                  <a:lnTo>
                    <a:pt x="37" y="240"/>
                  </a:lnTo>
                  <a:lnTo>
                    <a:pt x="42" y="230"/>
                  </a:lnTo>
                  <a:lnTo>
                    <a:pt x="48" y="222"/>
                  </a:lnTo>
                  <a:lnTo>
                    <a:pt x="54" y="215"/>
                  </a:lnTo>
                  <a:lnTo>
                    <a:pt x="61" y="207"/>
                  </a:lnTo>
                  <a:lnTo>
                    <a:pt x="67" y="198"/>
                  </a:lnTo>
                  <a:lnTo>
                    <a:pt x="74" y="190"/>
                  </a:lnTo>
                  <a:lnTo>
                    <a:pt x="81" y="182"/>
                  </a:lnTo>
                  <a:lnTo>
                    <a:pt x="88" y="175"/>
                  </a:lnTo>
                  <a:lnTo>
                    <a:pt x="96" y="169"/>
                  </a:lnTo>
                  <a:lnTo>
                    <a:pt x="103" y="161"/>
                  </a:lnTo>
                  <a:lnTo>
                    <a:pt x="113" y="153"/>
                  </a:lnTo>
                  <a:lnTo>
                    <a:pt x="121" y="146"/>
                  </a:lnTo>
                  <a:lnTo>
                    <a:pt x="130" y="140"/>
                  </a:lnTo>
                  <a:lnTo>
                    <a:pt x="139" y="132"/>
                  </a:lnTo>
                  <a:lnTo>
                    <a:pt x="148" y="127"/>
                  </a:lnTo>
                  <a:lnTo>
                    <a:pt x="157" y="119"/>
                  </a:lnTo>
                  <a:lnTo>
                    <a:pt x="178" y="107"/>
                  </a:lnTo>
                  <a:lnTo>
                    <a:pt x="199" y="94"/>
                  </a:lnTo>
                  <a:lnTo>
                    <a:pt x="221" y="82"/>
                  </a:lnTo>
                  <a:lnTo>
                    <a:pt x="244" y="73"/>
                  </a:lnTo>
                  <a:lnTo>
                    <a:pt x="268" y="61"/>
                  </a:lnTo>
                  <a:lnTo>
                    <a:pt x="292" y="52"/>
                  </a:lnTo>
                  <a:lnTo>
                    <a:pt x="318" y="44"/>
                  </a:lnTo>
                  <a:lnTo>
                    <a:pt x="344" y="36"/>
                  </a:lnTo>
                  <a:lnTo>
                    <a:pt x="371" y="29"/>
                  </a:lnTo>
                  <a:lnTo>
                    <a:pt x="398" y="21"/>
                  </a:lnTo>
                  <a:lnTo>
                    <a:pt x="426" y="15"/>
                  </a:lnTo>
                  <a:lnTo>
                    <a:pt x="455" y="12"/>
                  </a:lnTo>
                  <a:lnTo>
                    <a:pt x="484" y="8"/>
                  </a:lnTo>
                  <a:lnTo>
                    <a:pt x="515" y="4"/>
                  </a:lnTo>
                  <a:lnTo>
                    <a:pt x="544" y="2"/>
                  </a:lnTo>
                  <a:lnTo>
                    <a:pt x="575" y="0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76360" y="5113440"/>
              <a:ext cx="1925640" cy="579240"/>
            </a:xfrm>
            <a:custGeom>
              <a:avLst/>
              <a:gdLst/>
              <a:ahLst/>
              <a:rect l="l" t="t" r="r" b="b"/>
              <a:pathLst>
                <a:path w="1213" h="729">
                  <a:moveTo>
                    <a:pt x="607" y="0"/>
                  </a:moveTo>
                  <a:lnTo>
                    <a:pt x="638" y="0"/>
                  </a:lnTo>
                  <a:lnTo>
                    <a:pt x="669" y="2"/>
                  </a:lnTo>
                  <a:lnTo>
                    <a:pt x="698" y="4"/>
                  </a:lnTo>
                  <a:lnTo>
                    <a:pt x="729" y="8"/>
                  </a:lnTo>
                  <a:lnTo>
                    <a:pt x="758" y="12"/>
                  </a:lnTo>
                  <a:lnTo>
                    <a:pt x="787" y="17"/>
                  </a:lnTo>
                  <a:lnTo>
                    <a:pt x="815" y="23"/>
                  </a:lnTo>
                  <a:lnTo>
                    <a:pt x="842" y="29"/>
                  </a:lnTo>
                  <a:lnTo>
                    <a:pt x="870" y="36"/>
                  </a:lnTo>
                  <a:lnTo>
                    <a:pt x="895" y="44"/>
                  </a:lnTo>
                  <a:lnTo>
                    <a:pt x="921" y="54"/>
                  </a:lnTo>
                  <a:lnTo>
                    <a:pt x="945" y="61"/>
                  </a:lnTo>
                  <a:lnTo>
                    <a:pt x="969" y="73"/>
                  </a:lnTo>
                  <a:lnTo>
                    <a:pt x="992" y="82"/>
                  </a:lnTo>
                  <a:lnTo>
                    <a:pt x="1014" y="94"/>
                  </a:lnTo>
                  <a:lnTo>
                    <a:pt x="1035" y="107"/>
                  </a:lnTo>
                  <a:lnTo>
                    <a:pt x="1056" y="119"/>
                  </a:lnTo>
                  <a:lnTo>
                    <a:pt x="1065" y="127"/>
                  </a:lnTo>
                  <a:lnTo>
                    <a:pt x="1074" y="132"/>
                  </a:lnTo>
                  <a:lnTo>
                    <a:pt x="1083" y="140"/>
                  </a:lnTo>
                  <a:lnTo>
                    <a:pt x="1092" y="146"/>
                  </a:lnTo>
                  <a:lnTo>
                    <a:pt x="1100" y="153"/>
                  </a:lnTo>
                  <a:lnTo>
                    <a:pt x="1110" y="161"/>
                  </a:lnTo>
                  <a:lnTo>
                    <a:pt x="1117" y="169"/>
                  </a:lnTo>
                  <a:lnTo>
                    <a:pt x="1125" y="175"/>
                  </a:lnTo>
                  <a:lnTo>
                    <a:pt x="1132" y="182"/>
                  </a:lnTo>
                  <a:lnTo>
                    <a:pt x="1139" y="190"/>
                  </a:lnTo>
                  <a:lnTo>
                    <a:pt x="1146" y="198"/>
                  </a:lnTo>
                  <a:lnTo>
                    <a:pt x="1153" y="207"/>
                  </a:lnTo>
                  <a:lnTo>
                    <a:pt x="1160" y="215"/>
                  </a:lnTo>
                  <a:lnTo>
                    <a:pt x="1165" y="222"/>
                  </a:lnTo>
                  <a:lnTo>
                    <a:pt x="1171" y="230"/>
                  </a:lnTo>
                  <a:lnTo>
                    <a:pt x="1176" y="240"/>
                  </a:lnTo>
                  <a:lnTo>
                    <a:pt x="1181" y="247"/>
                  </a:lnTo>
                  <a:lnTo>
                    <a:pt x="1185" y="255"/>
                  </a:lnTo>
                  <a:lnTo>
                    <a:pt x="1189" y="265"/>
                  </a:lnTo>
                  <a:lnTo>
                    <a:pt x="1193" y="274"/>
                  </a:lnTo>
                  <a:lnTo>
                    <a:pt x="1197" y="282"/>
                  </a:lnTo>
                  <a:lnTo>
                    <a:pt x="1200" y="292"/>
                  </a:lnTo>
                  <a:lnTo>
                    <a:pt x="1204" y="299"/>
                  </a:lnTo>
                  <a:lnTo>
                    <a:pt x="1206" y="309"/>
                  </a:lnTo>
                  <a:lnTo>
                    <a:pt x="1208" y="318"/>
                  </a:lnTo>
                  <a:lnTo>
                    <a:pt x="1210" y="328"/>
                  </a:lnTo>
                  <a:lnTo>
                    <a:pt x="1211" y="336"/>
                  </a:lnTo>
                  <a:lnTo>
                    <a:pt x="1212" y="345"/>
                  </a:lnTo>
                  <a:lnTo>
                    <a:pt x="1213" y="355"/>
                  </a:lnTo>
                  <a:lnTo>
                    <a:pt x="1213" y="364"/>
                  </a:lnTo>
                  <a:lnTo>
                    <a:pt x="1213" y="374"/>
                  </a:lnTo>
                  <a:lnTo>
                    <a:pt x="1212" y="384"/>
                  </a:lnTo>
                  <a:lnTo>
                    <a:pt x="1211" y="393"/>
                  </a:lnTo>
                  <a:lnTo>
                    <a:pt x="1210" y="401"/>
                  </a:lnTo>
                  <a:lnTo>
                    <a:pt x="1208" y="410"/>
                  </a:lnTo>
                  <a:lnTo>
                    <a:pt x="1206" y="420"/>
                  </a:lnTo>
                  <a:lnTo>
                    <a:pt x="1204" y="430"/>
                  </a:lnTo>
                  <a:lnTo>
                    <a:pt x="1200" y="437"/>
                  </a:lnTo>
                  <a:lnTo>
                    <a:pt x="1197" y="447"/>
                  </a:lnTo>
                  <a:lnTo>
                    <a:pt x="1193" y="456"/>
                  </a:lnTo>
                  <a:lnTo>
                    <a:pt x="1189" y="464"/>
                  </a:lnTo>
                  <a:lnTo>
                    <a:pt x="1185" y="474"/>
                  </a:lnTo>
                  <a:lnTo>
                    <a:pt x="1181" y="481"/>
                  </a:lnTo>
                  <a:lnTo>
                    <a:pt x="1176" y="489"/>
                  </a:lnTo>
                  <a:lnTo>
                    <a:pt x="1171" y="499"/>
                  </a:lnTo>
                  <a:lnTo>
                    <a:pt x="1165" y="506"/>
                  </a:lnTo>
                  <a:lnTo>
                    <a:pt x="1160" y="514"/>
                  </a:lnTo>
                  <a:lnTo>
                    <a:pt x="1153" y="522"/>
                  </a:lnTo>
                  <a:lnTo>
                    <a:pt x="1146" y="531"/>
                  </a:lnTo>
                  <a:lnTo>
                    <a:pt x="1139" y="539"/>
                  </a:lnTo>
                  <a:lnTo>
                    <a:pt x="1132" y="547"/>
                  </a:lnTo>
                  <a:lnTo>
                    <a:pt x="1125" y="554"/>
                  </a:lnTo>
                  <a:lnTo>
                    <a:pt x="1117" y="560"/>
                  </a:lnTo>
                  <a:lnTo>
                    <a:pt x="1110" y="568"/>
                  </a:lnTo>
                  <a:lnTo>
                    <a:pt x="1100" y="575"/>
                  </a:lnTo>
                  <a:lnTo>
                    <a:pt x="1092" y="583"/>
                  </a:lnTo>
                  <a:lnTo>
                    <a:pt x="1083" y="589"/>
                  </a:lnTo>
                  <a:lnTo>
                    <a:pt x="1074" y="596"/>
                  </a:lnTo>
                  <a:lnTo>
                    <a:pt x="1065" y="602"/>
                  </a:lnTo>
                  <a:lnTo>
                    <a:pt x="1056" y="610"/>
                  </a:lnTo>
                  <a:lnTo>
                    <a:pt x="1035" y="621"/>
                  </a:lnTo>
                  <a:lnTo>
                    <a:pt x="1014" y="635"/>
                  </a:lnTo>
                  <a:lnTo>
                    <a:pt x="992" y="646"/>
                  </a:lnTo>
                  <a:lnTo>
                    <a:pt x="969" y="656"/>
                  </a:lnTo>
                  <a:lnTo>
                    <a:pt x="945" y="667"/>
                  </a:lnTo>
                  <a:lnTo>
                    <a:pt x="921" y="675"/>
                  </a:lnTo>
                  <a:lnTo>
                    <a:pt x="895" y="685"/>
                  </a:lnTo>
                  <a:lnTo>
                    <a:pt x="870" y="692"/>
                  </a:lnTo>
                  <a:lnTo>
                    <a:pt x="842" y="700"/>
                  </a:lnTo>
                  <a:lnTo>
                    <a:pt x="815" y="706"/>
                  </a:lnTo>
                  <a:lnTo>
                    <a:pt x="787" y="712"/>
                  </a:lnTo>
                  <a:lnTo>
                    <a:pt x="758" y="717"/>
                  </a:lnTo>
                  <a:lnTo>
                    <a:pt x="729" y="721"/>
                  </a:lnTo>
                  <a:lnTo>
                    <a:pt x="698" y="725"/>
                  </a:lnTo>
                  <a:lnTo>
                    <a:pt x="669" y="727"/>
                  </a:lnTo>
                  <a:lnTo>
                    <a:pt x="638" y="729"/>
                  </a:lnTo>
                  <a:lnTo>
                    <a:pt x="607" y="729"/>
                  </a:lnTo>
                  <a:lnTo>
                    <a:pt x="575" y="729"/>
                  </a:lnTo>
                  <a:lnTo>
                    <a:pt x="544" y="727"/>
                  </a:lnTo>
                  <a:lnTo>
                    <a:pt x="515" y="725"/>
                  </a:lnTo>
                  <a:lnTo>
                    <a:pt x="484" y="721"/>
                  </a:lnTo>
                  <a:lnTo>
                    <a:pt x="455" y="717"/>
                  </a:lnTo>
                  <a:lnTo>
                    <a:pt x="426" y="712"/>
                  </a:lnTo>
                  <a:lnTo>
                    <a:pt x="398" y="706"/>
                  </a:lnTo>
                  <a:lnTo>
                    <a:pt x="371" y="700"/>
                  </a:lnTo>
                  <a:lnTo>
                    <a:pt x="344" y="692"/>
                  </a:lnTo>
                  <a:lnTo>
                    <a:pt x="318" y="685"/>
                  </a:lnTo>
                  <a:lnTo>
                    <a:pt x="292" y="677"/>
                  </a:lnTo>
                  <a:lnTo>
                    <a:pt x="268" y="667"/>
                  </a:lnTo>
                  <a:lnTo>
                    <a:pt x="244" y="656"/>
                  </a:lnTo>
                  <a:lnTo>
                    <a:pt x="221" y="646"/>
                  </a:lnTo>
                  <a:lnTo>
                    <a:pt x="199" y="635"/>
                  </a:lnTo>
                  <a:lnTo>
                    <a:pt x="178" y="621"/>
                  </a:lnTo>
                  <a:lnTo>
                    <a:pt x="157" y="610"/>
                  </a:lnTo>
                  <a:lnTo>
                    <a:pt x="148" y="602"/>
                  </a:lnTo>
                  <a:lnTo>
                    <a:pt x="139" y="596"/>
                  </a:lnTo>
                  <a:lnTo>
                    <a:pt x="130" y="589"/>
                  </a:lnTo>
                  <a:lnTo>
                    <a:pt x="121" y="583"/>
                  </a:lnTo>
                  <a:lnTo>
                    <a:pt x="113" y="575"/>
                  </a:lnTo>
                  <a:lnTo>
                    <a:pt x="103" y="568"/>
                  </a:lnTo>
                  <a:lnTo>
                    <a:pt x="96" y="560"/>
                  </a:lnTo>
                  <a:lnTo>
                    <a:pt x="88" y="554"/>
                  </a:lnTo>
                  <a:lnTo>
                    <a:pt x="81" y="547"/>
                  </a:lnTo>
                  <a:lnTo>
                    <a:pt x="74" y="539"/>
                  </a:lnTo>
                  <a:lnTo>
                    <a:pt x="67" y="531"/>
                  </a:lnTo>
                  <a:lnTo>
                    <a:pt x="61" y="522"/>
                  </a:lnTo>
                  <a:lnTo>
                    <a:pt x="54" y="514"/>
                  </a:lnTo>
                  <a:lnTo>
                    <a:pt x="48" y="506"/>
                  </a:lnTo>
                  <a:lnTo>
                    <a:pt x="42" y="499"/>
                  </a:lnTo>
                  <a:lnTo>
                    <a:pt x="37" y="489"/>
                  </a:lnTo>
                  <a:lnTo>
                    <a:pt x="32" y="481"/>
                  </a:lnTo>
                  <a:lnTo>
                    <a:pt x="28" y="474"/>
                  </a:lnTo>
                  <a:lnTo>
                    <a:pt x="24" y="464"/>
                  </a:lnTo>
                  <a:lnTo>
                    <a:pt x="20" y="456"/>
                  </a:lnTo>
                  <a:lnTo>
                    <a:pt x="16" y="447"/>
                  </a:lnTo>
                  <a:lnTo>
                    <a:pt x="13" y="437"/>
                  </a:lnTo>
                  <a:lnTo>
                    <a:pt x="10" y="430"/>
                  </a:lnTo>
                  <a:lnTo>
                    <a:pt x="7" y="420"/>
                  </a:lnTo>
                  <a:lnTo>
                    <a:pt x="5" y="410"/>
                  </a:lnTo>
                  <a:lnTo>
                    <a:pt x="3" y="401"/>
                  </a:lnTo>
                  <a:lnTo>
                    <a:pt x="2" y="393"/>
                  </a:lnTo>
                  <a:lnTo>
                    <a:pt x="1" y="384"/>
                  </a:lnTo>
                  <a:lnTo>
                    <a:pt x="0" y="374"/>
                  </a:lnTo>
                  <a:lnTo>
                    <a:pt x="0" y="364"/>
                  </a:lnTo>
                  <a:lnTo>
                    <a:pt x="0" y="355"/>
                  </a:lnTo>
                  <a:lnTo>
                    <a:pt x="1" y="345"/>
                  </a:lnTo>
                  <a:lnTo>
                    <a:pt x="2" y="336"/>
                  </a:lnTo>
                  <a:lnTo>
                    <a:pt x="3" y="328"/>
                  </a:lnTo>
                  <a:lnTo>
                    <a:pt x="5" y="318"/>
                  </a:lnTo>
                  <a:lnTo>
                    <a:pt x="7" y="309"/>
                  </a:lnTo>
                  <a:lnTo>
                    <a:pt x="10" y="299"/>
                  </a:lnTo>
                  <a:lnTo>
                    <a:pt x="13" y="292"/>
                  </a:lnTo>
                  <a:lnTo>
                    <a:pt x="16" y="282"/>
                  </a:lnTo>
                  <a:lnTo>
                    <a:pt x="20" y="274"/>
                  </a:lnTo>
                  <a:lnTo>
                    <a:pt x="24" y="265"/>
                  </a:lnTo>
                  <a:lnTo>
                    <a:pt x="28" y="255"/>
                  </a:lnTo>
                  <a:lnTo>
                    <a:pt x="32" y="247"/>
                  </a:lnTo>
                  <a:lnTo>
                    <a:pt x="37" y="240"/>
                  </a:lnTo>
                  <a:lnTo>
                    <a:pt x="42" y="230"/>
                  </a:lnTo>
                  <a:lnTo>
                    <a:pt x="48" y="222"/>
                  </a:lnTo>
                  <a:lnTo>
                    <a:pt x="54" y="215"/>
                  </a:lnTo>
                  <a:lnTo>
                    <a:pt x="61" y="207"/>
                  </a:lnTo>
                  <a:lnTo>
                    <a:pt x="67" y="198"/>
                  </a:lnTo>
                  <a:lnTo>
                    <a:pt x="74" y="190"/>
                  </a:lnTo>
                  <a:lnTo>
                    <a:pt x="81" y="182"/>
                  </a:lnTo>
                  <a:lnTo>
                    <a:pt x="88" y="175"/>
                  </a:lnTo>
                  <a:lnTo>
                    <a:pt x="96" y="169"/>
                  </a:lnTo>
                  <a:lnTo>
                    <a:pt x="103" y="161"/>
                  </a:lnTo>
                  <a:lnTo>
                    <a:pt x="113" y="153"/>
                  </a:lnTo>
                  <a:lnTo>
                    <a:pt x="121" y="146"/>
                  </a:lnTo>
                  <a:lnTo>
                    <a:pt x="130" y="140"/>
                  </a:lnTo>
                  <a:lnTo>
                    <a:pt x="139" y="132"/>
                  </a:lnTo>
                  <a:lnTo>
                    <a:pt x="148" y="127"/>
                  </a:lnTo>
                  <a:lnTo>
                    <a:pt x="157" y="119"/>
                  </a:lnTo>
                  <a:lnTo>
                    <a:pt x="178" y="107"/>
                  </a:lnTo>
                  <a:lnTo>
                    <a:pt x="199" y="94"/>
                  </a:lnTo>
                  <a:lnTo>
                    <a:pt x="221" y="82"/>
                  </a:lnTo>
                  <a:lnTo>
                    <a:pt x="244" y="73"/>
                  </a:lnTo>
                  <a:lnTo>
                    <a:pt x="268" y="61"/>
                  </a:lnTo>
                  <a:lnTo>
                    <a:pt x="292" y="52"/>
                  </a:lnTo>
                  <a:lnTo>
                    <a:pt x="318" y="44"/>
                  </a:lnTo>
                  <a:lnTo>
                    <a:pt x="344" y="36"/>
                  </a:lnTo>
                  <a:lnTo>
                    <a:pt x="371" y="29"/>
                  </a:lnTo>
                  <a:lnTo>
                    <a:pt x="398" y="21"/>
                  </a:lnTo>
                  <a:lnTo>
                    <a:pt x="426" y="15"/>
                  </a:lnTo>
                  <a:lnTo>
                    <a:pt x="455" y="12"/>
                  </a:lnTo>
                  <a:lnTo>
                    <a:pt x="484" y="8"/>
                  </a:lnTo>
                  <a:lnTo>
                    <a:pt x="515" y="4"/>
                  </a:lnTo>
                  <a:lnTo>
                    <a:pt x="544" y="2"/>
                  </a:lnTo>
                  <a:lnTo>
                    <a:pt x="575" y="0"/>
                  </a:lnTo>
                  <a:lnTo>
                    <a:pt x="6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86040" y="50054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228">
                  <a:moveTo>
                    <a:pt x="48" y="0"/>
                  </a:moveTo>
                  <a:lnTo>
                    <a:pt x="97" y="228"/>
                  </a:lnTo>
                  <a:lnTo>
                    <a:pt x="0" y="2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86040" y="50054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228">
                  <a:moveTo>
                    <a:pt x="48" y="0"/>
                  </a:moveTo>
                  <a:lnTo>
                    <a:pt x="97" y="228"/>
                  </a:lnTo>
                  <a:lnTo>
                    <a:pt x="0" y="228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86040" y="49323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48" y="0"/>
                  </a:moveTo>
                  <a:lnTo>
                    <a:pt x="53" y="0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9" y="21"/>
                  </a:lnTo>
                  <a:lnTo>
                    <a:pt x="83" y="27"/>
                  </a:lnTo>
                  <a:lnTo>
                    <a:pt x="86" y="34"/>
                  </a:lnTo>
                  <a:lnTo>
                    <a:pt x="89" y="40"/>
                  </a:lnTo>
                  <a:lnTo>
                    <a:pt x="91" y="48"/>
                  </a:lnTo>
                  <a:lnTo>
                    <a:pt x="93" y="57"/>
                  </a:lnTo>
                  <a:lnTo>
                    <a:pt x="95" y="65"/>
                  </a:lnTo>
                  <a:lnTo>
                    <a:pt x="96" y="73"/>
                  </a:lnTo>
                  <a:lnTo>
                    <a:pt x="97" y="82"/>
                  </a:lnTo>
                  <a:lnTo>
                    <a:pt x="97" y="92"/>
                  </a:lnTo>
                  <a:lnTo>
                    <a:pt x="97" y="101"/>
                  </a:lnTo>
                  <a:lnTo>
                    <a:pt x="96" y="111"/>
                  </a:lnTo>
                  <a:lnTo>
                    <a:pt x="95" y="119"/>
                  </a:lnTo>
                  <a:lnTo>
                    <a:pt x="93" y="126"/>
                  </a:lnTo>
                  <a:lnTo>
                    <a:pt x="91" y="134"/>
                  </a:lnTo>
                  <a:lnTo>
                    <a:pt x="89" y="142"/>
                  </a:lnTo>
                  <a:lnTo>
                    <a:pt x="86" y="149"/>
                  </a:lnTo>
                  <a:lnTo>
                    <a:pt x="83" y="155"/>
                  </a:lnTo>
                  <a:lnTo>
                    <a:pt x="79" y="161"/>
                  </a:lnTo>
                  <a:lnTo>
                    <a:pt x="75" y="167"/>
                  </a:lnTo>
                  <a:lnTo>
                    <a:pt x="71" y="170"/>
                  </a:lnTo>
                  <a:lnTo>
                    <a:pt x="66" y="174"/>
                  </a:lnTo>
                  <a:lnTo>
                    <a:pt x="62" y="178"/>
                  </a:lnTo>
                  <a:lnTo>
                    <a:pt x="58" y="180"/>
                  </a:lnTo>
                  <a:lnTo>
                    <a:pt x="53" y="182"/>
                  </a:lnTo>
                  <a:lnTo>
                    <a:pt x="48" y="182"/>
                  </a:lnTo>
                  <a:lnTo>
                    <a:pt x="43" y="182"/>
                  </a:lnTo>
                  <a:lnTo>
                    <a:pt x="39" y="180"/>
                  </a:lnTo>
                  <a:lnTo>
                    <a:pt x="34" y="178"/>
                  </a:lnTo>
                  <a:lnTo>
                    <a:pt x="30" y="174"/>
                  </a:lnTo>
                  <a:lnTo>
                    <a:pt x="25" y="170"/>
                  </a:lnTo>
                  <a:lnTo>
                    <a:pt x="21" y="167"/>
                  </a:lnTo>
                  <a:lnTo>
                    <a:pt x="17" y="161"/>
                  </a:lnTo>
                  <a:lnTo>
                    <a:pt x="14" y="155"/>
                  </a:lnTo>
                  <a:lnTo>
                    <a:pt x="11" y="149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4" y="126"/>
                  </a:lnTo>
                  <a:lnTo>
                    <a:pt x="2" y="119"/>
                  </a:lnTo>
                  <a:lnTo>
                    <a:pt x="1" y="111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1" y="73"/>
                  </a:lnTo>
                  <a:lnTo>
                    <a:pt x="2" y="65"/>
                  </a:lnTo>
                  <a:lnTo>
                    <a:pt x="4" y="57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1" y="34"/>
                  </a:lnTo>
                  <a:lnTo>
                    <a:pt x="14" y="27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5" y="11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6040" y="49323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48" y="0"/>
                  </a:moveTo>
                  <a:lnTo>
                    <a:pt x="53" y="0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9" y="21"/>
                  </a:lnTo>
                  <a:lnTo>
                    <a:pt x="83" y="27"/>
                  </a:lnTo>
                  <a:lnTo>
                    <a:pt x="86" y="34"/>
                  </a:lnTo>
                  <a:lnTo>
                    <a:pt x="89" y="40"/>
                  </a:lnTo>
                  <a:lnTo>
                    <a:pt x="91" y="48"/>
                  </a:lnTo>
                  <a:lnTo>
                    <a:pt x="93" y="57"/>
                  </a:lnTo>
                  <a:lnTo>
                    <a:pt x="95" y="65"/>
                  </a:lnTo>
                  <a:lnTo>
                    <a:pt x="96" y="73"/>
                  </a:lnTo>
                  <a:lnTo>
                    <a:pt x="97" y="82"/>
                  </a:lnTo>
                  <a:lnTo>
                    <a:pt x="97" y="92"/>
                  </a:lnTo>
                  <a:lnTo>
                    <a:pt x="97" y="101"/>
                  </a:lnTo>
                  <a:lnTo>
                    <a:pt x="96" y="111"/>
                  </a:lnTo>
                  <a:lnTo>
                    <a:pt x="95" y="119"/>
                  </a:lnTo>
                  <a:lnTo>
                    <a:pt x="93" y="126"/>
                  </a:lnTo>
                  <a:lnTo>
                    <a:pt x="91" y="134"/>
                  </a:lnTo>
                  <a:lnTo>
                    <a:pt x="89" y="142"/>
                  </a:lnTo>
                  <a:lnTo>
                    <a:pt x="86" y="149"/>
                  </a:lnTo>
                  <a:lnTo>
                    <a:pt x="83" y="155"/>
                  </a:lnTo>
                  <a:lnTo>
                    <a:pt x="79" y="161"/>
                  </a:lnTo>
                  <a:lnTo>
                    <a:pt x="75" y="167"/>
                  </a:lnTo>
                  <a:lnTo>
                    <a:pt x="71" y="170"/>
                  </a:lnTo>
                  <a:lnTo>
                    <a:pt x="66" y="174"/>
                  </a:lnTo>
                  <a:lnTo>
                    <a:pt x="62" y="178"/>
                  </a:lnTo>
                  <a:lnTo>
                    <a:pt x="58" y="180"/>
                  </a:lnTo>
                  <a:lnTo>
                    <a:pt x="53" y="182"/>
                  </a:lnTo>
                  <a:lnTo>
                    <a:pt x="48" y="182"/>
                  </a:lnTo>
                  <a:lnTo>
                    <a:pt x="43" y="182"/>
                  </a:lnTo>
                  <a:lnTo>
                    <a:pt x="39" y="180"/>
                  </a:lnTo>
                  <a:lnTo>
                    <a:pt x="34" y="178"/>
                  </a:lnTo>
                  <a:lnTo>
                    <a:pt x="30" y="174"/>
                  </a:lnTo>
                  <a:lnTo>
                    <a:pt x="25" y="170"/>
                  </a:lnTo>
                  <a:lnTo>
                    <a:pt x="21" y="167"/>
                  </a:lnTo>
                  <a:lnTo>
                    <a:pt x="17" y="161"/>
                  </a:lnTo>
                  <a:lnTo>
                    <a:pt x="14" y="155"/>
                  </a:lnTo>
                  <a:lnTo>
                    <a:pt x="11" y="149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4" y="126"/>
                  </a:lnTo>
                  <a:lnTo>
                    <a:pt x="2" y="119"/>
                  </a:lnTo>
                  <a:lnTo>
                    <a:pt x="1" y="111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1" y="73"/>
                  </a:lnTo>
                  <a:lnTo>
                    <a:pt x="2" y="65"/>
                  </a:lnTo>
                  <a:lnTo>
                    <a:pt x="4" y="57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1" y="34"/>
                  </a:lnTo>
                  <a:lnTo>
                    <a:pt x="14" y="27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5" y="11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4200" y="5076720"/>
              <a:ext cx="268200" cy="327240"/>
            </a:xfrm>
            <a:custGeom>
              <a:avLst/>
              <a:gdLst/>
              <a:ahLst/>
              <a:rect l="l" t="t" r="r" b="b"/>
              <a:pathLst>
                <a:path w="169" h="410">
                  <a:moveTo>
                    <a:pt x="169" y="0"/>
                  </a:moveTo>
                  <a:lnTo>
                    <a:pt x="0" y="0"/>
                  </a:lnTo>
                  <a:lnTo>
                    <a:pt x="0" y="41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40120" y="5005440"/>
              <a:ext cx="960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4360" y="3741840"/>
              <a:ext cx="731880" cy="1481040"/>
            </a:xfrm>
            <a:custGeom>
              <a:avLst/>
              <a:gdLst/>
              <a:ahLst/>
              <a:rect l="l" t="t" r="r" b="b"/>
              <a:pathLst>
                <a:path w="461" h="1866">
                  <a:moveTo>
                    <a:pt x="0" y="1866"/>
                  </a:moveTo>
                  <a:lnTo>
                    <a:pt x="170" y="1866"/>
                  </a:lnTo>
                  <a:lnTo>
                    <a:pt x="170" y="0"/>
                  </a:lnTo>
                  <a:lnTo>
                    <a:pt x="461" y="0"/>
                  </a:lnTo>
                  <a:lnTo>
                    <a:pt x="461" y="22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64520" y="5181480"/>
              <a:ext cx="615960" cy="84240"/>
            </a:xfrm>
            <a:custGeom>
              <a:avLst/>
              <a:gdLst/>
              <a:ahLst/>
              <a:rect l="l" t="t" r="r" b="b"/>
              <a:pathLst>
                <a:path w="388" h="108">
                  <a:moveTo>
                    <a:pt x="0" y="35"/>
                  </a:moveTo>
                  <a:lnTo>
                    <a:pt x="340" y="35"/>
                  </a:lnTo>
                  <a:lnTo>
                    <a:pt x="340" y="71"/>
                  </a:lnTo>
                  <a:lnTo>
                    <a:pt x="0" y="71"/>
                  </a:lnTo>
                  <a:lnTo>
                    <a:pt x="0" y="35"/>
                  </a:lnTo>
                  <a:close/>
                  <a:moveTo>
                    <a:pt x="331" y="0"/>
                  </a:moveTo>
                  <a:lnTo>
                    <a:pt x="388" y="54"/>
                  </a:lnTo>
                  <a:lnTo>
                    <a:pt x="331" y="10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56240" y="4498920"/>
              <a:ext cx="538200" cy="689040"/>
            </a:xfrm>
            <a:custGeom>
              <a:avLst/>
              <a:gdLst/>
              <a:ahLst/>
              <a:rect l="l" t="t" r="r" b="b"/>
              <a:pathLst>
                <a:path w="339" h="867">
                  <a:moveTo>
                    <a:pt x="0" y="0"/>
                  </a:moveTo>
                  <a:lnTo>
                    <a:pt x="0" y="867"/>
                  </a:lnTo>
                  <a:lnTo>
                    <a:pt x="339" y="867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10160" y="4210200"/>
              <a:ext cx="498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89400" y="4324320"/>
              <a:ext cx="108000" cy="752400"/>
            </a:xfrm>
            <a:custGeom>
              <a:avLst/>
              <a:gdLst/>
              <a:ahLst/>
              <a:rect l="l" t="t" r="r" b="b"/>
              <a:pathLst>
                <a:path w="68" h="947">
                  <a:moveTo>
                    <a:pt x="68" y="947"/>
                  </a:move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10160" y="4210200"/>
              <a:ext cx="498240" cy="32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24280" y="42642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2120" y="4264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4840" y="4175280"/>
              <a:ext cx="50148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37320" y="4289400"/>
              <a:ext cx="371520" cy="569880"/>
            </a:xfrm>
            <a:custGeom>
              <a:avLst/>
              <a:gdLst/>
              <a:ahLst/>
              <a:rect l="l" t="t" r="r" b="b"/>
              <a:pathLst>
                <a:path w="234" h="720">
                  <a:moveTo>
                    <a:pt x="234" y="720"/>
                  </a:move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54840" y="4175280"/>
              <a:ext cx="501480" cy="32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2200" y="422748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40040" y="4227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680" y="3957480"/>
              <a:ext cx="5000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3720" y="4071960"/>
              <a:ext cx="372960" cy="569880"/>
            </a:xfrm>
            <a:custGeom>
              <a:avLst/>
              <a:gdLst/>
              <a:ahLst/>
              <a:rect l="l" t="t" r="r" b="b"/>
              <a:pathLst>
                <a:path w="235" h="719">
                  <a:moveTo>
                    <a:pt x="235" y="719"/>
                  </a:move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32680" y="3957480"/>
              <a:ext cx="500040" cy="32544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50040" y="40194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17880" y="401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24160" y="4390920"/>
              <a:ext cx="498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6800" y="4500720"/>
              <a:ext cx="41040" cy="887400"/>
            </a:xfrm>
            <a:custGeom>
              <a:avLst/>
              <a:gdLst/>
              <a:ahLst/>
              <a:rect l="l" t="t" r="r" b="b"/>
              <a:pathLst>
                <a:path w="26" h="1118">
                  <a:moveTo>
                    <a:pt x="0" y="1112"/>
                  </a:moveTo>
                  <a:lnTo>
                    <a:pt x="0" y="1076"/>
                  </a:lnTo>
                  <a:lnTo>
                    <a:pt x="0" y="1074"/>
                  </a:lnTo>
                  <a:lnTo>
                    <a:pt x="1" y="1072"/>
                  </a:lnTo>
                  <a:lnTo>
                    <a:pt x="3" y="1070"/>
                  </a:lnTo>
                  <a:lnTo>
                    <a:pt x="4" y="1070"/>
                  </a:lnTo>
                  <a:lnTo>
                    <a:pt x="5" y="1070"/>
                  </a:lnTo>
                  <a:lnTo>
                    <a:pt x="6" y="1072"/>
                  </a:lnTo>
                  <a:lnTo>
                    <a:pt x="7" y="1074"/>
                  </a:lnTo>
                  <a:lnTo>
                    <a:pt x="7" y="1076"/>
                  </a:lnTo>
                  <a:lnTo>
                    <a:pt x="6" y="1112"/>
                  </a:lnTo>
                  <a:lnTo>
                    <a:pt x="6" y="1114"/>
                  </a:lnTo>
                  <a:lnTo>
                    <a:pt x="5" y="1116"/>
                  </a:lnTo>
                  <a:lnTo>
                    <a:pt x="4" y="1118"/>
                  </a:lnTo>
                  <a:lnTo>
                    <a:pt x="3" y="1118"/>
                  </a:lnTo>
                  <a:lnTo>
                    <a:pt x="2" y="1118"/>
                  </a:lnTo>
                  <a:lnTo>
                    <a:pt x="1" y="1116"/>
                  </a:lnTo>
                  <a:lnTo>
                    <a:pt x="0" y="1114"/>
                  </a:lnTo>
                  <a:lnTo>
                    <a:pt x="0" y="1112"/>
                  </a:lnTo>
                  <a:lnTo>
                    <a:pt x="0" y="1112"/>
                  </a:lnTo>
                  <a:close/>
                  <a:moveTo>
                    <a:pt x="1" y="1028"/>
                  </a:moveTo>
                  <a:lnTo>
                    <a:pt x="2" y="992"/>
                  </a:lnTo>
                  <a:lnTo>
                    <a:pt x="2" y="990"/>
                  </a:lnTo>
                  <a:lnTo>
                    <a:pt x="3" y="988"/>
                  </a:lnTo>
                  <a:lnTo>
                    <a:pt x="4" y="986"/>
                  </a:lnTo>
                  <a:lnTo>
                    <a:pt x="5" y="986"/>
                  </a:lnTo>
                  <a:lnTo>
                    <a:pt x="6" y="986"/>
                  </a:lnTo>
                  <a:lnTo>
                    <a:pt x="7" y="988"/>
                  </a:lnTo>
                  <a:lnTo>
                    <a:pt x="8" y="990"/>
                  </a:lnTo>
                  <a:lnTo>
                    <a:pt x="8" y="992"/>
                  </a:lnTo>
                  <a:lnTo>
                    <a:pt x="7" y="1028"/>
                  </a:lnTo>
                  <a:lnTo>
                    <a:pt x="7" y="1030"/>
                  </a:lnTo>
                  <a:lnTo>
                    <a:pt x="6" y="1032"/>
                  </a:lnTo>
                  <a:lnTo>
                    <a:pt x="5" y="1034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2" y="1032"/>
                  </a:lnTo>
                  <a:lnTo>
                    <a:pt x="1" y="1030"/>
                  </a:lnTo>
                  <a:lnTo>
                    <a:pt x="1" y="1028"/>
                  </a:lnTo>
                  <a:lnTo>
                    <a:pt x="1" y="1028"/>
                  </a:lnTo>
                  <a:close/>
                  <a:moveTo>
                    <a:pt x="2" y="944"/>
                  </a:moveTo>
                  <a:lnTo>
                    <a:pt x="3" y="909"/>
                  </a:lnTo>
                  <a:lnTo>
                    <a:pt x="3" y="907"/>
                  </a:lnTo>
                  <a:lnTo>
                    <a:pt x="4" y="903"/>
                  </a:lnTo>
                  <a:lnTo>
                    <a:pt x="5" y="903"/>
                  </a:lnTo>
                  <a:lnTo>
                    <a:pt x="5" y="903"/>
                  </a:lnTo>
                  <a:lnTo>
                    <a:pt x="6" y="903"/>
                  </a:lnTo>
                  <a:lnTo>
                    <a:pt x="7" y="903"/>
                  </a:lnTo>
                  <a:lnTo>
                    <a:pt x="8" y="905"/>
                  </a:lnTo>
                  <a:lnTo>
                    <a:pt x="9" y="907"/>
                  </a:lnTo>
                  <a:lnTo>
                    <a:pt x="9" y="909"/>
                  </a:lnTo>
                  <a:lnTo>
                    <a:pt x="9" y="944"/>
                  </a:lnTo>
                  <a:lnTo>
                    <a:pt x="8" y="946"/>
                  </a:lnTo>
                  <a:lnTo>
                    <a:pt x="7" y="949"/>
                  </a:lnTo>
                  <a:lnTo>
                    <a:pt x="6" y="951"/>
                  </a:lnTo>
                  <a:lnTo>
                    <a:pt x="5" y="951"/>
                  </a:lnTo>
                  <a:lnTo>
                    <a:pt x="4" y="949"/>
                  </a:lnTo>
                  <a:lnTo>
                    <a:pt x="3" y="948"/>
                  </a:lnTo>
                  <a:lnTo>
                    <a:pt x="2" y="946"/>
                  </a:lnTo>
                  <a:lnTo>
                    <a:pt x="2" y="944"/>
                  </a:lnTo>
                  <a:lnTo>
                    <a:pt x="2" y="944"/>
                  </a:lnTo>
                  <a:close/>
                  <a:moveTo>
                    <a:pt x="3" y="861"/>
                  </a:moveTo>
                  <a:lnTo>
                    <a:pt x="4" y="825"/>
                  </a:lnTo>
                  <a:lnTo>
                    <a:pt x="4" y="823"/>
                  </a:lnTo>
                  <a:lnTo>
                    <a:pt x="5" y="821"/>
                  </a:lnTo>
                  <a:lnTo>
                    <a:pt x="6" y="819"/>
                  </a:lnTo>
                  <a:lnTo>
                    <a:pt x="7" y="819"/>
                  </a:lnTo>
                  <a:lnTo>
                    <a:pt x="8" y="819"/>
                  </a:lnTo>
                  <a:lnTo>
                    <a:pt x="9" y="821"/>
                  </a:lnTo>
                  <a:lnTo>
                    <a:pt x="10" y="823"/>
                  </a:lnTo>
                  <a:lnTo>
                    <a:pt x="10" y="825"/>
                  </a:lnTo>
                  <a:lnTo>
                    <a:pt x="10" y="861"/>
                  </a:lnTo>
                  <a:lnTo>
                    <a:pt x="10" y="863"/>
                  </a:lnTo>
                  <a:lnTo>
                    <a:pt x="9" y="865"/>
                  </a:lnTo>
                  <a:lnTo>
                    <a:pt x="7" y="867"/>
                  </a:lnTo>
                  <a:lnTo>
                    <a:pt x="6" y="867"/>
                  </a:lnTo>
                  <a:lnTo>
                    <a:pt x="5" y="867"/>
                  </a:lnTo>
                  <a:lnTo>
                    <a:pt x="4" y="865"/>
                  </a:lnTo>
                  <a:lnTo>
                    <a:pt x="3" y="863"/>
                  </a:lnTo>
                  <a:lnTo>
                    <a:pt x="3" y="861"/>
                  </a:lnTo>
                  <a:lnTo>
                    <a:pt x="3" y="861"/>
                  </a:lnTo>
                  <a:close/>
                  <a:moveTo>
                    <a:pt x="5" y="777"/>
                  </a:moveTo>
                  <a:lnTo>
                    <a:pt x="5" y="740"/>
                  </a:lnTo>
                  <a:lnTo>
                    <a:pt x="5" y="738"/>
                  </a:lnTo>
                  <a:lnTo>
                    <a:pt x="6" y="737"/>
                  </a:lnTo>
                  <a:lnTo>
                    <a:pt x="7" y="735"/>
                  </a:lnTo>
                  <a:lnTo>
                    <a:pt x="8" y="735"/>
                  </a:lnTo>
                  <a:lnTo>
                    <a:pt x="9" y="735"/>
                  </a:lnTo>
                  <a:lnTo>
                    <a:pt x="10" y="737"/>
                  </a:lnTo>
                  <a:lnTo>
                    <a:pt x="11" y="738"/>
                  </a:lnTo>
                  <a:lnTo>
                    <a:pt x="11" y="740"/>
                  </a:lnTo>
                  <a:lnTo>
                    <a:pt x="11" y="777"/>
                  </a:lnTo>
                  <a:lnTo>
                    <a:pt x="11" y="779"/>
                  </a:lnTo>
                  <a:lnTo>
                    <a:pt x="10" y="781"/>
                  </a:lnTo>
                  <a:lnTo>
                    <a:pt x="9" y="783"/>
                  </a:lnTo>
                  <a:lnTo>
                    <a:pt x="8" y="783"/>
                  </a:lnTo>
                  <a:lnTo>
                    <a:pt x="7" y="783"/>
                  </a:lnTo>
                  <a:lnTo>
                    <a:pt x="6" y="781"/>
                  </a:lnTo>
                  <a:lnTo>
                    <a:pt x="5" y="779"/>
                  </a:lnTo>
                  <a:lnTo>
                    <a:pt x="5" y="777"/>
                  </a:lnTo>
                  <a:lnTo>
                    <a:pt x="5" y="777"/>
                  </a:lnTo>
                  <a:close/>
                  <a:moveTo>
                    <a:pt x="6" y="692"/>
                  </a:moveTo>
                  <a:lnTo>
                    <a:pt x="6" y="656"/>
                  </a:lnTo>
                  <a:lnTo>
                    <a:pt x="6" y="654"/>
                  </a:lnTo>
                  <a:lnTo>
                    <a:pt x="7" y="652"/>
                  </a:lnTo>
                  <a:lnTo>
                    <a:pt x="8" y="650"/>
                  </a:lnTo>
                  <a:lnTo>
                    <a:pt x="9" y="650"/>
                  </a:lnTo>
                  <a:lnTo>
                    <a:pt x="10" y="650"/>
                  </a:lnTo>
                  <a:lnTo>
                    <a:pt x="12" y="652"/>
                  </a:lnTo>
                  <a:lnTo>
                    <a:pt x="13" y="656"/>
                  </a:lnTo>
                  <a:lnTo>
                    <a:pt x="13" y="658"/>
                  </a:lnTo>
                  <a:lnTo>
                    <a:pt x="12" y="692"/>
                  </a:lnTo>
                  <a:lnTo>
                    <a:pt x="12" y="694"/>
                  </a:lnTo>
                  <a:lnTo>
                    <a:pt x="11" y="696"/>
                  </a:lnTo>
                  <a:lnTo>
                    <a:pt x="10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7" y="696"/>
                  </a:lnTo>
                  <a:lnTo>
                    <a:pt x="6" y="694"/>
                  </a:lnTo>
                  <a:lnTo>
                    <a:pt x="6" y="692"/>
                  </a:lnTo>
                  <a:lnTo>
                    <a:pt x="6" y="692"/>
                  </a:lnTo>
                  <a:close/>
                  <a:moveTo>
                    <a:pt x="7" y="608"/>
                  </a:moveTo>
                  <a:lnTo>
                    <a:pt x="7" y="574"/>
                  </a:lnTo>
                  <a:lnTo>
                    <a:pt x="7" y="572"/>
                  </a:lnTo>
                  <a:lnTo>
                    <a:pt x="8" y="570"/>
                  </a:lnTo>
                  <a:lnTo>
                    <a:pt x="10" y="568"/>
                  </a:lnTo>
                  <a:lnTo>
                    <a:pt x="11" y="568"/>
                  </a:lnTo>
                  <a:lnTo>
                    <a:pt x="12" y="568"/>
                  </a:lnTo>
                  <a:lnTo>
                    <a:pt x="13" y="570"/>
                  </a:lnTo>
                  <a:lnTo>
                    <a:pt x="14" y="572"/>
                  </a:lnTo>
                  <a:lnTo>
                    <a:pt x="14" y="574"/>
                  </a:lnTo>
                  <a:lnTo>
                    <a:pt x="13" y="610"/>
                  </a:lnTo>
                  <a:lnTo>
                    <a:pt x="13" y="612"/>
                  </a:lnTo>
                  <a:lnTo>
                    <a:pt x="12" y="614"/>
                  </a:lnTo>
                  <a:lnTo>
                    <a:pt x="11" y="616"/>
                  </a:lnTo>
                  <a:lnTo>
                    <a:pt x="10" y="616"/>
                  </a:lnTo>
                  <a:lnTo>
                    <a:pt x="9" y="616"/>
                  </a:lnTo>
                  <a:lnTo>
                    <a:pt x="8" y="614"/>
                  </a:lnTo>
                  <a:lnTo>
                    <a:pt x="7" y="610"/>
                  </a:lnTo>
                  <a:lnTo>
                    <a:pt x="7" y="608"/>
                  </a:lnTo>
                  <a:lnTo>
                    <a:pt x="7" y="608"/>
                  </a:lnTo>
                  <a:close/>
                  <a:moveTo>
                    <a:pt x="8" y="526"/>
                  </a:moveTo>
                  <a:lnTo>
                    <a:pt x="9" y="489"/>
                  </a:lnTo>
                  <a:lnTo>
                    <a:pt x="9" y="487"/>
                  </a:lnTo>
                  <a:lnTo>
                    <a:pt x="10" y="485"/>
                  </a:lnTo>
                  <a:lnTo>
                    <a:pt x="11" y="483"/>
                  </a:lnTo>
                  <a:lnTo>
                    <a:pt x="12" y="483"/>
                  </a:lnTo>
                  <a:lnTo>
                    <a:pt x="13" y="483"/>
                  </a:lnTo>
                  <a:lnTo>
                    <a:pt x="14" y="485"/>
                  </a:lnTo>
                  <a:lnTo>
                    <a:pt x="15" y="487"/>
                  </a:lnTo>
                  <a:lnTo>
                    <a:pt x="15" y="489"/>
                  </a:lnTo>
                  <a:lnTo>
                    <a:pt x="14" y="526"/>
                  </a:lnTo>
                  <a:lnTo>
                    <a:pt x="14" y="528"/>
                  </a:lnTo>
                  <a:lnTo>
                    <a:pt x="13" y="529"/>
                  </a:lnTo>
                  <a:lnTo>
                    <a:pt x="12" y="531"/>
                  </a:lnTo>
                  <a:lnTo>
                    <a:pt x="11" y="531"/>
                  </a:lnTo>
                  <a:lnTo>
                    <a:pt x="10" y="531"/>
                  </a:lnTo>
                  <a:lnTo>
                    <a:pt x="9" y="529"/>
                  </a:lnTo>
                  <a:lnTo>
                    <a:pt x="8" y="528"/>
                  </a:lnTo>
                  <a:lnTo>
                    <a:pt x="8" y="526"/>
                  </a:lnTo>
                  <a:lnTo>
                    <a:pt x="8" y="526"/>
                  </a:lnTo>
                  <a:close/>
                  <a:moveTo>
                    <a:pt x="9" y="441"/>
                  </a:moveTo>
                  <a:lnTo>
                    <a:pt x="10" y="405"/>
                  </a:lnTo>
                  <a:lnTo>
                    <a:pt x="10" y="403"/>
                  </a:lnTo>
                  <a:lnTo>
                    <a:pt x="11" y="401"/>
                  </a:lnTo>
                  <a:lnTo>
                    <a:pt x="12" y="399"/>
                  </a:lnTo>
                  <a:lnTo>
                    <a:pt x="13" y="399"/>
                  </a:lnTo>
                  <a:lnTo>
                    <a:pt x="14" y="399"/>
                  </a:lnTo>
                  <a:lnTo>
                    <a:pt x="15" y="401"/>
                  </a:lnTo>
                  <a:lnTo>
                    <a:pt x="16" y="403"/>
                  </a:lnTo>
                  <a:lnTo>
                    <a:pt x="16" y="405"/>
                  </a:lnTo>
                  <a:lnTo>
                    <a:pt x="16" y="441"/>
                  </a:lnTo>
                  <a:lnTo>
                    <a:pt x="15" y="443"/>
                  </a:lnTo>
                  <a:lnTo>
                    <a:pt x="14" y="445"/>
                  </a:lnTo>
                  <a:lnTo>
                    <a:pt x="13" y="447"/>
                  </a:lnTo>
                  <a:lnTo>
                    <a:pt x="12" y="447"/>
                  </a:lnTo>
                  <a:lnTo>
                    <a:pt x="11" y="447"/>
                  </a:lnTo>
                  <a:lnTo>
                    <a:pt x="10" y="445"/>
                  </a:lnTo>
                  <a:lnTo>
                    <a:pt x="9" y="443"/>
                  </a:lnTo>
                  <a:lnTo>
                    <a:pt x="9" y="441"/>
                  </a:lnTo>
                  <a:lnTo>
                    <a:pt x="9" y="441"/>
                  </a:lnTo>
                  <a:close/>
                  <a:moveTo>
                    <a:pt x="10" y="357"/>
                  </a:moveTo>
                  <a:lnTo>
                    <a:pt x="11" y="320"/>
                  </a:lnTo>
                  <a:lnTo>
                    <a:pt x="11" y="318"/>
                  </a:lnTo>
                  <a:lnTo>
                    <a:pt x="12" y="317"/>
                  </a:lnTo>
                  <a:lnTo>
                    <a:pt x="13" y="315"/>
                  </a:lnTo>
                  <a:lnTo>
                    <a:pt x="14" y="315"/>
                  </a:lnTo>
                  <a:lnTo>
                    <a:pt x="15" y="315"/>
                  </a:lnTo>
                  <a:lnTo>
                    <a:pt x="16" y="317"/>
                  </a:lnTo>
                  <a:lnTo>
                    <a:pt x="17" y="320"/>
                  </a:lnTo>
                  <a:lnTo>
                    <a:pt x="17" y="322"/>
                  </a:lnTo>
                  <a:lnTo>
                    <a:pt x="17" y="357"/>
                  </a:lnTo>
                  <a:lnTo>
                    <a:pt x="17" y="359"/>
                  </a:lnTo>
                  <a:lnTo>
                    <a:pt x="16" y="361"/>
                  </a:lnTo>
                  <a:lnTo>
                    <a:pt x="14" y="363"/>
                  </a:lnTo>
                  <a:lnTo>
                    <a:pt x="13" y="363"/>
                  </a:lnTo>
                  <a:lnTo>
                    <a:pt x="12" y="363"/>
                  </a:lnTo>
                  <a:lnTo>
                    <a:pt x="11" y="361"/>
                  </a:lnTo>
                  <a:lnTo>
                    <a:pt x="10" y="359"/>
                  </a:lnTo>
                  <a:lnTo>
                    <a:pt x="10" y="357"/>
                  </a:lnTo>
                  <a:lnTo>
                    <a:pt x="10" y="357"/>
                  </a:lnTo>
                  <a:close/>
                  <a:moveTo>
                    <a:pt x="12" y="272"/>
                  </a:moveTo>
                  <a:lnTo>
                    <a:pt x="12" y="238"/>
                  </a:lnTo>
                  <a:lnTo>
                    <a:pt x="12" y="236"/>
                  </a:lnTo>
                  <a:lnTo>
                    <a:pt x="13" y="234"/>
                  </a:lnTo>
                  <a:lnTo>
                    <a:pt x="14" y="232"/>
                  </a:lnTo>
                  <a:lnTo>
                    <a:pt x="15" y="232"/>
                  </a:lnTo>
                  <a:lnTo>
                    <a:pt x="16" y="232"/>
                  </a:lnTo>
                  <a:lnTo>
                    <a:pt x="17" y="234"/>
                  </a:lnTo>
                  <a:lnTo>
                    <a:pt x="18" y="236"/>
                  </a:lnTo>
                  <a:lnTo>
                    <a:pt x="18" y="238"/>
                  </a:lnTo>
                  <a:lnTo>
                    <a:pt x="18" y="274"/>
                  </a:lnTo>
                  <a:lnTo>
                    <a:pt x="18" y="276"/>
                  </a:lnTo>
                  <a:lnTo>
                    <a:pt x="17" y="278"/>
                  </a:lnTo>
                  <a:lnTo>
                    <a:pt x="16" y="280"/>
                  </a:lnTo>
                  <a:lnTo>
                    <a:pt x="15" y="280"/>
                  </a:lnTo>
                  <a:lnTo>
                    <a:pt x="14" y="280"/>
                  </a:lnTo>
                  <a:lnTo>
                    <a:pt x="13" y="278"/>
                  </a:lnTo>
                  <a:lnTo>
                    <a:pt x="12" y="274"/>
                  </a:lnTo>
                  <a:lnTo>
                    <a:pt x="12" y="272"/>
                  </a:lnTo>
                  <a:lnTo>
                    <a:pt x="12" y="272"/>
                  </a:lnTo>
                  <a:close/>
                  <a:moveTo>
                    <a:pt x="13" y="190"/>
                  </a:moveTo>
                  <a:lnTo>
                    <a:pt x="13" y="154"/>
                  </a:lnTo>
                  <a:lnTo>
                    <a:pt x="13" y="152"/>
                  </a:lnTo>
                  <a:lnTo>
                    <a:pt x="14" y="150"/>
                  </a:lnTo>
                  <a:lnTo>
                    <a:pt x="16" y="148"/>
                  </a:lnTo>
                  <a:lnTo>
                    <a:pt x="17" y="148"/>
                  </a:lnTo>
                  <a:lnTo>
                    <a:pt x="18" y="148"/>
                  </a:lnTo>
                  <a:lnTo>
                    <a:pt x="19" y="15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9" y="190"/>
                  </a:lnTo>
                  <a:lnTo>
                    <a:pt x="19" y="192"/>
                  </a:lnTo>
                  <a:lnTo>
                    <a:pt x="18" y="194"/>
                  </a:lnTo>
                  <a:lnTo>
                    <a:pt x="17" y="196"/>
                  </a:lnTo>
                  <a:lnTo>
                    <a:pt x="16" y="196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2"/>
                  </a:lnTo>
                  <a:lnTo>
                    <a:pt x="13" y="190"/>
                  </a:lnTo>
                  <a:lnTo>
                    <a:pt x="13" y="190"/>
                  </a:lnTo>
                  <a:close/>
                  <a:moveTo>
                    <a:pt x="14" y="106"/>
                  </a:moveTo>
                  <a:lnTo>
                    <a:pt x="14" y="69"/>
                  </a:lnTo>
                  <a:lnTo>
                    <a:pt x="15" y="67"/>
                  </a:lnTo>
                  <a:lnTo>
                    <a:pt x="16" y="65"/>
                  </a:lnTo>
                  <a:lnTo>
                    <a:pt x="17" y="63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5"/>
                  </a:lnTo>
                  <a:lnTo>
                    <a:pt x="21" y="67"/>
                  </a:lnTo>
                  <a:lnTo>
                    <a:pt x="21" y="69"/>
                  </a:lnTo>
                  <a:lnTo>
                    <a:pt x="20" y="106"/>
                  </a:lnTo>
                  <a:lnTo>
                    <a:pt x="20" y="107"/>
                  </a:lnTo>
                  <a:lnTo>
                    <a:pt x="19" y="109"/>
                  </a:lnTo>
                  <a:lnTo>
                    <a:pt x="18" y="111"/>
                  </a:lnTo>
                  <a:lnTo>
                    <a:pt x="17" y="111"/>
                  </a:lnTo>
                  <a:lnTo>
                    <a:pt x="16" y="111"/>
                  </a:lnTo>
                  <a:lnTo>
                    <a:pt x="15" y="109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6"/>
                  </a:lnTo>
                  <a:close/>
                  <a:moveTo>
                    <a:pt x="15" y="21"/>
                  </a:moveTo>
                  <a:lnTo>
                    <a:pt x="15" y="6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6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19480" y="4386240"/>
              <a:ext cx="509400" cy="335160"/>
            </a:xfrm>
            <a:custGeom>
              <a:avLst/>
              <a:gdLst/>
              <a:ahLst/>
              <a:rect l="l" t="t" r="r" b="b"/>
              <a:pathLst>
                <a:path w="321" h="422">
                  <a:moveTo>
                    <a:pt x="314" y="405"/>
                  </a:moveTo>
                  <a:lnTo>
                    <a:pt x="314" y="368"/>
                  </a:lnTo>
                  <a:lnTo>
                    <a:pt x="314" y="367"/>
                  </a:lnTo>
                  <a:lnTo>
                    <a:pt x="315" y="365"/>
                  </a:lnTo>
                  <a:lnTo>
                    <a:pt x="316" y="363"/>
                  </a:lnTo>
                  <a:lnTo>
                    <a:pt x="317" y="363"/>
                  </a:lnTo>
                  <a:lnTo>
                    <a:pt x="318" y="363"/>
                  </a:lnTo>
                  <a:lnTo>
                    <a:pt x="320" y="365"/>
                  </a:lnTo>
                  <a:lnTo>
                    <a:pt x="321" y="367"/>
                  </a:lnTo>
                  <a:lnTo>
                    <a:pt x="321" y="368"/>
                  </a:lnTo>
                  <a:lnTo>
                    <a:pt x="321" y="405"/>
                  </a:lnTo>
                  <a:lnTo>
                    <a:pt x="321" y="407"/>
                  </a:lnTo>
                  <a:lnTo>
                    <a:pt x="320" y="409"/>
                  </a:lnTo>
                  <a:lnTo>
                    <a:pt x="318" y="411"/>
                  </a:lnTo>
                  <a:lnTo>
                    <a:pt x="317" y="411"/>
                  </a:lnTo>
                  <a:lnTo>
                    <a:pt x="316" y="411"/>
                  </a:lnTo>
                  <a:lnTo>
                    <a:pt x="315" y="409"/>
                  </a:lnTo>
                  <a:lnTo>
                    <a:pt x="314" y="407"/>
                  </a:lnTo>
                  <a:lnTo>
                    <a:pt x="314" y="405"/>
                  </a:lnTo>
                  <a:lnTo>
                    <a:pt x="314" y="405"/>
                  </a:lnTo>
                  <a:close/>
                  <a:moveTo>
                    <a:pt x="314" y="321"/>
                  </a:moveTo>
                  <a:lnTo>
                    <a:pt x="314" y="284"/>
                  </a:lnTo>
                  <a:lnTo>
                    <a:pt x="314" y="282"/>
                  </a:lnTo>
                  <a:lnTo>
                    <a:pt x="315" y="280"/>
                  </a:lnTo>
                  <a:lnTo>
                    <a:pt x="316" y="278"/>
                  </a:lnTo>
                  <a:lnTo>
                    <a:pt x="317" y="278"/>
                  </a:lnTo>
                  <a:lnTo>
                    <a:pt x="318" y="278"/>
                  </a:lnTo>
                  <a:lnTo>
                    <a:pt x="320" y="280"/>
                  </a:lnTo>
                  <a:lnTo>
                    <a:pt x="321" y="282"/>
                  </a:lnTo>
                  <a:lnTo>
                    <a:pt x="321" y="284"/>
                  </a:lnTo>
                  <a:lnTo>
                    <a:pt x="321" y="321"/>
                  </a:lnTo>
                  <a:lnTo>
                    <a:pt x="321" y="322"/>
                  </a:lnTo>
                  <a:lnTo>
                    <a:pt x="320" y="324"/>
                  </a:lnTo>
                  <a:lnTo>
                    <a:pt x="318" y="326"/>
                  </a:lnTo>
                  <a:lnTo>
                    <a:pt x="317" y="326"/>
                  </a:lnTo>
                  <a:lnTo>
                    <a:pt x="316" y="326"/>
                  </a:lnTo>
                  <a:lnTo>
                    <a:pt x="315" y="324"/>
                  </a:lnTo>
                  <a:lnTo>
                    <a:pt x="314" y="322"/>
                  </a:lnTo>
                  <a:lnTo>
                    <a:pt x="314" y="321"/>
                  </a:lnTo>
                  <a:lnTo>
                    <a:pt x="314" y="321"/>
                  </a:lnTo>
                  <a:close/>
                  <a:moveTo>
                    <a:pt x="314" y="236"/>
                  </a:moveTo>
                  <a:lnTo>
                    <a:pt x="314" y="200"/>
                  </a:lnTo>
                  <a:lnTo>
                    <a:pt x="314" y="198"/>
                  </a:lnTo>
                  <a:lnTo>
                    <a:pt x="315" y="196"/>
                  </a:lnTo>
                  <a:lnTo>
                    <a:pt x="316" y="194"/>
                  </a:lnTo>
                  <a:lnTo>
                    <a:pt x="317" y="194"/>
                  </a:lnTo>
                  <a:lnTo>
                    <a:pt x="318" y="194"/>
                  </a:lnTo>
                  <a:lnTo>
                    <a:pt x="320" y="196"/>
                  </a:lnTo>
                  <a:lnTo>
                    <a:pt x="321" y="198"/>
                  </a:lnTo>
                  <a:lnTo>
                    <a:pt x="321" y="200"/>
                  </a:lnTo>
                  <a:lnTo>
                    <a:pt x="321" y="236"/>
                  </a:lnTo>
                  <a:lnTo>
                    <a:pt x="321" y="238"/>
                  </a:lnTo>
                  <a:lnTo>
                    <a:pt x="320" y="240"/>
                  </a:lnTo>
                  <a:lnTo>
                    <a:pt x="318" y="242"/>
                  </a:lnTo>
                  <a:lnTo>
                    <a:pt x="317" y="242"/>
                  </a:lnTo>
                  <a:lnTo>
                    <a:pt x="316" y="242"/>
                  </a:lnTo>
                  <a:lnTo>
                    <a:pt x="315" y="240"/>
                  </a:lnTo>
                  <a:lnTo>
                    <a:pt x="314" y="238"/>
                  </a:lnTo>
                  <a:lnTo>
                    <a:pt x="314" y="236"/>
                  </a:lnTo>
                  <a:lnTo>
                    <a:pt x="314" y="236"/>
                  </a:lnTo>
                  <a:close/>
                  <a:moveTo>
                    <a:pt x="314" y="152"/>
                  </a:moveTo>
                  <a:lnTo>
                    <a:pt x="314" y="117"/>
                  </a:lnTo>
                  <a:lnTo>
                    <a:pt x="314" y="115"/>
                  </a:lnTo>
                  <a:lnTo>
                    <a:pt x="315" y="113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8" y="111"/>
                  </a:lnTo>
                  <a:lnTo>
                    <a:pt x="320" y="113"/>
                  </a:lnTo>
                  <a:lnTo>
                    <a:pt x="321" y="115"/>
                  </a:lnTo>
                  <a:lnTo>
                    <a:pt x="321" y="117"/>
                  </a:lnTo>
                  <a:lnTo>
                    <a:pt x="321" y="152"/>
                  </a:lnTo>
                  <a:lnTo>
                    <a:pt x="321" y="154"/>
                  </a:lnTo>
                  <a:lnTo>
                    <a:pt x="320" y="157"/>
                  </a:lnTo>
                  <a:lnTo>
                    <a:pt x="318" y="159"/>
                  </a:lnTo>
                  <a:lnTo>
                    <a:pt x="317" y="159"/>
                  </a:lnTo>
                  <a:lnTo>
                    <a:pt x="316" y="159"/>
                  </a:lnTo>
                  <a:lnTo>
                    <a:pt x="315" y="157"/>
                  </a:lnTo>
                  <a:lnTo>
                    <a:pt x="314" y="154"/>
                  </a:lnTo>
                  <a:lnTo>
                    <a:pt x="314" y="152"/>
                  </a:lnTo>
                  <a:lnTo>
                    <a:pt x="314" y="152"/>
                  </a:lnTo>
                  <a:close/>
                  <a:moveTo>
                    <a:pt x="314" y="69"/>
                  </a:moveTo>
                  <a:lnTo>
                    <a:pt x="314" y="33"/>
                  </a:lnTo>
                  <a:lnTo>
                    <a:pt x="314" y="31"/>
                  </a:lnTo>
                  <a:lnTo>
                    <a:pt x="315" y="29"/>
                  </a:lnTo>
                  <a:lnTo>
                    <a:pt x="316" y="27"/>
                  </a:lnTo>
                  <a:lnTo>
                    <a:pt x="317" y="27"/>
                  </a:lnTo>
                  <a:lnTo>
                    <a:pt x="318" y="27"/>
                  </a:lnTo>
                  <a:lnTo>
                    <a:pt x="320" y="29"/>
                  </a:lnTo>
                  <a:lnTo>
                    <a:pt x="321" y="31"/>
                  </a:lnTo>
                  <a:lnTo>
                    <a:pt x="321" y="33"/>
                  </a:lnTo>
                  <a:lnTo>
                    <a:pt x="321" y="69"/>
                  </a:lnTo>
                  <a:lnTo>
                    <a:pt x="321" y="71"/>
                  </a:lnTo>
                  <a:lnTo>
                    <a:pt x="320" y="73"/>
                  </a:lnTo>
                  <a:lnTo>
                    <a:pt x="318" y="75"/>
                  </a:lnTo>
                  <a:lnTo>
                    <a:pt x="317" y="75"/>
                  </a:lnTo>
                  <a:lnTo>
                    <a:pt x="316" y="75"/>
                  </a:lnTo>
                  <a:lnTo>
                    <a:pt x="315" y="73"/>
                  </a:lnTo>
                  <a:lnTo>
                    <a:pt x="314" y="71"/>
                  </a:lnTo>
                  <a:lnTo>
                    <a:pt x="314" y="69"/>
                  </a:lnTo>
                  <a:lnTo>
                    <a:pt x="314" y="69"/>
                  </a:lnTo>
                  <a:close/>
                  <a:moveTo>
                    <a:pt x="306" y="12"/>
                  </a:moveTo>
                  <a:lnTo>
                    <a:pt x="287" y="12"/>
                  </a:lnTo>
                  <a:lnTo>
                    <a:pt x="286" y="12"/>
                  </a:lnTo>
                  <a:lnTo>
                    <a:pt x="285" y="10"/>
                  </a:lnTo>
                  <a:lnTo>
                    <a:pt x="284" y="8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5" y="2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2"/>
                  </a:lnTo>
                  <a:lnTo>
                    <a:pt x="309" y="4"/>
                  </a:lnTo>
                  <a:lnTo>
                    <a:pt x="309" y="6"/>
                  </a:lnTo>
                  <a:lnTo>
                    <a:pt x="309" y="8"/>
                  </a:lnTo>
                  <a:lnTo>
                    <a:pt x="308" y="10"/>
                  </a:lnTo>
                  <a:lnTo>
                    <a:pt x="307" y="12"/>
                  </a:lnTo>
                  <a:lnTo>
                    <a:pt x="306" y="12"/>
                  </a:lnTo>
                  <a:lnTo>
                    <a:pt x="306" y="12"/>
                  </a:lnTo>
                  <a:close/>
                  <a:moveTo>
                    <a:pt x="261" y="12"/>
                  </a:moveTo>
                  <a:lnTo>
                    <a:pt x="243" y="12"/>
                  </a:lnTo>
                  <a:lnTo>
                    <a:pt x="242" y="12"/>
                  </a:lnTo>
                  <a:lnTo>
                    <a:pt x="241" y="10"/>
                  </a:lnTo>
                  <a:lnTo>
                    <a:pt x="240" y="8"/>
                  </a:lnTo>
                  <a:lnTo>
                    <a:pt x="240" y="6"/>
                  </a:lnTo>
                  <a:lnTo>
                    <a:pt x="240" y="4"/>
                  </a:lnTo>
                  <a:lnTo>
                    <a:pt x="241" y="2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2"/>
                  </a:lnTo>
                  <a:lnTo>
                    <a:pt x="265" y="4"/>
                  </a:lnTo>
                  <a:lnTo>
                    <a:pt x="265" y="6"/>
                  </a:lnTo>
                  <a:lnTo>
                    <a:pt x="265" y="8"/>
                  </a:lnTo>
                  <a:lnTo>
                    <a:pt x="264" y="10"/>
                  </a:lnTo>
                  <a:lnTo>
                    <a:pt x="262" y="12"/>
                  </a:lnTo>
                  <a:lnTo>
                    <a:pt x="261" y="12"/>
                  </a:lnTo>
                  <a:lnTo>
                    <a:pt x="261" y="12"/>
                  </a:lnTo>
                  <a:close/>
                  <a:moveTo>
                    <a:pt x="217" y="12"/>
                  </a:moveTo>
                  <a:lnTo>
                    <a:pt x="198" y="12"/>
                  </a:lnTo>
                  <a:lnTo>
                    <a:pt x="197" y="12"/>
                  </a:lnTo>
                  <a:lnTo>
                    <a:pt x="196" y="10"/>
                  </a:lnTo>
                  <a:lnTo>
                    <a:pt x="195" y="8"/>
                  </a:lnTo>
                  <a:lnTo>
                    <a:pt x="195" y="6"/>
                  </a:lnTo>
                  <a:lnTo>
                    <a:pt x="195" y="4"/>
                  </a:lnTo>
                  <a:lnTo>
                    <a:pt x="196" y="2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2"/>
                  </a:lnTo>
                  <a:lnTo>
                    <a:pt x="220" y="4"/>
                  </a:lnTo>
                  <a:lnTo>
                    <a:pt x="220" y="6"/>
                  </a:lnTo>
                  <a:lnTo>
                    <a:pt x="220" y="8"/>
                  </a:lnTo>
                  <a:lnTo>
                    <a:pt x="219" y="10"/>
                  </a:lnTo>
                  <a:lnTo>
                    <a:pt x="218" y="12"/>
                  </a:lnTo>
                  <a:lnTo>
                    <a:pt x="217" y="12"/>
                  </a:lnTo>
                  <a:lnTo>
                    <a:pt x="217" y="12"/>
                  </a:lnTo>
                  <a:close/>
                  <a:moveTo>
                    <a:pt x="172" y="12"/>
                  </a:moveTo>
                  <a:lnTo>
                    <a:pt x="153" y="12"/>
                  </a:lnTo>
                  <a:lnTo>
                    <a:pt x="152" y="12"/>
                  </a:lnTo>
                  <a:lnTo>
                    <a:pt x="151" y="10"/>
                  </a:lnTo>
                  <a:lnTo>
                    <a:pt x="150" y="8"/>
                  </a:lnTo>
                  <a:lnTo>
                    <a:pt x="150" y="6"/>
                  </a:lnTo>
                  <a:lnTo>
                    <a:pt x="150" y="4"/>
                  </a:lnTo>
                  <a:lnTo>
                    <a:pt x="151" y="2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2"/>
                  </a:lnTo>
                  <a:lnTo>
                    <a:pt x="176" y="4"/>
                  </a:lnTo>
                  <a:lnTo>
                    <a:pt x="176" y="6"/>
                  </a:lnTo>
                  <a:lnTo>
                    <a:pt x="176" y="8"/>
                  </a:lnTo>
                  <a:lnTo>
                    <a:pt x="175" y="10"/>
                  </a:lnTo>
                  <a:lnTo>
                    <a:pt x="173" y="12"/>
                  </a:lnTo>
                  <a:lnTo>
                    <a:pt x="172" y="12"/>
                  </a:lnTo>
                  <a:lnTo>
                    <a:pt x="172" y="12"/>
                  </a:lnTo>
                  <a:close/>
                  <a:moveTo>
                    <a:pt x="128" y="12"/>
                  </a:moveTo>
                  <a:lnTo>
                    <a:pt x="108" y="12"/>
                  </a:lnTo>
                  <a:lnTo>
                    <a:pt x="107" y="12"/>
                  </a:lnTo>
                  <a:lnTo>
                    <a:pt x="106" y="10"/>
                  </a:lnTo>
                  <a:lnTo>
                    <a:pt x="105" y="8"/>
                  </a:lnTo>
                  <a:lnTo>
                    <a:pt x="105" y="6"/>
                  </a:lnTo>
                  <a:lnTo>
                    <a:pt x="105" y="4"/>
                  </a:lnTo>
                  <a:lnTo>
                    <a:pt x="106" y="2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"/>
                  </a:lnTo>
                  <a:lnTo>
                    <a:pt x="131" y="4"/>
                  </a:lnTo>
                  <a:lnTo>
                    <a:pt x="131" y="6"/>
                  </a:lnTo>
                  <a:lnTo>
                    <a:pt x="131" y="8"/>
                  </a:lnTo>
                  <a:lnTo>
                    <a:pt x="130" y="10"/>
                  </a:lnTo>
                  <a:lnTo>
                    <a:pt x="129" y="12"/>
                  </a:lnTo>
                  <a:lnTo>
                    <a:pt x="128" y="12"/>
                  </a:lnTo>
                  <a:lnTo>
                    <a:pt x="128" y="12"/>
                  </a:lnTo>
                  <a:close/>
                  <a:moveTo>
                    <a:pt x="83" y="12"/>
                  </a:moveTo>
                  <a:lnTo>
                    <a:pt x="64" y="12"/>
                  </a:lnTo>
                  <a:lnTo>
                    <a:pt x="63" y="12"/>
                  </a:lnTo>
                  <a:lnTo>
                    <a:pt x="62" y="10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2" y="2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2"/>
                  </a:lnTo>
                  <a:lnTo>
                    <a:pt x="87" y="4"/>
                  </a:lnTo>
                  <a:lnTo>
                    <a:pt x="87" y="6"/>
                  </a:lnTo>
                  <a:lnTo>
                    <a:pt x="87" y="8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3" y="12"/>
                  </a:lnTo>
                  <a:lnTo>
                    <a:pt x="83" y="12"/>
                  </a:lnTo>
                  <a:close/>
                  <a:moveTo>
                    <a:pt x="39" y="12"/>
                  </a:moveTo>
                  <a:lnTo>
                    <a:pt x="19" y="12"/>
                  </a:lnTo>
                  <a:lnTo>
                    <a:pt x="18" y="12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9" y="12"/>
                  </a:lnTo>
                  <a:close/>
                  <a:moveTo>
                    <a:pt x="6" y="23"/>
                  </a:moveTo>
                  <a:lnTo>
                    <a:pt x="6" y="60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6" y="23"/>
                  </a:lnTo>
                  <a:close/>
                  <a:moveTo>
                    <a:pt x="6" y="108"/>
                  </a:moveTo>
                  <a:lnTo>
                    <a:pt x="6" y="142"/>
                  </a:lnTo>
                  <a:lnTo>
                    <a:pt x="6" y="144"/>
                  </a:lnTo>
                  <a:lnTo>
                    <a:pt x="5" y="148"/>
                  </a:lnTo>
                  <a:lnTo>
                    <a:pt x="4" y="150"/>
                  </a:lnTo>
                  <a:lnTo>
                    <a:pt x="3" y="150"/>
                  </a:lnTo>
                  <a:lnTo>
                    <a:pt x="2" y="150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1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5" y="104"/>
                  </a:lnTo>
                  <a:lnTo>
                    <a:pt x="6" y="106"/>
                  </a:lnTo>
                  <a:lnTo>
                    <a:pt x="6" y="108"/>
                  </a:lnTo>
                  <a:lnTo>
                    <a:pt x="6" y="108"/>
                  </a:lnTo>
                  <a:close/>
                  <a:moveTo>
                    <a:pt x="6" y="190"/>
                  </a:moveTo>
                  <a:lnTo>
                    <a:pt x="6" y="227"/>
                  </a:lnTo>
                  <a:lnTo>
                    <a:pt x="6" y="228"/>
                  </a:lnTo>
                  <a:lnTo>
                    <a:pt x="5" y="230"/>
                  </a:lnTo>
                  <a:lnTo>
                    <a:pt x="4" y="232"/>
                  </a:lnTo>
                  <a:lnTo>
                    <a:pt x="3" y="232"/>
                  </a:lnTo>
                  <a:lnTo>
                    <a:pt x="2" y="232"/>
                  </a:lnTo>
                  <a:lnTo>
                    <a:pt x="1" y="230"/>
                  </a:lnTo>
                  <a:lnTo>
                    <a:pt x="0" y="228"/>
                  </a:lnTo>
                  <a:lnTo>
                    <a:pt x="0" y="227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1" y="186"/>
                  </a:lnTo>
                  <a:lnTo>
                    <a:pt x="2" y="184"/>
                  </a:lnTo>
                  <a:lnTo>
                    <a:pt x="3" y="184"/>
                  </a:lnTo>
                  <a:lnTo>
                    <a:pt x="4" y="184"/>
                  </a:lnTo>
                  <a:lnTo>
                    <a:pt x="5" y="186"/>
                  </a:lnTo>
                  <a:lnTo>
                    <a:pt x="6" y="188"/>
                  </a:lnTo>
                  <a:lnTo>
                    <a:pt x="6" y="190"/>
                  </a:lnTo>
                  <a:lnTo>
                    <a:pt x="6" y="190"/>
                  </a:lnTo>
                  <a:close/>
                  <a:moveTo>
                    <a:pt x="6" y="274"/>
                  </a:moveTo>
                  <a:lnTo>
                    <a:pt x="6" y="311"/>
                  </a:lnTo>
                  <a:lnTo>
                    <a:pt x="6" y="313"/>
                  </a:lnTo>
                  <a:lnTo>
                    <a:pt x="5" y="315"/>
                  </a:lnTo>
                  <a:lnTo>
                    <a:pt x="4" y="317"/>
                  </a:lnTo>
                  <a:lnTo>
                    <a:pt x="3" y="317"/>
                  </a:lnTo>
                  <a:lnTo>
                    <a:pt x="2" y="317"/>
                  </a:lnTo>
                  <a:lnTo>
                    <a:pt x="1" y="315"/>
                  </a:lnTo>
                  <a:lnTo>
                    <a:pt x="0" y="313"/>
                  </a:lnTo>
                  <a:lnTo>
                    <a:pt x="0" y="311"/>
                  </a:lnTo>
                  <a:lnTo>
                    <a:pt x="0" y="274"/>
                  </a:lnTo>
                  <a:lnTo>
                    <a:pt x="0" y="273"/>
                  </a:lnTo>
                  <a:lnTo>
                    <a:pt x="1" y="271"/>
                  </a:lnTo>
                  <a:lnTo>
                    <a:pt x="2" y="269"/>
                  </a:lnTo>
                  <a:lnTo>
                    <a:pt x="3" y="269"/>
                  </a:lnTo>
                  <a:lnTo>
                    <a:pt x="4" y="269"/>
                  </a:lnTo>
                  <a:lnTo>
                    <a:pt x="5" y="271"/>
                  </a:lnTo>
                  <a:lnTo>
                    <a:pt x="6" y="273"/>
                  </a:lnTo>
                  <a:lnTo>
                    <a:pt x="6" y="274"/>
                  </a:lnTo>
                  <a:lnTo>
                    <a:pt x="6" y="274"/>
                  </a:lnTo>
                  <a:close/>
                  <a:moveTo>
                    <a:pt x="6" y="359"/>
                  </a:moveTo>
                  <a:lnTo>
                    <a:pt x="6" y="395"/>
                  </a:lnTo>
                  <a:lnTo>
                    <a:pt x="6" y="397"/>
                  </a:lnTo>
                  <a:lnTo>
                    <a:pt x="5" y="399"/>
                  </a:lnTo>
                  <a:lnTo>
                    <a:pt x="4" y="401"/>
                  </a:lnTo>
                  <a:lnTo>
                    <a:pt x="3" y="401"/>
                  </a:lnTo>
                  <a:lnTo>
                    <a:pt x="2" y="401"/>
                  </a:lnTo>
                  <a:lnTo>
                    <a:pt x="1" y="399"/>
                  </a:lnTo>
                  <a:lnTo>
                    <a:pt x="0" y="397"/>
                  </a:lnTo>
                  <a:lnTo>
                    <a:pt x="0" y="395"/>
                  </a:lnTo>
                  <a:lnTo>
                    <a:pt x="0" y="359"/>
                  </a:lnTo>
                  <a:lnTo>
                    <a:pt x="0" y="357"/>
                  </a:lnTo>
                  <a:lnTo>
                    <a:pt x="1" y="355"/>
                  </a:lnTo>
                  <a:lnTo>
                    <a:pt x="2" y="353"/>
                  </a:lnTo>
                  <a:lnTo>
                    <a:pt x="3" y="353"/>
                  </a:lnTo>
                  <a:lnTo>
                    <a:pt x="4" y="353"/>
                  </a:lnTo>
                  <a:lnTo>
                    <a:pt x="5" y="355"/>
                  </a:lnTo>
                  <a:lnTo>
                    <a:pt x="6" y="357"/>
                  </a:lnTo>
                  <a:lnTo>
                    <a:pt x="6" y="359"/>
                  </a:lnTo>
                  <a:lnTo>
                    <a:pt x="6" y="359"/>
                  </a:lnTo>
                  <a:close/>
                  <a:moveTo>
                    <a:pt x="16" y="411"/>
                  </a:moveTo>
                  <a:lnTo>
                    <a:pt x="36" y="411"/>
                  </a:lnTo>
                  <a:lnTo>
                    <a:pt x="37" y="411"/>
                  </a:lnTo>
                  <a:lnTo>
                    <a:pt x="38" y="413"/>
                  </a:lnTo>
                  <a:lnTo>
                    <a:pt x="39" y="414"/>
                  </a:lnTo>
                  <a:lnTo>
                    <a:pt x="39" y="416"/>
                  </a:lnTo>
                  <a:lnTo>
                    <a:pt x="39" y="418"/>
                  </a:lnTo>
                  <a:lnTo>
                    <a:pt x="38" y="420"/>
                  </a:lnTo>
                  <a:lnTo>
                    <a:pt x="37" y="422"/>
                  </a:lnTo>
                  <a:lnTo>
                    <a:pt x="36" y="422"/>
                  </a:lnTo>
                  <a:lnTo>
                    <a:pt x="16" y="422"/>
                  </a:lnTo>
                  <a:lnTo>
                    <a:pt x="15" y="422"/>
                  </a:lnTo>
                  <a:lnTo>
                    <a:pt x="14" y="420"/>
                  </a:lnTo>
                  <a:lnTo>
                    <a:pt x="13" y="418"/>
                  </a:lnTo>
                  <a:lnTo>
                    <a:pt x="13" y="416"/>
                  </a:lnTo>
                  <a:lnTo>
                    <a:pt x="13" y="414"/>
                  </a:lnTo>
                  <a:lnTo>
                    <a:pt x="14" y="413"/>
                  </a:lnTo>
                  <a:lnTo>
                    <a:pt x="15" y="411"/>
                  </a:lnTo>
                  <a:lnTo>
                    <a:pt x="16" y="411"/>
                  </a:lnTo>
                  <a:lnTo>
                    <a:pt x="16" y="411"/>
                  </a:lnTo>
                  <a:close/>
                  <a:moveTo>
                    <a:pt x="61" y="411"/>
                  </a:moveTo>
                  <a:lnTo>
                    <a:pt x="81" y="411"/>
                  </a:lnTo>
                  <a:lnTo>
                    <a:pt x="82" y="411"/>
                  </a:lnTo>
                  <a:lnTo>
                    <a:pt x="83" y="413"/>
                  </a:lnTo>
                  <a:lnTo>
                    <a:pt x="84" y="414"/>
                  </a:lnTo>
                  <a:lnTo>
                    <a:pt x="84" y="416"/>
                  </a:lnTo>
                  <a:lnTo>
                    <a:pt x="84" y="418"/>
                  </a:lnTo>
                  <a:lnTo>
                    <a:pt x="83" y="420"/>
                  </a:lnTo>
                  <a:lnTo>
                    <a:pt x="82" y="422"/>
                  </a:lnTo>
                  <a:lnTo>
                    <a:pt x="81" y="422"/>
                  </a:lnTo>
                  <a:lnTo>
                    <a:pt x="61" y="422"/>
                  </a:lnTo>
                  <a:lnTo>
                    <a:pt x="60" y="422"/>
                  </a:lnTo>
                  <a:lnTo>
                    <a:pt x="59" y="420"/>
                  </a:lnTo>
                  <a:lnTo>
                    <a:pt x="58" y="418"/>
                  </a:lnTo>
                  <a:lnTo>
                    <a:pt x="58" y="416"/>
                  </a:lnTo>
                  <a:lnTo>
                    <a:pt x="58" y="414"/>
                  </a:lnTo>
                  <a:lnTo>
                    <a:pt x="59" y="413"/>
                  </a:lnTo>
                  <a:lnTo>
                    <a:pt x="60" y="411"/>
                  </a:lnTo>
                  <a:lnTo>
                    <a:pt x="61" y="411"/>
                  </a:lnTo>
                  <a:lnTo>
                    <a:pt x="61" y="411"/>
                  </a:lnTo>
                  <a:close/>
                  <a:moveTo>
                    <a:pt x="106" y="411"/>
                  </a:moveTo>
                  <a:lnTo>
                    <a:pt x="126" y="411"/>
                  </a:lnTo>
                  <a:lnTo>
                    <a:pt x="127" y="411"/>
                  </a:lnTo>
                  <a:lnTo>
                    <a:pt x="128" y="413"/>
                  </a:lnTo>
                  <a:lnTo>
                    <a:pt x="129" y="414"/>
                  </a:lnTo>
                  <a:lnTo>
                    <a:pt x="129" y="416"/>
                  </a:lnTo>
                  <a:lnTo>
                    <a:pt x="129" y="418"/>
                  </a:lnTo>
                  <a:lnTo>
                    <a:pt x="128" y="420"/>
                  </a:lnTo>
                  <a:lnTo>
                    <a:pt x="127" y="422"/>
                  </a:lnTo>
                  <a:lnTo>
                    <a:pt x="126" y="422"/>
                  </a:lnTo>
                  <a:lnTo>
                    <a:pt x="106" y="422"/>
                  </a:lnTo>
                  <a:lnTo>
                    <a:pt x="105" y="422"/>
                  </a:lnTo>
                  <a:lnTo>
                    <a:pt x="104" y="420"/>
                  </a:lnTo>
                  <a:lnTo>
                    <a:pt x="103" y="418"/>
                  </a:lnTo>
                  <a:lnTo>
                    <a:pt x="103" y="416"/>
                  </a:lnTo>
                  <a:lnTo>
                    <a:pt x="103" y="414"/>
                  </a:lnTo>
                  <a:lnTo>
                    <a:pt x="104" y="413"/>
                  </a:lnTo>
                  <a:lnTo>
                    <a:pt x="105" y="411"/>
                  </a:lnTo>
                  <a:lnTo>
                    <a:pt x="106" y="411"/>
                  </a:lnTo>
                  <a:lnTo>
                    <a:pt x="106" y="411"/>
                  </a:lnTo>
                  <a:close/>
                  <a:moveTo>
                    <a:pt x="151" y="411"/>
                  </a:moveTo>
                  <a:lnTo>
                    <a:pt x="169" y="411"/>
                  </a:lnTo>
                  <a:lnTo>
                    <a:pt x="170" y="411"/>
                  </a:lnTo>
                  <a:lnTo>
                    <a:pt x="172" y="413"/>
                  </a:lnTo>
                  <a:lnTo>
                    <a:pt x="173" y="414"/>
                  </a:lnTo>
                  <a:lnTo>
                    <a:pt x="173" y="416"/>
                  </a:lnTo>
                  <a:lnTo>
                    <a:pt x="173" y="418"/>
                  </a:lnTo>
                  <a:lnTo>
                    <a:pt x="172" y="420"/>
                  </a:lnTo>
                  <a:lnTo>
                    <a:pt x="170" y="422"/>
                  </a:lnTo>
                  <a:lnTo>
                    <a:pt x="169" y="422"/>
                  </a:lnTo>
                  <a:lnTo>
                    <a:pt x="151" y="422"/>
                  </a:lnTo>
                  <a:lnTo>
                    <a:pt x="150" y="422"/>
                  </a:lnTo>
                  <a:lnTo>
                    <a:pt x="149" y="420"/>
                  </a:lnTo>
                  <a:lnTo>
                    <a:pt x="148" y="418"/>
                  </a:lnTo>
                  <a:lnTo>
                    <a:pt x="148" y="416"/>
                  </a:lnTo>
                  <a:lnTo>
                    <a:pt x="148" y="414"/>
                  </a:lnTo>
                  <a:lnTo>
                    <a:pt x="149" y="413"/>
                  </a:lnTo>
                  <a:lnTo>
                    <a:pt x="150" y="411"/>
                  </a:lnTo>
                  <a:lnTo>
                    <a:pt x="151" y="411"/>
                  </a:lnTo>
                  <a:lnTo>
                    <a:pt x="151" y="411"/>
                  </a:lnTo>
                  <a:close/>
                  <a:moveTo>
                    <a:pt x="195" y="411"/>
                  </a:moveTo>
                  <a:lnTo>
                    <a:pt x="214" y="411"/>
                  </a:lnTo>
                  <a:lnTo>
                    <a:pt x="215" y="411"/>
                  </a:lnTo>
                  <a:lnTo>
                    <a:pt x="216" y="413"/>
                  </a:lnTo>
                  <a:lnTo>
                    <a:pt x="217" y="414"/>
                  </a:lnTo>
                  <a:lnTo>
                    <a:pt x="217" y="416"/>
                  </a:lnTo>
                  <a:lnTo>
                    <a:pt x="217" y="418"/>
                  </a:lnTo>
                  <a:lnTo>
                    <a:pt x="216" y="420"/>
                  </a:lnTo>
                  <a:lnTo>
                    <a:pt x="215" y="422"/>
                  </a:lnTo>
                  <a:lnTo>
                    <a:pt x="214" y="422"/>
                  </a:lnTo>
                  <a:lnTo>
                    <a:pt x="195" y="422"/>
                  </a:lnTo>
                  <a:lnTo>
                    <a:pt x="194" y="422"/>
                  </a:lnTo>
                  <a:lnTo>
                    <a:pt x="193" y="420"/>
                  </a:lnTo>
                  <a:lnTo>
                    <a:pt x="192" y="418"/>
                  </a:lnTo>
                  <a:lnTo>
                    <a:pt x="192" y="416"/>
                  </a:lnTo>
                  <a:lnTo>
                    <a:pt x="192" y="414"/>
                  </a:lnTo>
                  <a:lnTo>
                    <a:pt x="193" y="413"/>
                  </a:lnTo>
                  <a:lnTo>
                    <a:pt x="194" y="411"/>
                  </a:lnTo>
                  <a:lnTo>
                    <a:pt x="195" y="411"/>
                  </a:lnTo>
                  <a:lnTo>
                    <a:pt x="195" y="411"/>
                  </a:lnTo>
                  <a:close/>
                  <a:moveTo>
                    <a:pt x="240" y="411"/>
                  </a:moveTo>
                  <a:lnTo>
                    <a:pt x="259" y="411"/>
                  </a:lnTo>
                  <a:lnTo>
                    <a:pt x="260" y="411"/>
                  </a:lnTo>
                  <a:lnTo>
                    <a:pt x="261" y="413"/>
                  </a:lnTo>
                  <a:lnTo>
                    <a:pt x="262" y="414"/>
                  </a:lnTo>
                  <a:lnTo>
                    <a:pt x="262" y="416"/>
                  </a:lnTo>
                  <a:lnTo>
                    <a:pt x="262" y="418"/>
                  </a:lnTo>
                  <a:lnTo>
                    <a:pt x="261" y="420"/>
                  </a:lnTo>
                  <a:lnTo>
                    <a:pt x="260" y="422"/>
                  </a:lnTo>
                  <a:lnTo>
                    <a:pt x="259" y="422"/>
                  </a:lnTo>
                  <a:lnTo>
                    <a:pt x="240" y="422"/>
                  </a:lnTo>
                  <a:lnTo>
                    <a:pt x="239" y="422"/>
                  </a:lnTo>
                  <a:lnTo>
                    <a:pt x="238" y="420"/>
                  </a:lnTo>
                  <a:lnTo>
                    <a:pt x="237" y="418"/>
                  </a:lnTo>
                  <a:lnTo>
                    <a:pt x="237" y="416"/>
                  </a:lnTo>
                  <a:lnTo>
                    <a:pt x="237" y="414"/>
                  </a:lnTo>
                  <a:lnTo>
                    <a:pt x="238" y="413"/>
                  </a:lnTo>
                  <a:lnTo>
                    <a:pt x="239" y="411"/>
                  </a:lnTo>
                  <a:lnTo>
                    <a:pt x="240" y="411"/>
                  </a:lnTo>
                  <a:lnTo>
                    <a:pt x="240" y="411"/>
                  </a:lnTo>
                  <a:close/>
                  <a:moveTo>
                    <a:pt x="285" y="411"/>
                  </a:moveTo>
                  <a:lnTo>
                    <a:pt x="304" y="411"/>
                  </a:lnTo>
                  <a:lnTo>
                    <a:pt x="305" y="411"/>
                  </a:lnTo>
                  <a:lnTo>
                    <a:pt x="306" y="413"/>
                  </a:lnTo>
                  <a:lnTo>
                    <a:pt x="307" y="414"/>
                  </a:lnTo>
                  <a:lnTo>
                    <a:pt x="307" y="416"/>
                  </a:lnTo>
                  <a:lnTo>
                    <a:pt x="307" y="418"/>
                  </a:lnTo>
                  <a:lnTo>
                    <a:pt x="306" y="420"/>
                  </a:lnTo>
                  <a:lnTo>
                    <a:pt x="305" y="422"/>
                  </a:lnTo>
                  <a:lnTo>
                    <a:pt x="304" y="422"/>
                  </a:lnTo>
                  <a:lnTo>
                    <a:pt x="285" y="422"/>
                  </a:lnTo>
                  <a:lnTo>
                    <a:pt x="284" y="422"/>
                  </a:lnTo>
                  <a:lnTo>
                    <a:pt x="283" y="420"/>
                  </a:lnTo>
                  <a:lnTo>
                    <a:pt x="282" y="418"/>
                  </a:lnTo>
                  <a:lnTo>
                    <a:pt x="282" y="416"/>
                  </a:lnTo>
                  <a:lnTo>
                    <a:pt x="282" y="414"/>
                  </a:lnTo>
                  <a:lnTo>
                    <a:pt x="283" y="413"/>
                  </a:lnTo>
                  <a:lnTo>
                    <a:pt x="284" y="411"/>
                  </a:lnTo>
                  <a:lnTo>
                    <a:pt x="285" y="411"/>
                  </a:lnTo>
                  <a:lnTo>
                    <a:pt x="285" y="41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0080" y="444492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7920" y="4444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70240" y="3630600"/>
              <a:ext cx="50004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7760" y="3741840"/>
              <a:ext cx="770040" cy="247680"/>
            </a:xfrm>
            <a:custGeom>
              <a:avLst/>
              <a:gdLst/>
              <a:ahLst/>
              <a:rect l="l" t="t" r="r" b="b"/>
              <a:pathLst>
                <a:path w="485" h="313">
                  <a:moveTo>
                    <a:pt x="481" y="313"/>
                  </a:moveTo>
                  <a:lnTo>
                    <a:pt x="462" y="299"/>
                  </a:lnTo>
                  <a:lnTo>
                    <a:pt x="461" y="297"/>
                  </a:lnTo>
                  <a:lnTo>
                    <a:pt x="461" y="295"/>
                  </a:lnTo>
                  <a:lnTo>
                    <a:pt x="461" y="293"/>
                  </a:lnTo>
                  <a:lnTo>
                    <a:pt x="461" y="292"/>
                  </a:lnTo>
                  <a:lnTo>
                    <a:pt x="461" y="290"/>
                  </a:lnTo>
                  <a:lnTo>
                    <a:pt x="462" y="288"/>
                  </a:lnTo>
                  <a:lnTo>
                    <a:pt x="464" y="288"/>
                  </a:lnTo>
                  <a:lnTo>
                    <a:pt x="465" y="288"/>
                  </a:lnTo>
                  <a:lnTo>
                    <a:pt x="483" y="303"/>
                  </a:lnTo>
                  <a:lnTo>
                    <a:pt x="484" y="303"/>
                  </a:lnTo>
                  <a:lnTo>
                    <a:pt x="485" y="305"/>
                  </a:lnTo>
                  <a:lnTo>
                    <a:pt x="485" y="309"/>
                  </a:lnTo>
                  <a:lnTo>
                    <a:pt x="485" y="311"/>
                  </a:lnTo>
                  <a:lnTo>
                    <a:pt x="484" y="313"/>
                  </a:lnTo>
                  <a:lnTo>
                    <a:pt x="483" y="313"/>
                  </a:lnTo>
                  <a:lnTo>
                    <a:pt x="482" y="313"/>
                  </a:lnTo>
                  <a:lnTo>
                    <a:pt x="481" y="313"/>
                  </a:lnTo>
                  <a:lnTo>
                    <a:pt x="481" y="313"/>
                  </a:lnTo>
                  <a:close/>
                  <a:moveTo>
                    <a:pt x="439" y="280"/>
                  </a:moveTo>
                  <a:lnTo>
                    <a:pt x="421" y="267"/>
                  </a:lnTo>
                  <a:lnTo>
                    <a:pt x="420" y="265"/>
                  </a:lnTo>
                  <a:lnTo>
                    <a:pt x="419" y="263"/>
                  </a:lnTo>
                  <a:lnTo>
                    <a:pt x="419" y="261"/>
                  </a:lnTo>
                  <a:lnTo>
                    <a:pt x="419" y="259"/>
                  </a:lnTo>
                  <a:lnTo>
                    <a:pt x="420" y="257"/>
                  </a:lnTo>
                  <a:lnTo>
                    <a:pt x="421" y="255"/>
                  </a:lnTo>
                  <a:lnTo>
                    <a:pt x="422" y="255"/>
                  </a:lnTo>
                  <a:lnTo>
                    <a:pt x="423" y="255"/>
                  </a:lnTo>
                  <a:lnTo>
                    <a:pt x="442" y="270"/>
                  </a:lnTo>
                  <a:lnTo>
                    <a:pt x="443" y="270"/>
                  </a:lnTo>
                  <a:lnTo>
                    <a:pt x="443" y="272"/>
                  </a:lnTo>
                  <a:lnTo>
                    <a:pt x="443" y="276"/>
                  </a:lnTo>
                  <a:lnTo>
                    <a:pt x="443" y="278"/>
                  </a:lnTo>
                  <a:lnTo>
                    <a:pt x="443" y="280"/>
                  </a:lnTo>
                  <a:lnTo>
                    <a:pt x="442" y="280"/>
                  </a:lnTo>
                  <a:lnTo>
                    <a:pt x="440" y="280"/>
                  </a:lnTo>
                  <a:lnTo>
                    <a:pt x="439" y="280"/>
                  </a:lnTo>
                  <a:lnTo>
                    <a:pt x="439" y="280"/>
                  </a:lnTo>
                  <a:close/>
                  <a:moveTo>
                    <a:pt x="398" y="247"/>
                  </a:moveTo>
                  <a:lnTo>
                    <a:pt x="381" y="234"/>
                  </a:lnTo>
                  <a:lnTo>
                    <a:pt x="380" y="232"/>
                  </a:lnTo>
                  <a:lnTo>
                    <a:pt x="379" y="230"/>
                  </a:lnTo>
                  <a:lnTo>
                    <a:pt x="379" y="228"/>
                  </a:lnTo>
                  <a:lnTo>
                    <a:pt x="379" y="226"/>
                  </a:lnTo>
                  <a:lnTo>
                    <a:pt x="380" y="224"/>
                  </a:lnTo>
                  <a:lnTo>
                    <a:pt x="381" y="223"/>
                  </a:lnTo>
                  <a:lnTo>
                    <a:pt x="382" y="223"/>
                  </a:lnTo>
                  <a:lnTo>
                    <a:pt x="383" y="223"/>
                  </a:lnTo>
                  <a:lnTo>
                    <a:pt x="400" y="238"/>
                  </a:lnTo>
                  <a:lnTo>
                    <a:pt x="401" y="238"/>
                  </a:lnTo>
                  <a:lnTo>
                    <a:pt x="402" y="240"/>
                  </a:lnTo>
                  <a:lnTo>
                    <a:pt x="402" y="244"/>
                  </a:lnTo>
                  <a:lnTo>
                    <a:pt x="402" y="246"/>
                  </a:lnTo>
                  <a:lnTo>
                    <a:pt x="401" y="247"/>
                  </a:lnTo>
                  <a:lnTo>
                    <a:pt x="400" y="247"/>
                  </a:lnTo>
                  <a:lnTo>
                    <a:pt x="399" y="247"/>
                  </a:lnTo>
                  <a:lnTo>
                    <a:pt x="398" y="247"/>
                  </a:lnTo>
                  <a:lnTo>
                    <a:pt x="398" y="247"/>
                  </a:lnTo>
                  <a:close/>
                  <a:moveTo>
                    <a:pt x="357" y="215"/>
                  </a:moveTo>
                  <a:lnTo>
                    <a:pt x="339" y="201"/>
                  </a:lnTo>
                  <a:lnTo>
                    <a:pt x="338" y="199"/>
                  </a:lnTo>
                  <a:lnTo>
                    <a:pt x="338" y="198"/>
                  </a:lnTo>
                  <a:lnTo>
                    <a:pt x="338" y="196"/>
                  </a:lnTo>
                  <a:lnTo>
                    <a:pt x="338" y="194"/>
                  </a:lnTo>
                  <a:lnTo>
                    <a:pt x="338" y="192"/>
                  </a:lnTo>
                  <a:lnTo>
                    <a:pt x="339" y="190"/>
                  </a:lnTo>
                  <a:lnTo>
                    <a:pt x="341" y="190"/>
                  </a:lnTo>
                  <a:lnTo>
                    <a:pt x="342" y="190"/>
                  </a:lnTo>
                  <a:lnTo>
                    <a:pt x="359" y="205"/>
                  </a:lnTo>
                  <a:lnTo>
                    <a:pt x="360" y="205"/>
                  </a:lnTo>
                  <a:lnTo>
                    <a:pt x="361" y="207"/>
                  </a:lnTo>
                  <a:lnTo>
                    <a:pt x="361" y="211"/>
                  </a:lnTo>
                  <a:lnTo>
                    <a:pt x="361" y="213"/>
                  </a:lnTo>
                  <a:lnTo>
                    <a:pt x="360" y="215"/>
                  </a:lnTo>
                  <a:lnTo>
                    <a:pt x="359" y="215"/>
                  </a:lnTo>
                  <a:lnTo>
                    <a:pt x="358" y="215"/>
                  </a:lnTo>
                  <a:lnTo>
                    <a:pt x="357" y="215"/>
                  </a:lnTo>
                  <a:lnTo>
                    <a:pt x="357" y="215"/>
                  </a:lnTo>
                  <a:close/>
                  <a:moveTo>
                    <a:pt x="315" y="182"/>
                  </a:moveTo>
                  <a:lnTo>
                    <a:pt x="298" y="169"/>
                  </a:lnTo>
                  <a:lnTo>
                    <a:pt x="297" y="165"/>
                  </a:lnTo>
                  <a:lnTo>
                    <a:pt x="296" y="163"/>
                  </a:lnTo>
                  <a:lnTo>
                    <a:pt x="296" y="161"/>
                  </a:lnTo>
                  <a:lnTo>
                    <a:pt x="297" y="159"/>
                  </a:lnTo>
                  <a:lnTo>
                    <a:pt x="298" y="157"/>
                  </a:lnTo>
                  <a:lnTo>
                    <a:pt x="300" y="157"/>
                  </a:lnTo>
                  <a:lnTo>
                    <a:pt x="301" y="157"/>
                  </a:lnTo>
                  <a:lnTo>
                    <a:pt x="318" y="173"/>
                  </a:lnTo>
                  <a:lnTo>
                    <a:pt x="319" y="173"/>
                  </a:lnTo>
                  <a:lnTo>
                    <a:pt x="319" y="175"/>
                  </a:lnTo>
                  <a:lnTo>
                    <a:pt x="319" y="178"/>
                  </a:lnTo>
                  <a:lnTo>
                    <a:pt x="319" y="180"/>
                  </a:lnTo>
                  <a:lnTo>
                    <a:pt x="319" y="182"/>
                  </a:lnTo>
                  <a:lnTo>
                    <a:pt x="318" y="182"/>
                  </a:lnTo>
                  <a:lnTo>
                    <a:pt x="316" y="182"/>
                  </a:lnTo>
                  <a:lnTo>
                    <a:pt x="315" y="182"/>
                  </a:lnTo>
                  <a:lnTo>
                    <a:pt x="315" y="182"/>
                  </a:lnTo>
                  <a:close/>
                  <a:moveTo>
                    <a:pt x="274" y="150"/>
                  </a:moveTo>
                  <a:lnTo>
                    <a:pt x="257" y="136"/>
                  </a:lnTo>
                  <a:lnTo>
                    <a:pt x="256" y="134"/>
                  </a:lnTo>
                  <a:lnTo>
                    <a:pt x="255" y="132"/>
                  </a:lnTo>
                  <a:lnTo>
                    <a:pt x="255" y="130"/>
                  </a:lnTo>
                  <a:lnTo>
                    <a:pt x="255" y="129"/>
                  </a:lnTo>
                  <a:lnTo>
                    <a:pt x="256" y="127"/>
                  </a:lnTo>
                  <a:lnTo>
                    <a:pt x="257" y="125"/>
                  </a:lnTo>
                  <a:lnTo>
                    <a:pt x="258" y="125"/>
                  </a:lnTo>
                  <a:lnTo>
                    <a:pt x="259" y="125"/>
                  </a:lnTo>
                  <a:lnTo>
                    <a:pt x="276" y="140"/>
                  </a:lnTo>
                  <a:lnTo>
                    <a:pt x="278" y="140"/>
                  </a:lnTo>
                  <a:lnTo>
                    <a:pt x="279" y="142"/>
                  </a:lnTo>
                  <a:lnTo>
                    <a:pt x="279" y="146"/>
                  </a:lnTo>
                  <a:lnTo>
                    <a:pt x="279" y="148"/>
                  </a:lnTo>
                  <a:lnTo>
                    <a:pt x="278" y="150"/>
                  </a:lnTo>
                  <a:lnTo>
                    <a:pt x="276" y="150"/>
                  </a:lnTo>
                  <a:lnTo>
                    <a:pt x="275" y="150"/>
                  </a:lnTo>
                  <a:lnTo>
                    <a:pt x="274" y="150"/>
                  </a:lnTo>
                  <a:lnTo>
                    <a:pt x="274" y="150"/>
                  </a:lnTo>
                  <a:close/>
                  <a:moveTo>
                    <a:pt x="234" y="117"/>
                  </a:moveTo>
                  <a:lnTo>
                    <a:pt x="215" y="104"/>
                  </a:lnTo>
                  <a:lnTo>
                    <a:pt x="214" y="102"/>
                  </a:lnTo>
                  <a:lnTo>
                    <a:pt x="214" y="100"/>
                  </a:lnTo>
                  <a:lnTo>
                    <a:pt x="214" y="98"/>
                  </a:lnTo>
                  <a:lnTo>
                    <a:pt x="214" y="96"/>
                  </a:lnTo>
                  <a:lnTo>
                    <a:pt x="214" y="94"/>
                  </a:lnTo>
                  <a:lnTo>
                    <a:pt x="215" y="92"/>
                  </a:lnTo>
                  <a:lnTo>
                    <a:pt x="217" y="92"/>
                  </a:lnTo>
                  <a:lnTo>
                    <a:pt x="218" y="92"/>
                  </a:lnTo>
                  <a:lnTo>
                    <a:pt x="236" y="107"/>
                  </a:lnTo>
                  <a:lnTo>
                    <a:pt x="237" y="107"/>
                  </a:lnTo>
                  <a:lnTo>
                    <a:pt x="238" y="109"/>
                  </a:lnTo>
                  <a:lnTo>
                    <a:pt x="238" y="113"/>
                  </a:lnTo>
                  <a:lnTo>
                    <a:pt x="238" y="115"/>
                  </a:lnTo>
                  <a:lnTo>
                    <a:pt x="237" y="117"/>
                  </a:lnTo>
                  <a:lnTo>
                    <a:pt x="236" y="117"/>
                  </a:lnTo>
                  <a:lnTo>
                    <a:pt x="235" y="117"/>
                  </a:lnTo>
                  <a:lnTo>
                    <a:pt x="234" y="117"/>
                  </a:lnTo>
                  <a:lnTo>
                    <a:pt x="234" y="117"/>
                  </a:lnTo>
                  <a:close/>
                  <a:moveTo>
                    <a:pt x="192" y="84"/>
                  </a:moveTo>
                  <a:lnTo>
                    <a:pt x="174" y="71"/>
                  </a:lnTo>
                  <a:lnTo>
                    <a:pt x="173" y="69"/>
                  </a:lnTo>
                  <a:lnTo>
                    <a:pt x="173" y="67"/>
                  </a:lnTo>
                  <a:lnTo>
                    <a:pt x="173" y="65"/>
                  </a:lnTo>
                  <a:lnTo>
                    <a:pt x="173" y="63"/>
                  </a:lnTo>
                  <a:lnTo>
                    <a:pt x="173" y="61"/>
                  </a:lnTo>
                  <a:lnTo>
                    <a:pt x="174" y="59"/>
                  </a:lnTo>
                  <a:lnTo>
                    <a:pt x="176" y="59"/>
                  </a:lnTo>
                  <a:lnTo>
                    <a:pt x="177" y="59"/>
                  </a:lnTo>
                  <a:lnTo>
                    <a:pt x="195" y="75"/>
                  </a:lnTo>
                  <a:lnTo>
                    <a:pt x="196" y="75"/>
                  </a:lnTo>
                  <a:lnTo>
                    <a:pt x="196" y="77"/>
                  </a:lnTo>
                  <a:lnTo>
                    <a:pt x="197" y="81"/>
                  </a:lnTo>
                  <a:lnTo>
                    <a:pt x="197" y="82"/>
                  </a:lnTo>
                  <a:lnTo>
                    <a:pt x="196" y="84"/>
                  </a:lnTo>
                  <a:lnTo>
                    <a:pt x="195" y="84"/>
                  </a:lnTo>
                  <a:lnTo>
                    <a:pt x="194" y="84"/>
                  </a:lnTo>
                  <a:lnTo>
                    <a:pt x="192" y="84"/>
                  </a:lnTo>
                  <a:lnTo>
                    <a:pt x="192" y="84"/>
                  </a:lnTo>
                  <a:close/>
                  <a:moveTo>
                    <a:pt x="151" y="52"/>
                  </a:moveTo>
                  <a:lnTo>
                    <a:pt x="134" y="38"/>
                  </a:lnTo>
                  <a:lnTo>
                    <a:pt x="133" y="36"/>
                  </a:lnTo>
                  <a:lnTo>
                    <a:pt x="132" y="35"/>
                  </a:lnTo>
                  <a:lnTo>
                    <a:pt x="132" y="33"/>
                  </a:lnTo>
                  <a:lnTo>
                    <a:pt x="132" y="31"/>
                  </a:lnTo>
                  <a:lnTo>
                    <a:pt x="133" y="29"/>
                  </a:lnTo>
                  <a:lnTo>
                    <a:pt x="134" y="27"/>
                  </a:lnTo>
                  <a:lnTo>
                    <a:pt x="135" y="27"/>
                  </a:lnTo>
                  <a:lnTo>
                    <a:pt x="136" y="27"/>
                  </a:lnTo>
                  <a:lnTo>
                    <a:pt x="154" y="42"/>
                  </a:lnTo>
                  <a:lnTo>
                    <a:pt x="155" y="42"/>
                  </a:lnTo>
                  <a:lnTo>
                    <a:pt x="155" y="44"/>
                  </a:lnTo>
                  <a:lnTo>
                    <a:pt x="155" y="48"/>
                  </a:lnTo>
                  <a:lnTo>
                    <a:pt x="155" y="50"/>
                  </a:lnTo>
                  <a:lnTo>
                    <a:pt x="155" y="52"/>
                  </a:lnTo>
                  <a:lnTo>
                    <a:pt x="154" y="52"/>
                  </a:lnTo>
                  <a:lnTo>
                    <a:pt x="152" y="52"/>
                  </a:lnTo>
                  <a:lnTo>
                    <a:pt x="151" y="52"/>
                  </a:lnTo>
                  <a:lnTo>
                    <a:pt x="151" y="52"/>
                  </a:lnTo>
                  <a:close/>
                  <a:moveTo>
                    <a:pt x="110" y="19"/>
                  </a:moveTo>
                  <a:lnTo>
                    <a:pt x="101" y="12"/>
                  </a:lnTo>
                  <a:lnTo>
                    <a:pt x="102" y="13"/>
                  </a:lnTo>
                  <a:lnTo>
                    <a:pt x="93" y="13"/>
                  </a:lnTo>
                  <a:lnTo>
                    <a:pt x="92" y="13"/>
                  </a:lnTo>
                  <a:lnTo>
                    <a:pt x="91" y="12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1" y="2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2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4" y="12"/>
                  </a:lnTo>
                  <a:lnTo>
                    <a:pt x="114" y="15"/>
                  </a:lnTo>
                  <a:lnTo>
                    <a:pt x="114" y="17"/>
                  </a:lnTo>
                  <a:lnTo>
                    <a:pt x="113" y="19"/>
                  </a:lnTo>
                  <a:lnTo>
                    <a:pt x="112" y="19"/>
                  </a:lnTo>
                  <a:lnTo>
                    <a:pt x="111" y="19"/>
                  </a:lnTo>
                  <a:lnTo>
                    <a:pt x="110" y="19"/>
                  </a:lnTo>
                  <a:lnTo>
                    <a:pt x="110" y="19"/>
                  </a:lnTo>
                  <a:close/>
                  <a:moveTo>
                    <a:pt x="67" y="13"/>
                  </a:moveTo>
                  <a:lnTo>
                    <a:pt x="48" y="13"/>
                  </a:lnTo>
                  <a:lnTo>
                    <a:pt x="47" y="13"/>
                  </a:lnTo>
                  <a:lnTo>
                    <a:pt x="46" y="12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3"/>
                  </a:lnTo>
                  <a:lnTo>
                    <a:pt x="67" y="13"/>
                  </a:lnTo>
                  <a:close/>
                  <a:moveTo>
                    <a:pt x="22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5560" y="3627360"/>
              <a:ext cx="511200" cy="335160"/>
            </a:xfrm>
            <a:custGeom>
              <a:avLst/>
              <a:gdLst/>
              <a:ahLst/>
              <a:rect l="l" t="t" r="r" b="b"/>
              <a:pathLst>
                <a:path w="322" h="422">
                  <a:moveTo>
                    <a:pt x="315" y="405"/>
                  </a:moveTo>
                  <a:lnTo>
                    <a:pt x="315" y="368"/>
                  </a:lnTo>
                  <a:lnTo>
                    <a:pt x="315" y="367"/>
                  </a:lnTo>
                  <a:lnTo>
                    <a:pt x="316" y="365"/>
                  </a:lnTo>
                  <a:lnTo>
                    <a:pt x="317" y="363"/>
                  </a:lnTo>
                  <a:lnTo>
                    <a:pt x="318" y="363"/>
                  </a:lnTo>
                  <a:lnTo>
                    <a:pt x="319" y="363"/>
                  </a:lnTo>
                  <a:lnTo>
                    <a:pt x="321" y="365"/>
                  </a:lnTo>
                  <a:lnTo>
                    <a:pt x="322" y="367"/>
                  </a:lnTo>
                  <a:lnTo>
                    <a:pt x="322" y="368"/>
                  </a:lnTo>
                  <a:lnTo>
                    <a:pt x="322" y="405"/>
                  </a:lnTo>
                  <a:lnTo>
                    <a:pt x="322" y="407"/>
                  </a:lnTo>
                  <a:lnTo>
                    <a:pt x="321" y="409"/>
                  </a:lnTo>
                  <a:lnTo>
                    <a:pt x="319" y="411"/>
                  </a:lnTo>
                  <a:lnTo>
                    <a:pt x="318" y="411"/>
                  </a:lnTo>
                  <a:lnTo>
                    <a:pt x="317" y="411"/>
                  </a:lnTo>
                  <a:lnTo>
                    <a:pt x="316" y="409"/>
                  </a:lnTo>
                  <a:lnTo>
                    <a:pt x="315" y="407"/>
                  </a:lnTo>
                  <a:lnTo>
                    <a:pt x="315" y="405"/>
                  </a:lnTo>
                  <a:lnTo>
                    <a:pt x="315" y="405"/>
                  </a:lnTo>
                  <a:close/>
                  <a:moveTo>
                    <a:pt x="315" y="320"/>
                  </a:moveTo>
                  <a:lnTo>
                    <a:pt x="315" y="284"/>
                  </a:lnTo>
                  <a:lnTo>
                    <a:pt x="315" y="282"/>
                  </a:lnTo>
                  <a:lnTo>
                    <a:pt x="316" y="280"/>
                  </a:lnTo>
                  <a:lnTo>
                    <a:pt x="317" y="278"/>
                  </a:lnTo>
                  <a:lnTo>
                    <a:pt x="318" y="278"/>
                  </a:lnTo>
                  <a:lnTo>
                    <a:pt x="319" y="278"/>
                  </a:lnTo>
                  <a:lnTo>
                    <a:pt x="321" y="280"/>
                  </a:lnTo>
                  <a:lnTo>
                    <a:pt x="322" y="282"/>
                  </a:lnTo>
                  <a:lnTo>
                    <a:pt x="322" y="284"/>
                  </a:lnTo>
                  <a:lnTo>
                    <a:pt x="322" y="320"/>
                  </a:lnTo>
                  <a:lnTo>
                    <a:pt x="322" y="322"/>
                  </a:lnTo>
                  <a:lnTo>
                    <a:pt x="321" y="324"/>
                  </a:lnTo>
                  <a:lnTo>
                    <a:pt x="319" y="326"/>
                  </a:lnTo>
                  <a:lnTo>
                    <a:pt x="318" y="326"/>
                  </a:lnTo>
                  <a:lnTo>
                    <a:pt x="317" y="326"/>
                  </a:lnTo>
                  <a:lnTo>
                    <a:pt x="316" y="324"/>
                  </a:lnTo>
                  <a:lnTo>
                    <a:pt x="315" y="322"/>
                  </a:lnTo>
                  <a:lnTo>
                    <a:pt x="315" y="320"/>
                  </a:lnTo>
                  <a:lnTo>
                    <a:pt x="315" y="320"/>
                  </a:lnTo>
                  <a:close/>
                  <a:moveTo>
                    <a:pt x="315" y="236"/>
                  </a:moveTo>
                  <a:lnTo>
                    <a:pt x="315" y="202"/>
                  </a:lnTo>
                  <a:lnTo>
                    <a:pt x="315" y="200"/>
                  </a:lnTo>
                  <a:lnTo>
                    <a:pt x="316" y="198"/>
                  </a:lnTo>
                  <a:lnTo>
                    <a:pt x="317" y="196"/>
                  </a:lnTo>
                  <a:lnTo>
                    <a:pt x="318" y="196"/>
                  </a:lnTo>
                  <a:lnTo>
                    <a:pt x="319" y="196"/>
                  </a:lnTo>
                  <a:lnTo>
                    <a:pt x="321" y="198"/>
                  </a:lnTo>
                  <a:lnTo>
                    <a:pt x="322" y="200"/>
                  </a:lnTo>
                  <a:lnTo>
                    <a:pt x="322" y="202"/>
                  </a:lnTo>
                  <a:lnTo>
                    <a:pt x="322" y="236"/>
                  </a:lnTo>
                  <a:lnTo>
                    <a:pt x="322" y="238"/>
                  </a:lnTo>
                  <a:lnTo>
                    <a:pt x="321" y="242"/>
                  </a:lnTo>
                  <a:lnTo>
                    <a:pt x="319" y="244"/>
                  </a:lnTo>
                  <a:lnTo>
                    <a:pt x="318" y="244"/>
                  </a:lnTo>
                  <a:lnTo>
                    <a:pt x="317" y="244"/>
                  </a:lnTo>
                  <a:lnTo>
                    <a:pt x="316" y="242"/>
                  </a:lnTo>
                  <a:lnTo>
                    <a:pt x="315" y="238"/>
                  </a:lnTo>
                  <a:lnTo>
                    <a:pt x="315" y="236"/>
                  </a:lnTo>
                  <a:lnTo>
                    <a:pt x="315" y="236"/>
                  </a:lnTo>
                  <a:close/>
                  <a:moveTo>
                    <a:pt x="315" y="154"/>
                  </a:moveTo>
                  <a:lnTo>
                    <a:pt x="315" y="117"/>
                  </a:lnTo>
                  <a:lnTo>
                    <a:pt x="315" y="115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8" y="111"/>
                  </a:lnTo>
                  <a:lnTo>
                    <a:pt x="319" y="111"/>
                  </a:lnTo>
                  <a:lnTo>
                    <a:pt x="321" y="113"/>
                  </a:lnTo>
                  <a:lnTo>
                    <a:pt x="322" y="115"/>
                  </a:lnTo>
                  <a:lnTo>
                    <a:pt x="322" y="117"/>
                  </a:lnTo>
                  <a:lnTo>
                    <a:pt x="322" y="154"/>
                  </a:lnTo>
                  <a:lnTo>
                    <a:pt x="322" y="156"/>
                  </a:lnTo>
                  <a:lnTo>
                    <a:pt x="321" y="157"/>
                  </a:lnTo>
                  <a:lnTo>
                    <a:pt x="319" y="159"/>
                  </a:lnTo>
                  <a:lnTo>
                    <a:pt x="318" y="159"/>
                  </a:lnTo>
                  <a:lnTo>
                    <a:pt x="317" y="159"/>
                  </a:lnTo>
                  <a:lnTo>
                    <a:pt x="316" y="157"/>
                  </a:lnTo>
                  <a:lnTo>
                    <a:pt x="315" y="156"/>
                  </a:lnTo>
                  <a:lnTo>
                    <a:pt x="315" y="154"/>
                  </a:lnTo>
                  <a:lnTo>
                    <a:pt x="315" y="154"/>
                  </a:lnTo>
                  <a:close/>
                  <a:moveTo>
                    <a:pt x="315" y="69"/>
                  </a:moveTo>
                  <a:lnTo>
                    <a:pt x="315" y="33"/>
                  </a:lnTo>
                  <a:lnTo>
                    <a:pt x="315" y="31"/>
                  </a:lnTo>
                  <a:lnTo>
                    <a:pt x="316" y="29"/>
                  </a:lnTo>
                  <a:lnTo>
                    <a:pt x="317" y="27"/>
                  </a:lnTo>
                  <a:lnTo>
                    <a:pt x="318" y="27"/>
                  </a:lnTo>
                  <a:lnTo>
                    <a:pt x="319" y="27"/>
                  </a:lnTo>
                  <a:lnTo>
                    <a:pt x="321" y="29"/>
                  </a:lnTo>
                  <a:lnTo>
                    <a:pt x="322" y="31"/>
                  </a:lnTo>
                  <a:lnTo>
                    <a:pt x="322" y="33"/>
                  </a:lnTo>
                  <a:lnTo>
                    <a:pt x="322" y="69"/>
                  </a:lnTo>
                  <a:lnTo>
                    <a:pt x="322" y="71"/>
                  </a:lnTo>
                  <a:lnTo>
                    <a:pt x="321" y="73"/>
                  </a:lnTo>
                  <a:lnTo>
                    <a:pt x="319" y="75"/>
                  </a:lnTo>
                  <a:lnTo>
                    <a:pt x="318" y="75"/>
                  </a:lnTo>
                  <a:lnTo>
                    <a:pt x="317" y="75"/>
                  </a:lnTo>
                  <a:lnTo>
                    <a:pt x="316" y="73"/>
                  </a:lnTo>
                  <a:lnTo>
                    <a:pt x="315" y="71"/>
                  </a:lnTo>
                  <a:lnTo>
                    <a:pt x="315" y="69"/>
                  </a:lnTo>
                  <a:lnTo>
                    <a:pt x="315" y="69"/>
                  </a:lnTo>
                  <a:close/>
                  <a:moveTo>
                    <a:pt x="307" y="14"/>
                  </a:moveTo>
                  <a:lnTo>
                    <a:pt x="287" y="14"/>
                  </a:lnTo>
                  <a:lnTo>
                    <a:pt x="286" y="14"/>
                  </a:lnTo>
                  <a:lnTo>
                    <a:pt x="285" y="12"/>
                  </a:lnTo>
                  <a:lnTo>
                    <a:pt x="284" y="8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5" y="2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2"/>
                  </a:lnTo>
                  <a:lnTo>
                    <a:pt x="310" y="4"/>
                  </a:lnTo>
                  <a:lnTo>
                    <a:pt x="310" y="6"/>
                  </a:lnTo>
                  <a:lnTo>
                    <a:pt x="310" y="8"/>
                  </a:lnTo>
                  <a:lnTo>
                    <a:pt x="309" y="12"/>
                  </a:lnTo>
                  <a:lnTo>
                    <a:pt x="308" y="14"/>
                  </a:lnTo>
                  <a:lnTo>
                    <a:pt x="307" y="14"/>
                  </a:lnTo>
                  <a:lnTo>
                    <a:pt x="307" y="14"/>
                  </a:lnTo>
                  <a:close/>
                  <a:moveTo>
                    <a:pt x="262" y="14"/>
                  </a:moveTo>
                  <a:lnTo>
                    <a:pt x="243" y="14"/>
                  </a:lnTo>
                  <a:lnTo>
                    <a:pt x="242" y="14"/>
                  </a:lnTo>
                  <a:lnTo>
                    <a:pt x="241" y="12"/>
                  </a:lnTo>
                  <a:lnTo>
                    <a:pt x="240" y="8"/>
                  </a:lnTo>
                  <a:lnTo>
                    <a:pt x="240" y="6"/>
                  </a:lnTo>
                  <a:lnTo>
                    <a:pt x="240" y="4"/>
                  </a:lnTo>
                  <a:lnTo>
                    <a:pt x="241" y="2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2"/>
                  </a:lnTo>
                  <a:lnTo>
                    <a:pt x="266" y="4"/>
                  </a:lnTo>
                  <a:lnTo>
                    <a:pt x="266" y="6"/>
                  </a:lnTo>
                  <a:lnTo>
                    <a:pt x="266" y="8"/>
                  </a:lnTo>
                  <a:lnTo>
                    <a:pt x="265" y="12"/>
                  </a:lnTo>
                  <a:lnTo>
                    <a:pt x="263" y="14"/>
                  </a:lnTo>
                  <a:lnTo>
                    <a:pt x="262" y="14"/>
                  </a:lnTo>
                  <a:lnTo>
                    <a:pt x="262" y="14"/>
                  </a:lnTo>
                  <a:close/>
                  <a:moveTo>
                    <a:pt x="218" y="14"/>
                  </a:moveTo>
                  <a:lnTo>
                    <a:pt x="198" y="14"/>
                  </a:lnTo>
                  <a:lnTo>
                    <a:pt x="197" y="14"/>
                  </a:lnTo>
                  <a:lnTo>
                    <a:pt x="196" y="12"/>
                  </a:lnTo>
                  <a:lnTo>
                    <a:pt x="195" y="8"/>
                  </a:lnTo>
                  <a:lnTo>
                    <a:pt x="195" y="6"/>
                  </a:lnTo>
                  <a:lnTo>
                    <a:pt x="195" y="4"/>
                  </a:lnTo>
                  <a:lnTo>
                    <a:pt x="196" y="2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2"/>
                  </a:lnTo>
                  <a:lnTo>
                    <a:pt x="221" y="4"/>
                  </a:lnTo>
                  <a:lnTo>
                    <a:pt x="221" y="6"/>
                  </a:lnTo>
                  <a:lnTo>
                    <a:pt x="221" y="8"/>
                  </a:lnTo>
                  <a:lnTo>
                    <a:pt x="220" y="12"/>
                  </a:lnTo>
                  <a:lnTo>
                    <a:pt x="219" y="14"/>
                  </a:lnTo>
                  <a:lnTo>
                    <a:pt x="218" y="14"/>
                  </a:lnTo>
                  <a:lnTo>
                    <a:pt x="218" y="14"/>
                  </a:lnTo>
                  <a:close/>
                  <a:moveTo>
                    <a:pt x="173" y="14"/>
                  </a:moveTo>
                  <a:lnTo>
                    <a:pt x="154" y="14"/>
                  </a:lnTo>
                  <a:lnTo>
                    <a:pt x="152" y="14"/>
                  </a:lnTo>
                  <a:lnTo>
                    <a:pt x="151" y="12"/>
                  </a:lnTo>
                  <a:lnTo>
                    <a:pt x="150" y="8"/>
                  </a:lnTo>
                  <a:lnTo>
                    <a:pt x="150" y="6"/>
                  </a:lnTo>
                  <a:lnTo>
                    <a:pt x="150" y="4"/>
                  </a:lnTo>
                  <a:lnTo>
                    <a:pt x="151" y="2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2"/>
                  </a:lnTo>
                  <a:lnTo>
                    <a:pt x="176" y="4"/>
                  </a:lnTo>
                  <a:lnTo>
                    <a:pt x="176" y="6"/>
                  </a:lnTo>
                  <a:lnTo>
                    <a:pt x="176" y="8"/>
                  </a:lnTo>
                  <a:lnTo>
                    <a:pt x="175" y="12"/>
                  </a:lnTo>
                  <a:lnTo>
                    <a:pt x="174" y="14"/>
                  </a:lnTo>
                  <a:lnTo>
                    <a:pt x="173" y="14"/>
                  </a:lnTo>
                  <a:lnTo>
                    <a:pt x="173" y="14"/>
                  </a:lnTo>
                  <a:close/>
                  <a:moveTo>
                    <a:pt x="128" y="14"/>
                  </a:moveTo>
                  <a:lnTo>
                    <a:pt x="109" y="14"/>
                  </a:lnTo>
                  <a:lnTo>
                    <a:pt x="108" y="14"/>
                  </a:lnTo>
                  <a:lnTo>
                    <a:pt x="107" y="12"/>
                  </a:lnTo>
                  <a:lnTo>
                    <a:pt x="106" y="8"/>
                  </a:lnTo>
                  <a:lnTo>
                    <a:pt x="106" y="6"/>
                  </a:lnTo>
                  <a:lnTo>
                    <a:pt x="106" y="4"/>
                  </a:lnTo>
                  <a:lnTo>
                    <a:pt x="107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"/>
                  </a:lnTo>
                  <a:lnTo>
                    <a:pt x="131" y="4"/>
                  </a:lnTo>
                  <a:lnTo>
                    <a:pt x="131" y="6"/>
                  </a:lnTo>
                  <a:lnTo>
                    <a:pt x="131" y="8"/>
                  </a:lnTo>
                  <a:lnTo>
                    <a:pt x="130" y="12"/>
                  </a:lnTo>
                  <a:lnTo>
                    <a:pt x="129" y="14"/>
                  </a:lnTo>
                  <a:lnTo>
                    <a:pt x="128" y="14"/>
                  </a:lnTo>
                  <a:lnTo>
                    <a:pt x="128" y="14"/>
                  </a:lnTo>
                  <a:close/>
                  <a:moveTo>
                    <a:pt x="83" y="14"/>
                  </a:moveTo>
                  <a:lnTo>
                    <a:pt x="65" y="14"/>
                  </a:lnTo>
                  <a:lnTo>
                    <a:pt x="64" y="14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3" y="2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2"/>
                  </a:lnTo>
                  <a:lnTo>
                    <a:pt x="87" y="4"/>
                  </a:lnTo>
                  <a:lnTo>
                    <a:pt x="87" y="6"/>
                  </a:lnTo>
                  <a:lnTo>
                    <a:pt x="87" y="8"/>
                  </a:lnTo>
                  <a:lnTo>
                    <a:pt x="86" y="12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3" y="14"/>
                  </a:lnTo>
                  <a:close/>
                  <a:moveTo>
                    <a:pt x="39" y="14"/>
                  </a:moveTo>
                  <a:lnTo>
                    <a:pt x="20" y="14"/>
                  </a:lnTo>
                  <a:lnTo>
                    <a:pt x="19" y="14"/>
                  </a:lnTo>
                  <a:lnTo>
                    <a:pt x="18" y="12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1" y="12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4"/>
                  </a:lnTo>
                  <a:close/>
                  <a:moveTo>
                    <a:pt x="7" y="23"/>
                  </a:moveTo>
                  <a:lnTo>
                    <a:pt x="7" y="60"/>
                  </a:lnTo>
                  <a:lnTo>
                    <a:pt x="7" y="62"/>
                  </a:lnTo>
                  <a:lnTo>
                    <a:pt x="6" y="63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3"/>
                  </a:lnTo>
                  <a:close/>
                  <a:moveTo>
                    <a:pt x="7" y="108"/>
                  </a:moveTo>
                  <a:lnTo>
                    <a:pt x="7" y="144"/>
                  </a:lnTo>
                  <a:lnTo>
                    <a:pt x="7" y="146"/>
                  </a:lnTo>
                  <a:lnTo>
                    <a:pt x="6" y="148"/>
                  </a:lnTo>
                  <a:lnTo>
                    <a:pt x="5" y="150"/>
                  </a:lnTo>
                  <a:lnTo>
                    <a:pt x="3" y="150"/>
                  </a:lnTo>
                  <a:lnTo>
                    <a:pt x="2" y="150"/>
                  </a:lnTo>
                  <a:lnTo>
                    <a:pt x="1" y="148"/>
                  </a:lnTo>
                  <a:lnTo>
                    <a:pt x="0" y="146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1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7" y="106"/>
                  </a:lnTo>
                  <a:lnTo>
                    <a:pt x="7" y="108"/>
                  </a:lnTo>
                  <a:lnTo>
                    <a:pt x="7" y="108"/>
                  </a:lnTo>
                  <a:close/>
                  <a:moveTo>
                    <a:pt x="7" y="192"/>
                  </a:moveTo>
                  <a:lnTo>
                    <a:pt x="7" y="226"/>
                  </a:lnTo>
                  <a:lnTo>
                    <a:pt x="7" y="228"/>
                  </a:lnTo>
                  <a:lnTo>
                    <a:pt x="6" y="232"/>
                  </a:lnTo>
                  <a:lnTo>
                    <a:pt x="5" y="234"/>
                  </a:lnTo>
                  <a:lnTo>
                    <a:pt x="3" y="234"/>
                  </a:lnTo>
                  <a:lnTo>
                    <a:pt x="2" y="234"/>
                  </a:lnTo>
                  <a:lnTo>
                    <a:pt x="1" y="232"/>
                  </a:lnTo>
                  <a:lnTo>
                    <a:pt x="0" y="228"/>
                  </a:lnTo>
                  <a:lnTo>
                    <a:pt x="0" y="226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2" y="186"/>
                  </a:lnTo>
                  <a:lnTo>
                    <a:pt x="3" y="186"/>
                  </a:lnTo>
                  <a:lnTo>
                    <a:pt x="5" y="186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7" y="192"/>
                  </a:lnTo>
                  <a:lnTo>
                    <a:pt x="7" y="192"/>
                  </a:lnTo>
                  <a:close/>
                  <a:moveTo>
                    <a:pt x="7" y="274"/>
                  </a:moveTo>
                  <a:lnTo>
                    <a:pt x="7" y="311"/>
                  </a:lnTo>
                  <a:lnTo>
                    <a:pt x="7" y="313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3" y="317"/>
                  </a:lnTo>
                  <a:lnTo>
                    <a:pt x="2" y="317"/>
                  </a:lnTo>
                  <a:lnTo>
                    <a:pt x="1" y="315"/>
                  </a:lnTo>
                  <a:lnTo>
                    <a:pt x="0" y="313"/>
                  </a:lnTo>
                  <a:lnTo>
                    <a:pt x="0" y="311"/>
                  </a:lnTo>
                  <a:lnTo>
                    <a:pt x="0" y="274"/>
                  </a:lnTo>
                  <a:lnTo>
                    <a:pt x="0" y="273"/>
                  </a:lnTo>
                  <a:lnTo>
                    <a:pt x="1" y="271"/>
                  </a:lnTo>
                  <a:lnTo>
                    <a:pt x="2" y="269"/>
                  </a:lnTo>
                  <a:lnTo>
                    <a:pt x="3" y="269"/>
                  </a:lnTo>
                  <a:lnTo>
                    <a:pt x="5" y="269"/>
                  </a:lnTo>
                  <a:lnTo>
                    <a:pt x="6" y="271"/>
                  </a:lnTo>
                  <a:lnTo>
                    <a:pt x="7" y="273"/>
                  </a:lnTo>
                  <a:lnTo>
                    <a:pt x="7" y="274"/>
                  </a:lnTo>
                  <a:lnTo>
                    <a:pt x="7" y="274"/>
                  </a:lnTo>
                  <a:close/>
                  <a:moveTo>
                    <a:pt x="7" y="359"/>
                  </a:moveTo>
                  <a:lnTo>
                    <a:pt x="7" y="395"/>
                  </a:lnTo>
                  <a:lnTo>
                    <a:pt x="7" y="397"/>
                  </a:lnTo>
                  <a:lnTo>
                    <a:pt x="6" y="399"/>
                  </a:lnTo>
                  <a:lnTo>
                    <a:pt x="5" y="401"/>
                  </a:lnTo>
                  <a:lnTo>
                    <a:pt x="3" y="401"/>
                  </a:lnTo>
                  <a:lnTo>
                    <a:pt x="2" y="401"/>
                  </a:lnTo>
                  <a:lnTo>
                    <a:pt x="1" y="399"/>
                  </a:lnTo>
                  <a:lnTo>
                    <a:pt x="0" y="397"/>
                  </a:lnTo>
                  <a:lnTo>
                    <a:pt x="0" y="395"/>
                  </a:lnTo>
                  <a:lnTo>
                    <a:pt x="0" y="359"/>
                  </a:lnTo>
                  <a:lnTo>
                    <a:pt x="0" y="357"/>
                  </a:lnTo>
                  <a:lnTo>
                    <a:pt x="1" y="355"/>
                  </a:lnTo>
                  <a:lnTo>
                    <a:pt x="2" y="353"/>
                  </a:lnTo>
                  <a:lnTo>
                    <a:pt x="3" y="353"/>
                  </a:lnTo>
                  <a:lnTo>
                    <a:pt x="5" y="353"/>
                  </a:lnTo>
                  <a:lnTo>
                    <a:pt x="6" y="355"/>
                  </a:lnTo>
                  <a:lnTo>
                    <a:pt x="7" y="357"/>
                  </a:lnTo>
                  <a:lnTo>
                    <a:pt x="7" y="359"/>
                  </a:lnTo>
                  <a:lnTo>
                    <a:pt x="7" y="359"/>
                  </a:lnTo>
                  <a:close/>
                  <a:moveTo>
                    <a:pt x="17" y="411"/>
                  </a:moveTo>
                  <a:lnTo>
                    <a:pt x="36" y="411"/>
                  </a:lnTo>
                  <a:lnTo>
                    <a:pt x="37" y="411"/>
                  </a:lnTo>
                  <a:lnTo>
                    <a:pt x="38" y="413"/>
                  </a:lnTo>
                  <a:lnTo>
                    <a:pt x="39" y="414"/>
                  </a:lnTo>
                  <a:lnTo>
                    <a:pt x="39" y="416"/>
                  </a:lnTo>
                  <a:lnTo>
                    <a:pt x="39" y="418"/>
                  </a:lnTo>
                  <a:lnTo>
                    <a:pt x="38" y="420"/>
                  </a:lnTo>
                  <a:lnTo>
                    <a:pt x="37" y="422"/>
                  </a:lnTo>
                  <a:lnTo>
                    <a:pt x="36" y="422"/>
                  </a:lnTo>
                  <a:lnTo>
                    <a:pt x="17" y="422"/>
                  </a:lnTo>
                  <a:lnTo>
                    <a:pt x="16" y="422"/>
                  </a:lnTo>
                  <a:lnTo>
                    <a:pt x="15" y="420"/>
                  </a:lnTo>
                  <a:lnTo>
                    <a:pt x="14" y="418"/>
                  </a:lnTo>
                  <a:lnTo>
                    <a:pt x="14" y="416"/>
                  </a:lnTo>
                  <a:lnTo>
                    <a:pt x="14" y="414"/>
                  </a:lnTo>
                  <a:lnTo>
                    <a:pt x="15" y="413"/>
                  </a:lnTo>
                  <a:lnTo>
                    <a:pt x="16" y="411"/>
                  </a:lnTo>
                  <a:lnTo>
                    <a:pt x="17" y="411"/>
                  </a:lnTo>
                  <a:lnTo>
                    <a:pt x="17" y="411"/>
                  </a:lnTo>
                  <a:close/>
                  <a:moveTo>
                    <a:pt x="62" y="411"/>
                  </a:moveTo>
                  <a:lnTo>
                    <a:pt x="81" y="411"/>
                  </a:lnTo>
                  <a:lnTo>
                    <a:pt x="82" y="411"/>
                  </a:lnTo>
                  <a:lnTo>
                    <a:pt x="83" y="413"/>
                  </a:lnTo>
                  <a:lnTo>
                    <a:pt x="84" y="414"/>
                  </a:lnTo>
                  <a:lnTo>
                    <a:pt x="84" y="416"/>
                  </a:lnTo>
                  <a:lnTo>
                    <a:pt x="84" y="418"/>
                  </a:lnTo>
                  <a:lnTo>
                    <a:pt x="83" y="420"/>
                  </a:lnTo>
                  <a:lnTo>
                    <a:pt x="82" y="422"/>
                  </a:lnTo>
                  <a:lnTo>
                    <a:pt x="81" y="422"/>
                  </a:lnTo>
                  <a:lnTo>
                    <a:pt x="62" y="422"/>
                  </a:lnTo>
                  <a:lnTo>
                    <a:pt x="61" y="422"/>
                  </a:lnTo>
                  <a:lnTo>
                    <a:pt x="60" y="420"/>
                  </a:lnTo>
                  <a:lnTo>
                    <a:pt x="59" y="418"/>
                  </a:lnTo>
                  <a:lnTo>
                    <a:pt x="59" y="416"/>
                  </a:lnTo>
                  <a:lnTo>
                    <a:pt x="59" y="414"/>
                  </a:lnTo>
                  <a:lnTo>
                    <a:pt x="60" y="413"/>
                  </a:lnTo>
                  <a:lnTo>
                    <a:pt x="61" y="411"/>
                  </a:lnTo>
                  <a:lnTo>
                    <a:pt x="62" y="411"/>
                  </a:lnTo>
                  <a:lnTo>
                    <a:pt x="62" y="411"/>
                  </a:lnTo>
                  <a:close/>
                  <a:moveTo>
                    <a:pt x="107" y="411"/>
                  </a:moveTo>
                  <a:lnTo>
                    <a:pt x="126" y="411"/>
                  </a:lnTo>
                  <a:lnTo>
                    <a:pt x="127" y="411"/>
                  </a:lnTo>
                  <a:lnTo>
                    <a:pt x="128" y="413"/>
                  </a:lnTo>
                  <a:lnTo>
                    <a:pt x="129" y="414"/>
                  </a:lnTo>
                  <a:lnTo>
                    <a:pt x="129" y="416"/>
                  </a:lnTo>
                  <a:lnTo>
                    <a:pt x="129" y="418"/>
                  </a:lnTo>
                  <a:lnTo>
                    <a:pt x="128" y="420"/>
                  </a:lnTo>
                  <a:lnTo>
                    <a:pt x="127" y="422"/>
                  </a:lnTo>
                  <a:lnTo>
                    <a:pt x="126" y="422"/>
                  </a:lnTo>
                  <a:lnTo>
                    <a:pt x="107" y="422"/>
                  </a:lnTo>
                  <a:lnTo>
                    <a:pt x="106" y="422"/>
                  </a:lnTo>
                  <a:lnTo>
                    <a:pt x="105" y="420"/>
                  </a:lnTo>
                  <a:lnTo>
                    <a:pt x="103" y="418"/>
                  </a:lnTo>
                  <a:lnTo>
                    <a:pt x="103" y="416"/>
                  </a:lnTo>
                  <a:lnTo>
                    <a:pt x="103" y="414"/>
                  </a:lnTo>
                  <a:lnTo>
                    <a:pt x="105" y="413"/>
                  </a:lnTo>
                  <a:lnTo>
                    <a:pt x="106" y="411"/>
                  </a:lnTo>
                  <a:lnTo>
                    <a:pt x="107" y="411"/>
                  </a:lnTo>
                  <a:lnTo>
                    <a:pt x="107" y="411"/>
                  </a:lnTo>
                  <a:close/>
                  <a:moveTo>
                    <a:pt x="151" y="411"/>
                  </a:moveTo>
                  <a:lnTo>
                    <a:pt x="170" y="411"/>
                  </a:lnTo>
                  <a:lnTo>
                    <a:pt x="171" y="411"/>
                  </a:lnTo>
                  <a:lnTo>
                    <a:pt x="173" y="413"/>
                  </a:lnTo>
                  <a:lnTo>
                    <a:pt x="174" y="414"/>
                  </a:lnTo>
                  <a:lnTo>
                    <a:pt x="174" y="416"/>
                  </a:lnTo>
                  <a:lnTo>
                    <a:pt x="174" y="418"/>
                  </a:lnTo>
                  <a:lnTo>
                    <a:pt x="173" y="420"/>
                  </a:lnTo>
                  <a:lnTo>
                    <a:pt x="171" y="422"/>
                  </a:lnTo>
                  <a:lnTo>
                    <a:pt x="170" y="422"/>
                  </a:lnTo>
                  <a:lnTo>
                    <a:pt x="151" y="422"/>
                  </a:lnTo>
                  <a:lnTo>
                    <a:pt x="150" y="422"/>
                  </a:lnTo>
                  <a:lnTo>
                    <a:pt x="149" y="420"/>
                  </a:lnTo>
                  <a:lnTo>
                    <a:pt x="148" y="418"/>
                  </a:lnTo>
                  <a:lnTo>
                    <a:pt x="148" y="416"/>
                  </a:lnTo>
                  <a:lnTo>
                    <a:pt x="148" y="414"/>
                  </a:lnTo>
                  <a:lnTo>
                    <a:pt x="149" y="413"/>
                  </a:lnTo>
                  <a:lnTo>
                    <a:pt x="150" y="411"/>
                  </a:lnTo>
                  <a:lnTo>
                    <a:pt x="151" y="411"/>
                  </a:lnTo>
                  <a:lnTo>
                    <a:pt x="151" y="411"/>
                  </a:lnTo>
                  <a:close/>
                  <a:moveTo>
                    <a:pt x="195" y="411"/>
                  </a:moveTo>
                  <a:lnTo>
                    <a:pt x="215" y="411"/>
                  </a:lnTo>
                  <a:lnTo>
                    <a:pt x="216" y="411"/>
                  </a:lnTo>
                  <a:lnTo>
                    <a:pt x="217" y="413"/>
                  </a:lnTo>
                  <a:lnTo>
                    <a:pt x="218" y="414"/>
                  </a:lnTo>
                  <a:lnTo>
                    <a:pt x="218" y="416"/>
                  </a:lnTo>
                  <a:lnTo>
                    <a:pt x="218" y="418"/>
                  </a:lnTo>
                  <a:lnTo>
                    <a:pt x="217" y="420"/>
                  </a:lnTo>
                  <a:lnTo>
                    <a:pt x="216" y="422"/>
                  </a:lnTo>
                  <a:lnTo>
                    <a:pt x="215" y="422"/>
                  </a:lnTo>
                  <a:lnTo>
                    <a:pt x="195" y="422"/>
                  </a:lnTo>
                  <a:lnTo>
                    <a:pt x="194" y="422"/>
                  </a:lnTo>
                  <a:lnTo>
                    <a:pt x="193" y="420"/>
                  </a:lnTo>
                  <a:lnTo>
                    <a:pt x="192" y="418"/>
                  </a:lnTo>
                  <a:lnTo>
                    <a:pt x="192" y="416"/>
                  </a:lnTo>
                  <a:lnTo>
                    <a:pt x="192" y="414"/>
                  </a:lnTo>
                  <a:lnTo>
                    <a:pt x="193" y="413"/>
                  </a:lnTo>
                  <a:lnTo>
                    <a:pt x="194" y="411"/>
                  </a:lnTo>
                  <a:lnTo>
                    <a:pt x="195" y="411"/>
                  </a:lnTo>
                  <a:lnTo>
                    <a:pt x="195" y="411"/>
                  </a:lnTo>
                  <a:close/>
                  <a:moveTo>
                    <a:pt x="240" y="411"/>
                  </a:moveTo>
                  <a:lnTo>
                    <a:pt x="260" y="411"/>
                  </a:lnTo>
                  <a:lnTo>
                    <a:pt x="261" y="411"/>
                  </a:lnTo>
                  <a:lnTo>
                    <a:pt x="262" y="413"/>
                  </a:lnTo>
                  <a:lnTo>
                    <a:pt x="263" y="414"/>
                  </a:lnTo>
                  <a:lnTo>
                    <a:pt x="263" y="416"/>
                  </a:lnTo>
                  <a:lnTo>
                    <a:pt x="263" y="418"/>
                  </a:lnTo>
                  <a:lnTo>
                    <a:pt x="262" y="420"/>
                  </a:lnTo>
                  <a:lnTo>
                    <a:pt x="261" y="422"/>
                  </a:lnTo>
                  <a:lnTo>
                    <a:pt x="260" y="422"/>
                  </a:lnTo>
                  <a:lnTo>
                    <a:pt x="240" y="422"/>
                  </a:lnTo>
                  <a:lnTo>
                    <a:pt x="239" y="422"/>
                  </a:lnTo>
                  <a:lnTo>
                    <a:pt x="238" y="420"/>
                  </a:lnTo>
                  <a:lnTo>
                    <a:pt x="237" y="418"/>
                  </a:lnTo>
                  <a:lnTo>
                    <a:pt x="237" y="416"/>
                  </a:lnTo>
                  <a:lnTo>
                    <a:pt x="237" y="414"/>
                  </a:lnTo>
                  <a:lnTo>
                    <a:pt x="238" y="413"/>
                  </a:lnTo>
                  <a:lnTo>
                    <a:pt x="239" y="411"/>
                  </a:lnTo>
                  <a:lnTo>
                    <a:pt x="240" y="411"/>
                  </a:lnTo>
                  <a:lnTo>
                    <a:pt x="240" y="411"/>
                  </a:lnTo>
                  <a:close/>
                  <a:moveTo>
                    <a:pt x="285" y="411"/>
                  </a:moveTo>
                  <a:lnTo>
                    <a:pt x="305" y="411"/>
                  </a:lnTo>
                  <a:lnTo>
                    <a:pt x="306" y="411"/>
                  </a:lnTo>
                  <a:lnTo>
                    <a:pt x="307" y="413"/>
                  </a:lnTo>
                  <a:lnTo>
                    <a:pt x="308" y="414"/>
                  </a:lnTo>
                  <a:lnTo>
                    <a:pt x="308" y="416"/>
                  </a:lnTo>
                  <a:lnTo>
                    <a:pt x="308" y="418"/>
                  </a:lnTo>
                  <a:lnTo>
                    <a:pt x="307" y="420"/>
                  </a:lnTo>
                  <a:lnTo>
                    <a:pt x="306" y="422"/>
                  </a:lnTo>
                  <a:lnTo>
                    <a:pt x="305" y="422"/>
                  </a:lnTo>
                  <a:lnTo>
                    <a:pt x="285" y="422"/>
                  </a:lnTo>
                  <a:lnTo>
                    <a:pt x="284" y="422"/>
                  </a:lnTo>
                  <a:lnTo>
                    <a:pt x="283" y="420"/>
                  </a:lnTo>
                  <a:lnTo>
                    <a:pt x="282" y="418"/>
                  </a:lnTo>
                  <a:lnTo>
                    <a:pt x="282" y="416"/>
                  </a:lnTo>
                  <a:lnTo>
                    <a:pt x="282" y="414"/>
                  </a:lnTo>
                  <a:lnTo>
                    <a:pt x="283" y="413"/>
                  </a:lnTo>
                  <a:lnTo>
                    <a:pt x="284" y="411"/>
                  </a:lnTo>
                  <a:lnTo>
                    <a:pt x="285" y="411"/>
                  </a:lnTo>
                  <a:lnTo>
                    <a:pt x="285" y="41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86160" y="36846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54000" y="3684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00600" y="5332320"/>
              <a:ext cx="885600" cy="289080"/>
            </a:xfrm>
            <a:custGeom>
              <a:avLst/>
              <a:gdLst/>
              <a:ahLst/>
              <a:rect l="l" t="t" r="r" b="b"/>
              <a:pathLst>
                <a:path w="558" h="365">
                  <a:moveTo>
                    <a:pt x="558" y="0"/>
                  </a:moveTo>
                  <a:lnTo>
                    <a:pt x="418" y="365"/>
                  </a:lnTo>
                  <a:lnTo>
                    <a:pt x="140" y="365"/>
                  </a:lnTo>
                  <a:lnTo>
                    <a:pt x="0" y="0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00600" y="5332320"/>
              <a:ext cx="885600" cy="289080"/>
            </a:xfrm>
            <a:custGeom>
              <a:avLst/>
              <a:gdLst/>
              <a:ahLst/>
              <a:rect l="l" t="t" r="r" b="b"/>
              <a:pathLst>
                <a:path w="558" h="365">
                  <a:moveTo>
                    <a:pt x="558" y="0"/>
                  </a:moveTo>
                  <a:lnTo>
                    <a:pt x="418" y="365"/>
                  </a:lnTo>
                  <a:lnTo>
                    <a:pt x="140" y="365"/>
                  </a:lnTo>
                  <a:lnTo>
                    <a:pt x="0" y="0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59640" y="6283440"/>
              <a:ext cx="203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MCA: monitoreo de calidad del agu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04920" y="6283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7720" y="4354560"/>
              <a:ext cx="1230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0520" y="439884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 Narrow"/>
                </a:rPr>
                <a:t>Sistema d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6160" y="4573440"/>
              <a:ext cx="93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 Narrow"/>
                </a:rPr>
                <a:t>Abasteci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7240" y="457344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79560" y="5800680"/>
              <a:ext cx="9288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97000" y="584820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Capt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8732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86800" y="5800680"/>
              <a:ext cx="9284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16120" y="58467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Consum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81600" y="58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86560" y="5800680"/>
              <a:ext cx="10317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17320" y="584820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Distribu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8468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72040" y="5800680"/>
              <a:ext cx="13478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7720" y="5848200"/>
              <a:ext cx="1139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952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6840" y="5800680"/>
              <a:ext cx="1028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99680" y="5848200"/>
              <a:ext cx="81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Trata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7964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82640" y="5800680"/>
              <a:ext cx="9302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76040" y="5848200"/>
              <a:ext cx="47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Fuen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1408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5160" y="5865840"/>
              <a:ext cx="87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Subsistem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28320" y="582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gilancia en zonas urban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VCAP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junto de actividades enfocadas a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evaluar integralmente la calidad del agu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bastecida a las zonas urbanas del paí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imientos del SVCAP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oyo y supervi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usión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sarrollo de capac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strumentos de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valuación ambiental de la fu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ción de la vulnerabilidad de los siste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nitore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pección sani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valuación del consu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arrollo de modelos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ductos del SVCAPU: informes y report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portes para el público en gen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jas inform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pas con clasificación de zo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formes téc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acionales y reg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val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ticipación de otras ent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cxnSp>
        <p:nvCxnSpPr>
          <p:cNvPr id="460" name="_s2184"/>
          <p:cNvCxnSpPr>
            <a:stCxn id="461" idx="3"/>
            <a:endCxn id="462" idx="1"/>
          </p:cNvCxnSpPr>
          <p:nvPr/>
        </p:nvCxnSpPr>
        <p:spPr>
          <a:xfrm flipV="1">
            <a:off x="3343320" y="2495160"/>
            <a:ext cx="676800" cy="667440"/>
          </a:xfrm>
          <a:prstGeom prst="bentConnector3">
            <a:avLst>
              <a:gd name="adj1" fmla="val 48483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463" name="_s2175"/>
          <p:cNvCxnSpPr>
            <a:stCxn id="464" idx="0"/>
            <a:endCxn id="465" idx="2"/>
          </p:cNvCxnSpPr>
          <p:nvPr/>
        </p:nvCxnSpPr>
        <p:spPr>
          <a:xfrm flipV="1" rot="16200000">
            <a:off x="5241240" y="3664800"/>
            <a:ext cx="913320" cy="1539000"/>
          </a:xfrm>
          <a:prstGeom prst="bentConnector3">
            <a:avLst>
              <a:gd name="adj1" fmla="val 166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6" name="_s2171"/>
          <p:cNvCxnSpPr>
            <a:stCxn id="465" idx="0"/>
            <a:endCxn id="462" idx="2"/>
          </p:cNvCxnSpPr>
          <p:nvPr/>
        </p:nvCxnSpPr>
        <p:spPr>
          <a:xfrm flipV="1">
            <a:off x="4928760" y="2882160"/>
            <a:ext cx="1080" cy="42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7" name="_s2168"/>
          <p:cNvCxnSpPr>
            <a:stCxn id="468" idx="0"/>
            <a:endCxn id="462" idx="2"/>
          </p:cNvCxnSpPr>
          <p:nvPr/>
        </p:nvCxnSpPr>
        <p:spPr>
          <a:xfrm flipH="1" flipV="1" rot="5400000">
            <a:off x="3204720" y="3166560"/>
            <a:ext cx="2008800" cy="1440360"/>
          </a:xfrm>
          <a:prstGeom prst="bentConnector3">
            <a:avLst>
              <a:gd name="adj1" fmla="val 75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_s2163"/>
          <p:cNvSpPr/>
          <p:nvPr/>
        </p:nvSpPr>
        <p:spPr>
          <a:xfrm>
            <a:off x="4019400" y="2106720"/>
            <a:ext cx="1819440" cy="776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IN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Arial"/>
              </a:rPr>
              <a:t>(Vigi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_s2165"/>
          <p:cNvSpPr/>
          <p:nvPr/>
        </p:nvSpPr>
        <p:spPr>
          <a:xfrm>
            <a:off x="2579760" y="4890960"/>
            <a:ext cx="1819080" cy="67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ID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66"/>
                </a:solidFill>
                <a:latin typeface="Arial"/>
              </a:rPr>
              <a:t>(Control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_s2170"/>
          <p:cNvSpPr/>
          <p:nvPr/>
        </p:nvSpPr>
        <p:spPr>
          <a:xfrm>
            <a:off x="4019400" y="3306600"/>
            <a:ext cx="1819440" cy="67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R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Arial"/>
              </a:rPr>
              <a:t>(verif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_s2174"/>
          <p:cNvSpPr/>
          <p:nvPr/>
        </p:nvSpPr>
        <p:spPr>
          <a:xfrm>
            <a:off x="5362560" y="4890960"/>
            <a:ext cx="2208240" cy="631800"/>
          </a:xfrm>
          <a:prstGeom prst="roundRect">
            <a:avLst>
              <a:gd name="adj" fmla="val 191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Otros prest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66"/>
                </a:solidFill>
                <a:latin typeface="Arial"/>
              </a:rPr>
              <a:t>(Control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_s2183"/>
          <p:cNvSpPr/>
          <p:nvPr/>
        </p:nvSpPr>
        <p:spPr>
          <a:xfrm>
            <a:off x="1523880" y="2778120"/>
            <a:ext cx="1819440" cy="768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N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Arial"/>
              </a:rPr>
              <a:t>(Regula ambien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1" idx="3"/>
            <a:endCxn id="465" idx="1"/>
          </p:cNvCxnSpPr>
          <p:nvPr/>
        </p:nvCxnSpPr>
        <p:spPr>
          <a:xfrm>
            <a:off x="3343320" y="3162240"/>
            <a:ext cx="676800" cy="481680"/>
          </a:xfrm>
          <a:prstGeom prst="bentConnector3">
            <a:avLst>
              <a:gd name="adj1" fmla="val 49973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1920600" y="4005360"/>
            <a:ext cx="628920" cy="368280"/>
          </a:xfrm>
          <a:prstGeom prst="rect">
            <a:avLst/>
          </a:prstGeom>
          <a:solidFill>
            <a:srgbClr val="c0eefe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abilidades del ERS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r el SVCA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zar evaluaciones espe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álisis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cuaciones al SVCA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eneración de reportes e infor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nacionales, regionales y por sistem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ticipación de otras ent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101600" y="1844640"/>
          <a:ext cx="7142400" cy="4435560"/>
        </p:xfrm>
        <a:graphic>
          <a:graphicData uri="http://schemas.openxmlformats.org/drawingml/2006/table">
            <a:tbl>
              <a:tblPr/>
              <a:tblGrid>
                <a:gridCol w="1513080"/>
                <a:gridCol w="5629320"/>
              </a:tblGrid>
              <a:tr h="51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spons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IN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ctar políticas y regulaciones para el control de la calidad del agua en los sistemas de abastecimiento urbano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Operar el SVCAZR (zonas rural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anejo de cuencas, protección de fuentes de abastecimiento, asignación de concesiones de uso de agua, control de fuentes potenciales de contaminació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anejo de la cuenca del Canal de Panam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DAAN y otros presta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ntrol de la calidad del agua potable en los sistemas de abastecimiento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oyecto de asistencia técnica en la reestructuración de los sectores de infraestructura bás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3500280"/>
            <a:ext cx="85899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éstamo No. 4274-PAN (Banco Mund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Dr. Timothy D. Stee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Ing. J. Eugenio Bar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Ing. Arturo Tapia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resupuesto del SVCAPU</a:t>
            </a:r>
            <a:br>
              <a:rPr sz="36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Miles de Balboas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98600" y="1052640"/>
          <a:ext cx="8321400" cy="5340240"/>
        </p:xfrm>
        <a:graphic>
          <a:graphicData uri="http://schemas.openxmlformats.org/drawingml/2006/table">
            <a:tbl>
              <a:tblPr/>
              <a:tblGrid>
                <a:gridCol w="1912680"/>
                <a:gridCol w="576360"/>
                <a:gridCol w="658800"/>
                <a:gridCol w="579600"/>
                <a:gridCol w="618840"/>
                <a:gridCol w="619200"/>
                <a:gridCol w="654120"/>
                <a:gridCol w="654120"/>
                <a:gridCol w="682560"/>
                <a:gridCol w="682560"/>
                <a:gridCol w="6825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caudación anual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esupuesto an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1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2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4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5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,7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</a:tr>
              <a:tr h="307080"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itoreo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uentes de abastecimi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aptación y planta de tratami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lmacenamiento y distribu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valuación del consu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plicación de evalu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Evaluaciones espe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fusión y capaci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poyo a proyectos pilo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orro anual sostenido de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/B. 200 m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los costos de operación, que representa e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5 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los costos de consumo de químicos y electricidad (16 millones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ción del 10% de casos anuales hasta de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0% de cas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5 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00160" y="1504800"/>
            <a:ext cx="7958160" cy="5162040"/>
            <a:chOff x="200160" y="1504800"/>
            <a:chExt cx="7958160" cy="5162040"/>
          </a:xfrm>
        </p:grpSpPr>
        <p:sp>
          <p:nvSpPr>
            <p:cNvPr id="481" name=""/>
            <p:cNvSpPr/>
            <p:nvPr/>
          </p:nvSpPr>
          <p:spPr>
            <a:xfrm>
              <a:off x="1382760" y="1504800"/>
              <a:ext cx="6773760" cy="4575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82760" y="5249880"/>
              <a:ext cx="6773760" cy="144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82760" y="4416480"/>
              <a:ext cx="6773760" cy="144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2760" y="3584520"/>
              <a:ext cx="6773760" cy="180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2760" y="2752560"/>
              <a:ext cx="6773760" cy="180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82760" y="1922400"/>
              <a:ext cx="6773760" cy="180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82760" y="1504800"/>
              <a:ext cx="6773760" cy="4575240"/>
            </a:xfrm>
            <a:prstGeom prst="rect">
              <a:avLst/>
            </a:prstGeom>
            <a:noFill/>
            <a:ln w="23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84360" y="5759280"/>
              <a:ext cx="272880" cy="32076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62240" y="5437080"/>
              <a:ext cx="271440" cy="64296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38320" y="5116680"/>
              <a:ext cx="273240" cy="96336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16200" y="4792680"/>
              <a:ext cx="273240" cy="128736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94080" y="4471920"/>
              <a:ext cx="273240" cy="160812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1960" y="4149720"/>
              <a:ext cx="271440" cy="193032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48400" y="3828960"/>
              <a:ext cx="272880" cy="225108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6280" y="3506760"/>
              <a:ext cx="272880" cy="257328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04160" y="3184560"/>
              <a:ext cx="271440" cy="289548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82040" y="2863800"/>
              <a:ext cx="271440" cy="321624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84360" y="5573880"/>
              <a:ext cx="272880" cy="1854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62240" y="5059440"/>
              <a:ext cx="271440" cy="37764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38320" y="4538520"/>
              <a:ext cx="273240" cy="57816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16200" y="4011480"/>
              <a:ext cx="273240" cy="7812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94080" y="3478320"/>
              <a:ext cx="273240" cy="9936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71960" y="3138480"/>
              <a:ext cx="271440" cy="101124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48400" y="2800440"/>
              <a:ext cx="272880" cy="102852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6280" y="2460600"/>
              <a:ext cx="272880" cy="104616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04160" y="2120760"/>
              <a:ext cx="271440" cy="10638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82040" y="1781280"/>
              <a:ext cx="271440" cy="108252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82760" y="1504800"/>
              <a:ext cx="38160" cy="4575240"/>
            </a:xfrm>
            <a:custGeom>
              <a:avLst/>
              <a:gdLst/>
              <a:ahLst/>
              <a:rect l="l" t="t" r="r" b="b"/>
              <a:pathLst>
                <a:path w="27" h="3120">
                  <a:moveTo>
                    <a:pt x="0" y="0"/>
                  </a:moveTo>
                  <a:lnTo>
                    <a:pt x="0" y="3120"/>
                  </a:lnTo>
                  <a:lnTo>
                    <a:pt x="27" y="3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82760" y="59151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82760" y="5748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82760" y="5581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82760" y="54151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82760" y="5249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82760" y="5081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82760" y="49165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82760" y="47498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82760" y="45831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82760" y="4416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82760" y="42512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82760" y="40845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82760" y="39178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82760" y="3753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82760" y="35845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82760" y="34196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82760" y="32529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82760" y="3086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82760" y="29192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82760" y="27525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82760" y="25858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82760" y="2421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82760" y="22543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82760" y="20876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82760" y="19224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82760" y="1754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82760" y="15890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30200" y="608004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30200" y="52498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30200" y="441648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30200" y="358452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0200" y="2752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30200" y="192240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82760" y="6080040"/>
              <a:ext cx="677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382760" y="60800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060640" y="60800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736720" y="60800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414600" y="60800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092480" y="60800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770360" y="60800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5446800" y="60800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124680" y="60800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802560" y="60800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478640" y="60800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8156520" y="60800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20800" y="3191040"/>
              <a:ext cx="6097680" cy="2423880"/>
            </a:xfrm>
            <a:custGeom>
              <a:avLst/>
              <a:gdLst/>
              <a:ahLst/>
              <a:rect l="l" t="t" r="r" b="b"/>
              <a:pathLst>
                <a:path w="4183" h="1653">
                  <a:moveTo>
                    <a:pt x="0" y="1653"/>
                  </a:moveTo>
                  <a:lnTo>
                    <a:pt x="465" y="1383"/>
                  </a:lnTo>
                  <a:lnTo>
                    <a:pt x="930" y="1238"/>
                  </a:lnTo>
                  <a:lnTo>
                    <a:pt x="1394" y="1090"/>
                  </a:lnTo>
                  <a:lnTo>
                    <a:pt x="1859" y="881"/>
                  </a:lnTo>
                  <a:lnTo>
                    <a:pt x="2324" y="680"/>
                  </a:lnTo>
                  <a:lnTo>
                    <a:pt x="2789" y="536"/>
                  </a:lnTo>
                  <a:lnTo>
                    <a:pt x="3253" y="373"/>
                  </a:lnTo>
                  <a:lnTo>
                    <a:pt x="3718" y="195"/>
                  </a:lnTo>
                  <a:lnTo>
                    <a:pt x="4183" y="0"/>
                  </a:ln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55240" y="59817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4240" y="514980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500,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9160" y="4316400"/>
              <a:ext cx="79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1,000,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9160" y="3484440"/>
              <a:ext cx="79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1,500,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9160" y="2654280"/>
              <a:ext cx="79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2,000,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9160" y="1822320"/>
              <a:ext cx="79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2,500,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7112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4900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2688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0296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8084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5872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3660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1448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2360" y="623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20920" y="6232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9920" y="642312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200000">
              <a:off x="-72000" y="36590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Balbo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22600" y="1609560"/>
              <a:ext cx="3170160" cy="1076400"/>
            </a:xfrm>
            <a:prstGeom prst="rect">
              <a:avLst/>
            </a:prstGeom>
            <a:solidFill>
              <a:srgbClr val="e8e8e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92240" y="1743120"/>
              <a:ext cx="287280" cy="106200"/>
            </a:xfrm>
            <a:prstGeom prst="rect">
              <a:avLst/>
            </a:prstGeom>
            <a:solidFill>
              <a:srgbClr val="3399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2880" y="1698480"/>
              <a:ext cx="228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ucción de enfermedad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92240" y="2100240"/>
              <a:ext cx="287280" cy="106560"/>
            </a:xfrm>
            <a:prstGeom prst="rect">
              <a:avLst/>
            </a:prstGeom>
            <a:solidFill>
              <a:srgbClr val="3366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41080" y="2057400"/>
              <a:ext cx="24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orro en costos de oper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92240" y="2498760"/>
              <a:ext cx="287280" cy="14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7560" y="2413080"/>
              <a:ext cx="148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supuesto an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Relación beneficio-costo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(Periodo de 10 años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4960800" y="2095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89080" y="2076480"/>
          <a:ext cx="8604000" cy="4064040"/>
        </p:xfrm>
        <a:graphic>
          <a:graphicData uri="http://schemas.openxmlformats.org/drawingml/2006/table">
            <a:tbl>
              <a:tblPr/>
              <a:tblGrid>
                <a:gridCol w="5184720"/>
                <a:gridCol w="1655640"/>
                <a:gridCol w="176364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alor pres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(B/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enefi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ducción de enferme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,597,7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,718,2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ducción en los costos de opera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,614,8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,615,5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 de benefi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,212,6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,333,8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mplementación del SVCAP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,463,574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,577,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lación Beneficio/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16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ros benefic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Estrategia de atención de emergenc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tamin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pidem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Terrorism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UA, 100 millones de dólares para protección de los sistemas de abastecimien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mendaciones fin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manejo de la calidad del agua debe considerarse u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actor integrad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políticas de salud, ambiente y desarro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ntrol de la calidad del agua potable debe abarc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 la fuente al consu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mendaciones fin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principal objetivo del programa debe se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edir y evaluar para conoc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así poder tomar decisio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deben utiliz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strumentos alternativ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evaluación y no sólo análisis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mendaciones fin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SVCAPU debe ser u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stema generador de informa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 los diferentes niveles de gobierno y para la pob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SVCAPU requiere de u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supuesto fij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op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omendaciones fin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el SVCAPU deben participar la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AM, MINSA, IDAAN y otros prestadores y el ER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SVCAPU y el SVCAPZR pueden ser el inicio de u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grama Nacional de Manejo de la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es fin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1280" y="1916280"/>
            <a:ext cx="88934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alidad del agua es u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curs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 como tal, tiene un valor que debe ser conser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un SVCAPU pueden superar ampliamente los costos de su implem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eni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tecedentes y justificación de un S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u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upuesto de implem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valuación costo-benefi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endaciones y conclu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radeci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equipo de trabajo agradece al personal de l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reccional Nacional de Agua Potable y Alcantarillado Sanitari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del ERSP por su invaluable ayuda y cooper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 proyecto fue financiado por e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bierno de Panam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 través del MEF y e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nco Mundi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stos por la atención de enfermedades diarreicas en 2001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(miles de Balboas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611280" y="2421000"/>
          <a:ext cx="7994520" cy="3186000"/>
        </p:xfrm>
        <a:graphic>
          <a:graphicData uri="http://schemas.openxmlformats.org/drawingml/2006/table">
            <a:tbl>
              <a:tblPr/>
              <a:tblGrid>
                <a:gridCol w="3600360"/>
                <a:gridCol w="1584360"/>
                <a:gridCol w="1655640"/>
                <a:gridCol w="1154160"/>
              </a:tblGrid>
              <a:tr h="3988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rupo de pobl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-14 años y &gt;65 añ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esto de la pobl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asos en 20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2,8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1,6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4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rapia de Rehidratación 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9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1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1,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872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edic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3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1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álisis clínic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1,3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4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b1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$1,8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18720">
                      <a:solidFill>
                        <a:srgbClr val="003366"/>
                      </a:solidFill>
                    </a:lnT>
                    <a:lnB>
                      <a:noFill/>
                    </a:lnB>
                    <a:solidFill>
                      <a:srgbClr val="ffb16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cidencia de intoxicaciones agudas por plaguicidas (2001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68360" y="2924280"/>
          <a:ext cx="8229600" cy="187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ausas labor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ausas no labora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Intentos de suicid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386080" y="4896000"/>
            <a:ext cx="1374840" cy="795240"/>
          </a:xfrm>
          <a:custGeom>
            <a:avLst/>
            <a:gdLst>
              <a:gd name="textAreaLeft" fmla="*/ 302400 w 1374840"/>
              <a:gd name="textAreaRight" fmla="*/ 1072440 w 1374840"/>
              <a:gd name="textAreaTop" fmla="*/ 174600 h 795240"/>
              <a:gd name="textAreaBottom" fmla="*/ 62064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</a:rPr>
              <a:t>Tratamien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1800" y="3736800"/>
            <a:ext cx="1954080" cy="687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Fuente de abasteci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74680" y="3446640"/>
            <a:ext cx="1086120" cy="206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910560" y="3411360"/>
            <a:ext cx="976320" cy="213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76880" y="3411360"/>
            <a:ext cx="39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76880" y="3157560"/>
            <a:ext cx="36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4120" y="3157560"/>
            <a:ext cx="141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64400" y="3157560"/>
            <a:ext cx="72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9080" y="3157560"/>
            <a:ext cx="57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425920" y="3040200"/>
            <a:ext cx="615960" cy="117360"/>
            <a:chOff x="5425920" y="3040200"/>
            <a:chExt cx="615960" cy="117360"/>
          </a:xfrm>
        </p:grpSpPr>
        <p:sp>
          <p:nvSpPr>
            <p:cNvPr id="95" name=""/>
            <p:cNvSpPr/>
            <p:nvPr/>
          </p:nvSpPr>
          <p:spPr>
            <a:xfrm>
              <a:off x="5425920" y="3085200"/>
              <a:ext cx="3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41160" y="3085200"/>
              <a:ext cx="72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25920" y="3040200"/>
              <a:ext cx="610200" cy="81360"/>
            </a:xfrm>
            <a:custGeom>
              <a:avLst/>
              <a:gdLst/>
              <a:ahLst/>
              <a:rect l="l" t="t" r="r" b="b"/>
              <a:pathLst>
                <a:path w="960" h="128">
                  <a:moveTo>
                    <a:pt x="0" y="59"/>
                  </a:moveTo>
                  <a:cubicBezTo>
                    <a:pt x="153" y="8"/>
                    <a:pt x="87" y="0"/>
                    <a:pt x="197" y="37"/>
                  </a:cubicBezTo>
                  <a:cubicBezTo>
                    <a:pt x="256" y="128"/>
                    <a:pt x="220" y="117"/>
                    <a:pt x="349" y="81"/>
                  </a:cubicBezTo>
                  <a:cubicBezTo>
                    <a:pt x="393" y="69"/>
                    <a:pt x="480" y="37"/>
                    <a:pt x="480" y="37"/>
                  </a:cubicBezTo>
                  <a:cubicBezTo>
                    <a:pt x="609" y="123"/>
                    <a:pt x="478" y="59"/>
                    <a:pt x="633" y="59"/>
                  </a:cubicBezTo>
                  <a:cubicBezTo>
                    <a:pt x="678" y="59"/>
                    <a:pt x="731" y="102"/>
                    <a:pt x="764" y="124"/>
                  </a:cubicBezTo>
                  <a:cubicBezTo>
                    <a:pt x="808" y="110"/>
                    <a:pt x="851" y="95"/>
                    <a:pt x="895" y="81"/>
                  </a:cubicBezTo>
                  <a:cubicBezTo>
                    <a:pt x="917" y="74"/>
                    <a:pt x="960" y="59"/>
                    <a:pt x="960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402240" y="3076560"/>
            <a:ext cx="435240" cy="81000"/>
            <a:chOff x="6402240" y="3076560"/>
            <a:chExt cx="435240" cy="81000"/>
          </a:xfrm>
        </p:grpSpPr>
        <p:sp>
          <p:nvSpPr>
            <p:cNvPr id="99" name=""/>
            <p:cNvSpPr/>
            <p:nvPr/>
          </p:nvSpPr>
          <p:spPr>
            <a:xfrm>
              <a:off x="6402240" y="3107520"/>
              <a:ext cx="3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37120" y="3107520"/>
              <a:ext cx="3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2240" y="3076560"/>
              <a:ext cx="431280" cy="56160"/>
            </a:xfrm>
            <a:custGeom>
              <a:avLst/>
              <a:gdLst/>
              <a:ahLst/>
              <a:rect l="l" t="t" r="r" b="b"/>
              <a:pathLst>
                <a:path w="960" h="128">
                  <a:moveTo>
                    <a:pt x="0" y="59"/>
                  </a:moveTo>
                  <a:cubicBezTo>
                    <a:pt x="153" y="8"/>
                    <a:pt x="87" y="0"/>
                    <a:pt x="197" y="37"/>
                  </a:cubicBezTo>
                  <a:cubicBezTo>
                    <a:pt x="256" y="128"/>
                    <a:pt x="220" y="117"/>
                    <a:pt x="349" y="81"/>
                  </a:cubicBezTo>
                  <a:cubicBezTo>
                    <a:pt x="393" y="69"/>
                    <a:pt x="480" y="37"/>
                    <a:pt x="480" y="37"/>
                  </a:cubicBezTo>
                  <a:cubicBezTo>
                    <a:pt x="609" y="123"/>
                    <a:pt x="478" y="59"/>
                    <a:pt x="633" y="59"/>
                  </a:cubicBezTo>
                  <a:cubicBezTo>
                    <a:pt x="678" y="59"/>
                    <a:pt x="731" y="102"/>
                    <a:pt x="764" y="124"/>
                  </a:cubicBezTo>
                  <a:cubicBezTo>
                    <a:pt x="808" y="110"/>
                    <a:pt x="851" y="95"/>
                    <a:pt x="895" y="81"/>
                  </a:cubicBezTo>
                  <a:cubicBezTo>
                    <a:pt x="917" y="74"/>
                    <a:pt x="960" y="59"/>
                    <a:pt x="960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483240" y="3164040"/>
            <a:ext cx="285840" cy="56880"/>
          </a:xfrm>
          <a:custGeom>
            <a:avLst/>
            <a:gdLst/>
            <a:ahLst/>
            <a:rect l="l" t="t" r="r" b="b"/>
            <a:pathLst>
              <a:path w="450" h="91">
                <a:moveTo>
                  <a:pt x="0" y="0"/>
                </a:moveTo>
                <a:cubicBezTo>
                  <a:pt x="15" y="46"/>
                  <a:pt x="1" y="64"/>
                  <a:pt x="50" y="80"/>
                </a:cubicBezTo>
                <a:cubicBezTo>
                  <a:pt x="96" y="49"/>
                  <a:pt x="137" y="47"/>
                  <a:pt x="190" y="60"/>
                </a:cubicBezTo>
                <a:cubicBezTo>
                  <a:pt x="236" y="91"/>
                  <a:pt x="236" y="79"/>
                  <a:pt x="280" y="50"/>
                </a:cubicBezTo>
                <a:cubicBezTo>
                  <a:pt x="328" y="66"/>
                  <a:pt x="373" y="56"/>
                  <a:pt x="420" y="40"/>
                </a:cubicBezTo>
                <a:cubicBezTo>
                  <a:pt x="443" y="6"/>
                  <a:pt x="432" y="18"/>
                  <a:pt x="4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7240" y="3157560"/>
            <a:ext cx="326880" cy="36360"/>
          </a:xfrm>
          <a:custGeom>
            <a:avLst/>
            <a:gdLst/>
            <a:ahLst/>
            <a:rect l="l" t="t" r="r" b="b"/>
            <a:pathLst>
              <a:path w="500" h="100">
                <a:moveTo>
                  <a:pt x="0" y="0"/>
                </a:moveTo>
                <a:cubicBezTo>
                  <a:pt x="3" y="13"/>
                  <a:pt x="0" y="30"/>
                  <a:pt x="10" y="40"/>
                </a:cubicBezTo>
                <a:cubicBezTo>
                  <a:pt x="27" y="57"/>
                  <a:pt x="59" y="48"/>
                  <a:pt x="80" y="60"/>
                </a:cubicBezTo>
                <a:cubicBezTo>
                  <a:pt x="101" y="72"/>
                  <a:pt x="140" y="100"/>
                  <a:pt x="140" y="100"/>
                </a:cubicBezTo>
                <a:cubicBezTo>
                  <a:pt x="206" y="87"/>
                  <a:pt x="219" y="80"/>
                  <a:pt x="290" y="90"/>
                </a:cubicBezTo>
                <a:cubicBezTo>
                  <a:pt x="300" y="87"/>
                  <a:pt x="311" y="85"/>
                  <a:pt x="320" y="80"/>
                </a:cubicBezTo>
                <a:cubicBezTo>
                  <a:pt x="331" y="75"/>
                  <a:pt x="339" y="65"/>
                  <a:pt x="350" y="60"/>
                </a:cubicBezTo>
                <a:cubicBezTo>
                  <a:pt x="379" y="47"/>
                  <a:pt x="410" y="40"/>
                  <a:pt x="440" y="30"/>
                </a:cubicBezTo>
                <a:cubicBezTo>
                  <a:pt x="450" y="27"/>
                  <a:pt x="460" y="23"/>
                  <a:pt x="470" y="20"/>
                </a:cubicBezTo>
                <a:cubicBezTo>
                  <a:pt x="480" y="17"/>
                  <a:pt x="500" y="10"/>
                  <a:pt x="500" y="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86560" y="3157560"/>
            <a:ext cx="177840" cy="38160"/>
          </a:xfrm>
          <a:custGeom>
            <a:avLst/>
            <a:gdLst/>
            <a:ahLst/>
            <a:rect l="l" t="t" r="r" b="b"/>
            <a:pathLst>
              <a:path w="280" h="60">
                <a:moveTo>
                  <a:pt x="0" y="0"/>
                </a:moveTo>
                <a:cubicBezTo>
                  <a:pt x="45" y="45"/>
                  <a:pt x="17" y="26"/>
                  <a:pt x="90" y="50"/>
                </a:cubicBezTo>
                <a:cubicBezTo>
                  <a:pt x="100" y="53"/>
                  <a:pt x="120" y="60"/>
                  <a:pt x="120" y="60"/>
                </a:cubicBezTo>
                <a:cubicBezTo>
                  <a:pt x="169" y="48"/>
                  <a:pt x="250" y="40"/>
                  <a:pt x="280" y="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3041640"/>
            <a:ext cx="336600" cy="122400"/>
          </a:xfrm>
          <a:custGeom>
            <a:avLst/>
            <a:gdLst/>
            <a:ahLst/>
            <a:rect l="l" t="t" r="r" b="b"/>
            <a:pathLst>
              <a:path w="530" h="190">
                <a:moveTo>
                  <a:pt x="0" y="180"/>
                </a:moveTo>
                <a:cubicBezTo>
                  <a:pt x="17" y="128"/>
                  <a:pt x="0" y="103"/>
                  <a:pt x="50" y="70"/>
                </a:cubicBezTo>
                <a:cubicBezTo>
                  <a:pt x="60" y="77"/>
                  <a:pt x="71" y="82"/>
                  <a:pt x="80" y="90"/>
                </a:cubicBezTo>
                <a:cubicBezTo>
                  <a:pt x="91" y="99"/>
                  <a:pt x="96" y="118"/>
                  <a:pt x="110" y="120"/>
                </a:cubicBezTo>
                <a:cubicBezTo>
                  <a:pt x="122" y="122"/>
                  <a:pt x="130" y="107"/>
                  <a:pt x="140" y="100"/>
                </a:cubicBezTo>
                <a:cubicBezTo>
                  <a:pt x="149" y="45"/>
                  <a:pt x="146" y="18"/>
                  <a:pt x="200" y="0"/>
                </a:cubicBezTo>
                <a:cubicBezTo>
                  <a:pt x="218" y="53"/>
                  <a:pt x="204" y="21"/>
                  <a:pt x="250" y="90"/>
                </a:cubicBezTo>
                <a:cubicBezTo>
                  <a:pt x="262" y="108"/>
                  <a:pt x="310" y="110"/>
                  <a:pt x="310" y="110"/>
                </a:cubicBezTo>
                <a:cubicBezTo>
                  <a:pt x="325" y="65"/>
                  <a:pt x="318" y="43"/>
                  <a:pt x="370" y="60"/>
                </a:cubicBezTo>
                <a:cubicBezTo>
                  <a:pt x="399" y="103"/>
                  <a:pt x="410" y="102"/>
                  <a:pt x="460" y="90"/>
                </a:cubicBezTo>
                <a:cubicBezTo>
                  <a:pt x="470" y="83"/>
                  <a:pt x="478" y="67"/>
                  <a:pt x="490" y="70"/>
                </a:cubicBezTo>
                <a:cubicBezTo>
                  <a:pt x="500" y="73"/>
                  <a:pt x="495" y="91"/>
                  <a:pt x="500" y="100"/>
                </a:cubicBezTo>
                <a:cubicBezTo>
                  <a:pt x="518" y="136"/>
                  <a:pt x="530" y="148"/>
                  <a:pt x="530" y="1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29240" y="3193920"/>
            <a:ext cx="65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rros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9560" y="3193920"/>
            <a:ext cx="905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crustac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7280" y="3193920"/>
            <a:ext cx="65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rros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30960" y="3193920"/>
            <a:ext cx="723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Biopelícul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78360" y="2403360"/>
            <a:ext cx="760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orgánic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38680" y="2360520"/>
            <a:ext cx="723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Productos inorgánico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57600" y="2687760"/>
            <a:ext cx="21744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83040" y="2687400"/>
            <a:ext cx="730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2421000"/>
            <a:ext cx="679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rrastr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37200" y="2651040"/>
            <a:ext cx="65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Inorgánic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80080" y="2868480"/>
            <a:ext cx="7128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24440" y="2650680"/>
            <a:ext cx="14472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57880" y="2360520"/>
            <a:ext cx="868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Microorganism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51360" y="2071800"/>
            <a:ext cx="650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Arial Narrow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Orgánic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6400" y="2543040"/>
            <a:ext cx="6872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Productos microbian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7480" y="2832120"/>
            <a:ext cx="687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rrastr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2360520"/>
            <a:ext cx="289080" cy="68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38960" y="2506680"/>
            <a:ext cx="10944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620040" y="2687400"/>
            <a:ext cx="7272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29480" y="2976480"/>
            <a:ext cx="1810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724120"/>
            <a:ext cx="6825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rrastr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54920" y="2252520"/>
            <a:ext cx="760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Sed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2433600"/>
            <a:ext cx="10800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634160" y="2904840"/>
            <a:ext cx="14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6880" y="2397240"/>
            <a:ext cx="76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Arrastres d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recubrimien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59600" y="2758680"/>
            <a:ext cx="25236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552320" y="4641840"/>
            <a:ext cx="833400" cy="760320"/>
          </a:xfrm>
          <a:custGeom>
            <a:avLst/>
            <a:gdLst>
              <a:gd name="textAreaLeft" fmla="*/ 243360 w 833400"/>
              <a:gd name="textAreaRight" fmla="*/ 741960 w 833400"/>
              <a:gd name="textAreaTop" fmla="*/ 410040 h 760320"/>
              <a:gd name="textAreaBottom" fmla="*/ 676800 h 760320"/>
            </a:gdLst>
            <a:ahLst/>
            <a:rect l="textAreaLeft" t="textAreaTop" r="textAreaRight" b="textAreaBottom"/>
            <a:pathLst>
              <a:path w="21600" h="21600">
                <a:moveTo>
                  <a:pt x="0" y="14022"/>
                </a:moveTo>
                <a:lnTo>
                  <a:pt x="11648" y="14022"/>
                </a:lnTo>
                <a:lnTo>
                  <a:pt x="11648" y="6311"/>
                </a:lnTo>
                <a:lnTo>
                  <a:pt x="9274" y="6311"/>
                </a:lnTo>
                <a:lnTo>
                  <a:pt x="15437" y="0"/>
                </a:lnTo>
                <a:lnTo>
                  <a:pt x="21600" y="6311"/>
                </a:lnTo>
                <a:lnTo>
                  <a:pt x="19226" y="6311"/>
                </a:lnTo>
                <a:lnTo>
                  <a:pt x="19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6160" y="2795760"/>
            <a:ext cx="108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Descargas punt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8480" y="2470320"/>
            <a:ext cx="1519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Descargas no punt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o  Difus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81040" y="3230640"/>
            <a:ext cx="144720" cy="396720"/>
          </a:xfrm>
          <a:prstGeom prst="downArrow">
            <a:avLst>
              <a:gd name="adj1" fmla="val 50000"/>
              <a:gd name="adj2" fmla="val 685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059200" y="3193200"/>
            <a:ext cx="687600" cy="253800"/>
          </a:xfrm>
          <a:custGeom>
            <a:avLst/>
            <a:gdLst>
              <a:gd name="textAreaLeft" fmla="*/ 107280 w 687600"/>
              <a:gd name="textAreaRight" fmla="*/ 549000 w 687600"/>
              <a:gd name="textAreaTop" fmla="*/ 37440 h 253800"/>
              <a:gd name="textAreaBottom" fmla="*/ 216360 h 253800"/>
            </a:gdLst>
            <a:ahLst/>
            <a:rect l="textAreaLeft" t="textAreaTop" r="textAreaRight" b="textAreaBottom"/>
            <a:pathLst>
              <a:path w="21600" h="21600">
                <a:moveTo>
                  <a:pt x="3375" y="3193"/>
                </a:moveTo>
                <a:lnTo>
                  <a:pt x="15417" y="3193"/>
                </a:lnTo>
                <a:lnTo>
                  <a:pt x="15417" y="0"/>
                </a:lnTo>
                <a:lnTo>
                  <a:pt x="21600" y="10800"/>
                </a:lnTo>
                <a:lnTo>
                  <a:pt x="15417" y="21600"/>
                </a:lnTo>
                <a:lnTo>
                  <a:pt x="15417" y="18407"/>
                </a:lnTo>
                <a:lnTo>
                  <a:pt x="3375" y="18407"/>
                </a:lnTo>
                <a:close/>
              </a:path>
              <a:path w="21600" h="21600">
                <a:moveTo>
                  <a:pt x="0" y="3193"/>
                </a:moveTo>
                <a:lnTo>
                  <a:pt x="675" y="3193"/>
                </a:lnTo>
                <a:lnTo>
                  <a:pt x="675" y="18407"/>
                </a:lnTo>
                <a:lnTo>
                  <a:pt x="0" y="18407"/>
                </a:lnTo>
                <a:close/>
              </a:path>
              <a:path w="21600" h="21600">
                <a:moveTo>
                  <a:pt x="1350" y="3193"/>
                </a:moveTo>
                <a:lnTo>
                  <a:pt x="2700" y="3193"/>
                </a:lnTo>
                <a:lnTo>
                  <a:pt x="2700" y="18407"/>
                </a:lnTo>
                <a:lnTo>
                  <a:pt x="1350" y="1840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322520" y="4727520"/>
            <a:ext cx="3257640" cy="471600"/>
            <a:chOff x="4322520" y="4727520"/>
            <a:chExt cx="3257640" cy="471600"/>
          </a:xfrm>
        </p:grpSpPr>
        <p:sp>
          <p:nvSpPr>
            <p:cNvPr id="138" name=""/>
            <p:cNvSpPr/>
            <p:nvPr/>
          </p:nvSpPr>
          <p:spPr>
            <a:xfrm>
              <a:off x="5082840" y="4727520"/>
              <a:ext cx="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5200" y="4727520"/>
              <a:ext cx="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2840" y="5198400"/>
              <a:ext cx="2497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55200" y="5125320"/>
              <a:ext cx="238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01760" y="4727520"/>
              <a:ext cx="36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322880" y="5198400"/>
              <a:ext cx="57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29400" y="4727520"/>
              <a:ext cx="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322520" y="5126040"/>
              <a:ext cx="506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322520" y="5740560"/>
            <a:ext cx="3257640" cy="469800"/>
            <a:chOff x="4322520" y="5740560"/>
            <a:chExt cx="3257640" cy="469800"/>
          </a:xfrm>
        </p:grpSpPr>
        <p:sp>
          <p:nvSpPr>
            <p:cNvPr id="147" name=""/>
            <p:cNvSpPr/>
            <p:nvPr/>
          </p:nvSpPr>
          <p:spPr>
            <a:xfrm>
              <a:off x="5082840" y="5740920"/>
              <a:ext cx="36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55200" y="5813280"/>
              <a:ext cx="36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82840" y="5740560"/>
              <a:ext cx="2497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55200" y="5812560"/>
              <a:ext cx="2388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1760" y="5740920"/>
              <a:ext cx="360" cy="4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22880" y="5740920"/>
              <a:ext cx="57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29400" y="5813280"/>
              <a:ext cx="36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322520" y="5813280"/>
              <a:ext cx="506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227560" y="5234040"/>
            <a:ext cx="579600" cy="485640"/>
          </a:xfrm>
          <a:prstGeom prst="rightArrow">
            <a:avLst>
              <a:gd name="adj1" fmla="val 50000"/>
              <a:gd name="adj2" fmla="val 29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26360" y="5234040"/>
            <a:ext cx="542880" cy="485640"/>
          </a:xfrm>
          <a:prstGeom prst="rightArrow">
            <a:avLst>
              <a:gd name="adj1" fmla="val 50000"/>
              <a:gd name="adj2" fmla="val 279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5164200"/>
            <a:ext cx="525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tratad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49800" y="5197320"/>
            <a:ext cx="814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solubl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6160" y="5522760"/>
            <a:ext cx="723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08720" y="5378400"/>
            <a:ext cx="6480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SALI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4365720"/>
            <a:ext cx="941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Tanques de almacenamien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6680" y="628344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terconex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91200" y="5378400"/>
            <a:ext cx="65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ENTRA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154480" y="5016240"/>
            <a:ext cx="2541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54480" y="5016240"/>
            <a:ext cx="2905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64280" y="4835520"/>
            <a:ext cx="892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filtrac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405000">
            <a:off x="4973400" y="5092200"/>
            <a:ext cx="145800" cy="252720"/>
          </a:xfrm>
          <a:custGeom>
            <a:avLst/>
            <a:gdLst/>
            <a:ahLst/>
            <a:rect l="l" t="t" r="r" b="b"/>
            <a:pathLst>
              <a:path w="408" h="399">
                <a:moveTo>
                  <a:pt x="9" y="0"/>
                </a:moveTo>
                <a:cubicBezTo>
                  <a:pt x="4" y="109"/>
                  <a:pt x="0" y="219"/>
                  <a:pt x="66" y="285"/>
                </a:cubicBezTo>
                <a:cubicBezTo>
                  <a:pt x="132" y="351"/>
                  <a:pt x="351" y="380"/>
                  <a:pt x="408" y="3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73760" y="5595840"/>
            <a:ext cx="163440" cy="289080"/>
          </a:xfrm>
          <a:custGeom>
            <a:avLst/>
            <a:gdLst/>
            <a:ahLst/>
            <a:rect l="l" t="t" r="r" b="b"/>
            <a:pathLst>
              <a:path w="199" h="570">
                <a:moveTo>
                  <a:pt x="28" y="570"/>
                </a:moveTo>
                <a:cubicBezTo>
                  <a:pt x="14" y="446"/>
                  <a:pt x="0" y="323"/>
                  <a:pt x="28" y="228"/>
                </a:cubicBezTo>
                <a:cubicBezTo>
                  <a:pt x="56" y="133"/>
                  <a:pt x="127" y="66"/>
                  <a:pt x="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5589720"/>
            <a:ext cx="1049400" cy="43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Transformacion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en la par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5373720"/>
            <a:ext cx="796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su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70440" y="5197320"/>
            <a:ext cx="1700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Clo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Microorganismos viables/no viabl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Compuestos orgánico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5526000"/>
            <a:ext cx="11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5734080"/>
            <a:ext cx="325440" cy="361800"/>
          </a:xfrm>
          <a:custGeom>
            <a:avLst/>
            <a:gdLst>
              <a:gd name="textAreaLeft" fmla="*/ 71640 w 325440"/>
              <a:gd name="textAreaRight" fmla="*/ 253800 w 32544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78920" y="5848200"/>
            <a:ext cx="25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87880" y="4546440"/>
            <a:ext cx="1013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istribu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" y="6219720"/>
            <a:ext cx="36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uente: adaptado de Grayman et al., 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cidencia de enfermedades diarreicas en Panamá (2001-2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71640" y="2511360"/>
            <a:ext cx="7559640" cy="3797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692360" y="2709720"/>
            <a:ext cx="5688000" cy="3240360"/>
            <a:chOff x="1692360" y="2709720"/>
            <a:chExt cx="5688000" cy="3240360"/>
          </a:xfrm>
        </p:grpSpPr>
        <p:sp>
          <p:nvSpPr>
            <p:cNvPr id="180" name=""/>
            <p:cNvSpPr/>
            <p:nvPr/>
          </p:nvSpPr>
          <p:spPr>
            <a:xfrm>
              <a:off x="1692360" y="2709720"/>
              <a:ext cx="395280" cy="3240360"/>
            </a:xfrm>
            <a:prstGeom prst="rect">
              <a:avLst/>
            </a:prstGeom>
            <a:solidFill>
              <a:srgbClr val="00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7280" y="2709720"/>
              <a:ext cx="1433520" cy="3240360"/>
            </a:xfrm>
            <a:prstGeom prst="rect">
              <a:avLst/>
            </a:prstGeom>
            <a:solidFill>
              <a:srgbClr val="00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39040" y="2709720"/>
              <a:ext cx="841320" cy="3240360"/>
            </a:xfrm>
            <a:prstGeom prst="rect">
              <a:avLst/>
            </a:prstGeom>
            <a:solidFill>
              <a:srgbClr val="00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92360" y="2859120"/>
              <a:ext cx="691920" cy="29988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3240" y="2909880"/>
              <a:ext cx="692280" cy="29844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38760" y="2959200"/>
              <a:ext cx="692280" cy="29844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33680" y="4753080"/>
              <a:ext cx="692280" cy="29988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J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9840" y="4803840"/>
              <a:ext cx="692280" cy="29844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J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gradación de las fue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3095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ausura de f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5330520" cy="399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600360" cy="27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3276720" y="260280"/>
          <a:ext cx="5476680" cy="26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60280"/>
                    <a:ext cx="54766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268360" y="400536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26920" y="12682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Desgaste de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3645000"/>
            <a:ext cx="317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nsumo de químicos (cloro, coagulantes, polímeros, carbón activ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antas de trat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835280" y="393372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2971800" cy="396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55640" y="126828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igilancia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stigación para identificar y evaluar lo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actores de riesg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ociados con los sistemas de abastec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ntrol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dades para verificar que la calidad del agua cumple con la legis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20T13:43:55Z</dcterms:modified>
  <cp:revision>42</cp:revision>
  <dc:subject/>
  <dc:title>Sistema de Vigilancia de la Calidad del Agua Potable en Zonas Rurales</dc:title>
</cp:coreProperties>
</file>